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E18D-1BE1-4023-81AA-CF85AA2006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Дж. Уот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. Дж. Уотс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. Малый бизн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. Малый бизн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организации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экономическая нау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оведение человека в бы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иродны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Чт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ак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Для ког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Все перечисл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редмет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Предмет го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изучает экономическая нау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оведение человека в бы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 Природные 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Чт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ак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Для ког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 Все перечислен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редмет потреб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Предмет горд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Что такое предпринимательств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лы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Малый бизне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87F-34DF-48E1-B0A8-7464E626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7D8-1080-432D-903C-061ACF96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0F3-46A4-4243-9C17-8AE06CB8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FE8-861A-46F6-A27A-582E5CA8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11E7-499A-4113-A9FE-37896F82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228C-B5CB-48BC-A971-0D6250A3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6923-EDB1-4D80-8B67-E92CF476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9618-2B30-4BB8-962B-43BBBE38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78BE-958B-462A-B745-C12AF5BA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3A0C-5D0C-446A-9832-7C2A6D25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FF53-28AB-484A-A20C-56F6CFC2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77C-8DE9-49D3-BEDC-CF5E269F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E472-7875-45AC-B367-922CC2A4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390E-B578-4C5C-81E1-A5654D86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F0B4-0304-406C-A0A8-369642F4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29E5-000C-4A12-9367-5169DD99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FD15-C8EE-4AD1-874B-A8568AA0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F746F-150E-4EAA-AECA-C4001707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D052-01E0-4629-946B-5FE39F2F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8F20-1404-4546-827E-5174C7C7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7996-300C-4EBC-833D-3FAEA5CB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6ACE8-7F66-4B2D-B0E5-27AC8194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D30-1263-4B01-9193-D981E8A0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7F4B-F9A6-4303-AD6B-7D324414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B5E1-6356-484C-AB27-8FF7F1D9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0AB3-5D44-4E65-AF93-6E39C544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812F-6D63-458E-8E75-4F87F065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72C7-835D-478B-BDB9-0FFDD4ED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DD4D-5184-4E6A-8E75-0A46D77B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D23B-E6C4-463B-AD4C-9A18C9BE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6669-F3A0-4B4E-860E-B082BD45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423E1-BA83-4484-815D-B5DF253B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06A2-88BA-47CD-A16B-970F7D1A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C6A-B10F-499A-89A3-24BCB0D8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D0AD5-6656-4DF3-B606-7347A672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3D9E-BD10-4CBB-A466-D15ECA8D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25697-CBC3-4476-BE94-C7FEA3C4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59CCA-6A71-4B21-BCEE-3F6EED00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47AF4-A6AE-410B-A8A1-4DC18AA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B23C-9352-47B7-91CD-E59C7A41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9E80-8BEE-4167-9A5D-C7369FFF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B6D82-ED9A-4AC7-90AF-C0654406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9A982-324B-4D48-833F-0948D18A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19063-D8FA-4C27-8757-A215DF3D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919-D188-485B-984A-2FFE3C34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A4145-37DA-4132-866B-776AB40C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67C1-3C17-4115-ADF7-7BD89DAE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CCE80-3F6A-40B2-9917-84463FE0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C9D3F-4727-440A-B0AB-1F0F01E1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33337-6A1E-4696-B44A-8237B444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DF3E7-349B-4448-81B9-0EFC9E21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1859F-79F2-4F54-BF99-1FEA445C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9F94B-B225-4E89-B33E-BBDDD936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C6B0A-6BBE-4DF0-9413-3C8E08B6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EF004-EC2A-4189-A721-8EE61367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DF4-2CAA-4339-97AB-EF209202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E9BE7-1D86-4EAC-974F-68E132D2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2152C-0F01-49DA-B457-9FB423E1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AFDD0-9AD7-4409-81A3-A2289940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A2823-A99B-43D1-86B1-E2656C49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7BF73-A19C-45FD-BDD0-743DCE81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2CFF1-42F7-407E-9BD1-296D95D4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7BB3B-6417-407E-B62A-15DCF6AD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6ADA-C217-48E2-B89B-7DC58BF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D251C-37A3-4C44-AC57-E395D826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EC465-89F4-45BB-9189-9D784D6A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A85-4A5B-4B4E-892C-BB10D76E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8804-E72D-4A47-AC39-71AD16AB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13DE7-38D4-49B5-8D80-D8204C2B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A779D-84EC-4008-9C1A-AEAFF1E0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C22A6-860B-4D87-9B1F-D3FB9142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FE36D-BFAB-4AB6-BE24-CF77CDD8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802B2-C617-4D54-B06C-B0A18A24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B7E2F-71CE-4655-836F-CC4EE57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0D370-EA99-43B0-B6A7-C4AE2E64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918F1-D734-476C-AB7D-809F7739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F6D84-A774-498D-AAFA-0CE5883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919-0DD1-4DAD-9216-E635B429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F12D0-D53D-43D7-830D-1A21E107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7A6A8-9B07-4876-BFDE-1CBB291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8956-84FE-4789-AFEB-3B54B859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E8C7A-EA43-47E5-8867-263E115C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EA59D-5A2B-4749-9C72-0D4D23C0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BEA-5FB1-40E0-811A-DF7F017E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E0AA-478A-4E49-AD2A-4A0FE1D058B2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B3EF-AB08-4635-8CD9-E67725C33116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36B9-CD84-4522-9FA2-8D151CE2D32B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7584-A5BB-47F5-BEEF-81EBDE060F84}" type="slidenum">
              <a:rPr b="0" lang="ru-RU" sz="13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149F-F23B-408F-A43E-0361A6440431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6034-527A-40CF-98F4-DA0496D43188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9B39-77C6-4813-A19F-D2A784CFFCC0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47D5-46D4-4DDA-81A2-CBB2002C22E6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8428-EDC7-4B8B-8856-F5A6DB5E2500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E469-63F4-4009-A176-B68F698BD9F2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DF56-1A69-4552-B0E9-AEDE0CD65C0D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15FA-262F-4D88-B4C7-C8D3AB97C7E6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5205-B0D5-4578-B1D3-1885DF97D86C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A729-3D49-41DA-B901-E71A4E99E293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73120" y="371520"/>
            <a:ext cx="8637480" cy="3541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835200" y="4121280"/>
            <a:ext cx="2328840" cy="23288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2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528040" cy="57308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3" descr=""/>
          <p:cNvPicPr/>
          <p:nvPr/>
        </p:nvPicPr>
        <p:blipFill>
          <a:blip r:embed="rId3"/>
          <a:stretch/>
        </p:blipFill>
        <p:spPr>
          <a:xfrm>
            <a:off x="6838920" y="4761000"/>
            <a:ext cx="2421000" cy="2230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Тест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редпринимательств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изнес. Малый бизнес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ормы организации бизнеса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6029280" y="4334040"/>
            <a:ext cx="2041560" cy="20174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изучает экономическая нау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оведение человека в бы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Методы рационального ведения хозяйств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 Природные яв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сновной вопрос который решает экономи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Чт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Как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Для ког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. Все перечисленно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ньги – это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редмет потребле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Предмет гордо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Всеобщий эквивалент всех товар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254160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000" spc="-1" strike="noStrike">
                <a:solidFill>
                  <a:srgbClr val="92d050"/>
                </a:solidFill>
                <a:latin typeface="Constantia"/>
              </a:rPr>
              <a:t>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табл"/>
          <p:cNvPicPr/>
          <p:nvPr/>
        </p:nvPicPr>
        <p:blipFill>
          <a:blip r:embed="rId1"/>
          <a:stretch/>
        </p:blipFill>
        <p:spPr>
          <a:xfrm>
            <a:off x="554040" y="480960"/>
            <a:ext cx="7821720" cy="61754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еобходимо вставить пропущенные слов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Он может использовать как свои средства, так и средства, взятые в ___________ или 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00"/>
                </a:solidFill>
                <a:uFillTx/>
                <a:latin typeface="Constantia"/>
              </a:rPr>
              <a:t>СЛОВА ДЛЯ СПРАВОК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7286760" y="50760"/>
            <a:ext cx="1428480" cy="1349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20:44Z</dcterms:created>
  <dc:creator>Admin</dc:creator>
  <dc:description/>
  <dc:language>en-US</dc:language>
  <cp:lastModifiedBy>LEGION</cp:lastModifiedBy>
  <dcterms:modified xsi:type="dcterms:W3CDTF">2016-01-05T12:46:28Z</dcterms:modified>
  <cp:revision>17</cp:revision>
  <dc:subject/>
  <dc:title>Предпринимательство и бизнес</dc:title>
</cp:coreProperties>
</file>