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326C-94FA-4ECA-972F-122509C0A9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Дж. Уот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. Дж. Уотс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. Малый бизн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. Малый бизн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организации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экономическая нау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оведение человека в бы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иродны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Чт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ак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Для ког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Все перечисл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редмет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Предмет го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изучает экономическая нау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оведение человека в бы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 Природные 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Чт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ак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Для ког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 Все перечислен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редмет потреб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Предмет горд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Что такое предпринимательств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лы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Малый бизне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462A-7B9F-455A-84A3-F2DC9E48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EBB-750B-4393-89B8-E9069B3A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BAF-917E-464C-9EF8-BC92A293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F30-84E7-4C3B-8DEE-10422144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FAB6-A281-4714-AB29-323B86B4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98F5-58A7-4069-B356-2B57FBF8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5B91-66E0-4899-AB89-DD551B95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50F2-80DF-41FF-B78A-B1727550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1AC4-540E-4464-9AB4-0DADE2A8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99B-81F5-49BC-88F0-5BA6ED6B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2124-5D6E-4679-A89D-510A88AC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69E-57E0-4607-9E4B-69A3D3DE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9E38-49C8-4238-BC2A-66CD5A8D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61CE-5742-46BA-A869-D9F17BE6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06E2-AB70-4E78-B64A-BB800354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6021-5E69-4EBC-BE4D-11D8AA8D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93C7-2470-4248-956F-C914C49D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776FF-1F55-4E13-9611-0579C94B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1CB37-8C85-41AC-B68A-801D7C3D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24E6-9F75-4847-A6C1-A477712B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08AB5-15D1-471B-92FB-D2473A65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364FF-2DF4-4FF9-901E-7589B236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E92F-5D6F-40BD-939F-82A766A1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C11D-F28E-49D8-9B8E-B99C0AA7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1107-5694-4D18-A4D5-095F9FC4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26736-A600-4BD4-9DE2-EF4CF401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14B2-62CF-4DC2-B4AE-A5B23EE5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082F9-023B-40CD-AB52-EBAB8740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3440-9B29-4387-A18D-3357C68D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A09C-2C34-4119-9148-D3A71A812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18445-5C03-471B-87FB-124B1598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8F48D-C233-4CDA-8052-5BA02B1A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98679-274A-4DF7-95AD-1445A43E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D18-3360-47D1-BB3C-06CBB980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9BAA7-4AC9-4617-B563-0E65C5E5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A543-7354-406F-8472-EC6F899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CC9D8-9609-464A-8BDE-A7AD3D2B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9569-AB34-4097-BCEA-E45F97C1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05BAD-6E43-41F4-B123-0D5945C4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68E06-19E6-4803-ADE7-F8D35CC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3CE7-CAD8-4CA7-92F7-A95A338A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6AD9-7E59-4CE2-BBEE-22A344AEB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2A67-47E0-4DA8-8BF6-4AB5E784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FC0F5-455E-4E07-ABC7-995FF25E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1EB-46C9-404D-8FA0-5484F1DE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42C35-7355-47D1-BF39-DCF8715B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E82D2-F6D7-4139-AD3C-72CD9A9D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132A0-4362-487F-BBD4-3EA70BE1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13C5-847B-43AF-A867-C43DC9DE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2D2B-9F9B-48CC-AA34-65665F39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DCA53-9EC8-4F4C-802E-F8C0AE2D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C6FA-7D20-454E-9518-1B15709F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8AD3C-3EF5-44DB-A30D-6C85B05F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FE684-EAAB-4B05-8CB7-AF42625C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19983-5D16-4A4F-9BBD-524A2E4C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957-BE91-49A1-8D48-1BD830B8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3FE8B-F1F9-475D-A957-FFB8B81F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720AE-580E-4948-B8B6-1CF9C90D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2F720-3095-41A5-8577-8168C8F1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D2A9D-0DB2-411E-8D13-D94F9056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23228-2788-47EE-B955-8AF71966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4DD75-F23C-4BB6-997C-CEFCE301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D866A-071F-49DB-BC5E-3550D5DA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D35F0-EA06-4BE0-BDA3-90688111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D74E4-D502-42DB-B87C-C5D7FA5D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8BC18-4BF7-4EB4-9B75-52CCA434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E38-E991-4F53-9F2B-C4555D77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C364F-8CAF-42E7-A37B-81B8014E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65475-79CD-4C82-8B67-A6B13B38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1102C-2820-4FDD-BBC0-44FB2C77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62850-F544-414B-8DFC-0D258C86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8366E-B4B3-45A5-959A-A2F7396C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ABDCA-5123-4D03-A29A-CF453FB4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099C5-99B9-406B-AAD8-7B725625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78224-9B37-4A7D-A6B2-F07E1537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32BD0-EF29-444C-A7A7-45CDD3DC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5DF39-1803-4DE3-AD86-6B284552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88D-3997-48D9-90C4-E6B46693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E7198-3656-4F17-A3D1-68B68EA5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35A33-0950-4FBB-8FA1-EA920C64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8DD86-75BB-41D8-850F-CFD28B09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E9A06-285A-405B-9BFA-E4569419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48012-2A82-42A2-8FB7-700FD0F1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46A-A42B-4B2B-B1E0-2168E3A3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5E0A-C877-4CC9-8226-4F25C001CDC3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CBA8-4539-4D39-A25E-D6CC820FE893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3EC1-4817-4B4B-9127-2ED7063AD282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D06D-1218-4E52-9BB9-0947CC76E4D5}" type="slidenum">
              <a:rPr b="0" lang="ru-RU" sz="13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C2A1-4DB0-4C5B-80C0-FACC3D040026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D9BE-7116-4770-AEE7-7522CAD2B425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2122-F3B5-405D-8E18-0BE6CFDA92D0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776B-D484-48CC-9006-8C634834C32E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9552-193C-4BF5-A10C-EAB318E92903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E8E2-6A74-4590-B307-9C4708D6EF66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2AB4-61D5-4663-83BB-972FA1EE71F8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A9A6-335E-4289-900D-0EADCADE27AD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0354-1DB3-4DE1-8BDE-2393E8D081A6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340D-80D0-4C31-A64D-080D6FD2E8A8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73120" y="371520"/>
            <a:ext cx="8637480" cy="3541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835200" y="4121280"/>
            <a:ext cx="2328840" cy="23288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2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528040" cy="57308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3" descr=""/>
          <p:cNvPicPr/>
          <p:nvPr/>
        </p:nvPicPr>
        <p:blipFill>
          <a:blip r:embed="rId3"/>
          <a:stretch/>
        </p:blipFill>
        <p:spPr>
          <a:xfrm>
            <a:off x="6838920" y="4761000"/>
            <a:ext cx="2421000" cy="2230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Тест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редпринимательств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изнес. Малый бизнес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ормы организации бизнеса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6029280" y="4334040"/>
            <a:ext cx="2041560" cy="20174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изучает экономическая нау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оведение человека в бы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Методы рационального ведения хозяйств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 Природные яв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сновной вопрос который решает экономи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Чт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Как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Для ког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. Все перечисленно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ньги – это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редмет потребле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Предмет гордо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Всеобщий эквивалент всех товар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254160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000" spc="-1" strike="noStrike">
                <a:solidFill>
                  <a:srgbClr val="92d050"/>
                </a:solidFill>
                <a:latin typeface="Constantia"/>
              </a:rPr>
              <a:t>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табл"/>
          <p:cNvPicPr/>
          <p:nvPr/>
        </p:nvPicPr>
        <p:blipFill>
          <a:blip r:embed="rId1"/>
          <a:stretch/>
        </p:blipFill>
        <p:spPr>
          <a:xfrm>
            <a:off x="554040" y="480960"/>
            <a:ext cx="7821720" cy="61754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еобходимо вставить пропущенные слов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Он может использовать как свои средства, так и средства, взятые в ___________ или 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00"/>
                </a:solidFill>
                <a:uFillTx/>
                <a:latin typeface="Constantia"/>
              </a:rPr>
              <a:t>СЛОВА ДЛЯ СПРАВОК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7286760" y="50760"/>
            <a:ext cx="1428480" cy="1349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20:44Z</dcterms:created>
  <dc:creator>Admin</dc:creator>
  <dc:description/>
  <dc:language>en-US</dc:language>
  <cp:lastModifiedBy>LEGION</cp:lastModifiedBy>
  <dcterms:modified xsi:type="dcterms:W3CDTF">2016-01-05T12:46:28Z</dcterms:modified>
  <cp:revision>17</cp:revision>
  <dc:subject/>
  <dc:title>Предпринимательство и бизнес</dc:title>
</cp:coreProperties>
</file>