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39AB-7CEE-4572-98FF-211B28E99B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Дж. Уот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. Дж. Уотс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. Малый бизн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. Малый бизн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организации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экономическая нау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оведение человека в бы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иродны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Чт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ак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Для ког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Все перечисл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едмет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Предмет го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изучает экономическая нау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оведение человека в бы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 Природные 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Чт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ак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Для ког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Все перечислен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редмет потреб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Предмет горд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Что такое предпринимательств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лы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Малый бизне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72F-8A65-437B-975E-DB8D823B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C6B-10BF-467A-80E6-7E6DAFEC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BA8-5707-47FE-9722-A5FCB36B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CD2-3C9E-4FA1-9A51-1C74F712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44B3-768E-4167-B922-44CB2E85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AC84-5178-4603-9740-E95EB15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93CD-A4F1-4F32-859F-EFAD70A1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11EF-D0B1-4AA7-9AEA-FA65D7F8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8956-DDB1-4BD5-82EB-360DE777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5673-D823-4445-8C6B-714FB8DF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37ED-493A-43AA-B80A-E5B767E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C77-EE58-46A9-832E-62810DDD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8CBA-9B99-4B06-9812-CC21C1C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A8D8-7631-4AD1-9152-204566EB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9820-0EA2-4F05-848B-8E6A6F6E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7C3C-C1CA-488A-854A-25A1784F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CFAE-5E74-4B0B-8F2D-45E47EA7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30C5-8164-47B6-BC20-59B49D79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07B6-3568-4D8A-A6F5-387CADAA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6BC56-38ED-44F8-BFD1-66D2D382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0A49-61CE-4A9E-A070-1F42EEE5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13A94-DE8E-4B4D-BA70-03F390E9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D81-D758-4492-9A36-ADF1CAE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87E9-6503-4445-B662-E6735279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A62D-C688-45B3-8F00-D1E4ADCE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82D0-8A68-438B-813B-2DF5AA6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0DF7-DF68-4D46-B198-18804AB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9523-A1BB-44E2-947D-0DDCA9F3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ECADF-5151-4AEE-9D3F-1297F91F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265D-F1BC-4D80-9BC0-D6D13FFA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4EDC-D3E8-47C4-B8E6-CA665BA5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574B-49E5-43F6-A2E4-CF6487DC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C961F-9C53-4C69-9B37-4F4F8E38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0A0-E001-49A4-974D-9A6229E0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98C40-99B3-4DB9-B341-DBB57EE5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4FCD-3C61-4305-9922-7A6CB7B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A4A16-CC95-460E-8BA1-4CADD1FB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DD8E-E963-4512-A3E5-FAE4FC10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5F8A6-76BD-4E76-973F-436377A8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0BBD8-607C-49C1-A460-7D8AF3D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0EA8C-FAF2-4769-BE89-CBCC6D62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3D22-C298-4FBD-94CA-57160308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5EAB-FEA2-4D3A-AB5C-4ACA3486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C349-DD0F-40C7-AC47-955D4D7C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E44-E42B-4F9D-8E3B-4B55CBE0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8800-2983-49C5-B3EA-1C1D0476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0FD47-4681-4424-9701-0F9E0F2E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587BD-865B-46C2-A63C-046335E5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D782D-CD44-4364-AC4E-A40D28EF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2294-DA0E-45C1-8E30-B4063781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9DDFB-2595-4849-9C29-7DE456E6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1892-3CAD-4271-B68D-3A81FF6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7A150-CA38-4429-8608-9576E1F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5C8AD-4076-4117-9301-6A5A1489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A275C-B5CB-4F20-86F1-BBFE9118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23C-8F77-42E9-A0D9-5255B321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E2EB-3C8C-49C1-A0D5-56AA9372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1700E-33FF-476E-A345-8AE7D3F6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6CD33-0A68-4ED0-AFB6-0AB798A4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E2400-B21C-45EB-B278-70EBC4CE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D5C2-6212-4DDB-87C1-B4602966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BA872-96C5-49DA-BCBF-BA9EAAB5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1F3E-F1D8-4BE1-B722-7462847E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60012-50ED-437F-9E35-74164DAC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ADF2E-B159-46BC-90D0-60AD152D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EBCAE-F8BC-481F-8B91-547A91A1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786-CE13-4D16-99AE-8B6FADB4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5A5E6-8F7F-469C-82BA-60ED0790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1F0B-DB0F-4136-A4E2-0B76FDF1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43DBA-D1E9-469F-B582-191381F8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B4856-B8AB-4B05-881E-5E2C33C9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BCF28-6FD9-4823-BFB9-B32B49C3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F21E6-211B-4515-BF02-D4AFA6ED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89A7-F116-4DCC-AB4B-7FF5ECB4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7B8A9-6ECA-421D-BC67-77B0FF18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BBAB6-5B42-434D-8A11-3AAE0F2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7E624-7406-4D82-B084-0C97E82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7ED-8C89-45E6-8BC7-62DA0261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833F-8520-4BBE-BD2A-529C109A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DAE29-161C-433B-8532-DC2A022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7E17D-78C1-4278-9BB5-E1957CB0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FE47-AEA3-43CD-9A17-618374E1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5028C-9979-401A-8621-05A09AAB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C82-C115-4435-AACE-EB18DB14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3750-13F2-4FED-BBC6-5C5214FAC6B3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66A6-5FA1-4B17-803D-8655441ADF5B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560-FDF2-4FCB-9FE2-53E47FA381FA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7752-9A44-4E90-BC59-D91DC726AB13}" type="slidenum">
              <a:rPr b="0" lang="ru-RU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92D8-454C-4420-A134-F03D64267F64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0F2F-F8C2-4469-8F06-669E64BC5E1E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1256-61CC-4A41-B0BA-644D56CFE66B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28F6-A8F7-4B36-9F8E-1E3362A9A4FC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C3A0-6068-4A1B-9D39-C75FFFC6F927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860D-5D89-49CF-882F-9C66F14F606D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6A03-D675-474B-8879-8061EB948410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75C7-A8FD-47D7-A8CA-7515051F7580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3D60-3ADF-48C5-ACBD-1473D86940CB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7BBE-DC3D-4FDA-8100-DAAB0D139CFA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73120" y="371520"/>
            <a:ext cx="8637480" cy="3541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835200" y="4121280"/>
            <a:ext cx="2328840" cy="23288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2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28040" cy="5730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3"/>
          <a:stretch/>
        </p:blipFill>
        <p:spPr>
          <a:xfrm>
            <a:off x="6838920" y="4761000"/>
            <a:ext cx="2421000" cy="2230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Тест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принимательств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изнес. Малый бизнес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ы организации бизнес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6029280" y="4334040"/>
            <a:ext cx="2041560" cy="20174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изучает экономическая нау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оведение человека в бы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Методы рационального ведения хозяйств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Природные яв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новной вопрос который решает экономи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Чт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Как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Для ког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Все перечисленно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ги – это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редмет потребл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Предмет горд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Всеобщий эквивалент всех товар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000" spc="-1" strike="noStrike">
                <a:solidFill>
                  <a:srgbClr val="92d050"/>
                </a:solidFill>
                <a:latin typeface="Constantia"/>
              </a:rPr>
              <a:t>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табл"/>
          <p:cNvPicPr/>
          <p:nvPr/>
        </p:nvPicPr>
        <p:blipFill>
          <a:blip r:embed="rId1"/>
          <a:stretch/>
        </p:blipFill>
        <p:spPr>
          <a:xfrm>
            <a:off x="554040" y="480960"/>
            <a:ext cx="7821720" cy="61754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обходимо вставить пропущенные слов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н может использовать как свои средства, так и средства, взятые в ___________ или 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00"/>
                </a:solidFill>
                <a:uFillTx/>
                <a:latin typeface="Constantia"/>
              </a:rPr>
              <a:t>СЛОВА ДЛЯ СПРАВОК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7286760" y="50760"/>
            <a:ext cx="1428480" cy="134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20:44Z</dcterms:created>
  <dc:creator>Admin</dc:creator>
  <dc:description/>
  <dc:language>en-US</dc:language>
  <cp:lastModifiedBy>LEGION</cp:lastModifiedBy>
  <dcterms:modified xsi:type="dcterms:W3CDTF">2016-01-05T12:46:28Z</dcterms:modified>
  <cp:revision>17</cp:revision>
  <dc:subject/>
  <dc:title>Предпринимательство и бизнес</dc:title>
</cp:coreProperties>
</file>