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3DE4-E3BD-41A1-BF95-0CAD51F6C7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 и бизне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– это игра, величайшая игра в мире- если вы знаете , как в неё игр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Дж. Уот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 и бизне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 – это игра, величайшая игра в мире- если вы знаете , как в неё играть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. Дж. Уотсо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цель : Разъяснить учащимся сущность предпринимательства и предпринимательских отношений, формы организации бизнеса. Сформировать потребность в развитии коммуникативнности, деловитости, самосто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ющая  цель: умение сотрудничать, развивать чувство коллективизма, трудолюбие, культуру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ющая цель: развивать аналитическое мышление, логику, память, устойчивость внимания, формировать умение принятия нестандартных решений, развивать творческие способности, формировать познавательный интер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ая цель : Разъяснить учащимся сущность предпринимательства и предпринимательских отношений, формы организации бизнеса. Сформировать потребность в развитии коммуникативнности, деловитости, самостоятель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ывающая  цель: умение сотрудничать, развивать чувство коллективизма, трудолюбие, культуру повед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ющая цель: развивать аналитическое мышление, логику, память, устойчивость внимания, формировать умение принятия нестандартных решений, развивать творческие способности, формировать познавательный интере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. Малый бизн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организации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с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. Малый бизне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ы организации бизн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учает экономическая нау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оведение человека в бы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Методы рационального ведения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Природные я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вопрос который решает 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Что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ак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Для кого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Все перечисле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редмет потреб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Предмет горд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Всеобщий эквивалент все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изучает экономическая нау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Поведение человека в бы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Методы рационального ведения хозяй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 Природные 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ой вопрос который решает экономи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Что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ак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Для кого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 Все перечисленно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ги – это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Предмет потреб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Предмет горд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Всеобщий эквивалент всех това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Что такое предпринимательство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О ПРЕДПРИНИМАТЕЛЬСКОЙ ДЕЯТЕЛЬ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вставить пропущенные сл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может использовать как свои средства, так и средства, взятые в ___________ или 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 ДЛЯ СПРАВОК 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О ПРЕДПРИНИМАТЕЛЬСКОЙ ДЕЯТЕЛЬНОСТИ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 вставить пропущенные сло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 может использовать как свои средства, так и средства, взятые в ___________ или _________________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ОВА ДЛЯ СПРАВОК 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лый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Малый бизне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50E-052F-4F55-81D5-D6814B58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B3A-EA24-41C1-89F2-3A741C09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A74-23CE-4D24-A46E-14681065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518-FF74-4BC1-A0CD-03208F7C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1583-D0C4-4FAC-9A29-E5494652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64BA-D7EE-457E-862C-B7D00A88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BCB5-DCED-4CD2-AE72-28B7A5F9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4D5A-8516-4707-9FD8-CFE98A43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5CA8-4264-42E8-AFA7-6733A5F0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00B6-AFFE-4DEA-BF74-662B0261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7546-D6C1-4C7D-8086-B12CFDF8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294-F6BC-4374-B311-6E56DF40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FD7B-CCD1-4388-B26B-7851AC21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2A56-BCD4-4BC7-8863-4B4AA8B1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364D-13D0-40CA-88E5-5AAB5FA0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1F34-3C76-401F-92CA-DC2EF791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5613-1C46-440F-9400-62EB61F3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7D9EF-45B4-4131-B9F1-2ED36D5E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2C585-70B5-47A6-87F1-06E9CC99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4EDE9-2362-471E-AA0C-47821009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20156-2E56-4025-9AD9-7221DB07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FC066-9065-4FB1-903F-AFC9DD9A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803-4400-44A1-AD70-7CAF3BCB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EBE22-8955-40DE-8745-62CDE47A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16F9E-EE7E-42DA-BB91-D9E5D18F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B72E2-8362-46CD-A179-1EDA129F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DE258-86AC-4E84-95F9-F56688B5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67F4B-B279-41E7-97C2-950D8412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69A0F-9995-4621-BE1B-A418C95D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A154E-C0B5-4898-B098-8743DD77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FEDAB-CE16-47EE-BA7F-973B31AD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13AA9-2107-4327-9DF6-8E62E9CF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B3D87-B21C-4411-8F77-8478267E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184-8296-4BF3-AF52-592F50A5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37F7B-5048-4C41-802A-2C94D62F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5BAD4-CA6C-47D9-ABD8-F60558E8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033E6-B052-4099-9E06-4459A39B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6215C-B320-4C53-A05D-6E4CAF63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AFAAA-F437-4BE8-8760-318CB965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07931-0E02-4214-AA08-5FA4AEED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70E8E-1A0A-42EE-AE6E-98943620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6F129-196D-47D7-9FBD-968A9C67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2C9C4-A195-4F61-B248-9E7DA330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77D58-72B5-4B2F-AD39-4DEB3F58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5D0-7BF3-49C8-8FE2-7293A2CF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00451-D2DE-45F9-BF7F-9AE10083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7DE31-56B6-4E5F-B899-BB51153D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AC0B9-9494-4962-9814-66877DEC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E5967-DFC7-4A4E-8CA4-FB89BCD6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3C6E0-5674-4E1D-B1A1-4DDCA682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2DB0F-070C-4CE1-BC27-4ECAE8BA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95D20-1CDF-4D5B-9590-ECB794D4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C1E8D-ACD7-4AB8-84B9-B0B33825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421CB-EC12-43ED-88A6-08D0D2F9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99FAA-041E-4941-8276-497DB261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1EB-BFAD-4CA1-949B-6D6F2903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134AA-FC9F-46C9-9A27-9C191669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D9FEC-550E-4965-9A62-D0F14031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DD23E-5FCC-4DA1-B3DA-6E5986FE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74A62-E27A-41C7-BD68-ABE71E4D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D8AE9-C320-497B-9EAD-D5429FCA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650FF-8678-432E-BDAB-D5B21488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78F14-348C-4654-ADB1-BD40BDDB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C6C9D-ADA2-4DDD-B6BB-F9FEEB5F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F2D4F-6315-4560-9EA4-AD988A08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8984B-2BFE-483A-A2F0-B0AACD6C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1C6-C99F-4E6C-9120-D8B92EFB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2DD9E-E626-4C19-92EB-1A790CDF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2023E-5A6C-47A9-8BDB-8F805A01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5DBE9-3131-4EC0-B496-B6DE1F23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755CE-F278-4437-9C83-5862BD79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FE09C-9BF8-40D2-B229-375713EF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C8F24-59F2-4BA2-9A66-07968562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7C62D-150F-4773-A6B0-C5CD5E9D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A5CFD-1C12-4042-996C-5ED2B764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0A399-9700-407C-B1DE-1FA44171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AF9CF-E746-454C-B60B-0D411F7D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FB7-B0C7-4D62-92C8-D71351CF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FE25F-7221-4FB2-A201-1764D058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8A99B-341E-495A-987A-8B1EBD05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EB509-074D-4DF5-9839-12135F55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79A18-A77A-4538-9F8B-D6962795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6BD62-4DB2-4471-8B2A-34704645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128-8776-434C-B2EE-72789571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3FA5-B153-40E9-AA6D-DE537EB4381F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2ED7-D655-4ABB-AF53-03CB22EEA4E5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CC5C-A2BB-4F43-BE0D-9A807CC58B31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BDF5-DE3A-4F74-9228-88416D8A753D}" type="slidenum">
              <a:rPr b="0" lang="ru-RU" sz="13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1CFF-5171-4702-908B-798BA623DD18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ADAF-ACFB-40C5-9BBB-3CDEA2C56EC8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E9D9-FF1F-43D2-9DFB-F9BB6A756F8C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125F-D6A2-4402-B46F-D1AE57704B88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F9E5-FA43-4A31-B3CC-0E727D46FFF0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6450-1195-4496-BF99-212CFFC53E4F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D355-0F46-4C9A-9282-4D83C604D056}" type="datetime">
              <a:rPr b="0" lang="ru-RU" sz="9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66B1-8FFD-405F-8065-1E5065339968}" type="slidenum">
              <a:rPr b="0" lang="ru-RU" sz="9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0660-7A55-49AB-BDE7-4B790BFC27EA}" type="datetime">
              <a:rPr b="0" lang="ru-RU" sz="9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1B5D-E17F-4F11-A857-8D1D4CA9223B}" type="slidenum">
              <a:rPr b="0" lang="ru-RU" sz="9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73120" y="371520"/>
            <a:ext cx="8637480" cy="35416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835200" y="4121280"/>
            <a:ext cx="2328840" cy="23288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2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12" name="Содержимое 2" descr=""/>
          <p:cNvPicPr/>
          <p:nvPr/>
        </p:nvPicPr>
        <p:blipFill>
          <a:blip r:embed="rId2"/>
          <a:stretch/>
        </p:blipFill>
        <p:spPr>
          <a:xfrm>
            <a:off x="281160" y="420840"/>
            <a:ext cx="8528040" cy="573084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3" descr=""/>
          <p:cNvPicPr/>
          <p:nvPr/>
        </p:nvPicPr>
        <p:blipFill>
          <a:blip r:embed="rId3"/>
          <a:stretch/>
        </p:blipFill>
        <p:spPr>
          <a:xfrm>
            <a:off x="6838920" y="4761000"/>
            <a:ext cx="2421000" cy="22302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Тест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редпринимательство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Бизнес. Малый бизнес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Формы организации бизнеса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7" name="Рисунок 3" descr=""/>
          <p:cNvPicPr/>
          <p:nvPr/>
        </p:nvPicPr>
        <p:blipFill>
          <a:blip r:embed="rId2"/>
          <a:stretch/>
        </p:blipFill>
        <p:spPr>
          <a:xfrm>
            <a:off x="6029280" y="4334040"/>
            <a:ext cx="2041560" cy="2017440"/>
          </a:xfrm>
          <a:prstGeom prst="rect">
            <a:avLst/>
          </a:prstGeom>
          <a:ln w="0">
            <a:noFill/>
          </a:ln>
        </p:spPr>
      </p:pic>
      <p:sp>
        <p:nvSpPr>
          <p:cNvPr id="318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то изучает экономическая наук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Поведение человека в быт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Методы рационального ведения хозяйства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 Природные явлен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сновной вопрос который решает экономик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Что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Как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Для кого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. Все перечисленно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еньги – это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Предмет потребле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Предмет гордост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Всеобщий эквивалент всех товаров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254160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3000" spc="-1" strike="noStrike">
                <a:solidFill>
                  <a:srgbClr val="92d050"/>
                </a:solidFill>
                <a:latin typeface="Constantia"/>
              </a:rPr>
              <a:t>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" descr="табл"/>
          <p:cNvPicPr/>
          <p:nvPr/>
        </p:nvPicPr>
        <p:blipFill>
          <a:blip r:embed="rId1"/>
          <a:stretch/>
        </p:blipFill>
        <p:spPr>
          <a:xfrm>
            <a:off x="554040" y="480960"/>
            <a:ext cx="7821720" cy="617544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Необходимо вставить пропущенные слов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Он может использовать как свои средства, так и средства, взятые в ___________ или _________________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00"/>
                </a:solidFill>
                <a:uFillTx/>
                <a:latin typeface="Constantia"/>
              </a:rPr>
              <a:t>СЛОВА ДЛЯ СПРАВОК 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7286760" y="50760"/>
            <a:ext cx="1428480" cy="1349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7:20:44Z</dcterms:created>
  <dc:creator>Admin</dc:creator>
  <dc:description/>
  <dc:language>en-US</dc:language>
  <cp:lastModifiedBy>LEGION</cp:lastModifiedBy>
  <dcterms:modified xsi:type="dcterms:W3CDTF">2016-01-05T12:46:28Z</dcterms:modified>
  <cp:revision>17</cp:revision>
  <dc:subject/>
  <dc:title>Предпринимательство и бизнес</dc:title>
</cp:coreProperties>
</file>