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AD2E-BA7E-4ED4-95C4-F9FFA84B124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Дж. Уот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. Дж. Уотсо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. Малый бизн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организаци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. Малый бизн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ы организации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учает экономическая нау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оведение человека в бы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иродны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Чт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ак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Для ког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Все перечисле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редмет потреб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Предмет горд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изучает экономическая нау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оведение человека в бы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 Природные 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Чт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ак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Для ког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 Все перечисленно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ги – это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редмет потреб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Предмет горд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Что такое предпринимательств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лый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Малый бизне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F3F-404C-4C65-8A26-15BBC50A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74D-4414-495E-9F19-836ABE63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B87D-7AC7-4439-B885-A41A8ED5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8174-81C5-4508-A0A7-FF54A323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5917-D4B2-431B-9F4E-7A27A65AF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DCD5-BB26-4A1C-A2A4-FB8111BE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EFA1-60AB-45CF-B170-D59609D4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9B52-88B0-46EA-9F02-0352CF3E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82DF-947F-455C-A599-E243DCBD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B6B7-1DA1-4B96-9DA0-947EE249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910C-3245-4CAD-BDC6-84D82188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2A5-3CA4-4456-AA0F-79ADDFBB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859B-AFB8-4A0E-979B-B1FFFBE5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9A6F-0237-4F33-B7F3-99B917F4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4C9B-4025-45ED-BCBF-13784E35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646B-8837-4B4D-A9A7-F0C95247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7DAA-60F0-4205-A354-A5A05CE3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5008B-F89C-4AA9-A30A-B2772169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7A204-3E46-4524-BC03-15D0A752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BDA9-24F6-4BFD-B0A0-EEC1A07D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FEBA-95B0-49EB-B9CD-9958E01A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BB8CF-7C72-43E4-8BEF-763266EA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70F-6825-4429-BF7F-CCCB6D03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5AC1-4FD6-4BB2-95E2-9F6347B9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E006E-7C65-42C8-8ED9-2B92A93F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3B07B-02EF-48D6-9F6D-B0BD7DFD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F06C7-B349-456F-A88B-A1EF3754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85729-FCE3-4DBB-8A9C-130698BF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19F7B-0987-4A9C-A93F-61C83CCE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F4FCD-A9EB-4C13-A3E4-39B554CA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E9020-EDF2-4642-BD72-5B22AE88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5D117-4248-4840-996C-6C67B9BC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E1E40-9B0D-4457-B97E-CB335DF2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B74-9C30-4A1B-B940-E2A9A42C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A27C8-4236-4442-8935-1063F385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0B938-879A-4830-8EF2-628548CF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11B92-C84C-4744-A256-C2464D01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205C1-EB49-43F1-A363-12C9B0A3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53530-7171-4AFC-914E-AF982941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8F685-E66C-4881-AD52-1137106D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F0484-D677-4AA6-A084-640B4F8D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9DC9C-28F1-489D-84B7-0F82F1EF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BA8A5-8744-447D-8452-0D00C350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2D76A-7F13-4168-86D1-CC744891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AD3-B006-4C69-9D5D-E2DF7267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4E4D1-9A83-45B5-AD29-414A89AA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79D16-CF71-4C4E-825A-BC87FDC7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4576C-5DDA-44CD-B998-0AEBD415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213E4-16EC-4F1D-8D1F-B1828AE6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803EE-0C18-413F-94D5-11D0C361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DB9A6-E51C-43E7-BAB9-A5D8B04A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9215B-2A74-4297-B9ED-2D674AED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7CC7E-147A-4F86-AA5D-37C06FEA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27A4C-1BF7-4A3F-9EE9-099AF5FC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67E47-1360-4E0D-84DB-609405D3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883-2C32-4C00-9020-AD603105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A809E-DC01-4F22-856A-92DFF6E9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0BAAA-8632-4CB1-A487-F92E3CE4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F7FA2-4F0D-4CE6-A36B-A1E71B8F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C9C7B-B850-4DF7-A7F4-B03C2397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8E828-0ABA-4E20-8333-99BCD5F3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DBC0C-B21A-434D-940F-1AC94417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BBDA9-7953-4E05-8AF4-C2D7D014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FCFBA-168B-4333-93FF-038B5489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5E7FF-70E4-4A60-85BC-265371AE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95136-4D55-4EA1-A0EE-8AEC42D1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A3E-C92B-4B9C-8D3D-0473C94C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BE489-3D38-4FC7-BD27-57AB8583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063C2-A391-414B-BFD9-2961203D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34EAA-9DFF-4A03-9215-9CCF1EB6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F00AE-E595-4E0C-8C9D-D861A6B4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B89DC-D3B5-4948-8412-5C1B2274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8CDD5-0D9B-4043-9FA4-09C6470F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B8025-1DB7-4221-8141-2677ECAA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94431-4473-4E6F-9260-99971972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6D87E-074B-445D-AD39-7A8F7DC5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D13F3-26D1-4B57-A756-CBA29BFB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D34-D3AB-445C-9128-59301F55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4E63A-1ED2-4096-9A00-5201C3BF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C5146-098E-426B-963F-55617900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71B60-A204-41D8-9997-5107313B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C82FA-14E7-4167-88F7-157259AD9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4AFBA-B2EB-41D2-BD7D-DE9973CE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D34-937F-4B22-8305-560A7A8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88B4-75BD-4E51-9000-84AEE059F0FA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FA08-E991-4A25-8E84-7BF00C5BB01A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0BA6-A443-4F76-8DF7-94898C7CEE89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BAB6-512B-453B-86C6-B18F0FACFA44}" type="slidenum">
              <a:rPr b="0" lang="ru-RU" sz="13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24DF-4EA2-41F2-B79C-7FFF7A39D48D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5BC5-2C77-4FEB-9206-97C04DC8046A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343B-34A7-47AF-A927-E65B29C9F136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EDF0-188A-485C-A94D-A1F789D421F4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70F9-1AFB-4D99-90B6-FE9E3308D3F8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856E-7D0D-4295-A50F-00FC2C099ECF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CFE9-0228-464C-97DE-7273BC7FDD30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CFAF-957D-43D9-BC91-0891328EACF7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5876-1AF5-44DA-8AC1-DAF27B5986DC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A0A4-AA0B-46F3-AABA-2793DBD97F0F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73120" y="371520"/>
            <a:ext cx="8637480" cy="35416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835200" y="4121280"/>
            <a:ext cx="2328840" cy="23288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2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2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8528040" cy="573084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3" descr=""/>
          <p:cNvPicPr/>
          <p:nvPr/>
        </p:nvPicPr>
        <p:blipFill>
          <a:blip r:embed="rId3"/>
          <a:stretch/>
        </p:blipFill>
        <p:spPr>
          <a:xfrm>
            <a:off x="6838920" y="4761000"/>
            <a:ext cx="2421000" cy="2230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Тест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редпринимательство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Бизнес. Малый бизнес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Формы организации бизнеса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Рисунок 3" descr=""/>
          <p:cNvPicPr/>
          <p:nvPr/>
        </p:nvPicPr>
        <p:blipFill>
          <a:blip r:embed="rId2"/>
          <a:stretch/>
        </p:blipFill>
        <p:spPr>
          <a:xfrm>
            <a:off x="6029280" y="4334040"/>
            <a:ext cx="2041560" cy="20174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то изучает экономическая нау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оведение человека в быт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Методы рационального ведения хозяйства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 Природные явлен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сновной вопрос который решает экономи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Чт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Как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Для ког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. Все перечисленно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еньги – это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редмет потребле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Предмет гордост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Всеобщий эквивалент всех товаров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254160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3000" spc="-1" strike="noStrike">
                <a:solidFill>
                  <a:srgbClr val="92d050"/>
                </a:solidFill>
                <a:latin typeface="Constantia"/>
              </a:rPr>
              <a:t>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" descr="табл"/>
          <p:cNvPicPr/>
          <p:nvPr/>
        </p:nvPicPr>
        <p:blipFill>
          <a:blip r:embed="rId1"/>
          <a:stretch/>
        </p:blipFill>
        <p:spPr>
          <a:xfrm>
            <a:off x="554040" y="480960"/>
            <a:ext cx="7821720" cy="61754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Необходимо вставить пропущенные слов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Он может использовать как свои средства, так и средства, взятые в ___________ или 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00"/>
                </a:solidFill>
                <a:uFillTx/>
                <a:latin typeface="Constantia"/>
              </a:rPr>
              <a:t>СЛОВА ДЛЯ СПРАВОК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7286760" y="50760"/>
            <a:ext cx="1428480" cy="1349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7:20:44Z</dcterms:created>
  <dc:creator>Admin</dc:creator>
  <dc:description/>
  <dc:language>en-US</dc:language>
  <cp:lastModifiedBy>LEGION</cp:lastModifiedBy>
  <dcterms:modified xsi:type="dcterms:W3CDTF">2016-01-05T12:46:28Z</dcterms:modified>
  <cp:revision>17</cp:revision>
  <dc:subject/>
  <dc:title>Предпринимательство и бизнес</dc:title>
</cp:coreProperties>
</file>