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819D-5729-4507-98F6-8E9CA5DD1C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Дж. Уот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. Дж. Уотс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. Малый бизн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. Малый бизн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организации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экономическая нау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оведение человека в бы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иродны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Чт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ак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Для ког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Все перечисл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едмет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Предмет го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изучает экономическая нау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оведение человека в бы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 Природные 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Чт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ак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Для ког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Все перечислен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редмет потреб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Предмет горд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Что такое предпринимательств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лы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Малый бизне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EB4-E110-4373-8529-8B4CE29B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4EA-31DA-425F-A996-47CDB2B9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3A5-D66F-4D3B-AC66-8A6613F5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F63-6968-483E-881F-8D02E66D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A062-64BD-4AA1-8C47-85650D57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B343-7988-4441-AC7B-43D46E4A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F24B-0BF9-43F1-8A66-FE075A4A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03CB-AEA7-48A5-B09E-4A1603BF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A906-B184-4F4B-9A95-BBBF68EC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7AA-DA93-4D61-ADA4-E1213DA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83D5-BB5B-4A01-BDF0-E8EDDDB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4A4-7AE6-4975-B55D-693D031E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D2D2-2584-4F06-B8C0-1412940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5434-6052-4A16-B855-AF2C671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40CC-B63A-406D-80E0-3D323F3B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9D81-6087-4FA4-83FC-8FFBCCB7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C679-BAB2-4A19-A178-A56C0494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53F3-BC9D-4066-8F9A-FDFD6980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24641-8013-4BBF-BD80-CFFE1287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6E20-CEA8-4119-8194-9C6D32C1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2BD7-E02E-4562-A6A8-21AA21E2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41FE-4EDF-4AA3-8B82-E3C1B02F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F00-E26D-492F-B1F5-36F23EEF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0BC0-208F-4E5C-8D8A-A37C836A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F9BE-16DA-49DB-880A-9C1D91B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C0DD-8BB5-47F6-AD93-777ADA0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C896-CA7D-4EA1-A85E-C002FD8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8FF5-436A-454D-A53E-1864EFC1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3A1B8-12DA-4D57-A753-D7FBA29C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7DEC4-CA10-47D6-A874-AA5A617E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CA22-0DA2-43EA-A29B-04BA9EB9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00B6-D536-4943-8493-66EFB905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09AC-CC7B-422B-A3BF-574ACC70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C9D-EC8F-4B69-914D-8A9D5946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34C16-9B72-46BE-9F38-174A07E8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4A5E-D9C3-4155-BB45-1DB896D6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47F3-0933-49C2-B47B-1F5725B2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9E533-8005-46AB-892A-2629DFF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A013-2EDC-4E85-85A0-463965F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5C51-5693-48D4-8BE8-C472086D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BCADA-A716-4691-8311-1230D29E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DFD2-B84F-4EF9-9835-9F1AE40B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51C90-136A-4B67-AAD9-C4EA0531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D7D6-395E-456D-9B9C-A9B27296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FA1-C6D5-4CB1-B399-E14AF0AF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2790B-D85A-4F56-8402-B42EEC11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FE0C-FA73-4CB5-9B61-95078FE6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C8CC1-A88D-43B0-9287-E09BB1D3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9104-8FB7-46C7-8587-13703154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C501-C998-4432-ACA2-FBA8A3DC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2E54-CC49-4907-BB33-AF4F75CF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9547C-E46B-4C1B-AE2F-6D85065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CB8A3-78D6-4F35-A68C-77465B90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CE716-D0A9-43D1-8655-7B96C7AF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D892-D984-45AD-B095-2449092F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B60-9A57-4D59-A02F-D4114431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18B5-8B15-4AE6-9C6D-516280A8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148A0-3985-40EE-BBBC-451C6E1F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2B25-9863-44CB-A2D4-55165043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9DC4-1912-4DB6-A7A2-27935D2D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7A623-D341-4900-B56F-C07F7281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AFCB2-A047-4CF8-8715-F4AD452A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E02C7-BA8A-4266-94C0-90A9CC21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45616-1F02-4AAC-9F24-FFDDDAA0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2B663-2690-4E32-A049-F58F1CC5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69C3D-D57E-4C9B-B5DA-F6AC59C6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025-F394-43E9-BADA-10B3F31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351A2-FB74-4D87-A3AF-8A6E2226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C8143-CC7F-4941-A56C-AC00C072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339E-040B-4317-9885-F8AB2057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FA25D-89C0-4C59-83F2-52CD3503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B310-EA2F-4187-885E-CCAFA034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24070-4C7A-4A0E-A2CD-A683E8D6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35891-C488-40F2-B259-AE915AFF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2A0B1-F1E5-4633-8058-C652C1CF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77795-066A-434B-B2D4-E2FFD969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9D3D-DDF0-43DF-9324-A894392C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3BF-9B4F-43B8-87F1-C292E456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0BAF4-58B4-409C-9317-4DCD891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91016-664D-4C72-AAC7-5DE46E00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5DBD2-D51D-4E42-8153-2AF4FD5A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F237-5182-4EC8-AA34-45D00875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6773C-AAE4-46DF-BEC5-46EEFCEB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097-880D-48F4-A851-6443164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022E-E379-4E8D-BA61-E9E8694E1423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34FF-1BD8-469E-8715-FF934EC59137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78C2-90D1-4878-AC03-46799C0D7255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A746-7158-4DA2-A0BC-873528EC1337}" type="slidenum">
              <a:rPr b="0" lang="ru-RU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A846-AEE3-4311-8A21-1D772A7F9F74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CAFA-81EC-4CE5-AB3A-2B2292C49C55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A86A-926C-48B0-A683-42A6F303C075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F948-497D-479C-BD14-787A973361C8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3B59-D861-4034-9A36-7883B35EAF35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82A2-3102-4086-8417-0280BC549AEE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8D8B-3409-4028-936E-7417D321B715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9859-F609-44FC-828C-AAA0A178FE7B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2BFA-A63F-4A83-B18D-24DE658DF6F2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3879-22E2-4C6E-80FD-222E53D30B0A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73120" y="371520"/>
            <a:ext cx="8637480" cy="3541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835200" y="4121280"/>
            <a:ext cx="2328840" cy="23288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2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28040" cy="5730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3"/>
          <a:stretch/>
        </p:blipFill>
        <p:spPr>
          <a:xfrm>
            <a:off x="6838920" y="4761000"/>
            <a:ext cx="2421000" cy="2230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Тест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принимательств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изнес. Малый бизнес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ы организации бизнес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6029280" y="4334040"/>
            <a:ext cx="2041560" cy="20174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изучает экономическая нау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оведение человека в бы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Методы рационального ведения хозяйств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Природные яв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новной вопрос который решает экономи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Чт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Как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Для ког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Все перечисленно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ги – это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редмет потребл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Предмет горд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Всеобщий эквивалент всех товар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000" spc="-1" strike="noStrike">
                <a:solidFill>
                  <a:srgbClr val="92d050"/>
                </a:solidFill>
                <a:latin typeface="Constantia"/>
              </a:rPr>
              <a:t>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табл"/>
          <p:cNvPicPr/>
          <p:nvPr/>
        </p:nvPicPr>
        <p:blipFill>
          <a:blip r:embed="rId1"/>
          <a:stretch/>
        </p:blipFill>
        <p:spPr>
          <a:xfrm>
            <a:off x="554040" y="480960"/>
            <a:ext cx="7821720" cy="61754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обходимо вставить пропущенные слов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н может использовать как свои средства, так и средства, взятые в ___________ или 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00"/>
                </a:solidFill>
                <a:uFillTx/>
                <a:latin typeface="Constantia"/>
              </a:rPr>
              <a:t>СЛОВА ДЛЯ СПРАВОК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7286760" y="50760"/>
            <a:ext cx="1428480" cy="134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20:44Z</dcterms:created>
  <dc:creator>Admin</dc:creator>
  <dc:description/>
  <dc:language>en-US</dc:language>
  <cp:lastModifiedBy>LEGION</cp:lastModifiedBy>
  <dcterms:modified xsi:type="dcterms:W3CDTF">2016-01-05T12:46:28Z</dcterms:modified>
  <cp:revision>17</cp:revision>
  <dc:subject/>
  <dc:title>Предпринимательство и бизнес</dc:title>
</cp:coreProperties>
</file>