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ткосрочная финансов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DABF-A64E-4BD1-9C85-04297B699E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классическая теория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рассматривался как возможный ущерб, который может произойти вследствие экономического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ая прибыль всегда будет иметь большую полезность, нежели прибыль того же ожидаемого размера, но связанная с возможными колеб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теория: наиболее сложна и актуальна пробл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риск - деятельность субъектов хозяйств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, связанная с преодолением неопределенности в ситу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ения от ц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еся в выбираемых альтернати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предпринимателя (риск заемщ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креди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, когда в оборот направляются собственные деньги предпринимателя, связан с сомнением получения предполагаемой выгоды, на которую предприниматель рассчитыв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 с возможным уменьшением ценности денежной единицы. Д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3BDB-D2CB-44E2-BFF4-87A405DB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EE69-A342-4406-B058-BE75D094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B1FE2-6D8E-4610-AFE0-D73C8B77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10278-BB41-40CE-8DA0-3AE99001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F948-EF00-4F24-A99A-FC0E13CF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A9E5-207E-46A8-A4FF-A53A2414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3EA5-E8C8-4659-995D-988100FA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EBD4-984C-473A-B635-6C23EA91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4BB8-3755-4802-BBEC-02184EE8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7EA2-C9F2-42D8-9820-FEF4512C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70B2-A765-4B2B-93AF-CAD49EAD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44D57-641D-4703-92E4-5472A48F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5685-BAE0-4015-A3BA-BCACA164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B230-7EF9-4FB2-8CF8-A55635D9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F7FC-0353-4133-AD71-639036C6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7EA6-A15F-4D50-B480-2E5796C4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3572-ED09-4F3A-A6C5-F8C39415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3462-B620-489D-8571-9DFE80C5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8E95B-F0CA-4085-9F39-DC495DC4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4D9A8-52CE-4637-A7F6-1379C9C7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787D3-6903-4C67-87BF-73C1BD7D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DC20C-6EE3-4A46-AE62-2E6C2BE0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4AFF-68B8-46E8-86C9-5E423F2E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4EABB-8435-4DE5-ABC0-7FB4C8CE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5815-94EC-4BC0-BC13-1A6D144F16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34B5-EF67-40A7-88F9-E139F2030F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Финансовый менеджм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ектор: к.э.н., доцент Платонова Н.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631960" y="90792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а финансового 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125360"/>
          <a:ext cx="8229600" cy="5483520"/>
        </p:xfrm>
        <a:graphic>
          <a:graphicData uri="http://schemas.openxmlformats.org/drawingml/2006/table">
            <a:tbl>
              <a:tblPr/>
              <a:tblGrid>
                <a:gridCol w="2057400"/>
                <a:gridCol w="1986120"/>
                <a:gridCol w="2087280"/>
                <a:gridCol w="2098800"/>
              </a:tblGrid>
              <a:tr h="91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подходов к управлению рис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ть под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ие потерь при наступлении рискового случ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137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ое использование средств на предотвращение рис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стью покрываю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и затраты на превентивные мероприятия, изъятие части ресурсов из оборота, снижение оборачи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</a:tr>
              <a:tr h="15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рисками осуществляется в ходе проведения хозяйственных операц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ывается часть ущер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затраты на превентивные мероприятия, средний уровень эффективности и оборачиваемости при ненаступлении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5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ерва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рисками начинается только после наступления рискового собы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щерб локализуется в рамках одной операции, одного подраз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на предупреждения риска малы, что увеличивает прибыльность, оборачиваемость при ненаступлении р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f2"/>
                    </a:solidFill>
                  </a:tcPr>
                </a:tc>
              </a:tr>
            </a:tbl>
          </a:graphicData>
        </a:graphic>
      </p:graphicFrame>
      <p:sp>
        <p:nvSpPr>
          <p:cNvPr id="225" name="Rectangle 59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правление рисками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042920" y="1341360"/>
            <a:ext cx="73454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методы воздействия на р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971640" y="2276640"/>
            <a:ext cx="338436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лонение / избежание рис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971640" y="3139920"/>
            <a:ext cx="338436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ание / сохранение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971640" y="5157720"/>
            <a:ext cx="338436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а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 flipH="1">
            <a:off x="61092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611280" y="162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61128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61128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>
            <a:off x="61128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4427640" y="2335320"/>
            <a:ext cx="35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ход из зоны рис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аз от ре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4424400" y="3127320"/>
            <a:ext cx="33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ятие риска без финанс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4500720" y="5216400"/>
            <a:ext cx="41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едж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правление рисками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971640" y="4064040"/>
            <a:ext cx="3384360" cy="5889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ижение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61128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427640" y="3925800"/>
            <a:ext cx="367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версифи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уровня информационного обесп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мит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4. Финансовая среда предпринимательства и предпринимательские р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риска. Финансовая среда предпринимате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еории предпринимательских р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и функции предпринимательских р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классификации предпринимательских 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оценки 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9154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нятие риска. Финансовая среда предпринимательства (1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2565360"/>
            <a:ext cx="8713800" cy="162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36000" rIns="36000"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нансовая среда предпринимательства - совокупность хозяйствующих субъектов и сил, действующих вне пределов данного предприятия и влияющих на возможности финансового менеджера разменять денежные средства и получать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Diagram 4"/>
          <p:cNvGrpSpPr/>
          <p:nvPr/>
        </p:nvGrpSpPr>
        <p:grpSpPr>
          <a:xfrm>
            <a:off x="1258920" y="4224240"/>
            <a:ext cx="6211800" cy="2373480"/>
            <a:chOff x="1258920" y="4224240"/>
            <a:chExt cx="6211800" cy="2373480"/>
          </a:xfrm>
        </p:grpSpPr>
        <p:sp>
          <p:nvSpPr>
            <p:cNvPr id="123" name="_s1028"/>
            <p:cNvSpPr/>
            <p:nvPr/>
          </p:nvSpPr>
          <p:spPr>
            <a:xfrm>
              <a:off x="1258920" y="5084640"/>
              <a:ext cx="6211800" cy="6145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ФИНАНСОВАЯ СРЕДА ПРЕДПРИНИМАТЕЛЬ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3"/>
            <p:cNvSpPr/>
            <p:nvPr/>
          </p:nvSpPr>
          <p:spPr>
            <a:xfrm>
              <a:off x="2843280" y="4224240"/>
              <a:ext cx="3384360" cy="565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акросре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2843280" y="6031080"/>
              <a:ext cx="3384360" cy="566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кросре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 rot="10800000">
              <a:off x="3851280" y="4818240"/>
              <a:ext cx="1441440" cy="212400"/>
            </a:xfrm>
            <a:prstGeom prst="triangle">
              <a:avLst>
                <a:gd name="adj" fmla="val 51319"/>
              </a:avLst>
            </a:prstGeom>
            <a:solidFill>
              <a:srgbClr val="66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6"/>
            <p:cNvSpPr/>
            <p:nvPr/>
          </p:nvSpPr>
          <p:spPr>
            <a:xfrm>
              <a:off x="3851280" y="5734080"/>
              <a:ext cx="1441440" cy="212760"/>
            </a:xfrm>
            <a:prstGeom prst="triangle">
              <a:avLst>
                <a:gd name="adj" fmla="val 50000"/>
              </a:avLst>
            </a:prstGeom>
            <a:solidFill>
              <a:srgbClr val="66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12"/>
          <p:cNvSpPr/>
          <p:nvPr/>
        </p:nvSpPr>
        <p:spPr>
          <a:xfrm>
            <a:off x="168120" y="1125360"/>
            <a:ext cx="8805960" cy="13136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к – это возможность неудач, убытков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и, которые при неосмотри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рамотном подходе к делу могут повлечь нежел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ствия, ущер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971640" y="1197000"/>
            <a:ext cx="3456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росре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71640" y="2131920"/>
            <a:ext cx="338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ны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971640" y="270828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 flipH="1">
            <a:off x="610920" y="148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611280" y="1484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611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611280" y="2924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611280" y="4437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611280" y="5589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5076720" y="2205000"/>
            <a:ext cx="374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вщ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5076720" y="2995560"/>
            <a:ext cx="374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5076720" y="3716280"/>
            <a:ext cx="3743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кур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 flipH="1">
            <a:off x="4716000" y="1484280"/>
            <a:ext cx="576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4716360" y="1486080"/>
            <a:ext cx="0" cy="403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471636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716360" y="4076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5003640" y="1197000"/>
            <a:ext cx="38894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4716360" y="321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971640" y="530064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ны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971640" y="465300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971640" y="3355920"/>
            <a:ext cx="3384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мограф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971640" y="4003560"/>
            <a:ext cx="338436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ический 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611280" y="4940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611280" y="364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нятие риска. Финансовая среда предпринимательства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5076720" y="4508640"/>
            <a:ext cx="374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5076720" y="5229360"/>
            <a:ext cx="374328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актные ауди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2"/>
          <p:cNvSpPr/>
          <p:nvPr/>
        </p:nvSpPr>
        <p:spPr>
          <a:xfrm>
            <a:off x="4716360" y="4797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3"/>
          <p:cNvSpPr/>
          <p:nvPr/>
        </p:nvSpPr>
        <p:spPr>
          <a:xfrm>
            <a:off x="4716360" y="5516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457200" y="1143000"/>
            <a:ext cx="3429000" cy="825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ассическая теория риск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724280" y="1143000"/>
            <a:ext cx="3733920" cy="825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оклассическая теория рис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68360" y="2362320"/>
            <a:ext cx="3417840" cy="1618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иск рассматривалс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 возможный ущерб, который может произойти вследствие экономического действ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716360" y="2286000"/>
            <a:ext cx="3733920" cy="1739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рная прибыль всегда будет иметь большую полезность, нежели прибыль того же ожидаемого размера, но связанная с возможными колебания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сновные теории предпринимательских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468360" y="4292640"/>
            <a:ext cx="7920000" cy="2498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временная тео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иболее сложна и актуальна пробл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мального варианта инвестирования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ниматель в этом случае сталкивается с различ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видностями неопределенностей. Вместе они образ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ическую неопределенность, при которой возникает элемент ри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илу этого перед предпринимателем возникает сложная задач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степень риска по уровню допустим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я конъюнктуру рынка и друг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8"/>
          <p:cNvSpPr/>
          <p:nvPr/>
        </p:nvSpPr>
        <p:spPr>
          <a:xfrm>
            <a:off x="2771640" y="3573360"/>
            <a:ext cx="3456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кции ри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250920" y="4581360"/>
            <a:ext cx="3456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щи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5003640" y="4581360"/>
            <a:ext cx="3600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154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ущность и функции предпринимательских рис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2050920" y="4221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450072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>
            <a:off x="205092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6659640" y="42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826920" y="5229360"/>
            <a:ext cx="28814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структивный асп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826920" y="5877000"/>
            <a:ext cx="28814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труктивный асп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5435640" y="5227560"/>
            <a:ext cx="3168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о-правовой асп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0"/>
          <p:cNvSpPr/>
          <p:nvPr/>
        </p:nvSpPr>
        <p:spPr>
          <a:xfrm>
            <a:off x="5435640" y="5875200"/>
            <a:ext cx="3168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торико-генетический асп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539640" y="5084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539640" y="55879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539640" y="609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4"/>
          <p:cNvSpPr/>
          <p:nvPr/>
        </p:nvSpPr>
        <p:spPr>
          <a:xfrm>
            <a:off x="5219640" y="508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5"/>
          <p:cNvSpPr/>
          <p:nvPr/>
        </p:nvSpPr>
        <p:spPr>
          <a:xfrm>
            <a:off x="5219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7"/>
          <p:cNvSpPr/>
          <p:nvPr/>
        </p:nvSpPr>
        <p:spPr>
          <a:xfrm>
            <a:off x="5219640" y="616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8"/>
          <p:cNvSpPr/>
          <p:nvPr/>
        </p:nvSpPr>
        <p:spPr>
          <a:xfrm>
            <a:off x="324000" y="1197000"/>
            <a:ext cx="8569080" cy="2087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принимательский риск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ятельность субъектов хозяйстве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изни, связан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с преодолением неопределенности в ситу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избежного выбора, в процессе которой имеется возможность оцен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роятности достижения желаемого результата, неудач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лонения от це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держащиеся в выбираемых альтернати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1042920" y="1341360"/>
            <a:ext cx="73454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нимательские р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971640" y="2276640"/>
            <a:ext cx="3384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сточникам возникнов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971640" y="2924280"/>
            <a:ext cx="3384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дл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971640" y="4508640"/>
            <a:ext cx="338436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уровню поте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>
            <a:off x="61092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611280" y="162864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611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61128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61128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971640" y="5300640"/>
            <a:ext cx="3384360" cy="433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зиции системного подх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61128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426920" y="225432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426560" y="2911320"/>
            <a:ext cx="168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500720" y="4508640"/>
            <a:ext cx="41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мальные   Допусти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ические    Катастроф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499640" y="5229360"/>
            <a:ext cx="182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истема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68360" y="54936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971640" y="3632040"/>
            <a:ext cx="338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сфере возникнов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611280" y="39196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4427640" y="3562200"/>
            <a:ext cx="367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енные     Тех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ерческие      Финанс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эконом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971640" y="5950080"/>
            <a:ext cx="3384360" cy="531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оисхожд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611280" y="623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4499640" y="595008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352680" y="1413000"/>
            <a:ext cx="2659320" cy="105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предпринимателя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иск заемщик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1496880"/>
            <a:ext cx="2658960" cy="7855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кредитора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300720" y="1413000"/>
            <a:ext cx="2658960" cy="7855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к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04920" y="2895480"/>
            <a:ext cx="2514600" cy="345672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язан с вероятностью преднамеренного банкротства или прочих попыток должника уклониться от выполнения обязательств и возможности недостаточности размеров обеспечения ссу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352680" y="2898720"/>
            <a:ext cx="2514600" cy="359964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ника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когда в оборот направляются собственные деньг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редпринимателя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связан с сомн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е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луч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предполага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вы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на которую предприниматель рассчиты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6400800" y="2895480"/>
            <a:ext cx="2514600" cy="3313800"/>
          </a:xfrm>
          <a:prstGeom prst="rect">
            <a:avLst/>
          </a:prstGeom>
          <a:solidFill>
            <a:srgbClr val="e6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язан с возможным уменьшением ценности денежной единицы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нежный заем всегда будет менее надежным, нежели реальное имущество. Кроме того, инфляция отрицательно отражается на инвестировании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360" y="62064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новные классификации предпринимательских рисков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Д. Кейн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25092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чествен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20364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ен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227640" y="1125360"/>
            <a:ext cx="2743200" cy="825480"/>
          </a:xfrm>
          <a:prstGeom prst="rect">
            <a:avLst/>
          </a:prstGeom>
          <a:solidFill>
            <a:srgbClr val="00007d">
              <a:alpha val="76000"/>
            </a:srgbClr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лекс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50920" y="2106720"/>
            <a:ext cx="8588160" cy="44510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чественный анализ имеет своей главной задачей определить возможные виды риска, факторы, влияющие на уровень риска, а также и потенциальные области риска. Количественный анализ направлен на расчет величины возможных потерь при возникновении рискового событ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е факторы, влияющие на степень риска, можно подразделить на внешние и внутренние. К внешним факторам относятся политическая и экономическая ситуация в стране и за ее пределами, законодательная основа предпринимательства, налоговая система, конкуренция, стихийные бедствия и др. К внутренним факторам относятся экономическая стратегия фирмы, степень использования ресурсов в производственно-хозяйственной деятельности, квалификацию работников, качество менеджмента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39640" y="549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Методы оценки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0:54:36Z</dcterms:created>
  <dc:creator>Techno</dc:creator>
  <dc:description/>
  <dc:language>en-US</dc:language>
  <cp:lastModifiedBy>LEGION</cp:lastModifiedBy>
  <dcterms:modified xsi:type="dcterms:W3CDTF">2016-01-05T12:46:02Z</dcterms:modified>
  <cp:revision>38</cp:revision>
  <dc:subject/>
  <dc:title>Краткосрочная финансовая политика</dc:title>
</cp:coreProperties>
</file>