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ткосрочная финансов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4E1A-544B-4EC3-96C8-4BA98BE1B8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7182-A3DA-457E-A0A8-8FC2C19A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CC27-81EF-4A47-884F-C0148BC5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CDF3-B37B-4E4A-8FD2-F16107C8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3243-79A2-40CD-9E4D-56493B4D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22B8-B31F-4C99-8D43-EA1CDDDE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AC15-DB61-41E5-8D17-1C93636F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5947-4084-4709-A192-A1416D3B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234D-D093-40DF-BE53-9D844038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A4DC-3EDA-4DD0-91A3-B63A02F7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52B3-89AA-4A00-AB96-E62AA673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3C17-56EB-42A7-8238-8CDB125F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3B14-AF48-42D6-AE28-706D8911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9D83-2108-41C9-BF7A-9B22CEF7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95AB-05E2-483C-B4C3-46B72781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11AF-E233-4651-9A60-976D9899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3AD3-806D-415E-A6AC-CAB823D8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3989-15D4-4DF0-847C-168BA841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BA5AC-6C64-4104-BDAE-398E6B98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B098-EEF4-451E-98CC-3E4C8B6F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F262-20EE-4466-92A1-5B688E33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432A-C499-43BA-9DFD-F42E7FD0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F467-9D24-44DA-9925-8E13087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3C73-FBF4-4B58-A6A6-4C5AA2B4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3287-B226-43E2-9C8D-8646E62D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C0FF-9BE2-4C1F-B524-5D8B5BE21C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64E9-4104-47B3-AC90-334CBFEAE7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Финансовый менеджм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631960" y="90792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125360"/>
          <a:ext cx="8229600" cy="5483520"/>
        </p:xfrm>
        <a:graphic>
          <a:graphicData uri="http://schemas.openxmlformats.org/drawingml/2006/table">
            <a:tbl>
              <a:tblPr/>
              <a:tblGrid>
                <a:gridCol w="2057400"/>
                <a:gridCol w="1986120"/>
                <a:gridCol w="2087280"/>
                <a:gridCol w="2098800"/>
              </a:tblGrid>
              <a:tr h="91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подходов к управлению рис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ть под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ие потерь при наступлении рискового случ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13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е использование средств на предотвращение рис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стью покрываю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и затраты на превентивные мероприятия, изъятие части ресурсов из оборота, снижение оборачи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осуществляется в ходе проведения хозяйственных операц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ывается часть ущер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затраты на превентивные мероприятия, средний уровень эффективности и оборачиваемости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ерва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начинается только после наступления рискового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щерб локализуется в рамках одной операции, одного подраз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предупреждения риска малы, что увеличивает прибыльность, оборачиваемость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</a:tbl>
          </a:graphicData>
        </a:graphic>
      </p:graphicFrame>
      <p:sp>
        <p:nvSpPr>
          <p:cNvPr id="225" name="Rectangle 59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971640" y="2276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971640" y="31399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971640" y="51577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611280" y="162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61128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61128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61128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427640" y="2335320"/>
            <a:ext cx="35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4424400" y="3127320"/>
            <a:ext cx="33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4500720" y="521640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971640" y="4064040"/>
            <a:ext cx="3384360" cy="5889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61128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427640" y="3925800"/>
            <a:ext cx="367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9154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нятие риска. Финансовая среда предпринимательства (1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8713800" cy="162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36000" rIns="36000"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Diagram 4"/>
          <p:cNvGrpSpPr/>
          <p:nvPr/>
        </p:nvGrpSpPr>
        <p:grpSpPr>
          <a:xfrm>
            <a:off x="1258920" y="4224240"/>
            <a:ext cx="6211800" cy="2373480"/>
            <a:chOff x="1258920" y="4224240"/>
            <a:chExt cx="6211800" cy="2373480"/>
          </a:xfrm>
        </p:grpSpPr>
        <p:sp>
          <p:nvSpPr>
            <p:cNvPr id="123" name="_s1028"/>
            <p:cNvSpPr/>
            <p:nvPr/>
          </p:nvSpPr>
          <p:spPr>
            <a:xfrm>
              <a:off x="1258920" y="5084640"/>
              <a:ext cx="6211800" cy="6145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ФИНАНСОВАЯ СРЕДА ПРЕДПРИНИМАТЕЛЬ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>
              <a:off x="2843280" y="4224240"/>
              <a:ext cx="3384360" cy="565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а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2843280" y="6031080"/>
              <a:ext cx="3384360" cy="566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 rot="10800000">
              <a:off x="3851280" y="4818240"/>
              <a:ext cx="1441440" cy="212400"/>
            </a:xfrm>
            <a:prstGeom prst="triangle">
              <a:avLst>
                <a:gd name="adj" fmla="val 51319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6"/>
            <p:cNvSpPr/>
            <p:nvPr/>
          </p:nvSpPr>
          <p:spPr>
            <a:xfrm>
              <a:off x="3851280" y="5734080"/>
              <a:ext cx="1441440" cy="212760"/>
            </a:xfrm>
            <a:prstGeom prst="triangle">
              <a:avLst>
                <a:gd name="adj" fmla="val 50000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12"/>
          <p:cNvSpPr/>
          <p:nvPr/>
        </p:nvSpPr>
        <p:spPr>
          <a:xfrm>
            <a:off x="168120" y="1125360"/>
            <a:ext cx="8805960" cy="13136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971640" y="1197000"/>
            <a:ext cx="3456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71640" y="213192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71640" y="270828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 flipH="1">
            <a:off x="610920" y="148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611280" y="1484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611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611280" y="292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611280" y="4437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611280" y="5589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5076720" y="2205000"/>
            <a:ext cx="374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5076720" y="299556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5076720" y="3716280"/>
            <a:ext cx="3743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 flipH="1">
            <a:off x="4716000" y="1484280"/>
            <a:ext cx="576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4716360" y="1486080"/>
            <a:ext cx="0" cy="403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471636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716360" y="407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5003640" y="1197000"/>
            <a:ext cx="38894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4716360" y="321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971640" y="530064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971640" y="465300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971640" y="335592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971640" y="4003560"/>
            <a:ext cx="3384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611280" y="4940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611280" y="364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5076720" y="450864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5076720" y="5229360"/>
            <a:ext cx="374328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2"/>
          <p:cNvSpPr/>
          <p:nvPr/>
        </p:nvSpPr>
        <p:spPr>
          <a:xfrm>
            <a:off x="4716360" y="4797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4716360" y="551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57200" y="1143000"/>
            <a:ext cx="342900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ассическая теория риск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724280" y="1143000"/>
            <a:ext cx="373392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оклассическая теория рис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68360" y="2362320"/>
            <a:ext cx="3417840" cy="1618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иск рассматривал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 возможный ущерб, который может произойти вследствие экономического действ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716360" y="2286000"/>
            <a:ext cx="3733920" cy="1739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рная прибыль всегда будет иметь большую полезность, нежели прибыль того же ожидаемого размера, но связанная с возможными колебания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68360" y="4292640"/>
            <a:ext cx="7920000" cy="2498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временная тео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иболее сложна и актуальна пробл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8"/>
          <p:cNvSpPr/>
          <p:nvPr/>
        </p:nvSpPr>
        <p:spPr>
          <a:xfrm>
            <a:off x="2771640" y="3573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250920" y="4581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5003640" y="4581360"/>
            <a:ext cx="3600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154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2050920" y="4221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450072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>
            <a:off x="205092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665964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826920" y="522936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826920" y="587700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5435640" y="522756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0"/>
          <p:cNvSpPr/>
          <p:nvPr/>
        </p:nvSpPr>
        <p:spPr>
          <a:xfrm>
            <a:off x="5435640" y="587520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539640" y="5084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539640" y="55879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53964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4"/>
          <p:cNvSpPr/>
          <p:nvPr/>
        </p:nvSpPr>
        <p:spPr>
          <a:xfrm>
            <a:off x="5219640" y="508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5"/>
          <p:cNvSpPr/>
          <p:nvPr/>
        </p:nvSpPr>
        <p:spPr>
          <a:xfrm>
            <a:off x="5219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7"/>
          <p:cNvSpPr/>
          <p:nvPr/>
        </p:nvSpPr>
        <p:spPr>
          <a:xfrm>
            <a:off x="5219640" y="616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324000" y="1197000"/>
            <a:ext cx="8569080" cy="2087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принимательский риск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ятельность субъектов хозяйств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зни, связан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 преодолением неопределенности в ситу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лонения от це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держащиеся в выбираемых альтернати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71640" y="227664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971640" y="292428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971640" y="4508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611280" y="162864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611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61128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61128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971640" y="5300640"/>
            <a:ext cx="3384360" cy="433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11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426920" y="225432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426560" y="2911320"/>
            <a:ext cx="168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500720" y="450864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499640" y="5229360"/>
            <a:ext cx="182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971640" y="363204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611280" y="39196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4427640" y="3562200"/>
            <a:ext cx="367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971640" y="5950080"/>
            <a:ext cx="3384360" cy="531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611280" y="623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4499640" y="595008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352680" y="1413000"/>
            <a:ext cx="2659320" cy="105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предпринимател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иск заемщик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149688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кредитор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300720" y="141300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4920" y="2895480"/>
            <a:ext cx="2514600" cy="345672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352680" y="2898720"/>
            <a:ext cx="2514600" cy="359964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ника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огда в оборот направляются собственные деньг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едпринимателя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связан с сомн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е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луч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редполага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вы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на которую предприниматель рассчиты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400800" y="2895480"/>
            <a:ext cx="2514600" cy="331380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язан с возможным уменьшением ценности денежной единиц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360" y="62064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5092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203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227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лекс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50920" y="2106720"/>
            <a:ext cx="8588160" cy="44510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39640" y="549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0:54:36Z</dcterms:created>
  <dc:creator>Techno</dc:creator>
  <dc:description/>
  <dc:language>en-US</dc:language>
  <cp:lastModifiedBy>LEGION</cp:lastModifiedBy>
  <dcterms:modified xsi:type="dcterms:W3CDTF">2016-01-05T12:46:02Z</dcterms:modified>
  <cp:revision>38</cp:revision>
  <dc:subject/>
  <dc:title>Краткосрочная финансовая политика</dc:title>
</cp:coreProperties>
</file>