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C2D9-36FD-4498-A7C7-68CEFD283BC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нятие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Понятие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Получение прибы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отрудникам реализоват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воей сфер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потребност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финансовый бизн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Коммерческий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финансовый бизнес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Производственны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Факторы производства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бочая сил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оизводственные фон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материал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информация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) результат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Х. Леф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тор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ты современного предпринимател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ан Хоск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Хизр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Осип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" делание денег из денег, но ...обязательно посредством полезной производительной деятельности - изготовлением продукта или оказания услуги."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  (ГК РФ ст. 2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изнес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собственных или заемных средств на свой риск и под свою ответственность, ставящая своими целями получение прибыли и развитие собственного дел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риентация на получение прибы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основанны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Ответ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Обоснованный риск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Ответствен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ные черты бизнес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Способность и готовность рисковать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выгодных условиях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ть авторитеты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DB4-5AAE-4225-9845-368B5E64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370-F0FC-48C3-B973-7829F62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1E1-D574-41AA-B353-A2BAA13A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389-1066-464F-B34A-188F75E1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C32-600C-4948-9D41-718C7C14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AF1-3D6C-4624-848D-C248716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CF5-81E9-4C3D-A6B7-4B90EF6C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217-DC9D-46B8-8306-4A7B3FF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E54-0A93-49B7-93BF-CC63616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904-5F5B-42A2-B193-2FEEE4B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01F-86CC-4A54-A44E-2FC5A3D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D62-A081-4C19-B650-FC1A2C2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9EA-21BA-47C0-A66E-00750E8C646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20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нятие бизнес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Предпринимать различные действия с        целью обеспечения выгодной позиции для последующего проведения избранных приемов делового общения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Накопление средств на развитие бизнес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Предоставление обществу необходимых товаров и услу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Достижение передовых позиций в  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воей сфер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Оптимальное удовлетвор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Предоставление возможности своим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сотрудникам реализовать себ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Коммерче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коммерческое посредниче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финансовый бизне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) Производственный.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   Факторы производств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) рабочая сила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б) производственные фонд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) материалы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) информация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) результат.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бизнес, в котором основным источником прибыли служит создание новых способов получения прибыли в производстве (новые факторы производства, новое сочетание факторов, новых сфер приложения капитала), в сбыте продукции, спекулятивных операциях, доход возникающий несовершенства в законодательстве, системе социальных и психологических отношений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едпринимательство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представляет собой способность к нововведениям, инвестициям и расширению в отношении новых рынков, товаров и методов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Х. Леф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Черты современного предпринимател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аторство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к обоснованному риску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ированность, образованнос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систематически наблюдать и планирова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еустремленность (уверенность в себе, способность убеждать других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ность работать в коллективе (способность устанавливать связи, вовлеченный в рабочие контакты, ответственный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ое отличие предпринимателя от бизнесме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оит в том, что он способен изобрести новый вид деятельности и организовать его в принципиально новую предпринимательскую схему (способ делать бизнес), т. е. способность к конструированию бизнес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 деятельность, осуществляемая частными лицами или организациями для извлечения природных благ производства или оказания услуг в обмен на другие товары, услуги или деньги, ведущая к взаимной выгоде заинтересованных лиц или организаций"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ан Хоскинг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предпринимательство как процесс создания чего-то нового, что обладает стоимостью, а предприниматель - человек, который затрачивает на это все необходимое время и силы, берет на себя весь финансовый, психологический и социальный риск, получая в награду деньги и удовлетворение достигнутым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берт Хизри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елание денег из денег, но ...обязательно посредством полезной производительной деятельности - изготовлением продукта или оказания услуги."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рий Осип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это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…самостоятельная, осуществляемая на свой риск деятельность, направленная на систематическое получение прибыли от использования имущества, продажи товаров, выполнения работ или оказания услуг лицами, зарегистрированными в этом качестве в установленном законом порядке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(ГК РФ ст. 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знес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инициативная экономическая деятельность, осуществляемая за сче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бственных или заемны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редств на свой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ис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под свою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авящая своими целями получ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рибыли и развитие собственного де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изнаки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риентация на получение прибыл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Обоснованный рис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Новаторство (поиск новых решений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Эконом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арактерные черты бизнес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Обмен деятельностью между субъектами экономик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ремление каждого субъекта при взаимном обмене реализовать свои  интересы независимо от того выгодно ли это другом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Стремление навязать свои интересы в процессе делового общ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628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ь и готовность рискова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ради проведения сделки на бол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выгодных условия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Способность, готовность и ум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проводить различные прием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елового общения р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достижения наибольшей выгод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б) различать реальное и возможное 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определять авторите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9:13:33Z</dcterms:created>
  <dc:creator>Vladimir</dc:creator>
  <dc:description/>
  <dc:language>en-US</dc:language>
  <cp:lastModifiedBy>LEGION</cp:lastModifiedBy>
  <dcterms:modified xsi:type="dcterms:W3CDTF">2016-01-05T12:45:46Z</dcterms:modified>
  <cp:revision>15</cp:revision>
  <dc:subject/>
  <dc:title>Понятие бизнеса</dc:title>
</cp:coreProperties>
</file>