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0C04-783A-426B-8868-3CF6F1C7AB1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нятие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онятие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Получение прибы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отрудникам реализоват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финансовый бизн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финансовый бизнес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Х. Леф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ан Хоск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Хизр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Осип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риентация на получение прибы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основанны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Ответ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Обоснованный риск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Ответствен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ные черт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CC9-7D1F-4D94-8EBE-05B836D1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637-0B9E-4B5A-9165-4065232E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197-C796-43AB-99C6-8FF6659A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342-863C-4349-A9F0-E8EC50B8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436-9CFC-4098-93C9-0C6CA957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936-2189-48AC-935D-2725722F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205-EC6F-4657-AEE7-A7F5886B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456-FC4F-400C-9974-CABD9B50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1B3-5DCC-472C-8DEA-A7C4EB79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478-CED4-4920-BA7D-523ABBFC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052-9C62-44CA-9F6C-9B59CF30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37F-4822-4BE7-909A-CB11B28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3D36-AE62-4AE8-8FC4-A67EE06C02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2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нятие бизне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воей сфер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Коммерче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финансовый бизне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 Производственный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Факторы производств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) рабочая сил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б) производственные фонд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) материал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) информация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) результат.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ты современного предпринимател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ние денег из денег, но ...обязательно посредством полезной производительной деятельности - изготовлением продукта или оказания услуги.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(ГК РФ ст. 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бственных или заем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редств на свой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ис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под свою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авящая своими целями получ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ибыли и развитие собственного де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знак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Обоснованный рис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арактерные черт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628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и готовность рисков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выгодных условия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определять авторите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9:13:33Z</dcterms:created>
  <dc:creator>Vladimir</dc:creator>
  <dc:description/>
  <dc:language>en-US</dc:language>
  <cp:lastModifiedBy>LEGION</cp:lastModifiedBy>
  <dcterms:modified xsi:type="dcterms:W3CDTF">2016-01-05T12:45:46Z</dcterms:modified>
  <cp:revision>15</cp:revision>
  <dc:subject/>
  <dc:title>Понятие бизнеса</dc:title>
</cp:coreProperties>
</file>