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5E81-D550-4C86-AECA-E249985795D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нятие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онятие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Получение прибы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отрудникам реализоват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финансовый бизн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финансовый бизнес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Х. Леф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ан Хоск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Хизр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Осип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риентация на получение прибы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основанны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Ответ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Обоснованный риск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Ответствен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ные черт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7D5-8398-4733-AAD2-A62EBD93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6C8-DCFE-460C-AA99-17692A74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3E3-E1C9-4915-9500-690BEA6D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93A-327B-4FC7-BE6D-DBCBD3D9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7DE-3DB1-453A-8CBF-97FF58A9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65D-6679-4132-8755-F3201C6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16C-A8E8-4E2F-8CFA-72209749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B79-022A-4D8C-ADA3-C76D02E7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EF5-2610-4E69-AE47-CF454416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D66-EC49-4121-9E78-6C0F82BD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589-8A99-46C6-A04E-37C41B3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685-DD96-47E1-A604-4213D153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A86A-9D7B-4193-9E65-89F81560B7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нятие бизне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воей сфер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Коммерче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финансовый бизн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 Производственный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Факторы производств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) рабочая сил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б) производственные фонд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) материал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) информация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) результат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ты современного предпринимател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ние денег из денег, но ...обязательно посредством полезной производительной деятельности - изготовлением продукта или оказания услуги.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ГК РФ ст. 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бственных или заем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редств на свой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ис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под свою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авящая своими целями получ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ибыли и развитие собственного де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знак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Обоснованный ри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арактерные черт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628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и готовность рисков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выгодных условия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определять авторите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13:33Z</dcterms:created>
  <dc:creator>Vladimir</dc:creator>
  <dc:description/>
  <dc:language>en-US</dc:language>
  <cp:lastModifiedBy>LEGION</cp:lastModifiedBy>
  <dcterms:modified xsi:type="dcterms:W3CDTF">2016-01-05T12:45:46Z</dcterms:modified>
  <cp:revision>15</cp:revision>
  <dc:subject/>
  <dc:title>Понятие бизнеса</dc:title>
</cp:coreProperties>
</file>