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48022-4B4F-4953-BAD4-96C26F37063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рология, стандартизация и сертифик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цент кафедры АТ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ндидат технических нау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авченко Евгений Владимирови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трология, стандартизация и сертифик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цент кафедры АТП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ндидат технических нау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авченко Евгений Владимирови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ТАНДАРТИЗАЦИЯ </a:t>
            </a: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Нормативно-правовая баз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Нормативно-правовая баз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и и мет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а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а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муникативн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ункции и метод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унк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ономическая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циальная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ммуникативна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и и мет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ережающая стандартизаци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лексная стандартизация 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тизации и классификаци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нификаци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грегатировани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ипизац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ункции и метод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тод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ережающая стандартизация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мплексная стандартизация 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стематизации и классификации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нификация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грегатирования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ипизац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и и мет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опережающей стандарт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ункции и метод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тод опережающей стандартиз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и и мет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комплексной стандарт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ункции и метод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тод комплексной стандартиз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ТАНДАРТИЗАЦИЯ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Метод комплексной стандарт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Метод комплексной стандартиз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и и мет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систематизации и классифик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ункции и метод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тод систематизации и классифик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ТАНДАРТИЗАЦИЯ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Унифик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Унифик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ТАНДАРТИЗАЦИЯ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Агрегатир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Агрегатиро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ТАНДАРТИЗАЦИЯ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Типиз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Типиз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Ь 2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ИЗ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ая литера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рология, стандартизация и сертификация: учебное пособ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/ Е.В. Кравченко, Ю.К. Кривогузова, И.П. Озеро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ницы 58-8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АСТЬ 2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НДАРТИЗ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ая литерату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трология, стандартизация и сертификация: учебное пособи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/ Е.В. Кравченко, Ю.К. Кривогузова, И.П. Озеро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раницы 58-8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энергетического менеджмен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целях реализации системы менеджмента качества энергии, международной организацией ИСО в 2011 году разработан стандарт ISO 50001:2011 «Системы энергетического менеджмента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стема энергетического менеджмент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целях реализации системы менеджмента качества энергии, международной организацией ИСО в 2011 году разработан стандарт ISO 50001:2011 «Системы энергетического менеджмента»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энергетического менеджмен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ология постоянного улучш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Plan – Do – Check - Act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стема энергетического менеджмент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тодология постоянного улучшени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Plan – Do – Check - Act»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энергетического менеджмен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энергетического менеджмен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стема энергетического менеджмент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дель энергетического менеджмент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ая стандартизац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946 г. на заседании Комитета по координации стандартов ООН принято решение создать международную организацию по стандартизации ИС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остав ИСО входят 120 стра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ждународная стандартизаци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1946 г. на заседании Комитета по координации стандартов ООН принято решение создать международную организацию по стандартизации ИС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состав ИСО входят 120 стран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ние разде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1. Общие понятия стандарт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2. Нормативно-правовая база стандарт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3. Функции и методы стандарт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4. Порядок разработки, принятия и отмены стандар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5. Система энергетического менеджм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6. Международная стандартиз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держание раздел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1. Общие понятия стандартиз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2. Нормативно-правовая база стандартиз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3. Функции и методы стандартиз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4. Порядок разработки, принятия и отмены стандарт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5. Система энергетического менеджмен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6. Международная стандартиз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ие поня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изация – деятельность по установлению правил и характеристик в целях их добровольного многократного использования, направленная на достижение упорядоченности в сферах производства и обращения продукции и повышение конкурентоспособности продукции, работ или услуг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едеральный закон № 184 ФЗ «О техническом регулировании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ие понят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ндартизация – деятельность по установлению правил и характеристик в целях их добровольного многократного использования, направленная на достижение упорядоченности в сферах производства и обращения продукции и повышение конкурентоспособности продукции, работ или услуг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едеральный закон № 184 ФЗ «О техническом регулировании»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ие поня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 - документ, в котором в целях добровольного многократного использования устанавливаются характеристики продукции, правила осуществления и характеристики процессов проектирования (включая изыскания), производства, строительства, монтажа, наладки, эксплуатации, хранения, перевозки, реализации и утилизации, выполнения работ или оказания услу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едеральный закон № 184 ФЗ «О техническом регулировании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ие понят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ндарт - документ, в котором в целях добровольного многократного использования устанавливаются характеристики продукции, правила осуществления и характеристики процессов проектирования (включая изыскания), производства, строительства, монтажа, наладки, эксплуатации, хранения, перевозки, реализации и утилизации, выполнения работ или оказания услу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едеральный закон № 184 ФЗ «О техническом регулировании»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ие поня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 стандарт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ышение уровня безопасности жизни и здоровья граждан, имущества физических и юридических лиц, государственного и муниципального имущества, объектов с учетом риска возникновения чрезвычайных ситуаций природного и техногенного характера, повышение уровня экологической безопасности, безопасности жизни и здоровья животных и растен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 систем классификации и кодирования технико-экономической и социальной информации, систем каталогизации продукции (работ, услуг), систем обеспечения качества продукции (работ, услуг), систем поиска и передачи данных, содействие проведению работ по унифик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ие понят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ли стандартиз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вышение уровня безопасности жизни и здоровья граждан, имущества физических и юридических лиц, государственного и муниципального имущества, объектов с учетом риска возникновения чрезвычайных ситуаций природного и техногенного характера, повышение уровня экологической безопасности, безопасности жизни и здоровья животных и растений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здание систем классификации и кодирования технико-экономической и социальной информации, систем каталогизации продукции (работ, услуг), систем обеспечения качества продукции (работ, услуг), систем поиска и передачи данных, содействие проведению работ по унификаци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ие поня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 стандарт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ение конкурентоспособности и качества продукции (работ, услуг), единства измерений, рационального использования ресурсов, взаимозаменяемости технических средств (машин и оборудования, их составных частей, комплектующих изделий и материалов), технической и информационной совместимости, сопоставимости результатов исследований (испытаний) и измерений, технических и экономико-статистических данных, проведения анализа характеристик продукции (работ, услуг), исполнения государственных заказов, добровольного подтверждения соответствия продукции (работ, услуг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йствие соблюдению требований технических регламен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ие понят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ли стандартиз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еспечение конкурентоспособности и качества продукции (работ, услуг), единства измерений, рационального использования ресурсов, взаимозаменяемости технических средств (машин и оборудования, их составных частей, комплектующих изделий и материалов), технической и информационной совместимости, сопоставимости результатов исследований (испытаний) и измерений, технических и экономико-статистических данных, проведения анализа характеристик продукции (работ, услуг), исполнения государственных заказов, добровольного подтверждения соответствия продукции (работ, услуг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действие соблюдению требований технических регламент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ативно-правовая баз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ые стандар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ила стандартизации, нормы и рекомендации в области стандарт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няемые в установленном порядке классификации, общероссийские классификаторы технико-экономической и социальной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ы организа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ды правил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 стандарты, региональные стандарты, региональные своды правил, стандарты иностранных государств и своды правил иностранных государств, зарегистрированные в Федеральном информационном фонде технических регламентов и стандартов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длежащим образом заверенные переводы на русский язык международных стандартов, региональных стандартов, региональных сводов правил, стандартов иностранных государств и сводов правил иностранных государств, принятые на учет национальным органом Российской Федерации по стандарт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варительные национальные стандарты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рмативно-правовая баз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циональные стандарт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ила стандартизации, нормы и рекомендации в области стандартиз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меняемые в установленном порядке классификации, общероссийские классификаторы технико-экономической и социальной информ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ндарты организац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воды правил 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ждународные стандарты, региональные стандарты, региональные своды правил, стандарты иностранных государств и своды правил иностранных государств, зарегистрированные в Федеральном информационном фонде технических регламентов и стандартов 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длежащим образом заверенные переводы на русский язык международных стандартов, региональных стандартов, региональных сводов правил, стандартов иностранных государств и сводов правил иностранных государств, принятые на учет национальным органом Российской Федерации по стандартиз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варительные национальные стандарты 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ативно-правовая баз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означение стандар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рмативно-правовая баз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значение стандарт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DBAF-8B5C-4574-A67E-27BEF0797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FD5B-4D37-405E-AC0F-76001DDFD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848C-9C24-4AA5-B15B-23BBB8A46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2BE7-5ADC-41E1-9DDD-A1C46F936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5BA9-2DDB-44B5-80BF-256678ACB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D2A6-B6DB-43CC-8E13-6A20707F6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7ED5-BF2E-4A61-A93F-D1ED88BF2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143F-8178-47BC-916B-8E7EA6610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0E78-FB75-4303-8291-AABF814DE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A5F7-CF34-4B44-A51F-E91F2C8BB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1A97-4FA1-44CA-A8EF-6E4B1BFA9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67D6-93F0-4DD6-A814-95E170E1C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B1922-2E7F-49BA-89AE-C82F0BB2F60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1483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Метрология, стандартизация и сертификац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оцент кафедры АТ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ндидат технических нау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равченко Евгений Владимирови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Нормативно-правовая база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6" descr="12"/>
          <p:cNvPicPr/>
          <p:nvPr/>
        </p:nvPicPr>
        <p:blipFill>
          <a:blip r:embed="rId1"/>
          <a:stretch/>
        </p:blipFill>
        <p:spPr>
          <a:xfrm>
            <a:off x="1908000" y="2060640"/>
            <a:ext cx="5689800" cy="3622680"/>
          </a:xfrm>
          <a:prstGeom prst="rect">
            <a:avLst/>
          </a:prstGeom>
          <a:ln w="0">
            <a:noFill/>
          </a:ln>
        </p:spPr>
      </p:pic>
      <p:sp>
        <p:nvSpPr>
          <p:cNvPr id="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Функции и метод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Функци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экономическая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оциальная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оммуникативна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Функции и метод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Метод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пережающая стандартизация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омплексная стандартизац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истематизации и классификаци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нификация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грегатирования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ипизаци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Функции и метод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6981840" cy="43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етод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пережающей стандартиза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8" descr="management_standart-11"/>
          <p:cNvPicPr/>
          <p:nvPr/>
        </p:nvPicPr>
        <p:blipFill>
          <a:blip r:embed="rId1"/>
          <a:srcRect l="0" t="0" r="0" b="10040"/>
          <a:stretch/>
        </p:blipFill>
        <p:spPr>
          <a:xfrm>
            <a:off x="900000" y="2492280"/>
            <a:ext cx="7559640" cy="3773520"/>
          </a:xfrm>
          <a:prstGeom prst="rect">
            <a:avLst/>
          </a:prstGeom>
          <a:ln w="0">
            <a:noFill/>
          </a:ln>
        </p:spPr>
      </p:pic>
      <p:sp>
        <p:nvSpPr>
          <p:cNvPr id="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Функции и метод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16000" y="1989000"/>
            <a:ext cx="6981840" cy="43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етод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омплексной стандартиза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7"/>
          <p:cNvSpPr/>
          <p:nvPr/>
        </p:nvSpPr>
        <p:spPr>
          <a:xfrm>
            <a:off x="1681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11" descr="image028"/>
          <p:cNvPicPr/>
          <p:nvPr/>
        </p:nvPicPr>
        <p:blipFill>
          <a:blip r:embed="rId1"/>
          <a:stretch/>
        </p:blipFill>
        <p:spPr>
          <a:xfrm>
            <a:off x="755640" y="2421000"/>
            <a:ext cx="7848720" cy="3649680"/>
          </a:xfrm>
          <a:prstGeom prst="rect">
            <a:avLst/>
          </a:prstGeom>
          <a:ln w="0">
            <a:noFill/>
          </a:ln>
        </p:spPr>
      </p:pic>
      <p:sp>
        <p:nvSpPr>
          <p:cNvPr id="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3840" cy="5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74880" y="980640"/>
            <a:ext cx="6981840" cy="36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етод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омплексной стандартиза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5" descr="2618_html_m3476a436"/>
          <p:cNvPicPr/>
          <p:nvPr/>
        </p:nvPicPr>
        <p:blipFill>
          <a:blip r:embed="rId1"/>
          <a:stretch/>
        </p:blipFill>
        <p:spPr>
          <a:xfrm>
            <a:off x="826920" y="1413000"/>
            <a:ext cx="7993080" cy="5265720"/>
          </a:xfrm>
          <a:prstGeom prst="rect">
            <a:avLst/>
          </a:prstGeom>
          <a:ln w="0">
            <a:noFill/>
          </a:ln>
        </p:spPr>
      </p:pic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Функции и метод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16000" y="1989000"/>
            <a:ext cx="6981840" cy="43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етод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истематизации и классифика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AutoShape 4"/>
          <p:cNvSpPr/>
          <p:nvPr/>
        </p:nvSpPr>
        <p:spPr>
          <a:xfrm>
            <a:off x="1681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8" descr="12"/>
          <p:cNvPicPr/>
          <p:nvPr/>
        </p:nvPicPr>
        <p:blipFill>
          <a:blip r:embed="rId1"/>
          <a:stretch/>
        </p:blipFill>
        <p:spPr>
          <a:xfrm>
            <a:off x="1476360" y="2421000"/>
            <a:ext cx="6481800" cy="4127400"/>
          </a:xfrm>
          <a:prstGeom prst="rect">
            <a:avLst/>
          </a:prstGeom>
          <a:ln w="0">
            <a:noFill/>
          </a:ln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78920" y="3500280"/>
            <a:ext cx="3240360" cy="43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нификац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4"/>
          <p:cNvSpPr/>
          <p:nvPr/>
        </p:nvSpPr>
        <p:spPr>
          <a:xfrm>
            <a:off x="1681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9" descr="image144"/>
          <p:cNvPicPr/>
          <p:nvPr/>
        </p:nvPicPr>
        <p:blipFill>
          <a:blip r:embed="rId1"/>
          <a:stretch/>
        </p:blipFill>
        <p:spPr>
          <a:xfrm>
            <a:off x="3419640" y="981000"/>
            <a:ext cx="5019480" cy="5877000"/>
          </a:xfrm>
          <a:prstGeom prst="rect">
            <a:avLst/>
          </a:prstGeom>
          <a:ln w="0">
            <a:noFill/>
          </a:ln>
        </p:spPr>
      </p:pic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771280" y="907920"/>
            <a:ext cx="3240360" cy="43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грегатирова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4"/>
          <p:cNvSpPr/>
          <p:nvPr/>
        </p:nvSpPr>
        <p:spPr>
          <a:xfrm>
            <a:off x="1681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8" descr="lego"/>
          <p:cNvPicPr/>
          <p:nvPr/>
        </p:nvPicPr>
        <p:blipFill>
          <a:blip r:embed="rId1"/>
          <a:stretch/>
        </p:blipFill>
        <p:spPr>
          <a:xfrm>
            <a:off x="1332000" y="1413000"/>
            <a:ext cx="6696000" cy="5298840"/>
          </a:xfrm>
          <a:prstGeom prst="rect">
            <a:avLst/>
          </a:prstGeom>
          <a:ln w="0">
            <a:noFill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771280" y="907920"/>
            <a:ext cx="3240360" cy="43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ипизац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4"/>
          <p:cNvSpPr/>
          <p:nvPr/>
        </p:nvSpPr>
        <p:spPr>
          <a:xfrm>
            <a:off x="1681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icture 9" descr="d0bbd0bed182d0bad0b8-d0bad0b0d180d182d0b8d0bdd0bad0b01"/>
          <p:cNvPicPr/>
          <p:nvPr/>
        </p:nvPicPr>
        <p:blipFill>
          <a:blip r:embed="rId1"/>
          <a:stretch/>
        </p:blipFill>
        <p:spPr>
          <a:xfrm>
            <a:off x="3708360" y="1347840"/>
            <a:ext cx="5219640" cy="30178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1" descr="robot"/>
          <p:cNvPicPr/>
          <p:nvPr/>
        </p:nvPicPr>
        <p:blipFill>
          <a:blip r:embed="rId2"/>
          <a:stretch/>
        </p:blipFill>
        <p:spPr>
          <a:xfrm>
            <a:off x="395280" y="2565360"/>
            <a:ext cx="5905440" cy="388296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Times New Roman"/>
              </a:rPr>
              <a:t>ЧАСТЬ 2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ТАНДАРТИЗАЦ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сновная литератур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етрология, стандартизация и сертификация: учебное пособи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/ Е.В. Кравченко, Ю.К. Кривогузова, И.П. Озеров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траницы 58-8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истема энергетического менеджмента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684360" y="24098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 целях реализации системы менеджмента качества энергии, международной организацией ИСО в 2011 году разработан стандарт ISO 50001:2011 «Системы энергетического менеджмента»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истема энергетического менеджмента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684360" y="24098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Методология постоянного улучшения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Plan – Do – Check - Act»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истема энергетического менеджмента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684360" y="24098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5" descr=""/>
          <p:cNvPicPr/>
          <p:nvPr/>
        </p:nvPicPr>
        <p:blipFill>
          <a:blip r:embed="rId1"/>
          <a:stretch/>
        </p:blipFill>
        <p:spPr>
          <a:xfrm>
            <a:off x="1258920" y="2349360"/>
            <a:ext cx="6912000" cy="395136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7"/>
          <p:cNvSpPr/>
          <p:nvPr/>
        </p:nvSpPr>
        <p:spPr>
          <a:xfrm>
            <a:off x="1930320" y="6236280"/>
            <a:ext cx="54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Модель энергетического менеджмент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3"/>
          <p:cNvSpPr/>
          <p:nvPr/>
        </p:nvSpPr>
        <p:spPr>
          <a:xfrm>
            <a:off x="684360" y="6174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44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еждународная стандартизация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684360" y="24098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1946 г. на заседании Комитета по координации стандартов ООН принято решение создать международную организацию по стандартизации ИСО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состав ИСО входят 120 стран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одержание раздел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.1. Общие понятия стандартиза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.2. Нормативно-правовая база стандартиза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.3. Функции и методы стандартиза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.4. Порядок разработки, принятия и отмены стандарт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.5. Система энергетического менеджмент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.6. Международная стандартизац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бщие понят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тандартизац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 д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ятельность по установлению правил и характеристик в целях их добровольного многократного использования, направленная на достижение упорядоченности в сферах производства и обращения продукции и повышение конкурентоспособности продукции, работ или услуг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едеральный закон № 184 ФЗ «О техническом регулировании»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бщие понят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тандар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 - документ, в котором в целях добровольного многократного использования устанавливаются характеристики продукции, правила осуществления и характеристики процессов проектирования (включая изыскания), производства, строительства, монтажа, наладки, эксплуатации, хранения, перевозки, реализации и утилизации, выполнения работ или оказания услу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едеральный закон № 184 ФЗ «О техническом регулировании»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бщие понят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Цели стандартиза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вышение уровня безопасности жизни и здоровья граждан, имущества физических и юридических лиц, государственного и муниципального имущества, объектов с учетом риска возникновения чрезвычайных ситуаций природного и техногенного характера, повышение уровня экологической безопасности, безопасности жизни и здоровья животных и растений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оздание систем классификации и кодирования технико-экономической и социальной информации, систем каталогизации продукции (работ, услуг), систем обеспечения качества продукции (работ, услуг), систем поиска и передачи данных, содействие проведению работ по унификации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бщие понят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Цели стандартиза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беспечение конкурентоспособности и качества продукции (работ, услуг), единства измерений, рационального использования ресурсов, взаимозаменяемости технических средств (машин и оборудования, их составных частей, комплектующих изделий и материалов), технической и информационной совместимости, сопоставимости результатов исследований (испытаний) и измерений, технических и экономико-статистических данных, проведения анализа характеристик продукции (работ, услуг), исполнения государственных заказов, добровольного подтверждения соответствия продукции (работ, услуг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одействие соблюдению требований технических регламентов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Нормативно-правовая база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циональные стандарт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авила стандартизации, нормы и рекомендации в области стандартизаци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именяемые в установленном порядке классификации, общероссийские классификаторы технико-экономической и социальной информаци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тандарты организаци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воды правил 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еждународные стандарты, региональные стандарты, региональные своды правил, стандарты иностранных государств и своды правил иностранных государств, зарегистрированные в Федеральном информационном фонде технических регламентов и стандартов 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длежащим образом заверенные переводы на русский язык международных стандартов, региональных стандартов, региональных сводов правил, стандартов иностранных государств и сводов правил иностранных государств, принятые на учет национальным органом Российской Федерации по стандартизаци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едварительные национальные стандарты 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Нормативно-правовая база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4" descr="11"/>
          <p:cNvPicPr/>
          <p:nvPr/>
        </p:nvPicPr>
        <p:blipFill>
          <a:blip r:embed="rId1"/>
          <a:stretch/>
        </p:blipFill>
        <p:spPr>
          <a:xfrm>
            <a:off x="1763640" y="2276640"/>
            <a:ext cx="5761080" cy="253512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6"/>
          <p:cNvSpPr/>
          <p:nvPr/>
        </p:nvSpPr>
        <p:spPr>
          <a:xfrm>
            <a:off x="2835000" y="4867920"/>
            <a:ext cx="348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Обозначение стандарт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03:37:43Z</dcterms:created>
  <dc:creator>User</dc:creator>
  <dc:description/>
  <dc:language>en-US</dc:language>
  <cp:lastModifiedBy>LEGION</cp:lastModifiedBy>
  <dcterms:modified xsi:type="dcterms:W3CDTF">2016-01-05T12:45:34Z</dcterms:modified>
  <cp:revision>42</cp:revision>
  <dc:subject/>
  <dc:title>Метрология, стандартизация и сертификация</dc:title>
</cp:coreProperties>
</file>