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0D76-915F-47E5-898E-B08B5FCA51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 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опережающе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етод комплексной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систематизации и классиф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Plan – Do – Check - Act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– д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значение стандарт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792-B070-4601-915B-87DA212B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276-1FD8-4856-9C7B-2E053277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959-BEB8-431D-B53D-5373B214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677-E997-46E1-B533-04FF58CA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2044-68CC-4D32-AA54-F1201599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CBE-5AE6-4681-9BC0-9DF514A7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C31-CFC7-431E-8DCC-496FDCB2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060-9D35-4121-8690-ED7A677C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74F-822A-4388-AD40-76342D0F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949-48C1-4177-8DA6-EB8576F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700-1543-42A4-97A3-D8BE90BD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8BF-E837-4272-9617-ED2ACB1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6314-FEEF-47C6-AA25-76B549FAAA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цент кафедры АТ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ндидат технических на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вченко Евгений Владимир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12"/>
          <p:cNvPicPr/>
          <p:nvPr/>
        </p:nvPicPr>
        <p:blipFill>
          <a:blip r:embed="rId1"/>
          <a:stretch/>
        </p:blipFill>
        <p:spPr>
          <a:xfrm>
            <a:off x="1908000" y="2060640"/>
            <a:ext cx="5689800" cy="3622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иаль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муникатив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ежающая стандартизац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лексная 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нифика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грегатиров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из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ережающе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management_standart-11"/>
          <p:cNvPicPr/>
          <p:nvPr/>
        </p:nvPicPr>
        <p:blipFill>
          <a:blip r:embed="rId1"/>
          <a:srcRect l="0" t="0" r="0" b="10040"/>
          <a:stretch/>
        </p:blipFill>
        <p:spPr>
          <a:xfrm>
            <a:off x="900000" y="2492280"/>
            <a:ext cx="7559640" cy="37735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image028"/>
          <p:cNvPicPr/>
          <p:nvPr/>
        </p:nvPicPr>
        <p:blipFill>
          <a:blip r:embed="rId1"/>
          <a:stretch/>
        </p:blipFill>
        <p:spPr>
          <a:xfrm>
            <a:off x="755640" y="2421000"/>
            <a:ext cx="7848720" cy="3649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384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4880" y="980640"/>
            <a:ext cx="698184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лексной стандар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2618_html_m3476a436"/>
          <p:cNvPicPr/>
          <p:nvPr/>
        </p:nvPicPr>
        <p:blipFill>
          <a:blip r:embed="rId1"/>
          <a:stretch/>
        </p:blipFill>
        <p:spPr>
          <a:xfrm>
            <a:off x="826920" y="1413000"/>
            <a:ext cx="7993080" cy="5265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и мет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698184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тизации и класс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12"/>
          <p:cNvPicPr/>
          <p:nvPr/>
        </p:nvPicPr>
        <p:blipFill>
          <a:blip r:embed="rId1"/>
          <a:stretch/>
        </p:blipFill>
        <p:spPr>
          <a:xfrm>
            <a:off x="1476360" y="2421000"/>
            <a:ext cx="6481800" cy="4127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350028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image144"/>
          <p:cNvPicPr/>
          <p:nvPr/>
        </p:nvPicPr>
        <p:blipFill>
          <a:blip r:embed="rId1"/>
          <a:stretch/>
        </p:blipFill>
        <p:spPr>
          <a:xfrm>
            <a:off x="3419640" y="981000"/>
            <a:ext cx="5019480" cy="5877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грега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lego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52988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71280" y="907920"/>
            <a:ext cx="3240360" cy="4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ип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1681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9" descr="d0bbd0bed182d0bad0b8-d0bad0b0d180d182d0b8d0bdd0bad0b01"/>
          <p:cNvPicPr/>
          <p:nvPr/>
        </p:nvPicPr>
        <p:blipFill>
          <a:blip r:embed="rId1"/>
          <a:stretch/>
        </p:blipFill>
        <p:spPr>
          <a:xfrm>
            <a:off x="3708360" y="1347840"/>
            <a:ext cx="5219640" cy="3017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robot"/>
          <p:cNvPicPr/>
          <p:nvPr/>
        </p:nvPicPr>
        <p:blipFill>
          <a:blip r:embed="rId2"/>
          <a:stretch/>
        </p:blipFill>
        <p:spPr>
          <a:xfrm>
            <a:off x="395280" y="2565360"/>
            <a:ext cx="5905440" cy="38829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2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литер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рология, стандартизация и сертификация: учебное пособ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 Е.В. Кравченко, Ю.К. Кривогузова, И.П. Озер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ницы 58-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целях реализации системы менеджмента качества энергии, международной организацией ИСО в 2011 году разработан стандарт ISO 50001:2011 «Системы энергетического менеджмента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ология постоянного улучш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Plan – Do – Check - Act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стема энергетического менеджмент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12000" cy="3951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1930320" y="6236280"/>
            <a:ext cx="54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одель энергетического менеджм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684360" y="61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ая стандартизац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946 г. на заседании Комитета по координации стандартов ООН принято решение создать международную организацию по стандартизации ИС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став ИСО входят 120 стра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зд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1. Общие понятия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2. Нормативно-правовая база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3. Функции и методы стандарт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4. Порядок разработки, принятия и отмены стандар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5. Система энергетического менеджм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6. Международная стандарт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ндартиз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ятельность по установлению правил и характеристик в целях их добровольного многократного использования, направленная на достижение упорядоченности в сферах производства и обращения продукции и повышение конкурентоспособности продукции, работ или услуг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 документ, в котором в целях добровольного многократного использования устанавливаются характеристики продукции, правила осуществления и характеристики процессов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закон № 184 ФЗ «О техническом регулировани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ие уровня безопасности жизни и здоровья граждан, имущества физических и юридических лиц, государственного и муниципального имущества, объектов с учетом риска возникновения чрезвычайных ситуаций природного и техногенного характера, повышение уровня экологической безопасности, безопасности жизни и здоровья животных и растен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ние систем классификации и кодирования технико-экономической и социальной информации, систем каталогизации продукции (работ, услуг), систем обеспечения качества продукции (работ, услуг), систем поиска и передачи данных, содействие проведению работ по унифик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щи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и стандарт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еспечение конкурентоспособности и качества продукции (работ, услуг), единства измерений, рационального использования ресурсов, взаимозаменяемости технических средств (машин и оборудования, их составных частей, комплектующих изделий и материалов), технической и информационной совместимости, сопоставимости результатов исследований (испытаний) и измерений, технических и экономико-статистических данных, проведения анализа характеристик продукции (работ, услуг), исполнения государственных заказов, добровольного подтверждения соответствия продукции (работ, услуг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йствие соблюдению требований технических регламен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 стандар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вила стандартизации, нормы и рекомендации в области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няемые в установленном порядке классификации, общероссийские классификаторы технико-экономической и социальной 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ндарты организа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ды правил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народные стандарты, региональные стандарты, региональные своды правил, стандарты иностранных государств и своды правил иностранных государств, зарегистрированные в Федеральном информационном фонде технических регламентов и стандартов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лежащим образом заверенные переводы на русский язык международных стандартов, региональных стандартов, региональных сводов правил, стандартов иностранных государств и сводов правил иностранных государств, принятые на учет национальным органом Российской Федерации по стандарт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варительные национальные стандарты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АНДАРТИЗА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ормативно-правовая ба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11"/>
          <p:cNvPicPr/>
          <p:nvPr/>
        </p:nvPicPr>
        <p:blipFill>
          <a:blip r:embed="rId1"/>
          <a:stretch/>
        </p:blipFill>
        <p:spPr>
          <a:xfrm>
            <a:off x="1763640" y="2276640"/>
            <a:ext cx="5761080" cy="2535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2835000" y="48679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означение стандар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3:37:43Z</dcterms:created>
  <dc:creator>User</dc:creator>
  <dc:description/>
  <dc:language>en-US</dc:language>
  <cp:lastModifiedBy>LEGION</cp:lastModifiedBy>
  <dcterms:modified xsi:type="dcterms:W3CDTF">2016-01-05T12:45:34Z</dcterms:modified>
  <cp:revision>42</cp:revision>
  <dc:subject/>
  <dc:title>Метрология, стандартизация и сертификация</dc:title>
</cp:coreProperties>
</file>