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A8CB-4343-4354-99C7-CD168C68BE0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рология, стандартизация и сертиф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цент кафедры АТ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дидат технических на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вченко Евгений Владимир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рология, стандартизация и сертифик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цент кафедры АТ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ндидат технических нау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вченко Евгений Владими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уникатив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ая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а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уникативна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ежающая стандартизац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ная стандартизация 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зации и классифика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фикац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атирова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из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ежающая стандартизация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лексная стандартизация 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тизации и классификаци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нификаци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атировани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ипизац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опережающей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 опережающей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мплексной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 комплексной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тод комплексной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Метод комплексной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истематизации и классиф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 систематизации и классифик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ниф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Унифик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грега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Агрега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ип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Тип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2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рология, стандартизация и сертификация: учебное пособ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/ Е.В. Кравченко, Ю.К. Кривогузова, И.П. Озер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ицы 58-8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Ь 2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ая литера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рология, стандартизация и сертификация: учебное пособ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/ Е.В. Кравченко, Ю.К. Кривогузова, И.П. Озер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ницы 58-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лях реализации системы менеджмента качества энергии, международной организацией ИСО в 2011 году разработан стандарт ISO 50001:2011 «Системы энергетического менеджмент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целях реализации системы менеджмента качества энергии, международной организацией ИСО в 2011 году разработан стандарт ISO 50001:2011 «Системы энергетического менеджмента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 постоянного улуч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Plan – Do – Check - Act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ология постоянного улучш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Plan – Do – Check - Act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стандартиз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46 г. на заседании Комитета по координации стандартов ООН принято решение создать международную организацию по стандартизации ИС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став ИСО входят 120 ст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ая стандартизац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46 г. на заседании Комитета по координации стандартов ООН принято решение создать международную организацию по стандартизации ИС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став ИСО входят 120 стра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раз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 Общие понятия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 Нормативно-правовая база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 Функции и методы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4. Порядок разработки, принятия и отмены стандар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5. Система энергетического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6. Международная стандарт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ние разде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1. Общие понятия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2. Нормативно-правовая база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3. Функции и методы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4. Порядок разработки, принятия и отмены стандар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5. Система энергетического менеджм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6. Международная стандарт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– деятельность по установлению правил и характеристик в целях их добровольного многократного использования, направленная на достижение упорядоченности в сферах производства и обращения продукции и повышение конкурентоспособности продукции, работ или услуг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№ 184 ФЗ «О техническом регулировани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– деятельность по установлению правил и характеристик в целях их добровольного многократного использования, направленная на достижение упорядоченности в сферах производства и обращения продукции и повышение конкурентоспособности продукции, работ или услуг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й закон № 184 ФЗ «О техническом регулировании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 - документ, в котором в целях добровольного многократного использования устанавливаются характеристики продукции, правила осуществления и характеристики процессов проектирования (включая изыскания), производства, строительства, монтажа, наладки, эксплуатации, хранения, перевозки, реализации и утилизации, выполнения работ или оказания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№ 184 ФЗ «О техническом регулировани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 - документ, в котором в целях добровольного многократного использования устанавливаются характеристики продукции, правила осуществления и характеристики процессов проектирования (включая изыскания), производства, строительства, монтажа, наладки, эксплуатации, хранения, перевозки, реализации и утилизации, выполнения работ или оказания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й закон № 184 ФЗ «О техническом регулировании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 уровня безопасности жизни и здоровья граждан, имущества физических и юридических лиц, государственного и муниципального имущества, объектов с учетом риска возникновения чрезвычайных ситуаций природного и техногенного характера, повышение уровня экологической безопасности, безопасности жизни и здоровья животных и раст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 систем классификации и кодирования технико-экономической и социальной информации, систем каталогизации продукции (работ, услуг), систем обеспечения качества продукции (работ, услуг), систем поиска и передачи данных, содействие проведению работ по унифик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ышение уровня безопасности жизни и здоровья граждан, имущества физических и юридических лиц, государственного и муниципального имущества, объектов с учетом риска возникновения чрезвычайных ситуаций природного и техногенного характера, повышение уровня экологической безопасности, безопасности жизни и здоровья животных и растен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 систем классификации и кодирования технико-экономической и социальной информации, систем каталогизации продукции (работ, услуг), систем обеспечения качества продукции (работ, услуг), систем поиска и передачи данных, содействие проведению работ по унифик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 конкурентоспособности и качества продукции (работ, услуг), единства измерений, рационального использования ресурсов, взаимозаменяемости технических средств (машин и оборудования, их составных частей, комплектующих изделий и материалов), технической и информационной совместимости, сопоставимости результатов исследований (испытаний) и измерений, технических и экономико-статистических данных, проведения анализа характеристик продукции (работ, услуг), исполнения государственных заказов, добровольного подтверждения соответствия продукции (работ, услуг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е соблюдению требований технических регла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еспечение конкурентоспособности и качества продукции (работ, услуг), единства измерений, рационального использования ресурсов, взаимозаменяемости технических средств (машин и оборудования, их составных частей, комплектующих изделий и материалов), технической и информационной совместимости, сопоставимости результатов исследований (испытаний) и измерений, технических и экономико-статистических данных, проведения анализа характеристик продукции (работ, услуг), исполнения государственных заказов, добровольного подтверждения соответствия продукции (работ, услуг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йствие соблюдению требований технических реглам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 станд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 стандартизации, нормы и рекомендации в области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емые в установленном порядке классификации, общероссийские классификаторы технико-экономической и социальн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 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ды правил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 стандарты, региональные стандарты, региональные своды правил, стандарты иностранных государств и своды правил иностранных государств, зарегистрированные в Федеральном информационном фонде технических регламентов и стандартов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лежащим образом заверенные переводы на русский язык международных стандартов, региональных стандартов, региональных сводов правил, стандартов иностранных государств и сводов правил иностранных государств, принятые на учет национальным органом Российской Федерации по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варительные национальные стандарты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ые стандар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 стандартизации, нормы и рекомендации в области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няемые в установленном порядке классификации, общероссийские классификаторы технико-экономической и социально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ы организ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ды правил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ые стандарты, региональные стандарты, региональные своды правил, стандарты иностранных государств и своды правил иностранных государств, зарегистрированные в Федеральном информационном фонде технических регламентов и стандартов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длежащим образом заверенные переводы на русский язык международных стандартов, региональных стандартов, региональных сводов правил, стандартов иностранных государств и сводов правил иностранных государств, принятые на учет национальным органом Российской Федерации по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варительные национальные стандарты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значение стандар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значение стандар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278B-09D0-4047-801D-9F7911297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85CD-9E92-43E4-9FAC-CD8A5B91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1C05-6B34-4D15-97FA-A85C395C7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A718-7F64-44C6-8DE8-E1672D41B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3024-17AA-4B95-A5CC-DC89B38C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3565-45BB-4E02-98D7-C44FC190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8DAD-F75B-44CE-B4A7-30C56F90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32B0-9691-4BCF-B582-98184F89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12F9-0AE2-4D2F-9343-23D279E5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9817-8A55-43A6-A3A3-77EFA07F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B361-1AC8-44AB-A5DE-20D3A702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9784-64D1-4A91-ADD4-ADDF076D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9397-F7DB-4EF4-B8EF-66255550F6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етрология, стандартизация и сертифик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цент кафедры АТ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ндидат технических нау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авченко Евгений Владимирови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12"/>
          <p:cNvPicPr/>
          <p:nvPr/>
        </p:nvPicPr>
        <p:blipFill>
          <a:blip r:embed="rId1"/>
          <a:stretch/>
        </p:blipFill>
        <p:spPr>
          <a:xfrm>
            <a:off x="1908000" y="2060640"/>
            <a:ext cx="5689800" cy="362268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кономическа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циальна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муникативн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етод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ежающая стандартизаци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плексная стандартиз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стематизации и классифика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нификац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грегатирован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ипизац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8184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пережающей стандарт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8" descr="management_standart-11"/>
          <p:cNvPicPr/>
          <p:nvPr/>
        </p:nvPicPr>
        <p:blipFill>
          <a:blip r:embed="rId1"/>
          <a:srcRect l="0" t="0" r="0" b="10040"/>
          <a:stretch/>
        </p:blipFill>
        <p:spPr>
          <a:xfrm>
            <a:off x="900000" y="2492280"/>
            <a:ext cx="7559640" cy="377352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698184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лексной стандарт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1" descr="image028"/>
          <p:cNvPicPr/>
          <p:nvPr/>
        </p:nvPicPr>
        <p:blipFill>
          <a:blip r:embed="rId1"/>
          <a:stretch/>
        </p:blipFill>
        <p:spPr>
          <a:xfrm>
            <a:off x="755640" y="2421000"/>
            <a:ext cx="7848720" cy="36496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74880" y="980640"/>
            <a:ext cx="6981840" cy="3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лексной стандарт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" descr="2618_html_m3476a436"/>
          <p:cNvPicPr/>
          <p:nvPr/>
        </p:nvPicPr>
        <p:blipFill>
          <a:blip r:embed="rId1"/>
          <a:stretch/>
        </p:blipFill>
        <p:spPr>
          <a:xfrm>
            <a:off x="826920" y="1413000"/>
            <a:ext cx="7993080" cy="526572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698184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стематизации и классиф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8" descr="12"/>
          <p:cNvPicPr/>
          <p:nvPr/>
        </p:nvPicPr>
        <p:blipFill>
          <a:blip r:embed="rId1"/>
          <a:stretch/>
        </p:blipFill>
        <p:spPr>
          <a:xfrm>
            <a:off x="1476360" y="2421000"/>
            <a:ext cx="6481800" cy="41274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8920" y="3500280"/>
            <a:ext cx="324036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нифик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9" descr="image144"/>
          <p:cNvPicPr/>
          <p:nvPr/>
        </p:nvPicPr>
        <p:blipFill>
          <a:blip r:embed="rId1"/>
          <a:stretch/>
        </p:blipFill>
        <p:spPr>
          <a:xfrm>
            <a:off x="3419640" y="981000"/>
            <a:ext cx="5019480" cy="58770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771280" y="907920"/>
            <a:ext cx="324036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грегатир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8" descr="lego"/>
          <p:cNvPicPr/>
          <p:nvPr/>
        </p:nvPicPr>
        <p:blipFill>
          <a:blip r:embed="rId1"/>
          <a:stretch/>
        </p:blipFill>
        <p:spPr>
          <a:xfrm>
            <a:off x="1332000" y="1413000"/>
            <a:ext cx="6696000" cy="529884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71280" y="907920"/>
            <a:ext cx="324036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ипиз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9" descr="d0bbd0bed182d0bad0b8-d0bad0b0d180d182d0b8d0bdd0bad0b01"/>
          <p:cNvPicPr/>
          <p:nvPr/>
        </p:nvPicPr>
        <p:blipFill>
          <a:blip r:embed="rId1"/>
          <a:stretch/>
        </p:blipFill>
        <p:spPr>
          <a:xfrm>
            <a:off x="3708360" y="1347840"/>
            <a:ext cx="5219640" cy="3017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robot"/>
          <p:cNvPicPr/>
          <p:nvPr/>
        </p:nvPicPr>
        <p:blipFill>
          <a:blip r:embed="rId2"/>
          <a:stretch/>
        </p:blipFill>
        <p:spPr>
          <a:xfrm>
            <a:off x="395280" y="2565360"/>
            <a:ext cx="5905440" cy="388296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ЧАСТЬ 2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ая литерату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трология, стандартизация и сертификация: учебное пособ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 Е.В. Кравченко, Ю.К. Кривогузова, И.П. Озеро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раницы 58-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84360" y="2409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целях реализации системы менеджмента качества энергии, международной организацией ИСО в 2011 году разработан стандарт ISO 50001:2011 «Системы энергетического менеджмента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84360" y="2409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тодология постоянного улучше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Plan – Do – Check - Act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684360" y="2409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6912000" cy="39513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7"/>
          <p:cNvSpPr/>
          <p:nvPr/>
        </p:nvSpPr>
        <p:spPr>
          <a:xfrm>
            <a:off x="1930320" y="6236280"/>
            <a:ext cx="54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одель энергетического менеджмен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684360" y="617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ждународная стандартизаци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684360" y="2409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946 г. на заседании Комитета по координации стандартов ООН принято решение создать международную организацию по стандартизации ИС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остав ИСО входят 120 стра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держание разде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1. Общие понятия стандарт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2. Нормативно-правовая база стандарт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3. Функции и методы стандарт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4. Порядок разработки, принятия и отмены стандар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5. Система энергетического менеджмен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6. Международная стандартиз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ндартиз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ятельность по установлению правил и характеристик в целях их добровольного многократного использования, направленная на достижение упорядоченности в сферах производства и обращения продукции и повышение конкурентоспособности продукции, работ или услуг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едеральный закон № 184 ФЗ «О техническом регулировании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ндар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- документ, в котором в целях добровольного многократного использования устанавливаются характеристики продукции, правила осуществления и характеристики процессов проектирования (включая изыскания), производства, строительства, монтажа, наладки, эксплуатации, хранения, перевозки, реализации и утилизации, выполнения работ или оказания услу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едеральный закон № 184 ФЗ «О техническом регулировании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и стандарт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ение уровня безопасности жизни и здоровья граждан, имущества физических и юридических лиц, государственного и муниципального имущества, объектов с учетом риска возникновения чрезвычайных ситуаций природного и техногенного характера, повышение уровня экологической безопасности, безопасности жизни и здоровья животных и растен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здание систем классификации и кодирования технико-экономической и социальной информации, систем каталогизации продукции (работ, услуг), систем обеспечения качества продукции (работ, услуг), систем поиска и передачи данных, содействие проведению работ по унификац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и стандарт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еспечение конкурентоспособности и качества продукции (работ, услуг), единства измерений, рационального использования ресурсов, взаимозаменяемости технических средств (машин и оборудования, их составных частей, комплектующих изделий и материалов), технической и информационной совместимости, сопоставимости результатов исследований (испытаний) и измерений, технических и экономико-статистических данных, проведения анализа характеристик продукции (работ, услуг), исполнения государственных заказов, добровольного подтверждения соответствия продукции (работ, услуг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действие соблюдению требований технических регламент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циональные стандарт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авила стандартизации, нормы и рекомендации в области стандартиз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меняемые в установленном порядке классификации, общероссийские классификаторы технико-экономической и социальной информ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андарты организац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оды правил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ждународные стандарты, региональные стандарты, региональные своды правил, стандарты иностранных государств и своды правил иностранных государств, зарегистрированные в Федеральном информационном фонде технических регламентов и стандартов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длежащим образом заверенные переводы на русский язык международных стандартов, региональных стандартов, региональных сводов правил, стандартов иностранных государств и сводов правил иностранных государств, принятые на учет национальным органом Российской Федерации по стандартиз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варительные национальные стандарты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11"/>
          <p:cNvPicPr/>
          <p:nvPr/>
        </p:nvPicPr>
        <p:blipFill>
          <a:blip r:embed="rId1"/>
          <a:stretch/>
        </p:blipFill>
        <p:spPr>
          <a:xfrm>
            <a:off x="1763640" y="2276640"/>
            <a:ext cx="5761080" cy="25351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2835000" y="4867920"/>
            <a:ext cx="34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бозначение стандар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03:37:43Z</dcterms:created>
  <dc:creator>User</dc:creator>
  <dc:description/>
  <dc:language>en-US</dc:language>
  <cp:lastModifiedBy>LEGION</cp:lastModifiedBy>
  <dcterms:modified xsi:type="dcterms:W3CDTF">2016-01-05T12:45:34Z</dcterms:modified>
  <cp:revision>42</cp:revision>
  <dc:subject/>
  <dc:title>Метрология, стандартизация и сертификация</dc:title>
</cp:coreProperties>
</file>