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19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5C2F-6F31-43F3-9AD7-2D823DB1A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A339-565A-4E66-9448-D5E14160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D643-3142-4A21-B445-20FA99AE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AB24-5562-4323-B398-9635BCA1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C9C2-78E2-4B35-BC26-A4468FA4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FEB8-953C-4FF7-B6AF-C3AE6532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4F4B-AF2E-46A4-8F37-D03F675F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B45C-F8BE-4B7A-863A-44869177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C94B-AC5F-4AD7-A223-CF1F3DB2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429D-9CB8-4020-AACD-3BD168E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7A39-764C-4E9F-AA46-06D1780A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55D4-EE34-4D58-962B-0BE0E17E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8AB2-E19B-40B7-8CD6-239796BE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8E18-CC0C-4368-9094-3A79D481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C098-0549-4F0D-BCAF-B02A4F0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9699-93A3-4E1B-87EA-36337126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FB6A-68C0-469D-8950-A9ED978D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C866-ED47-4A97-906D-BDBC40BC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7E16-A491-41E9-90CE-5B436824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C763-DC74-4862-BCFC-CDB21B85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FC63-6015-43DD-8218-8643E072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C578-D514-49FD-810F-96E51C5C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F34E-876F-4E6A-9BA6-5846B154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E40D-932D-413F-9963-0E83637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359A-36C4-479D-B596-451C9C03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E74E-936A-456B-89C5-785A8BCD09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C0B6-90BA-469B-A878-47607950AF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765000"/>
            <a:ext cx="81378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сновы функцион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ого бизне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2-го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культета «Финансы и кре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э.н., ст. преп. кафедры Эи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никова Екатерин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2184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6. Разработка бизнес-плана создания мал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бизнес-плана. Цели составления. Анализ рыночной ситу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нирование и анализ внутренней и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Exper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подготовки бизнес-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ю дисципли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дисциплины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результате изучения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Основы функционирования малого бизн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 студентов формируются навыки по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еделение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268280"/>
          <a:ext cx="8064360" cy="4762800"/>
        </p:xfrm>
        <a:graphic>
          <a:graphicData uri="http://schemas.openxmlformats.org/drawingml/2006/table">
            <a:tbl>
              <a:tblPr/>
              <a:tblGrid>
                <a:gridCol w="5256360"/>
                <a:gridCol w="792000"/>
                <a:gridCol w="1081080"/>
                <a:gridCol w="934920"/>
              </a:tblGrid>
              <a:tr h="5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и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.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1. Малый бизнес: сущность, функции и роль в экономике России и зарубежных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2. Малый бизнес в России: состояние, проблемы и перспективы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3. Выбор вида предпринимательской деятельности и организационно-правовой формы, регистрация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4. Оценка ресурсов, необходимых для организации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5. Особенности экономического механизма функционирования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6. Разработка бизнес-плана создания малого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итогового контроля - зач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423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 РАЗДЕЛОВ ДИСЦИПЛИ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ЗДЕЛ 1. МАЛЫЙ БИЗНЕС В ЭКОНОМИКЕ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блемы развития малого предпринимательства в Росси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нансовые и организационные (доступа к ресурса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ДЕЛ 2. ОРГАНИЗАЦИЯ И МЕХАНИЗМ ФУНКЦИОН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МАЛОГО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05:10Z</dcterms:created>
  <dc:creator>A</dc:creator>
  <dc:description/>
  <dc:language>en-US</dc:language>
  <cp:lastModifiedBy>LEGION</cp:lastModifiedBy>
  <dcterms:modified xsi:type="dcterms:W3CDTF">2016-01-05T12:45:22Z</dcterms:modified>
  <cp:revision>38</cp:revision>
  <dc:subject/>
  <dc:title>Издержки производства и себестоимость продук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