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789738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789600" cy="991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15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44800" y="0"/>
            <a:ext cx="29419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79320" y="4711680"/>
            <a:ext cx="542952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9421920"/>
            <a:ext cx="29415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44800" y="9421920"/>
            <a:ext cx="29419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ECB8C-CE4F-4E59-8EF7-56A5F00AA89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79320" y="4711680"/>
            <a:ext cx="54295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урс по выбор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Основы функционирова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лого бизнес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студентов 2-го курс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ультета «Финансы и кредит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.э.н., ст. преп. кафедры ЭиА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зникова Екатерина Валерье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44800" y="9421920"/>
            <a:ext cx="2941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урс по выбор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Основы функционирова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лого бизнес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студентов 2-го курс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ультета «Финансы и кредит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.э.н., ст. преп. кафедры ЭиА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зникова Екатерина Валерье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79320" y="4711680"/>
            <a:ext cx="54295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4. Оценка ресурсов, необходимых для организации малого бизне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е потребности малого предприятия в производственных и трудовых ресурсах. Подбор офисных, производственных, торговых и складских помещений. Закупка оборудования и формирование материально-производственных запасов. Методы поиска персонал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е объема и оптимальной структуры источников финансирования. Оценка  возможностей привлечения заемных финансовых ресурсов (банковский кредит, лизинг, бюджетный кредит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44800" y="9421920"/>
            <a:ext cx="2941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4. Оценка ресурсов, необходимых для организации малого бизне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е потребности малого предприятия в производственных и трудовых ресурсах. Подбор офисных, производственных, торговых и складских помещений. Закупка оборудования и формирование материально-производственных запасов. Методы поиска персонал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е объема и оптимальной структуры источников финансирования. Оценка  возможностей привлечения заемных финансовых ресурсов (банковский кредит, лизинг, бюджетный кредит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79320" y="4711680"/>
            <a:ext cx="54295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5. Особенности экономического механизма функционирования малого бизне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производства на малых предприятиях. Выбор оптимальной организационной структуры управления. Логистика в малом бизнесе. Оптимальные формы и системы оплаты труда в малом бизнес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затратами на малых предприятиях. Выбор метода ценообразования. Финансовое планирование (бюджетирование) в малом бизнес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енности бухгалтерского учета и налогообложения на предприятиях, относящихся к субъектам малого и среднего предприниматель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эффективности деятельности малого предприятия и уровня рис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44800" y="9421920"/>
            <a:ext cx="2941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5. Особенности экономического механизма функционирования малого бизне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производства на малых предприятиях. Выбор оптимальной организационной структуры управления. Логистика в малом бизнесе. Оптимальные формы и системы оплаты труда в малом бизнес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затратами на малых предприятиях. Выбор метода ценообразования. Финансовое планирование (бюджетирование) в малом бизнес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енности бухгалтерского учета и налогообложения на предприятиях, относящихся к субъектам малого и среднего предприниматель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эффективности деятельности малого предприятия и уровня рис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79320" y="4711680"/>
            <a:ext cx="54295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6. Разработка бизнес-плана создания малого предприя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а бизнес-плана. Цели составления. Анализ рыночной ситуации: сканирование и анализ внутренней и внешней сред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гментирование рынка, выбор целевых сегментов и позиционирование товара. План маркетинга. План продаж. Производственный план. Организационный план. Финансовый пла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ование Project Expert для подготовки бизнес-план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44800" y="9421920"/>
            <a:ext cx="2941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6. Разработка бизнес-плана создания малого предприя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а бизнес-плана. Цели составления. Анализ рыночной ситуации: сканирование и анализ внутренней и внешней сред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гментирование рынка, выбор целевых сегментов и позиционирование товара. План маркетинга. План продаж. Производственный план. Организационный план. Финансовый пла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ование Project Expert для подготовки бизнес-план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79320" y="4711680"/>
            <a:ext cx="54295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ью дисциплины является формирование у студентов теоретических знаний об основах функционирования малого бизнеса и практических навыков по организации собственного малого предприя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44800" y="9421920"/>
            <a:ext cx="2941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ью дисциплины является формирование у студентов теоретических знаний об основах функционирования малого бизнеса и практических навыков по организации собственного малого предприя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79320" y="4711680"/>
            <a:ext cx="54295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чи дисциплины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крыть сущность малого предпринимательства, его функции и роль в экономике России и развитых стра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характеризовать состояние малого бизнеса в России и выявить проблемы его развития; рассмотреть систему государственного регулирования малого бизнеса в Российской Федер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ить критерии выбора вида предпринимательской деятельности и организационно-правовой формы; рассмотреть процедуру государственной регистрации юридических лиц и ПБОЮ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ть оценку производственных, трудовых и финансовых ресурсов, необходимых для организации малого бизне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учить порядок разработки бизнес-плана создания малого предприя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крыть особенности экономического функционирования малого бизне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44800" y="9421920"/>
            <a:ext cx="2941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чи дисциплины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крыть сущность малого предпринимательства, его функции и роль в экономике России и развитых стра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характеризовать состояние малого бизнеса в России и выявить проблемы его развития; рассмотреть систему государственного регулирования малого бизнеса в Российской Федер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ить критерии выбора вида предпринимательской деятельности и организационно-правовой формы; рассмотреть процедуру государственной регистрации юридических лиц и ПБОЮ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ть оценку производственных, трудовых и финансовых ресурсов, необходимых для организации малого бизне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учить порядок разработки бизнес-плана создания малого предприя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крыть особенности экономического функционирования малого бизне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79320" y="4711680"/>
            <a:ext cx="54295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езультате изучения курс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Основы функционирования малого бизнес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 студентов формируются навыки по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роведению на основе изучения статистических данных анализа экономически и социально значимых проблем  развития малого предпринимательств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организации бизнеса (выбор вида и сферы деятельности, организационно-правовой формы, оценка необходимых ресурсов и др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разработке бизнес-плана малого предприятия (сбор и анализ необходимой информации, расчет финансово-экономических показателей и анализ полученных результатов, использование информационных технологи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44800" y="9421920"/>
            <a:ext cx="2941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езультате изучения курс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Основы функционирования малого бизнес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 студентов формируются навыки по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роведению на основе изучения статистических данных анализа экономически и социально значимых проблем  развития малого предпринимательств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организации бизнеса (выбор вида и сферы деятельности, организационно-правовой формы, оценка необходимых ресурсов и др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разработке бизнес-плана малого предприятия (сбор и анализ необходимой информации, расчет финансово-экономических показателей и анализ полученных результатов, использование информационных технологи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79320" y="4711680"/>
            <a:ext cx="54295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Распределение ча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44800" y="9421920"/>
            <a:ext cx="2941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пределение ча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79320" y="4711680"/>
            <a:ext cx="54295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а итогового контроля - заче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амках самостоятельной работы предусмотрено практическое задание по разработке бизнес-плана создания малого предприя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44800" y="9421920"/>
            <a:ext cx="2941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а итогового контроля - заче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амках самостоятельной работы предусмотрено практическое задание по разработке бизнес-плана создания малого предприя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79320" y="4711680"/>
            <a:ext cx="54295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ДЕРЖАНИЕ РАЗДЕЛОВ ДИСЦИПЛИН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ДЕЛ 1. МАЛЫЙ БИЗНЕС В ЭКОНОМИКЕ РОСС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1. Малый бизнес: сущность, функции и роль в экономике России и зарубежных стра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ория предпринимательства. Понятия «предпринимательская деятельность», «малое предпринимательство» и «малый бизнес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аткая история возникновения и развития малого бизнеса в экономически развитых странах и Росс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еские, воспроизводственные и социальные функции малого предпринимательства и его роль в экономике России и развитых стран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личественные критерии малого бизнеса и его качественные характеристи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44800" y="9421920"/>
            <a:ext cx="2941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ДЕРЖАНИЕ РАЗДЕЛОВ ДИСЦИПЛИН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ДЕЛ 1. МАЛЫЙ БИЗНЕС В ЭКОНОМИКЕ РОСС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1. Малый бизнес: сущность, функции и роль в экономике России и зарубежных стра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ория предпринимательства. Понятия «предпринимательская деятельность», «малое предпринимательство» и «малый бизнес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аткая история возникновения и развития малого бизнеса в экономически развитых странах и Росс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еские, воспроизводственные и социальные функции малого предпринимательства и его роль в экономике России и развитых стран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личественные критерии малого бизнеса и его качественные характеристи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79320" y="4711680"/>
            <a:ext cx="54295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2. Малый бизнес в России: состояние, проблемы и перспективы разви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намика социально-экономических показателей развития малого предпринимательства в России на современном этапе.    Отраслевая структура малого бизнеса.   Региональная дифференциация в уровне развития малого предпринимательства. Оценка степени инвестиционной и инновационной активности малого бизнеса в стран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блемы развития малого предпринимательства в России: финансовые и организационные (доступа к ресурсам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государственного  регулирования малого предпринимательства в России. Формирование в стране благоприятного предпринимательского климата. Государственная поддержка субъектов малого и среднего предпринимательства. Программно-целевой подход в регулировании малого бизнеса в Росс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44800" y="9421920"/>
            <a:ext cx="2941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2. Малый бизнес в России: состояние, проблемы и перспективы разви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намика социально-экономических показателей развития малого предпринимательства в России на современном этапе.    Отраслевая структура малого бизнеса.   Региональная дифференциация в уровне развития малого предпринимательства. Оценка степени инвестиционной и инновационной активности малого бизнеса в стран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блемы развития малого предпринимательства в России: финансовые и организационные (доступа к ресурсам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государственного  регулирования малого предпринимательства в России. Формирование в стране благоприятного предпринимательского климата. Государственная поддержка субъектов малого и среднего предпринимательства. Программно-целевой подход в регулировании малого бизнеса в Росс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79320" y="4711680"/>
            <a:ext cx="54295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ДЕЛ 2. ОРГАНИЗАЦИЯ И МЕХАНИЗМ ФУНКЦИОНИРОВА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ЛОГО БИЗНЕ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3. Выбор вида предпринимательской деятельности и организационно-правовой формы, регистрация предприя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тивация предпринимательской деятельности. Оценка деловых качеств потенциального предпринимател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бор сферы и вида предпринимательской деятельности с учетом оценки потенциального уровня дохода, риска, а также наличия административных и экономических барьеров для создания новых предприят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ы создания малого бизнеса: организация нового предприятия, приобретение готовой фирмы, аренда предприятия, франчайзин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е места расположения малого предприятия с учетом удаленности от потребителей и поставщиков ресурсов, наличия производственной и финансовой инфраструкту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бор оптимальной организационно-правовой формы предприятия с учетом числа учредителей и возможности их участия в управлении, распределения прибыли и убытков, уровня финансовой ответственности, возможности привлечения дополнительных ресурс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цедура государственной регистрации юридических лиц и индивидуальных предпринимателей. Порядок составления учредительных докумен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44800" y="9421920"/>
            <a:ext cx="2941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ДЕЛ 2. ОРГАНИЗАЦИЯ И МЕХАНИЗМ ФУНКЦИОНИРОВА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ЛОГО БИЗНЕ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3. Выбор вида предпринимательской деятельности и организационно-правовой формы, регистрация предприя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тивация предпринимательской деятельности. Оценка деловых качеств потенциального предпринимател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бор сферы и вида предпринимательской деятельности с учетом оценки потенциального уровня дохода, риска, а также наличия административных и экономических барьеров для создания новых предприят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ы создания малого бизнеса: организация нового предприятия, приобретение готовой фирмы, аренда предприятия, франчайзин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е места расположения малого предприятия с учетом удаленности от потребителей и поставщиков ресурсов, наличия производственной и финансовой инфраструкту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бор оптимальной организационно-правовой формы предприятия с учетом числа учредителей и возможности их участия в управлении, распределения прибыли и убытков, уровня финансовой ответственности, возможности привлечения дополнительных ресурс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цедура государственной регистрации юридических лиц и индивидуальных предпринимателей. Порядок составления учредительных докумен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C261A1-6EAF-4B7F-AB2E-D8D4D2AF1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711A5B-FD7F-49AE-8C4D-78829CC11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DD5B99-0E70-457C-A593-6576ED880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CCAFD0-2D07-4CE5-97DA-CC7D0D583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86436-6A0C-4CE4-B34F-1969BFA7F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60262-FB44-42A5-9941-8FFAC3A6E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5E2B4-F529-4DF3-B90D-18EC528D9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B64C7-9747-4BEB-B236-350106C8E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4AF2A-06FD-4EFF-9299-572A90D73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CF2B9-9AC6-4C92-984E-8DD2D1AEA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99310-0A3C-4AFB-8657-93FE35D13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B98B40-70A9-443D-9D7D-3FA1B264D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CA613-7068-4533-97B0-B711D4568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63D4F-BEEA-40F7-A5ED-F173516F6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A072A-ECE5-4387-B2DA-1AA4B44EF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55275-C806-4A34-9323-B2B43F436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11989-FC84-4D0D-8EB4-7DC5E54D7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06C956-6257-417B-86C7-61DC824EB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57E8E7-FC71-4058-958F-312907DF3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CB1440-B581-4862-BD6A-11823B84C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22763C-18A8-4719-9C74-C831C7535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6A0414-BB1F-497C-956D-AE44EAD38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E76043-3334-468A-B6C0-5D0E58ADF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BE9B2E-B7B0-439D-BB5F-005818C7C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B545A-78D5-4DD0-81E1-EA30AE622B6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153DF-298F-43CA-B99D-5A61CF3008C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539640" y="765000"/>
            <a:ext cx="8137800" cy="524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урс по выбор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Основы функционирова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алого бизнес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ля студентов 2-го курс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факультета «Финансы и кредит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.э.н., ст. преп. кафедры ЭиА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езникова Екатерина Валерь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68000" y="836640"/>
            <a:ext cx="835164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Тема 4. Оценка ресурсов, необходимых для организации малого бизне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пределение потребности малого предприятия в производственных и трудовых ресурсах. Подбор офисных, производственных, торговых и складских помещений. Закупка оборудования и формирование материально-производственных запасов. Методы поиска персонал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пределение объема и оптимальной структуры источников финансирования. Оценка  возможностей привлечения заемных финансовых ресурсов (банковский кредит, лизинг, бюджетный кредит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94920" y="620640"/>
            <a:ext cx="8218440" cy="517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Тема 5. Особенности экономического механизма функционирования малого бизне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рганизация производства на малых предприятиях. Выбор оптимальной организационной структуры управления. Логистика в малом бизнесе. Оптимальные формы и системы оплаты труда в малом бизнес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правление затратами на малых предприятиях. Выбор метода ценообразования. Финансовое планирование (бюджетирование) в малом бизнес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собенности бухгалтерского учета и налогообложения на предприятиях, относящихся к субъектам малого и среднего предприниматель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ценка эффективности деятельности малого предприятия и уровня рис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68000" y="691920"/>
            <a:ext cx="8218440" cy="517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Тема 6. Разработка бизнес-плана создания малого предприя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руктура бизнес-плана. Цели составления. Анализ рыночной ситуации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канирование и анализ внутренней и внешней сре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егментирование рынка, выбор целевых сегментов и позиционирование товара. План маркетинга. План продаж. Производственный план. Организационный план. Финансовый пла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спользование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ject Expert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для подготовки бизнес-пла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Целью дисциплины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является формирование у студентов теоретических знаний об основах функционирования малого бизнеса и практических навыков по организации собственного малого предприят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68000" y="620640"/>
            <a:ext cx="83516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Задачи дисциплины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скрыть сущность малого предпринимательства, его функции и роль в экономике России и развитых стр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характеризовать состояние малого бизнеса в России и выявить проблемы его развития; рассмотреть систему государственного регулирования малого бизнеса в Российской Федер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пределить критерии выбора вида предпринимательской деятельности и организационно-правовой формы; рассмотреть процедуру государственной регистрации юридических лиц и ПБОЮ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–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ать оценку производственных, трудовых и финансовых ресурсов, необходимых для организации малого бизне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зучить порядок разработки бизнес-плана создания малого предприя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скрыть особенности экономического функционирования малого бизне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68000" y="836640"/>
            <a:ext cx="835164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В результате изучения курс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«Основы функционирования малого бизнес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у студентов формируются навыки по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проведению на основе изучения статистических данных анализа экономически и социально значимых проблем  развития малого предпринимательств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организации бизнеса (выбор вида и сферы деятельности, организационно-правовой формы, оценка необходимых ресурсов и др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разработке бизнес-плана малого предприятия (сбор и анализ необходимой информации, расчет финансово-экономических показателей и анализ полученных результатов, использование информационных технологи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24000" y="549000"/>
            <a:ext cx="84960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аспределение ча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395280" y="1268280"/>
          <a:ext cx="8064360" cy="4762800"/>
        </p:xfrm>
        <a:graphic>
          <a:graphicData uri="http://schemas.openxmlformats.org/drawingml/2006/table">
            <a:tbl>
              <a:tblPr/>
              <a:tblGrid>
                <a:gridCol w="5256360"/>
                <a:gridCol w="792000"/>
                <a:gridCol w="1081080"/>
                <a:gridCol w="934920"/>
              </a:tblGrid>
              <a:tr h="5223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ем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ек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емина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амост. рабо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ема 1. Малый бизнес: сущность, функции и роль в экономике России и зарубежных стра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ема 2. Малый бизнес в России: состояние, проблемы и перспективы развит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ема 3. Выбор вида предпринимательской деятельности и организационно-правовой формы, регистрация предприят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ема 4. Оценка ресурсов, необходимых для организации малого бизнес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ема 5. Особенности экономического механизма функционирования малого бизнес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ема 6. Разработка бизнес-плана создания малого предприят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т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68000" y="765000"/>
            <a:ext cx="82184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Форма итогового контроля - заче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рамках самостоятельной работы предусмотрено практическое задание по разработке бизнес-плана создания малого предприят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250920" y="691920"/>
            <a:ext cx="842328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 algn="ctr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СОДЕРЖАНИЕ РАЗДЕЛОВ ДИСЦИПЛИНЫ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ctr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РАЗДЕЛ 1. МАЛЫЙ БИЗНЕС В ЭКОНОМИКЕ РОСС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Тема 1. Малый бизнес: сущность, функции и роль в экономике России и зарубежных стр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еория предпринимательства. Понятия «предпринимательская деятельность», «малое предпринимательство» и «малый бизнес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раткая история возникновения и развития малого бизнеса в экономически развитых странах и Росс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Экономические, воспроизводственные и социальные функции малого предпринимательства и его роль в экономике России и развитых стран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оличественные критерии малого бизнеса и его качественные характеристи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4960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ffffff"/>
                </a:solidFill>
                <a:uFillTx/>
                <a:latin typeface="Arial"/>
              </a:rPr>
              <a:t>Тема 2. Малый бизнес в России: состояние, проблемы и перспективы развит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Динамика социально-экономических показателей развития малого предпринимательства в России на современном этапе.    Отраслевая структура малого бизнеса.   Региональная дифференциация в уровне развития малого предпринимательства. Оценка степени инвестиционной и инновационной активности малого бизнеса в стран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Проблемы развития малого предпринимательства в России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финансовые и организационные (доступа к ресурсам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Система государственного  регулирования малого предпринимательства в России. Формирование в стране благоприятного предпринимательского климата. Государственная поддержка субъектов малого и среднего предпринимательства. Программно-целевой подход в регулировании малого бизнеса в Росси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68000" y="836640"/>
            <a:ext cx="835164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ctr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ffff"/>
                </a:solidFill>
                <a:uFillTx/>
                <a:latin typeface="Arial"/>
              </a:rPr>
              <a:t>РАЗДЕЛ 2. ОРГАНИЗАЦИЯ И МЕХАНИЗМ ФУНКЦИОНИРОВАН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ctr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ffff"/>
                </a:solidFill>
                <a:uFillTx/>
                <a:latin typeface="Arial"/>
              </a:rPr>
              <a:t>МАЛОГО БИЗНЕС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ffff"/>
                </a:solidFill>
                <a:uFillTx/>
                <a:latin typeface="Arial"/>
              </a:rPr>
              <a:t>Тема 3. Выбор вида предпринимательской деятельности и организационно-правовой формы, регистрация предприят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Мотивация предпринимательской деятельности. Оценка деловых качеств потенциального предпринимател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ыбор сферы и вида предпринимательской деятельности с учетом оценки потенциального уровня дохода, риска, а также наличия административных и экономических барьеров для создания новых предприятий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Формы создания малого бизнеса: организация нового предприятия, приобретение готовой фирмы, аренда предприятия, франчайзин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пределение места расположения малого предприятия с учетом удаленности от потребителей и поставщиков ресурсов, наличия производственной и финансовой инфраструктур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ыбор оптимальной организационно-правовой формы предприятия с учетом числа учредителей и возможности их участия в управлении, распределения прибыли и убытков, уровня финансовой ответственности, возможности привлечения дополнительных ресурс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роцедура государственной регистрации юридических лиц и индивидуальных предпринимателей. Порядок составления учредительных документ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9T08:05:10Z</dcterms:created>
  <dc:creator>A</dc:creator>
  <dc:description/>
  <dc:language>en-US</dc:language>
  <cp:lastModifiedBy>LEGION</cp:lastModifiedBy>
  <dcterms:modified xsi:type="dcterms:W3CDTF">2016-01-05T12:45:22Z</dcterms:modified>
  <cp:revision>38</cp:revision>
  <dc:subject/>
  <dc:title>Издержки производства и себестоимость продукци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