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_rels/notesSlide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2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13.jpeg" ContentType="image/jpeg"/>
  <Override PartName="/ppt/media/image21.jpeg" ContentType="image/jpeg"/>
  <Override PartName="/ppt/media/image16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jpeg" ContentType="image/jpeg"/>
  <Override PartName="/ppt/media/image15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E5272-161B-4EF8-B759-CB160C13C68E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6;&#1080;&#1079;&#1085;&#1100;" TargetMode="External"/><Relationship Id="rId2" Type="http://schemas.openxmlformats.org/officeDocument/2006/relationships/hyperlink" Target="http://ru.wikipedia.org/wiki/&#1041;&#1086;&#1083;&#1100;&#1085;&#1086;&#1081;" TargetMode="External"/><Relationship Id="rId3" Type="http://schemas.openxmlformats.org/officeDocument/2006/relationships/hyperlink" Target="http://ru.wikipedia.org/wiki/&#1055;&#1072;&#1090;&#1086;&#1083;&#1086;&#1075;&#1080;&#1103;" TargetMode="External"/><Relationship Id="rId4" Type="http://schemas.openxmlformats.org/officeDocument/2006/relationships/slide" Target="../slides/slide2.xml"/><Relationship Id="rId5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Травматический и ожоговый шок. Клиника, профилактика, леч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Доцент кафедры внутренних болезней №1 Краснова С.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E2ADC-23A3-4486-BCD9-6A654E68061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Классификация ш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Шок рассматривается  как своеобразный нервнодистрофический процесс (Вишневский А.В.). Мощная афферентная импульсация поступает в центральную нервную систему и вызывает здесь первоначально кратковременные явления разлитого возбуждения - 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эректильная фаза шока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0FF4A-BFB0-4342-9B6A-C475AD63A6C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Патогенез ш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EA836-EF32-4953-B4EC-8B27964DBE6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Классификация ш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Вскоре возбуждение сменяется торможением, постепенно, приобретая разлитой характер. 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Возникает торпидная фаза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шока с угнетением всех функций. Развиваются острая сердечная недостаточность, дыхательная недостаточность, нарушение обмена, деятельности желез внутренней секреции. Эти нарушения отрицательно влияют на нервную систему, развивается «порочный круг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48D41-5662-4124-99B6-17890F864B5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Классификация ш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Развиваются  нарушения гемодинамики, при торпидной фазе - падение артериального давления, венозного давления, уменьшение массы циркулирующей крови, рефлекторный спазм мелких сосудов, что приводит к нарушению газообмена. Развивается циркуляторная и дыхательная гипоксия, от которой страдают все органы и сист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AF257-6579-4DB7-B0D4-2776DFEBE498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Клиническая карти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 u="sng">
                <a:solidFill>
                  <a:srgbClr val="0000ff"/>
                </a:solidFill>
                <a:uFillTx/>
                <a:latin typeface="Calibri"/>
              </a:rPr>
              <a:t>В эректильной фазе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 пострадавший находится в сознании. Отмечается двигательное и речевое возбуждение, нередко выражена реакция на боль. Лицо и видимые слизистые гиперемированы,  иногда бледные, дыхание учащено, пульс не ускорен или даже замедлен, удовлетворительного наполнения и напряжения, АД может быть даже повышенным. Данная фаза шока, как правило, кратковременная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ABC56-3C14-4B3C-B31B-B42B6EDCF74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Классификация ш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    </a:t>
            </a:r>
            <a:r>
              <a:rPr b="1" lang="ru-RU" sz="1200" spc="-1" strike="noStrike" u="sng">
                <a:solidFill>
                  <a:srgbClr val="0000ff"/>
                </a:solidFill>
                <a:uFillTx/>
                <a:latin typeface="Calibri"/>
              </a:rPr>
              <a:t>В торпидной фазе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наблюдается общая заторможенность пострадавшего («окоченение» по Н.И.Пирогову). Сознание, как правило,  сохранено, на первый план выступает психическое угнетение, безучастное отношение пораженного к окружающему, отсутствие или снижение реакции на боль. Лицо бледное с заостренными чертами, температура тела пониженная, кожа холодная, в тяжелых случаях покрыта липким потом. Дыхание частое, поверхностное. Пульс учащен, слабого наполнения и напряжения, АД снижено. Подкожные вены спавшиеся. Отмечается жажда, иногда рвота, нередка олигур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86BBB-4C6E-4E02-BA1C-43CB02B14D7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Клиническая картина ш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FDC05-F39D-46A4-B318-5C02B6FDA51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Классификация ш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В зависимости от тяжести состояния пострадавшего клинически различают </a:t>
            </a:r>
            <a:r>
              <a:rPr b="1" i="1" lang="ru-RU" sz="1200" spc="-1" strike="noStrike">
                <a:solidFill>
                  <a:srgbClr val="0000ff"/>
                </a:solidFill>
                <a:latin typeface="Calibri"/>
              </a:rPr>
              <a:t>4 стадии торпидного шо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ff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Шок 1 степени (легкий): общее состояние пострадавшего удовлетворительное, заторможенность не выражена, пульс 90-100 ударов в мин., удовлетворительного наполнения и напряжения, АД 95-100 мм, рт, ст. или выше. Температура тела нормальная или несколько сниженная. Прогноз благоприятн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22A95-DA89-4878-A878-8E1380C6D93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Травматический ш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Травматический шок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— тяжёлое, угрожающее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жизни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больного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,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патологическое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состояние, возникающее при тяжёлых травмах, таких как переломы костей таза, тяжёлые огнестрельные ранения, черепно-мозговая травма, травма живота с повреждением внутренних органов и др., операциях, большой потере кров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Травматический шок является ответной реакцией организма на тяжелую механическую травму или ожог. В зависимости от этиологии различают две формы травматического шока: шок от механической травмы и ожоговый шок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60660-01BF-4740-B922-CDAD3B7D903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Классификация ш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Шок 2 степени (средний):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выражена заторможенность, снижается температура тела, кожные покровы бледные, пульс 110-120 уд. в мин., слабого наполнения и напряжения, неровный, АД 90-75 мм, рт, ст., дыхание учащено, поверхностное. Прогноз серьезны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Calibri"/>
              </a:rPr>
              <a:t>    </a:t>
            </a:r>
            <a:r>
              <a:rPr b="1" lang="ru-RU" sz="1400" spc="-1" strike="noStrike">
                <a:solidFill>
                  <a:srgbClr val="0000ff"/>
                </a:solidFill>
                <a:latin typeface="Calibri"/>
              </a:rPr>
              <a:t>Шок 3 степени (тяжелый):</a:t>
            </a:r>
            <a:r>
              <a:rPr b="0" lang="ru-RU" sz="1400" spc="-1" strike="noStrike">
                <a:solidFill>
                  <a:srgbClr val="0000ff"/>
                </a:solidFill>
                <a:latin typeface="Calibri"/>
              </a:rPr>
              <a:t> общее состояние тяжелое, резкая заторможенность, температура тела снижена, АД 75 мм, рт, ст., пульс 120-160 уд. в мин. очень слабого наполнения и напряжения, нитевидный, несосчитываемый. Прогноз очень серьезны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78BB9-C398-4E44-9921-6124F2CF031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Классификация ш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Шок 4 степени (предагональное состояние):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общее состояние крайне тяжелое, АД не определяется, пульс на лучевых артериях не выявляется, слабая пульсация крупных артерий, дыхание поверхностное, редко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Агональное состояние имеет те же признаки, что и предагональное, но сочетается с более выраженными дыхательными нарушениями типа Чайн-Стокса, цианоза и п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E01C1-E7C1-485A-85F2-82047067BBA8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Классификация ш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Клиническая смерть начинается с момента последнего вздоха и остановки сердца. Активная функция ЦНС и клинические признаки жизни у раненого полностью отсутствуют. Однако обменные процессы в мозговой ткани продолжаются еще в среднем 5-6 мин (чаще 3-5 мин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FABA2-00A8-48B1-A344-346590A31CE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80"/>
                </a:solidFill>
                <a:latin typeface="Calibri"/>
              </a:rPr>
              <a:t>Лечение травматического шо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Лечение травматического шока состоит из оказания</a:t>
            </a:r>
            <a:r>
              <a:rPr b="0" lang="en-US" sz="1200" spc="-1" strike="noStrike">
                <a:solidFill>
                  <a:srgbClr val="0000ff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Самопомощи, взаимопомощи и доврачебной помощи НА ПОЛЕ БОЯ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Самопомощи, взаимопомощи и доврачебной помощи В ОЧАГАХ МАССОВЫХ САНИТАРНЫХ ПОТЕРЬ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Врачебной помощи на МПП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0DEF8-DB97-463A-977F-D1735877928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80"/>
                </a:solidFill>
                <a:latin typeface="Calibri"/>
              </a:rPr>
              <a:t>Лечение травматического шо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На поле боя и в очагах массовых потерь, возникающих в случае поражения ядерным оружием, противошоковые мероприятия осуществляются в порядке оказания первой медицинской помощи. Эту помощь оказывают санитары и санитарные инструкторы, младший и средний медицинский персонал, включенный в состав спасательных команд, а также пострадавшие в порядке взаимопомощ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C528D-9C28-4B9B-8AAF-49CE1EDFCE4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80"/>
                </a:solidFill>
                <a:latin typeface="Calibri"/>
              </a:rPr>
              <a:t>Лечение травматического шо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Меры первой медицинской помощи: тушение пламени и горящей одежды на пораженном, временная остановка кровотечения, устранение асфиксии (освобождение дыхательных путей от крови, слизи, земли, устранение западения языка, наложение окклюзионной повязки, придание бокового стабилизированного положения, введение S-образной трубки и др.), быстрый вынос тяжелораненых с поля боя и сосредоточение их в укрыт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9D8C0-5B05-4FC8-84CE-31E2B5DEC33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Лечение травматического ш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D92E1-BE29-4197-9589-FE3B8D0F52A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80"/>
                </a:solidFill>
                <a:latin typeface="Calibri"/>
              </a:rPr>
              <a:t>Лечение травматического шо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Обескровленные раненые с наложенными на поврежденные конечности жгутами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а также раненые в грудь с резкой одышкой должны выноситься с поля боя в первую очередь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064B2-88BB-490F-B302-5823E6E7FD6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80"/>
                </a:solidFill>
                <a:latin typeface="Calibri"/>
              </a:rPr>
              <a:t>Лечение травматического шо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Следующим мероприятием является иммобилизация области повреждения. Открытые повреждения следует защитить от вторичного загрязнения повязками. Организуется щадящая транспортировка. Необходимо предохранить раненых от переохлаждения, сырости и влияния др. неблагоприятных фактор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62B44-A526-45EB-9B9E-19D6AF219DD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Травматический ш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ECAA8-4241-40C1-B741-DDED32C79E18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80"/>
                </a:solidFill>
                <a:latin typeface="Calibri"/>
              </a:rPr>
              <a:t>Лечение травматического шо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На мп противошоковые мероприятия осуществляет фельдшер в порядке оказания доврачебной медицинской помощи. В большинстве случаев это те же меры, что и при оказании первой медицинской помощи, но выполняются они более квалифицированно, при лучшей обеспеченности необходимыми средствами и несколько лучших условия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ff"/>
                </a:solidFill>
                <a:latin typeface="Calibri"/>
              </a:rPr>
              <a:t>   </a:t>
            </a:r>
            <a:r>
              <a:rPr b="0" lang="ru-RU" sz="1400" spc="-1" strike="noStrike">
                <a:solidFill>
                  <a:srgbClr val="0000ff"/>
                </a:solidFill>
                <a:latin typeface="Calibri"/>
              </a:rPr>
              <a:t>При тяжелых нарушениях дыхания следует произвести туалет полостей рта и носоглотки, устранить западение корня языка, ввести и закрепить воздуховод, восстановить проходимость верхних дыхательных путей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D568C-461B-4DE5-9E19-257A58D53071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80"/>
                </a:solidFill>
                <a:latin typeface="Calibri"/>
              </a:rPr>
              <a:t>Лечение травматического шо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При открытом пневмотораксе необходимо наложить окклюзионную повязку, для этого может быть использована полиэтиленовая, целофановая пленка или клеенка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Одновременно и без промедления нужно остановить и наружное кровотечение наложением жгута или давящей повязки, неправильно наложенный жгут исправить, а импровизированный - заменить табельным. Затем на рану наложить асептическую повязку, исправить или заменить "сбившуюся" повязку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E6BEE-7D49-4D0F-8A88-33D2301D590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80"/>
                </a:solidFill>
                <a:latin typeface="Calibri"/>
              </a:rPr>
              <a:t>Лечение травматического шо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100" spc="-1" strike="noStrike">
                <a:solidFill>
                  <a:srgbClr val="0000ff"/>
                </a:solidFill>
                <a:latin typeface="Calibri"/>
              </a:rPr>
              <a:t>При переломах костей, повреждениях магистральных сосудов и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крупных нервов производится тщательная иммобилизация транспортными шинами, исправляются неправильно наложенные шины, импровизированные шины при необходимости заменяются табельны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Предварительно производятся инъекции анальгетиков и седативных средств: пантопон или промедол (1-2 мл 2% р-ра), димедрол (2 мл 2% р-ра), внутримышечно или внутривенно медленно, используются аутоаналгететеры "Трингал". При отсутствии противопоказаний (проникающее ранение и закрытая травма живота) следует давать горячее пить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91B9F-0E3B-4A18-9FD4-3D3F8A1916D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80"/>
                </a:solidFill>
                <a:latin typeface="Calibri"/>
              </a:rPr>
              <a:t>Лечение травматического шо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Раненых с признаками шока после оказания им помощи в указанном объеме нужно немедленно направлять на мпп в реанимационное отделение. Транспорт для транспортировки должен быть максимально щадящим, а сроки доставки - предельно коротким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5A200-6485-4EE9-AA57-2E5CCF37E3C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80"/>
                </a:solidFill>
                <a:latin typeface="Calibri"/>
              </a:rPr>
              <a:t>Лечение травматического шо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Специализированная помощь при шоке осуществляется в отделениях реанимации и интенсивной терап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BA6D2-9C5A-42EE-8E04-1081DA74C5D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80"/>
                </a:solidFill>
                <a:latin typeface="Calibri"/>
              </a:rPr>
              <a:t>Лечение травматического шо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Все раненые с признаками шока на мпп в процессе медицинской сортировки распределяются на три групп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Первая - раненые, которые одновременно нуждаются в энергичной противошоковой терапии и в экстренных (по жизненным показаниям) оперативных вмешательствах. У раненых этой группы симптомы шока и тяжесть состояния обычно определяются повреждением внутренних органов и внутренним кровотечением. Чаще всего эту группу составляют раненые с повреждениями органов груди, живота, таза, магистральных сосудов и с разрушением (отрывами) конечност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81C41-A3A7-47B6-9E2B-0C12A41700B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80"/>
                </a:solidFill>
                <a:latin typeface="Calibri"/>
              </a:rPr>
              <a:t>Лечение травматического шо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У раненых этой группы противошоковые мероприятия должны быть направлены лишь на устранение критической степени расстройств дыхания (при необходимости - аппаратная ИВЛ) и кровообращения, без чего эвакуация на следующий этап может закончиться смертью в пути. Их после быстрого оказания самого необходимого противошокового и реанимационного пособия нужно незамедлительно эвакуировать в омедб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2CA6A-084B-48D7-AF0B-19E63D80F7B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80"/>
                </a:solidFill>
                <a:latin typeface="Calibri"/>
              </a:rPr>
              <a:t>Лечение травматического шо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Вторую группу составляют раненые, у которых шок возник в результате повреждений, не требующих неотложных оперативных вмешательств или вообще оперативного лечения. К таким повреждениям относятся огнестрельные и неогнестрельные (открытые и закрытые) переломы костей конечностей, без признаков повреждений магистральных сосудов и кровотечений. При массовом поступлении и затруднении с транспортом раненых этой группы, после оказания им в сортировочной палатке или в перевязочной необходимой противошоковой помощи, вынужденно придется эвакуировать в омедб во вторую очеред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BB634-3673-4DBF-AD3E-278EA8D6BC5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80"/>
                </a:solidFill>
                <a:latin typeface="Calibri"/>
              </a:rPr>
              <a:t>Лечение травматического шо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В третью группу следует отнести пострадавших в терминальном состоянии, у которых имеются ранения, явно не совместимые с жизнью. Такие раненые нуждаются в минимальной помощи, облегчаю   щей страд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Помощь раненым в зависимости от сортировочной группы, должна быть оказана непосредственно на сортировочной площадке, в сортировочной палатке, или, чаще, в перевязочн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95764-62C9-41C8-BEC0-2EC3B854F85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80"/>
                </a:solidFill>
                <a:latin typeface="Calibri"/>
              </a:rPr>
              <a:t>Лечение травматического шо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При шоке первая помощь тем эффективней, чем раньше она оказана. Она должна быть направлена на устранение причин шока (снятие или уменьшение болей, остановка кровотечения, проведение мероприятий, обеспечивающих улучшение дыхания и сердечной деятельности и предупреждающих общее охлаждени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1927C-FD78-4901-8747-DB0A9199955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80"/>
                </a:solidFill>
                <a:latin typeface="Calibri"/>
              </a:rPr>
              <a:t>Лечение травматического шо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В комплексе профилактических и лечебных противошоковых мероприятий важное значение имеет устранение боли, отрицательных рефлекторных реакций и неблагоприятного психического напряжения. С этой целью применяются анальгетики, нейролептики, новокаиновые блокады и щадящая иммобилизация и транспортиров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Уменьшение болей достигается приданием больному или поврежденной конечности положения, при котором меньше условий для усиления болей, поведением надежной иммобилизации поврежденной части тела, дачей обезболивающих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15774-80C9-4AF9-AC91-1B23024AA8B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80"/>
                </a:solidFill>
                <a:latin typeface="Calibri"/>
              </a:rPr>
              <a:t>Лечение травматического шо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По возможности следует обеспечить доступное неспециалисту обезболивание — побрызгать «заморозкой» или приложить к ране холод (пузырь со льдом или холодную воду), дать 1—2 таблетки любого из имеющихся под рукой ненаркотических анальгетиков типа анальгина, аспирина, кеторолака (при условии, что у больного на них нет аллергии) или, что лучше, сделать инъекцию ненаркотического анальгетика. Предпочтительно давать ненаркотический анальгетик помощне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При этом не следует использовать морфин (он сильно снижает артериальное давление и сильно угнетает дыхание, сильнее других наркотиков вызывает сонливость и заторможенность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ff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68AF3-6E0B-4340-8A5F-1AC4989E442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80"/>
                </a:solidFill>
                <a:latin typeface="Calibri"/>
              </a:rPr>
              <a:t>Лечение травматического шо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По возможности следует обеспечить доступное неспециалисту снятие нервно—психического стресса (который тоже усугубляет шок): дачу 1—2 таблеток любого имеющегося бензодиазепинового транквилизатора или 40—50 капель корвалола, валокордина, или небольшого количества крепкого спиртного напитк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53715-A3C2-4F06-A0E0-15D1C2C1950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80"/>
                </a:solidFill>
                <a:latin typeface="Calibri"/>
              </a:rPr>
              <a:t>Лечение травматического шо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Инфузионную терапию с целью восполнения ОЦК на мпп нужно проводить по строгим показаниям. Она предназначена, главным образом, при гипотонии, обусловленной наружной кровопотерей, и только после остановки кровотечения, хотя бы и временной. Именно для таких раненых целесообразно использовать те небольшие запасы крови, которыми располагает мпп. В качестве плазмозаменителей используют полиглюкин, лактасол, физиологический раствор хлористого натрия, 10% р-р глюкоз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9C9B4-D1A4-4FDF-95EC-6D54B8121A0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Лечение травматического ш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5C1DA-7126-408A-B0E7-D1B970C89D0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80"/>
                </a:solidFill>
                <a:latin typeface="Calibri"/>
              </a:rPr>
              <a:t>Лечение травматического шо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- Проведение новокаиновых блокад по А.В.Вишневскому (шейная вагосимпатическая, поясничная паранефральная, футлярная при поражении конечности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- В/в или в/а вливания крови, плазмы крови, альбумина, противошоковых жидкостей, реополиглюкин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- Введение сердечно - сосудистых средств (строфантин, корглюкон), в тяжелых случаях показаны адреномиметические средства (эфедрин, мезатон, норадреналин) и глюкокортикоид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2CDA0-1473-41F0-9B2F-9A55D408C1A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80"/>
                </a:solidFill>
                <a:latin typeface="Calibri"/>
              </a:rPr>
              <a:t>Лечение травматического шо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- Ингаляции увлажненного кислорода, инъекции лобелина, в тяжелых случаях – искусственная вентиляция легких с помощью респираторов или интубация трахе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-  Введение витаминов, особенно аскорбиновой кислоты и витамина В¹, хлорида кальция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- Введение противостолбнячной сыворотки и анатоксина, антибиотик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- Проведение нейролептанальгез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D1A23-CFFC-4601-AE97-3827C90010C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Профилактика ш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ПРОФИЛАКТИКА травматического шо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Воздержаться от оперативного вмешательства (только по жизненным показаниям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Хорошая иммобилизация при перелом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Хорошая анальгезия, седативные препара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D4E1C-0FB8-46FD-BB76-42744C0375F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Ожоговый ш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Ожоговый шок - клинический синдром, возникающий при глубоких ожогах, занимающих у взрослых более 15% поверхности тела, а у детей от 5—10%. Он представляет собой разновидность травматического шока и развивается при воздействии на кожу , дыхательные пути огня во время взрывов, пожар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30BC0-F76B-485F-9591-31D3D5848DA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Ожоговый ш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24A16-0FD8-44E9-A630-F78ABBD4B85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Травматический ш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Развитию шока способствует кровопотеря, охлаждение, физическое утомление, психическая травма, голодание, авитаминоз. Поздний вынос раненных, вторичная травматизация в процессе эвакуации, запоздалая и неполноценная медицинская помощь влекут за собой учащение случаев шок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В мирное время в связи с насыщенностью сложной техникой, высоким ритмом быта, регистрируются много травм, которые нередко осложняются травматическим шок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D473B-8B68-4EDB-912F-623F055CA978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Ожоговый ш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В течении ожоговой болезни выделяют 4 периода: I — ожоговый шок; II — острая ожоговая токсемия; III — септикотоксемия; IV—реконвалесцен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Ожоговый шок является первой стадией ожоговой болезни. На тяжесть шока ре- шающее влияние оказывает общая площадь ожога, глубина поражения. Так ожоговый шок развивается при площади глубокого ожога равной 9-10% поверхности тел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8BF86-C6E8-44C0-83E0-09EDD7707FB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Причина ожогового ш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630E0-A69A-49AF-A93B-DABB2BCBDD8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Ожоговый ш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В патогенезе играют нервно - болевые влияния. В основе патогенеза лежат боль и перераздражение ц.н.с., большая плазмопотеря, сгущение крови, образование токсических, биологически активных веществ в зоне ожогового некроза, что ведет к острым тяжелым расстройствам центральной и регионарной гемодинамики, микроциркуляции, нарушениям кислотно-щелочного состояния и водно-солевого равновес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310E3-96B2-48FB-8D9A-A6BE9BB9A82B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Патогенез ожогового ш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B7FCB-A5A5-4F90-8D65-53C500394DB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Ожоговый ш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С первых часов развивается острая сосудистая недостаточность. Генерализованный спазм периферических артерий способствует сохранению функций органов и систем, в ближайшие 1-2 часа начинается снижение ОЦК, нарастающее на протяжении 2 суток, из - за плазмопотери (до 3 г/сут. белка), гиперкоагуляция, приводящая к тромбозам. Олигурия связана со спазмом артер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AE15D-47B2-4548-858F-8A83C5F104A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Ожоговый ш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В течении ожогового шока наблюдается, как и при травматическом шоке, развитие вначале эректильной, а затем торпидной фазы шока, а также различаются 4 степени тяжести в зависимости от обширности ожого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7FF77-9884-4AA1-AB56-BAFD047E59A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Ожоговый ш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I (легкая) степень возникает при поверхностных ожогах, занимающих до 20% поверхности тела, или при глубоких ожогах, площадь которых составляет до 10% поверхности тела. Сознание пострадавшего сохранено, отмечаются бледность кожного покрова, мышечная дрожь, изредка тошнота, рвота. Тахикардия умеренная, АД не снижено, ОЦК понижен на 10%. Большинство пострадавших этой группы удается вывести из шока к концу первых сут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BF45B-1D66-42AB-891B-D759E5BD305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Ожоговый ш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Ожоговый шок средней тяжести (II степень) характерен при ожогах 20—40% поверхности тела, когда глубокие ожоги составляют не более 20%. Он характеризуется возбуждением, сменяющимся заторможенностью. Сознание сохранено. Кожа в области ожога бледная, сухая, холодная. Больного беспокоят озноб, жажда, тошнота, часто рвота. Дыхание учащено, АД снижено, ОЦК понижен на 10—20%. Функция почек нарушается, отмечается олигурия, на 2-е сутки в крови повышается уровень остаточного азота до 41,3—44,1 </a:t>
            </a:r>
            <a:r>
              <a:rPr b="0" i="1" lang="ru-RU" sz="1200" spc="-1" strike="noStrike">
                <a:solidFill>
                  <a:srgbClr val="0000ff"/>
                </a:solidFill>
                <a:latin typeface="Calibri"/>
              </a:rPr>
              <a:t>ммоль/л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, часто возникают гематурия и альбуминурия. Большинство пострадавших удается вывести из состояния шока в течение 2 суто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445C3-B3D4-4022-8C0E-99EFDE73765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Клиническая картин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BB61B-D411-4E52-9381-395F4F6DBC3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Ожоговый ш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Тяжелый (Ill степень) развивается при обширных ожогах, захватывающих 40—60% поверхности тела (глубокий ожог не более 40%). Состояние крайне тяжелое, сознание спутанное, пострадавший заторможен. Кожный покров бледно-серого цвета, холодный. Отмечаются выраженная жажда, частая рвота, мышечные судороги, одышка, цианоз, тахикардия до 120—130 ударов в 1 </a:t>
            </a:r>
            <a:r>
              <a:rPr b="0" i="1" lang="ru-RU" sz="1200" spc="-1" strike="noStrike">
                <a:solidFill>
                  <a:srgbClr val="0000ff"/>
                </a:solidFill>
                <a:latin typeface="Calibri"/>
              </a:rPr>
              <a:t>мин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, ОЦК снижен на 20—30%. Существенно страдает функция почек, развивается олигурия, а у больных старше 50 лет — анурия. Количество остаточного азота в крови возрастает до 50,7—56,4 </a:t>
            </a:r>
            <a:r>
              <a:rPr b="0" i="1" lang="ru-RU" sz="1200" spc="-1" strike="noStrike">
                <a:solidFill>
                  <a:srgbClr val="0000ff"/>
                </a:solidFill>
                <a:latin typeface="Calibri"/>
              </a:rPr>
              <a:t>ммоль/л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. Борьба с шоком этой группы пострадавших очень трудна и далеко не всегда эффектив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AAAAF-A2C9-4BD0-84D8-20E9D217ABA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Травматический ш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По патогенезу травматический шок соответствует гиповолемическому. Основные факторы, вызывающие данный вид шока, – сильное болевое раздражение и потеря больших объёмов кров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984F2-65B4-4214-88D2-B9D8020A656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Клиническая картина ожогового ш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F8FC5-8B9A-4112-A351-37FC7244A93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Ожоговый ш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Крайне тяжелый (IV степень) наблюдается у пострадавших с ожогами, занимающими свыше 60% поверхности тела (из них глубокие ожоги — не менее 40%). Состояние крайне тяжелое, сознание спутанное или отсутствует. Кожный покров бледный с мраморным оттенком. Температура тела снижена. Пульс нитевидный, АД ниже 100</a:t>
            </a:r>
            <a:r>
              <a:rPr b="0" i="1" lang="ru-RU" sz="1200" spc="-1" strike="noStrike">
                <a:solidFill>
                  <a:srgbClr val="0000ff"/>
                </a:solidFill>
                <a:latin typeface="Calibri"/>
              </a:rPr>
              <a:t> мм рт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.</a:t>
            </a:r>
            <a:r>
              <a:rPr b="0" i="1" lang="ru-RU" sz="1200" spc="-1" strike="noStrike">
                <a:solidFill>
                  <a:srgbClr val="0000ff"/>
                </a:solidFill>
                <a:latin typeface="Calibri"/>
              </a:rPr>
              <a:t>ст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. Наблюдается выраженная одышка, в легких выслушиваются влажные хрипы. Больных мучит жажда, частая рвота типа кофейной гущи, развивается парез желудочно-кишечного тракта, нарастает метаболический ацидоз. Резко нарушается функция почек с развитием анурии, постоянной гематурии, альбуминурии, гемоглобинурии. Количество остаточного азота крови с первых часов более 60,0 </a:t>
            </a:r>
            <a:r>
              <a:rPr b="0" i="1" lang="ru-RU" sz="1200" spc="-1" strike="noStrike">
                <a:solidFill>
                  <a:srgbClr val="0000ff"/>
                </a:solidFill>
                <a:latin typeface="Calibri"/>
              </a:rPr>
              <a:t>ммоль/л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. ОЦК снижен на 20—40%. Большинство пострадавших погибает в первые сутки, а остальные — в ближайшие дни. Благоприятный исход наблюдается крайне редк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16D4C-5DBC-4DBC-B322-8FB8A1336B4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Ожоговый ш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Ожоговый шок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характеризуется своеобразной клинической картиной: в первые часы после травмы больной возбужден, неадекватно оценивает свое состояние, затем возбуждение сменяется заторможенностью и адинамией, развивается гиповолемия, степень которой зависит от тяжести ожог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77BDA-43E7-4D62-AAAA-275C19332AD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Ожоговый ш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При более глубоких ожогах объем цирк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лирующей крови уменьшается вследствие как депонирования крови, так и ее гемолиза. Для клинической картины ожогового шока характерны бледность кожных покровов, уменьшение выделения мочи вплоть до анурии, жажда, тошнота, артериальное давление однако меняется только при тяжелых степенях 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ожогового шока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0853C-0034-4AAB-B64A-B4F0AE2E2DB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Лечение ожогового ш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ЛЕЧЕНИЕ такое же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, как и травматического шока, с наложением асептических повязок на ожоговую поверхност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B1924-E44A-492C-9255-A430385D8D9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леч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C42E4-9575-4F3B-A94F-9EEFE9294BF8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Лечение ожогового ш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Противошоковая терапия включает комплекс мероприятий, имеющих целью купирование болевого синдрома и снятие эмоционального напряжения, восстановление эффективной гемодинамики, нормализацию внешнего дыхания и газообмена, устранение ацидоза, профилактику и лечение нарушений функции почек, коррекцию нарушений водно-электролитного баланса, восполнение белкового дефицита и устранение нарастающей интоксикации и метаболических расстройств. Из общих мероприятий при лечении ожогового шока рекомендуется согревание больного. Если нет рвоты, необходимо дать пить горячий сладкий чай или кофе, щелочные минеральные воды или простой соляно-щелочной раствор (1-2 г питьевой соды и 3-4 г поваренной соли на 1 л воды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18288-F919-4744-A872-398A68A74F7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Лечение ожогового ш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Пострадавшие с тяжелыми ожогами и подозрением на ожоговый шок должны быть экстренно госпитализированы в реанимационное отделение ожогового центра. Лечение начинают во время транспортировки на догоспитальном этапе и продолжают в стационаре. Ожоговые поверхности закрывают асептическими бинтовыми или контурными сухими или влажно-высыхающими повязками, пропитанными растворами антисептик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709A0-E4E0-4072-9536-4A0CCB3A35C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чение ожогового ш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84739-7067-4A90-8D8A-37AD309305A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Лечение ожогового ш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Больного согревают, укрывая его одеялами. Не рекомендуется контактное согревание грелками. При отсутствии рвоты пострадавшего поят минеральной водой, щелочно-солевым раствором (1/2 чайной ложки гидрокарбоната натрия и 1 чайная ложка хлорида натрия на 1</a:t>
            </a:r>
            <a:r>
              <a:rPr b="0" i="1" lang="ru-RU" sz="1200" spc="-1" strike="noStrike">
                <a:solidFill>
                  <a:srgbClr val="0000ff"/>
                </a:solidFill>
                <a:latin typeface="Calibri"/>
              </a:rPr>
              <a:t> л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воды). Прием большого количества бессолевых жидкостей может привести к так называемому водному отравлени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A7998-CF90-46DF-9317-9C5DDA8A770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Патогенез ш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1C78F-C5C0-4828-8D34-A9AEA90543F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Лечение ожогового ш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Противошоковую терапию начинают с обезболивания наркотическими и ненаркотическими анальгетиками в сочетании с антигистаминными препаратами (2</a:t>
            </a:r>
            <a:r>
              <a:rPr b="0" i="1" lang="ru-RU" sz="1200" spc="-1" strike="noStrike">
                <a:solidFill>
                  <a:srgbClr val="0000ff"/>
                </a:solidFill>
                <a:latin typeface="Calibri"/>
              </a:rPr>
              <a:t> мл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50% раствора анальгина, 1—2</a:t>
            </a:r>
            <a:r>
              <a:rPr b="0" i="1" lang="ru-RU" sz="1200" spc="-1" strike="noStrike">
                <a:solidFill>
                  <a:srgbClr val="0000ff"/>
                </a:solidFill>
                <a:latin typeface="Calibri"/>
              </a:rPr>
              <a:t> мл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2% раствора промедола, 1—2</a:t>
            </a:r>
            <a:r>
              <a:rPr b="0" i="1" lang="ru-RU" sz="1200" spc="-1" strike="noStrike">
                <a:solidFill>
                  <a:srgbClr val="0000ff"/>
                </a:solidFill>
                <a:latin typeface="Calibri"/>
              </a:rPr>
              <a:t> мл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1% раствора димедрола и др.). Хороший обезболивающий и седативный эффект дает нейролептаналгезия: дроперидол (0,25% раствор, по 1—5 </a:t>
            </a:r>
            <a:r>
              <a:rPr b="0" i="1" lang="ru-RU" sz="1200" spc="-1" strike="noStrike">
                <a:solidFill>
                  <a:srgbClr val="0000ff"/>
                </a:solidFill>
                <a:latin typeface="Calibri"/>
              </a:rPr>
              <a:t>мл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) в сочетании с фентанилом (0,005% раствор, по 1—2 </a:t>
            </a:r>
            <a:r>
              <a:rPr b="0" i="1" lang="ru-RU" sz="1200" spc="-1" strike="noStrike">
                <a:solidFill>
                  <a:srgbClr val="0000ff"/>
                </a:solidFill>
                <a:latin typeface="Calibri"/>
              </a:rPr>
              <a:t>мл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EF092-E401-436C-9A73-6E3CB3677B8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Лечение ожогового ш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Уже во время транспортировки можно эффективно применять масочный наркоз с закисью азота, фторотаном и внутривенное введение барбитуратов (гексенала, тиопентал-натрия). В стационаре производят новокаиновые блокады, оказывающие не только обезболивающее действие, но и благотворно влияющие на вегетативные и трофические функции нервной сист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82112-EA25-4509-9C37-F2C3261C3FEB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Лечение ожогового ш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Для нормализации внешнего дыхания больному придают полусидячее положение, через носовой катетер осуществляют ингаляцию кислорода, вводят бронхолитические препараты (эуфиллин, эфедрин и др.). Если ожоговый струп в виде панциря охватывает и сдавливает грудную клетку, то для улучшения дыхания продольными разрезами производят декомпрессионную некротоми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BD8B5-0C8A-4F2E-B3D3-6013B8A60D5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Лечение ожогового ш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Инфузионная терапия является основным методом коррекции нарушенного гомеостаза. Объем и характер переливаемых жидкостей, темп и последовательность введения определяются клиническими и лабораторными показателями, главными из которых являются ОЦК, гематокрит, кислотно-щелочное состояние, содержание электролитов в плазме, суммарные критерии функции почек, состояние центральной гемодинамики, микроциркуляторные расстройства</a:t>
            </a:r>
            <a:r>
              <a:rPr b="0" lang="ru-RU" sz="1400" spc="-1" strike="noStrike">
                <a:solidFill>
                  <a:srgbClr val="0000ff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81B8D-0AF2-4DC0-9D94-4B275B657FB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Лечение ожогового ш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Точное установление этих показателей на начальных этапах лечения не всегда возможно, поэтому в первые 6—8 </a:t>
            </a:r>
            <a:r>
              <a:rPr b="0" i="1" lang="ru-RU" sz="1200" spc="-1" strike="noStrike">
                <a:solidFill>
                  <a:srgbClr val="0000ff"/>
                </a:solidFill>
                <a:latin typeface="Calibri"/>
              </a:rPr>
              <a:t>ч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лечения объем вливаемых жидкостей рассчитывают по правилу «двойного нуля» (прибавляют к площади ожога, выраженной в процентах, два нуля; не менее половины полученного объема составляют кристаллоиды). Например, при ожоговом шоке с поражением 20% поверхности тела нужно перелить 2000</a:t>
            </a:r>
            <a:r>
              <a:rPr b="0" i="1" lang="ru-RU" sz="1200" spc="-1" strike="noStrike">
                <a:solidFill>
                  <a:srgbClr val="0000ff"/>
                </a:solidFill>
                <a:latin typeface="Calibri"/>
              </a:rPr>
              <a:t> мл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жидкости, в т.ч. 500</a:t>
            </a:r>
            <a:r>
              <a:rPr b="0" i="1" lang="ru-RU" sz="1200" spc="-1" strike="noStrike">
                <a:solidFill>
                  <a:srgbClr val="0000ff"/>
                </a:solidFill>
                <a:latin typeface="Calibri"/>
              </a:rPr>
              <a:t> мл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5% раствора глюкозы, 300</a:t>
            </a:r>
            <a:r>
              <a:rPr b="0" i="1" lang="ru-RU" sz="1200" spc="-1" strike="noStrike">
                <a:solidFill>
                  <a:srgbClr val="0000ff"/>
                </a:solidFill>
                <a:latin typeface="Calibri"/>
              </a:rPr>
              <a:t> мл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изотонического раствора хлорида натрия, 200 </a:t>
            </a:r>
            <a:r>
              <a:rPr b="0" i="1" lang="ru-RU" sz="1200" spc="-1" strike="noStrike">
                <a:solidFill>
                  <a:srgbClr val="0000ff"/>
                </a:solidFill>
                <a:latin typeface="Calibri"/>
              </a:rPr>
              <a:t>мл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4% раствора гидрокарбоната натрия, 500 </a:t>
            </a:r>
            <a:r>
              <a:rPr b="0" i="1" lang="ru-RU" sz="1200" spc="-1" strike="noStrike">
                <a:solidFill>
                  <a:srgbClr val="0000ff"/>
                </a:solidFill>
                <a:latin typeface="Calibri"/>
              </a:rPr>
              <a:t>мл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полиглюкина, 500 </a:t>
            </a:r>
            <a:r>
              <a:rPr b="0" i="1" lang="ru-RU" sz="1200" spc="-1" strike="noStrike">
                <a:solidFill>
                  <a:srgbClr val="0000ff"/>
                </a:solidFill>
                <a:latin typeface="Calibri"/>
              </a:rPr>
              <a:t>мл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желатинол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13813-D89E-4119-9375-AC834E94DDD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Лечение ожогового ш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Для борьбы с гиповолемией и гипопротеинемией широко применяют нативные коллоидные растворы (нативную, сухую и свежезамороженную плазму крови, протеин, альбумин). При развитии олигурии или анурии показано введение осмотических диуретиков (маннита, мочевины, 40% раствора глюкозы), назначаемых только после полного восполнения ОЦК. Снижению ожоговой токсемии способствует переливание низкомолекулярных декстранов (реополиглюкина, реоглюмана, рондекса) и препаратов на основе поливинилпирролидона (гемодеза, неогемодеза, неокомпенсана, полидеза)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E2E87-4F0C-4BD3-A7E0-106FEF88226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Лечение ожогового ш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Реополиглюкин улучшает микроциркуляцию, благодаря дезагрегации эритроцитов, ликвидации стаза в прекапиллярной и капиллярной сети, что особенно важно на фоне гемоконцентрации и повышения вязкости крови. Критериями адекватности инфузионной терапии являются центральное венозное давление в пределах 70—150</a:t>
            </a:r>
            <a:r>
              <a:rPr b="0" i="1" lang="ru-RU" sz="1200" spc="-1" strike="noStrike">
                <a:solidFill>
                  <a:srgbClr val="0000ff"/>
                </a:solidFill>
                <a:latin typeface="Calibri"/>
              </a:rPr>
              <a:t> мм вод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.</a:t>
            </a:r>
            <a:r>
              <a:rPr b="0" i="1" lang="ru-RU" sz="1200" spc="-1" strike="noStrike">
                <a:solidFill>
                  <a:srgbClr val="0000ff"/>
                </a:solidFill>
                <a:latin typeface="Calibri"/>
              </a:rPr>
              <a:t>ст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., почасовой диурез 1,5—2,0</a:t>
            </a:r>
            <a:r>
              <a:rPr b="0" i="1" lang="ru-RU" sz="1200" spc="-1" strike="noStrike">
                <a:solidFill>
                  <a:srgbClr val="0000ff"/>
                </a:solidFill>
                <a:latin typeface="Calibri"/>
              </a:rPr>
              <a:t> мл/кг/ч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, гематокрит 38—42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B6FC8-BCB2-4296-8DD6-AB4BEA45397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Лечение ожогового ш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Для восполнения энергетических потерь и коррекции обменных процессов вводят 10—20% растворы глюкозы, гидролизаты белков (раствор гидролизина, гидролизат казеина), аминокислотные смеси (полиамин, аминон, аминосол), кокарбоксилазу (100—200 </a:t>
            </a:r>
            <a:r>
              <a:rPr b="0" i="1" lang="ru-RU" sz="1200" spc="-1" strike="noStrike">
                <a:solidFill>
                  <a:srgbClr val="0000ff"/>
                </a:solidFill>
                <a:latin typeface="Calibri"/>
              </a:rPr>
              <a:t>мг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в сутки). ДТФ (1—2</a:t>
            </a:r>
            <a:r>
              <a:rPr b="0" i="1" lang="ru-RU" sz="1200" spc="-1" strike="noStrike">
                <a:solidFill>
                  <a:srgbClr val="0000ff"/>
                </a:solidFill>
                <a:latin typeface="Calibri"/>
              </a:rPr>
              <a:t> мл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1% раствора в сутки), витамины группы В, аскорбиновую кислот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Коррекцию кислотно-щелочного состояния устранение ацидоза проводят вливаниями щелочных растворов: 4% раствора гидрокарбоната натрия, трисамина, лактасола и др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4AA12-E59A-42A8-860D-2E610B5BE4C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Лечение ожогового ш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Профилактика и лечение сердечно-сосудистых нарушений при ожоговом шоке заключается во введении сердечных гликозидов (коргликона, дигоксина), аналептиков (кордиамина, сульфо-камфокаина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58F59-08BF-485E-BB00-9180DC689B21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Лечение ожогового ш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Профилактика и лечение сердечно-сосудистых нарушений при ожоговом шоке заключается во введении сердечных гликозидов (коргликона, дигоксина), аналептиков (кордиамина, сульфо-камфокаина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3FA9B-0FEF-4E0D-B7A6-D75BE94D46A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Травматический ш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По времени возникновения различают 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шок первичный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 сразу после травмы или в ближайший отрезок времени (через 1 - 2 часа) и вторичный - через 4 - 24 часа. Первичный шок является результатом непосредственно травмы, а 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вторичный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- результат дополнительной травматизации. Может развиться шок после снятия жгута с конеч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В клинической картине травматического шока может наблюдаться две фазы</a:t>
            </a:r>
            <a:r>
              <a:rPr b="0" lang="en-US" sz="1200" spc="-1" strike="noStrike">
                <a:solidFill>
                  <a:srgbClr val="0000ff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Эректильная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Торпид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A3A6F-234B-439B-9F67-08BDCA4673B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Лечение ожогового ш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На 2-е сутки пострадавшему вводят примерно половину объема жидкостей, полученного им в первый день. Нередко инфузионная терапия проводится на фоне дробной гепаринизации (до 20 000 ЕД в сутки) под контролем свертывающей системы кров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697C8-43AC-4E09-9819-0F7D461C2AE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Лечение ожогового ш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Профилактику инфекционных осложнений начинают как можно раньше. Она включает профилактику столбняка по обычной схеме и массивную парентеральную терапию антибиотиками широкого спектра действ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B2414-3498-47F5-8069-31A66DEC7FB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Травматический и ожоговый ш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СПАСИБО ЗА ВНИМ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C4AF9-FF68-473A-B693-38D0AD2BCB8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Клиническая картина ш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1FF79-7699-4A05-BF8C-350B284978E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42896-7458-4C15-8611-5533504C3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81FAA-66CD-4001-B364-BDECCF167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B2F2A-DAE0-41CB-B2C9-7B4503584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D3E5A-7C5D-462C-A43E-0BD1C7C66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D996CB-F453-4F97-B68B-0FE7B0A12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B4A90B-6F7E-496D-899C-876E4B335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B3A38F-4ACA-4A4E-A9FD-62BB35BC0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B708B3-AFBE-459D-B87A-739FA4316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ACD476-A414-4339-A1BF-950EE1C17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21A727-5233-43D4-852A-55B3F5881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C1DDD4-DC95-4154-94F3-75ECBFF05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148F3-9DF0-4031-AF62-66FB1A77B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E48948-F54F-418C-83AC-47A7C9CB8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FB3503-216A-40B1-8121-8D776BC72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2C52CE-70E4-4EC2-9899-C1664E1CD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4517C7-B28C-4321-A002-9AE1F0CEB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0A7685-E3AB-4559-AA4D-A3122E96F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42942-EA3F-4FD0-BA8A-8E718B101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67C56-A12F-4AB4-B472-DCEBEF6DC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18B13-5ADF-4C63-8B50-D895FAD83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E1009-20BA-4157-BB69-4A7500E0E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FA640-25B8-4E66-8BB7-8BD47F4C0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03E0A-AD5C-4965-A612-CCDBB80F7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14975-B3E2-4F40-8008-640045FB3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DD4C2-1A8D-4AA1-BD4D-0432C28C854F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6BBB8-408E-4363-8AD0-FD6D475F6327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6;&#1080;&#1079;&#1085;&#1100;" TargetMode="External"/><Relationship Id="rId2" Type="http://schemas.openxmlformats.org/officeDocument/2006/relationships/hyperlink" Target="http://ru.wikipedia.org/wiki/&#1041;&#1086;&#1083;&#1100;&#1085;&#1086;&#1081;" TargetMode="External"/><Relationship Id="rId3" Type="http://schemas.openxmlformats.org/officeDocument/2006/relationships/hyperlink" Target="http://ru.wikipedia.org/wiki/&#1055;&#1072;&#1090;&#1086;&#1083;&#1086;&#1075;&#1080;&#1103;" TargetMode="External"/><Relationship Id="rId4" Type="http://schemas.openxmlformats.org/officeDocument/2006/relationships/hyperlink" Target="http://ru.wikipedia.org/wiki/&#1061;&#1080;&#1088;&#1091;&#1088;&#1075;&#1080;&#1095;&#1077;&#1089;&#1082;&#1072;&#1103;_&#1086;&#1087;&#1077;&#1088;&#1072;&#1094;&#1080;&#1103;" TargetMode="External"/><Relationship Id="rId5" Type="http://schemas.openxmlformats.org/officeDocument/2006/relationships/hyperlink" Target="http://ru.wikipedia.org/wiki/&#1050;&#1088;&#1086;&#1074;&#1100;" TargetMode="External"/><Relationship Id="rId6" Type="http://schemas.openxmlformats.org/officeDocument/2006/relationships/image" Target="../media/image1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hyperlink" Target="http://ru.wikipedia.org/wiki/&#1060;&#1072;&#1081;&#1083;:Antishock_body_position.svg" TargetMode="External"/><Relationship Id="rId3" Type="http://schemas.openxmlformats.org/officeDocument/2006/relationships/image" Target="../media/image11.pn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72;&#1081;&#1083;:Intensivstation_%2801%29_2007-03-03.jpg" TargetMode="External"/><Relationship Id="rId2" Type="http://schemas.openxmlformats.org/officeDocument/2006/relationships/image" Target="../media/image13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0;&#1085;&#1072;&#1083;&#1100;&#1075;&#1080;&#1085;" TargetMode="External"/><Relationship Id="rId2" Type="http://schemas.openxmlformats.org/officeDocument/2006/relationships/hyperlink" Target="http://ru.wikipedia.org/wiki/&#1040;&#1089;&#1087;&#1080;&#1088;&#1080;&#1085;" TargetMode="External"/><Relationship Id="rId3" Type="http://schemas.openxmlformats.org/officeDocument/2006/relationships/hyperlink" Target="http://ru.wikipedia.org/wiki/&#1050;&#1077;&#1090;&#1086;&#1088;&#1086;&#1083;&#1072;&#1082;" TargetMode="External"/><Relationship Id="rId4" Type="http://schemas.openxmlformats.org/officeDocument/2006/relationships/hyperlink" Target="http://ru.wikipedia.org/wiki/&#1052;&#1086;&#1088;&#1092;&#1080;&#1085;" TargetMode="External"/><Relationship Id="rId5" Type="http://schemas.openxmlformats.org/officeDocument/2006/relationships/image" Target="../media/image1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8;&#1088;&#1072;&#1085;&#1082;&#1074;&#1080;&#1083;&#1080;&#1079;&#1072;&#1090;&#1086;&#1088;" TargetMode="External"/><Relationship Id="rId2" Type="http://schemas.openxmlformats.org/officeDocument/2006/relationships/hyperlink" Target="http://ru.wikipedia.org/wiki/&#1050;&#1086;&#1088;&#1074;&#1072;&#1083;&#1086;&#1083;" TargetMode="External"/><Relationship Id="rId3" Type="http://schemas.openxmlformats.org/officeDocument/2006/relationships/hyperlink" Target="http://ru.wikipedia.org/wiki/&#1042;&#1072;&#1083;&#1086;&#1082;&#1086;&#1088;&#1076;&#1080;&#1085;" TargetMode="External"/><Relationship Id="rId4" Type="http://schemas.openxmlformats.org/officeDocument/2006/relationships/hyperlink" Target="http://ru.wikipedia.org/wiki/&#1040;&#1083;&#1082;&#1086;&#1075;&#1086;&#1083;&#1100;" TargetMode="External"/><Relationship Id="rId5" Type="http://schemas.openxmlformats.org/officeDocument/2006/relationships/image" Target="../media/image1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ru.wikipedia.org/w/index.php?title=&#1043;&#1080;&#1087;&#1086;&#1074;&#1086;&#1083;&#1077;&#1084;&#1080;&#1095;&#1077;&#1089;&#1082;&#1080;&#1081;_&#1096;&#1086;&#1082;&amp;action=edit&amp;redlink=1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8000"/>
                </a:solidFill>
                <a:latin typeface="Arial"/>
              </a:rPr>
              <a:t>Травматический и ожоговый шок. Клиника, профилактика, лечение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ffcc"/>
                </a:solidFill>
                <a:latin typeface="Arial"/>
              </a:rPr>
              <a:t>Доцент кафедры внутренних болезней №1 Краснова С.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755640" y="981000"/>
            <a:ext cx="587520" cy="520920"/>
          </a:xfrm>
          <a:prstGeom prst="rect">
            <a:avLst/>
          </a:prstGeom>
          <a:ln w="0">
            <a:noFill/>
          </a:ln>
        </p:spPr>
      </p:pic>
      <p:sp>
        <p:nvSpPr>
          <p:cNvPr id="1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Классификация шок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17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Шок рассматривается  как своеобразный нервнодистрофический процесс (Вишневский А.В.). Мощная афферентная импульсация поступает в центральную нервную систему и вызывает здесь первоначально кратковременные явления разлитого возбуждения - </a:t>
            </a:r>
            <a:r>
              <a:rPr b="1" lang="ru-RU" sz="2400" spc="-1" strike="noStrike">
                <a:solidFill>
                  <a:srgbClr val="00ffcc"/>
                </a:solidFill>
                <a:latin typeface="Arial"/>
              </a:rPr>
              <a:t>эректильная фаза шока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7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971640" y="549360"/>
            <a:ext cx="587160" cy="520560"/>
          </a:xfrm>
          <a:prstGeom prst="rect">
            <a:avLst/>
          </a:prstGeom>
          <a:ln w="0">
            <a:noFill/>
          </a:ln>
        </p:spPr>
      </p:pic>
      <p:sp>
        <p:nvSpPr>
          <p:cNvPr id="1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Патогенез шок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70" name="Picture 5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495680"/>
          </a:xfrm>
          <a:prstGeom prst="rect">
            <a:avLst/>
          </a:prstGeom>
          <a:ln w="0">
            <a:noFill/>
          </a:ln>
        </p:spPr>
      </p:pic>
      <p:pic>
        <p:nvPicPr>
          <p:cNvPr id="171" name="Рисунок 20" descr="C:\Documents and Settings\Администратор\Рабочий стол\777\logo_fin.jpg"/>
          <p:cNvPicPr/>
          <p:nvPr/>
        </p:nvPicPr>
        <p:blipFill>
          <a:blip r:embed="rId2"/>
          <a:srcRect l="-1032" t="0" r="56774" b="0"/>
          <a:stretch/>
        </p:blipFill>
        <p:spPr>
          <a:xfrm>
            <a:off x="971640" y="549360"/>
            <a:ext cx="587160" cy="520560"/>
          </a:xfrm>
          <a:prstGeom prst="rect">
            <a:avLst/>
          </a:prstGeom>
          <a:ln w="0">
            <a:noFill/>
          </a:ln>
        </p:spPr>
      </p:pic>
      <p:sp>
        <p:nvSpPr>
          <p:cNvPr id="1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Классификация шок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Вскоре возбуждение сменяется торможением, постепенно, приобретая разлитой характер. </a:t>
            </a:r>
            <a:r>
              <a:rPr b="1" lang="ru-RU" sz="2400" spc="-1" strike="noStrike">
                <a:solidFill>
                  <a:srgbClr val="00ffcc"/>
                </a:solidFill>
                <a:latin typeface="Arial"/>
              </a:rPr>
              <a:t>Возникает торпидная фаза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 шока с угнетением всех функций. Развиваются острая сердечная недостаточность, дыхательная недостаточность, нарушение обмена, деятельности желез внутренней секреции. Эти нарушения отрицательно влияют на нервную систему, развивается «порочный круг»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971640" y="549360"/>
            <a:ext cx="587160" cy="520560"/>
          </a:xfrm>
          <a:prstGeom prst="rect">
            <a:avLst/>
          </a:prstGeom>
          <a:ln w="0">
            <a:noFill/>
          </a:ln>
        </p:spPr>
      </p:pic>
      <p:sp>
        <p:nvSpPr>
          <p:cNvPr id="17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Классификация шок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Развиваются  нарушения гемодинамики, при торпидной фазе - падение артериального давления, венозного давления, уменьшение массы циркулирующей крови, рефлекторный спазм мелких сосудов, что приводит к нарушению газообмена. Развивается циркуляторная и дыхательная гипоксия, от которой страдают все органы и систем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9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971640" y="549360"/>
            <a:ext cx="587160" cy="520560"/>
          </a:xfrm>
          <a:prstGeom prst="rect">
            <a:avLst/>
          </a:prstGeom>
          <a:ln w="0">
            <a:noFill/>
          </a:ln>
        </p:spPr>
      </p:pic>
      <p:sp>
        <p:nvSpPr>
          <p:cNvPr id="1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Клиническая картин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 u="sng">
                <a:solidFill>
                  <a:srgbClr val="00ffcc"/>
                </a:solidFill>
                <a:uFillTx/>
                <a:latin typeface="Arial"/>
              </a:rPr>
              <a:t>В эректильной фазе</a:t>
            </a:r>
            <a:r>
              <a:rPr b="1" lang="ru-RU" sz="2400" spc="-1" strike="noStrike">
                <a:solidFill>
                  <a:srgbClr val="00ffcc"/>
                </a:solidFill>
                <a:latin typeface="Arial"/>
              </a:rPr>
              <a:t> пострадавший находится в сознании. Отмечается двигательное и речевое возбуждение, нередко выражена реакция на боль. Лицо и видимые слизистые гиперемированы,  иногда бледные, дыхание учащено, пульс не ускорен или даже замедлен, удовлетворительного наполнения и напряжения, АД может быть даже повышенным. Данная фаза шока, как правило, кратковременная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3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971640" y="549360"/>
            <a:ext cx="587160" cy="520560"/>
          </a:xfrm>
          <a:prstGeom prst="rect">
            <a:avLst/>
          </a:prstGeom>
          <a:ln w="0">
            <a:noFill/>
          </a:ln>
        </p:spPr>
      </p:pic>
      <p:sp>
        <p:nvSpPr>
          <p:cNvPr id="1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Классификация шок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    </a:t>
            </a:r>
            <a:r>
              <a:rPr b="1" lang="ru-RU" sz="2400" spc="-1" strike="noStrike" u="sng">
                <a:solidFill>
                  <a:srgbClr val="00ffcc"/>
                </a:solidFill>
                <a:uFillTx/>
                <a:latin typeface="Arial"/>
              </a:rPr>
              <a:t>В торпидной фазе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 наблюдается общая заторможенность пострадавшего («окоченение» по Н.И.Пирогову). Сознание, как правило,  сохранено, на первый план выступает психическое угнетение, безучастное отношение пораженного к окружающему, отсутствие или снижение реакции на боль. Лицо бледное с заостренными чертами, температура тела пониженная, кожа холодная, в тяжелых случаях покрыта липким потом. Дыхание частое, поверхностное. Пульс учащен, слабого наполнения и напряжения, АД снижено. Подкожные вены спавшиеся. Отмечается жажда, иногда рвота, нередка олигурия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971640" y="549360"/>
            <a:ext cx="587160" cy="520560"/>
          </a:xfrm>
          <a:prstGeom prst="rect">
            <a:avLst/>
          </a:prstGeom>
          <a:ln w="0">
            <a:noFill/>
          </a:ln>
        </p:spPr>
      </p:pic>
      <p:sp>
        <p:nvSpPr>
          <p:cNvPr id="1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Клиническая картина шок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90" name="Picture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495680"/>
          </a:xfrm>
          <a:prstGeom prst="rect">
            <a:avLst/>
          </a:prstGeom>
          <a:ln w="0">
            <a:noFill/>
          </a:ln>
        </p:spPr>
      </p:pic>
      <p:pic>
        <p:nvPicPr>
          <p:cNvPr id="191" name="Рисунок 20" descr="C:\Documents and Settings\Администратор\Рабочий стол\777\logo_fin.jpg"/>
          <p:cNvPicPr/>
          <p:nvPr/>
        </p:nvPicPr>
        <p:blipFill>
          <a:blip r:embed="rId2"/>
          <a:srcRect l="-1032" t="0" r="56774" b="0"/>
          <a:stretch/>
        </p:blipFill>
        <p:spPr>
          <a:xfrm>
            <a:off x="395280" y="549360"/>
            <a:ext cx="587520" cy="520560"/>
          </a:xfrm>
          <a:prstGeom prst="rect">
            <a:avLst/>
          </a:prstGeom>
          <a:ln w="0">
            <a:noFill/>
          </a:ln>
        </p:spPr>
      </p:pic>
      <p:sp>
        <p:nvSpPr>
          <p:cNvPr id="19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Клиническая картина шок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94" name="Picture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495680"/>
          </a:xfrm>
          <a:prstGeom prst="rect">
            <a:avLst/>
          </a:prstGeom>
          <a:ln w="0">
            <a:noFill/>
          </a:ln>
        </p:spPr>
      </p:pic>
      <p:pic>
        <p:nvPicPr>
          <p:cNvPr id="195" name="Рисунок 20" descr="C:\Documents and Settings\Администратор\Рабочий стол\777\logo_fin.jpg"/>
          <p:cNvPicPr/>
          <p:nvPr/>
        </p:nvPicPr>
        <p:blipFill>
          <a:blip r:embed="rId2"/>
          <a:srcRect l="-1032" t="0" r="56774" b="0"/>
          <a:stretch/>
        </p:blipFill>
        <p:spPr>
          <a:xfrm>
            <a:off x="395280" y="549360"/>
            <a:ext cx="587520" cy="520560"/>
          </a:xfrm>
          <a:prstGeom prst="rect">
            <a:avLst/>
          </a:prstGeom>
          <a:ln w="0">
            <a:noFill/>
          </a:ln>
        </p:spPr>
      </p:pic>
      <p:sp>
        <p:nvSpPr>
          <p:cNvPr id="19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Клиническая картина шок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98" name="Picture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495680"/>
          </a:xfrm>
          <a:prstGeom prst="rect">
            <a:avLst/>
          </a:prstGeom>
          <a:ln w="0">
            <a:noFill/>
          </a:ln>
        </p:spPr>
      </p:pic>
      <p:pic>
        <p:nvPicPr>
          <p:cNvPr id="199" name="Рисунок 20" descr="C:\Documents and Settings\Администратор\Рабочий стол\777\logo_fin.jpg"/>
          <p:cNvPicPr/>
          <p:nvPr/>
        </p:nvPicPr>
        <p:blipFill>
          <a:blip r:embed="rId2"/>
          <a:srcRect l="-1032" t="0" r="56774" b="0"/>
          <a:stretch/>
        </p:blipFill>
        <p:spPr>
          <a:xfrm>
            <a:off x="324000" y="549360"/>
            <a:ext cx="587160" cy="520560"/>
          </a:xfrm>
          <a:prstGeom prst="rect">
            <a:avLst/>
          </a:prstGeom>
          <a:ln w="0">
            <a:noFill/>
          </a:ln>
        </p:spPr>
      </p:pic>
      <p:sp>
        <p:nvSpPr>
          <p:cNvPr id="20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Классификация шок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В зависимости от тяжести состояния пострадавшего клинически различают </a:t>
            </a:r>
            <a:r>
              <a:rPr b="1" i="1" lang="ru-RU" sz="2400" spc="-1" strike="noStrike">
                <a:solidFill>
                  <a:srgbClr val="00ffcc"/>
                </a:solidFill>
                <a:latin typeface="Arial"/>
              </a:rPr>
              <a:t>4 стадии торпидного шок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ffcc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Шок 1 степени (легкий): общее состояние пострадавшего удовлетворительное, заторможенность не выражена, пульс 90-100 ударов в мин., удовлетворительного наполнения и напряжения, АД 95-100 мм, рт, ст. или выше. Температура тела нормальная или несколько сниженная. Прогноз благоприятны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3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971640" y="549360"/>
            <a:ext cx="587160" cy="520560"/>
          </a:xfrm>
          <a:prstGeom prst="rect">
            <a:avLst/>
          </a:prstGeom>
          <a:ln w="0">
            <a:noFill/>
          </a:ln>
        </p:spPr>
      </p:pic>
      <p:sp>
        <p:nvSpPr>
          <p:cNvPr id="2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Травматический шок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ffcc"/>
                </a:solidFill>
                <a:latin typeface="Arial"/>
              </a:rPr>
              <a:t>Травматический шок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 — тяжёлое, угрожающее </a:t>
            </a:r>
            <a:r>
              <a:rPr b="0" lang="ru-RU" sz="2400" spc="-1" strike="noStrike" u="sng">
                <a:solidFill>
                  <a:srgbClr val="00ffcc"/>
                </a:solidFill>
                <a:uFillTx/>
                <a:latin typeface="Arial"/>
                <a:hlinkClick r:id="rId1"/>
              </a:rPr>
              <a:t>жизни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ru-RU" sz="2400" spc="-1" strike="noStrike" u="sng">
                <a:solidFill>
                  <a:srgbClr val="00ffcc"/>
                </a:solidFill>
                <a:uFillTx/>
                <a:latin typeface="Arial"/>
                <a:hlinkClick r:id="rId2"/>
              </a:rPr>
              <a:t>больного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lang="ru-RU" sz="2400" spc="-1" strike="noStrike" u="sng">
                <a:solidFill>
                  <a:srgbClr val="00ffcc"/>
                </a:solidFill>
                <a:uFillTx/>
                <a:latin typeface="Arial"/>
                <a:hlinkClick r:id="rId3"/>
              </a:rPr>
              <a:t>патологическое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 состояние, возникающее при тяжёлых травмах, таких как переломы костей таза, тяжёлые огнестрельные ранения, черепно-мозговая травма, травма живота с повреждением внутренних органов и др., </a:t>
            </a:r>
            <a:r>
              <a:rPr b="0" lang="ru-RU" sz="2400" spc="-1" strike="noStrike" u="sng">
                <a:solidFill>
                  <a:srgbClr val="00ffcc"/>
                </a:solidFill>
                <a:uFillTx/>
                <a:latin typeface="Arial"/>
                <a:hlinkClick r:id="rId4"/>
              </a:rPr>
              <a:t>операциях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, большой потере </a:t>
            </a:r>
            <a:r>
              <a:rPr b="0" lang="ru-RU" sz="2400" spc="-1" strike="noStrike" u="sng">
                <a:solidFill>
                  <a:srgbClr val="00ffcc"/>
                </a:solidFill>
                <a:uFillTx/>
                <a:latin typeface="Arial"/>
                <a:hlinkClick r:id="rId5"/>
              </a:rPr>
              <a:t>крови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Травматический шок является ответной реакцией организма на тяжелую механическую травму или ожог. В зависимости от этиологии различают две формы травматического шока: шок от механической травмы и ожоговый шок</a:t>
            </a:r>
            <a:r>
              <a:rPr b="0" lang="ru-RU" sz="32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Рисунок 20" descr="C:\Documents and Settings\Администратор\Рабочий стол\777\logo_fin.jpg"/>
          <p:cNvPicPr/>
          <p:nvPr/>
        </p:nvPicPr>
        <p:blipFill>
          <a:blip r:embed="rId6"/>
          <a:srcRect l="-1032" t="0" r="56774" b="0"/>
          <a:stretch/>
        </p:blipFill>
        <p:spPr>
          <a:xfrm>
            <a:off x="971640" y="549360"/>
            <a:ext cx="587160" cy="520560"/>
          </a:xfrm>
          <a:prstGeom prst="rect">
            <a:avLst/>
          </a:prstGeom>
          <a:ln w="0">
            <a:noFill/>
          </a:ln>
        </p:spPr>
      </p:pic>
      <p:sp>
        <p:nvSpPr>
          <p:cNvPr id="13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Классификация шок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39640" y="12679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00ffcc"/>
                </a:solidFill>
                <a:latin typeface="Arial"/>
              </a:rPr>
              <a:t>Шок 2 степени (средний):</a:t>
            </a:r>
            <a:r>
              <a:rPr b="0" lang="ru-RU" sz="2000" spc="-1" strike="noStrike">
                <a:solidFill>
                  <a:srgbClr val="00ffcc"/>
                </a:solidFill>
                <a:latin typeface="Arial"/>
              </a:rPr>
              <a:t> выражена заторможенность, снижается температура тела, кожные покровы бледные, пульс 110-120 уд. в мин., слабого наполнения и напряжения, неровный, АД 90-75 мм, рт, ст., дыхание учащено, поверхностное. Прогноз серьезный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cc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ffcc"/>
                </a:solidFill>
                <a:latin typeface="Arial"/>
              </a:rPr>
              <a:t>Шок 3 степени (тяжелый):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 общее состояние тяжелое, резкая заторможенность, температура тела снижена, АД 75 мм, рт, ст., пульс 120-160 уд. в мин. очень слабого наполнения и напряжения, нитевидный, несосчитываемый. Прогноз очень серьезны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7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971640" y="549360"/>
            <a:ext cx="587160" cy="520560"/>
          </a:xfrm>
          <a:prstGeom prst="rect">
            <a:avLst/>
          </a:prstGeom>
          <a:ln w="0">
            <a:noFill/>
          </a:ln>
        </p:spPr>
      </p:pic>
      <p:sp>
        <p:nvSpPr>
          <p:cNvPr id="2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Классификация шок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68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ffcc"/>
                </a:solidFill>
                <a:latin typeface="Arial"/>
              </a:rPr>
              <a:t>Шок 4 степени (предагональное состояние):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 общее состояние крайне тяжелое, АД не определяется, пульс на лучевых артериях не выявляется, слабая пульсация крупных артерий, дыхание поверхностное, редкое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ffcc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Агональное состояние имеет те же признаки, что и предагональное, но сочетается с более выраженными дыхательными нарушениями типа Чайн-Стокса, цианоза и пр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1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971640" y="549360"/>
            <a:ext cx="587160" cy="520560"/>
          </a:xfrm>
          <a:prstGeom prst="rect">
            <a:avLst/>
          </a:prstGeom>
          <a:ln w="0">
            <a:noFill/>
          </a:ln>
        </p:spPr>
      </p:pic>
      <p:sp>
        <p:nvSpPr>
          <p:cNvPr id="21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Классификация шок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Клиническая смерть начинается с момента последнего вздоха и остановки сердца. Активная функция ЦНС и клинические признаки жизни у раненого полностью отсутствуют. Однако обменные процессы в мозговой ткани продолжаются еще в среднем 5-6 мин (чаще 3-5 мин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5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971640" y="549360"/>
            <a:ext cx="587160" cy="520560"/>
          </a:xfrm>
          <a:prstGeom prst="rect">
            <a:avLst/>
          </a:prstGeom>
          <a:ln w="0">
            <a:noFill/>
          </a:ln>
        </p:spPr>
      </p:pic>
      <p:sp>
        <p:nvSpPr>
          <p:cNvPr id="2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8000"/>
                </a:solidFill>
                <a:latin typeface="Arial"/>
              </a:rPr>
              <a:t>Лечение травматического шока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Лечение травматического шока состоит из оказания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Самопомощи, взаимопомощи и доврачебной помощи НА ПОЛЕ БОЯ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Самопомощи, взаимопомощи и доврачебной помощи В ОЧАГАХ МАССОВЫХ САНИТАРНЫХ ПОТЕРЬ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Врачебной помощи на МПП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9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324000" y="549360"/>
            <a:ext cx="587160" cy="520560"/>
          </a:xfrm>
          <a:prstGeom prst="rect">
            <a:avLst/>
          </a:prstGeom>
          <a:ln w="0">
            <a:noFill/>
          </a:ln>
        </p:spPr>
      </p:pic>
      <p:sp>
        <p:nvSpPr>
          <p:cNvPr id="2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8000"/>
                </a:solidFill>
                <a:latin typeface="Arial"/>
              </a:rPr>
              <a:t>Лечение травматического шока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На поле боя и в очагах массовых потерь, возникающих в случае поражения ядерным оружием, противошоковые мероприятия осуществляются в порядке оказания первой медицинской помощи. Эту помощь оказывают санитары и санитарные инструкторы, младший и средний медицинский персонал, включенный в состав спасательных команд, а также пострадавшие в порядке взаимопомощ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3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250920" y="549360"/>
            <a:ext cx="587160" cy="520560"/>
          </a:xfrm>
          <a:prstGeom prst="rect">
            <a:avLst/>
          </a:prstGeom>
          <a:ln w="0">
            <a:noFill/>
          </a:ln>
        </p:spPr>
      </p:pic>
      <p:sp>
        <p:nvSpPr>
          <p:cNvPr id="2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8000"/>
                </a:solidFill>
                <a:latin typeface="Arial"/>
              </a:rPr>
              <a:t>Лечение травматического шока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Меры первой медицинской помощи: тушение пламени и горящей одежды на пораженном, временная остановка кровотечения, устранение асфиксии (освобождение дыхательных путей от крови, слизи, земли, устранение западения языка, наложение окклюзионной повязки, придание бокового стабилизированного положения, введение S-образной трубки и др.), быстрый вынос тяжелораненых с поля боя и сосредоточение их в укрыт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7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324000" y="549360"/>
            <a:ext cx="587160" cy="520560"/>
          </a:xfrm>
          <a:prstGeom prst="rect">
            <a:avLst/>
          </a:prstGeom>
          <a:ln w="0">
            <a:noFill/>
          </a:ln>
        </p:spPr>
      </p:pic>
      <p:sp>
        <p:nvSpPr>
          <p:cNvPr id="2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8000"/>
                </a:solidFill>
                <a:latin typeface="Arial"/>
              </a:rPr>
              <a:t>Лечение травматического шока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230" name="Picture 4" descr=""/>
          <p:cNvPicPr/>
          <p:nvPr/>
        </p:nvPicPr>
        <p:blipFill>
          <a:blip r:embed="rId1"/>
          <a:stretch/>
        </p:blipFill>
        <p:spPr>
          <a:xfrm>
            <a:off x="684360" y="1844640"/>
            <a:ext cx="3311280" cy="360036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6" descr="220px-Antishock_body_position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003640" y="1844640"/>
            <a:ext cx="3672000" cy="3097080"/>
          </a:xfrm>
          <a:prstGeom prst="rect">
            <a:avLst/>
          </a:prstGeom>
          <a:ln w="0">
            <a:noFill/>
          </a:ln>
        </p:spPr>
      </p:pic>
      <p:sp>
        <p:nvSpPr>
          <p:cNvPr id="232" name="Rectangle 7"/>
          <p:cNvSpPr/>
          <p:nvPr/>
        </p:nvSpPr>
        <p:spPr>
          <a:xfrm>
            <a:off x="696600" y="3245760"/>
            <a:ext cx="318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днять ножной конец тел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Rectangle 8"/>
          <p:cNvSpPr/>
          <p:nvPr/>
        </p:nvSpPr>
        <p:spPr>
          <a:xfrm>
            <a:off x="4284720" y="4437000"/>
            <a:ext cx="3959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4" name="Рисунок 20" descr="C:\Documents and Settings\Администратор\Рабочий стол\777\logo_fin.jpg"/>
          <p:cNvPicPr/>
          <p:nvPr/>
        </p:nvPicPr>
        <p:blipFill>
          <a:blip r:embed="rId4"/>
          <a:srcRect l="-1032" t="0" r="56774" b="0"/>
          <a:stretch/>
        </p:blipFill>
        <p:spPr>
          <a:xfrm>
            <a:off x="324000" y="549360"/>
            <a:ext cx="587160" cy="520560"/>
          </a:xfrm>
          <a:prstGeom prst="rect">
            <a:avLst/>
          </a:prstGeom>
          <a:ln w="0">
            <a:noFill/>
          </a:ln>
        </p:spPr>
      </p:pic>
      <p:sp>
        <p:nvSpPr>
          <p:cNvPr id="2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8000"/>
                </a:solidFill>
                <a:latin typeface="Arial"/>
              </a:rPr>
              <a:t>Лечение травматического шока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237" name="Picture 4" descr=""/>
          <p:cNvPicPr/>
          <p:nvPr/>
        </p:nvPicPr>
        <p:blipFill>
          <a:blip r:embed="rId1"/>
          <a:stretch/>
        </p:blipFill>
        <p:spPr>
          <a:xfrm>
            <a:off x="1403280" y="1268280"/>
            <a:ext cx="6481800" cy="4681800"/>
          </a:xfrm>
          <a:prstGeom prst="rect">
            <a:avLst/>
          </a:prstGeom>
          <a:ln w="0">
            <a:noFill/>
          </a:ln>
        </p:spPr>
      </p:pic>
      <p:pic>
        <p:nvPicPr>
          <p:cNvPr id="238" name="Рисунок 20" descr="C:\Documents and Settings\Администратор\Рабочий стол\777\logo_fin.jpg"/>
          <p:cNvPicPr/>
          <p:nvPr/>
        </p:nvPicPr>
        <p:blipFill>
          <a:blip r:embed="rId2"/>
          <a:srcRect l="-1032" t="0" r="56774" b="0"/>
          <a:stretch/>
        </p:blipFill>
        <p:spPr>
          <a:xfrm>
            <a:off x="324000" y="549360"/>
            <a:ext cx="587160" cy="520560"/>
          </a:xfrm>
          <a:prstGeom prst="rect">
            <a:avLst/>
          </a:prstGeom>
          <a:ln w="0">
            <a:noFill/>
          </a:ln>
        </p:spPr>
      </p:pic>
      <p:sp>
        <p:nvSpPr>
          <p:cNvPr id="23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8000"/>
                </a:solidFill>
                <a:latin typeface="Arial"/>
              </a:rPr>
              <a:t>Лечение травматического шока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Обескровленные раненые с наложенными на поврежденные конечности жгутами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а также раненые в грудь с резкой одышкой должны выноситься с поля боя в первую очередь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2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395280" y="549360"/>
            <a:ext cx="587520" cy="520560"/>
          </a:xfrm>
          <a:prstGeom prst="rect">
            <a:avLst/>
          </a:prstGeom>
          <a:ln w="0">
            <a:noFill/>
          </a:ln>
        </p:spPr>
      </p:pic>
      <p:sp>
        <p:nvSpPr>
          <p:cNvPr id="24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8000"/>
                </a:solidFill>
                <a:latin typeface="Arial"/>
              </a:rPr>
              <a:t>Лечение травматического шока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Следующим мероприятием является иммобилизация области повреждения. Открытые повреждения следует защитить от вторичного загрязнения повязками. Организуется щадящая транспортировка. Необходимо предохранить раненых от переохлаждения, сырости и влияния др. неблагоприятных фактор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6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250920" y="549360"/>
            <a:ext cx="587160" cy="520560"/>
          </a:xfrm>
          <a:prstGeom prst="rect">
            <a:avLst/>
          </a:prstGeom>
          <a:ln w="0">
            <a:noFill/>
          </a:ln>
        </p:spPr>
      </p:pic>
      <p:sp>
        <p:nvSpPr>
          <p:cNvPr id="2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Травматический шок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38" name="Picture 4" descr=""/>
          <p:cNvPicPr/>
          <p:nvPr/>
        </p:nvPicPr>
        <p:blipFill>
          <a:blip r:embed="rId1"/>
          <a:stretch/>
        </p:blipFill>
        <p:spPr>
          <a:xfrm>
            <a:off x="2268360" y="2133720"/>
            <a:ext cx="4896000" cy="3382920"/>
          </a:xfrm>
          <a:prstGeom prst="rect">
            <a:avLst/>
          </a:prstGeom>
          <a:ln w="0">
            <a:noFill/>
          </a:ln>
        </p:spPr>
      </p:pic>
      <p:pic>
        <p:nvPicPr>
          <p:cNvPr id="139" name="Рисунок 20" descr="C:\Documents and Settings\Администратор\Рабочий стол\777\logo_fin.jpg"/>
          <p:cNvPicPr/>
          <p:nvPr/>
        </p:nvPicPr>
        <p:blipFill>
          <a:blip r:embed="rId2"/>
          <a:srcRect l="-1032" t="0" r="56774" b="0"/>
          <a:stretch/>
        </p:blipFill>
        <p:spPr>
          <a:xfrm>
            <a:off x="971640" y="549360"/>
            <a:ext cx="587160" cy="520560"/>
          </a:xfrm>
          <a:prstGeom prst="rect">
            <a:avLst/>
          </a:prstGeom>
          <a:ln w="0">
            <a:noFill/>
          </a:ln>
        </p:spPr>
      </p:pic>
      <p:sp>
        <p:nvSpPr>
          <p:cNvPr id="1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8000"/>
                </a:solidFill>
                <a:latin typeface="Arial"/>
              </a:rPr>
              <a:t>Лечение травматического шока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ffcc"/>
                </a:solidFill>
                <a:latin typeface="Arial"/>
              </a:rPr>
              <a:t>На мп противошоковые мероприятия осуществляет фельдшер в порядке оказания доврачебной медицинской помощи. В большинстве случаев это те же меры, что и при оказании первой медицинской помощи, но выполняются они более квалифицированно, при лучшей обеспеченности необходимыми средствами и несколько лучших условиях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ffcc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При тяжелых нарушениях дыхания следует произвести туалет полостей рта и носоглотки, устранить западение корня языка, ввести и закрепить воздуховод, восстановить проходимость верхних дыхательных путей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0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179280" y="549360"/>
            <a:ext cx="587520" cy="520560"/>
          </a:xfrm>
          <a:prstGeom prst="rect">
            <a:avLst/>
          </a:prstGeom>
          <a:ln w="0">
            <a:noFill/>
          </a:ln>
        </p:spPr>
      </p:pic>
      <p:sp>
        <p:nvSpPr>
          <p:cNvPr id="2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8000"/>
                </a:solidFill>
                <a:latin typeface="Arial"/>
              </a:rPr>
              <a:t>Лечение травматического шока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68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При открытом пневмотораксе необходимо наложить окклюзионную повязку, для этого может быть использована полиэтиленовая, целофановая пленка или клеенка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Одновременно и без промедления нужно остановить и наружное кровотечение наложением жгута или давящей повязки, неправильно наложенный жгут исправить, а импровизированный - заменить табельным. Затем на рану наложить асептическую повязку, исправить или заменить "сбившуюся" повязку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4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179280" y="549360"/>
            <a:ext cx="587520" cy="520560"/>
          </a:xfrm>
          <a:prstGeom prst="rect">
            <a:avLst/>
          </a:prstGeom>
          <a:ln w="0">
            <a:noFill/>
          </a:ln>
        </p:spPr>
      </p:pic>
      <p:sp>
        <p:nvSpPr>
          <p:cNvPr id="2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8000"/>
                </a:solidFill>
                <a:latin typeface="Arial"/>
              </a:rPr>
              <a:t>Лечение травматического шока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ffcc"/>
                </a:solidFill>
                <a:latin typeface="Arial"/>
              </a:rPr>
              <a:t>При переломах костей, повреждениях магистральных сосудов и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крупных нервов производится тщательная иммобилизация транспортными шинами, исправляются неправильно наложенные шины, импровизированные шины при необходимости заменяются табельным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Предварительно производятся инъекции анальгетиков и седативных средств: пантопон или промедол (1-2 мл 2% р-ра), димедрол (2 мл 2% р-ра), внутримышечно или внутривенно медленно, используются аутоаналгететеры "Трингал". При отсутствии противопоказаний (проникающее ранение и закрытая травма живота) следует давать горячее пить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8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179280" y="549360"/>
            <a:ext cx="587520" cy="520560"/>
          </a:xfrm>
          <a:prstGeom prst="rect">
            <a:avLst/>
          </a:prstGeom>
          <a:ln w="0">
            <a:noFill/>
          </a:ln>
        </p:spPr>
      </p:pic>
      <p:sp>
        <p:nvSpPr>
          <p:cNvPr id="2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8000"/>
                </a:solidFill>
                <a:latin typeface="Arial"/>
              </a:rPr>
              <a:t>Лечение травматического шока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Раненых с признаками шока после оказания им помощи в указанном объеме нужно немедленно направлять на мпп в реанимационное отделение. Транспорт для транспортировки должен быть максимально щадящим, а сроки доставки - предельно коротким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2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179280" y="549360"/>
            <a:ext cx="587520" cy="520560"/>
          </a:xfrm>
          <a:prstGeom prst="rect">
            <a:avLst/>
          </a:prstGeom>
          <a:ln w="0">
            <a:noFill/>
          </a:ln>
        </p:spPr>
      </p:pic>
      <p:sp>
        <p:nvSpPr>
          <p:cNvPr id="2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8000"/>
                </a:solidFill>
                <a:latin typeface="Arial"/>
              </a:rPr>
              <a:t>Лечение травматического шока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Специализированная помощь при шоке осуществляется в отделениях реанимации и интенсивной терап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6" name="Picture 4" descr="250px-Intensivstation_%2801%29_2007-03-0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340000" y="3284640"/>
            <a:ext cx="4319640" cy="2592360"/>
          </a:xfrm>
          <a:prstGeom prst="rect">
            <a:avLst/>
          </a:prstGeom>
          <a:ln w="0">
            <a:noFill/>
          </a:ln>
        </p:spPr>
      </p:pic>
      <p:pic>
        <p:nvPicPr>
          <p:cNvPr id="267" name="Рисунок 20" descr="C:\Documents and Settings\Администратор\Рабочий стол\777\logo_fin.jpg"/>
          <p:cNvPicPr/>
          <p:nvPr/>
        </p:nvPicPr>
        <p:blipFill>
          <a:blip r:embed="rId3"/>
          <a:srcRect l="-1032" t="0" r="56774" b="0"/>
          <a:stretch/>
        </p:blipFill>
        <p:spPr>
          <a:xfrm>
            <a:off x="179280" y="549360"/>
            <a:ext cx="587520" cy="520560"/>
          </a:xfrm>
          <a:prstGeom prst="rect">
            <a:avLst/>
          </a:prstGeom>
          <a:ln w="0">
            <a:noFill/>
          </a:ln>
        </p:spPr>
      </p:pic>
      <p:sp>
        <p:nvSpPr>
          <p:cNvPr id="2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8000"/>
                </a:solidFill>
                <a:latin typeface="Arial"/>
              </a:rPr>
              <a:t>Лечение травматического шока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Все раненые с признаками шока на мпп в процессе медицинской сортировки распределяются на три группы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Первая - раненые, которые одновременно нуждаются в энергичной противошоковой терапии и в экстренных (по жизненным показаниям) оперативных вмешательствах. У раненых этой группы симптомы шока и тяжесть состояния обычно определяются повреждением внутренних органов и внутренним кровотечением. Чаще всего эту группу составляют раненые с повреждениями органов груди, живота, таза, магистральных сосудов и с разрушением (отрывами) конечностей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1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179280" y="549360"/>
            <a:ext cx="587520" cy="520560"/>
          </a:xfrm>
          <a:prstGeom prst="rect">
            <a:avLst/>
          </a:prstGeom>
          <a:ln w="0">
            <a:noFill/>
          </a:ln>
        </p:spPr>
      </p:pic>
      <p:sp>
        <p:nvSpPr>
          <p:cNvPr id="2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8000"/>
                </a:solidFill>
                <a:latin typeface="Arial"/>
              </a:rPr>
              <a:t>Лечение травматического шока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У раненых этой группы противошоковые мероприятия должны быть направлены лишь на устранение критической степени расстройств дыхания (при необходимости - аппаратная ИВЛ) и кровообращения, без чего эвакуация на следующий этап может закончиться смертью в пути. Их после быстрого оказания самого необходимого противошокового и реанимационного пособия нужно незамедлительно эвакуировать в омедб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5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179280" y="549360"/>
            <a:ext cx="587520" cy="520560"/>
          </a:xfrm>
          <a:prstGeom prst="rect">
            <a:avLst/>
          </a:prstGeom>
          <a:ln w="0">
            <a:noFill/>
          </a:ln>
        </p:spPr>
      </p:pic>
      <p:sp>
        <p:nvSpPr>
          <p:cNvPr id="27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8000"/>
                </a:solidFill>
                <a:latin typeface="Arial"/>
              </a:rPr>
              <a:t>Лечение травматического шока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Вторую группу составляют раненые, у которых шок возник в результате повреждений, не требующих неотложных оперативных вмешательств или вообще оперативного лечения. К таким повреждениям относятся огнестрельные и неогнестрельные (открытые и закрытые) переломы костей конечностей, без признаков повреждений магистральных сосудов и кровотечений. При массовом поступлении и затруднении с транспортом раненых этой группы, после оказания им в сортировочной палатке или в перевязочной необходимой противошоковой помощи, вынужденно придется эвакуировать в омедб во вторую очеред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9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179280" y="549360"/>
            <a:ext cx="587520" cy="520560"/>
          </a:xfrm>
          <a:prstGeom prst="rect">
            <a:avLst/>
          </a:prstGeom>
          <a:ln w="0">
            <a:noFill/>
          </a:ln>
        </p:spPr>
      </p:pic>
      <p:sp>
        <p:nvSpPr>
          <p:cNvPr id="2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8000"/>
                </a:solidFill>
                <a:latin typeface="Arial"/>
              </a:rPr>
              <a:t>Лечение травматического шока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В третью группу следует отнести пострадавших в терминальном состоянии, у которых имеются ранения, явно не совместимые с жизнью. Такие раненые нуждаются в минимальной помощи, облегчаю   щей страда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Помощь раненым в зависимости от сортировочной группы, должна быть оказана непосредственно на сортировочной площадке, в сортировочной палатке, или, чаще, в перевязочно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3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179280" y="549360"/>
            <a:ext cx="587520" cy="520560"/>
          </a:xfrm>
          <a:prstGeom prst="rect">
            <a:avLst/>
          </a:prstGeom>
          <a:ln w="0">
            <a:noFill/>
          </a:ln>
        </p:spPr>
      </p:pic>
      <p:sp>
        <p:nvSpPr>
          <p:cNvPr id="2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8000"/>
                </a:solidFill>
                <a:latin typeface="Arial"/>
              </a:rPr>
              <a:t>Лечение травматического шока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При шоке первая помощь тем эффективней, чем раньше она оказана. Она должна быть направлена на устранение причин шока (снятие или уменьшение болей, остановка кровотечения, проведение мероприятий, обеспечивающих улучшение дыхания и сердечной деятельности и предупреждающих общее охлаждение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7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179280" y="549360"/>
            <a:ext cx="587520" cy="520560"/>
          </a:xfrm>
          <a:prstGeom prst="rect">
            <a:avLst/>
          </a:prstGeom>
          <a:ln w="0">
            <a:noFill/>
          </a:ln>
        </p:spPr>
      </p:pic>
      <p:sp>
        <p:nvSpPr>
          <p:cNvPr id="2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Травматический шок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42" name="Picture 4" descr=""/>
          <p:cNvPicPr/>
          <p:nvPr/>
        </p:nvPicPr>
        <p:blipFill>
          <a:blip r:embed="rId1"/>
          <a:stretch/>
        </p:blipFill>
        <p:spPr>
          <a:xfrm>
            <a:off x="2195640" y="2060640"/>
            <a:ext cx="4392360" cy="3097080"/>
          </a:xfrm>
          <a:prstGeom prst="rect">
            <a:avLst/>
          </a:prstGeom>
          <a:ln w="0">
            <a:noFill/>
          </a:ln>
        </p:spPr>
      </p:pic>
      <p:pic>
        <p:nvPicPr>
          <p:cNvPr id="143" name="Рисунок 20" descr="C:\Documents and Settings\Администратор\Рабочий стол\777\logo_fin.jpg"/>
          <p:cNvPicPr/>
          <p:nvPr/>
        </p:nvPicPr>
        <p:blipFill>
          <a:blip r:embed="rId2"/>
          <a:srcRect l="-1032" t="0" r="56774" b="0"/>
          <a:stretch/>
        </p:blipFill>
        <p:spPr>
          <a:xfrm>
            <a:off x="971640" y="549360"/>
            <a:ext cx="587160" cy="520560"/>
          </a:xfrm>
          <a:prstGeom prst="rect">
            <a:avLst/>
          </a:prstGeom>
          <a:ln w="0">
            <a:noFill/>
          </a:ln>
        </p:spPr>
      </p:pic>
      <p:sp>
        <p:nvSpPr>
          <p:cNvPr id="14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8000"/>
                </a:solidFill>
                <a:latin typeface="Arial"/>
              </a:rPr>
              <a:t>Лечение травматического шока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В комплексе профилактических и лечебных противошоковых мероприятий важное значение имеет устранение боли, отрицательных рефлекторных реакций и неблагоприятного психического напряжения. С этой целью применяются анальгетики, нейролептики, новокаиновые блокады и щадящая иммобилизация и транспортировк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Уменьшение болей достигается приданием больному или поврежденной конечности положения, при котором меньше условий для усиления болей, поведением надежной иммобилизации поврежденной части тела, дачей обезболивающих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1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179280" y="549360"/>
            <a:ext cx="587520" cy="520560"/>
          </a:xfrm>
          <a:prstGeom prst="rect">
            <a:avLst/>
          </a:prstGeom>
          <a:ln w="0">
            <a:noFill/>
          </a:ln>
        </p:spPr>
      </p:pic>
      <p:sp>
        <p:nvSpPr>
          <p:cNvPr id="29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8000"/>
                </a:solidFill>
                <a:latin typeface="Arial"/>
              </a:rPr>
              <a:t>Лечение травматического шока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13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2000" spc="-1" strike="noStrike">
                <a:solidFill>
                  <a:srgbClr val="00ffcc"/>
                </a:solidFill>
                <a:latin typeface="Arial"/>
              </a:rPr>
              <a:t>По возможности следует обеспечить доступное неспециалисту обезболивание — побрызгать «заморозкой» или приложить к ране холод (пузырь со льдом или холодную воду), дать 1—2 таблетки любого из имеющихся под рукой ненаркотических анальгетиков типа </a:t>
            </a:r>
            <a:r>
              <a:rPr b="0" lang="ru-RU" sz="2000" spc="-1" strike="noStrike" u="sng">
                <a:solidFill>
                  <a:srgbClr val="00ffcc"/>
                </a:solidFill>
                <a:uFillTx/>
                <a:latin typeface="Arial"/>
                <a:hlinkClick r:id="rId1"/>
              </a:rPr>
              <a:t>анальгина</a:t>
            </a:r>
            <a:r>
              <a:rPr b="0" lang="ru-RU" sz="20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lang="ru-RU" sz="2000" spc="-1" strike="noStrike" u="sng">
                <a:solidFill>
                  <a:srgbClr val="00ffcc"/>
                </a:solidFill>
                <a:uFillTx/>
                <a:latin typeface="Arial"/>
                <a:hlinkClick r:id="rId2"/>
              </a:rPr>
              <a:t>аспирина</a:t>
            </a:r>
            <a:r>
              <a:rPr b="0" lang="ru-RU" sz="20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lang="ru-RU" sz="2000" spc="-1" strike="noStrike" u="sng">
                <a:solidFill>
                  <a:srgbClr val="00ffcc"/>
                </a:solidFill>
                <a:uFillTx/>
                <a:latin typeface="Arial"/>
                <a:hlinkClick r:id="rId3"/>
              </a:rPr>
              <a:t>кеторолака</a:t>
            </a:r>
            <a:r>
              <a:rPr b="0" lang="ru-RU" sz="2000" spc="-1" strike="noStrike">
                <a:solidFill>
                  <a:srgbClr val="00ffcc"/>
                </a:solidFill>
                <a:latin typeface="Arial"/>
              </a:rPr>
              <a:t> (при условии, что у больного на них нет аллергии) или, что лучше, сделать инъекцию ненаркотического анальгетика. Предпочтительно давать ненаркотический анальгетик помощне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ffcc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ffcc"/>
                </a:solidFill>
                <a:latin typeface="Arial"/>
              </a:rPr>
              <a:t>При этом не следует использовать </a:t>
            </a:r>
            <a:r>
              <a:rPr b="0" lang="ru-RU" sz="2000" spc="-1" strike="noStrike" u="sng">
                <a:solidFill>
                  <a:srgbClr val="00ffcc"/>
                </a:solidFill>
                <a:uFillTx/>
                <a:latin typeface="Arial"/>
                <a:hlinkClick r:id="rId4"/>
              </a:rPr>
              <a:t>морфин</a:t>
            </a:r>
            <a:r>
              <a:rPr b="0" lang="ru-RU" sz="2000" spc="-1" strike="noStrike">
                <a:solidFill>
                  <a:srgbClr val="00ffcc"/>
                </a:solidFill>
                <a:latin typeface="Arial"/>
              </a:rPr>
              <a:t> (он сильно снижает артериальное давление и сильно угнетает дыхание, сильнее других наркотиков вызывает сонливость и заторможенность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5" name="Рисунок 20" descr="C:\Documents and Settings\Администратор\Рабочий стол\777\logo_fin.jpg"/>
          <p:cNvPicPr/>
          <p:nvPr/>
        </p:nvPicPr>
        <p:blipFill>
          <a:blip r:embed="rId5"/>
          <a:srcRect l="-1032" t="0" r="56774" b="0"/>
          <a:stretch/>
        </p:blipFill>
        <p:spPr>
          <a:xfrm>
            <a:off x="179280" y="549360"/>
            <a:ext cx="587520" cy="520560"/>
          </a:xfrm>
          <a:prstGeom prst="rect">
            <a:avLst/>
          </a:prstGeom>
          <a:ln w="0">
            <a:noFill/>
          </a:ln>
        </p:spPr>
      </p:pic>
      <p:sp>
        <p:nvSpPr>
          <p:cNvPr id="29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8000"/>
                </a:solidFill>
                <a:latin typeface="Arial"/>
              </a:rPr>
              <a:t>Лечение травматического шока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По возможности следует обеспечить доступное неспециалисту снятие нервно—психического стресса (который тоже усугубляет шок): дачу 1—2 таблеток любого имеющегося бензодиазепинового </a:t>
            </a:r>
            <a:r>
              <a:rPr b="0" lang="ru-RU" sz="2400" spc="-1" strike="noStrike" u="sng">
                <a:solidFill>
                  <a:srgbClr val="00ffcc"/>
                </a:solidFill>
                <a:uFillTx/>
                <a:latin typeface="Arial"/>
                <a:hlinkClick r:id="rId1"/>
              </a:rPr>
              <a:t>транквилизатора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 или 40—50 капель </a:t>
            </a:r>
            <a:r>
              <a:rPr b="0" lang="ru-RU" sz="2400" spc="-1" strike="noStrike" u="sng">
                <a:solidFill>
                  <a:srgbClr val="00ffcc"/>
                </a:solidFill>
                <a:uFillTx/>
                <a:latin typeface="Arial"/>
                <a:hlinkClick r:id="rId2"/>
              </a:rPr>
              <a:t>корвалола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lang="ru-RU" sz="2400" spc="-1" strike="noStrike" u="sng">
                <a:solidFill>
                  <a:srgbClr val="00ffcc"/>
                </a:solidFill>
                <a:uFillTx/>
                <a:latin typeface="Arial"/>
                <a:hlinkClick r:id="rId3"/>
              </a:rPr>
              <a:t>валокордина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, или небольшого количества крепкого </a:t>
            </a:r>
            <a:r>
              <a:rPr b="0" lang="ru-RU" sz="2400" spc="-1" strike="noStrike" u="sng">
                <a:solidFill>
                  <a:srgbClr val="00ffcc"/>
                </a:solidFill>
                <a:uFillTx/>
                <a:latin typeface="Arial"/>
                <a:hlinkClick r:id="rId4"/>
              </a:rPr>
              <a:t>спиртного напитка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9" name="Рисунок 20" descr="C:\Documents and Settings\Администратор\Рабочий стол\777\logo_fin.jpg"/>
          <p:cNvPicPr/>
          <p:nvPr/>
        </p:nvPicPr>
        <p:blipFill>
          <a:blip r:embed="rId5"/>
          <a:srcRect l="-1032" t="0" r="56774" b="0"/>
          <a:stretch/>
        </p:blipFill>
        <p:spPr>
          <a:xfrm>
            <a:off x="179280" y="549360"/>
            <a:ext cx="587520" cy="520560"/>
          </a:xfrm>
          <a:prstGeom prst="rect">
            <a:avLst/>
          </a:prstGeom>
          <a:ln w="0">
            <a:noFill/>
          </a:ln>
        </p:spPr>
      </p:pic>
      <p:sp>
        <p:nvSpPr>
          <p:cNvPr id="30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8000"/>
                </a:solidFill>
                <a:latin typeface="Arial"/>
              </a:rPr>
              <a:t>Лечение травматического шока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Инфузионную терапию с целью восполнения ОЦК на мпп нужно проводить по строгим показаниям. Она предназначена, главным образом, при гипотонии, обусловленной наружной кровопотерей, и только после остановки кровотечения, хотя бы и временной. Именно для таких раненых целесообразно использовать те небольшие запасы крови, которыми располагает мпп. В качестве плазмозаменителей используют полиглюкин, лактасол, физиологический раствор хлористого натрия, 10% р-р глюкозы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3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179280" y="549360"/>
            <a:ext cx="587520" cy="520560"/>
          </a:xfrm>
          <a:prstGeom prst="rect">
            <a:avLst/>
          </a:prstGeom>
          <a:ln w="0">
            <a:noFill/>
          </a:ln>
        </p:spPr>
      </p:pic>
      <p:sp>
        <p:nvSpPr>
          <p:cNvPr id="3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8000"/>
                </a:solidFill>
                <a:latin typeface="Arial"/>
              </a:rPr>
              <a:t>Лечение травматического шока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306" name="Picture 4" descr=""/>
          <p:cNvPicPr/>
          <p:nvPr/>
        </p:nvPicPr>
        <p:blipFill>
          <a:blip r:embed="rId1"/>
          <a:stretch/>
        </p:blipFill>
        <p:spPr>
          <a:xfrm>
            <a:off x="2268360" y="1916280"/>
            <a:ext cx="4464360" cy="3528720"/>
          </a:xfrm>
          <a:prstGeom prst="rect">
            <a:avLst/>
          </a:prstGeom>
          <a:ln w="0">
            <a:noFill/>
          </a:ln>
        </p:spPr>
      </p:pic>
      <p:pic>
        <p:nvPicPr>
          <p:cNvPr id="307" name="Рисунок 20" descr="C:\Documents and Settings\Администратор\Рабочий стол\777\logo_fin.jpg"/>
          <p:cNvPicPr/>
          <p:nvPr/>
        </p:nvPicPr>
        <p:blipFill>
          <a:blip r:embed="rId2"/>
          <a:srcRect l="-1032" t="0" r="56774" b="0"/>
          <a:stretch/>
        </p:blipFill>
        <p:spPr>
          <a:xfrm>
            <a:off x="179280" y="549360"/>
            <a:ext cx="587520" cy="520560"/>
          </a:xfrm>
          <a:prstGeom prst="rect">
            <a:avLst/>
          </a:prstGeom>
          <a:ln w="0">
            <a:noFill/>
          </a:ln>
        </p:spPr>
      </p:pic>
      <p:sp>
        <p:nvSpPr>
          <p:cNvPr id="3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8000"/>
                </a:solidFill>
                <a:latin typeface="Arial"/>
              </a:rPr>
              <a:t>Лечение травматического шока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- Проведение новокаиновых блокад по А.В.Вишневскому (шейная вагосимпатическая, поясничная паранефральная, футлярная при поражении конечности)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- В/в или в/а вливания крови, плазмы крови, альбумина, противошоковых жидкостей, реополиглюкин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- Введение сердечно - сосудистых средств (строфантин, корглюкон), в тяжелых случаях показаны адреномиметические средства (эфедрин, мезатон, норадреналин) и глюкокортикоиды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1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179280" y="549360"/>
            <a:ext cx="587520" cy="520560"/>
          </a:xfrm>
          <a:prstGeom prst="rect">
            <a:avLst/>
          </a:prstGeom>
          <a:ln w="0">
            <a:noFill/>
          </a:ln>
        </p:spPr>
      </p:pic>
      <p:sp>
        <p:nvSpPr>
          <p:cNvPr id="31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8000"/>
                </a:solidFill>
                <a:latin typeface="Arial"/>
              </a:rPr>
              <a:t>Лечение травматического шока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ffcc"/>
                </a:solidFill>
                <a:latin typeface="Arial"/>
              </a:rPr>
              <a:t>-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Ингаляции увлажненного кислорода, инъекции лобелина, в тяжелых случаях – искусственная вентиляция легких с помощью респираторов или интубация трахе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-  Введение витаминов, особенно аскорбиновой кислоты и витамина В¹, хлорида кальция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- Введение противостолбнячной сыворотки и анатоксина, антибиотик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- Проведение нейролептанальгез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5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179280" y="549360"/>
            <a:ext cx="587520" cy="520560"/>
          </a:xfrm>
          <a:prstGeom prst="rect">
            <a:avLst/>
          </a:prstGeom>
          <a:ln w="0">
            <a:noFill/>
          </a:ln>
        </p:spPr>
      </p:pic>
      <p:sp>
        <p:nvSpPr>
          <p:cNvPr id="3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Профилактика шок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ffcc"/>
                </a:solidFill>
                <a:latin typeface="Arial"/>
              </a:rPr>
              <a:t>ПРОФИЛАКТИКА травматического шока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Воздержаться от оперативного вмешательства (только по жизненным показаниям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Хорошая иммобилизация при переломах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Хорошая анальгезия, седативные препарат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9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1187280" y="476280"/>
            <a:ext cx="587520" cy="520560"/>
          </a:xfrm>
          <a:prstGeom prst="rect">
            <a:avLst/>
          </a:prstGeom>
          <a:ln w="0">
            <a:noFill/>
          </a:ln>
        </p:spPr>
      </p:pic>
      <p:sp>
        <p:nvSpPr>
          <p:cNvPr id="3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Ожоговый шок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Ожоговый шок - клинический синдром, возникающий при глубоких ожогах, занимающих у взрослых более 15% поверхности тела, а у детей от 5—10%. Он представляет собой разновидность травматического шока и развивается при воздействии на кожу , дыхательные пути огня во время взрывов, пожар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3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1547640" y="549360"/>
            <a:ext cx="587520" cy="520560"/>
          </a:xfrm>
          <a:prstGeom prst="rect">
            <a:avLst/>
          </a:prstGeom>
          <a:ln w="0">
            <a:noFill/>
          </a:ln>
        </p:spPr>
      </p:pic>
      <p:sp>
        <p:nvSpPr>
          <p:cNvPr id="3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Ожоговый шок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326" name="Picture 4" descr=""/>
          <p:cNvPicPr/>
          <p:nvPr/>
        </p:nvPicPr>
        <p:blipFill>
          <a:blip r:embed="rId1"/>
          <a:stretch/>
        </p:blipFill>
        <p:spPr>
          <a:xfrm>
            <a:off x="1835280" y="1916280"/>
            <a:ext cx="4927320" cy="3929040"/>
          </a:xfrm>
          <a:prstGeom prst="rect">
            <a:avLst/>
          </a:prstGeom>
          <a:ln w="0">
            <a:noFill/>
          </a:ln>
        </p:spPr>
      </p:pic>
      <p:pic>
        <p:nvPicPr>
          <p:cNvPr id="327" name="Рисунок 20" descr="C:\Documents and Settings\Администратор\Рабочий стол\777\logo_fin.jpg"/>
          <p:cNvPicPr/>
          <p:nvPr/>
        </p:nvPicPr>
        <p:blipFill>
          <a:blip r:embed="rId2"/>
          <a:srcRect l="-1032" t="0" r="56774" b="0"/>
          <a:stretch/>
        </p:blipFill>
        <p:spPr>
          <a:xfrm>
            <a:off x="1835280" y="549360"/>
            <a:ext cx="587160" cy="520560"/>
          </a:xfrm>
          <a:prstGeom prst="rect">
            <a:avLst/>
          </a:prstGeom>
          <a:ln w="0">
            <a:noFill/>
          </a:ln>
        </p:spPr>
      </p:pic>
      <p:sp>
        <p:nvSpPr>
          <p:cNvPr id="3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Травматический шок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Развитию шока способствует кровопотеря, охлаждение, физическое утомление, психическая травма, голодание, авитаминоз. Поздний вынос раненных, вторичная травматизация в процессе эвакуации, запоздалая и неполноценная медицинская помощь влекут за собой учащение случаев шок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ffcc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В мирное время в связи с насыщенностью сложной техникой, высоким ритмом быта, регистрируются много травм, которые нередко осложняются травматическим шоко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971640" y="549360"/>
            <a:ext cx="587160" cy="520560"/>
          </a:xfrm>
          <a:prstGeom prst="rect">
            <a:avLst/>
          </a:prstGeom>
          <a:ln w="0">
            <a:noFill/>
          </a:ln>
        </p:spPr>
      </p:pic>
      <p:sp>
        <p:nvSpPr>
          <p:cNvPr id="14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Ожоговый шок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В течении ожоговой болезни выделяют 4 периода: I — ожоговый шок; II — острая ожоговая токсемия; III — септикотоксемия; IV—реконвалесценц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Ожоговый шок является первой стадией ожоговой болезни. На тяжесть шока ре- шающее влияние оказывает общая площадь ожога, глубина поражения. Так ожоговый шок развивается при площади глубокого ожога равной 9-10% поверхности тел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1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1908000" y="620640"/>
            <a:ext cx="587520" cy="520920"/>
          </a:xfrm>
          <a:prstGeom prst="rect">
            <a:avLst/>
          </a:prstGeom>
          <a:ln w="0">
            <a:noFill/>
          </a:ln>
        </p:spPr>
      </p:pic>
      <p:sp>
        <p:nvSpPr>
          <p:cNvPr id="3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Причина ожогового шок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334" name="Picture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495680"/>
          </a:xfrm>
          <a:prstGeom prst="rect">
            <a:avLst/>
          </a:prstGeom>
          <a:ln w="0">
            <a:noFill/>
          </a:ln>
        </p:spPr>
      </p:pic>
      <p:pic>
        <p:nvPicPr>
          <p:cNvPr id="335" name="Рисунок 20" descr="C:\Documents and Settings\Администратор\Рабочий стол\777\logo_fin.jpg"/>
          <p:cNvPicPr/>
          <p:nvPr/>
        </p:nvPicPr>
        <p:blipFill>
          <a:blip r:embed="rId2"/>
          <a:srcRect l="-1032" t="0" r="56774" b="0"/>
          <a:stretch/>
        </p:blipFill>
        <p:spPr>
          <a:xfrm>
            <a:off x="826920" y="549360"/>
            <a:ext cx="587520" cy="520560"/>
          </a:xfrm>
          <a:prstGeom prst="rect">
            <a:avLst/>
          </a:prstGeom>
          <a:ln w="0">
            <a:noFill/>
          </a:ln>
        </p:spPr>
      </p:pic>
      <p:sp>
        <p:nvSpPr>
          <p:cNvPr id="33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Ожоговый шок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В патогенезе играют нервно - болевые влияния. В основе патогенеза лежат боль и перераздражение ц.н.с., большая плазмопотеря, сгущение крови, образование токсических, биологически активных веществ в зоне ожогового некроза, что ведет к острым тяжелым расстройствам центральной и регионарной гемодинамики, микроциркуляции, нарушениям кислотно-щелочного состояния и водно-солевого равновеси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9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1908000" y="620640"/>
            <a:ext cx="587520" cy="520920"/>
          </a:xfrm>
          <a:prstGeom prst="rect">
            <a:avLst/>
          </a:prstGeom>
          <a:ln w="0">
            <a:noFill/>
          </a:ln>
        </p:spPr>
      </p:pic>
      <p:sp>
        <p:nvSpPr>
          <p:cNvPr id="3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Патогенез ожогового шок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342" name="Picture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495680"/>
          </a:xfrm>
          <a:prstGeom prst="rect">
            <a:avLst/>
          </a:prstGeom>
          <a:ln w="0">
            <a:noFill/>
          </a:ln>
        </p:spPr>
      </p:pic>
      <p:pic>
        <p:nvPicPr>
          <p:cNvPr id="343" name="Рисунок 20" descr="C:\Documents and Settings\Администратор\Рабочий стол\777\logo_fin.jpg"/>
          <p:cNvPicPr/>
          <p:nvPr/>
        </p:nvPicPr>
        <p:blipFill>
          <a:blip r:embed="rId2"/>
          <a:srcRect l="-1032" t="0" r="56774" b="0"/>
          <a:stretch/>
        </p:blipFill>
        <p:spPr>
          <a:xfrm>
            <a:off x="539640" y="549360"/>
            <a:ext cx="587520" cy="520560"/>
          </a:xfrm>
          <a:prstGeom prst="rect">
            <a:avLst/>
          </a:prstGeom>
          <a:ln w="0">
            <a:noFill/>
          </a:ln>
        </p:spPr>
      </p:pic>
      <p:sp>
        <p:nvSpPr>
          <p:cNvPr id="34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Ожоговый шок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С первых часов развивается острая сосудистая недостаточность. Генерализованный спазм периферических артерий способствует сохранению функций органов и систем, в ближайшие 1-2 часа начинается снижение ОЦК, нарастающее на протяжении 2 суток, из - за плазмопотери (до 3 г/сут. белка), гиперкоагуляция, приводящая к тромбозам. Олигурия связана со спазмом артер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7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1908000" y="620640"/>
            <a:ext cx="587520" cy="520920"/>
          </a:xfrm>
          <a:prstGeom prst="rect">
            <a:avLst/>
          </a:prstGeom>
          <a:ln w="0">
            <a:noFill/>
          </a:ln>
        </p:spPr>
      </p:pic>
      <p:sp>
        <p:nvSpPr>
          <p:cNvPr id="34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Ожоговый шок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В течении ожогового шока наблюдается, как и при травматическом шоке, развитие вначале эректильной, а затем торпидной фазы шока, а также различаются 4 степени тяжести в зависимости от обширности ожогов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1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1908000" y="620640"/>
            <a:ext cx="587520" cy="520920"/>
          </a:xfrm>
          <a:prstGeom prst="rect">
            <a:avLst/>
          </a:prstGeom>
          <a:ln w="0">
            <a:noFill/>
          </a:ln>
        </p:spPr>
      </p:pic>
      <p:sp>
        <p:nvSpPr>
          <p:cNvPr id="3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Ожоговый шок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I (легкая) степень возникает при поверхностных ожогах, занимающих до 20% поверхности тела, или при глубоких ожогах, площадь которых составляет до 10% поверхности тела. Сознание пострадавшего сохранено, отмечаются бледность кожного покрова, мышечная дрожь, изредка тошнота, рвота. Тахикардия умеренная, АД не снижено, ОЦК понижен на 10%. Большинство пострадавших этой группы удается вывести из шока к концу первых суто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5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1908000" y="620640"/>
            <a:ext cx="587520" cy="520920"/>
          </a:xfrm>
          <a:prstGeom prst="rect">
            <a:avLst/>
          </a:prstGeom>
          <a:ln w="0">
            <a:noFill/>
          </a:ln>
        </p:spPr>
      </p:pic>
      <p:sp>
        <p:nvSpPr>
          <p:cNvPr id="3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Ожоговый шок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Ожоговый шок средней тяжести (II степень) характерен при ожогах 20—40% поверхности тела, когда глубокие ожоги составляют не более 20%. Он характеризуется возбуждением, сменяющимся заторможенностью. Сознание сохранено. Кожа в области ожога бледная, сухая, холодная. Больного беспокоят озноб, жажда, тошнота, часто рвота. Дыхание учащено, АД снижено, ОЦК понижен на 10—20%. Функция почек нарушается, отмечается олигурия, на 2-е сутки в крови повышается уровень остаточного азота до 41,3—44,1 </a:t>
            </a:r>
            <a:r>
              <a:rPr b="0" i="1" lang="ru-RU" sz="2400" spc="-1" strike="noStrike">
                <a:solidFill>
                  <a:srgbClr val="00ffcc"/>
                </a:solidFill>
                <a:latin typeface="Arial"/>
              </a:rPr>
              <a:t>ммоль/л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, часто возникают гематурия и альбуминурия. Большинство пострадавших удается вывести из состояния шока в течение 2 суток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9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1908000" y="620640"/>
            <a:ext cx="587520" cy="520920"/>
          </a:xfrm>
          <a:prstGeom prst="rect">
            <a:avLst/>
          </a:prstGeom>
          <a:ln w="0">
            <a:noFill/>
          </a:ln>
        </p:spPr>
      </p:pic>
      <p:sp>
        <p:nvSpPr>
          <p:cNvPr id="3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Клиническая картина</a:t>
            </a: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362" name="Picture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495680"/>
          </a:xfrm>
          <a:prstGeom prst="rect">
            <a:avLst/>
          </a:prstGeom>
          <a:ln w="0">
            <a:noFill/>
          </a:ln>
        </p:spPr>
      </p:pic>
      <p:pic>
        <p:nvPicPr>
          <p:cNvPr id="363" name="Рисунок 20" descr="C:\Documents and Settings\Администратор\Рабочий стол\777\logo_fin.jpg"/>
          <p:cNvPicPr/>
          <p:nvPr/>
        </p:nvPicPr>
        <p:blipFill>
          <a:blip r:embed="rId2"/>
          <a:srcRect l="-1032" t="0" r="56774" b="0"/>
          <a:stretch/>
        </p:blipFill>
        <p:spPr>
          <a:xfrm>
            <a:off x="1116000" y="549360"/>
            <a:ext cx="587520" cy="520560"/>
          </a:xfrm>
          <a:prstGeom prst="rect">
            <a:avLst/>
          </a:prstGeom>
          <a:ln w="0">
            <a:noFill/>
          </a:ln>
        </p:spPr>
      </p:pic>
      <p:sp>
        <p:nvSpPr>
          <p:cNvPr id="3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Ожоговый шок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Тяжелый (Ill степень) развивается при обширных ожогах, захватывающих 40—60% поверхности тела (глубокий ожог не более 40%). Состояние крайне тяжелое, сознание спутанное, пострадавший заторможен. Кожный покров бледно-серого цвета, холодный. Отмечаются выраженная жажда, частая рвота, мышечные судороги, одышка, цианоз, тахикардия до 120—130 ударов в 1 </a:t>
            </a:r>
            <a:r>
              <a:rPr b="0" i="1" lang="ru-RU" sz="2400" spc="-1" strike="noStrike">
                <a:solidFill>
                  <a:srgbClr val="00ffcc"/>
                </a:solidFill>
                <a:latin typeface="Arial"/>
              </a:rPr>
              <a:t>мин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, ОЦК снижен на 20—30%. Существенно страдает функция почек, развивается олигурия, а у больных старше 50 лет — анурия. Количество остаточного азота в крови возрастает до 50,7—56,4 </a:t>
            </a:r>
            <a:r>
              <a:rPr b="0" i="1" lang="ru-RU" sz="2400" spc="-1" strike="noStrike">
                <a:solidFill>
                  <a:srgbClr val="00ffcc"/>
                </a:solidFill>
                <a:latin typeface="Arial"/>
              </a:rPr>
              <a:t>ммоль/л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. Борьба с шоком этой группы пострадавших очень трудна и далеко не всегда эффектив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7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1908000" y="620640"/>
            <a:ext cx="587520" cy="520920"/>
          </a:xfrm>
          <a:prstGeom prst="rect">
            <a:avLst/>
          </a:prstGeom>
          <a:ln w="0">
            <a:noFill/>
          </a:ln>
        </p:spPr>
      </p:pic>
      <p:sp>
        <p:nvSpPr>
          <p:cNvPr id="3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Травматический шок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По патогенезу травматический шок соответствует </a:t>
            </a:r>
            <a:r>
              <a:rPr b="0" lang="ru-RU" sz="2400" spc="-1" strike="noStrike" u="sng">
                <a:solidFill>
                  <a:srgbClr val="00ffcc"/>
                </a:solidFill>
                <a:uFillTx/>
                <a:latin typeface="Arial"/>
                <a:hlinkClick r:id="rId1"/>
              </a:rPr>
              <a:t>гиповолемическому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. Основные факторы, вызывающие данный вид шока, – сильное болевое раздражение и потеря больших объёмов кров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Рисунок 20" descr="C:\Documents and Settings\Администратор\Рабочий стол\777\logo_fin.jpg"/>
          <p:cNvPicPr/>
          <p:nvPr/>
        </p:nvPicPr>
        <p:blipFill>
          <a:blip r:embed="rId2"/>
          <a:srcRect l="-1032" t="0" r="56774" b="0"/>
          <a:stretch/>
        </p:blipFill>
        <p:spPr>
          <a:xfrm>
            <a:off x="971640" y="549360"/>
            <a:ext cx="587160" cy="520560"/>
          </a:xfrm>
          <a:prstGeom prst="rect">
            <a:avLst/>
          </a:prstGeom>
          <a:ln w="0">
            <a:noFill/>
          </a:ln>
        </p:spPr>
      </p:pic>
      <p:sp>
        <p:nvSpPr>
          <p:cNvPr id="1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8000"/>
                </a:solidFill>
                <a:latin typeface="Arial"/>
              </a:rPr>
              <a:t>Клиническая картина ожогового шока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370" name="Picture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495680"/>
          </a:xfrm>
          <a:prstGeom prst="rect">
            <a:avLst/>
          </a:prstGeom>
          <a:ln w="0">
            <a:noFill/>
          </a:ln>
        </p:spPr>
      </p:pic>
      <p:pic>
        <p:nvPicPr>
          <p:cNvPr id="371" name="Рисунок 20" descr="C:\Documents and Settings\Администратор\Рабочий стол\777\logo_fin.jpg"/>
          <p:cNvPicPr/>
          <p:nvPr/>
        </p:nvPicPr>
        <p:blipFill>
          <a:blip r:embed="rId2"/>
          <a:srcRect l="-1032" t="0" r="56774" b="0"/>
          <a:stretch/>
        </p:blipFill>
        <p:spPr>
          <a:xfrm>
            <a:off x="3132000" y="836640"/>
            <a:ext cx="587520" cy="520560"/>
          </a:xfrm>
          <a:prstGeom prst="rect">
            <a:avLst/>
          </a:prstGeom>
          <a:ln w="0">
            <a:noFill/>
          </a:ln>
        </p:spPr>
      </p:pic>
      <p:sp>
        <p:nvSpPr>
          <p:cNvPr id="3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Ожоговый шок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ffcc"/>
                </a:solidFill>
                <a:latin typeface="Arial"/>
              </a:rPr>
              <a:t>Крайне тяжелый (IV степень) наблюдается у пострадавших с ожогами, занимающими свыше 60% поверхности тела (из них глубокие ожоги — не менее 40%). Состояние крайне тяжелое, сознание спутанное или отсутствует. Кожный покров бледный с мраморным оттенком. Температура тела снижена. Пульс нитевидный, АД ниже 100</a:t>
            </a:r>
            <a:r>
              <a:rPr b="0" i="1" lang="ru-RU" sz="2000" spc="-1" strike="noStrike">
                <a:solidFill>
                  <a:srgbClr val="00ffcc"/>
                </a:solidFill>
                <a:latin typeface="Arial"/>
              </a:rPr>
              <a:t> мм рт</a:t>
            </a:r>
            <a:r>
              <a:rPr b="0" lang="ru-RU" sz="2000" spc="-1" strike="noStrike">
                <a:solidFill>
                  <a:srgbClr val="00ffcc"/>
                </a:solidFill>
                <a:latin typeface="Arial"/>
              </a:rPr>
              <a:t>.</a:t>
            </a:r>
            <a:r>
              <a:rPr b="0" i="1" lang="ru-RU" sz="2000" spc="-1" strike="noStrike">
                <a:solidFill>
                  <a:srgbClr val="00ffcc"/>
                </a:solidFill>
                <a:latin typeface="Arial"/>
              </a:rPr>
              <a:t>ст</a:t>
            </a:r>
            <a:r>
              <a:rPr b="0" lang="ru-RU" sz="2000" spc="-1" strike="noStrike">
                <a:solidFill>
                  <a:srgbClr val="00ffcc"/>
                </a:solidFill>
                <a:latin typeface="Arial"/>
              </a:rPr>
              <a:t>. Наблюдается выраженная одышка, в легких выслушиваются влажные хрипы. Больных мучит жажда, частая рвота типа кофейной гущи, развивается парез желудочно-кишечного тракта, нарастает метаболический ацидоз. Резко нарушается функция почек с развитием анурии, постоянной гематурии, альбуминурии, гемоглобинурии. Количество остаточного азота крови с первых часов более 60,0 </a:t>
            </a:r>
            <a:r>
              <a:rPr b="0" i="1" lang="ru-RU" sz="2000" spc="-1" strike="noStrike">
                <a:solidFill>
                  <a:srgbClr val="00ffcc"/>
                </a:solidFill>
                <a:latin typeface="Arial"/>
              </a:rPr>
              <a:t>ммоль/л</a:t>
            </a:r>
            <a:r>
              <a:rPr b="0" lang="ru-RU" sz="2000" spc="-1" strike="noStrike">
                <a:solidFill>
                  <a:srgbClr val="00ffcc"/>
                </a:solidFill>
                <a:latin typeface="Arial"/>
              </a:rPr>
              <a:t>. ОЦК снижен на 20—40%. Большинство пострадавших погибает в первые сутки, а остальные — в ближайшие дни. Благоприятный исход наблюдается крайне редк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5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1908000" y="620640"/>
            <a:ext cx="587520" cy="520920"/>
          </a:xfrm>
          <a:prstGeom prst="rect">
            <a:avLst/>
          </a:prstGeom>
          <a:ln w="0">
            <a:noFill/>
          </a:ln>
        </p:spPr>
      </p:pic>
      <p:sp>
        <p:nvSpPr>
          <p:cNvPr id="37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Ожоговый шок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ffcc"/>
                </a:solidFill>
                <a:latin typeface="Arial"/>
              </a:rPr>
              <a:t>Ожоговый шок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 характеризуется своеобразной клинической картиной: в первые часы после травмы больной возбужден, неадекватно оценивает свое состояние, затем возбуждение сменяется заторможенностью и адинамией, развивается гиповолемия, степень которой зависит от тяжести ожог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9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1908000" y="620640"/>
            <a:ext cx="587520" cy="520920"/>
          </a:xfrm>
          <a:prstGeom prst="rect">
            <a:avLst/>
          </a:prstGeom>
          <a:ln w="0">
            <a:noFill/>
          </a:ln>
        </p:spPr>
      </p:pic>
      <p:sp>
        <p:nvSpPr>
          <p:cNvPr id="3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Ожоговый шок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При более глубоких ожогах объем цирк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лирующей крови уменьшается вследствие как депонирования крови, так и ее гемолиза. Для клинической картины ожогового шока характерны бледность кожных покровов, уменьшение выделения мочи вплоть до анурии, жажда, тошнота, артериальное давление однако меняется только при тяжелых степенях </a:t>
            </a:r>
            <a:r>
              <a:rPr b="1" lang="ru-RU" sz="2400" spc="-1" strike="noStrike">
                <a:solidFill>
                  <a:srgbClr val="00ffcc"/>
                </a:solidFill>
                <a:latin typeface="Arial"/>
              </a:rPr>
              <a:t>ожогового шока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3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1908000" y="620640"/>
            <a:ext cx="587520" cy="520920"/>
          </a:xfrm>
          <a:prstGeom prst="rect">
            <a:avLst/>
          </a:prstGeom>
          <a:ln w="0">
            <a:noFill/>
          </a:ln>
        </p:spPr>
      </p:pic>
      <p:sp>
        <p:nvSpPr>
          <p:cNvPr id="3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Лечение ожогового шок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ffcc"/>
                </a:solidFill>
                <a:latin typeface="Arial"/>
              </a:rPr>
              <a:t>ЛЕЧЕНИЕ такое же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, как и травматического шока, с наложением асептических повязок на ожоговую поверхность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7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826920" y="549360"/>
            <a:ext cx="587520" cy="520560"/>
          </a:xfrm>
          <a:prstGeom prst="rect">
            <a:avLst/>
          </a:prstGeom>
          <a:ln w="0">
            <a:noFill/>
          </a:ln>
        </p:spPr>
      </p:pic>
      <p:sp>
        <p:nvSpPr>
          <p:cNvPr id="3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лечение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390" name="Picture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495680"/>
          </a:xfrm>
          <a:prstGeom prst="rect">
            <a:avLst/>
          </a:prstGeom>
          <a:ln w="0">
            <a:noFill/>
          </a:ln>
        </p:spPr>
      </p:pic>
      <p:pic>
        <p:nvPicPr>
          <p:cNvPr id="391" name="Рисунок 20" descr="C:\Documents and Settings\Администратор\Рабочий стол\777\logo_fin.jpg"/>
          <p:cNvPicPr/>
          <p:nvPr/>
        </p:nvPicPr>
        <p:blipFill>
          <a:blip r:embed="rId2"/>
          <a:srcRect l="-1032" t="0" r="56774" b="0"/>
          <a:stretch/>
        </p:blipFill>
        <p:spPr>
          <a:xfrm>
            <a:off x="1908000" y="620640"/>
            <a:ext cx="587520" cy="520920"/>
          </a:xfrm>
          <a:prstGeom prst="rect">
            <a:avLst/>
          </a:prstGeom>
          <a:ln w="0">
            <a:noFill/>
          </a:ln>
        </p:spPr>
      </p:pic>
      <p:sp>
        <p:nvSpPr>
          <p:cNvPr id="39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Лечение ожогового шок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ffcc"/>
                </a:solidFill>
                <a:latin typeface="Arial"/>
              </a:rPr>
              <a:t>Противошоковая терапия включает комплекс мероприятий, имеющих целью купирование болевого синдрома и снятие эмоционального напряжения, восстановление эффективной гемодинамики, нормализацию внешнего дыхания и газообмена, устранение ацидоза, профилактику и лечение нарушений функции почек, коррекцию нарушений водно-электролитного баланса, восполнение белкового дефицита и устранение нарастающей интоксикации и метаболических расстройств. Из общих мероприятий при лечении ожогового шока рекомендуется согревание больного. Если нет рвоты, необходимо дать пить горячий сладкий чай или кофе, щелочные минеральные воды или простой соляно-щелочной раствор (1-2 г питьевой соды и 3-4 г поваренной соли на 1 л воды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5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755640" y="620640"/>
            <a:ext cx="587520" cy="520920"/>
          </a:xfrm>
          <a:prstGeom prst="rect">
            <a:avLst/>
          </a:prstGeom>
          <a:ln w="0">
            <a:noFill/>
          </a:ln>
        </p:spPr>
      </p:pic>
      <p:sp>
        <p:nvSpPr>
          <p:cNvPr id="39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Лечение ожогового шок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Пострадавшие с тяжелыми ожогами и подозрением на ожоговый шок должны быть экстренно госпитализированы в реанимационное отделение ожогового центра. Лечение начинают во время транспортировки на догоспитальном этапе и продолжают в стационаре. Ожоговые поверхности закрывают асептическими бинтовыми или контурными сухими или влажно-высыхающими повязками, пропитанными растворами антисептиков</a:t>
            </a:r>
            <a:r>
              <a:rPr b="0" lang="ru-RU" sz="32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9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755640" y="549360"/>
            <a:ext cx="587520" cy="520560"/>
          </a:xfrm>
          <a:prstGeom prst="rect">
            <a:avLst/>
          </a:prstGeom>
          <a:ln w="0">
            <a:noFill/>
          </a:ln>
        </p:spPr>
      </p:pic>
      <p:sp>
        <p:nvSpPr>
          <p:cNvPr id="40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Лечение ожогового шок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402" name="Picture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495680"/>
          </a:xfrm>
          <a:prstGeom prst="rect">
            <a:avLst/>
          </a:prstGeom>
          <a:ln w="0">
            <a:noFill/>
          </a:ln>
        </p:spPr>
      </p:pic>
      <p:pic>
        <p:nvPicPr>
          <p:cNvPr id="403" name="Рисунок 20" descr="C:\Documents and Settings\Администратор\Рабочий стол\777\logo_fin.jpg"/>
          <p:cNvPicPr/>
          <p:nvPr/>
        </p:nvPicPr>
        <p:blipFill>
          <a:blip r:embed="rId2"/>
          <a:srcRect l="-1032" t="0" r="56774" b="0"/>
          <a:stretch/>
        </p:blipFill>
        <p:spPr>
          <a:xfrm>
            <a:off x="755640" y="476280"/>
            <a:ext cx="587520" cy="520560"/>
          </a:xfrm>
          <a:prstGeom prst="rect">
            <a:avLst/>
          </a:prstGeom>
          <a:ln w="0">
            <a:noFill/>
          </a:ln>
        </p:spPr>
      </p:pic>
      <p:sp>
        <p:nvSpPr>
          <p:cNvPr id="4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Лечение ожогового шок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Больного согревают, укрывая его одеялами. Не рекомендуется контактное согревание грелками. При отсутствии рвоты пострадавшего поят минеральной водой, щелочно-солевым раствором (1/2 чайной ложки гидрокарбоната натрия и 1 чайная ложка хлорида натрия на 1</a:t>
            </a:r>
            <a:r>
              <a:rPr b="0" i="1" lang="ru-RU" sz="2400" spc="-1" strike="noStrike">
                <a:solidFill>
                  <a:srgbClr val="00ffcc"/>
                </a:solidFill>
                <a:latin typeface="Arial"/>
              </a:rPr>
              <a:t> л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воды). Прием большого количества бессолевых жидкостей может привести к так называемому водному отравлени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7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684360" y="549360"/>
            <a:ext cx="587160" cy="520560"/>
          </a:xfrm>
          <a:prstGeom prst="rect">
            <a:avLst/>
          </a:prstGeom>
          <a:ln w="0">
            <a:noFill/>
          </a:ln>
        </p:spPr>
      </p:pic>
      <p:sp>
        <p:nvSpPr>
          <p:cNvPr id="4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Патогенез шок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54" name="Picture 5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495680"/>
          </a:xfrm>
          <a:prstGeom prst="rect">
            <a:avLst/>
          </a:prstGeom>
          <a:ln w="0">
            <a:noFill/>
          </a:ln>
        </p:spPr>
      </p:pic>
      <p:pic>
        <p:nvPicPr>
          <p:cNvPr id="155" name="Рисунок 20" descr="C:\Documents and Settings\Администратор\Рабочий стол\777\logo_fin.jpg"/>
          <p:cNvPicPr/>
          <p:nvPr/>
        </p:nvPicPr>
        <p:blipFill>
          <a:blip r:embed="rId2"/>
          <a:srcRect l="-1032" t="0" r="56774" b="0"/>
          <a:stretch/>
        </p:blipFill>
        <p:spPr>
          <a:xfrm>
            <a:off x="971640" y="549360"/>
            <a:ext cx="587160" cy="520560"/>
          </a:xfrm>
          <a:prstGeom prst="rect">
            <a:avLst/>
          </a:prstGeom>
          <a:ln w="0">
            <a:noFill/>
          </a:ln>
        </p:spPr>
      </p:pic>
      <p:sp>
        <p:nvSpPr>
          <p:cNvPr id="1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Лечение ожогового шок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Противошоковую терапию начинают с обезболивания наркотическими и ненаркотическими анальгетиками в сочетании с антигистаминными препаратами (2</a:t>
            </a:r>
            <a:r>
              <a:rPr b="0" i="1" lang="ru-RU" sz="2400" spc="-1" strike="noStrike">
                <a:solidFill>
                  <a:srgbClr val="00ffcc"/>
                </a:solidFill>
                <a:latin typeface="Arial"/>
              </a:rPr>
              <a:t> мл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50% раствора анальгина, 1—2</a:t>
            </a:r>
            <a:r>
              <a:rPr b="0" i="1" lang="ru-RU" sz="2400" spc="-1" strike="noStrike">
                <a:solidFill>
                  <a:srgbClr val="00ffcc"/>
                </a:solidFill>
                <a:latin typeface="Arial"/>
              </a:rPr>
              <a:t> мл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2% раствора промедола, 1—2</a:t>
            </a:r>
            <a:r>
              <a:rPr b="0" i="1" lang="ru-RU" sz="2400" spc="-1" strike="noStrike">
                <a:solidFill>
                  <a:srgbClr val="00ffcc"/>
                </a:solidFill>
                <a:latin typeface="Arial"/>
              </a:rPr>
              <a:t> мл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1% раствора димедрола и др.). Хороший обезболивающий и седативный эффект дает нейролептаналгезия: дроперидол (0,25% раствор, по 1—5 </a:t>
            </a:r>
            <a:r>
              <a:rPr b="0" i="1" lang="ru-RU" sz="2400" spc="-1" strike="noStrike">
                <a:solidFill>
                  <a:srgbClr val="00ffcc"/>
                </a:solidFill>
                <a:latin typeface="Arial"/>
              </a:rPr>
              <a:t>мл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) в сочетании с фентанилом (0,005% раствор, по 1—2 </a:t>
            </a:r>
            <a:r>
              <a:rPr b="0" i="1" lang="ru-RU" sz="2400" spc="-1" strike="noStrike">
                <a:solidFill>
                  <a:srgbClr val="00ffcc"/>
                </a:solidFill>
                <a:latin typeface="Arial"/>
              </a:rPr>
              <a:t>мл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1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684360" y="620640"/>
            <a:ext cx="587160" cy="520920"/>
          </a:xfrm>
          <a:prstGeom prst="rect">
            <a:avLst/>
          </a:prstGeom>
          <a:ln w="0">
            <a:noFill/>
          </a:ln>
        </p:spPr>
      </p:pic>
      <p:sp>
        <p:nvSpPr>
          <p:cNvPr id="41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Лечение ожогового шок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Уже во время транспортировки можно эффективно применять масочный наркоз с закисью азота, фторотаном и внутривенное введение барбитуратов (гексенала, тиопентал-натрия). В стационаре производят новокаиновые блокады, оказывающие не только обезболивающее действие, но и благотворно влияющие на вегетативные и трофические функции нервной систем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5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684360" y="549360"/>
            <a:ext cx="587160" cy="520560"/>
          </a:xfrm>
          <a:prstGeom prst="rect">
            <a:avLst/>
          </a:prstGeom>
          <a:ln w="0">
            <a:noFill/>
          </a:ln>
        </p:spPr>
      </p:pic>
      <p:sp>
        <p:nvSpPr>
          <p:cNvPr id="4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Лечение ожогового шок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Для нормализации внешнего дыхания больному придают полусидячее положение, через носовой катетер осуществляют ингаляцию кислорода, вводят бронхолитические препараты (эуфиллин, эфедрин и др.). Если ожоговый струп в виде панциря охватывает и сдавливает грудную клетку, то для улучшения дыхания продольными разрезами производят декомпрессионную некротоми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9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755640" y="620640"/>
            <a:ext cx="587520" cy="520920"/>
          </a:xfrm>
          <a:prstGeom prst="rect">
            <a:avLst/>
          </a:prstGeom>
          <a:ln w="0">
            <a:noFill/>
          </a:ln>
        </p:spPr>
      </p:pic>
      <p:sp>
        <p:nvSpPr>
          <p:cNvPr id="4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Лечение ожогового шок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Инфузионная терапия является основным методом коррекции нарушенного гомеостаза. Объем и характер переливаемых жидкостей, темп и последовательность введения определяются клиническими и лабораторными показателями, главными из которых являются ОЦК, гематокрит, кислотно-щелочное состояние, содержание электролитов в плазме, суммарные критерии функции почек, состояние центральной гемодинамики, микроциркуляторные расстройства</a:t>
            </a:r>
            <a:r>
              <a:rPr b="0" lang="ru-RU" sz="28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3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684360" y="549360"/>
            <a:ext cx="587160" cy="520560"/>
          </a:xfrm>
          <a:prstGeom prst="rect">
            <a:avLst/>
          </a:prstGeom>
          <a:ln w="0">
            <a:noFill/>
          </a:ln>
        </p:spPr>
      </p:pic>
      <p:sp>
        <p:nvSpPr>
          <p:cNvPr id="4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Лечение ожогового шок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Точное установление этих показателей на начальных этапах лечения не всегда возможно, поэтому в первые 6—8 </a:t>
            </a:r>
            <a:r>
              <a:rPr b="0" i="1" lang="ru-RU" sz="2400" spc="-1" strike="noStrike">
                <a:solidFill>
                  <a:srgbClr val="00ffcc"/>
                </a:solidFill>
                <a:latin typeface="Arial"/>
              </a:rPr>
              <a:t>ч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 лечения объем вливаемых жидкостей рассчитывают по правилу «двойного нуля» (прибавляют к площади ожога, выраженной в процентах, два нуля; не менее половины полученного объема составляют кристаллоиды). Например, при ожоговом шоке с поражением 20% поверхности тела нужно перелить 2000</a:t>
            </a:r>
            <a:r>
              <a:rPr b="0" i="1" lang="ru-RU" sz="2400" spc="-1" strike="noStrike">
                <a:solidFill>
                  <a:srgbClr val="00ffcc"/>
                </a:solidFill>
                <a:latin typeface="Arial"/>
              </a:rPr>
              <a:t> мл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жидкости, в т.ч. 500</a:t>
            </a:r>
            <a:r>
              <a:rPr b="0" i="1" lang="ru-RU" sz="2400" spc="-1" strike="noStrike">
                <a:solidFill>
                  <a:srgbClr val="00ffcc"/>
                </a:solidFill>
                <a:latin typeface="Arial"/>
              </a:rPr>
              <a:t> мл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5% раствора глюкозы, 300</a:t>
            </a:r>
            <a:r>
              <a:rPr b="0" i="1" lang="ru-RU" sz="2400" spc="-1" strike="noStrike">
                <a:solidFill>
                  <a:srgbClr val="00ffcc"/>
                </a:solidFill>
                <a:latin typeface="Arial"/>
              </a:rPr>
              <a:t> мл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изотонического раствора хлорида натрия, 200 </a:t>
            </a:r>
            <a:r>
              <a:rPr b="0" i="1" lang="ru-RU" sz="2400" spc="-1" strike="noStrike">
                <a:solidFill>
                  <a:srgbClr val="00ffcc"/>
                </a:solidFill>
                <a:latin typeface="Arial"/>
              </a:rPr>
              <a:t>мл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 4% раствора гидрокарбоната натрия, 500 </a:t>
            </a:r>
            <a:r>
              <a:rPr b="0" i="1" lang="ru-RU" sz="2400" spc="-1" strike="noStrike">
                <a:solidFill>
                  <a:srgbClr val="00ffcc"/>
                </a:solidFill>
                <a:latin typeface="Arial"/>
              </a:rPr>
              <a:t>мл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 полиглюкина, 500 </a:t>
            </a:r>
            <a:r>
              <a:rPr b="0" i="1" lang="ru-RU" sz="2400" spc="-1" strike="noStrike">
                <a:solidFill>
                  <a:srgbClr val="00ffcc"/>
                </a:solidFill>
                <a:latin typeface="Arial"/>
              </a:rPr>
              <a:t>мл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желатинол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7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755640" y="620640"/>
            <a:ext cx="587520" cy="520920"/>
          </a:xfrm>
          <a:prstGeom prst="rect">
            <a:avLst/>
          </a:prstGeom>
          <a:ln w="0">
            <a:noFill/>
          </a:ln>
        </p:spPr>
      </p:pic>
      <p:sp>
        <p:nvSpPr>
          <p:cNvPr id="4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Лечение ожогового шок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Для борьбы с гиповолемией и гипопротеинемией широко применяют нативные коллоидные растворы (нативную, сухую и свежезамороженную плазму крови, протеин, альбумин). При развитии олигурии или анурии показано введение осмотических диуретиков (маннита, мочевины, 40% раствора глюкозы), назначаемых только после полного восполнения ОЦК. Снижению ожоговой токсемии способствует переливание низкомолекулярных декстранов (реополиглюкина, реоглюмана, рондекса) и препаратов на основе поливинилпирролидона (гемодеза, неогемодеза, неокомпенсана, полидеза)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1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684360" y="549360"/>
            <a:ext cx="587160" cy="520560"/>
          </a:xfrm>
          <a:prstGeom prst="rect">
            <a:avLst/>
          </a:prstGeom>
          <a:ln w="0">
            <a:noFill/>
          </a:ln>
        </p:spPr>
      </p:pic>
      <p:sp>
        <p:nvSpPr>
          <p:cNvPr id="4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Лечение ожогового шок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Реополиглюкин улучшает микроциркуляцию, благодаря дезагрегации эритроцитов, ликвидации стаза в прекапиллярной и капиллярной сети, что особенно важно на фоне гемоконцентрации и повышения вязкости крови. Критериями адекватности инфузионной терапии являются центральное венозное давление в пределах 70—150</a:t>
            </a:r>
            <a:r>
              <a:rPr b="0" i="1" lang="ru-RU" sz="2400" spc="-1" strike="noStrike">
                <a:solidFill>
                  <a:srgbClr val="00ffcc"/>
                </a:solidFill>
                <a:latin typeface="Arial"/>
              </a:rPr>
              <a:t> мм вод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.</a:t>
            </a:r>
            <a:r>
              <a:rPr b="0" i="1" lang="ru-RU" sz="2400" spc="-1" strike="noStrike">
                <a:solidFill>
                  <a:srgbClr val="00ffcc"/>
                </a:solidFill>
                <a:latin typeface="Arial"/>
              </a:rPr>
              <a:t>ст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., почасовой диурез 1,5—2,0</a:t>
            </a:r>
            <a:r>
              <a:rPr b="0" i="1" lang="ru-RU" sz="2400" spc="-1" strike="noStrike">
                <a:solidFill>
                  <a:srgbClr val="00ffcc"/>
                </a:solidFill>
                <a:latin typeface="Arial"/>
              </a:rPr>
              <a:t> мл/кг/ч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, гематокрит 38—42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5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611280" y="549360"/>
            <a:ext cx="587160" cy="520560"/>
          </a:xfrm>
          <a:prstGeom prst="rect">
            <a:avLst/>
          </a:prstGeom>
          <a:ln w="0">
            <a:noFill/>
          </a:ln>
        </p:spPr>
      </p:pic>
      <p:sp>
        <p:nvSpPr>
          <p:cNvPr id="43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Лечение ожогового шок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Для восполнения энергетических потерь и коррекции обменных процессов вводят 10—20% растворы глюкозы, гидролизаты белков (раствор гидролизина, гидролизат казеина), аминокислотные смеси (полиамин, аминон, аминосол), кокарбоксилазу (100—200 </a:t>
            </a:r>
            <a:r>
              <a:rPr b="0" i="1" lang="ru-RU" sz="2400" spc="-1" strike="noStrike">
                <a:solidFill>
                  <a:srgbClr val="00ffcc"/>
                </a:solidFill>
                <a:latin typeface="Arial"/>
              </a:rPr>
              <a:t>мг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 в сутки). ДТФ (1—2</a:t>
            </a:r>
            <a:r>
              <a:rPr b="0" i="1" lang="ru-RU" sz="2400" spc="-1" strike="noStrike">
                <a:solidFill>
                  <a:srgbClr val="00ffcc"/>
                </a:solidFill>
                <a:latin typeface="Arial"/>
              </a:rPr>
              <a:t> мл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1% раствора в сутки), витамины группы В, аскорбиновую кислот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Коррекцию кислотно-щелочного состояния устранение ацидоза проводят вливаниями щелочных растворов: 4% раствора гидрокарбоната натрия, трисамина, лактасола и др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9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755640" y="620640"/>
            <a:ext cx="587520" cy="520920"/>
          </a:xfrm>
          <a:prstGeom prst="rect">
            <a:avLst/>
          </a:prstGeom>
          <a:ln w="0">
            <a:noFill/>
          </a:ln>
        </p:spPr>
      </p:pic>
      <p:sp>
        <p:nvSpPr>
          <p:cNvPr id="4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Лечение ожогового шок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Профилактика и лечение сердечно-сосудистых нарушений при ожоговом шоке заключается во введении сердечных гликозидов (коргликона, дигоксина), аналептиков (кордиамина, сульфо-камфокаина)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3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468360" y="620640"/>
            <a:ext cx="587160" cy="520920"/>
          </a:xfrm>
          <a:prstGeom prst="rect">
            <a:avLst/>
          </a:prstGeom>
          <a:ln w="0">
            <a:noFill/>
          </a:ln>
        </p:spPr>
      </p:pic>
      <p:sp>
        <p:nvSpPr>
          <p:cNvPr id="44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Лечение ожогового шок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Количество, темп и последовательность инфузий определяются клиническим течением шока. При тяжелом шоке инфузию начинают со струйного введения 500</a:t>
            </a:r>
            <a:r>
              <a:rPr b="0" i="1" lang="ru-RU" sz="2400" spc="-1" strike="noStrike">
                <a:solidFill>
                  <a:srgbClr val="00ffcc"/>
                </a:solidFill>
                <a:latin typeface="Arial"/>
              </a:rPr>
              <a:t> мл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за 1—2 </a:t>
            </a:r>
            <a:r>
              <a:rPr b="0" i="1" lang="ru-RU" sz="2400" spc="-1" strike="noStrike">
                <a:solidFill>
                  <a:srgbClr val="00ffcc"/>
                </a:solidFill>
                <a:latin typeface="Arial"/>
              </a:rPr>
              <a:t>мин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, в дальнейшем переходят к капельному вливанию, регулируя его в зависимости от ЦВД, почасового диуреза и др. В среднем на каждого тяжелообожженного расходуется около 6</a:t>
            </a:r>
            <a:r>
              <a:rPr b="0" i="1" lang="ru-RU" sz="2400" spc="-1" strike="noStrike">
                <a:solidFill>
                  <a:srgbClr val="00ffcc"/>
                </a:solidFill>
                <a:latin typeface="Arial"/>
              </a:rPr>
              <a:t> л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жидкостей, причем в первые 8 </a:t>
            </a:r>
            <a:r>
              <a:rPr b="0" i="1" lang="ru-RU" sz="2400" spc="-1" strike="noStrike">
                <a:solidFill>
                  <a:srgbClr val="00ffcc"/>
                </a:solidFill>
                <a:latin typeface="Arial"/>
              </a:rPr>
              <a:t>ч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 противошоковой терапии больной должен получить половину суточного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объем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7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755640" y="620640"/>
            <a:ext cx="587520" cy="520920"/>
          </a:xfrm>
          <a:prstGeom prst="rect">
            <a:avLst/>
          </a:prstGeom>
          <a:ln w="0">
            <a:noFill/>
          </a:ln>
        </p:spPr>
      </p:pic>
      <p:sp>
        <p:nvSpPr>
          <p:cNvPr id="44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Травматический шок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По времени возникновения различают </a:t>
            </a:r>
            <a:r>
              <a:rPr b="1" lang="ru-RU" sz="2400" spc="-1" strike="noStrike">
                <a:solidFill>
                  <a:srgbClr val="00ffcc"/>
                </a:solidFill>
                <a:latin typeface="Arial"/>
              </a:rPr>
              <a:t>шок первичный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  сразу после травмы или в ближайший отрезок времени (через 1 - 2 часа) и вторичный - через 4 - 24 часа. Первичный шок является результатом непосредственно травмы, а </a:t>
            </a:r>
            <a:r>
              <a:rPr b="1" lang="ru-RU" sz="2400" spc="-1" strike="noStrike">
                <a:solidFill>
                  <a:srgbClr val="00ffcc"/>
                </a:solidFill>
                <a:latin typeface="Arial"/>
              </a:rPr>
              <a:t>вторичный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 - результат дополнительной травматизации. Может развиться шок после снятия жгута с конечност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ffcc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В клинической картине травматического шока может наблюдаться две фазы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Эректильная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Торпидна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971640" y="549360"/>
            <a:ext cx="587160" cy="520560"/>
          </a:xfrm>
          <a:prstGeom prst="rect">
            <a:avLst/>
          </a:prstGeom>
          <a:ln w="0">
            <a:noFill/>
          </a:ln>
        </p:spPr>
      </p:pic>
      <p:sp>
        <p:nvSpPr>
          <p:cNvPr id="1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Лечение ожогового шок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На 2-е сутки пострадавшему вводят примерно половину объема жидкостей, полученного им в первый день. Нередко инфузионная терапия проводится на фоне дробной гепаринизации (до 20 000 ЕД в сутки) под контролем свертывающей системы крови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1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755640" y="620640"/>
            <a:ext cx="587520" cy="520920"/>
          </a:xfrm>
          <a:prstGeom prst="rect">
            <a:avLst/>
          </a:prstGeom>
          <a:ln w="0">
            <a:noFill/>
          </a:ln>
        </p:spPr>
      </p:pic>
      <p:sp>
        <p:nvSpPr>
          <p:cNvPr id="4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Лечение ожогового шок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Профилактику инфекционных осложнений начинают как можно раньше. Она включает профилактику столбняка по обычной схеме и массивную парентеральную терапию антибиотиками широкого спектра действи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5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755640" y="620640"/>
            <a:ext cx="587520" cy="520920"/>
          </a:xfrm>
          <a:prstGeom prst="rect">
            <a:avLst/>
          </a:prstGeom>
          <a:ln w="0">
            <a:noFill/>
          </a:ln>
        </p:spPr>
      </p:pic>
      <p:sp>
        <p:nvSpPr>
          <p:cNvPr id="4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8000"/>
                </a:solidFill>
                <a:latin typeface="Arial"/>
              </a:rPr>
              <a:t>Травматический и ожоговый шок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ru-RU" sz="4000" spc="-1" strike="noStrike">
                <a:solidFill>
                  <a:srgbClr val="00ffcc"/>
                </a:solidFill>
                <a:latin typeface="Arial"/>
              </a:rPr>
              <a:t>СПАСИБО ЗА ВНИМАНИ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9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755640" y="1268280"/>
            <a:ext cx="587520" cy="520920"/>
          </a:xfrm>
          <a:prstGeom prst="rect">
            <a:avLst/>
          </a:prstGeom>
          <a:ln w="0">
            <a:noFill/>
          </a:ln>
        </p:spPr>
      </p:pic>
      <p:sp>
        <p:nvSpPr>
          <p:cNvPr id="4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Клиническая картина шок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62" name="Picture 4" descr=""/>
          <p:cNvPicPr/>
          <p:nvPr/>
        </p:nvPicPr>
        <p:blipFill>
          <a:blip r:embed="rId1"/>
          <a:stretch/>
        </p:blipFill>
        <p:spPr>
          <a:xfrm>
            <a:off x="2124000" y="1916280"/>
            <a:ext cx="5040360" cy="3600360"/>
          </a:xfrm>
          <a:prstGeom prst="rect">
            <a:avLst/>
          </a:prstGeom>
          <a:ln w="0">
            <a:noFill/>
          </a:ln>
        </p:spPr>
      </p:pic>
      <p:pic>
        <p:nvPicPr>
          <p:cNvPr id="163" name="Рисунок 20" descr="C:\Documents and Settings\Администратор\Рабочий стол\777\logo_fin.jpg"/>
          <p:cNvPicPr/>
          <p:nvPr/>
        </p:nvPicPr>
        <p:blipFill>
          <a:blip r:embed="rId2"/>
          <a:srcRect l="-1032" t="0" r="56774" b="0"/>
          <a:stretch/>
        </p:blipFill>
        <p:spPr>
          <a:xfrm>
            <a:off x="755640" y="1197000"/>
            <a:ext cx="587520" cy="520560"/>
          </a:xfrm>
          <a:prstGeom prst="rect">
            <a:avLst/>
          </a:prstGeom>
          <a:ln w="0">
            <a:noFill/>
          </a:ln>
        </p:spPr>
      </p:pic>
      <p:sp>
        <p:nvSpPr>
          <p:cNvPr id="1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4T18:36:28Z</dcterms:created>
  <dc:creator>Татьяна</dc:creator>
  <dc:description/>
  <dc:language>en-US</dc:language>
  <cp:lastModifiedBy>LEGION</cp:lastModifiedBy>
  <dcterms:modified xsi:type="dcterms:W3CDTF">2014-11-06T11:24:45Z</dcterms:modified>
  <cp:revision>31</cp:revision>
  <dc:subject/>
  <dc:title>Травматический и ожоговый шок. Клиника, профилактика, лечение</dc:title>
</cp:coreProperties>
</file>