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486B-FD50-4272-8603-A06061784C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slide" Target="../slides/slide2.xml"/><Relationship Id="rId5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. Клиника, профилактика, 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цент кафедры внутренних болезней №1 Краснова С.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4156-938B-4582-9C08-E9B037BE26B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ректильная фаза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3225-751B-494F-9AAE-C2782862E84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036B-C400-4740-8621-0DAF0670B76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зникает торпидная фаз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EEA9-4289-4058-9D6A-D84D1261B9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C7B8-D5E2-4379-B8D8-B87909F13F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эректильной фаз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778D-3434-4288-AFE2-D82FF2D191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   </a:t>
            </a: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В торпидной фаз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297C-BD7B-46E5-98AC-B5297C6B54B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792E-7690-4686-92AA-2235430645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зависимости от тяжести состояния пострадавшего клинически различают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4 стадии торпидного ш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841A-A8C4-429C-A1AC-602CF87380E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— тяжёлое, угрожающее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жизни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больного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атологическо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операциях, большой потере кров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198B-6DA5-4925-BF3B-C8F8EBD5CA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2 степени (средний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Шок 3 степени (тяжелый):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C0D1-1E67-4121-9BDC-3976D27ADA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4 степени (предагональное состояние):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59F7-62D6-406C-9396-81691A49C8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ассификация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FE9A-808E-4095-8680-E4AEF6D65B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чение травматического шока состоит из оказания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НА ПОЛЕ БО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амопомощи, взаимопомощи и доврачебной помощи В ОЧАГАХ МАССОВЫХ САНИТАРНЫХ ПОТЕР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рачебной помощи на М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E86C-3C32-40FC-84E2-DC42A33103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57FF-BC5B-4D22-A08C-D3A0AF3A93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9E22-5BD3-42CF-AA58-F4F575AD1C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F96A-BC46-43A5-B8D0-638AD342DB1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бескровленные раненые с наложенными на поврежденные конечности жгут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9149-BD2D-4E63-A59C-E7E0C50489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16B2-EF45-4E97-BDF5-52042E8F37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A1BB-CD5B-4190-8E5C-0D8578D3285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6B64-0E7A-4070-A736-35323E3C888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69B7-0C2C-48B5-AA84-1F4D125D62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При переломах костей, повреждениях магистральных сосудов 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CEA9-2A4E-400D-95C5-D157615ED2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D40A-0BF5-43FE-8100-7301684E2B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8F61-8E1C-4354-9216-B4FD8A18864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598E-9134-4C07-9EA5-FA28EB443C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81FB-9A16-4ADB-BA07-46B2DE4228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05CB-7978-4573-8171-467F90D832A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C726-E98E-4F09-B0B5-2F077FC39F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85AA-0325-4EB2-9AFF-5E30BC786D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755C-9104-4BFD-BA7A-6321BDC7D1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анальгина, аспирина, кеторолака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этом не следует использовать морфин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BA41-0585-4582-A366-C631750D6C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транквилизатора или 40—50 капель корвалола, валокордина, или небольшого количества крепкого спиртного напит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8F72-A5C3-43CE-8B0A-3F1CA8D40E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FFCD-EB1A-4CA9-9505-0B095048CD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B53E-3DA4-4C3C-A1DC-A86A34C1BC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F24C-0BA5-4F19-AB5A-BB8E8A01990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Лечение травматического шо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 Введение витаминов, особенно аскорбиновой кислоты и витамина В¹, хлорида кальц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Введение противостолбнячной сыворотки и анатоксина, антибиот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Проведение нейролептанальге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2D0D-98A8-41D9-9AEF-7DE4A86C57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филактик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ФИЛАКТИКА травматического ш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здержаться от оперативного вмешательства (только по жизненным показани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иммобилизация при перело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Хорошая анальгезия, седатив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7A6E-4BD3-4CE7-92DF-0F9CBE0F7D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938F-B687-4D28-AA75-7123187CE7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52C6-281B-4DF6-8987-395E9F8586E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E057-37E3-4274-8FEA-172054320B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5E78-E192-4951-A449-DDD8FC2EF1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ич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B6B5-D0F7-42EE-B687-429229FBE2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E9B7-68CF-4211-A219-57C137BCEF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3709-980B-4295-B59F-11195EFA96A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A46C-C040-411F-9EAE-15B5A321CB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1391-0D20-4126-827C-FD4FF84454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5D99-1D2D-4804-9F45-1F57EE1295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407E-EED3-4DCA-8640-BFA3D957A0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7034-78DF-45EF-9A34-CBE205B5F64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ин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Борьба с шоком этой группы пострадавших очень трудна и далеко не всегда эффекти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71E6-686B-4D1B-8BF8-2C25F3B6B8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патогенезу травматический шок соответствует гиповолемическому. Основные факторы, вызывающие данный вид шока, – сильное болевое раздражение и потеря больших объёмов кров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D49A-4669-4F0D-ADF0-4FC35E2DBC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81EF-7580-4E10-B488-28CE30630D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р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моль/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C6D1-9EE5-4329-B8C1-6BDC6F7A13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ый шок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431C-4174-4A2F-8687-BCAAB4A932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 более глубоких ожогах объем цир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жогового шок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104E-B303-4EA2-8535-384234CFE2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ЛЕЧЕНИЕ такое же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BAA7-D622-4F25-AE41-3D7DA81A20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26DB-4A91-4B3D-812A-2A86DBD803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0D2A-F673-4360-A8C1-6859787266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9CA8-1C0E-40DA-9F27-92DE01A0DE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5C0E-07D9-4A0F-A98D-FF882D03C1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1CF8-2FAF-4F1B-885E-836D3C7F830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тогенез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2B14-5191-41CA-B76E-779DC32936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0% раствора анальгин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% раствора промедола, 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 в сочетании с фентанилом (0,005% раствор, по 1—2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8C3E-1B7B-48A2-B0BF-B31DEC8B33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C2E0-5619-4811-974E-129E46EBA24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AD8B-6473-4DA6-8BF3-F1A8E3F22B1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726E-2722-4AC7-96AA-C2AF73563E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идкости, в т.ч. 5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5% раствора глюкозы, 30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тонического раствора хлорида натрия, 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4% раствора гидрокарбоната натрия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полиглюкина, 5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желатино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2D82-D102-4A7F-9175-12AE7EAC5F5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9174-F9B1-4327-A6ED-20FF438D697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м во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ст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, почасовой диурез 1,5—2,0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/кг/ч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гематокрит 38—4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C692-C5DA-4512-B6B1-32681A9E2B4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мг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в сутки). ДТФ (1—2</a:t>
            </a: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 мл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1% раствора в сутки), витамины группы В, аскорбиновую кисл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156C-1CD7-41C7-B156-A7C1559CEE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87EA-E198-46C7-8EBA-6282FAA277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1DDD-9FC2-4B07-9670-5B3B11DBA2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 времени возникновения различают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шок перв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торичны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 клинической картине травматического шока может наблюдаться две фазы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Эректиль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Торпид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B24C-11BF-4C0E-BD8C-42B7A608E3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E181-E108-4E72-A550-C37C007F15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ечение ожогового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8A32-9DBC-4754-A91D-1B9F05C699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равматический и ожоговый ш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5BA7-6D80-4A1C-A18F-1FE983EF9CE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линическая картина ш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571B-10C3-4F4F-8AA7-C59BF5788D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01E2-B6B8-4FD8-84B9-099DA308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C65-F2EA-4575-9327-B92AF5A6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1FE-187E-4D17-B941-2556341C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D148-BEDF-4A63-9F4E-C1C88B88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894DE-ECAF-4622-A7FF-1EE58E00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66EEF-8683-408B-AAA6-ED15E3E8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3815EB-16AD-4F0A-9844-1ECBA59E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02D9B-DAFD-4095-83F7-619D144B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DFE53-5314-4B64-9838-B3FE30CC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11406-43A0-466E-AA46-1C6EB542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30363-7486-4787-8F4B-4E8A1697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5F3-BCE5-4DF8-B54D-09FA9B48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E04EF-8E1D-4E6E-A0E8-0B3669CB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2798B-3E72-42E0-B159-352A6683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A066E-EBDB-4B71-9D2B-35802CAD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EE1ADB-EC2C-422A-ADB6-BDC99D78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4D96C-49D3-4B59-A262-D475A055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745-5EDF-40AB-A949-4B516D72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AE4-DCAB-4ED0-B10A-9FD63946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A40-A8EB-4E1F-8022-BF20B756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9C71-18A2-4636-86E0-2ABFDD00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3ED8-104F-487F-AB6A-1BC2046D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52A-F73E-4C1F-8C24-3964E351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7E54-1B96-4DFD-A5E9-188E700D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54AD-4315-4E4A-8330-57D3BDD473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0871-72AD-425A-BE85-F9A2F03AEB7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6;&#1080;&#1079;&#1085;&#1100;" TargetMode="External"/><Relationship Id="rId2" Type="http://schemas.openxmlformats.org/officeDocument/2006/relationships/hyperlink" Target="http://ru.wikipedia.org/wiki/&#1041;&#1086;&#1083;&#1100;&#1085;&#1086;&#1081;" TargetMode="External"/><Relationship Id="rId3" Type="http://schemas.openxmlformats.org/officeDocument/2006/relationships/hyperlink" Target="http://ru.wikipedia.org/wiki/&#1055;&#1072;&#1090;&#1086;&#1083;&#1086;&#1075;&#1080;&#1103;" TargetMode="External"/><Relationship Id="rId4" Type="http://schemas.openxmlformats.org/officeDocument/2006/relationships/hyperlink" Target="http://ru.wikipedia.org/wiki/&#1061;&#1080;&#1088;&#1091;&#1088;&#1075;&#1080;&#1095;&#1077;&#1089;&#1082;&#1072;&#1103;_&#1086;&#1087;&#1077;&#1088;&#1072;&#1094;&#1080;&#1103;" TargetMode="External"/><Relationship Id="rId5" Type="http://schemas.openxmlformats.org/officeDocument/2006/relationships/hyperlink" Target="http://ru.wikipedia.org/wiki/&#1050;&#1088;&#1086;&#1074;&#1100;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60;&#1072;&#1081;&#1083;:Antishock_body_position.svg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Intensivstation_%2801%29_2007-03-03.jpg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85;&#1072;&#1083;&#1100;&#1075;&#1080;&#1085;" TargetMode="External"/><Relationship Id="rId2" Type="http://schemas.openxmlformats.org/officeDocument/2006/relationships/hyperlink" Target="http://ru.wikipedia.org/wiki/&#1040;&#1089;&#1087;&#1080;&#1088;&#1080;&#1085;" TargetMode="External"/><Relationship Id="rId3" Type="http://schemas.openxmlformats.org/officeDocument/2006/relationships/hyperlink" Target="http://ru.wikipedia.org/wiki/&#1050;&#1077;&#1090;&#1086;&#1088;&#1086;&#1083;&#1072;&#1082;" TargetMode="External"/><Relationship Id="rId4" Type="http://schemas.openxmlformats.org/officeDocument/2006/relationships/hyperlink" Target="http://ru.wikipedia.org/wiki/&#1052;&#1086;&#1088;&#1092;&#1080;&#1085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8;&#1072;&#1085;&#1082;&#1074;&#1080;&#1083;&#1080;&#1079;&#1072;&#1090;&#1086;&#1088;" TargetMode="External"/><Relationship Id="rId2" Type="http://schemas.openxmlformats.org/officeDocument/2006/relationships/hyperlink" Target="http://ru.wikipedia.org/wiki/&#1050;&#1086;&#1088;&#1074;&#1072;&#1083;&#1086;&#1083;" TargetMode="External"/><Relationship Id="rId3" Type="http://schemas.openxmlformats.org/officeDocument/2006/relationships/hyperlink" Target="http://ru.wikipedia.org/wiki/&#1042;&#1072;&#1083;&#1086;&#1082;&#1086;&#1088;&#1076;&#1080;&#1085;" TargetMode="External"/><Relationship Id="rId4" Type="http://schemas.openxmlformats.org/officeDocument/2006/relationships/hyperlink" Target="http://ru.wikipedia.org/wiki/&#1040;&#1083;&#1082;&#1086;&#1075;&#1086;&#1083;&#1100;" TargetMode="External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43;&#1080;&#1087;&#1086;&#1074;&#1086;&#1083;&#1077;&#1084;&#1080;&#1095;&#1077;&#1089;&#1082;&#1080;&#1081;_&#1096;&#1086;&#1082;&amp;action=edit&amp;redlink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. Клиника, профилактика, лечени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Доцент кафедры внутренних болезней №1 Краснова С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98100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рассматривается  как своеобразный нервнодистрофический процесс (Вишневский А.В.). Мощная афферентная импульсация поступает в центральную нервную систему и вызывает здесь первоначально кратковременные явления разлитого возбуждения -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эректильная фаза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коре возбуждение сменяется торможением, постепенно, приобретая разлитой характер.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озникает торпидная фаз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шока с угнетением всех функций. Развиваются острая сердечная недостаточность, дыхательная недостаточность, нарушение обмена, деятельности желез внутренней секреции. Эти нарушения отрицательно влияют на нервную систему, развивается «порочный круг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ваются  нарушения гемодинамики, при торпидной фазе - падение артериального давления, венозного давления, уменьшение массы циркулирующей крови, рефлекторный спазм мелких сосудов, что приводит к нарушению газообмена. Развивается циркуляторная и дыхательная гипоксия, от которой страдают все органы и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эректильной фазе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пострадавший находится в сознании. Отмечается двигательное и речевое возбуждение, нередко выражена реакция на боль. Лицо и видимые слизистые гиперемированы,  иногда бледные, дыхание учащено, пульс не ускорен или даже замедлен, удовлетворительного наполнения и напряжения, АД может быть даже повышенным. Данная фаза шока, как правило, кратковременная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ffcc"/>
                </a:solidFill>
                <a:uFillTx/>
                <a:latin typeface="Arial"/>
              </a:rPr>
              <a:t>В торпидной фаз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наблюдается общая заторможенность пострадавшего («окоченение» по Н.И.Пирогову). Сознание, как правило,  сохранено, на первый план выступает психическое угнетение, безучастное отношение пораженного к окружающему, отсутствие или снижение реакции на боль. Лицо бледное с заостренными чертами, температура тела пониженная, кожа холодная, в тяжелых случаях покрыта липким потом. Дыхание частое, поверхностное. Пульс учащен, слабого наполнения и напряжения, АД снижено. Подкожные вены спавшиеся. Отмечается жажда, иногда рвота, нередка олигур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зависимости от тяжести состояния пострадавшего клинически различают </a:t>
            </a: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4 стадии торпидного ш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Шок 1 степени (легкий): общее состояние пострадавшего удовлетворительное, заторможенность не выражена, пульс 90-100 ударов в мин., удовлетворительного наполнения и напряжения, АД 95-100 мм, рт, ст. или выше. Температура тела нормальная или несколько сниженная. Прогноз благоприят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Травматически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— тяжёлое, угрожающе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жизн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больного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патологическо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состояние, возникающее при тяжёлых травмах, таких как переломы костей таза, тяжёлые огнестрельные ранения, черепно-мозговая травма, травма живота с повреждением внутренних органов и др.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операциях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большой потере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крови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равматический шок является ответной реакцией организма на тяжелую механическую травму или ожог. В зависимости от этиологии различают две формы травматического шока: шок от механической травмы и ожоговый шок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Рисунок 20" descr="C:\Documents and Settings\Администратор\Рабочий стол\777\logo_fin.jpg"/>
          <p:cNvPicPr/>
          <p:nvPr/>
        </p:nvPicPr>
        <p:blipFill>
          <a:blip r:embed="rId6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ffcc"/>
                </a:solidFill>
                <a:latin typeface="Arial"/>
              </a:rPr>
              <a:t>Шок 2 степени (средний):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выражена заторможенность, снижается температура тела, кожные покровы бледные, пульс 110-120 уд. в мин., слабого наполнения и напряжения, неровный, АД 90-75 мм, рт, ст., дыхание учащено, поверхностное. Прогноз серьез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3 степени (тяжелый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тяжелое, резкая заторможенность, температура тела снижена, АД 75 мм, рт, ст., пульс 120-160 уд. в мин. очень слабого наполнения и напряжения, нитевидный, несосчитываемый. Прогноз очень серье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4 степени (предагональное состояние):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общее состояние крайне тяжелое, АД не определяется, пульс на лучевых артериях не выявляется, слабая пульсация крупных артерий, дыхание поверхностное, редко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гональное состояние имеет те же признаки, что и предагональное, но сочетается с более выраженными дыхательными нарушениями типа Чайн-Стокса, цианоза и п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ассификация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линическая смерть начинается с момента последнего вздоха и остановки сердца. Активная функция ЦНС и клинические признаки жизни у раненого полностью отсутствуют. Однако обменные процессы в мозговой ткани продолжаются еще в среднем 5-6 мин (чаще 3-5 мин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ечение травматического шока состоит из оказания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НА ПОЛЕ БО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амопомощи, взаимопомощи и доврачебной помощи В ОЧАГАХ МАССОВЫХ САНИТАРНЫХ ПОТЕР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рачебной помощи на М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поле боя и в очагах массовых потерь, возникающих в случае поражения ядерным оружием, противошоковые мероприятия осуществляются в порядке оказания первой медицинской помощи. Эту помощь оказывают санитары и санитарные инструкторы, младший и средний медицинский персонал, включенный в состав спасательных команд, а также пострадавшие в порядке взаимопомощ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Меры первой медицинской помощи: тушение пламени и горящей одежды на пораженном, временная остановка кровотечения, устранение асфиксии (освобождение дыхательных путей от крови, слизи, земли, устранение западения языка, наложение окклюзионной повязки, придание бокового стабилизированного положения, введение S-образной трубки и др.), быстрый вынос тяжелораненых с поля боя и сосредоточение их в укры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3311280" cy="3600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220px-Antishock_body_posi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844640"/>
            <a:ext cx="3672000" cy="3097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7"/>
          <p:cNvSpPr/>
          <p:nvPr/>
        </p:nvSpPr>
        <p:spPr>
          <a:xfrm>
            <a:off x="696600" y="324576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нять ножной конец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284720" y="443700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Рисунок 20" descr="C:\Documents and Settings\Администратор\Рабочий стол\777\logo_fin.jpg"/>
          <p:cNvPicPr/>
          <p:nvPr/>
        </p:nvPicPr>
        <p:blipFill>
          <a:blip r:embed="rId4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481800" cy="46818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2400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ескровленные раненые с наложенными на поврежденные конечности жгут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а также раненые в грудь с резкой одышкой должны выноситься с поля боя в первую очередь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395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ледующим мероприятием является иммобилизация области повреждения. Открытые повреждения следует защитить от вторичного загрязнения повязками. Организуется щадящая транспортировка. Необходимо предохранить раненых от переохлаждения, сырости и влияния др. неблагоприят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25092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68360" y="2133720"/>
            <a:ext cx="4896000" cy="33829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На мп противошоковые мероприятия осуществляет фельдшер в порядке оказания доврачебной медицинской помощи. В большинстве случаев это те же меры, что и при оказании первой медицинской помощи, но выполняются они более квалифицированно, при лучшей обеспеченности необходимыми средствами и несколько лучших услов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тяжелых нарушениях дыхания следует произвести туалет полостей рта и носоглотки, устранить западение корня языка, ввести и закрепить воздуховод, восстановить проходимость верхних дыхательных путе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открытом пневмотораксе необходимо наложить окклюзионную повязку, для этого может быть использована полиэтиленовая, целофановая пленка или клеенк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дновременно и без промедления нужно остановить и наружное кровотечение наложением жгута или давящей повязки, неправильно наложенный жгут исправить, а импровизированный - заменить табельным. Затем на рану наложить асептическую повязку, исправить или заменить "сбившуюся" повяз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переломах костей, повреждениях магистральных сосудов и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рупных нервов производится тщательная иммобилизация транспортными шинами, исправляются неправильно наложенные шины, импровизированные шины при необходимости заменяются табельны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едварительно производятся инъекции анальгетиков и седативных средств: пантопон или промедол (1-2 мл 2% р-ра), димедрол (2 мл 2% р-ра), внутримышечно или внутривенно медленно, используются аутоаналгететеры "Трингал". При отсутствии противопоказаний (проникающее ранение и закрытая травма живота) следует давать горячее пи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неных с признаками шока после оказания им помощи в указанном объеме нужно немедленно направлять на мпп в реанимационное отделение. Транспорт для транспортировки должен быть максимально щадящим, а сроки доставки - предельно коротки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пециализированная помощь при шоке осуществляется в отделениях реанимации и интенсивной терап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4" descr="250px-Intensivstation_%2801%29_2007-03-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3284640"/>
            <a:ext cx="4319640" cy="259236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20" descr="C:\Documents and Settings\Администратор\Рабочий стол\777\logo_fin.jpg"/>
          <p:cNvPicPr/>
          <p:nvPr/>
        </p:nvPicPr>
        <p:blipFill>
          <a:blip r:embed="rId3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се раненые с признаками шока на мпп в процессе медицинской сортировки распределяются на три групп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ервая - раненые, которые одновременно нуждаются в энергичной противошоковой терапии и в экстренных (по жизненным показаниям) оперативных вмешательствах. У раненых этой группы симптомы шока и тяжесть состояния обычно определяются повреждением внутренних органов и внутренним кровотечением. Чаще всего эту группу составляют раненые с повреждениями органов груди, живота, таза, магистральных сосудов и с разрушением (отрывами) конеч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 раненых этой группы противошоковые мероприятия должны быть направлены лишь на устранение критической степени расстройств дыхания (при необходимости - аппаратная ИВЛ) и кровообращения, без чего эвакуация на следующий этап может закончиться смертью в пути. Их после быстрого оказания самого необходимого противошокового и реанимационного пособия нужно незамедлительно эвакуировать в омед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торую группу составляют раненые, у которых шок возник в результате повреждений, не требующих неотложных оперативных вмешательств или вообще оперативного лечения. К таким повреждениям относятся огнестрельные и неогнестрельные (открытые и закрытые) переломы костей конечностей, без признаков повреждений магистральных сосудов и кровотечений. При массовом поступлении и затруднении с транспортом раненых этой группы, после оказания им в сортировочной палатке или в перевязочной необходимой противошоковой помощи, вынужденно придется эвакуировать в омедб во вторую очере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ретью группу следует отнести пострадавших в терминальном состоянии, у которых имеются ранения, явно не совместимые с жизнью. Такие раненые нуждаются в минимальной помощи, облегчаю   щей страд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мощь раненым в зависимости от сортировочной группы, должна быть оказана непосредственно на сортировочной площадке, в сортировочной палатке, или, чаще, в перевязо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шоке первая помощь тем эффективней, чем раньше она оказана. Она должна быть направлена на устранение причин шока (снятие или уменьшение болей, остановка кровотечения, проведение мероприятий, обеспечивающих улучшение дыхания и сердечной деятельности и предупреждающих общее охлажде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392360" cy="3097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омплексе профилактических и лечебных противошоковых мероприятий важное значение имеет устранение боли, отрицательных рефлекторных реакций и неблагоприятного психического напряжения. С этой целью применяются анальгетики, нейролептики, новокаиновые блокады и щадящая иммобилизация и транспортиров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меньшение болей достигается приданием больному или поврежденной конечности положения, при котором меньше условий для усиления болей, поведением надежной иммобилизации поврежденной части тела, дачей обезболивающи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обезболивание — побрызгать «заморозкой» или приложить к ране холод (пузырь со льдом или холодную воду), дать 1—2 таблетки любого из имеющихся под рукой ненаркотических анальгетиков типа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анальг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аспирин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кеторолака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при условии, что у больного на них нет аллергии) или, что лучше, сделать инъекцию ненаркотического анальгетика. Предпочтительно давать ненаркотический анальгетик помощн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и этом не следует использовать </a:t>
            </a:r>
            <a:r>
              <a:rPr b="0" lang="ru-RU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морфин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 (он сильно снижает артериальное давление и сильно угнетает дыхание, сильнее других наркотиков вызывает сонливость и заторможенность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озможности следует обеспечить доступное неспециалисту снятие нервно—психического стресса (который тоже усугубляет шок): дачу 1—2 таблеток любого имеющегося бензодиазепинов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транквилизатор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или 40—50 капель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корвалол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валокордин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или небольшого количества крепкого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спиртного напит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Рисунок 20" descr="C:\Documents and Settings\Администратор\Рабочий стол\777\logo_fin.jpg"/>
          <p:cNvPicPr/>
          <p:nvPr/>
        </p:nvPicPr>
        <p:blipFill>
          <a:blip r:embed="rId5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ую терапию с целью восполнения ОЦК на мпп нужно проводить по строгим показаниям. Она предназначена, главным образом, при гипотонии, обусловленной наружной кровопотерей, и только после остановки кровотечения, хотя бы и временной. Именно для таких раненых целесообразно использовать те небольшие запасы крови, которыми располагает мпп. В качестве плазмозаменителей используют полиглюкин, лактасол, физиологический раствор хлористого натрия, 10% р-р глюко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6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464360" cy="352872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овокаиновых блокад по А.В.Вишневскому (шейная вагосимпатическая, поясничная паранефральная, футлярная при поражении конечности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/в или в/а вливания крови, плазмы крови, альбумина, противошоковых жидкостей, реополиглюки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сердечно - сосудистых средств (строфантин, корглюкон), в тяжелых случаях показаны адреномиметические средства (эфедрин, мезатон, норадреналин) и глюкокортикои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Лечение травматическ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галяции увлажненного кислорода, инъекции лобелина, в тяжелых случаях – искусственная вентиляция легких с помощью респираторов или интубация трахе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 Введение витаминов, особенно аскорбиновой кислоты и витамина В¹, хлорида кальц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Введение противостолбнячной сыворотки и анатоксина, антибиот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- Проведение нейролептанальгез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7928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офилактик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ПРОФИЛАКТИКА травматического ш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здержаться от оперативного вмешательства (только по жизненным показания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иммобилизация при перелом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Хорошая анальгезия, седативные препар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18728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- клинический синдром, возникающий при глубоких ожогах, занимающих у взрослых более 15% поверхности тела, а у детей от 5—10%. Он представляет собой разновидность травматического шока и развивается при воздействии на кожу , дыхательные пути огня во время взрывов, пожа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547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4927320" cy="392904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835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азвитию шока способствует кровопотеря, охлаждение, физическое утомление, психическая травма, голодание, авитаминоз. Поздний вынос раненных, вторичная травматизация в процессе эвакуации, запоздалая и неполноценная медицинская помощь влекут за собой учащение случаев шо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мирное время в связи с насыщенностью сложной техникой, высоким ритмом быта, регистрируются много травм, которые нередко осложняются травматическим шок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й болезни выделяют 4 периода: I — ожоговый шок; II — острая ожоговая токсемия; III — септикотоксемия; IV—реконвалесц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является первой стадией ожоговой болезни. На тяжесть шока ре- шающее влияние оказывает общая площадь ожога, глубина поражения. Так ожоговый шок развивается при площади глубокого ожога равной 9-10% поверхности тел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ричина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патогенезе играют нервно - болевые влияния. В основе патогенеза лежат боль и перераздражение ц.н.с., большая плазмопотеря, сгущение крови, образование токсических, биологически активных веществ в зоне ожогового некроза, что ведет к острым тяжелым расстройствам центральной и регионарной гемодинамики, микроциркуляции, нарушениям кислотно-щелочного состояния и водно-солевого равнове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4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539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С первых часов развивается острая сосудистая недостаточность. Генерализованный спазм периферических артерий способствует сохранению функций органов и систем, в ближайшие 1-2 часа начинается снижение ОЦК, нарастающее на протяжении 2 суток, из - за плазмопотери (до 3 г/сут. белка), гиперкоагуляция, приводящая к тромбозам. Олигурия связана со спазмом арте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течении ожогового шока наблюдается, как и при травматическом шоке, развитие вначале эректильной, а затем торпидной фазы шока, а также различаются 4 степени тяжести в зависимости от обширности ожог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I (легкая) степень возникает при поверхностных ожогах, занимающих до 20% поверхности тела, или при глубоких ожогах, площадь которых составляет до 10% поверхности тела. Сознание пострадавшего сохранено, отмечаются бледность кожного покрова, мышечная дрожь, изредка тошнота, рвота. Тахикардия умеренная, АД не снижено, ОЦК понижен на 10%. Большинство пострадавших этой группы удается вывести из шока к концу первых сут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жоговый шок средней тяжести (II степень) характерен при ожогах 20—40% поверхности тела, когда глубокие ожоги составляют не более 20%. Он характеризуется возбуждением, сменяющимся заторможенностью. Сознание сохранено. Кожа в области ожога бледная, сухая, холодная. Больного беспокоят озноб, жажда, тошнота, часто рвота. Дыхание учащено, АД снижено, ОЦК понижен на 10—20%. Функция почек нарушается, отмечается олигурия, на 2-е сутки в крови повышается уровень остаточного азота до 41,3—44,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часто возникают гематурия и альбуминурия. Большинство пострадавших удается вывести из состояния шока в течение 2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11600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яжелый (Ill степень) развивается при обширных ожогах, захватывающих 40—60% поверхности тела (глубокий ожог не более 40%). Состояние крайне тяжелое, сознание спутанное, пострадавший заторможен. Кожный покров бледно-серого цвета, холодный. Отмечаются выраженная жажда, частая рвота, мышечные судороги, одышка, цианоз, тахикардия до 120—130 ударов в 1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ОЦК снижен на 20—30%. Существенно страдает функция почек, развивается олигурия, а у больных старше 50 лет — анурия. Количество остаточного азота в крови возрастает до 50,7—56,4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Борьба с шоком этой группы пострадавших очень трудна и далеко не всегда эффекти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патогенезу травматический шок соответствует </a:t>
            </a:r>
            <a:r>
              <a:rPr b="0" lang="ru-RU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гиповолемическому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 Основные факторы, вызывающие данный вид шока, – сильное болевое раздражение и потеря больших объёмов кро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Клиническая картина ожогового шо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3132000" y="83664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Крайне тяжелый (IV степень) наблюдается у пострадавших с ожогами, занимающими свыше 60% поверхности тела (из них глубокие ожоги — не менее 40%). Состояние крайне тяжелое, сознание спутанное или отсутствует. Кожный покров бледный с мраморным оттенком. Температура тела снижена. Пульс нитевидный, АД ниже 100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 мм р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Наблюдается выраженная одышка, в легких выслушиваются влажные хрипы. Больных мучит жажда, частая рвота типа кофейной гущи, развивается парез желудочно-кишечного тракта, нарастает метаболический ацидоз. Резко нарушается функция почек с развитием анурии, постоянной гематурии, альбуминурии, гемоглобинурии. Количество остаточного азота крови с первых часов более 60,0 </a:t>
            </a:r>
            <a:r>
              <a:rPr b="0" i="1" lang="ru-RU" sz="2000" spc="-1" strike="noStrike">
                <a:solidFill>
                  <a:srgbClr val="00ffcc"/>
                </a:solidFill>
                <a:latin typeface="Arial"/>
              </a:rPr>
              <a:t>ммоль/л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. ОЦК снижен на 20—40%. Большинство пострадавших погибает в первые сутки, а остальные — в ближайшие дни. Благоприятный исход наблюдается крайне редк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ый шок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характеризуется своеобразной клинической картиной: в первые часы после травмы больной возбужден, неадекватно оценивает свое состояние, затем возбуждение сменяется заторможенностью и адинамией, развивается гиповолемия, степень которой зависит от тяжести ож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Ожоговы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и более глубоких ожогах объем ци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лирующей крови уменьшается вследствие как депонирования крови, так и ее гемолиза. Для клинической картины ожогового шока характерны бледность кожных покровов, уменьшение выделения мочи вплоть до анурии, жажда, тошнота, артериальное давление однако меняется только при тяжелых степенях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ожогового шока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ЛЕЧЕНИЕ такое же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как и травматического шока, с наложением асептических повязок на ожоговую поверх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82692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3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9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190800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Противошоковая терапия включает комплекс мероприятий, имеющих целью купирование болевого синдрома и снятие эмоционального напряжения, восстановление эффективной гемодинамики, нормализацию внешнего дыхания и газообмена, устранение ацидоза, профилактику и лечение нарушений функции почек, коррекцию нарушений водно-электролитного баланса, восполнение белкового дефицита и устранение нарастающей интоксикации и метаболических расстройств. Из общих мероприятий при лечении ожогового шока рекомендуется согревание больного. Если нет рвоты, необходимо дать пить горячий сладкий чай или кофе, щелочные минеральные воды или простой соляно-щелочной раствор (1-2 г питьевой соды и 3-4 г поваренной соли на 1 л во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3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страдавшие с тяжелыми ожогами и подозрением на ожоговый шок должны быть экстренно госпитализированы в реанимационное отделение ожогового центра. Лечение начинают во время транспортировки на догоспитальном этапе и продолжают в стационаре. Ожоговые поверхности закрывают асептическими бинтовыми или контурными сухими или влажно-высыхающими повязками, пропитанными растворами антисептиков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54936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40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47628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4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Больного согревают, укрывая его одеялами. Не рекомендуется контактное согревание грелками. При отсутствии рвоты пострадавшего поят минеральной водой, щелочно-солевым раствором (1/2 чайной ложки гидрокарбоната натрия и 1 чайная ложка хлорида натрия на 1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оды). Прием большого количества бессолевых жидкостей может привести к так называемому водному отравл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Патогенез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тивошоковую терапию начинают с обезболивания наркотическими и ненаркотическими анальгетиками в сочетании с антигистаминными препаратами (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0% раствора анальгин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2% раствора промедола, 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димедрола и др.). Хороший обезболивающий и седативный эффект дает нейролептаналгезия: дроперидол (0,25% раствор, по 1—5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 в сочетании с фентанилом (0,005% раствор, по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Уже во время транспортировки можно эффективно применять масочный наркоз с закисью азота, фторотаном и внутривенное введение барбитуратов (гексенала, тиопентал-натрия). В стационаре производят новокаиновые блокады, оказывающие не только обезболивающее действие, но и благотворно влияющие на вегетативные и трофические функции нервн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нормализации внешнего дыхания больному придают полусидячее положение, через носовой катетер осуществляют ингаляцию кислорода, вводят бронхолитические препараты (эуфиллин, эфедрин и др.). Если ожоговый струп в виде панциря охватывает и сдавливает грудную клетку, то для улучшения дыхания продольными разрезами производят декомпрессионную некротом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нфузионная терапия является основным методом коррекции нарушенного гомеостаза. Объем и характер переливаемых жидкостей, темп и последовательность введения определяются клиническими и лабораторными показателями, главными из которых являются ОЦК, гематокрит, кислотно-щелочное состояние, содержание электролитов в плазме, суммарные критерии функции почек, состояние центральной гемодинамики, микроциркуляторные расстройства</a:t>
            </a:r>
            <a:r>
              <a:rPr b="0" lang="ru-RU" sz="28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чное установление этих показателей на начальных этапах лечения не всегда возможно, поэтому в первые 6—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лечения объем вливаемых жидкостей рассчитывают по правилу «двойного нуля» (прибавляют к площади ожога, выраженной в процентах, два нуля; не менее половины полученного объема составляют кристаллоиды). Например, при ожоговом шоке с поражением 20% поверхности тела нужно перелить 20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и, в т.ч.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5% раствора глюкозы, 3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изотонического раствора хлорида натрия, 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4% раствора гидрокарбоната натрия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олиглюкина, 5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елатино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борьбы с гиповолемией и гипопротеинемией широко применяют нативные коллоидные растворы (нативную, сухую и свежезамороженную плазму крови, протеин, альбумин). При развитии олигурии или анурии показано введение осмотических диуретиков (маннита, мочевины, 40% раствора глюкозы), назначаемых только после полного восполнения ОЦК. Снижению ожоговой токсемии способствует переливание низкомолекулярных декстранов (реополиглюкина, реоглюмана, рондекса) и препаратов на основе поливинилпирролидона (гемодеза, неогемодеза, неокомпенсана, полидеза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8436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Реополиглюкин улучшает микроциркуляцию, благодаря дезагрегации эритроцитов, ликвидации стаза в прекапиллярной и капиллярной сети, что особенно важно на фоне гемоконцентрации и повышения вязкости крови. Критериями адекватности инфузионной терапии являются центральное венозное давление в пределах 70—15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м вод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ст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., почасовой диурез 1,5—2,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/кг/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гематокрит 38—4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61128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4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Для восполнения энергетических потерь и коррекции обменных процессов вводят 10—20% растворы глюкозы, гидролизаты белков (раствор гидролизина, гидролизат казеина), аминокислотные смеси (полиамин, аминон, аминосол), кокарбоксилазу (100—200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г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в сутки). ДТФ (1—2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1% раствора в сутки), витамины группы В, аскорбиновую кисло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ррекцию кислотно-щелочного состояния устранение ацидоза проводят вливаниями щелочных растворов: 4% раствора гидрокарбоната натрия, трисамина, лактасола и д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а и лечение сердечно-сосудистых нарушений при ожоговом шоке заключается во введении сердечных гликозидов (коргликона, дигоксина), аналептиков (кордиамина, сульфо-камфокаин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468360" y="620640"/>
            <a:ext cx="587160" cy="520920"/>
          </a:xfrm>
          <a:prstGeom prst="rect">
            <a:avLst/>
          </a:prstGeom>
          <a:ln w="0">
            <a:noFill/>
          </a:ln>
        </p:spPr>
      </p:pic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оличество, темп и последовательность инфузий определяются клиническим течением шока. При тяжелом шоке инфузию начинают со струйного введения 500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м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за 1—2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мин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, в дальнейшем переходят к капельному вливанию, регулируя его в зависимости от ЦВД, почасового диуреза и др. В среднем на каждого тяжелообожженного расходуется около 6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жидкостей, причем в первые 8 </a:t>
            </a:r>
            <a:r>
              <a:rPr b="0" i="1" lang="ru-RU" sz="2400" spc="-1" strike="noStrike">
                <a:solidFill>
                  <a:srgbClr val="00ffcc"/>
                </a:solidFill>
                <a:latin typeface="Arial"/>
              </a:rPr>
              <a:t>ч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противошоковой терапии больной должен получить половину суто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бъе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7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Травматический шок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о времени возникновения различают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шок перв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сразу после травмы или в ближайший отрезок времени (через 1 - 2 часа) и вторичный - через 4 - 24 часа. Первичный шок является результатом непосредственно травмы, а </a:t>
            </a:r>
            <a:r>
              <a:rPr b="1" lang="ru-RU" sz="2400" spc="-1" strike="noStrike">
                <a:solidFill>
                  <a:srgbClr val="00ffcc"/>
                </a:solidFill>
                <a:latin typeface="Arial"/>
              </a:rPr>
              <a:t>вторичный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- результат дополнительной травматизации. Может развиться шок после снятия жгута с конеч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В клинической картине травматического шока может наблюдаться две фазы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ректильна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Торпид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971640" y="549360"/>
            <a:ext cx="587160" cy="520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На 2-е сутки пострадавшему вводят примерно половину объема жидкостей, полученного им в первый день. Нередко инфузионная терапия проводится на фоне дробной гепаринизации (до 20 000 ЕД в сутки) под контролем свертывающей системы кров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Лечение ожогового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Профилактику инфекционных осложнений начинают как можно раньше. Она включает профилактику столбняка по обычной схеме и массивную парентеральную терапию антибиотиками широкого спектра действ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62064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8000"/>
                </a:solidFill>
                <a:latin typeface="Arial"/>
              </a:rPr>
              <a:t>Травматический и ожоговый шок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ffcc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Рисунок 20" descr="C:\Documents and Settings\Администратор\Рабочий стол\777\logo_fin.jpg"/>
          <p:cNvPicPr/>
          <p:nvPr/>
        </p:nvPicPr>
        <p:blipFill>
          <a:blip r:embed="rId1"/>
          <a:srcRect l="-1032" t="0" r="56774" b="0"/>
          <a:stretch/>
        </p:blipFill>
        <p:spPr>
          <a:xfrm>
            <a:off x="755640" y="1268280"/>
            <a:ext cx="587520" cy="520920"/>
          </a:xfrm>
          <a:prstGeom prst="rect">
            <a:avLst/>
          </a:prstGeom>
          <a:ln w="0">
            <a:noFill/>
          </a:ln>
        </p:spPr>
      </p:pic>
      <p:sp>
        <p:nvSpPr>
          <p:cNvPr id="4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Arial"/>
              </a:rPr>
              <a:t>Клиническая картина шо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5040360" cy="3600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20" descr="C:\Documents and Settings\Администратор\Рабочий стол\777\logo_fin.jpg"/>
          <p:cNvPicPr/>
          <p:nvPr/>
        </p:nvPicPr>
        <p:blipFill>
          <a:blip r:embed="rId2"/>
          <a:srcRect l="-1032" t="0" r="56774" b="0"/>
          <a:stretch/>
        </p:blipFill>
        <p:spPr>
          <a:xfrm>
            <a:off x="755640" y="1197000"/>
            <a:ext cx="587520" cy="5205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4T18:36:28Z</dcterms:created>
  <dc:creator>Татьяна</dc:creator>
  <dc:description/>
  <dc:language>en-US</dc:language>
  <cp:lastModifiedBy>LEGION</cp:lastModifiedBy>
  <dcterms:modified xsi:type="dcterms:W3CDTF">2014-11-06T11:24:45Z</dcterms:modified>
  <cp:revision>31</cp:revision>
  <dc:subject/>
  <dc:title>Травматический и ожоговый шок. Клиника, профилактика, лечение</dc:title>
</cp:coreProperties>
</file>