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524A-060A-4D66-9508-872BE760A96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. Клиника, профилактика, 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цент кафедры внутренних болезней №1 Краснова 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B77F-7E11-4352-966A-6CFA69FCEC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ректильная фаза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6239-F31B-4CBA-88C1-61583DE0A1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3E95-B259-46AD-BD26-C2C81368B9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зникает торпидная фаз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07F4-07C2-41A8-B1C4-9A1CF6137A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C4A9-5DAF-4B77-B358-13A5BA9581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эректильной фаз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950B-A7D7-4F01-A3F6-2C37956026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торпидной фаз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BB43-69A9-4907-8DF6-58D9B13AFC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CAE5-8D46-4382-A5BB-126EA061E9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зависимости от тяжести состояния пострадавшего клинически различают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4 стадии торпидного ш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008E-1C71-4654-A5F9-845DC98004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— тяжёлое, угрожающе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зн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ольног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атологическо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операциях, большой потере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C031-3C8D-4437-96D4-857940F69B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2 степени (средний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Шок 3 степени (тяжелый):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0C82-9C26-42F8-B015-D0B4F8463E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4 степени (предагональное состояние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819-9B7B-4666-967F-9043A9C6F8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3EEC-FE09-4516-B159-27029F29DB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чение травматического шока состоит из оказания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НА ПОЛЕ БО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В ОЧАГАХ МАССОВЫХ САНИТАРНЫХ ПОТЕР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рачебной помощи на М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11C5-DA1E-482D-960B-4092C7A671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4996-F78C-4954-A321-FE7C9EEBDB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D09A-F854-4DC7-9D9E-F91F1ECD33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19E4-4CF0-41A1-A6A8-6D3AEB82D1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бескровленные раненые с наложенными на поврежденные конечности жгут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5F5D-88D4-42BE-94F5-29D7A9E369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C48B-70C7-4180-8A9D-EC59C06CAC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BBE4-A0C6-43E1-A550-CD907290B0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6195-1892-4084-982D-5CA152648E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60A7-51C1-45E5-8489-E9EEEF685E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При переломах костей, повреждениях магистральных сосудов 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E43-DA3E-4690-B4DF-16D4DB1E36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AE97-0F61-477E-9208-DE6149A485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33C2-5AA6-405B-9162-8247A72821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3AA6-4686-4AD6-9B01-227E4A9837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E112-049A-4171-AB76-C08B921977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47F9-1F65-4669-A3E3-C8D91C9EC6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E149-1046-40B8-9C4E-7D933550A2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C57E-F215-445E-9F39-BC31A4AD6D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E543-72F1-4B29-8F67-82880DA7E7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анальгина, аспирина, кеторолака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этом не следует использовать морфин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7AC3-1609-4C49-B9C4-0DE7F85AD2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транквилизатора или 40—50 капель корвалола, валокордина, или небольшого количества крепкого спиртного напит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0E0B-9653-4CA9-B036-8DCF1EB3ED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5762-53CF-47B4-AA74-EF3E58D310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B830-04DD-4C3E-9040-BBC7A4E48E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AE34-2AD2-4886-9675-8C209A9D85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 Введение витаминов, особенно аскорбиновой кислоты и витамина В¹, хлорида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противостолбнячной сыворотки и анатоксина, антиби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ейролептанальге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8973-84AA-479D-9306-A0E0590604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филактик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ФИЛАКТИКА травматического ш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здержаться от оперативного вмешательства (только по жизненным показа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иммобилизация при перел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анальгезия, седатив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65F5-06B2-47B6-A210-77F6618208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CF2B-456D-496E-9657-F28273CEFD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CAB8-9650-418D-A353-3FA736AD44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C391-DC6F-4550-A166-E503F4DFC4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AB60-49AD-4A59-A391-E1A0770C4E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ич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481-5A4A-43B1-8296-B003B4BD18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EF7C-8F0B-434E-8F80-D0320A4518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8912-38A3-4AC2-9D8F-60983CE1C4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4CBE-1005-49F8-8350-551DF20DAC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0142-8109-43AC-8A7C-39E2FF888F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130D-2C7D-410B-AAC7-6C1E2902EA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D27A-A945-4B9C-9A4C-B23362C169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DA37-1BDC-4874-8FC0-F8F897BDEB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ин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Борьба с шоком этой группы пострадавших очень трудна и далеко не всегда эффекти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8E6A-92EA-4318-8711-CA71C0CD31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патогенезу травматический шок соответствует гиповолемическому. Основные факторы, вызывающие данный вид шока, – сильное болевое раздражение и потеря больших объём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E86F-39E3-4747-89D8-127246B2DB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4299-B160-4F67-B138-4524C8B09B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р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1292-A897-4637-8504-707BEE6CB8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ы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0B47-9BDC-4E31-A06A-8605525745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более глубоких ожогах объем цир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ого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1EAF-0AB9-4EB1-8374-087881BA4A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ЧЕНИЕ такое ж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6F05-0FEF-4C5B-9E7D-D9A85323DE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9025-D491-4CF6-8E48-AA2594D43F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E6CC-0428-4389-A4F1-63A6ED9C79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AE97-DB9F-49B7-B5B8-204BFBA236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48FC-D8B9-4001-8303-F433AF6E39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3223-8FF1-4431-A8B8-33A372E465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87CF-01C3-4078-9197-7F8342CF13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0% раствора анальгин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% раствора промедол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 в сочетании с фентанилом (0,005% раствор, по 1—2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1F39-311F-4557-BAA0-B9A939662F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BDD9-ABB0-4A04-8488-7BFCF352A8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D16E-FE19-4AA6-B404-366BE80EE0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97B0-BCBD-4491-84E8-42C4088808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дкости, в т.ч. 5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% раствора глюкозы, 3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тонического раствора хлорида натрия, 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4% раствора гидрокарбоната натрия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полиглюкина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елатин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8EEA-EFC4-435C-963D-9CEF2F5668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B244-F974-48D1-B676-69F49E4DEE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во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, почасовой диурез 1,5—2,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/кг/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гематокрит 38—4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790B-27A1-4BF3-A2B3-C5F7922DA4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г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сутки). ДТФ (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в сутки), витамины группы В, аскорбиновую кисл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F4F0-FAB1-4378-844D-0FCE1DDFFF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1D6E-4244-484D-84D0-11FFEA8669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5797-9C9A-4BDF-84C9-AA3BCC1C12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ремени возникновения различают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перв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тор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инической картине травматического шока может наблюдаться две фазы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ректи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рпи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1FC7-D61B-476D-8134-31491A22FC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5344-BAC4-4E0E-8633-A158D9C64A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1E72-7313-45D2-ACC2-99B6DFB565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9DFC-E28B-486A-A697-AD08581FBF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F14-25BF-4083-A476-075539EBB6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C53-A9ED-42F6-975C-AFD1F120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F7C-9E65-4ED7-AC63-F22E7BDC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901-08E4-4F7D-A8EF-32EB3AB2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BEE-1D08-47AD-861D-702FA8C2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9BABB-BC06-4699-916A-59BF38F1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A3739-F780-4420-BD86-EEAF1767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FB034-CE2A-4A79-9CDE-07CD2A19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C771C-1ABF-4151-859A-EAB873DA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A5DB4-9FDE-4B93-B770-49C08B38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1A4CA-5C40-4F15-80DB-82BAB99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FE3D6-62B7-4653-BAFF-3779CF7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E15-CB57-4228-A597-FEA70BDC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46289-4886-426D-9438-C0A54B2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E17F7-7DBD-49CC-B175-055BCE73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DB6F5-3429-4192-BC97-D83C91E5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0447C-C1B1-4FF6-8165-AEEAC4F4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AA75B-B967-4770-AC37-A8FF2CF8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552-4C74-4A3D-91E9-69942101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ADA-CA02-4EDF-B359-D9EAB009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98E-98BF-427A-A95A-9DBAB23C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F6B-B442-4928-9423-D1B8A1E8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66A-548F-406A-B5CD-21B8946E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55B-1D50-4AFD-8429-E856CFF6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11E-2C83-4D24-B5C6-5A99C62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C15F-A9B7-47B3-BA5B-242DF5CF35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355E-3E93-425C-85EA-44F28517C9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hyperlink" Target="http://ru.wikipedia.org/wiki/&#1061;&#1080;&#1088;&#1091;&#1088;&#1075;&#1080;&#1095;&#1077;&#1089;&#1082;&#1072;&#1103;_&#1086;&#1087;&#1077;&#1088;&#1072;&#1094;&#1080;&#1103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Antishock_body_position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ntensivstation_%2801%29_2007-03-03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83;&#1100;&#1075;&#1080;&#1085;" TargetMode="External"/><Relationship Id="rId2" Type="http://schemas.openxmlformats.org/officeDocument/2006/relationships/hyperlink" Target="http://ru.wikipedia.org/wiki/&#1040;&#1089;&#1087;&#1080;&#1088;&#1080;&#1085;" TargetMode="External"/><Relationship Id="rId3" Type="http://schemas.openxmlformats.org/officeDocument/2006/relationships/hyperlink" Target="http://ru.wikipedia.org/wiki/&#1050;&#1077;&#1090;&#1086;&#1088;&#1086;&#1083;&#1072;&#1082;" TargetMode="External"/><Relationship Id="rId4" Type="http://schemas.openxmlformats.org/officeDocument/2006/relationships/hyperlink" Target="http://ru.wikipedia.org/wiki/&#1052;&#1086;&#1088;&#1092;&#1080;&#1085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85;&#1082;&#1074;&#1080;&#1083;&#1080;&#1079;&#1072;&#1090;&#1086;&#1088;" TargetMode="External"/><Relationship Id="rId2" Type="http://schemas.openxmlformats.org/officeDocument/2006/relationships/hyperlink" Target="http://ru.wikipedia.org/wiki/&#1050;&#1086;&#1088;&#1074;&#1072;&#1083;&#1086;&#1083;" TargetMode="External"/><Relationship Id="rId3" Type="http://schemas.openxmlformats.org/officeDocument/2006/relationships/hyperlink" Target="http://ru.wikipedia.org/wiki/&#1042;&#1072;&#1083;&#1086;&#1082;&#1086;&#1088;&#1076;&#1080;&#1085;" TargetMode="External"/><Relationship Id="rId4" Type="http://schemas.openxmlformats.org/officeDocument/2006/relationships/hyperlink" Target="http://ru.wikipedia.org/wiki/&#1040;&#1083;&#1082;&#1086;&#1075;&#1086;&#1083;&#1100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80;&#1087;&#1086;&#1074;&#1086;&#1083;&#1077;&#1084;&#1080;&#1095;&#1077;&#1089;&#1082;&#1080;&#1081;_&#1096;&#1086;&#1082;&amp;action=edit&amp;redlink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. Клиника, профилактика, л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Доцент кафедры внутренних болезней №1 Краснов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98100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эректильная фаза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озникает торпидная фаз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эректильной фазе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торпидной фаз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зависимости от тяжести состояния пострадавшего клинически различают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4 стадии торпидного ш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Травматически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— тяжёлое, угрожающе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жизн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больного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патологическо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операциях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большой потер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20" descr="C:\Documents and Settings\Администратор\Рабочий стол\777\logo_fin.jpg"/>
          <p:cNvPicPr/>
          <p:nvPr/>
        </p:nvPicPr>
        <p:blipFill>
          <a:blip r:embed="rId6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Шок 2 степени (средний):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3 степени (тяжелый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4 степени (предагональное состояние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ечение травматического шока состоит из оказания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НА ПОЛЕ БО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В ОЧАГАХ МАССОВЫХ САНИТАРНЫХ ПОТЕР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рачебной помощи на М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311280" cy="360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20px-Antishock_body_posi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844640"/>
            <a:ext cx="3672000" cy="30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696600" y="324576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ять ножной конец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84720" y="443700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20" descr="C:\Documents and Settings\Администратор\Рабочий стол\777\logo_fin.jpg"/>
          <p:cNvPicPr/>
          <p:nvPr/>
        </p:nvPicPr>
        <p:blipFill>
          <a:blip r:embed="rId4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81800" cy="4681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ескровленные раненые с наложенными на поврежденные конечности жгут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переломах костей, повреждениях магистральных сосудов и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250px-Intensivstation_%2801%29_2007-03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28464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C:\Documents and Settings\Администратор\Рабочий стол\777\logo_fin.jpg"/>
          <p:cNvPicPr/>
          <p:nvPr/>
        </p:nvPicPr>
        <p:blipFill>
          <a:blip r:embed="rId3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анальг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спир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еторолак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этом не следует использовать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орфин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транквилизатор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или 40—50 капель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орвалол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валокордин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или небольшого количества крепк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спиртного напит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5287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 Введение витаминов, особенно аскорбиновой кислоты и витамина В¹, хлорида каль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противостолбнячной сыворотки и анатоксина, антибиот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ейролептанальге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офилактик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ПРОФИЛАКТИКА травматического ш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здержаться от оперативного вмешательства (только по жизненным показания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иммобилизация при перело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анальгезия, седативные препар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18728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547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27320" cy="39290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835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ичина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539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11600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Борьба с шоком этой группы пострадавших очень трудна и далеко не всегда эффек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патогенезу травматический шок соответствует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гиповолемическому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Основные факторы, вызывающие данный вид шока, – сильное болевое раздражение и потеря больших объёмов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Клиническая картина ожогов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132000" y="83664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 мм р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ы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более глубоких ожогах объем ци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ого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ЛЕЧЕНИЕ такое ж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0% раствора анальгин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2% раствора промедол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 в сочетании с фентанилом (0,005% раствор, по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и, в т.ч.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% раствора глюкозы, 3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зотонического раствора хлорида натрия, 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4% раствора гидрокарбоната натрия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олиглюкина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елатин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м вод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, почасовой диурез 1,5—2,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/кг/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гематокрит 38—4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11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г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в сутки). ДТФ (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в сутки), витамины группы В, аскорбиновую кисл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468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личество, темп и последовательность инфузий определяются клиническим течением шока. При тяжелом шоке инфузию начинают со струйного введения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за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в дальнейшем переходят к капельному вливанию, регулируя его в зависимости от ЦВД, почасового диуреза и др. В среднем на каждого тяжелообожженного расходуется около 6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ей, причем в первые 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ротивошоковой терапии больной должен получить половину сут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ъе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ремени возникновения различают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перв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тор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линической картине травматического шока может наблюдаться две фазы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ректильн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рпи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126828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119700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8:36:28Z</dcterms:created>
  <dc:creator>Татьяна</dc:creator>
  <dc:description/>
  <dc:language>en-US</dc:language>
  <cp:lastModifiedBy>LEGION</cp:lastModifiedBy>
  <dcterms:modified xsi:type="dcterms:W3CDTF">2014-11-06T11:24:45Z</dcterms:modified>
  <cp:revision>31</cp:revision>
  <dc:subject/>
  <dc:title>Травматический и ожоговый шок. Клиника, профилактика, лечение</dc:title>
</cp:coreProperties>
</file>