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5766-7EA2-4FD1-9A7E-0516CAFA07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9;&#1085;&#1100;" TargetMode="External"/><Relationship Id="rId2" Type="http://schemas.openxmlformats.org/officeDocument/2006/relationships/hyperlink" Target="http://ru.wikipedia.org/wiki/&#1041;&#1086;&#1083;&#1100;&#1085;&#1086;&#1081;" TargetMode="External"/><Relationship Id="rId3" Type="http://schemas.openxmlformats.org/officeDocument/2006/relationships/hyperlink" Target="http://ru.wikipedia.org/wiki/&#1055;&#1072;&#1090;&#1086;&#1083;&#1086;&#1075;&#1080;&#1103;" TargetMode="External"/><Relationship Id="rId4" Type="http://schemas.openxmlformats.org/officeDocument/2006/relationships/slide" Target="../slides/slide2.xml"/><Relationship Id="rId5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и ожоговый шок. Клиника, профилактика, 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цент кафедры внутренних болезней №1 Краснова С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78BC-A90C-4DD4-800C-8EE56201CA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Шок рассматривается  как своеобразный нервнодистрофический процесс (Вишневский А.В.). Мощная афферентная импульсация поступает в центральную нервную систему и вызывает здесь первоначально кратковременные явления разлитого возбуждения -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ректильная фаза шок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5FE3-DE7C-4703-AC47-20CE6BA301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E4A6-D71B-4E58-9ABB-FD3A90D2D6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коре возбуждение сменяется торможением, постепенно, приобретая разлитой характер.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зникает торпидная фаз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шока с угнетением всех функций. Развиваются острая сердечная недостаточность, дыхательная недостаточность, нарушение обмена, деятельности желез внутренней секреции. Эти нарушения отрицательно влияют на нервную систему, развивается «порочный круг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7BD0-2DA0-4C12-BB7A-FD93A26C8E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звиваются  нарушения гемодинамики, при торпидной фазе - падение артериального давления, венозного давления, уменьшение массы циркулирующей крови, рефлекторный спазм мелких сосудов, что приводит к нарушению газообмена. Развивается циркуляторная и дыхательная гипоксия, от которой страдают все орган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A1C0-354B-4442-ABD5-4BE8FFAB1C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 эректильной фаз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пострадавший находится в сознании. Отмечается двигательное и речевое возбуждение, нередко выражена реакция на боль. Лицо и видимые слизистые гиперемированы,  иногда бледные, дыхание учащено, пульс не ускорен или даже замедлен, удовлетворительного наполнения и напряжения, АД может быть даже повышенным. Данная фаза шока, как правило, кратковременная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B236-9E86-4CC3-9A4F-8E7A3425E6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 торпидной фаз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наблюдается общая заторможенность пострадавшего («окоченение» по Н.И.Пирогову). Сознание, как правило,  сохранено, на первый план выступает психическое угнетение, безучастное отношение пораженного к окружающему, отсутствие или снижение реакции на боль. Лицо бледное с заостренными чертами, температура тела пониженная, кожа холодная, в тяжелых случаях покрыта липким потом. Дыхание частое, поверхностное. Пульс учащен, слабого наполнения и напряжения, АД снижено. Подкожные вены спавшиеся. Отмечается жажда, иногда рвота, нередка олигу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53CE-EAF2-4CD3-B9E7-9F9AA23D52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4165-DF59-4A41-8100-696D552392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зависимости от тяжести состояния пострадавшего клинически различают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4 стадии торпидного ш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Шок 1 степени (легкий): общее состояние пострадавшего удовлетворительное, заторможенность не выражена, пульс 90-100 ударов в мин., удовлетворительного наполнения и напряжения, АД 95-100 мм, рт, ст. или выше. Температура тела нормальная или несколько сниженная. Прогноз благоприя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C72D-30F4-40AD-8A5B-BCFBF0EAE0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равматический шок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— тяжёлое, угрожающе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изни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больного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атологическо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состояние, возникающее при тяжёлых травмах, таких как переломы костей таза, тяжёлые огнестрельные ранения, черепно-мозговая травма, травма живота с повреждением внутренних органов и др., операциях, большой потере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равматический шок является ответной реакцией организма на тяжелую механическую травму или ожог. В зависимости от этиологии различают две формы травматического шока: шок от механической травмы и ожоговый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B432-69FC-4100-858C-400F36D0FA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2 степени (средний)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ыражена заторможенность, снижается температура тела, кожные покровы бледные, пульс 110-120 уд. в мин., слабого наполнения и напряжения, неровный, АД 90-75 мм, рт, ст., дыхание учащено, поверхностное. Прогноз серьез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Шок 3 степени (тяжелый):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 общее состояние тяжелое, резкая заторможенность, температура тела снижена, АД 75 мм, рт, ст., пульс 120-160 уд. в мин. очень слабого наполнения и напряжения, нитевидный, несосчитываемый. Прогноз очень серьезны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F6A1-570F-4546-A6ED-852E8B9596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4 степени (предагональное состояние)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общее состояние крайне тяжелое, АД не определяется, пульс на лучевых артериях не выявляется, слабая пульсация крупных артерий, дыхание поверхностное, редк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гональное состояние имеет те же признаки, что и предагональное, но сочетается с более выраженными дыхательными нарушениями типа Чайн-Стокса, цианоз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94D7-C7E0-4F3E-AD1D-6D22ADAD31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линическая смерть начинается с момента последнего вздоха и остановки сердца. Активная функция ЦНС и клинические признаки жизни у раненого полностью отсутствуют. Однако обменные процессы в мозговой ткани продолжаются еще в среднем 5-6 мин (чаще 3-5 ми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4344-B08F-4631-8298-BF68AC467C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ечение травматического шока состоит из оказания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амопомощи, взаимопомощи и доврачебной помощи НА ПОЛЕ БО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амопомощи, взаимопомощи и доврачебной помощи В ОЧАГАХ МАССОВЫХ САНИТАРНЫХ ПОТЕР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рачебной помощи на М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A414-6522-4ECE-9465-62273E799B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поле боя и в очагах массовых потерь, возникающих в случае поражения ядерным оружием, противошоковые мероприятия осуществляются в порядке оказания первой медицинской помощи. Эту помощь оказывают санитары и санитарные инструкторы, младший и средний медицинский персонал, включенный в состав спасательных команд, а также пострадавшие в порядке взаимо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1BBB-321B-4E9A-8958-E971A07BAD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ры первой медицинской помощи: тушение пламени и горящей одежды на пораженном, временная остановка кровотечения, устранение асфиксии (освобождение дыхательных путей от крови, слизи, земли, устранение западения языка, наложение окклюзионной повязки, придание бокового стабилизированного положения, введение S-образной трубки и др.), быстрый вынос тяжелораненых с поля боя и сосредоточение их в укры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66E8-BC67-46F0-9607-15E6446872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5711-3B89-4397-BB1C-6D73FFBB67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бескровленные раненые с наложенными на поврежденные конечности жгут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 также раненые в грудь с резкой одышкой должны выноситься с поля боя в первую очеред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897E-D4A5-4A43-8BC1-E65567919B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ледующим мероприятием является иммобилизация области повреждения. Открытые повреждения следует защитить от вторичного загрязнения повязками. Организуется щадящая транспортировка. Необходимо предохранить раненых от переохлаждения, сырости и влияния др. неблагоприятны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389E-4F8A-4255-A7AE-E4C9EF2EC5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46B0-070B-41B5-BA44-6B49CFE72A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мп противошоковые мероприятия осуществляет фельдшер в порядке оказания доврачебной медицинской помощи. В большинстве случаев это те же меры, что и при оказании первой медицинской помощи, но выполняются они более квалифицированно, при лучшей обеспеченности необходимыми средствами и несколько лучши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 тяжелых нарушениях дыхания следует произвести туалет полостей рта и носоглотки, устранить западение корня языка, ввести и закрепить воздуховод, восстановить проходимость верхних дыхательных путе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2575-3BDC-47FC-BFB2-C2D1CD8891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открытом пневмотораксе необходимо наложить окклюзионную повязку, для этого может быть использована полиэтиленовая, целофановая пленка или клее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дновременно и без промедления нужно остановить и наружное кровотечение наложением жгута или давящей повязки, неправильно наложенный жгут исправить, а импровизированный - заменить табельным. Затем на рану наложить асептическую повязку, исправить или заменить "сбившуюся" повяз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9D44-1858-40E9-AACC-4C52EF6702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При переломах костей, повреждениях магистральных сосудов и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рупных нервов производится тщательная иммобилизация транспортными шинами, исправляются неправильно наложенные шины, импровизированные шины при необходимости заменяются табель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едварительно производятся инъекции анальгетиков и седативных средств: пантопон или промедол (1-2 мл 2% р-ра), димедрол (2 мл 2% р-ра), внутримышечно или внутривенно медленно, используются аутоаналгететеры "Трингал". При отсутствии противопоказаний (проникающее ранение и закрытая травма живота) следует давать горячее пит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C2EB-4394-4335-9D60-AF391EB0EC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неных с признаками шока после оказания им помощи в указанном объеме нужно немедленно направлять на мпп в реанимационное отделение. Транспорт для транспортировки должен быть максимально щадящим, а сроки доставки - предельно корот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A4AD-5812-44ED-B593-2E8FD00AD3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ециализированная помощь при шоке осуществляется в отделениях реанимации и интенсивной 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1C0D-3DA4-4F30-A5FA-31DBDE91EE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е раненые с признаками шока на мпп в процессе медицинской сортировки распределяются на три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ервая - раненые, которые одновременно нуждаются в энергичной противошоковой терапии и в экстренных (по жизненным показаниям) оперативных вмешательствах. У раненых этой группы симптомы шока и тяжесть состояния обычно определяются повреждением внутренних органов и внутренним кровотечением. Чаще всего эту группу составляют раненые с повреждениями органов груди, живота, таза, магистральных сосудов и с разрушением (отрывами)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8C00-A7B4-401E-A627-5E2EE9548D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 раненых этой группы противошоковые мероприятия должны быть направлены лишь на устранение критической степени расстройств дыхания (при необходимости - аппаратная ИВЛ) и кровообращения, без чего эвакуация на следующий этап может закончиться смертью в пути. Их после быстрого оказания самого необходимого противошокового и реанимационного пособия нужно незамедлительно эвакуировать в омед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0E2E-429F-4494-A03A-849256F448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торую группу составляют раненые, у которых шок возник в результате повреждений, не требующих неотложных оперативных вмешательств или вообще оперативного лечения. К таким повреждениям относятся огнестрельные и неогнестрельные (открытые и закрытые) переломы костей конечностей, без признаков повреждений магистральных сосудов и кровотечений. При массовом поступлении и затруднении с транспортом раненых этой группы, после оказания им в сортировочной палатке или в перевязочной необходимой противошоковой помощи, вынужденно придется эвакуировать в омедб во вторую очер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B15A-B4FF-49CC-935B-CE40EA61AE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ретью группу следует отнести пострадавших в терминальном состоянии, у которых имеются ранения, явно не совместимые с жизнью. Такие раненые нуждаются в минимальной помощи, облегчаю   щей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мощь раненым в зависимости от сортировочной группы, должна быть оказана непосредственно на сортировочной площадке, в сортировочной палатке, или, чаще, в перевязо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7749-90E4-4089-8A8F-6D5B2AD60D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шоке первая помощь тем эффективней, чем раньше она оказана. Она должна быть направлена на устранение причин шока (снятие или уменьшение болей, остановка кровотечения, проведение мероприятий, обеспечивающих улучшение дыхания и сердечной деятельности и предупреждающих общее охлажд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73D9-2E8A-44A1-8E6F-31AE4CEE4C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омплексе профилактических и лечебных противошоковых мероприятий важное значение имеет устранение боли, отрицательных рефлекторных реакций и неблагоприятного психического напряжения. С этой целью применяются анальгетики, нейролептики, новокаиновые блокады и щадящая иммобилизация и транспортиров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меньшение болей достигается приданием больному или поврежденной конечности положения, при котором меньше условий для усиления болей, поведением надежной иммобилизации поврежденной части тела, дачей обезболивающ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6425-5356-4937-8A26-B0C2684AEE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озможности следует обеспечить доступное неспециалисту обезболивание — побрызгать «заморозкой» или приложить к ране холод (пузырь со льдом или холодную воду), дать 1—2 таблетки любого из имеющихся под рукой ненаркотических анальгетиков типа анальгина, аспирина, кеторолака (при условии, что у больного на них нет аллергии) или, что лучше, сделать инъекцию ненаркотического анальгетика. Предпочтительно давать ненаркотический анальгетик помощ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этом не следует использовать морфин (он сильно снижает артериальное давление и сильно угнетает дыхание, сильнее других наркотиков вызывает сонливость и заторможенност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626D-36AB-47B7-9843-ED4FF67F5F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озможности следует обеспечить доступное неспециалисту снятие нервно—психического стресса (который тоже усугубляет шок): дачу 1—2 таблеток любого имеющегося бензодиазепинового транквилизатора или 40—50 капель корвалола, валокордина, или небольшого количества крепкого спиртного напит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E040-D9DC-47C4-93A1-5D3CEF3718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фузионную терапию с целью восполнения ОЦК на мпп нужно проводить по строгим показаниям. Она предназначена, главным образом, при гипотонии, обусловленной наружной кровопотерей, и только после остановки кровотечения, хотя бы и временной. Именно для таких раненых целесообразно использовать те небольшие запасы крови, которыми располагает мпп. В качестве плазмозаменителей используют полиглюкин, лактасол, физиологический раствор хлористого натрия, 10% р-р глюкоз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9779-8FC1-4BDF-A165-4BB1BBB785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14AD-69E5-4142-92A6-57601387B7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Проведение новокаиновых блокад по А.В.Вишневскому (шейная вагосимпатическая, поясничная паранефральная, футлярная при поражении конечност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/в или в/а вливания крови, плазмы крови, альбумина, противошоковых жидкостей, реополиглюк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ведение сердечно - сосудистых средств (строфантин, корглюкон), в тяжелых случаях показаны адреномиметические средства (эфедрин, мезатон, норадреналин) и глюкокортик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1F02-3C9F-4A19-A342-E067E770FE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Ингаляции увлажненного кислорода, инъекции лобелина, в тяжелых случаях – искусственная вентиляция легких с помощью респираторов или интубация трах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 Введение витаминов, особенно аскорбиновой кислоты и витамина В¹, хлорида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ведение противостолбнячной сыворотки и анатоксина, антиби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Проведение нейролептанальге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6C76-78C0-4B68-B7E4-FFA96E0F87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офилактик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ФИЛАКТИКА травматического ш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здержаться от оперативного вмешательства (только по жизненным показа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орошая иммобилизация при перело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орошая анальгезия, седативные пре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BD4A-951A-4A22-8F3D-D569DACD23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- клинический синдром, возникающий при глубоких ожогах, занимающих у взрослых более 15% поверхности тела, а у детей от 5—10%. Он представляет собой разновидность травматического шока и развивается при воздействии на кожу , дыхательные пути огня во время взрывов, пож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DB0E-AF7B-4EE0-9B8C-CD81C518FB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A680-2A6A-47C4-B2E2-6E957BDE6E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звитию шока способствует кровопотеря, охлаждение, физическое утомление, психическая травма, голодание, авитаминоз. Поздний вынос раненных, вторичная травматизация в процессе эвакуации, запоздалая и неполноценная медицинская помощь влекут за собой учащение случаев шо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мирное время в связи с насыщенностью сложной техникой, высоким ритмом быта, регистрируются много травм, которые нередко осложняются травматическим шо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6406-DA9F-4751-863B-DAC455F801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ечении ожоговой болезни выделяют 4 периода: I — ожоговый шок; II — острая ожоговая токсемия; III — септикотоксемия; IV—реконвалесц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является первой стадией ожоговой болезни. На тяжесть шока ре- шающее влияние оказывает общая площадь ожога, глубина поражения. Так ожоговый шок развивается при площади глубокого ожога равной 9-10% поверхности т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FC69-C00A-4FC5-A937-7E87CC6F58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ичина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8A80-DFD8-413E-A417-4DACB3CD49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патогенезе играют нервно - болевые влияния. В основе патогенеза лежат боль и перераздражение ц.н.с., большая плазмопотеря, сгущение крови, образование токсических, биологически активных веществ в зоне ожогового некроза, что ведет к острым тяжелым расстройствам центральной и регионарной гемодинамики, микроциркуляции, нарушениям кислотно-щелочного состояния и водно-солевого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C23C-8C3D-4681-85D1-7FB0A78E56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43AC-B058-4093-882B-FE3B28FDA1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 первых часов развивается острая сосудистая недостаточность. Генерализованный спазм периферических артерий способствует сохранению функций органов и систем, в ближайшие 1-2 часа начинается снижение ОЦК, нарастающее на протяжении 2 суток, из - за плазмопотери (до 3 г/сут. белка), гиперкоагуляция, приводящая к тромбозам. Олигурия связана со спазмом ар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B71D-B879-4DEB-A9FC-67E9CE5BEC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ечении ожогового шока наблюдается, как и при травматическом шоке, развитие вначале эректильной, а затем торпидной фазы шока, а также различаются 4 степени тяжести в зависимости от обширности ожог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6E15-E999-447D-B270-3FD0830ABF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I (легкая) степень возникает при поверхностных ожогах, занимающих до 20% поверхности тела, или при глубоких ожогах, площадь которых составляет до 10% поверхности тела. Сознание пострадавшего сохранено, отмечаются бледность кожного покрова, мышечная дрожь, изредка тошнота, рвота. Тахикардия умеренная, АД не снижено, ОЦК понижен на 10%. Большинство пострадавших этой группы удается вывести из шока к концу первых с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B098-25C0-45C5-ABCF-B14D6DC29B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средней тяжести (II степень) характерен при ожогах 20—40% поверхности тела, когда глубокие ожоги составляют не более 20%. Он характеризуется возбуждением, сменяющимся заторможенностью. Сознание сохранено. Кожа в области ожога бледная, сухая, холодная. Больного беспокоят озноб, жажда, тошнота, часто рвота. Дыхание учащено, АД снижено, ОЦК понижен на 10—20%. Функция почек нарушается, отмечается олигурия, на 2-е сутки в крови повышается уровень остаточного азота до 41,3—44,1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часто возникают гематурия и альбуминурия. Большинство пострадавших удается вывести из состояния шока в течение 2 су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AE95-D26A-4B81-B768-3728EDA3C8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48F8-3178-4B80-A300-7247243229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яжелый (Ill степень) развивается при обширных ожогах, захватывающих 40—60% поверхности тела (глубокий ожог не более 40%). Состояние крайне тяжелое, сознание спутанное, пострадавший заторможен. Кожный покров бледно-серого цвета, холодный. Отмечаются выраженная жажда, частая рвота, мышечные судороги, одышка, цианоз, тахикардия до 120—130 ударов в 1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ин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ОЦК снижен на 20—30%. Существенно страдает функция почек, развивается олигурия, а у больных старше 50 лет — анурия. Количество остаточного азота в крови возрастает до 50,7—56,4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Борьба с шоком этой группы пострадавших очень трудна и далеко не всегда эффекти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25A1-CDFA-4B03-81D7-5400A299EB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патогенезу травматический шок соответствует гиповолемическому. Основные факторы, вызывающие данный вид шока, – сильное болевое раздражение и потеря больших объём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A999-2DBC-4CD8-AB03-FAC89BBBDA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D12E-211F-4384-B33D-16DEF7741E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райне тяжелый (IV степень) наблюдается у пострадавших с ожогами, занимающими свыше 60% поверхности тела (из них глубокие ожоги — не менее 40%). Состояние крайне тяжелое, сознание спутанное или отсутствует. Кожный покров бледный с мраморным оттенком. Температура тела снижена. Пульс нитевидный, АД ниже 1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м р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Наблюдается выраженная одышка, в легких выслушиваются влажные хрипы. Больных мучит жажда, частая рвота типа кофейной гущи, развивается парез желудочно-кишечного тракта, нарастает метаболический ацидоз. Резко нарушается функция почек с развитием анурии, постоянной гематурии, альбуминурии, гемоглобинурии. Количество остаточного азота крови с первых часов более 60,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ОЦК снижен на 20—40%. Большинство пострадавших погибает в первые сутки, а остальные — в ближайшие дни. Благоприятный исход наблюдается крайне ред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659B-8575-4DAF-B4CB-620DF3051C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жоговый шок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характеризуется своеобразной клинической картиной: в первые часы после травмы больной возбужден, неадекватно оценивает свое состояние, затем возбуждение сменяется заторможенностью и адинамией, развивается гиповолемия, степень которой зависит от тяжести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5F18-E537-4DBE-9702-77BF5E10D9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более глубоких ожогах объем цир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ирующей крови уменьшается вследствие как депонирования крови, так и ее гемолиза. Для клинической картины ожогового шока характерны бледность кожных покровов, уменьшение выделения мочи вплоть до анурии, жажда, тошнота, артериальное давление однако меняется только при тяжелых степенях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жогового шок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A2C6-97B6-4961-ADA9-04F437EE1C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ЕЧЕНИЕ такое ж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как и травматического шока, с наложением асептических повязок на ожоговую поверх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3D1D-8F17-4CD5-A838-8F4975B134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164B-D001-4AC9-AF5D-9E30DAF6DB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тивошоковая терапия включает комплекс мероприятий, имеющих целью купирование болевого синдрома и снятие эмоционального напряжения, восстановление эффективной гемодинамики, нормализацию внешнего дыхания и газообмена, устранение ацидоза, профилактику и лечение нарушений функции почек, коррекцию нарушений водно-электролитного баланса, восполнение белкового дефицита и устранение нарастающей интоксикации и метаболических расстройств. Из общих мероприятий при лечении ожогового шока рекомендуется согревание больного. Если нет рвоты, необходимо дать пить горячий сладкий чай или кофе, щелочные минеральные воды или простой соляно-щелочной раствор (1-2 г питьевой соды и 3-4 г поваренной соли на 1 л 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DAA8-82AC-4405-A656-7C1C02749E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ие с тяжелыми ожогами и подозрением на ожоговый шок должны быть экстренно госпитализированы в реанимационное отделение ожогового центра. Лечение начинают во время транспортировки на догоспитальном этапе и продолжают в стационаре. Ожоговые поверхности закрывают асептическими бинтовыми или контурными сухими или влажно-высыхающими повязками, пропитанными растворами антисепт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0EB1-267B-4E5D-AF5F-CC2C731364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8BB2-1F22-4DE7-A2CC-B30B4B7F76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ьного согревают, укрывая его одеялами. Не рекомендуется контактное согревание грелками. При отсутствии рвоты пострадавшего поят минеральной водой, щелочно-солевым раствором (1/2 чайной ложки гидрокарбоната натрия и 1 чайная ложка хлорида натрия на 1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ды). Прием большого количества бессолевых жидкостей может привести к так называемому водному от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D315-B9CC-4681-8BA9-C0E7217934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B8FE-2867-41AB-B758-EE5078799F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тивошоковую терапию начинают с обезболивания наркотическими и ненаркотическими анальгетиками в сочетании с антигистаминными препаратами (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0% раствора анальгина, 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2% раствора промедола, 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% раствора димедрола и др.). Хороший обезболивающий и седативный эффект дает нейролептаналгезия: дроперидол (0,25% раствор, по 1—5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) в сочетании с фентанилом (0,005% раствор, по 1—2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519B-637D-4183-BCC2-E79574D7D9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же во время транспортировки можно эффективно применять масочный наркоз с закисью азота, фторотаном и внутривенное введение барбитуратов (гексенала, тиопентал-натрия). В стационаре производят новокаиновые блокады, оказывающие не только обезболивающее действие, но и благотворно влияющие на вегетативные и трофические функции нерв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E0E9-C9EF-49ED-993A-F716784F28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нормализации внешнего дыхания больному придают полусидячее положение, через носовой катетер осуществляют ингаляцию кислорода, вводят бронхолитические препараты (эуфиллин, эфедрин и др.). Если ожоговый струп в виде панциря охватывает и сдавливает грудную клетку, то для улучшения дыхания продольными разрезами производят декомпрессионную некротом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A5D0-093F-4DFE-B492-3E58DFD4FA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фузионная терапия является основным методом коррекции нарушенного гомеостаза. Объем и характер переливаемых жидкостей, темп и последовательность введения определяются клиническими и лабораторными показателями, главными из которых являются ОЦК, гематокрит, кислотно-щелочное состояние, содержание электролитов в плазме, суммарные критерии функции почек, состояние центральной гемодинамики, микроциркуляторные расстройства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C7D9-29F2-44E4-AFE9-DB3AC68BC6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чное установление этих показателей на начальных этапах лечения не всегда возможно, поэтому в первые 6—8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ч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лечения объем вливаемых жидкостей рассчитывают по правилу «двойного нуля» (прибавляют к площади ожога, выраженной в процентах, два нуля; не менее половины полученного объема составляют кристаллоиды). Например, при ожоговом шоке с поражением 20% поверхности тела нужно перелить 20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идкости, в т.ч. 5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% раствора глюкозы, 3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отонического раствора хлорида натрия, 2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4% раствора гидрокарбоната натрия, 5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полиглюкина, 5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елатино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D635-4043-4D56-B93B-FAFE3EF637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борьбы с гиповолемией и гипопротеинемией широко применяют нативные коллоидные растворы (нативную, сухую и свежезамороженную плазму крови, протеин, альбумин). При развитии олигурии или анурии показано введение осмотических диуретиков (маннита, мочевины, 40% раствора глюкозы), назначаемых только после полного восполнения ОЦК. Снижению ожоговой токсемии способствует переливание низкомолекулярных декстранов (реополиглюкина, реоглюмана, рондекса) и препаратов на основе поливинилпирролидона (гемодеза, неогемодеза, неокомпенсана, полидез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F0B4-8647-4196-A364-0E232340BF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ополиглюкин улучшает микроциркуляцию, благодаря дезагрегации эритроцитов, ликвидации стаза в прекапиллярной и капиллярной сети, что особенно важно на фоне гемоконцентрации и повышения вязкости крови. Критериями адекватности инфузионной терапии являются центральное венозное давление в пределах 70—15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м вод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, почасовой диурез 1,5—2,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/кг/ч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гематокрит 38—4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0E9E-4169-462B-84DA-BDC17A5F2B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восполнения энергетических потерь и коррекции обменных процессов вводят 10—20% растворы глюкозы, гидролизаты белков (раствор гидролизина, гидролизат казеина), аминокислотные смеси (полиамин, аминон, аминосол), кокарбоксилазу (100—2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г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 сутки). ДТФ (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% раствора в сутки), витамины группы В, аскорбиновую кисл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ррекцию кислотно-щелочного состояния устранение ацидоза проводят вливаниями щелочных растворов: 4% раствора гидрокарбоната натрия, трисамина, лактасола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D449-C9B7-4780-97D0-1B13E49C64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DC88-B880-4198-81EF-306B1A9207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3615-6813-477B-B483-A28FC4CE5A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ремени возникновения различают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первичны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сразу после травмы или в ближайший отрезок времени (через 1 - 2 часа) и вторичный - через 4 - 24 часа. Первичный шок является результатом непосредственно травмы, а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торичны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- результат дополнительной травматизации. Может развиться шок после снятия жгута с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линической картине травматического шока может наблюдаться две фазы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Эректи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рпи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E867-5523-4369-9AA8-E49767693A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2-е сутки пострадавшему вводят примерно половину объема жидкостей, полученного им в первый день. Нередко инфузионная терапия проводится на фоне дробной гепаринизации (до 20 000 ЕД в сутки) под контролем свертывающей системы кров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7FF6-499E-44E9-B15A-329F79A237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у инфекционных осложнений начинают как можно раньше. Она включает профилактику столбняка по обычной схеме и массивную парентеральную терапию антибиотиками широкого спектра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A034-A80A-4155-AA7D-7B5F173F8C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и 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1F84-1A61-4E94-92A1-1AF8E2B51D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4100-E370-424C-984B-790EBDDA89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BC7-01A7-47B2-B0FF-9366E13F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7BB-61B3-4EB8-A66E-DF03F144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00D-D4F9-466E-AC26-833DEFFC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928-586F-424E-84A5-EFA9397A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B3CA9-F5F4-48EE-ADE6-4698214D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428F4-344B-41BE-B635-A36D6D71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B3B24-4115-4E75-85BB-F4F2F996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3E429-FDC8-478B-85F4-F663D9B6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B40E4-A44A-42E7-9A77-65FF0CC2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BBB1F-2AA7-4F02-B94C-39DF71CB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53863-3E5A-4E3E-8C87-C6E8B1D2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955-F184-4990-9D42-A6F18A92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34AFE-63CD-45E5-BB82-656DAB05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FBBF7-7D78-41FE-B93F-93A8A97A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D56D8-F8E1-4B45-B0D6-E5577146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85F81-3DA2-4F80-AFFE-46E0272E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6635D-636F-477B-B400-6D6A0F40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A4EC-99EC-4313-9B6D-E3A60901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FC4-E088-43A6-9CAA-72702F9D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331-6AEE-426F-9A9A-1DFA20BE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39D-F6CF-4D51-AECD-A121057C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B03-AA9D-490C-99CE-0DE283C7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E8B-D3C2-406D-91F8-E5E70629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731-B0F0-4C24-BAD0-76368AFF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A7CD-808F-4D97-B986-0E739C0D8C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E9DE-48A3-4FEA-9793-A091C9DC04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9;&#1085;&#1100;" TargetMode="External"/><Relationship Id="rId2" Type="http://schemas.openxmlformats.org/officeDocument/2006/relationships/hyperlink" Target="http://ru.wikipedia.org/wiki/&#1041;&#1086;&#1083;&#1100;&#1085;&#1086;&#1081;" TargetMode="External"/><Relationship Id="rId3" Type="http://schemas.openxmlformats.org/officeDocument/2006/relationships/hyperlink" Target="http://ru.wikipedia.org/wiki/&#1055;&#1072;&#1090;&#1086;&#1083;&#1086;&#1075;&#1080;&#1103;" TargetMode="External"/><Relationship Id="rId4" Type="http://schemas.openxmlformats.org/officeDocument/2006/relationships/hyperlink" Target="http://ru.wikipedia.org/wiki/&#1061;&#1080;&#1088;&#1091;&#1088;&#1075;&#1080;&#1095;&#1077;&#1089;&#1082;&#1072;&#1103;_&#1086;&#1087;&#1077;&#1088;&#1072;&#1094;&#1080;&#1103;" TargetMode="External"/><Relationship Id="rId5" Type="http://schemas.openxmlformats.org/officeDocument/2006/relationships/hyperlink" Target="http://ru.wikipedia.org/wiki/&#1050;&#1088;&#1086;&#1074;&#1100;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60;&#1072;&#1081;&#1083;:Antishock_body_position.svg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Intensivstation_%2801%29_2007-03-03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2;&#1083;&#1100;&#1075;&#1080;&#1085;" TargetMode="External"/><Relationship Id="rId2" Type="http://schemas.openxmlformats.org/officeDocument/2006/relationships/hyperlink" Target="http://ru.wikipedia.org/wiki/&#1040;&#1089;&#1087;&#1080;&#1088;&#1080;&#1085;" TargetMode="External"/><Relationship Id="rId3" Type="http://schemas.openxmlformats.org/officeDocument/2006/relationships/hyperlink" Target="http://ru.wikipedia.org/wiki/&#1050;&#1077;&#1090;&#1086;&#1088;&#1086;&#1083;&#1072;&#1082;" TargetMode="External"/><Relationship Id="rId4" Type="http://schemas.openxmlformats.org/officeDocument/2006/relationships/hyperlink" Target="http://ru.wikipedia.org/wiki/&#1052;&#1086;&#1088;&#1092;&#1080;&#1085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2;&#1085;&#1082;&#1074;&#1080;&#1083;&#1080;&#1079;&#1072;&#1090;&#1086;&#1088;" TargetMode="External"/><Relationship Id="rId2" Type="http://schemas.openxmlformats.org/officeDocument/2006/relationships/hyperlink" Target="http://ru.wikipedia.org/wiki/&#1050;&#1086;&#1088;&#1074;&#1072;&#1083;&#1086;&#1083;" TargetMode="External"/><Relationship Id="rId3" Type="http://schemas.openxmlformats.org/officeDocument/2006/relationships/hyperlink" Target="http://ru.wikipedia.org/wiki/&#1042;&#1072;&#1083;&#1086;&#1082;&#1086;&#1088;&#1076;&#1080;&#1085;" TargetMode="External"/><Relationship Id="rId4" Type="http://schemas.openxmlformats.org/officeDocument/2006/relationships/hyperlink" Target="http://ru.wikipedia.org/wiki/&#1040;&#1083;&#1082;&#1086;&#1075;&#1086;&#1083;&#1100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3;&#1080;&#1087;&#1086;&#1074;&#1086;&#1083;&#1077;&#1084;&#1080;&#1095;&#1077;&#1089;&#1082;&#1080;&#1081;_&#1096;&#1086;&#1082;&amp;action=edit&amp;redlink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Травматический и ожоговый шок. Клиника, профилактика, л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Доцент кафедры внутренних болезней №1 Краснова С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98100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Шок рассматривается  как своеобразный нервнодистрофический процесс (Вишневский А.В.). Мощная афферентная импульсация поступает в центральную нервную систему и вызывает здесь первоначально кратковременные явления разлитого возбуждения -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эректильная фаза шок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скоре возбуждение сменяется торможением, постепенно, приобретая разлитой характер.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Возникает торпидная фаз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шока с угнетением всех функций. Развиваются острая сердечная недостаточность, дыхательная недостаточность, нарушение обмена, деятельности желез внутренней секреции. Эти нарушения отрицательно влияют на нервную систему, развивается «порочный круг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звиваются  нарушения гемодинамики, при торпидной фазе - падение артериального давления, венозного давления, уменьшение массы циркулирующей крови, рефлекторный спазм мелких сосудов, что приводит к нарушению газообмена. Развивается циркуляторная и дыхательная гипоксия, от которой страдают все органы и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ffcc"/>
                </a:solidFill>
                <a:uFillTx/>
                <a:latin typeface="Arial"/>
              </a:rPr>
              <a:t>В эректильной фазе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 пострадавший находится в сознании. Отмечается двигательное и речевое возбуждение, нередко выражена реакция на боль. Лицо и видимые слизистые гиперемированы,  иногда бледные, дыхание учащено, пульс не ускорен или даже замедлен, удовлетворительного наполнения и напряжения, АД может быть даже повышенным. Данная фаза шока, как правило, кратковременная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ffcc"/>
                </a:solidFill>
                <a:uFillTx/>
                <a:latin typeface="Arial"/>
              </a:rPr>
              <a:t>В торпидной фаз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наблюдается общая заторможенность пострадавшего («окоченение» по Н.И.Пирогову). Сознание, как правило,  сохранено, на первый план выступает психическое угнетение, безучастное отношение пораженного к окружающему, отсутствие или снижение реакции на боль. Лицо бледное с заостренными чертами, температура тела пониженная, кожа холодная, в тяжелых случаях покрыта липким потом. Дыхание частое, поверхностное. Пульс учащен, слабого наполнения и напряжения, АД снижено. Подкожные вены спавшиеся. Отмечается жажда, иногда рвота, нередка олигур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зависимости от тяжести состояния пострадавшего клинически различают 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4 стадии торпидного ш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Шок 1 степени (легкий): общее состояние пострадавшего удовлетворительное, заторможенность не выражена, пульс 90-100 ударов в мин., удовлетворительного наполнения и напряжения, АД 95-100 мм, рт, ст. или выше. Температура тела нормальная или несколько сниженная. Прогноз благоприят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Травматический шок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— тяжёлое, угрожающее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жизни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больного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патологическо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состояние, возникающее при тяжёлых травмах, таких как переломы костей таза, тяжёлые огнестрельные ранения, черепно-мозговая травма, травма живота с повреждением внутренних органов и др.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операциях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большой потере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крови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равматический шок является ответной реакцией организма на тяжелую механическую травму или ожог. В зависимости от этиологии различают две формы травматического шока: шок от механической травмы и ожоговый шок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20" descr="C:\Documents and Settings\Администратор\Рабочий стол\777\logo_fin.jpg"/>
          <p:cNvPicPr/>
          <p:nvPr/>
        </p:nvPicPr>
        <p:blipFill>
          <a:blip r:embed="rId6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Шок 2 степени (средний):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выражена заторможенность, снижается температура тела, кожные покровы бледные, пульс 110-120 уд. в мин., слабого наполнения и напряжения, неровный, АД 90-75 мм, рт, ст., дыхание учащено, поверхностное. Прогноз серьез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3 степени (тяжелый):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общее состояние тяжелое, резкая заторможенность, температура тела снижена, АД 75 мм, рт, ст., пульс 120-160 уд. в мин. очень слабого наполнения и напряжения, нитевидный, несосчитываемый. Прогноз очень серьез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4 степени (предагональное состояние):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общее состояние крайне тяжелое, АД не определяется, пульс на лучевых артериях не выявляется, слабая пульсация крупных артерий, дыхание поверхностное, редк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Агональное состояние имеет те же признаки, что и предагональное, но сочетается с более выраженными дыхательными нарушениями типа Чайн-Стокса, цианоза и п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линическая смерть начинается с момента последнего вздоха и остановки сердца. Активная функция ЦНС и клинические признаки жизни у раненого полностью отсутствуют. Однако обменные процессы в мозговой ткани продолжаются еще в среднем 5-6 мин (чаще 3-5 мин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Лечение травматического шока состоит из оказания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амопомощи, взаимопомощи и доврачебной помощи НА ПОЛЕ БО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амопомощи, взаимопомощи и доврачебной помощи В ОЧАГАХ МАССОВЫХ САНИТАРНЫХ ПОТЕР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рачебной помощи на МП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На поле боя и в очагах массовых потерь, возникающих в случае поражения ядерным оружием, противошоковые мероприятия осуществляются в порядке оказания первой медицинской помощи. Эту помощь оказывают санитары и санитарные инструкторы, младший и средний медицинский персонал, включенный в состав спасательных команд, а также пострадавшие в порядке взаимо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25092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Меры первой медицинской помощи: тушение пламени и горящей одежды на пораженном, временная остановка кровотечения, устранение асфиксии (освобождение дыхательных путей от крови, слизи, земли, устранение западения языка, наложение окклюзионной повязки, придание бокового стабилизированного положения, введение S-образной трубки и др.), быстрый вынос тяжелораненых с поля боя и сосредоточение их в укры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311280" cy="360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220px-Antishock_body_posi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844640"/>
            <a:ext cx="3672000" cy="3097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696600" y="324576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нять ножной конец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4284720" y="443700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20" descr="C:\Documents and Settings\Администратор\Рабочий стол\777\logo_fin.jpg"/>
          <p:cNvPicPr/>
          <p:nvPr/>
        </p:nvPicPr>
        <p:blipFill>
          <a:blip r:embed="rId4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81800" cy="46818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бескровленные раненые с наложенными на поврежденные конечности жгут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а также раненые в грудь с резкой одышкой должны выноситься с поля боя в первую очередь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ледующим мероприятием является иммобилизация области повреждения. Открытые повреждения следует защитить от вторичного загрязнения повязками. Организуется щадящая транспортировка. Необходимо предохранить раненых от переохлаждения, сырости и влияния др. неблагоприят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25092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896000" cy="33829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На мп противошоковые мероприятия осуществляет фельдшер в порядке оказания доврачебной медицинской помощи. В большинстве случаев это те же меры, что и при оказании первой медицинской помощи, но выполняются они более квалифицированно, при лучшей обеспеченности необходимыми средствами и несколько лучши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тяжелых нарушениях дыхания следует произвести туалет полостей рта и носоглотки, устранить западение корня языка, ввести и закрепить воздуховод, восстановить проходимость верхних дыхательных пу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открытом пневмотораксе необходимо наложить окклюзионную повязку, для этого может быть использована полиэтиленовая, целофановая пленка или кле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дновременно и без промедления нужно остановить и наружное кровотечение наложением жгута или давящей повязки, неправильно наложенный жгут исправить, а импровизированный - заменить табельным. Затем на рану наложить асептическую повязку, исправить или заменить "сбившуюся" повяз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и переломах костей, повреждениях магистральных сосудов и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рупных нервов производится тщательная иммобилизация транспортными шинами, исправляются неправильно наложенные шины, импровизированные шины при необходимости заменяются табельны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едварительно производятся инъекции анальгетиков и седативных средств: пантопон или промедол (1-2 мл 2% р-ра), димедрол (2 мл 2% р-ра), внутримышечно или внутривенно медленно, используются аутоаналгететеры "Трингал". При отсутствии противопоказаний (проникающее ранение и закрытая травма живота) следует давать горячее пит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неных с признаками шока после оказания им помощи в указанном объеме нужно немедленно направлять на мпп в реанимационное отделение. Транспорт для транспортировки должен быть максимально щадящим, а сроки доставки - предельно коротк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пециализированная помощь при шоке осуществляется в отделениях реанимации и интенсивной терап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250px-Intensivstation_%2801%29_2007-03-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284640"/>
            <a:ext cx="4319640" cy="25923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0" descr="C:\Documents and Settings\Администратор\Рабочий стол\777\logo_fin.jpg"/>
          <p:cNvPicPr/>
          <p:nvPr/>
        </p:nvPicPr>
        <p:blipFill>
          <a:blip r:embed="rId3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се раненые с признаками шока на мпп в процессе медицинской сортировки распределяются на три групп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ервая - раненые, которые одновременно нуждаются в энергичной противошоковой терапии и в экстренных (по жизненным показаниям) оперативных вмешательствах. У раненых этой группы симптомы шока и тяжесть состояния обычно определяются повреждением внутренних органов и внутренним кровотечением. Чаще всего эту группу составляют раненые с повреждениями органов груди, живота, таза, магистральных сосудов и с разрушением (отрывами) конечн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 раненых этой группы противошоковые мероприятия должны быть направлены лишь на устранение критической степени расстройств дыхания (при необходимости - аппаратная ИВЛ) и кровообращения, без чего эвакуация на следующий этап может закончиться смертью в пути. Их после быстрого оказания самого необходимого противошокового и реанимационного пособия нужно незамедлительно эвакуировать в омед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торую группу составляют раненые, у которых шок возник в результате повреждений, не требующих неотложных оперативных вмешательств или вообще оперативного лечения. К таким повреждениям относятся огнестрельные и неогнестрельные (открытые и закрытые) переломы костей конечностей, без признаков повреждений магистральных сосудов и кровотечений. При массовом поступлении и затруднении с транспортом раненых этой группы, после оказания им в сортировочной палатке или в перевязочной необходимой противошоковой помощи, вынужденно придется эвакуировать в омедб во вторую очере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ретью группу следует отнести пострадавших в терминальном состоянии, у которых имеются ранения, явно не совместимые с жизнью. Такие раненые нуждаются в минимальной помощи, облегчаю   щей страд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мощь раненым в зависимости от сортировочной группы, должна быть оказана непосредственно на сортировочной площадке, в сортировочной палатке, или, чаще, в перевязоч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шоке первая помощь тем эффективней, чем раньше она оказана. Она должна быть направлена на устранение причин шока (снятие или уменьшение болей, остановка кровотечения, проведение мероприятий, обеспечивающих улучшение дыхания и сердечной деятельности и предупреждающих общее охлажд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392360" cy="3097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комплексе профилактических и лечебных противошоковых мероприятий важное значение имеет устранение боли, отрицательных рефлекторных реакций и неблагоприятного психического напряжения. С этой целью применяются анальгетики, нейролептики, новокаиновые блокады и щадящая иммобилизация и транспортиров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меньшение болей достигается приданием больному или поврежденной конечности положения, при котором меньше условий для усиления болей, поведением надежной иммобилизации поврежденной части тела, дачей обезболивающ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о возможности следует обеспечить доступное неспециалисту обезболивание — побрызгать «заморозкой» или приложить к ране холод (пузырь со льдом или холодную воду), дать 1—2 таблетки любого из имеющихся под рукой ненаркотических анальгетиков типа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анальгин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аспирин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кеторолак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(при условии, что у больного на них нет аллергии) или, что лучше, сделать инъекцию ненаркотического анальгетика. Предпочтительно давать ненаркотический анальгетик помощн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и этом не следует использовать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морфин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(он сильно снижает артериальное давление и сильно угнетает дыхание, сильнее других наркотиков вызывает сонливость и заторможеннос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Рисунок 20" descr="C:\Documents and Settings\Администратор\Рабочий стол\777\logo_fin.jpg"/>
          <p:cNvPicPr/>
          <p:nvPr/>
        </p:nvPicPr>
        <p:blipFill>
          <a:blip r:embed="rId5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возможности следует обеспечить доступное неспециалисту снятие нервно—психического стресса (который тоже усугубляет шок): дачу 1—2 таблеток любого имеющегося бензодиазепинового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транквилизатор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или 40—50 капель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корвалол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валокордин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или небольшого количества крепкого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спиртного напит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Рисунок 20" descr="C:\Documents and Settings\Администратор\Рабочий стол\777\logo_fin.jpg"/>
          <p:cNvPicPr/>
          <p:nvPr/>
        </p:nvPicPr>
        <p:blipFill>
          <a:blip r:embed="rId5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фузионную терапию с целью восполнения ОЦК на мпп нужно проводить по строгим показаниям. Она предназначена, главным образом, при гипотонии, обусловленной наружной кровопотерей, и только после остановки кровотечения, хотя бы и временной. Именно для таких раненых целесообразно использовать те небольшие запасы крови, которыми располагает мпп. В качестве плазмозаменителей используют полиглюкин, лактасол, физиологический раствор хлористого натрия, 10% р-р глюко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352872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Проведение новокаиновых блокад по А.В.Вишневскому (шейная вагосимпатическая, поясничная паранефральная, футлярная при поражении конечност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/в или в/а вливания крови, плазмы крови, альбумина, противошоковых жидкостей, реополиглюки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ведение сердечно - сосудистых средств (строфантин, корглюкон), в тяжелых случаях показаны адреномиметические средства (эфедрин, мезатон, норадреналин) и глюкокортикои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галяции увлажненного кислорода, инъекции лобелина, в тяжелых случаях – искусственная вентиляция легких с помощью респираторов или интубация трахе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 Введение витаминов, особенно аскорбиновой кислоты и витамина В¹, хлорида кальц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ведение противостолбнячной сыворотки и анатоксина, антибиот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Проведение нейролептанальге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рофилактик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ПРОФИЛАКТИКА травматического ш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оздержаться от оперативного вмешательства (только по жизненным показания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Хорошая иммобилизация при перелом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Хорошая анальгезия, седативные препара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187280" y="47628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- клинический синдром, возникающий при глубоких ожогах, занимающих у взрослых более 15% поверхности тела, а у детей от 5—10%. Он представляет собой разновидность травматического шока и развивается при воздействии на кожу , дыхательные пути огня во время взрывов, пож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547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4927320" cy="392904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83528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звитию шока способствует кровопотеря, охлаждение, физическое утомление, психическая травма, голодание, авитаминоз. Поздний вынос раненных, вторичная травматизация в процессе эвакуации, запоздалая и неполноценная медицинская помощь влекут за собой учащение случаев шо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мирное время в связи с насыщенностью сложной техникой, высоким ритмом быта, регистрируются много травм, которые нередко осложняются травматическим шо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ечении ожоговой болезни выделяют 4 периода: I — ожоговый шок; II — острая ожоговая токсемия; III — септикотоксемия; IV—реконвалесц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является первой стадией ожоговой болезни. На тяжесть шока ре- шающее влияние оказывает общая площадь ожога, глубина поражения. Так ожоговый шок развивается при площади глубокого ожога равной 9-10% поверхности те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ричина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82692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патогенезе играют нервно - болевые влияния. В основе патогенеза лежат боль и перераздражение ц.н.с., большая плазмопотеря, сгущение крови, образование токсических, биологически активных веществ в зоне ожогового некроза, что ведет к острым тяжелым расстройствам центральной и регионарной гемодинамики, микроциркуляции, нарушениям кислотно-щелочного состояния и водно-солевого равнове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539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 первых часов развивается острая сосудистая недостаточность. Генерализованный спазм периферических артерий способствует сохранению функций органов и систем, в ближайшие 1-2 часа начинается снижение ОЦК, нарастающее на протяжении 2 суток, из - за плазмопотери (до 3 г/сут. белка), гиперкоагуляция, приводящая к тромбозам. Олигурия связана со спазмом арте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ечении ожогового шока наблюдается, как и при травматическом шоке, развитие вначале эректильной, а затем торпидной фазы шока, а также различаются 4 степени тяжести в зависимости от обширности ожог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I (легкая) степень возникает при поверхностных ожогах, занимающих до 20% поверхности тела, или при глубоких ожогах, площадь которых составляет до 10% поверхности тела. Сознание пострадавшего сохранено, отмечаются бледность кожного покрова, мышечная дрожь, изредка тошнота, рвота. Тахикардия умеренная, АД не снижено, ОЦК понижен на 10%. Большинство пострадавших этой группы удается вывести из шока к концу первых су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средней тяжести (II степень) характерен при ожогах 20—40% поверхности тела, когда глубокие ожоги составляют не более 20%. Он характеризуется возбуждением, сменяющимся заторможенностью. Сознание сохранено. Кожа в области ожога бледная, сухая, холодная. Больного беспокоят озноб, жажда, тошнота, часто рвота. Дыхание учащено, АД снижено, ОЦК понижен на 10—20%. Функция почек нарушается, отмечается олигурия, на 2-е сутки в крови повышается уровень остаточного азота до 41,3—44,1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часто возникают гематурия и альбуминурия. Большинство пострадавших удается вывести из состояния шока в течение 2 су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11600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яжелый (Ill степень) развивается при обширных ожогах, захватывающих 40—60% поверхности тела (глубокий ожог не более 40%). Состояние крайне тяжелое, сознание спутанное, пострадавший заторможен. Кожный покров бледно-серого цвета, холодный. Отмечаются выраженная жажда, частая рвота, мышечные судороги, одышка, цианоз, тахикардия до 120—130 ударов в 1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ин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ОЦК снижен на 20—30%. Существенно страдает функция почек, развивается олигурия, а у больных старше 50 лет — анурия. Количество остаточного азота в крови возрастает до 50,7—56,4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Борьба с шоком этой группы пострадавших очень трудна и далеко не всегда эффекти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патогенезу травматический шок соответствует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гиповолемическому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Основные факторы, вызывающие данный вид шока, – сильное болевое раздражение и потеря больших объёмов кро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Клиническая картина ожогов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132000" y="83664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Крайне тяжелый (IV степень) наблюдается у пострадавших с ожогами, занимающими свыше 60% поверхности тела (из них глубокие ожоги — не менее 40%). Состояние крайне тяжелое, сознание спутанное или отсутствует. Кожный покров бледный с мраморным оттенком. Температура тела снижена. Пульс нитевидный, АД ниже 100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 мм рт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ст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 Наблюдается выраженная одышка, в легких выслушиваются влажные хрипы. Больных мучит жажда, частая рвота типа кофейной гущи, развивается парез желудочно-кишечного тракта, нарастает метаболический ацидоз. Резко нарушается функция почек с развитием анурии, постоянной гематурии, альбуминурии, гемоглобинурии. Количество остаточного азота крови с первых часов более 60,0 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 ОЦК снижен на 20—40%. Большинство пострадавших погибает в первые сутки, а остальные — в ближайшие дни. Благоприятный исход наблюдается крайне ред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Ожоговый шок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характеризуется своеобразной клинической картиной: в первые часы после травмы больной возбужден, неадекватно оценивает свое состояние, затем возбуждение сменяется заторможенностью и адинамией, развивается гиповолемия, степень которой зависит от тяжести ож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более глубоких ожогах объем цир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лирующей крови уменьшается вследствие как депонирования крови, так и ее гемолиза. Для клинической картины ожогового шока характерны бледность кожных покровов, уменьшение выделения мочи вплоть до анурии, жажда, тошнота, артериальное давление однако меняется только при тяжелых степенях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ожогового шок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ЛЕЧЕНИЕ такое ж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как и травматического шока, с наложением асептических повязок на ожоговую поверх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82692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отивошоковая терапия включает комплекс мероприятий, имеющих целью купирование болевого синдрома и снятие эмоционального напряжения, восстановление эффективной гемодинамики, нормализацию внешнего дыхания и газообмена, устранение ацидоза, профилактику и лечение нарушений функции почек, коррекцию нарушений водно-электролитного баланса, восполнение белкового дефицита и устранение нарастающей интоксикации и метаболических расстройств. Из общих мероприятий при лечении ожогового шока рекомендуется согревание больного. Если нет рвоты, необходимо дать пить горячий сладкий чай или кофе, щелочные минеральные воды или простой соляно-щелочной раствор (1-2 г питьевой соды и 3-4 г поваренной соли на 1 л вод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страдавшие с тяжелыми ожогами и подозрением на ожоговый шок должны быть экстренно госпитализированы в реанимационное отделение ожогового центра. Лечение начинают во время транспортировки на догоспитальном этапе и продолжают в стационаре. Ожоговые поверхности закрывают асептическими бинтовыми или контурными сухими или влажно-высыхающими повязками, пропитанными растворами антисептиков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755640" y="47628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Больного согревают, укрывая его одеялами. Не рекомендуется контактное согревание грелками. При отсутствии рвоты пострадавшего поят минеральной водой, щелочно-солевым раствором (1/2 чайной ложки гидрокарбоната натрия и 1 чайная ложка хлорида натрия на 1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оды). Прием большого количества бессолевых жидкостей может привести к так называемому водному отравл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тивошоковую терапию начинают с обезболивания наркотическими и ненаркотическими анальгетиками в сочетании с антигистаминными препаратами (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50% раствора анальгина, 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2% раствора промедола, 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1% раствора димедрола и др.). Хороший обезболивающий и седативный эффект дает нейролептаналгезия: дроперидол (0,25% раствор, по 1—5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) в сочетании с фентанилом (0,005% раствор, по 1—2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620640"/>
            <a:ext cx="587160" cy="52092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же во время транспортировки можно эффективно применять масочный наркоз с закисью азота, фторотаном и внутривенное введение барбитуратов (гексенала, тиопентал-натрия). В стационаре производят новокаиновые блокады, оказывающие не только обезболивающее действие, но и благотворно влияющие на вегетативные и трофические функции нервн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нормализации внешнего дыхания больному придают полусидячее положение, через носовой катетер осуществляют ингаляцию кислорода, вводят бронхолитические препараты (эуфиллин, эфедрин и др.). Если ожоговый струп в виде панциря охватывает и сдавливает грудную клетку, то для улучшения дыхания продольными разрезами производят декомпрессионную некротом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фузионная терапия является основным методом коррекции нарушенного гомеостаза. Объем и характер переливаемых жидкостей, темп и последовательность введения определяются клиническими и лабораторными показателями, главными из которых являются ОЦК, гематокрит, кислотно-щелочное состояние, содержание электролитов в плазме, суммарные критерии функции почек, состояние центральной гемодинамики, микроциркуляторные расстройства</a:t>
            </a: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очное установление этих показателей на начальных этапах лечения не всегда возможно, поэтому в первые 6—8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лечения объем вливаемых жидкостей рассчитывают по правилу «двойного нуля» (прибавляют к площади ожога, выраженной в процентах, два нуля; не менее половины полученного объема составляют кристаллоиды). Например, при ожоговом шоке с поражением 20% поверхности тела нужно перелить 20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идкости, в т.ч. 5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5% раствора глюкозы, 3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зотонического раствора хлорида натрия, 2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4% раствора гидрокарбоната натрия, 5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полиглюкина, 5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елатино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борьбы с гиповолемией и гипопротеинемией широко применяют нативные коллоидные растворы (нативную, сухую и свежезамороженную плазму крови, протеин, альбумин). При развитии олигурии или анурии показано введение осмотических диуретиков (маннита, мочевины, 40% раствора глюкозы), назначаемых только после полного восполнения ОЦК. Снижению ожоговой токсемии способствует переливание низкомолекулярных декстранов (реополиглюкина, реоглюмана, рондекса) и препаратов на основе поливинилпирролидона (гемодеза, неогемодеза, неокомпенсана, полидез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еополиглюкин улучшает микроциркуляцию, благодаря дезагрегации эритроцитов, ликвидации стаза в прекапиллярной и капиллярной сети, что особенно важно на фоне гемоконцентрации и повышения вязкости крови. Критериями адекватности инфузионной терапии являются центральное венозное давление в пределах 70—15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м вод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ст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, почасовой диурез 1,5—2,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/кг/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гематокрит 38—4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1128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восполнения энергетических потерь и коррекции обменных процессов вводят 10—20% растворы глюкозы, гидролизаты белков (раствор гидролизина, гидролизат казеина), аминокислотные смеси (полиамин, аминон, аминосол), кокарбоксилазу (100—2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г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в сутки). ДТФ (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1% раствора в сутки), витамины группы В, аскорбиновую кисло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оррекцию кислотно-щелочного состояния устранение ацидоза проводят вливаниями щелочных растворов: 4% раствора гидрокарбоната натрия, трисамина, лактасола и д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468360" y="620640"/>
            <a:ext cx="587160" cy="52092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оличество, темп и последовательность инфузий определяются клиническим течением шока. При тяжелом шоке инфузию начинают со струйного введения 5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за 1—2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ин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в дальнейшем переходят к капельному вливанию, регулируя его в зависимости от ЦВД, почасового диуреза и др. В среднем на каждого тяжелообожженного расходуется около 6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идкостей, причем в первые 8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противошоковой терапии больной должен получить половину суто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бъе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времени возникновения различают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первичный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сразу после травмы или в ближайший отрезок времени (через 1 - 2 часа) и вторичный - через 4 - 24 часа. Первичный шок является результатом непосредственно травмы, а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вторичный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- результат дополнительной травматизации. Может развиться шок после снятия жгута с коне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клинической картине травматического шока может наблюдаться две фазы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Эректильна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орпид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На 2-е сутки пострадавшему вводят примерно половину объема жидкостей, полученного им в первый день. Нередко инфузионная терапия проводится на фоне дробной гепаринизации (до 20 000 ЕД в сутки) под контролем свертывающей системы кров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филактику инфекционных осложнений начинают как можно раньше. Она включает профилактику столбняка по обычной схеме и массивную парентеральную терапию антибиотиками широкого спектра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Травматический и ожоговый шок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126828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755640" y="119700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8:36:28Z</dcterms:created>
  <dc:creator>Татьяна</dc:creator>
  <dc:description/>
  <dc:language>en-US</dc:language>
  <cp:lastModifiedBy>LEGION</cp:lastModifiedBy>
  <dcterms:modified xsi:type="dcterms:W3CDTF">2014-11-06T11:24:45Z</dcterms:modified>
  <cp:revision>31</cp:revision>
  <dc:subject/>
  <dc:title>Травматический и ожоговый шок. Клиника, профилактика, лечение</dc:title>
</cp:coreProperties>
</file>