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_rels/notesSlide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15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7560F-C561-48B1-86E6-51D4BEEA01C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6;&#1080;&#1079;&#1085;&#1100;" TargetMode="External"/><Relationship Id="rId2" Type="http://schemas.openxmlformats.org/officeDocument/2006/relationships/hyperlink" Target="http://ru.wikipedia.org/wiki/&#1041;&#1086;&#1083;&#1100;&#1085;&#1086;&#1081;" TargetMode="External"/><Relationship Id="rId3" Type="http://schemas.openxmlformats.org/officeDocument/2006/relationships/hyperlink" Target="http://ru.wikipedia.org/wiki/&#1055;&#1072;&#1090;&#1086;&#1083;&#1086;&#1075;&#1080;&#1103;" TargetMode="External"/><Relationship Id="rId4" Type="http://schemas.openxmlformats.org/officeDocument/2006/relationships/slide" Target="../slides/slide2.xml"/><Relationship Id="rId5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Травматический и ожоговый шок. Клиника, профилактика, ле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Доцент кафедры внутренних болезней №1 Краснова С.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0E7AA-CA3C-40AE-AAC5-00AD4882614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лассификация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Шок рассматривается  как своеобразный нервнодистрофический процесс (Вишневский А.В.). Мощная афферентная импульсация поступает в центральную нервную систему и вызывает здесь первоначально кратковременные явления разлитого возбуждения -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эректильная фаза шока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D1B49-9070-4052-A950-AF6B9D4691A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Патогенез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7D357-E7B6-4F9F-9DC8-56CC54E6FAD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лассификация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скоре возбуждение сменяется торможением, постепенно, приобретая разлитой характер.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Возникает торпидная фаза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шока с угнетением всех функций. Развиваются острая сердечная недостаточность, дыхательная недостаточность, нарушение обмена, деятельности желез внутренней секреции. Эти нарушения отрицательно влияют на нервную систему, развивается «порочный круг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F9232-B96B-4293-B18B-3A73318D554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лассификация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Развиваются  нарушения гемодинамики, при торпидной фазе - падение артериального давления, венозного давления, уменьшение массы циркулирующей крови, рефлекторный спазм мелких сосудов, что приводит к нарушению газообмена. Развивается циркуляторная и дыхательная гипоксия, от которой страдают все органы и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A902E-D8D1-4515-88F7-26B1A74B643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линическая карт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 u="sng">
                <a:solidFill>
                  <a:srgbClr val="0000ff"/>
                </a:solidFill>
                <a:uFillTx/>
                <a:latin typeface="Calibri"/>
              </a:rPr>
              <a:t>В эректильной фазе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пострадавший находится в сознании. Отмечается двигательное и речевое возбуждение, нередко выражена реакция на боль. Лицо и видимые слизистые гиперемированы,  иногда бледные, дыхание учащено, пульс не ускорен или даже замедлен, удовлетворительного наполнения и напряжения, АД может быть даже повышенным. Данная фаза шока, как правило, кратковременная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CBB38-7433-4166-8C0E-4332E853330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лассификация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   </a:t>
            </a:r>
            <a:r>
              <a:rPr b="1" lang="ru-RU" sz="1200" spc="-1" strike="noStrike" u="sng">
                <a:solidFill>
                  <a:srgbClr val="0000ff"/>
                </a:solidFill>
                <a:uFillTx/>
                <a:latin typeface="Calibri"/>
              </a:rPr>
              <a:t>В торпидной фазе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наблюдается общая заторможенность пострадавшего («окоченение» по Н.И.Пирогову). Сознание, как правило,  сохранено, на первый план выступает психическое угнетение, безучастное отношение пораженного к окружающему, отсутствие или снижение реакции на боль. Лицо бледное с заостренными чертами, температура тела пониженная, кожа холодная, в тяжелых случаях покрыта липким потом. Дыхание частое, поверхностное. Пульс учащен, слабого наполнения и напряжения, АД снижено. Подкожные вены спавшиеся. Отмечается жажда, иногда рвота, нередка олигур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D5A7E-164A-447D-8006-00FD6F34293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линическая картина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2ECAB-B257-4153-AB8A-7B548968591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лассификация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 зависимости от тяжести состояния пострадавшего клинически различают </a:t>
            </a: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4 стадии торпидного ш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Шок 1 степени (легкий): общее состояние пострадавшего удовлетворительное, заторможенность не выражена, пульс 90-100 ударов в мин., удовлетворительного наполнения и напряжения, АД 95-100 мм, рт, ст. или выше. Температура тела нормальная или несколько сниженная. Прогноз благоприят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BB15F-6CDB-4F85-9735-F99E91CBC17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Травматически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Травматический шок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— тяжёлое, угрожающее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жизни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больного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,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патологическое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состояние, возникающее при тяжёлых травмах, таких как переломы костей таза, тяжёлые огнестрельные ранения, черепно-мозговая травма, травма живота с повреждением внутренних органов и др., операциях, большой потере кров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Травматический шок является ответной реакцией организма на тяжелую механическую травму или ожог. В зависимости от этиологии различают две формы травматического шока: шок от механической травмы и ожоговый шо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8F739-94EF-49A8-9BD7-A8060AEB26D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лассификация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Шок 2 степени (средний):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выражена заторможенность, снижается температура тела, кожные покровы бледные, пульс 110-120 уд. в мин., слабого наполнения и напряжения, неровный, АД 90-75 мм, рт, ст., дыхание учащено, поверхностное. Прогноз серьезны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    </a:t>
            </a: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Шок 3 степени (тяжелый):</a:t>
            </a: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 общее состояние тяжелое, резкая заторможенность, температура тела снижена, АД 75 мм, рт, ст., пульс 120-160 уд. в мин. очень слабого наполнения и напряжения, нитевидный, несосчитываемый. Прогноз очень серьезны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56D67-640C-4B2F-8BE3-71C6AE75CA8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лассификация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Шок 4 степени (предагональное состояние):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общее состояние крайне тяжелое, АД не определяется, пульс на лучевых артериях не выявляется, слабая пульсация крупных артерий, дыхание поверхностное, редко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Агональное состояние имеет те же признаки, что и предагональное, но сочетается с более выраженными дыхательными нарушениями типа Чайн-Стокса, цианоза и п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42FC8-6800-4657-9DAC-80B59248E86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лассификация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Клиническая смерть начинается с момента последнего вздоха и остановки сердца. Активная функция ЦНС и клинические признаки жизни у раненого полностью отсутствуют. Однако обменные процессы в мозговой ткани продолжаются еще в среднем 5-6 мин (чаще 3-5 мин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ED1F9-4C83-4372-89FA-546EE89FC7B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Лечение травматического шока состоит из оказания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амопомощи, взаимопомощи и доврачебной помощи НА ПОЛЕ БО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амопомощи, взаимопомощи и доврачебной помощи В ОЧАГАХ МАССОВЫХ САНИТАРНЫХ ПОТЕР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рачебной помощи на МП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046F5-4227-4E3A-9E03-A068473A8F4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На поле боя и в очагах массовых потерь, возникающих в случае поражения ядерным оружием, противошоковые мероприятия осуществляются в порядке оказания первой медицинской помощи. Эту помощь оказывают санитары и санитарные инструкторы, младший и средний медицинский персонал, включенный в состав спасательных команд, а также пострадавшие в порядке взаимопомо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BE72C-D712-4E84-B85F-52442FDF17E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Меры первой медицинской помощи: тушение пламени и горящей одежды на пораженном, временная остановка кровотечения, устранение асфиксии (освобождение дыхательных путей от крови, слизи, земли, устранение западения языка, наложение окклюзионной повязки, придание бокового стабилизированного положения, введение S-образной трубки и др.), быстрый вынос тяжелораненых с поля боя и сосредоточение их в укрыт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24BF7-866E-46DC-BE60-D9447567CA8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9E82F-DEC0-4972-B635-E584BF25C5B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Обескровленные раненые с наложенными на поврежденные конечности жгутам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а также раненые в грудь с резкой одышкой должны выноситься с поля боя в первую очередь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D13BB-7E4F-4381-B669-10BDA8E3D99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ледующим мероприятием является иммобилизация области повреждения. Открытые повреждения следует защитить от вторичного загрязнения повязками. Организуется щадящая транспортировка. Необходимо предохранить раненых от переохлаждения, сырости и влияния др. неблагоприятных факто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5F1C0-36BE-40FA-B2F5-FC89A269948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Травматически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48216-6D3B-430B-80E3-5BDAB3C4784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На мп противошоковые мероприятия осуществляет фельдшер в порядке оказания доврачебной медицинской помощи. В большинстве случаев это те же меры, что и при оказании первой медицинской помощи, но выполняются они более квалифицированно, при лучшей обеспеченности необходимыми средствами и несколько лучших услов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При тяжелых нарушениях дыхания следует произвести туалет полостей рта и носоглотки, устранить западение корня языка, ввести и закрепить воздуховод, восстановить проходимость верхних дыхательных путей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88E92-DBBB-4E99-ABEC-831E9EBFB20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и открытом пневмотораксе необходимо наложить окклюзионную повязку, для этого может быть использована полиэтиленовая, целофановая пленка или клеенк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Одновременно и без промедления нужно остановить и наружное кровотечение наложением жгута или давящей повязки, неправильно наложенный жгут исправить, а импровизированный - заменить табельным. Затем на рану наложить асептическую повязку, исправить или заменить "сбившуюся" повязк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5A966-7E71-48CF-8480-C33A06C82C5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100" spc="-1" strike="noStrike">
                <a:solidFill>
                  <a:srgbClr val="0000ff"/>
                </a:solidFill>
                <a:latin typeface="Calibri"/>
              </a:rPr>
              <a:t>При переломах костей, повреждениях магистральных сосудов и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крупных нервов производится тщательная иммобилизация транспортными шинами, исправляются неправильно наложенные шины, импровизированные шины при необходимости заменяются табельны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едварительно производятся инъекции анальгетиков и седативных средств: пантопон или промедол (1-2 мл 2% р-ра), димедрол (2 мл 2% р-ра), внутримышечно или внутривенно медленно, используются аутоаналгететеры "Трингал". При отсутствии противопоказаний (проникающее ранение и закрытая травма живота) следует давать горячее пить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6BDD2-9FBE-49BE-94D7-8618F2C2126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Раненых с признаками шока после оказания им помощи в указанном объеме нужно немедленно направлять на мпп в реанимационное отделение. Транспорт для транспортировки должен быть максимально щадящим, а сроки доставки - предельно коротки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6C3B4-A8A9-42F6-A3A1-ED5EA9B9D6D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пециализированная помощь при шоке осуществляется в отделениях реанимации и интенсивной терап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F724F-AB03-4BA9-A038-7019FB4EDBB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се раненые с признаками шока на мпп в процессе медицинской сортировки распределяются на три групп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ервая - раненые, которые одновременно нуждаются в энергичной противошоковой терапии и в экстренных (по жизненным показаниям) оперативных вмешательствах. У раненых этой группы симптомы шока и тяжесть состояния обычно определяются повреждением внутренних органов и внутренним кровотечением. Чаще всего эту группу составляют раненые с повреждениями органов груди, живота, таза, магистральных сосудов и с разрушением (отрывами) конечност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0D241-A187-4C52-AEF5-0A23A046CB7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У раненых этой группы противошоковые мероприятия должны быть направлены лишь на устранение критической степени расстройств дыхания (при необходимости - аппаратная ИВЛ) и кровообращения, без чего эвакуация на следующий этап может закончиться смертью в пути. Их после быстрого оказания самого необходимого противошокового и реанимационного пособия нужно незамедлительно эвакуировать в омед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6A4AF-786B-4FB2-9ED6-7CD0D1FA754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торую группу составляют раненые, у которых шок возник в результате повреждений, не требующих неотложных оперативных вмешательств или вообще оперативного лечения. К таким повреждениям относятся огнестрельные и неогнестрельные (открытые и закрытые) переломы костей конечностей, без признаков повреждений магистральных сосудов и кровотечений. При массовом поступлении и затруднении с транспортом раненых этой группы, после оказания им в сортировочной палатке или в перевязочной необходимой противошоковой помощи, вынужденно придется эвакуировать в омедб во вторую очеред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BAC4D-BA45-4D3D-98D4-D0156069C42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 третью группу следует отнести пострадавших в терминальном состоянии, у которых имеются ранения, явно не совместимые с жизнью. Такие раненые нуждаются в минимальной помощи, облегчаю   щей страд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омощь раненым в зависимости от сортировочной группы, должна быть оказана непосредственно на сортировочной площадке, в сортировочной палатке, или, чаще, в перевязоч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6551D-F4CD-46B4-9F22-35F32A376EC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и шоке первая помощь тем эффективней, чем раньше она оказана. Она должна быть направлена на устранение причин шока (снятие или уменьшение болей, остановка кровотечения, проведение мероприятий, обеспечивающих улучшение дыхания и сердечной деятельности и предупреждающих общее охлажд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4D87B-E28C-4F6C-A444-4C9D3669539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 комплексе профилактических и лечебных противошоковых мероприятий важное значение имеет устранение боли, отрицательных рефлекторных реакций и неблагоприятного психического напряжения. С этой целью применяются анальгетики, нейролептики, новокаиновые блокады и щадящая иммобилизация и транспортиров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Уменьшение болей достигается приданием больному или поврежденной конечности положения, при котором меньше условий для усиления болей, поведением надежной иммобилизации поврежденной части тела, дачей обезболивающи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E2E22-7D28-42C5-9925-D2BB14F9999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о возможности следует обеспечить доступное неспециалисту обезболивание — побрызгать «заморозкой» или приложить к ране холод (пузырь со льдом или холодную воду), дать 1—2 таблетки любого из имеющихся под рукой ненаркотических анальгетиков типа анальгина, аспирина, кеторолака (при условии, что у больного на них нет аллергии) или, что лучше, сделать инъекцию ненаркотического анальгетика. Предпочтительно давать ненаркотический анальгетик помощн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и этом не следует использовать морфин (он сильно снижает артериальное давление и сильно угнетает дыхание, сильнее других наркотиков вызывает сонливость и заторможенность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571C1-FECA-4537-8589-0F76C4F94B5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о возможности следует обеспечить доступное неспециалисту снятие нервно—психического стресса (который тоже усугубляет шок): дачу 1—2 таблеток любого имеющегося бензодиазепинового транквилизатора или 40—50 капель корвалола, валокордина, или небольшого количества крепкого спиртного напит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E3169-22EB-4213-9FDB-05DD259EB72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Инфузионную терапию с целью восполнения ОЦК на мпп нужно проводить по строгим показаниям. Она предназначена, главным образом, при гипотонии, обусловленной наружной кровопотерей, и только после остановки кровотечения, хотя бы и временной. Именно для таких раненых целесообразно использовать те небольшие запасы крови, которыми располагает мпп. В качестве плазмозаменителей используют полиглюкин, лактасол, физиологический раствор хлористого натрия, 10% р-р глюкоз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8742B-BBCD-4B98-82E9-74228D3AE03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B5164-BD09-459F-BBED-5B2CA1308B5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- Проведение новокаиновых блокад по А.В.Вишневскому (шейная вагосимпатическая, поясничная паранефральная, футлярная при поражении конечности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- В/в или в/а вливания крови, плазмы крови, альбумина, противошоковых жидкостей, реополиглюкин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- Введение сердечно - сосудистых средств (строфантин, корглюкон), в тяжелых случаях показаны адреномиметические средства (эфедрин, мезатон, норадреналин) и глюкокортикоид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A7934-C4D2-453D-968B-8E36FE8644C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- Ингаляции увлажненного кислорода, инъекции лобелина, в тяжелых случаях – искусственная вентиляция легких с помощью респираторов или интубация трахе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-  Введение витаминов, особенно аскорбиновой кислоты и витамина В¹, хлорида кальц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- Введение противостолбнячной сыворотки и анатоксина, антибиот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- Проведение нейролептанальгез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24FDF-6799-4157-AEE0-2A6F984D73E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Профилактика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ПРОФИЛАКТИКА травматического ш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оздержаться от оперативного вмешательства (только по жизненным показания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Хорошая иммобилизация при перелом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Хорошая анальгезия, седативные препара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C9114-872F-448B-8E49-CB1DC859A6B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Ожоговы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Ожоговый шок - клинический синдром, возникающий при глубоких ожогах, занимающих у взрослых более 15% поверхности тела, а у детей от 5—10%. Он представляет собой разновидность травматического шока и развивается при воздействии на кожу , дыхательные пути огня во время взрывов, пожа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453D7-B0B5-4B8B-8436-7AD538931E2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Ожоговы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19DC8-14C6-402E-BB44-0E8EFEE0678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Травматически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Развитию шока способствует кровопотеря, охлаждение, физическое утомление, психическая травма, голодание, авитаминоз. Поздний вынос раненных, вторичная травматизация в процессе эвакуации, запоздалая и неполноценная медицинская помощь влекут за собой учащение случаев шо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 мирное время в связи с насыщенностью сложной техникой, высоким ритмом быта, регистрируются много травм, которые нередко осложняются травматическим шо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C48B9-3BB8-4DC7-8981-C940A71266A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Ожоговы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 течении ожоговой болезни выделяют 4 периода: I — ожоговый шок; II — острая ожоговая токсемия; III — септикотоксемия; IV—реконвалесцен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Ожоговый шок является первой стадией ожоговой болезни. На тяжесть шока ре- шающее влияние оказывает общая площадь ожога, глубина поражения. Так ожоговый шок развивается при площади глубокого ожога равной 9-10% поверхности тел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8C0F6-1583-4136-A331-E8B189646B7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Причина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87DAB-648F-4B61-B1F7-A50DE151BC5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Ожоговы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 патогенезе играют нервно - болевые влияния. В основе патогенеза лежат боль и перераздражение ц.н.с., большая плазмопотеря, сгущение крови, образование токсических, биологически активных веществ в зоне ожогового некроза, что ведет к острым тяжелым расстройствам центральной и регионарной гемодинамики, микроциркуляции, нарушениям кислотно-щелочного состояния и водно-солевого равновес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4C7CC-DC29-4D93-911C-34711D77A36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Патогенез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91017-849B-43FD-9632-5BF8134E9E5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Ожоговы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 первых часов развивается острая сосудистая недостаточность. Генерализованный спазм периферических артерий способствует сохранению функций органов и систем, в ближайшие 1-2 часа начинается снижение ОЦК, нарастающее на протяжении 2 суток, из - за плазмопотери (до 3 г/сут. белка), гиперкоагуляция, приводящая к тромбозам. Олигурия связана со спазмом артер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0AE79-FCB5-4195-BE28-B7C735A3AEC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Ожоговы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 течении ожогового шока наблюдается, как и при травматическом шоке, развитие вначале эректильной, а затем торпидной фазы шока, а также различаются 4 степени тяжести в зависимости от обширности ожог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EF65C-70F8-4D4E-A054-B1F86803FB8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Ожоговы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I (легкая) степень возникает при поверхностных ожогах, занимающих до 20% поверхности тела, или при глубоких ожогах, площадь которых составляет до 10% поверхности тела. Сознание пострадавшего сохранено, отмечаются бледность кожного покрова, мышечная дрожь, изредка тошнота, рвота. Тахикардия умеренная, АД не снижено, ОЦК понижен на 10%. Большинство пострадавших этой группы удается вывести из шока к концу первых сут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1F2C5-C089-42A3-9271-9516BB66BFD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Ожоговы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Ожоговый шок средней тяжести (II степень) характерен при ожогах 20—40% поверхности тела, когда глубокие ожоги составляют не более 20%. Он характеризуется возбуждением, сменяющимся заторможенностью. Сознание сохранено. Кожа в области ожога бледная, сухая, холодная. Больного беспокоят озноб, жажда, тошнота, часто рвота. Дыхание учащено, АД снижено, ОЦК понижен на 10—20%. Функция почек нарушается, отмечается олигурия, на 2-е сутки в крови повышается уровень остаточного азота до 41,3—44,1 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ммоль/л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, часто возникают гематурия и альбуминурия. Большинство пострадавших удается вывести из состояния шока в течение 2 сут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3263E-B7BF-4D18-9B67-F0CB95BABAB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линическая картин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6FED3-E7D9-49A8-B874-87506F1BD1C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Ожоговы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Тяжелый (Ill степень) развивается при обширных ожогах, захватывающих 40—60% поверхности тела (глубокий ожог не более 40%). Состояние крайне тяжелое, сознание спутанное, пострадавший заторможен. Кожный покров бледно-серого цвета, холодный. Отмечаются выраженная жажда, частая рвота, мышечные судороги, одышка, цианоз, тахикардия до 120—130 ударов в 1 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мин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, ОЦК снижен на 20—30%. Существенно страдает функция почек, развивается олигурия, а у больных старше 50 лет — анурия. Количество остаточного азота в крови возрастает до 50,7—56,4 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ммоль/л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. Борьба с шоком этой группы пострадавших очень трудна и далеко не всегда эффекти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95483-8359-43A0-84F7-3F1C4477AF6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Травматически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о патогенезу травматический шок соответствует гиповолемическому. Основные факторы, вызывающие данный вид шока, – сильное болевое раздражение и потеря больших объёмов кров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CBE96-E865-4DC7-8E19-D92872E5B0B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линическая картина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AB94F-BC38-47A3-BAB8-E3AA2A8BEA6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Ожоговы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Крайне тяжелый (IV степень) наблюдается у пострадавших с ожогами, занимающими свыше 60% поверхности тела (из них глубокие ожоги — не менее 40%). Состояние крайне тяжелое, сознание спутанное или отсутствует. Кожный покров бледный с мраморным оттенком. Температура тела снижена. Пульс нитевидный, АД ниже 100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 мм рт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.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ст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. Наблюдается выраженная одышка, в легких выслушиваются влажные хрипы. Больных мучит жажда, частая рвота типа кофейной гущи, развивается парез желудочно-кишечного тракта, нарастает метаболический ацидоз. Резко нарушается функция почек с развитием анурии, постоянной гематурии, альбуминурии, гемоглобинурии. Количество остаточного азота крови с первых часов более 60,0 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ммоль/л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. ОЦК снижен на 20—40%. Большинство пострадавших погибает в первые сутки, а остальные — в ближайшие дни. Благоприятный исход наблюдается крайне ред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E3EBB-A558-4C6A-A151-B1C918AFC36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Ожоговы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Ожоговый шок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характеризуется своеобразной клинической картиной: в первые часы после травмы больной возбужден, неадекватно оценивает свое состояние, затем возбуждение сменяется заторможенностью и адинамией, развивается гиповолемия, степень которой зависит от тяжести ожо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45F90-8487-4CCF-B1D6-253AD18731B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Ожоговы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и более глубоких ожогах объем цир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лирующей крови уменьшается вследствие как депонирования крови, так и ее гемолиза. Для клинической картины ожогового шока характерны бледность кожных покровов, уменьшение выделения мочи вплоть до анурии, жажда, тошнота, артериальное давление однако меняется только при тяжелых степенях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ожогового шока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D7B63-F4A8-4CF7-BAA0-6F4863F002A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ЛЕЧЕНИЕ такое же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, как и травматического шока, с наложением асептических повязок на ожоговую поверх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ADA9E-D9B1-407A-BCC1-6834533AE58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3D109-5D2D-4950-A02D-D1B9344E18F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отивошоковая терапия включает комплекс мероприятий, имеющих целью купирование болевого синдрома и снятие эмоционального напряжения, восстановление эффективной гемодинамики, нормализацию внешнего дыхания и газообмена, устранение ацидоза, профилактику и лечение нарушений функции почек, коррекцию нарушений водно-электролитного баланса, восполнение белкового дефицита и устранение нарастающей интоксикации и метаболических расстройств. Из общих мероприятий при лечении ожогового шока рекомендуется согревание больного. Если нет рвоты, необходимо дать пить горячий сладкий чай или кофе, щелочные минеральные воды или простой соляно-щелочной раствор (1-2 г питьевой соды и 3-4 г поваренной соли на 1 л вод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CC067-982C-46BE-B7FD-D38F7443004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острадавшие с тяжелыми ожогами и подозрением на ожоговый шок должны быть экстренно госпитализированы в реанимационное отделение ожогового центра. Лечение начинают во время транспортировки на догоспитальном этапе и продолжают в стационаре. Ожоговые поверхности закрывают асептическими бинтовыми или контурными сухими или влажно-высыхающими повязками, пропитанными растворами антисептик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D1BDC-FDD7-4D88-994A-23B40CE31D0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3C12C-0963-43B7-8F27-305D2865D60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Больного согревают, укрывая его одеялами. Не рекомендуется контактное согревание грелками. При отсутствии рвоты пострадавшего поят минеральной водой, щелочно-солевым раствором (1/2 чайной ложки гидрокарбоната натрия и 1 чайная ложка хлорида натрия на 1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 л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оды). Прием большого количества бессолевых жидкостей может привести к так называемому водному отравл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3BA45-79CD-4058-AE1D-91D3949DB61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Патогенез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00412-7DDB-4E8F-838D-72885C82B19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отивошоковую терапию начинают с обезболивания наркотическими и ненаркотическими анальгетиками в сочетании с антигистаминными препаратами (2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 мл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50% раствора анальгина, 1—2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 мл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2% раствора промедола, 1—2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 мл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1% раствора димедрола и др.). Хороший обезболивающий и седативный эффект дает нейролептаналгезия: дроперидол (0,25% раствор, по 1—5 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мл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) в сочетании с фентанилом (0,005% раствор, по 1—2 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мл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6351C-F04D-4C4D-B84F-9B4BF0D1FC4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Уже во время транспортировки можно эффективно применять масочный наркоз с закисью азота, фторотаном и внутривенное введение барбитуратов (гексенала, тиопентал-натрия). В стационаре производят новокаиновые блокады, оказывающие не только обезболивающее действие, но и благотворно влияющие на вегетативные и трофические функции нервн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1805A-EEFE-4BC1-9A91-F9A7BABFBD4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Для нормализации внешнего дыхания больному придают полусидячее положение, через носовой катетер осуществляют ингаляцию кислорода, вводят бронхолитические препараты (эуфиллин, эфедрин и др.). Если ожоговый струп в виде панциря охватывает и сдавливает грудную клетку, то для улучшения дыхания продольными разрезами производят декомпрессионную некротом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07B69-5E89-465D-9205-C20F70CF913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Инфузионная терапия является основным методом коррекции нарушенного гомеостаза. Объем и характер переливаемых жидкостей, темп и последовательность введения определяются клиническими и лабораторными показателями, главными из которых являются ОЦК, гематокрит, кислотно-щелочное состояние, содержание электролитов в плазме, суммарные критерии функции почек, состояние центральной гемодинамики, микроциркуляторные расстройства</a:t>
            </a: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197B6-19E4-4DBF-A3DD-B06B41C2707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Точное установление этих показателей на начальных этапах лечения не всегда возможно, поэтому в первые 6—8 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ч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лечения объем вливаемых жидкостей рассчитывают по правилу «двойного нуля» (прибавляют к площади ожога, выраженной в процентах, два нуля; не менее половины полученного объема составляют кристаллоиды). Например, при ожоговом шоке с поражением 20% поверхности тела нужно перелить 2000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 мл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жидкости, в т.ч. 500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 мл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5% раствора глюкозы, 300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 мл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изотонического раствора хлорида натрия, 200 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мл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4% раствора гидрокарбоната натрия, 500 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мл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полиглюкина, 500 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мл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желатинол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DAFDC-72C7-4C76-88A0-5FD1375FE87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Для борьбы с гиповолемией и гипопротеинемией широко применяют нативные коллоидные растворы (нативную, сухую и свежезамороженную плазму крови, протеин, альбумин). При развитии олигурии или анурии показано введение осмотических диуретиков (маннита, мочевины, 40% раствора глюкозы), назначаемых только после полного восполнения ОЦК. Снижению ожоговой токсемии способствует переливание низкомолекулярных декстранов (реополиглюкина, реоглюмана, рондекса) и препаратов на основе поливинилпирролидона (гемодеза, неогемодеза, неокомпенсана, полидеза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A8CFD-C3E0-43D0-8ADE-0E2352BBC2E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Реополиглюкин улучшает микроциркуляцию, благодаря дезагрегации эритроцитов, ликвидации стаза в прекапиллярной и капиллярной сети, что особенно важно на фоне гемоконцентрации и повышения вязкости крови. Критериями адекватности инфузионной терапии являются центральное венозное давление в пределах 70—150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 мм вод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.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ст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., почасовой диурез 1,5—2,0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 мл/кг/ч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, гематокрит 38—42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CBC6D-6D49-4D27-AAF6-F1254E60B3F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Для восполнения энергетических потерь и коррекции обменных процессов вводят 10—20% растворы глюкозы, гидролизаты белков (раствор гидролизина, гидролизат казеина), аминокислотные смеси (полиамин, аминон, аминосол), кокарбоксилазу (100—200 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мг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в сутки). ДТФ (1—2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 мл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1% раствора в сутки), витамины группы В, аскорбиновую кисло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Коррекцию кислотно-щелочного состояния устранение ацидоза проводят вливаниями щелочных растворов: 4% раствора гидрокарбоната натрия, трисамина, лактасола и д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1E1E2-3565-4467-A533-2BB40471E75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офилактика и лечение сердечно-сосудистых нарушений при ожоговом шоке заключается во введении сердечных гликозидов (коргликона, дигоксина), аналептиков (кордиамина, сульфо-камфокаин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71840-2EAA-4FA9-A84E-C75776D5A08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офилактика и лечение сердечно-сосудистых нарушений при ожоговом шоке заключается во введении сердечных гликозидов (коргликона, дигоксина), аналептиков (кордиамина, сульфо-камфокаин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B19F8-7621-4C99-AF56-5B35493E0FB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Травматически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о времени возникновения различают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шок первичный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сразу после травмы или в ближайший отрезок времени (через 1 - 2 часа) и вторичный - через 4 - 24 часа. Первичный шок является результатом непосредственно травмы, а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вторичный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- результат дополнительной травматизации. Может развиться шок после снятия жгута с коне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 клинической картине травматического шока может наблюдаться две фазы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Эректильна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Торпид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578BA-876E-4BF0-B81E-6719C9FB7FB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На 2-е сутки пострадавшему вводят примерно половину объема жидкостей, полученного им в первый день. Нередко инфузионная терапия проводится на фоне дробной гепаринизации (до 20 000 ЕД в сутки) под контролем свертывающей системы кров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EA1C7-8C74-4EB8-A5A5-FA7431BE3BA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офилактику инфекционных осложнений начинают как можно раньше. Она включает профилактику столбняка по обычной схеме и массивную парентеральную терапию антибиотиками широкого спектра действ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605D2-0455-4B8C-A1AE-186DC24DAC4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Травматический и ожоговы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ПАСИБО ЗА ВНИМ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022DE-6176-4689-A1CD-9515F1ECF55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линическая картина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E7064-B417-4119-8820-99BDB65676C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6B43-88E0-424A-BD88-78ED6ECCF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CEB1-54F2-4B36-B15B-022AAEE6E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18E8-8AAD-45F2-B6E9-1743A8615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A17A-F719-4009-B3D8-0B58E804C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1F1C9F-D26B-4F64-976A-7BDBD20EB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0777A9-B586-4A68-A126-DB97C97B0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EDE1AE-5A28-4AA2-82D2-9A118D20C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9CB8AC-9E68-4000-A3EB-0C28069D4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1E3907-2A3E-4723-AFC5-7B5A46BA7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30C693-FB1D-4263-922A-709ABFCB6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37EEF9-1FD1-4037-857B-A431C82A7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66F8-19A6-4737-8E0F-B400A2FCE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AABFCD-C7FE-432E-B68F-FB75D83D5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8B314E-C258-4DB9-838C-C1E796BB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1EB19E-21EB-4727-A169-1C4975810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9266DA-802B-4B81-BC36-DAB187522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2C52CC-6618-4FF6-A5D1-D3F218137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7249-3B6E-44E9-8D93-2E67FC782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FF25-B76A-47A2-B7AD-F5EA607A8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396B-F39F-4198-9E8C-B10F41643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6885-BB15-442C-A237-57BA24946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5BF5-F0B3-4A6C-8639-87FF80292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95B8-0A58-43F1-956D-16D614114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94D8-E922-41CF-B127-421DF9C18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E074C-AD0D-4AE1-B5BE-51D3DC3A2C5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A1B89-AB38-447C-A471-1F461F8E1CB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6;&#1080;&#1079;&#1085;&#1100;" TargetMode="External"/><Relationship Id="rId2" Type="http://schemas.openxmlformats.org/officeDocument/2006/relationships/hyperlink" Target="http://ru.wikipedia.org/wiki/&#1041;&#1086;&#1083;&#1100;&#1085;&#1086;&#1081;" TargetMode="External"/><Relationship Id="rId3" Type="http://schemas.openxmlformats.org/officeDocument/2006/relationships/hyperlink" Target="http://ru.wikipedia.org/wiki/&#1055;&#1072;&#1090;&#1086;&#1083;&#1086;&#1075;&#1080;&#1103;" TargetMode="External"/><Relationship Id="rId4" Type="http://schemas.openxmlformats.org/officeDocument/2006/relationships/hyperlink" Target="http://ru.wikipedia.org/wiki/&#1061;&#1080;&#1088;&#1091;&#1088;&#1075;&#1080;&#1095;&#1077;&#1089;&#1082;&#1072;&#1103;_&#1086;&#1087;&#1077;&#1088;&#1072;&#1094;&#1080;&#1103;" TargetMode="External"/><Relationship Id="rId5" Type="http://schemas.openxmlformats.org/officeDocument/2006/relationships/hyperlink" Target="http://ru.wikipedia.org/wiki/&#1050;&#1088;&#1086;&#1074;&#1100;" TargetMode="External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ru.wikipedia.org/wiki/&#1060;&#1072;&#1081;&#1083;:Antishock_body_position.svg" TargetMode="External"/><Relationship Id="rId3" Type="http://schemas.openxmlformats.org/officeDocument/2006/relationships/image" Target="../media/image11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Intensivstation_%2801%29_2007-03-03.jpg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85;&#1072;&#1083;&#1100;&#1075;&#1080;&#1085;" TargetMode="External"/><Relationship Id="rId2" Type="http://schemas.openxmlformats.org/officeDocument/2006/relationships/hyperlink" Target="http://ru.wikipedia.org/wiki/&#1040;&#1089;&#1087;&#1080;&#1088;&#1080;&#1085;" TargetMode="External"/><Relationship Id="rId3" Type="http://schemas.openxmlformats.org/officeDocument/2006/relationships/hyperlink" Target="http://ru.wikipedia.org/wiki/&#1050;&#1077;&#1090;&#1086;&#1088;&#1086;&#1083;&#1072;&#1082;" TargetMode="External"/><Relationship Id="rId4" Type="http://schemas.openxmlformats.org/officeDocument/2006/relationships/hyperlink" Target="http://ru.wikipedia.org/wiki/&#1052;&#1086;&#1088;&#1092;&#1080;&#1085;" TargetMode="External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8;&#1088;&#1072;&#1085;&#1082;&#1074;&#1080;&#1083;&#1080;&#1079;&#1072;&#1090;&#1086;&#1088;" TargetMode="External"/><Relationship Id="rId2" Type="http://schemas.openxmlformats.org/officeDocument/2006/relationships/hyperlink" Target="http://ru.wikipedia.org/wiki/&#1050;&#1086;&#1088;&#1074;&#1072;&#1083;&#1086;&#1083;" TargetMode="External"/><Relationship Id="rId3" Type="http://schemas.openxmlformats.org/officeDocument/2006/relationships/hyperlink" Target="http://ru.wikipedia.org/wiki/&#1042;&#1072;&#1083;&#1086;&#1082;&#1086;&#1088;&#1076;&#1080;&#1085;" TargetMode="External"/><Relationship Id="rId4" Type="http://schemas.openxmlformats.org/officeDocument/2006/relationships/hyperlink" Target="http://ru.wikipedia.org/wiki/&#1040;&#1083;&#1082;&#1086;&#1075;&#1086;&#1083;&#1100;" TargetMode="External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43;&#1080;&#1087;&#1086;&#1074;&#1086;&#1083;&#1077;&#1084;&#1080;&#1095;&#1077;&#1089;&#1082;&#1080;&#1081;_&#1096;&#1086;&#1082;&amp;action=edit&amp;redlink=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Травматический и ожоговый шок. Клиника, профилактика, лечение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cc"/>
                </a:solidFill>
                <a:latin typeface="Arial"/>
              </a:rPr>
              <a:t>Доцент кафедры внутренних болезней №1 Краснова С.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755640" y="98100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Классификация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Шок рассматривается  как своеобразный нервнодистрофический процесс (Вишневский А.В.). Мощная афферентная импульсация поступает в центральную нервную систему и вызывает здесь первоначально кратковременные явления разлитого возбуждения - </a:t>
            </a:r>
            <a:r>
              <a:rPr b="1" lang="ru-RU" sz="2400" spc="-1" strike="noStrike">
                <a:solidFill>
                  <a:srgbClr val="00ffcc"/>
                </a:solidFill>
                <a:latin typeface="Arial"/>
              </a:rPr>
              <a:t>эректильная фаза шока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Патогенез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70" name="Picture 5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Классификация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скоре возбуждение сменяется торможением, постепенно, приобретая разлитой характер. </a:t>
            </a:r>
            <a:r>
              <a:rPr b="1" lang="ru-RU" sz="2400" spc="-1" strike="noStrike">
                <a:solidFill>
                  <a:srgbClr val="00ffcc"/>
                </a:solidFill>
                <a:latin typeface="Arial"/>
              </a:rPr>
              <a:t>Возникает торпидная фаза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шока с угнетением всех функций. Развиваются острая сердечная недостаточность, дыхательная недостаточность, нарушение обмена, деятельности желез внутренней секреции. Эти нарушения отрицательно влияют на нервную систему, развивается «порочный круг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Классификация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Развиваются  нарушения гемодинамики, при торпидной фазе - падение артериального давления, венозного давления, уменьшение массы циркулирующей крови, рефлекторный спазм мелких сосудов, что приводит к нарушению газообмена. Развивается циркуляторная и дыхательная гипоксия, от которой страдают все органы и систе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Клиническая картин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00ffcc"/>
                </a:solidFill>
                <a:uFillTx/>
                <a:latin typeface="Arial"/>
              </a:rPr>
              <a:t>В эректильной фазе</a:t>
            </a:r>
            <a:r>
              <a:rPr b="1" lang="ru-RU" sz="2400" spc="-1" strike="noStrike">
                <a:solidFill>
                  <a:srgbClr val="00ffcc"/>
                </a:solidFill>
                <a:latin typeface="Arial"/>
              </a:rPr>
              <a:t> пострадавший находится в сознании. Отмечается двигательное и речевое возбуждение, нередко выражена реакция на боль. Лицо и видимые слизистые гиперемированы,  иногда бледные, дыхание учащено, пульс не ускорен или даже замедлен, удовлетворительного наполнения и напряжения, АД может быть даже повышенным. Данная фаза шока, как правило, кратковременная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Классификация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    </a:t>
            </a:r>
            <a:r>
              <a:rPr b="1" lang="ru-RU" sz="2400" spc="-1" strike="noStrike" u="sng">
                <a:solidFill>
                  <a:srgbClr val="00ffcc"/>
                </a:solidFill>
                <a:uFillTx/>
                <a:latin typeface="Arial"/>
              </a:rPr>
              <a:t>В торпидной фазе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наблюдается общая заторможенность пострадавшего («окоченение» по Н.И.Пирогову). Сознание, как правило,  сохранено, на первый план выступает психическое угнетение, безучастное отношение пораженного к окружающему, отсутствие или снижение реакции на боль. Лицо бледное с заостренными чертами, температура тела пониженная, кожа холодная, в тяжелых случаях покрыта липким потом. Дыхание частое, поверхностное. Пульс учащен, слабого наполнения и напряжения, АД снижено. Подкожные вены спавшиеся. Отмечается жажда, иногда рвота, нередка олигур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Клиническая картина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90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395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Клиническая картина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94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395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Клиническая картина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98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pic>
        <p:nvPicPr>
          <p:cNvPr id="199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32400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Классификация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 зависимости от тяжести состояния пострадавшего клинически различают </a:t>
            </a:r>
            <a:r>
              <a:rPr b="1" i="1" lang="ru-RU" sz="2400" spc="-1" strike="noStrike">
                <a:solidFill>
                  <a:srgbClr val="00ffcc"/>
                </a:solidFill>
                <a:latin typeface="Arial"/>
              </a:rPr>
              <a:t>4 стадии торпидного шо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Шок 1 степени (легкий): общее состояние пострадавшего удовлетворительное, заторможенность не выражена, пульс 90-100 ударов в мин., удовлетворительного наполнения и напряжения, АД 95-100 мм, рт, ст. или выше. Температура тела нормальная или несколько сниженная. Прогноз благоприят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Травматически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ffcc"/>
                </a:solidFill>
                <a:latin typeface="Arial"/>
              </a:rPr>
              <a:t>Травматический шок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— тяжёлое, угрожающее </a:t>
            </a:r>
            <a:r>
              <a:rPr b="0" lang="ru-RU" sz="24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жизни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больного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ru-RU" sz="2400" spc="-1" strike="noStrike" u="sng">
                <a:solidFill>
                  <a:srgbClr val="00ffcc"/>
                </a:solidFill>
                <a:uFillTx/>
                <a:latin typeface="Arial"/>
                <a:hlinkClick r:id="rId3"/>
              </a:rPr>
              <a:t>патологическое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состояние, возникающее при тяжёлых травмах, таких как переломы костей таза, тяжёлые огнестрельные ранения, черепно-мозговая травма, травма живота с повреждением внутренних органов и др., </a:t>
            </a:r>
            <a:r>
              <a:rPr b="0" lang="ru-RU" sz="2400" spc="-1" strike="noStrike" u="sng">
                <a:solidFill>
                  <a:srgbClr val="00ffcc"/>
                </a:solidFill>
                <a:uFillTx/>
                <a:latin typeface="Arial"/>
                <a:hlinkClick r:id="rId4"/>
              </a:rPr>
              <a:t>операциях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, большой потере </a:t>
            </a:r>
            <a:r>
              <a:rPr b="0" lang="ru-RU" sz="2400" spc="-1" strike="noStrike" u="sng">
                <a:solidFill>
                  <a:srgbClr val="00ffcc"/>
                </a:solidFill>
                <a:uFillTx/>
                <a:latin typeface="Arial"/>
                <a:hlinkClick r:id="rId5"/>
              </a:rPr>
              <a:t>крови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Травматический шок является ответной реакцией организма на тяжелую механическую травму или ожог. В зависимости от этиологии различают две формы травматического шока: шок от механической травмы и ожоговый шок</a:t>
            </a:r>
            <a:r>
              <a:rPr b="0" lang="ru-RU" sz="32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Рисунок 20" descr="C:\Documents and Settings\Администратор\Рабочий стол\777\logo_fin.jpg"/>
          <p:cNvPicPr/>
          <p:nvPr/>
        </p:nvPicPr>
        <p:blipFill>
          <a:blip r:embed="rId6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Классификация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ffcc"/>
                </a:solidFill>
                <a:latin typeface="Arial"/>
              </a:rPr>
              <a:t>Шок 2 степени (средний):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 выражена заторможенность, снижается температура тела, кожные покровы бледные, пульс 110-120 уд. в мин., слабого наполнения и напряжения, неровный, АД 90-75 мм, рт, ст., дыхание учащено, поверхностное. Прогноз серьезны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cc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ffcc"/>
                </a:solidFill>
                <a:latin typeface="Arial"/>
              </a:rPr>
              <a:t>Шок 3 степени (тяжелый):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общее состояние тяжелое, резкая заторможенность, температура тела снижена, АД 75 мм, рт, ст., пульс 120-160 уд. в мин. очень слабого наполнения и напряжения, нитевидный, несосчитываемый. Прогноз очень серьез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Классификация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ffcc"/>
                </a:solidFill>
                <a:latin typeface="Arial"/>
              </a:rPr>
              <a:t>Шок 4 степени (предагональное состояние):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общее состояние крайне тяжелое, АД не определяется, пульс на лучевых артериях не выявляется, слабая пульсация крупных артерий, дыхание поверхностное, редко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Агональное состояние имеет те же признаки, что и предагональное, но сочетается с более выраженными дыхательными нарушениями типа Чайн-Стокса, цианоза и п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Классификация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Клиническая смерть начинается с момента последнего вздоха и остановки сердца. Активная функция ЦНС и клинические признаки жизни у раненого полностью отсутствуют. Однако обменные процессы в мозговой ткани продолжаются еще в среднем 5-6 мин (чаще 3-5 мин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Лечение травматического шока состоит из оказания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Самопомощи, взаимопомощи и доврачебной помощи НА ПОЛЕ БО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Самопомощи, взаимопомощи и доврачебной помощи В ОЧАГАХ МАССОВЫХ САНИТАРНЫХ ПОТЕРЬ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рачебной помощи на МП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32400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На поле боя и в очагах массовых потерь, возникающих в случае поражения ядерным оружием, противошоковые мероприятия осуществляются в порядке оказания первой медицинской помощи. Эту помощь оказывают санитары и санитарные инструкторы, младший и средний медицинский персонал, включенный в состав спасательных команд, а также пострадавшие в порядке взаимопомощ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25092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Меры первой медицинской помощи: тушение пламени и горящей одежды на пораженном, временная остановка кровотечения, устранение асфиксии (освобождение дыхательных путей от крови, слизи, земли, устранение западения языка, наложение окклюзионной повязки, придание бокового стабилизированного положения, введение S-образной трубки и др.), быстрый вынос тяжелораненых с поля боя и сосредоточение их в укрыт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32400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2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30" name="Picture 4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3311280" cy="36003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220px-Antishock_body_positi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03640" y="1844640"/>
            <a:ext cx="3672000" cy="30970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7"/>
          <p:cNvSpPr/>
          <p:nvPr/>
        </p:nvSpPr>
        <p:spPr>
          <a:xfrm>
            <a:off x="696600" y="3245760"/>
            <a:ext cx="31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нять ножной конец тел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8"/>
          <p:cNvSpPr/>
          <p:nvPr/>
        </p:nvSpPr>
        <p:spPr>
          <a:xfrm>
            <a:off x="4284720" y="4437000"/>
            <a:ext cx="395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Рисунок 20" descr="C:\Documents and Settings\Администратор\Рабочий стол\777\logo_fin.jpg"/>
          <p:cNvPicPr/>
          <p:nvPr/>
        </p:nvPicPr>
        <p:blipFill>
          <a:blip r:embed="rId4"/>
          <a:srcRect l="-1032" t="0" r="56774" b="0"/>
          <a:stretch/>
        </p:blipFill>
        <p:spPr>
          <a:xfrm>
            <a:off x="32400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2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37" name="Picture 4" descr=""/>
          <p:cNvPicPr/>
          <p:nvPr/>
        </p:nvPicPr>
        <p:blipFill>
          <a:blip r:embed="rId1"/>
          <a:stretch/>
        </p:blipFill>
        <p:spPr>
          <a:xfrm>
            <a:off x="1403280" y="1268280"/>
            <a:ext cx="6481800" cy="468180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32400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Обескровленные раненые с наложенными на поврежденные конечности жгутам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а также раненые в грудь с резкой одышкой должны выноситься с поля боя в первую очередь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395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Следующим мероприятием является иммобилизация области повреждения. Открытые повреждения следует защитить от вторичного загрязнения повязками. Организуется щадящая транспортировка. Необходимо предохранить раненых от переохлаждения, сырости и влияния др. неблагоприятных фактор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25092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Травматически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2268360" y="2133720"/>
            <a:ext cx="4896000" cy="338292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На мп противошоковые мероприятия осуществляет фельдшер в порядке оказания доврачебной медицинской помощи. В большинстве случаев это те же меры, что и при оказании первой медицинской помощи, но выполняются они более квалифицированно, при лучшей обеспеченности необходимыми средствами и несколько лучших условия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ри тяжелых нарушениях дыхания следует произвести туалет полостей рта и носоглотки, устранить западение корня языка, ввести и закрепить воздуховод, восстановить проходимость верхних дыхательных путей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2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ри открытом пневмотораксе необходимо наложить окклюзионную повязку, для этого может быть использована полиэтиленовая, целофановая пленка или клеенка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Одновременно и без промедления нужно остановить и наружное кровотечение наложением жгута или давящей повязки, неправильно наложенный жгут исправить, а импровизированный - заменить табельным. Затем на рану наложить асептическую повязку, исправить или заменить "сбившуюся" повязк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2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При переломах костей, повреждениях магистральных сосудов и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крупных нервов производится тщательная иммобилизация транспортными шинами, исправляются неправильно наложенные шины, импровизированные шины при необходимости заменяются табельным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редварительно производятся инъекции анальгетиков и седативных средств: пантопон или промедол (1-2 мл 2% р-ра), димедрол (2 мл 2% р-ра), внутримышечно или внутривенно медленно, используются аутоаналгететеры "Трингал". При отсутствии противопоказаний (проникающее ранение и закрытая травма живота) следует давать горячее пить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2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Раненых с признаками шока после оказания им помощи в указанном объеме нужно немедленно направлять на мпп в реанимационное отделение. Транспорт для транспортировки должен быть максимально щадящим, а сроки доставки - предельно коротки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2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Специализированная помощь при шоке осуществляется в отделениях реанимации и интенсивной терап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4" descr="250px-Intensivstation_%2801%29_2007-03-0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40000" y="3284640"/>
            <a:ext cx="4319640" cy="2592360"/>
          </a:xfrm>
          <a:prstGeom prst="rect">
            <a:avLst/>
          </a:prstGeom>
          <a:ln w="0">
            <a:noFill/>
          </a:ln>
        </p:spPr>
      </p:pic>
      <p:pic>
        <p:nvPicPr>
          <p:cNvPr id="267" name="Рисунок 20" descr="C:\Documents and Settings\Администратор\Рабочий стол\777\logo_fin.jpg"/>
          <p:cNvPicPr/>
          <p:nvPr/>
        </p:nvPicPr>
        <p:blipFill>
          <a:blip r:embed="rId3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2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се раненые с признаками шока на мпп в процессе медицинской сортировки распределяются на три групп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ервая - раненые, которые одновременно нуждаются в энергичной противошоковой терапии и в экстренных (по жизненным показаниям) оперативных вмешательствах. У раненых этой группы симптомы шока и тяжесть состояния обычно определяются повреждением внутренних органов и внутренним кровотечением. Чаще всего эту группу составляют раненые с повреждениями органов груди, живота, таза, магистральных сосудов и с разрушением (отрывами) конечносте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2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У раненых этой группы противошоковые мероприятия должны быть направлены лишь на устранение критической степени расстройств дыхания (при необходимости - аппаратная ИВЛ) и кровообращения, без чего эвакуация на следующий этап может закончиться смертью в пути. Их после быстрого оказания самого необходимого противошокового и реанимационного пособия нужно незамедлительно эвакуировать в омед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2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торую группу составляют раненые, у которых шок возник в результате повреждений, не требующих неотложных оперативных вмешательств или вообще оперативного лечения. К таким повреждениям относятся огнестрельные и неогнестрельные (открытые и закрытые) переломы костей конечностей, без признаков повреждений магистральных сосудов и кровотечений. При массовом поступлении и затруднении с транспортом раненых этой группы, после оказания им в сортировочной палатке или в перевязочной необходимой противошоковой помощи, вынужденно придется эвакуировать в омедб во вторую очеред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2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 третью группу следует отнести пострадавших в терминальном состоянии, у которых имеются ранения, явно не совместимые с жизнью. Такие раненые нуждаются в минимальной помощи, облегчаю   щей страд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омощь раненым в зависимости от сортировочной группы, должна быть оказана непосредственно на сортировочной площадке, в сортировочной палатке, или, чаще, в перевязочн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2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ри шоке первая помощь тем эффективней, чем раньше она оказана. Она должна быть направлена на устранение причин шока (снятие или уменьшение болей, остановка кровотечения, проведение мероприятий, обеспечивающих улучшение дыхания и сердечной деятельности и предупреждающих общее охлаждени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2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Травматически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2195640" y="2060640"/>
            <a:ext cx="4392360" cy="309708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 комплексе профилактических и лечебных противошоковых мероприятий важное значение имеет устранение боли, отрицательных рефлекторных реакций и неблагоприятного психического напряжения. С этой целью применяются анальгетики, нейролептики, новокаиновые блокады и щадящая иммобилизация и транспортиров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Уменьшение болей достигается приданием больному или поврежденной конечности положения, при котором меньше условий для усиления болей, поведением надежной иммобилизации поврежденной части тела, дачей обезболивающих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2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13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По возможности следует обеспечить доступное неспециалисту обезболивание — побрызгать «заморозкой» или приложить к ране холод (пузырь со льдом или холодную воду), дать 1—2 таблетки любого из имеющихся под рукой ненаркотических анальгетиков типа </a:t>
            </a:r>
            <a:r>
              <a:rPr b="0" lang="ru-RU" sz="20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анальгина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ru-RU" sz="20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аспирина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ru-RU" sz="2000" spc="-1" strike="noStrike" u="sng">
                <a:solidFill>
                  <a:srgbClr val="00ffcc"/>
                </a:solidFill>
                <a:uFillTx/>
                <a:latin typeface="Arial"/>
                <a:hlinkClick r:id="rId3"/>
              </a:rPr>
              <a:t>кеторолака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 (при условии, что у больного на них нет аллергии) или, что лучше, сделать инъекцию ненаркотического анальгетика. Предпочтительно давать ненаркотический анальгетик помощне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При этом не следует использовать </a:t>
            </a:r>
            <a:r>
              <a:rPr b="0" lang="ru-RU" sz="2000" spc="-1" strike="noStrike" u="sng">
                <a:solidFill>
                  <a:srgbClr val="00ffcc"/>
                </a:solidFill>
                <a:uFillTx/>
                <a:latin typeface="Arial"/>
                <a:hlinkClick r:id="rId4"/>
              </a:rPr>
              <a:t>морфин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 (он сильно снижает артериальное давление и сильно угнетает дыхание, сильнее других наркотиков вызывает сонливость и заторможенность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Рисунок 20" descr="C:\Documents and Settings\Администратор\Рабочий стол\777\logo_fin.jpg"/>
          <p:cNvPicPr/>
          <p:nvPr/>
        </p:nvPicPr>
        <p:blipFill>
          <a:blip r:embed="rId5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2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о возможности следует обеспечить доступное неспециалисту снятие нервно—психического стресса (который тоже усугубляет шок): дачу 1—2 таблеток любого имеющегося бензодиазепинового </a:t>
            </a:r>
            <a:r>
              <a:rPr b="0" lang="ru-RU" sz="24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транквилизатора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или 40—50 капель </a:t>
            </a:r>
            <a:r>
              <a:rPr b="0" lang="ru-RU" sz="24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корвалола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ru-RU" sz="2400" spc="-1" strike="noStrike" u="sng">
                <a:solidFill>
                  <a:srgbClr val="00ffcc"/>
                </a:solidFill>
                <a:uFillTx/>
                <a:latin typeface="Arial"/>
                <a:hlinkClick r:id="rId3"/>
              </a:rPr>
              <a:t>валокордина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, или небольшого количества крепкого </a:t>
            </a:r>
            <a:r>
              <a:rPr b="0" lang="ru-RU" sz="2400" spc="-1" strike="noStrike" u="sng">
                <a:solidFill>
                  <a:srgbClr val="00ffcc"/>
                </a:solidFill>
                <a:uFillTx/>
                <a:latin typeface="Arial"/>
                <a:hlinkClick r:id="rId4"/>
              </a:rPr>
              <a:t>спиртного напитк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Рисунок 20" descr="C:\Documents and Settings\Администратор\Рабочий стол\777\logo_fin.jpg"/>
          <p:cNvPicPr/>
          <p:nvPr/>
        </p:nvPicPr>
        <p:blipFill>
          <a:blip r:embed="rId5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3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Инфузионную терапию с целью восполнения ОЦК на мпп нужно проводить по строгим показаниям. Она предназначена, главным образом, при гипотонии, обусловленной наружной кровопотерей, и только после остановки кровотечения, хотя бы и временной. Именно для таких раненых целесообразно использовать те небольшие запасы крови, которыми располагает мпп. В качестве плазмозаменителей используют полиглюкин, лактасол, физиологический раствор хлористого натрия, 10% р-р глюкоз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3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3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06" name="Picture 4" descr=""/>
          <p:cNvPicPr/>
          <p:nvPr/>
        </p:nvPicPr>
        <p:blipFill>
          <a:blip r:embed="rId1"/>
          <a:stretch/>
        </p:blipFill>
        <p:spPr>
          <a:xfrm>
            <a:off x="2268360" y="1916280"/>
            <a:ext cx="4464360" cy="3528720"/>
          </a:xfrm>
          <a:prstGeom prst="rect">
            <a:avLst/>
          </a:prstGeom>
          <a:ln w="0">
            <a:noFill/>
          </a:ln>
        </p:spPr>
      </p:pic>
      <p:pic>
        <p:nvPicPr>
          <p:cNvPr id="307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3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- Проведение новокаиновых блокад по А.В.Вишневскому (шейная вагосимпатическая, поясничная паранефральная, футлярная при поражении конечности)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- В/в или в/а вливания крови, плазмы крови, альбумина, противошоковых жидкостей, реополиглюкин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- Введение сердечно - сосудистых средств (строфантин, корглюкон), в тяжелых случаях показаны адреномиметические средства (эфедрин, мезатон, норадреналин) и глюкокортикоид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3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ffcc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Ингаляции увлажненного кислорода, инъекции лобелина, в тяжелых случаях – искусственная вентиляция легких с помощью респираторов или интубация трахе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-  Введение витаминов, особенно аскорбиновой кислоты и витамина В¹, хлорида кальци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- Введение противостолбнячной сыворотки и анатоксина, антибиоти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- Проведение нейролептанальгез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5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3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Профилактика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ffcc"/>
                </a:solidFill>
                <a:latin typeface="Arial"/>
              </a:rPr>
              <a:t>ПРОФИЛАКТИКА травматического шок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оздержаться от оперативного вмешательства (только по жизненным показаниям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Хорошая иммобилизация при перелом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Хорошая анальгезия, седативные препара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9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187280" y="47628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3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Ожоговы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Ожоговый шок - клинический синдром, возникающий при глубоких ожогах, занимающих у взрослых более 15% поверхности тела, а у детей от 5—10%. Он представляет собой разновидность травматического шока и развивается при воздействии на кожу , дыхательные пути огня во время взрывов, пожар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54764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3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Ожоговы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26" name="Picture 4" descr=""/>
          <p:cNvPicPr/>
          <p:nvPr/>
        </p:nvPicPr>
        <p:blipFill>
          <a:blip r:embed="rId1"/>
          <a:stretch/>
        </p:blipFill>
        <p:spPr>
          <a:xfrm>
            <a:off x="1835280" y="1916280"/>
            <a:ext cx="4927320" cy="3929040"/>
          </a:xfrm>
          <a:prstGeom prst="rect">
            <a:avLst/>
          </a:prstGeom>
          <a:ln w="0">
            <a:noFill/>
          </a:ln>
        </p:spPr>
      </p:pic>
      <p:pic>
        <p:nvPicPr>
          <p:cNvPr id="327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183528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3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Травматически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Развитию шока способствует кровопотеря, охлаждение, физическое утомление, психическая травма, голодание, авитаминоз. Поздний вынос раненных, вторичная травматизация в процессе эвакуации, запоздалая и неполноценная медицинская помощь влекут за собой учащение случаев шо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 мирное время в связи с насыщенностью сложной техникой, высоким ритмом быта, регистрируются много травм, которые нередко осложняются травматическим шок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Ожоговы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 течении ожоговой болезни выделяют 4 периода: I — ожоговый шок; II — острая ожоговая токсемия; III — септикотоксемия; IV—реконвалесцен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Ожоговый шок является первой стадией ожоговой болезни. На тяжесть шока ре- шающее влияние оказывает общая площадь ожога, глубина поражения. Так ожоговый шок развивается при площади глубокого ожога равной 9-10% поверхности тел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1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90800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3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Причина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34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pic>
        <p:nvPicPr>
          <p:cNvPr id="335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82692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3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Ожоговы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 патогенезе играют нервно - болевые влияния. В основе патогенеза лежат боль и перераздражение ц.н.с., большая плазмопотеря, сгущение крови, образование токсических, биологически активных веществ в зоне ожогового некроза, что ведет к острым тяжелым расстройствам центральной и регионарной гемодинамики, микроциркуляции, нарушениям кислотно-щелочного состояния и водно-солевого равновес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9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90800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3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Патогенез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42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pic>
        <p:nvPicPr>
          <p:cNvPr id="343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53964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3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Ожоговы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С первых часов развивается острая сосудистая недостаточность. Генерализованный спазм периферических артерий способствует сохранению функций органов и систем, в ближайшие 1-2 часа начинается снижение ОЦК, нарастающее на протяжении 2 суток, из - за плазмопотери (до 3 г/сут. белка), гиперкоагуляция, приводящая к тромбозам. Олигурия связана со спазмом артер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90800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3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Ожоговы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 течении ожогового шока наблюдается, как и при травматическом шоке, развитие вначале эректильной, а затем торпидной фазы шока, а также различаются 4 степени тяжести в зависимости от обширности ожогов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90800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3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Ожоговы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I (легкая) степень возникает при поверхностных ожогах, занимающих до 20% поверхности тела, или при глубоких ожогах, площадь которых составляет до 10% поверхности тела. Сознание пострадавшего сохранено, отмечаются бледность кожного покрова, мышечная дрожь, изредка тошнота, рвота. Тахикардия умеренная, АД не снижено, ОЦК понижен на 10%. Большинство пострадавших этой группы удается вывести из шока к концу первых сут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5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90800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3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Ожоговы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Ожоговый шок средней тяжести (II степень) характерен при ожогах 20—40% поверхности тела, когда глубокие ожоги составляют не более 20%. Он характеризуется возбуждением, сменяющимся заторможенностью. Сознание сохранено. Кожа в области ожога бледная, сухая, холодная. Больного беспокоят озноб, жажда, тошнота, часто рвота. Дыхание учащено, АД снижено, ОЦК понижен на 10—20%. Функция почек нарушается, отмечается олигурия, на 2-е сутки в крови повышается уровень остаточного азота до 41,3—44,1 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ммоль/л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, часто возникают гематурия и альбуминурия. Большинство пострадавших удается вывести из состояния шока в течение 2 суто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9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90800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3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Клиническая картина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62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pic>
        <p:nvPicPr>
          <p:cNvPr id="363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111600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3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Ожоговы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Тяжелый (Ill степень) развивается при обширных ожогах, захватывающих 40—60% поверхности тела (глубокий ожог не более 40%). Состояние крайне тяжелое, сознание спутанное, пострадавший заторможен. Кожный покров бледно-серого цвета, холодный. Отмечаются выраженная жажда, частая рвота, мышечные судороги, одышка, цианоз, тахикардия до 120—130 ударов в 1 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мин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, ОЦК снижен на 20—30%. Существенно страдает функция почек, развивается олигурия, а у больных старше 50 лет — анурия. Количество остаточного азота в крови возрастает до 50,7—56,4 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ммоль/л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. Борьба с шоком этой группы пострадавших очень трудна и далеко не всегда эффекти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90800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3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Травматически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о патогенезу травматический шок соответствует </a:t>
            </a:r>
            <a:r>
              <a:rPr b="0" lang="ru-RU" sz="24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гиповолемическому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. Основные факторы, вызывающие данный вид шока, – сильное болевое раздражение и потеря больших объёмов кров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Клиническая картина ожогов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70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pic>
        <p:nvPicPr>
          <p:cNvPr id="371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3132000" y="83664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3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Ожоговы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Крайне тяжелый (IV степень) наблюдается у пострадавших с ожогами, занимающими свыше 60% поверхности тела (из них глубокие ожоги — не менее 40%). Состояние крайне тяжелое, сознание спутанное или отсутствует. Кожный покров бледный с мраморным оттенком. Температура тела снижена. Пульс нитевидный, АД ниже 100</a:t>
            </a:r>
            <a:r>
              <a:rPr b="0" i="1" lang="ru-RU" sz="2000" spc="-1" strike="noStrike">
                <a:solidFill>
                  <a:srgbClr val="00ffcc"/>
                </a:solidFill>
                <a:latin typeface="Arial"/>
              </a:rPr>
              <a:t> мм рт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.</a:t>
            </a:r>
            <a:r>
              <a:rPr b="0" i="1" lang="ru-RU" sz="2000" spc="-1" strike="noStrike">
                <a:solidFill>
                  <a:srgbClr val="00ffcc"/>
                </a:solidFill>
                <a:latin typeface="Arial"/>
              </a:rPr>
              <a:t>ст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. Наблюдается выраженная одышка, в легких выслушиваются влажные хрипы. Больных мучит жажда, частая рвота типа кофейной гущи, развивается парез желудочно-кишечного тракта, нарастает метаболический ацидоз. Резко нарушается функция почек с развитием анурии, постоянной гематурии, альбуминурии, гемоглобинурии. Количество остаточного азота крови с первых часов более 60,0 </a:t>
            </a:r>
            <a:r>
              <a:rPr b="0" i="1" lang="ru-RU" sz="2000" spc="-1" strike="noStrike">
                <a:solidFill>
                  <a:srgbClr val="00ffcc"/>
                </a:solidFill>
                <a:latin typeface="Arial"/>
              </a:rPr>
              <a:t>ммоль/л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. ОЦК снижен на 20—40%. Большинство пострадавших погибает в первые сутки, а остальные — в ближайшие дни. Благоприятный исход наблюдается крайне редк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5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90800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3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Ожоговы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ffcc"/>
                </a:solidFill>
                <a:latin typeface="Arial"/>
              </a:rPr>
              <a:t>Ожоговый шок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характеризуется своеобразной клинической картиной: в первые часы после травмы больной возбужден, неадекватно оценивает свое состояние, затем возбуждение сменяется заторможенностью и адинамией, развивается гиповолемия, степень которой зависит от тяжести ожог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9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90800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3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Ожоговы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ри более глубоких ожогах объем цирк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лирующей крови уменьшается вследствие как депонирования крови, так и ее гемолиза. Для клинической картины ожогового шока характерны бледность кожных покровов, уменьшение выделения мочи вплоть до анурии, жажда, тошнота, артериальное давление однако меняется только при тяжелых степенях </a:t>
            </a:r>
            <a:r>
              <a:rPr b="1" lang="ru-RU" sz="2400" spc="-1" strike="noStrike">
                <a:solidFill>
                  <a:srgbClr val="00ffcc"/>
                </a:solidFill>
                <a:latin typeface="Arial"/>
              </a:rPr>
              <a:t>ожогового шока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3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90800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3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ffcc"/>
                </a:solidFill>
                <a:latin typeface="Arial"/>
              </a:rPr>
              <a:t>ЛЕЧЕНИЕ такое же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, как и травматического шока, с наложением асептических повязок на ожоговую поверхност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7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82692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3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90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pic>
        <p:nvPicPr>
          <p:cNvPr id="391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190800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3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Противошоковая терапия включает комплекс мероприятий, имеющих целью купирование болевого синдрома и снятие эмоционального напряжения, восстановление эффективной гемодинамики, нормализацию внешнего дыхания и газообмена, устранение ацидоза, профилактику и лечение нарушений функции почек, коррекцию нарушений водно-электролитного баланса, восполнение белкового дефицита и устранение нарастающей интоксикации и метаболических расстройств. Из общих мероприятий при лечении ожогового шока рекомендуется согревание больного. Если нет рвоты, необходимо дать пить горячий сладкий чай или кофе, щелочные минеральные воды или простой соляно-щелочной раствор (1-2 г питьевой соды и 3-4 г поваренной соли на 1 л воды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5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75564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3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острадавшие с тяжелыми ожогами и подозрением на ожоговый шок должны быть экстренно госпитализированы в реанимационное отделение ожогового центра. Лечение начинают во время транспортировки на догоспитальном этапе и продолжают в стационаре. Ожоговые поверхности закрывают асептическими бинтовыми или контурными сухими или влажно-высыхающими повязками, пропитанными растворами антисептиков</a:t>
            </a:r>
            <a:r>
              <a:rPr b="0" lang="ru-RU" sz="32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9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75564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4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402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pic>
        <p:nvPicPr>
          <p:cNvPr id="403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755640" y="47628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4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Больного согревают, укрывая его одеялами. Не рекомендуется контактное согревание грелками. При отсутствии рвоты пострадавшего поят минеральной водой, щелочно-солевым раствором (1/2 чайной ложки гидрокарбоната натрия и 1 чайная ложка хлорида натрия на 1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 л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оды). Прием большого количества бессолевых жидкостей может привести к так называемому водному отравлени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7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68436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4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Патогенез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4" name="Picture 5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ротивошоковую терапию начинают с обезболивания наркотическими и ненаркотическими анальгетиками в сочетании с антигистаминными препаратами (2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 мл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50% раствора анальгина, 1—2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 мл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2% раствора промедола, 1—2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 мл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1% раствора димедрола и др.). Хороший обезболивающий и седативный эффект дает нейролептаналгезия: дроперидол (0,25% раствор, по 1—5 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мл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) в сочетании с фентанилом (0,005% раствор, по 1—2 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мл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1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684360" y="620640"/>
            <a:ext cx="587160" cy="520920"/>
          </a:xfrm>
          <a:prstGeom prst="rect">
            <a:avLst/>
          </a:prstGeom>
          <a:ln w="0">
            <a:noFill/>
          </a:ln>
        </p:spPr>
      </p:pic>
      <p:sp>
        <p:nvSpPr>
          <p:cNvPr id="4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Уже во время транспортировки можно эффективно применять масочный наркоз с закисью азота, фторотаном и внутривенное введение барбитуратов (гексенала, тиопентал-натрия). В стационаре производят новокаиновые блокады, оказывающие не только обезболивающее действие, но и благотворно влияющие на вегетативные и трофические функции нервной систе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5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68436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4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Для нормализации внешнего дыхания больному придают полусидячее положение, через носовой катетер осуществляют ингаляцию кислорода, вводят бронхолитические препараты (эуфиллин, эфедрин и др.). Если ожоговый струп в виде панциря охватывает и сдавливает грудную клетку, то для улучшения дыхания продольными разрезами производят декомпрессионную некротоми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9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75564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4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Инфузионная терапия является основным методом коррекции нарушенного гомеостаза. Объем и характер переливаемых жидкостей, темп и последовательность введения определяются клиническими и лабораторными показателями, главными из которых являются ОЦК, гематокрит, кислотно-щелочное состояние, содержание электролитов в плазме, суммарные критерии функции почек, состояние центральной гемодинамики, микроциркуляторные расстройства</a:t>
            </a:r>
            <a:r>
              <a:rPr b="0" lang="ru-RU" sz="28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3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68436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4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Точное установление этих показателей на начальных этапах лечения не всегда возможно, поэтому в первые 6—8 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ч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лечения объем вливаемых жидкостей рассчитывают по правилу «двойного нуля» (прибавляют к площади ожога, выраженной в процентах, два нуля; не менее половины полученного объема составляют кристаллоиды). Например, при ожоговом шоке с поражением 20% поверхности тела нужно перелить 2000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 мл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жидкости, в т.ч. 500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 мл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5% раствора глюкозы, 300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 мл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изотонического раствора хлорида натрия, 200 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мл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4% раствора гидрокарбоната натрия, 500 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мл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полиглюкина, 500 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мл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желатинол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7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75564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4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Для борьбы с гиповолемией и гипопротеинемией широко применяют нативные коллоидные растворы (нативную, сухую и свежезамороженную плазму крови, протеин, альбумин). При развитии олигурии или анурии показано введение осмотических диуретиков (маннита, мочевины, 40% раствора глюкозы), назначаемых только после полного восполнения ОЦК. Снижению ожоговой токсемии способствует переливание низкомолекулярных декстранов (реополиглюкина, реоглюмана, рондекса) и препаратов на основе поливинилпирролидона (гемодеза, неогемодеза, неокомпенсана, полидеза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68436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4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Реополиглюкин улучшает микроциркуляцию, благодаря дезагрегации эритроцитов, ликвидации стаза в прекапиллярной и капиллярной сети, что особенно важно на фоне гемоконцентрации и повышения вязкости крови. Критериями адекватности инфузионной терапии являются центральное венозное давление в пределах 70—150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 мм вод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.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ст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., почасовой диурез 1,5—2,0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 мл/кг/ч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, гематокрит 38—42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5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61128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4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Для восполнения энергетических потерь и коррекции обменных процессов вводят 10—20% растворы глюкозы, гидролизаты белков (раствор гидролизина, гидролизат казеина), аминокислотные смеси (полиамин, аминон, аминосол), кокарбоксилазу (100—200 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мг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в сутки). ДТФ (1—2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 мл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1% раствора в сутки), витамины группы В, аскорбиновую кислот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Коррекцию кислотно-щелочного состояния устранение ацидоза проводят вливаниями щелочных растворов: 4% раствора гидрокарбоната натрия, трисамина, лактасола и др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9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75564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4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рофилактика и лечение сердечно-сосудистых нарушений при ожоговом шоке заключается во введении сердечных гликозидов (коргликона, дигоксина), аналептиков (кордиамина, сульфо-камфокаина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3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468360" y="620640"/>
            <a:ext cx="587160" cy="520920"/>
          </a:xfrm>
          <a:prstGeom prst="rect">
            <a:avLst/>
          </a:prstGeom>
          <a:ln w="0">
            <a:noFill/>
          </a:ln>
        </p:spPr>
      </p:pic>
      <p:sp>
        <p:nvSpPr>
          <p:cNvPr id="4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Количество, темп и последовательность инфузий определяются клиническим течением шока. При тяжелом шоке инфузию начинают со струйного введения 500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 мл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за 1—2 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мин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, в дальнейшем переходят к капельному вливанию, регулируя его в зависимости от ЦВД, почасового диуреза и др. В среднем на каждого тяжелообожженного расходуется около 6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 л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жидкостей, причем в первые 8 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ч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противошоковой терапии больной должен получить половину суточног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объем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7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75564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4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Травматически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о времени возникновения различают </a:t>
            </a:r>
            <a:r>
              <a:rPr b="1" lang="ru-RU" sz="2400" spc="-1" strike="noStrike">
                <a:solidFill>
                  <a:srgbClr val="00ffcc"/>
                </a:solidFill>
                <a:latin typeface="Arial"/>
              </a:rPr>
              <a:t>шок первичный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сразу после травмы или в ближайший отрезок времени (через 1 - 2 часа) и вторичный - через 4 - 24 часа. Первичный шок является результатом непосредственно травмы, а </a:t>
            </a:r>
            <a:r>
              <a:rPr b="1" lang="ru-RU" sz="2400" spc="-1" strike="noStrike">
                <a:solidFill>
                  <a:srgbClr val="00ffcc"/>
                </a:solidFill>
                <a:latin typeface="Arial"/>
              </a:rPr>
              <a:t>вторичный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- результат дополнительной травматизации. Может развиться шок после снятия жгута с конеч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 клинической картине травматического шока может наблюдаться две фазы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Эректильна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Торпид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На 2-е сутки пострадавшему вводят примерно половину объема жидкостей, полученного им в первый день. Нередко инфузионная терапия проводится на фоне дробной гепаринизации (до 20 000 ЕД в сутки) под контролем свертывающей системы кров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1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75564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4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рофилактику инфекционных осложнений начинают как можно раньше. Она включает профилактику столбняка по обычной схеме и массивную парентеральную терапию антибиотиками широкого спектра действ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5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75564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4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Травматический и ожоговый шок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4000" spc="-1" strike="noStrike">
                <a:solidFill>
                  <a:srgbClr val="00ffcc"/>
                </a:solidFill>
                <a:latin typeface="Arial"/>
              </a:rPr>
              <a:t>СПАСИБО ЗА ВНИМ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9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755640" y="126828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4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Клиническая картина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2124000" y="1916280"/>
            <a:ext cx="5040360" cy="360036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755640" y="119700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4T18:36:28Z</dcterms:created>
  <dc:creator>Татьяна</dc:creator>
  <dc:description/>
  <dc:language>en-US</dc:language>
  <cp:lastModifiedBy>LEGION</cp:lastModifiedBy>
  <dcterms:modified xsi:type="dcterms:W3CDTF">2014-11-06T11:24:45Z</dcterms:modified>
  <cp:revision>31</cp:revision>
  <dc:subject/>
  <dc:title>Травматический и ожоговый шок. Клиника, профилактика, лечение</dc:title>
</cp:coreProperties>
</file>