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9822-CDA0-4A5F-96F1-8822EB22EB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История психолог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DCC-1E91-4C62-B876-780A0C3B938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ПОДХОД В ОПРЕДЕЛЕН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А ИСТОРИИ НАУ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 и творчески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8A2C-5804-4C6D-BCFA-8D0CB0E1443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сво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носеологической прир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ражением отраж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9E65-C689-4964-997F-29DEE69C508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иалектической научн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и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DF62-A6B5-4AC4-AF05-37FCD28AB33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метная область истории психологии склад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стыке и пересеч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ед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F84A-5410-42BE-A532-715CA661D56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ная методолог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5E1E-C0A1-4231-94AB-53141916A5F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ле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юбой науки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методологических принци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B641-8AA5-4B4E-878D-8A5E69821FF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Принцип детермин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 развит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AE47-6936-42C1-90B5-3B05F7BDAA9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Принцип единства логического и истор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F19D-B3C7-406C-AD54-E380F02F291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Принцип систем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7FE0-FBFC-454F-905B-C4667569E88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ринцип объективности историко-психологического исследован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7746-BEC5-4D00-BD85-51BCE165F25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 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A153-F203-4E0D-9B1B-4D79BADF7FE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Принцип конструктивно-позитивного анализ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9431-1470-49D1-B4F3-27A8F5AEB69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Принцип периодизации и преем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3961-C03C-46EC-8A80-440BFDD243E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нцип единства прошлого, настоящего и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77C2-9678-4984-93B2-06D13DA3B00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F5F9-E371-4D63-A5B2-6C30C50A417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ит отличие психологического знания от психологического по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 основные подходы в определении предмета истории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особенности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шите основные методологические принципы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арактеризуйте самостоятельные методы истории психологи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2B26-E166-4FB6-9234-684E41837ED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сторико-психологического п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ознани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1CD9-815A-4EDE-8385-4CC7E8BBEFA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ы рефера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особенностей различных форм психологически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объективности историко-психологического исследования: пути и спос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именения метода планирования историко-психолог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4FA9-3E76-418D-B593-4D9594F956D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l A.P. Merton revisited or society sourse in the seventeen century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. P. 89-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. 60-7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53-6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Soviet Perspectives on Russian Psychology / edited by V.Koltsova, Y.Oleinik, A. Gilgen, K.Gilgen.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дан А.Н. История психологии. От античности до наших дней. М., 1990. 367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43C8-6A72-44E9-B831-C691D44BCB6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йре А. Очерки истории философской мысли. М., 19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чур Е.А. Проблемы социокультурной детерминации научного знания. М., 198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 Русская ментальность и ее отражение в науках о человеке. М., 199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A3A6-F67F-4A41-9D39-2D847ABC803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ЩИЕ ЗАКОНОМЕРНОСТИ РАЗВИТИЯ ПСИХОЛОГИЧЕСКИХ ЗНАНИ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такого рода размышлений является возникнов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7CB2-23C7-4D8D-B2CD-3F56607E620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6AD-F311-4139-B93B-EEC1BE4412E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710-8BEA-4B03-9844-A4F32090736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721B-9629-4EA2-921A-D61A7FF1DFC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ПЕЦИФИКА ПРЕДМЕТН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И ПСИХОЛОГ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50C8-774A-469A-8EAD-C0AA566C438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 В ОПРЕДЕЛЕНИИ ПРЕДМЕТА ИСТОРИИ НАУ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огико-научным, или интернальным, подход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462B-D0D8-4E92-83D0-A397C0FBE74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ОЙ ПОДХОД В ОПРЕДЕЛЕНИИ ПРЕДМЕТА ИСТОРИИ НАУ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В ТОМ ЧИСЛЕ ПСИХОЛОГИИ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на внешней истории развит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стерн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83BF-08C3-4087-9D3A-DD57A0BF312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754-11E3-4BD4-9A4B-5ADF9CA6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082-0EBC-47BE-BEE7-67FEC547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0EAB9-1CAD-408C-8098-3F075695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3F25D-D223-4FE4-8EBF-CC750B48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8F137-B902-4444-BC80-C31DE62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BC300-F2D8-48DE-9523-E5E8074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6FD1C-89B4-42C1-A324-F5FBDC94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425C5-0132-4E5F-A463-987E843F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FFCDC-A984-4EAC-99AD-C70E9B9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65C4F-732E-41E9-8607-AB704D63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CD95F-8918-4174-B843-239311E2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97BC0-8979-477C-8415-220B347A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C50-4B1E-4CF7-B0E7-8C75A372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0B89-4BAB-43F5-9801-7BD108D3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A4513-7C55-4B71-96A0-8965611A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6B3C6-57D9-4598-BBB0-B84F334B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C49E9-5D3F-467B-A48E-0E77E2D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06E0F-A22C-4616-A791-9F50E75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3B131-A6CD-4650-A3F6-715C7DE0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DBEEC-B821-46F6-A268-73514F9B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D655-746B-4FB8-9FFD-37B7D7D1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3346A-46D7-4F9B-BA2C-229E123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2C41D-7F59-4B4A-9875-484F7F59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3B6-9435-4F62-9759-5E1F1933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51499-0476-4B77-BECC-E656E086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432CC-9EF0-411F-B565-C6F504D3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967FC-E885-4977-AC95-3428D1E4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3B01A-1350-4254-B904-39E3884E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FD972-C616-431E-A5FB-C3D3F41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F5780-5DB5-495F-B026-2A7771C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AA2C4-1C14-44A7-A85F-26D5DEA7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35047-2D46-4DF7-925A-39EA0381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17052-F14B-48A4-B157-63B9385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FE71F-F78B-4AD7-BC5C-C6AD3E7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2796D-C9F6-4CAF-819A-6106095E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699BF-29DB-48BA-A0A7-4A46881C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F9C8B-C826-4D8C-9759-2DD9BB3F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1E1DF-43A2-4246-9A81-7E114CBF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E4308-12E2-4AE7-A749-424BFF7F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AD2E9-2372-48E6-99FF-42942471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8B938-6124-4BED-A71D-41FA9653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39DC1-E9D5-4533-B5A6-C66180F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CDDBD-6886-4EA5-A7B6-B6F02ED6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240FD-779F-4F38-8BB8-2E503646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EF1D8-6EB1-490A-8397-5A344C5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CE286-86D8-4C9B-A582-32988A59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E77BB-BD19-4101-94DA-0AE9871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1AAC3-B2C6-471B-BCF2-D1420A6F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9B44C-D01D-498E-9021-780FC06A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1090F-C9B0-48CA-8779-4808CD1E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FC6E7-AD8C-4FA7-9F1A-67895DE3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A75A9-B14B-4EF0-B5E8-36E94A7D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C05E9-4D2C-4110-8E59-8EB2A702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DCF06-D752-4DA2-842A-1E6DEED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D956-7C27-4C1F-AD8C-5E9E9F98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B6F8A-7D2D-4D6E-9D66-25EF3DC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DB5-5A47-41A3-8937-A9ADD972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41919-2C29-4D3F-A9EF-1D7F60D0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D59C6-4FC2-4FBE-9BDD-6A169841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2213E-C847-4D7A-B1CB-D09CA76F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B640A-5503-4605-B7E9-4DD400B4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66668-3858-4259-9FA7-C01D3FB9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B8F7-9561-4C25-9960-365E1AE0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14B5-71AC-4971-A719-60A42351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A3DD-F923-4057-8CB3-165EE14F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9BF14-470C-4062-9FF2-50EE17C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4DBB-CB4B-4CD7-8CBA-5D0CE571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630-24A9-422E-85B5-0CBE4D19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BB35-3768-4931-990A-73BF4D4A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6EC1-525B-4631-B4E7-CE62C47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BC44-E230-4898-90D8-75C5DAFF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409A-D8DE-416B-82A6-650C9D44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B9AD-61E8-4E0E-A8E5-FFDF23C2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CD75-4399-409F-AA64-DD318489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E0FC-EA7D-44E1-9B07-21A70807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18E9-A4BB-4536-AC6F-63866B37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0946-8B37-45DA-B041-010ECAF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0951-9E5F-4359-981C-65682B1B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EB2-3D29-4302-946D-4E79D6DE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91EB1-6172-40FA-9D4D-4C7AABE1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67F2-0873-464F-81BC-3249DDCD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BF04-F7F7-46EC-9717-4FD7A7DA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744D-B554-4551-B576-D2E2B7F6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FE04-CBC5-421F-A7C4-00E1509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A826-1E85-45F0-AA2B-DD04163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3615-DBFD-4C50-9FBB-AE6903EB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A143-5CEE-4C1C-9077-F61F925B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3201-CFD1-4EDA-AF05-322E46A3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A02C4-8AD9-494D-AC9E-EE35FE31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37E-0B05-475B-9DCF-740E1C09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6E636-3056-4A83-84F8-906D46CF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2792-3005-4D5D-97B0-08F2B1D6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D645-133D-4CA8-A139-D6392DB3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063F-F9A8-4338-8881-494A892A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1A720-1B59-4CD0-BAF0-64BF673C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B4EF9-AE6E-47B9-A0B2-7EFCB2EE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4AA1C-1755-433D-A61B-895067F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69028-AF35-4E0E-8F35-C037B0C4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78FE-4542-4AD8-BC06-D96ED162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ABDC2-DF4B-48B3-A300-9C54F606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B43-F38B-4CD4-8058-877AFA77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F05E-3BF9-48D2-B964-32DD52EC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12CA-C8CA-421C-B12C-3DFDBE07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351EB-5BBE-435E-B11C-264C23E8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C113E-7AD9-4AD4-B99C-55070C7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72B2F-360C-41FF-BC52-79B781CD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DBAFF-B48C-4E0A-AD12-7D340D02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CBEA1-C005-4F8E-BBB5-E4717A8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F7FF4-C420-49EB-A617-0C395183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446EC-C2EF-4824-B2BA-C8490A63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A79D2-5983-4C63-A522-04F10BC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AB2-7063-4656-BD77-88103247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9C498-15BD-4067-B93A-E45F5D7D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9D2F-B301-4AA9-8B36-47A5FE26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5D01E-A388-4870-92CD-5870C83E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70DF-C50B-4931-91DF-16590FE6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79BA5-18E0-4F79-A005-68C844A5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62193-812E-49D6-9E0E-FFB1B9FC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06904-BEC4-4D82-BC6F-E96950E9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BBD6-94B3-4F5A-AF41-8F2B4B66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F940A-A0FC-47BB-B2AA-0F0D3453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89C6-7E05-4018-9D46-DFBB2AE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146-09DC-4AA9-A5BD-6C4D651F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31228-53C9-4E75-8D5F-E6D35E9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10CC1-19B2-483B-8D9F-1094CAAA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81298-C461-411A-ACFB-D4EB1DEB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63A01-AC8D-44F4-B047-2547C80C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43374-04BB-4873-81F1-6E473C6F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1C222-E0C3-409C-9ABD-E8019F6A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5070C-3D61-4ADB-A107-B7956CAF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B2D0A-0DE7-46DC-A23B-6FD14122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5270-473B-46E4-A98E-199E4709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BCD4-F16D-47D8-A693-75448E94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D30-7BD4-41B4-8E6F-BDA150BE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A12D9-DE76-4C21-B3DE-DBA2CB5A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4175-BE48-41B8-A710-BE19C1C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7307-22B4-4D6D-BAD4-DC0F0D0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B4D1-FF0C-4F12-AD2D-E167AB1D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922DD-9AC5-4282-B01C-0ED0569F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71374-BB0F-45FD-B153-D0382C4D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7BF4C-6616-4803-9C45-20CA149D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026D6-F17B-43E7-B237-003F1E72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2DDFD-B859-4080-91BE-C8D0DD98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CA390-39DA-4B85-AE00-D32E712E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D92C-4E49-4728-BE5C-CB234C0E2AC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7646-A97F-4711-A8EE-4D79FC2C7B3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F8B0-54C1-441E-94AA-F21A2621A31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AE59-67B3-40F9-892C-3A114C75C47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237B-C691-4093-86E3-2A902F86829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FB29-B693-45E6-A6BB-4782729C3DB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84F7-A804-4C4B-ABD5-E684F7E7C22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7063-C2E0-43BF-8E7D-6A4D17C182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37B6-EB40-4CBD-9E68-96BAD94E3A7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2A6B-544D-4956-A0A5-AC0224189E8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3100-1608-44DF-97CB-A6981800C33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42CD-F57F-4AD7-B0D2-B9C1A86081C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кция 1. История психологии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оретические осн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РЕТИЙ ПОДХОД В ОПРЕДЕЛЕН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МЕТА ИСТОРИИ НАУ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ичность и творческий путь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1. По сво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носеологической природе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отражением отраженн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диалектической научной дисциплино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чного позна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рии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оложени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3. Предметная область истории психологии складыва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на стыке и пересечен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чниковедением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ультурологие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истемная методолог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9185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Важным элементом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метод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любой науки является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система методологических принципов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1. Принцип детерминизма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 развития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2. Принцип единства логического и историческ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3. Принцип системности.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4. Принцип объективности историко-психологического исследования. 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пецифика предметной области истории психологии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5. Принцип конструктивно-позитивного анализа.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6. Принцип периодизации и преемственност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7. Принцип единства прошлого, настоящего и будуще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сихологических знани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чем состоит отличие психологического знания от психологического познания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Укажите основные подходы в определении предмета истории нау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еречислите особенности предметной области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пишите основные методологические принципы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характеризуйте самостоятельные методы истории психолог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9" dur="2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2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ловарь термин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 историко-психологического по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ологический принцип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бъек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едме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позна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581" name="Picture 4" descr="BUTTON16"/>
          <p:cNvPicPr/>
          <p:nvPr/>
        </p:nvPicPr>
        <p:blipFill>
          <a:blip r:embed="rId1"/>
          <a:stretch/>
        </p:blipFill>
        <p:spPr>
          <a:xfrm>
            <a:off x="395280" y="14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UTTON16"/>
          <p:cNvPicPr/>
          <p:nvPr/>
        </p:nvPicPr>
        <p:blipFill>
          <a:blip r:embed="rId2"/>
          <a:stretch/>
        </p:blipFill>
        <p:spPr>
          <a:xfrm>
            <a:off x="39528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BUTTON16"/>
          <p:cNvPicPr/>
          <p:nvPr/>
        </p:nvPicPr>
        <p:blipFill>
          <a:blip r:embed="rId3"/>
          <a:stretch/>
        </p:blipFill>
        <p:spPr>
          <a:xfrm>
            <a:off x="395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BUTTON16"/>
          <p:cNvPicPr/>
          <p:nvPr/>
        </p:nvPicPr>
        <p:blipFill>
          <a:blip r:embed="rId4"/>
          <a:stretch/>
        </p:blipFill>
        <p:spPr>
          <a:xfrm>
            <a:off x="39528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BUTTON16"/>
          <p:cNvPicPr/>
          <p:nvPr/>
        </p:nvPicPr>
        <p:blipFill>
          <a:blip r:embed="rId5"/>
          <a:stretch/>
        </p:blipFill>
        <p:spPr>
          <a:xfrm>
            <a:off x="39528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BUTTON16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ы реферат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равнительный анализ особенностей различных форм психологических знаний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шение объективности историко-психологического исследования: пути и способы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собенности применения метода планирования историко-психологического исследован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2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Hall A.P. Merton revisited or society sourse in the seventeen century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968. P. 89-9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P. 60-7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. 53-6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Post-Soviet Perspectives on Russian Psychology / edited by V.Koltsova, Y.Oleinik, A. Gilgen, K.Gilgen.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Ждан А.Н. История психологии. От античности до наших дней. М., 1990. 367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йре А. Очерки истории философской мысли. М., 1985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мчур Е.А. Проблемы социокультурной детерминации научного знания. М., 198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 Русская ментальность и ее отражение в науках о человеке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олова Е.Ю. 13 диалогов о психологии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каченко А.Н. Категориальный строй психологии как предмет историко-научного исследования // Методология историко-психологического исследования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Эткинд А. Эрос невозможного. История психоанализа в России. СПб., 1993. 46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История психологии (от античности до середины XX в.) М.,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Краткий курс истории психологии. М., 1995. 14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Л. Выготский: в поисках новой психологии. СПб, 1993. 30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О категориальном анализе истории психологического познания // Проблемы теории и истории развития психологии. М., 1973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Психология в XX столетии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9" name="AutoShape 4">
            <a:hlinkClick r:id="" action="ppaction://hlinkshowjump?jump=endshow"/>
          </p:cNvPr>
          <p:cNvSpPr/>
          <p:nvPr/>
        </p:nvSpPr>
        <p:spPr>
          <a:xfrm>
            <a:off x="4067280" y="5589720"/>
            <a:ext cx="1225440" cy="647640"/>
          </a:xfrm>
          <a:custGeom>
            <a:avLst/>
            <a:gdLst>
              <a:gd name="textAreaLeft" fmla="*/ 41760 w 1225440"/>
              <a:gd name="textAreaRight" fmla="*/ 1183680 w 1225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60" h="21600">
                <a:moveTo>
                  <a:pt x="0" y="0"/>
                </a:moveTo>
                <a:lnTo>
                  <a:pt x="40860" y="0"/>
                </a:lnTo>
                <a:lnTo>
                  <a:pt x="40860" y="21600"/>
                </a:lnTo>
                <a:lnTo>
                  <a:pt x="0" y="21600"/>
                </a:lnTo>
                <a:close/>
              </a:path>
              <a:path fill="lightenLess" w="40860" h="21600">
                <a:moveTo>
                  <a:pt x="0" y="0"/>
                </a:moveTo>
                <a:lnTo>
                  <a:pt x="40860" y="0"/>
                </a:lnTo>
                <a:lnTo>
                  <a:pt x="39460" y="1400"/>
                </a:lnTo>
                <a:lnTo>
                  <a:pt x="1400" y="1400"/>
                </a:lnTo>
                <a:close/>
              </a:path>
              <a:path fill="darken" w="40860" h="21600">
                <a:moveTo>
                  <a:pt x="40860" y="0"/>
                </a:moveTo>
                <a:lnTo>
                  <a:pt x="40860" y="21600"/>
                </a:lnTo>
                <a:lnTo>
                  <a:pt x="39460" y="20200"/>
                </a:lnTo>
                <a:lnTo>
                  <a:pt x="39460" y="1400"/>
                </a:lnTo>
                <a:close/>
              </a:path>
              <a:path fill="darkenLess" w="40860" h="21600">
                <a:moveTo>
                  <a:pt x="4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60" y="20200"/>
                </a:lnTo>
                <a:close/>
              </a:path>
              <a:path fill="lighten" w="4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60" h="21600">
                <a:moveTo>
                  <a:pt x="20430" y="3837"/>
                </a:moveTo>
                <a:lnTo>
                  <a:pt x="23006" y="6448"/>
                </a:ln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lnTo>
                  <a:pt x="27393" y="10800"/>
                </a:lnTo>
                <a:lnTo>
                  <a:pt x="25739" y="10800"/>
                </a:lnTo>
                <a:lnTo>
                  <a:pt x="25739" y="17989"/>
                </a:lnTo>
                <a:lnTo>
                  <a:pt x="15121" y="17989"/>
                </a:lnTo>
                <a:lnTo>
                  <a:pt x="15121" y="10800"/>
                </a:lnTo>
                <a:lnTo>
                  <a:pt x="13467" y="10800"/>
                </a:lnTo>
                <a:close/>
              </a:path>
              <a:path fill="darkenLess" w="40860" h="21600">
                <a:moveTo>
                  <a:pt x="23006" y="6448"/>
                </a:move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close/>
              </a:path>
              <a:path fill="darkenLess" w="40860" h="21600">
                <a:moveTo>
                  <a:pt x="19507" y="14299"/>
                </a:moveTo>
                <a:lnTo>
                  <a:pt x="21353" y="14299"/>
                </a:lnTo>
                <a:lnTo>
                  <a:pt x="21353" y="17989"/>
                </a:lnTo>
                <a:lnTo>
                  <a:pt x="25739" y="17989"/>
                </a:lnTo>
                <a:lnTo>
                  <a:pt x="25739" y="10800"/>
                </a:lnTo>
                <a:lnTo>
                  <a:pt x="15121" y="10800"/>
                </a:lnTo>
                <a:lnTo>
                  <a:pt x="15121" y="17989"/>
                </a:lnTo>
                <a:lnTo>
                  <a:pt x="1950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4600" indent="-444600" algn="r">
              <a:buClr>
                <a:srgbClr val="ffffff"/>
              </a:buClr>
              <a:buFont typeface="Arial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 ПРЕДМЕТ ИСТОРИИ ПСИХОЛОГ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Е ЗАКОНОМЕРНОСТИ РАЗВИТИЯ ПСИХОЛОГИЧЕСКИХ ЗНА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езультатом такого рода размышлений является возникновение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7451640" y="6380280"/>
            <a:ext cx="1225800" cy="477720"/>
          </a:xfrm>
          <a:custGeom>
            <a:avLst/>
            <a:gdLst>
              <a:gd name="textAreaLeft" fmla="*/ 30960 w 1225800"/>
              <a:gd name="textAreaRight" fmla="*/ 1194840 w 122580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99" h="21600">
                <a:moveTo>
                  <a:pt x="0" y="0"/>
                </a:moveTo>
                <a:lnTo>
                  <a:pt x="55399" y="0"/>
                </a:lnTo>
                <a:lnTo>
                  <a:pt x="55399" y="21600"/>
                </a:lnTo>
                <a:lnTo>
                  <a:pt x="0" y="21600"/>
                </a:lnTo>
                <a:close/>
              </a:path>
              <a:path fill="lightenLess" w="55399" h="21600">
                <a:moveTo>
                  <a:pt x="0" y="0"/>
                </a:moveTo>
                <a:lnTo>
                  <a:pt x="55399" y="0"/>
                </a:lnTo>
                <a:lnTo>
                  <a:pt x="53999" y="1400"/>
                </a:lnTo>
                <a:lnTo>
                  <a:pt x="1400" y="1400"/>
                </a:lnTo>
                <a:close/>
              </a:path>
              <a:path fill="darken" w="55399" h="21600">
                <a:moveTo>
                  <a:pt x="55399" y="0"/>
                </a:moveTo>
                <a:lnTo>
                  <a:pt x="55399" y="21600"/>
                </a:lnTo>
                <a:lnTo>
                  <a:pt x="53999" y="20200"/>
                </a:lnTo>
                <a:lnTo>
                  <a:pt x="53999" y="1400"/>
                </a:lnTo>
                <a:close/>
              </a:path>
              <a:path fill="darkenLess" w="55399" h="21600">
                <a:moveTo>
                  <a:pt x="55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99" y="20200"/>
                </a:lnTo>
                <a:close/>
              </a:path>
              <a:path fill="lighten" w="55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99" h="21600">
                <a:moveTo>
                  <a:pt x="20693" y="10800"/>
                </a:moveTo>
                <a:lnTo>
                  <a:pt x="34706" y="3794"/>
                </a:lnTo>
                <a:lnTo>
                  <a:pt x="347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ПО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ъективно происходящее накопление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смысление знаний люде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к важной составной части развития жизненного процесс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условия совершенствования взаимодействия человека с миро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 самого человека как субъекта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знание человека о себ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как носителе особых психических свойст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и характеристик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убъекте психической деятельност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к результата творческо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знавательной деятельности человек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целостности 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реальной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диалектике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 разных этапа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ультурной эволюции человечест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ТОРИИ ПСИХОЛОГ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пытки осмыслить процесс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описать его содержание и структуру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(совокупность взглядов, идей, подходов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правлений и течений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тегорий и понятий)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его институциональные 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ерсонально-личностные аспекты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а также закономерности и этапы развити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ТОРИИ ПСИХ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психологического 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916360" y="1557360"/>
            <a:ext cx="3744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195640" y="342900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ОБЪЕКТ</a:t>
            </a:r>
            <a:r>
              <a:rPr b="0" i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003640" y="436572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ЕДМЕТ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50920" y="1989000"/>
            <a:ext cx="2233440" cy="2519640"/>
          </a:xfrm>
          <a:custGeom>
            <a:avLst/>
            <a:gdLst>
              <a:gd name="textAreaLeft" fmla="*/ 299160 w 2233440"/>
              <a:gd name="textAreaRight" fmla="*/ 1934280 w 223344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77080" y="1916280"/>
            <a:ext cx="2016000" cy="3817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668160 h 3817800"/>
              <a:gd name="textAreaBottom" fmla="*/ 276804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. СПЕЦИФИКА ПРЕДМЕТН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И ПСИХОЛОГИИ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5963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ВЫЙ ПОДХОД В ОПРЕДЕЛЕНИИ ПРЕДМЕТА ИСТОРИИ НАУ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ервый подход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огико-научным, или интернальным, подходом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истории наук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ТОРОЙ ПОДХОД В ОПРЕДЕЛЕНИИ ПРЕДМЕТА ИСТОРИИ НАУ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ТОМ ЧИСЛЕ ПСИХОЛОГИИ)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кцент на внешней истории развития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экстернальны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етерминации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4:09:22Z</dcterms:created>
  <dc:creator>1</dc:creator>
  <dc:description/>
  <dc:language>en-US</dc:language>
  <cp:lastModifiedBy>LEGION</cp:lastModifiedBy>
  <dcterms:modified xsi:type="dcterms:W3CDTF">2014-11-12T08:17:56Z</dcterms:modified>
  <cp:revision>29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