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0D06-F0C3-484C-977C-7C14D289B19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1. История психологи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ие ос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CE52-6A3C-4148-94A5-5F27CD455FC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ТИЙ ПОДХОД В ОПРЕДЕЛЕНИ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А ИСТОРИИ НАУ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и третьего подхода в изучении истории психологии акцентируют внимание на ее персонально-личностных аспектах. Во главу угла в качестве главного двигателя научного прогресса и главного предмета рассмотрения выступа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чность и творческий п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ого или иного ученого, его научные идеи, взгляды, концепции и подходы. Таким образом, история науки, по сути, становится историей деятелей науки (будь то отдельный ученый, или группа ученых, или то или иное их объединени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2454-50C4-4423-B12E-FE810C4C74FB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определения предмета истории психологии предполагает описание специфики рассматриваемой предметн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 сво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носеологической природ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я психологии представляет собой отражение процесса становления и развития психологического познания, т.е. является отражением второго порядка 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ражением отражен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на исследует не саму психическую реальность, а представления о ней, складывающиеся на разных этапах истории и в разных культурных ареалах. Этим обусловлена необходимость четкого разведения объективного (соответствующего действительному ходу развития истории) и субъективного (привнесенного его интерпретациями) взгляда на исследуемые процессы. Более того, именно субъективные представления во всем их многообразии как отражающие разные уровни их "отходов" или "приближений" к исследуемой реальности и составляют непосредственный предмет историко-психологического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C723-B8C6-4FCC-B10D-472DFFFD4FA3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знание в любой области - глубоко диалектический процесс, включающий преобразование, приращение знания, накопление научной фактологии и углубление ее теоретического осмысления, изменение структуры научного знания и его понятийно-категориального основания и т.д. Отражая реальную диалектику психологического познания, история психологии сама явля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иалектической научной дисципли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ричем и здесь, наряду с объективной диалектикой (идущей от самого объекта, его развития), имеют место и субъективные факторы (исторически детерминированные изменения в мировоззрении исследовател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го по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Этим определяется существование разных картин развития психологического знания на разных этапах истории, в рамках разных научных школ и у отдельных уче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ое положение усугубляется сложностью выделения точных научных критериев оценки выдвигаемых в област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и псих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1728-01AB-45BA-AD2B-0F2F91891E59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едметная область истории психологии склад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 стыке и пересече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рядом научных отраслей. По своему объекту - психическая реальность - история психологии относится к разряду психологических дисциплин, входит в структуру общей психологии. По методу - психолого-историческая реконструкция развития психологического знания - она принадлежит к историческим наукам. Носителем научной фактологии в области истории психологии являются исторические источники и поэтому история психологии тесно связана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овед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ак область знания, занимающаяся изучением развития научного знания в отдельной отрасли знания, история психологии является раздел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кове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Логика исследования и генезис становления психологического знания определяют связь истории психологии с философией, естествознанием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олог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ее опору на данные, полученные в таких разделах психологии, как психология личности, психология творчества, психология развития и историческая психоло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A97E-1660-4364-8A5E-276987F5897C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Наконец, учитывая все вышесказанное, есть основание определить историю психологии как объект исследования в качестве системного образования, включающего множество аспектов, иерархическую структуру, сложную, разноуровневую систему детерминан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описания сложноорганизованных объектов используетс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стемная методолог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редполагающая их всестороннее, целостное рассмотрение. С этой точки зрения предметом истории психологии является динамика психологического познания в его целостности, включающая изучени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ого научного знания (его структуры, логико-научных, содержательных аспектов) - логико-научный аспек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а формирования научных идей и представлений в области истории психологии - процессуальный аспек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циально-культурных и организационных условий и предпосылок психологического познания - социокультурный аспек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сителя, субъекта психологического познания (коллективного и индивидуального) - персонально-личностный аспек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BD67-97FA-4474-BBFE-CA85692515B7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нципы и проблемы историко-психологического исслед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м элемент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юбой науки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методологических принцип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аждый из которых выступает в виде кратко сформулированной теории, не только обобщающей исторический опыт развития данной области знания и отражающей ее основные законы и закономерности, но составляющей исходное требование для дальнейши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я псих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одна из базовых отраслей психологии в своих теоретико-методологических основаниях опирается на ряд общефилософских и общепсихологических принципов, которые применительно к историко-психологическим исследованиям приобретают специфическое звучание и формулировку, выступая как частно-психологические принципы истории психологии. Что же это за принци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C01F-011E-4634-B72A-FF2A7904817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. Принцип детерминиз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соответствии с этим принципом, в основе любого историко-психологического события лежит совокупность явных или неявных причин. Нет ни одного факта в истории психологии, которому бы не предшествовали определенные причины. Любое событие на всем протяжении исторического хода формирования психологической науки является результатом, следствием многообразной череды предшествующих явлений или причин и, в тоже время, выступает как одна из предпосылок последующих событий. При этом следует иметь в виду системный характер этих причинно-следственных зависимостей, что позволяет понимать смен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ант развития псих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разные хронологические периоды. Задача исследователя, в соответствии с этим принципом, состоит, во-первых, в раскрытии совокупности и иерархической структуры этих причин (внутренних и внешних, прямых и косвенных, непосредственных и опосредованных и т.д.), обусловивших путь к современности, а во-вторых, в установлении закономерной связи между прошлым, настоящим и будущ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D6CE-9767-4797-9050-E88A2D1E7CF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 Принцип единства логического и историческ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понимании генезиса развития психологического знания, который отражает понимание соотношения внутренних, внутринаучных (влияние традиции, изменение категориально-понятийного аппарата, динамика структуры науки, взаимосвязи и взаимовлияния разных научных дисциплин, появление новых методов исследования и т.д.) и внешних, социокультурных причин (потребности общественной практики, идеолого-политические влияния, воздействие научно-технического прогресса, особенности духовной и интеллектуальной атмосферы в обществе и т.д.) в ходе реального процесса исторического развития психологии. Другими словами, данный принцип фиксирует взаимосвязь теории и истории психологии, что предполагает, с одной стороны, изучение отношения содержательного (т.е. логического) аспекта объекта историко-психологического исследования с анализом процесса его развития (т.е. исторического), а с другой, - выявление связи познания данного объекта с историей человеческого общества в целом и историей научного познания в частност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70C9-EF57-46B9-8395-04B7C304977A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Принцип систем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н предполагает понимание истории развития психологических идей, проблем и направлений как многоуровневого (фундаментальный и прикладной уровни), многокачественного (обыденное, научное, художественно-образное, религиозное знания), многомерного (научное творчество отдельного ученого, научных коллективов и школ, регионального психологического сообщества, сторонников той или иной парадигмы, теории или концептуального подхода) и многообразного по своим проявлениям (донаучное, научное и паранаучное состояния) процесса, обусловленного многовариантной систем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оформлении ведущего, системообразующего фактора в конкретной исторической и социокультурной ситуации. Реализация данного принципа требует изучения истории психологического знания в различных аспектах: "во-первых, в тех исторических конкретных условиях, в которых наука включалась в общественную жизнь, и, во-вторых, в тех логических, теоретических связях, в которых строились психологические знания каждого исторического этапа, с одной стороны, и в том соотношении, в котором они находятся в современной психологической науке, - с другой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3441-703A-4BA3-83D6-484A54CBBD34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Принцип объективности историко-психологического исследования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ринцип предполагает, что при такой процедуре, как оценка значимости тех или иных идей и результатов творчества, необходимо исходить не только из современного состояния знания, на которое опирается и от которого отталкивается исследователь, но и учитывать то реальное место, которое занимают те или иные рассматриваемые идеи в психологии и культуре своего времени ("героя судят по законам его времени"). Это позволит историку психологии преодолеть собственные предпочтения (научные и личностные) в восприятии развития психологического знания. Таким образом, в соответствии с данным принципом, перед ученым стоит задача в ходе историко-психологического исследования сформировать и выдержать позицию объективного, строго говоря, не предвзятого (ни как человека с его личностными симпатиями и антипатиями, ни как ученого, приверженного тем или иным теориям и концепциям) в отношении конечного результата наблюдателя по отношению к исследуемому объек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AAFA-078F-4DAB-8724-1AA2F3FFC1A9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ЛАН 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и предмет истории психологии. Общие закономерности развития психологических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ка предметной области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и проблемы историко-психологического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44D9-AA84-47B0-BC66-D6AFD7B39D1D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Принцип конструктивно-позитивного анализ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нцип объективности непосредственно связан и дополняется принципом конструктивно-позитивного анализа истории психологии, который акцентирует внимание в историко-психологических исследованиях не на ошибках, недостатках и просчетах в развитии психологической мысли какой-либо отстоящей от ученого исторической эпохи, а на выявлении в совокупности историко-психологических фактов, событий, теорий и концепций того позитивного, конструктивного и прогрессивного, что сумела достичь психологическая мысль данного периода; ориентация не на критику несовершенного, а на поиск рационального и перспективного. Однако это не означает отказа от реалистической оценки (включая и ее критические моменты) тех или иных идей, взглядов, подходов. При этом критический анализ из самоцели становится средством научного п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9711-DAD2-4833-A1EA-3331FBC7F956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. Принцип периодизации и преемстве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вития психологического знания, который предполагает наличие качественно различных этапов и периодов (содержательно и логически связанных между собой) в динамике единого и непрерывного процесса научного познания. Руководствуясь данным принципом, историк психологии должен не только выделить ключевые, наиболее значимые вехи и моменты этого процесса, не только описать историческую и логическую специфику выделенных ступеней развития знания, но и показать их эволюционную взаимосвязь и взаимопроникнов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0231-9113-4FEE-8D0C-BA55BDE7D0A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. Принцип единства прошлого, настоящего и будущ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иксирует понимание роли и целевой функции историко-психологических исследований. Познание истории психологической науки не является только самоцелью с точки зрения собирания и уточнения исторического материала, характеризующего формирование и развит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их зн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рхивирование фактов), или воссоздания и реконструкции недостающих (неявных) звеньев в единой цепочке развития психологической мысли. Данный принцип ориентирует ученого на прогностическую стратегию исследования, связанную, во-первых, с выявлением перспективных линий, позиций, идей и подходов, сформировавшихся в прошлом, а во-вторых, с их актуализацией в контексте современных достижений психологической науки. Лишь прошлое, рассмотренное в контексте современности, позволяет очертить проблемное поле будущих исследований и тем самым имеет не только чисто познавательный интерес, но и носит установочно-ориентировочный характер для дальнейшего развития психологического 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936C-C4D3-4B44-A64A-582D4F6A8CD6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8. Принцип единства коллективного и индивидуального творчества в развитии психологического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полагает понимание истории психологии как результата деятельности не только отдельных, хотя и выдающихся ученых, но как совокупного усилия всего научного сообщества. Этот принцип ориентирует исследователя на выявление всех предпосылок формирования той или иной идеи, анализ того контекста, который в конечном итоге привел к оформлению в трудах конкретного ученого определенной концепции или теории. Он также предостерегает историка психологии от абсолютизации вклада отдельного ученого или научной школы в формирование совокупного психологического знания. В данном случае имеется в виду понимание историком психологии того факта, что психология, даже в творчестве особенно выдающихся ее представителей, не начинается каждый раз с "чистого листа", а получает лишь свое закономерное развитие. Соответственно и психологическое познание как совокупность идей и теорий, как результат коллективного творчества многих поколений исследователей в работах конкретного ученого получает творческое, порой оригинальное и новаторское, развитие или более четкое концептуальное оформ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BD42-57F7-4C5C-8CB3-F987BCC5A28A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остоит отличие психологического знания от психологического позн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формы существования психологического знания представлены в современном общественном и индивидуальном сознан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жите основные подходы в определении предмета истории на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особенности предметной области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шите основные методологические принципы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арактеризуйте самостоятельные методы истории психологии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5C7D-E90C-4B74-9C69-452A7761D35E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оварь термин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историко-психологического п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й принци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зн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познание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3B4A-C4FC-4147-94D5-1B25820A3BC4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ы рефера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анализ особенностей различных форм психологических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е подходы в определении предмета истории науки: достоинства и недостат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объективности историко-психологического исследования: пути и спосо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применения метода планирования историко-психологического исслед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роблемологического анализа в изучении динамики психологического познания об индивидуальности чело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е и негативные тенденции современного развития историко-психологических исследований </a:t>
            </a: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F10B-468D-40BB-884A-BCEF9006D864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l A.P. Merton revisited or society sourse in the seventeen century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8. P. 89-9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ltsova V. Ideological and scientific discourse in Soviet psycholodical science // Post-Soviet Perspectives on Russian Psychology /edited by V.Koltsova, Y.Oleinik, A. Gilgen, K.Gilgen. 1996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. 60-7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einik Y. Russian psychology at present: trends and paradoxes // Post-Soviet Perspectives on Russian Psychology /edited by V.Koltsova, Y.Oleinik, A. Gilgen, K.Gilgen. 1996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. 53-6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-Soviet Perspectives on Russian Psychology / edited by V.Koltsova, Y.Oleinik, A. Gilgen, K.Gilgen. 199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кова В.В. Очерки истории русской психологии (XIX-начало XX вв.). Нижний Новгород, 1994. 160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дан А.Н. История психологии. От античности до наших дней. М., 1990. 367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сихологии. Период открытого кризиса (начало 10-х - середина 30-х годов XX в.): Тексты. М., 1992. 362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и материалистической диалектики в психологии / Под ред. Л.И. Анцыферова. М., 198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331A-8402-4089-BC86-DC1613F0D75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йре А. Очерки истории философской мысли. М., 198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катос И. История науки и ее рациональная реконструкция // Структура и развитие науки. М., 197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мчур Е.А. Проблемы социокультурной детерминации научного знания. М., 198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цинковская Т.Д. Русская ментальность и ее отражение в науках о человеке. М., 199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цинковская Т.Д., Ярошевский М.Г. 50 выдающихся психологов мира: Учебное пособие для студентов. М., 1995. 193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ьская А.А. Возрастная и педагогическая психология дореволюционной России. Дубна, 1995. 331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овский А. Ярошевский М. Г. История психологии: Учебное пособие для высшей школы. М., 1994. 448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ческий ретроспективный указатель (указатель психологической литературы, изданной в СССР за 1987 г.). М., 199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B1B9-AD54-488B-B8E5-ED4439ED2E27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4600" indent="-444600"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ЪЕКТ И ПРЕДМЕТ ИСТОРИИ ПСИХОЛОГИИ.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ЩИЕ ЗАКОНОМЕРНОСТИ РАЗВИТИЯ ПСИХОЛОГИЧЕСКИХ ЗНАНИЙ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44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психологических знаний по времени сопоставимо с рождением человеческой цивилизации: возникает человеческое сообщество и вместе с ним появляются попытки ответить на извечные, волнующие человека вопросы, касающиеся его возможностей и ограничений во взаимодействии с суровой действительностью, его специфики и места в окружающем ми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4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ом такого рода размышлений является возникнове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по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ое, уходя своими корнями в ранние этапы человеческой истории, сопровождает и все дальнейшее ее развитие, вплоть до настоящего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4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4600" indent="0"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2A50-250C-4052-8E04-CE8EFFF96133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уществляется объективно, с непреложной необходимостью в силу его реальной функции в жизнедеятельности человека, в его эволюционном становл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о психике, следуя за развивающейся жизнью человека и отражая все новые и усложняющиеся стороны его взаимодействия с миром, включается само в это взаимодействие как важный фактор его регуляции, обеспечивая не только адаптивные, приспособительные, но и преобразующе-действенные, активные формы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сихологического знания происходит в виде различных взаимосвязанных форм (уровней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6BB0-BDA6-4D32-9C53-8A2E8DC6059C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"житейские" представления людей о психике, возникающие в их реальной жизненной практике, в разных ее сферах (материальной, производственной деятельности, в бытовой области, в воспитательно-обучающем процессе, в искусстве и т.д.) и основывающиеся на непосредственном отражении разных аспектов бытия и философии "здравого смысла"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сихологические знания, вычленяющиеся в рамках мифологии и религии как исторически первых форм познания мира и человека и отражающие канонические требования указанных видов культурного творчества человечеств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сихологические знания, накопленные в рамках художественно-образного наблюдения за окружающей действительностью в работах художников, архитекторов, писателей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сихологические знания, возникающие на определенном этапе развития общества в связи с выделением нового способа реконструкции действительности - науки - и включающие целенаправленный процесс сбора и анализа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сихологической фактолог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логические формы ее объяснения и доказательства, переход от описательной стратегии и методов исследования к объяснительной, т.е. -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учного знан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В свою очередь, научные психологические знания, зародившиеся впервые в античном мире, сами проходят длительный путь эволюции - от существования в лоне других наук (философии, истории, естествознания) и до выделения и дальнейшего их развития в рамках самостоятельной научной дисциплины (вторая половина XIX в.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BCF2-0AC3-4109-9C94-B8F5451F1DE4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9E31-1F57-4928-8AA3-A693E1DEE71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СПЕЦИФИКА ПРЕДМЕТНОЙ ОБЛАСТ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ТОРИИ ПСИХОЛОГИИ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838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ь и многоаспектность психологического познания как объекта исследования, а также непосредственная связь его осмысления с развитием общенаучных взглядов о человеке и психологических идей, с методологическими и идейными влияниями обусловливают соответственно различные определения предмета истории психологии. В их основе - выделенные и акцентируемые теми или иными авторами стороны или аспекты единого объекта историко-психолог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отрефлексированность методологических проблем в истории психологии с одной стороны, и ее принадлежность к науковедческим дисциплинам - с другой, объясняют необходимость и возможность при рассмотрении данного вопроса выходить за рамки собственно истории психологии в облас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кове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итоге в наиболее общем виде представляется возможным выделить три основных подхода в определении предмета истории науки (в том числе психологи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941B-C31C-402B-A9A4-61F84F6E999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ЫЙ ПОДХОД В ОПРЕДЕЛЕНИИ ПРЕДМЕТА ИСТОРИИ НАУК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ый подх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снову изучения кладет результат психологического познания, его внутреннее содержание - собственн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е зн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его строение, структуру, логико-содержательные аспекты, внутрилогические механизмы развития знания), рассматривая его как самодостаточное и существующее относительно самостоятельно, вне связи с другими сторонами познавательного процесса (социально-культурными и личностными опосредования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й подход, акцентирующий внимание в основном на внутренней, логической стороне познания и отвечающий на вопрос "каково содержание знания", может быть назван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огико-научным, или интернальным, подход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истории на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A2C4-0D16-432A-A8BC-F8C6AF5C4504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ТОРОЙ ПОДХОД В ОПРЕДЕЛЕНИИ ПРЕДМЕТА ИСТОРИИ НАУ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В ТОМ ЧИСЛЕ ПСИХОЛОГИИ)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на внешней истории развит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го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попытка вывести из нее и описать на ее основе внутринаучные закономерности порождает второй подход в понимании предмета истории науки 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стерналь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На этой основе возникает специальная область науковедения - социальная история науки. История науки рассматривается здесь в социальном контексте, в ее зависимости и связи с развитием организационных и социальных условий и предпосылок. Продуктивность указанного подхода состоит в том, что он выявляет значимые фактор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учного знания, отвечая на вопрос "почему наука в определенных социально-исторических и культурных условиях приобретает конкретно-исторические формы". С одной стороны, это отражает одну из существенных характеристик науки - ее социальную природу как компонента общественной структуры и как результата совокупных коллективных усилий, с другой стороны, возникают вопросы относительно уровня детерминационных возможностей, степени и глубины социального воздействия на развитие психологического знания (его направления, структуру, содержание исследуемых пробле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094C-851B-4371-8679-7761AC5A8BDB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5B71-DABA-4304-A794-6F55EC8D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0364-FBD8-4F61-81E9-8518C2AC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E2954-64E8-46AF-ABEB-168065F6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B66FB-0175-418E-A74A-3437B97E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BD87E-A4B6-4B28-BCCF-F4E91E00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23A13-6F7B-4F09-A68C-248B676A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A4120-7234-41EC-9759-D48FF795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77386-08AF-4C64-AFE4-BC2B5EE2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3DCE8-B3E7-4EE2-B9EA-2A108D11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BA87C-01EC-4F82-A51D-D14AE975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FE665-C53E-4BC9-924B-BFD5CEC1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7CA69-7592-433A-BF71-D62892CF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8468-2848-403D-819A-9F0B93B4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FB37F-9F95-47E7-AF1A-29355A37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717F8-2E3C-4399-9BC3-21FFEC24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AE247-09F3-46B4-A27A-28024BDB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48477-56C2-4EB7-B778-6631CC3C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637F8-EE06-4AA7-A4E1-C96F38AD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DE299-F134-4E94-B674-96860ABE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5E729-C29C-443B-8165-F9436C29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6F7D2-AF21-4B55-AA3B-C7214055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BE541-2727-44ED-8A46-FEF95F2D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CBB17-7CCD-4BFC-A4CD-0BE047D4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F816-5A66-4091-A6CF-864E4D8F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71E34-3FC0-4228-90A4-AA03E4DE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4D514-A70A-4E94-A5D0-85F5E4D2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AA8D5-C67C-48B4-927E-08B9143F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E4D3B-C4C5-46B0-9CC4-74995B73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DA938-A9A6-4B4B-BA7D-5DF2F8D7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CA0A2-3C72-4A99-BC49-F1B741A1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822E1-1B9B-46CB-A004-34810D85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EA9BC-05D5-4667-B57B-DAC441BD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40B7A-1581-46F5-B5A2-F183AE17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AF71D-E178-4DFF-A262-63A15A2F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8DE9E-C974-4A50-99CE-BD92B690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DAB3C-3742-4172-9009-FE55660F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6E4CA-2267-4EC7-9BF4-0315416A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636BA-440A-474A-8B29-7DD7D1E0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2E962-C121-4F9A-A312-F98E2FCC0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625AB-2625-403A-92A3-189F3060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786F9-39B8-43BF-8841-A2763E25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E5487-1EDC-4BA1-8A05-B7A55E78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06101-5FBC-46A0-92B6-2318E0B0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E8A198-E4ED-4AF3-BDFD-1B7C502B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C81BC-31B8-4738-8B48-4C089EC7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E5DC0-3849-4819-97ED-3DB411E4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A7140-7AEA-492E-9B05-D771FEC4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356FE-AF34-4ADB-88AF-E5102C84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486E7-C7CD-4EC5-BB8B-1C2DDFCB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D0481-470B-4B46-A5AB-C672FFFE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A8379-770A-4CB3-B1B9-93ACD65C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BC806-FFF9-4A49-95D6-013088D8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3EA35-9E7B-490E-9795-9124E7DB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0D6BA-DD91-49F6-8D33-C9521F38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BC88E-126E-40F8-9648-71BC199A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EA656-968C-402C-83E0-524C52EA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0581-6C97-400C-8136-6C6DC069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C5C62-D363-4BA4-B52B-732D0B5C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11E4C-7D99-49D7-89BD-FB35EFC6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30EAE-0D00-4FFA-BE04-396E182F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0905E-CD38-4964-8C54-687E603D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AB05C-CC93-4CC0-8758-0C848CE6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0BBFB-A2CF-4630-88CC-E9A8EE03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64367-7001-4031-9182-D59F8661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7415B-32AA-4D2A-8FC0-8D1A47C2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3A920-520D-4064-A47D-C449294B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7DF25-487E-4F29-8C1F-8B7CE8BE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9BF1-326E-49CE-8CA4-5C6FC77B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1D9AE-7831-4E59-81E9-EB5713EC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66F58-F89C-4F9D-A229-5B17D402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9641A-8DFD-48A1-A4EF-C3D50BEE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66724-C61A-46D5-9472-23F50BB5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E8A5F-E7A9-4664-BDE3-7BF3EA15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71A2E-FF95-45B3-AFA1-E18244F6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8791E-53D7-4139-A948-5C87ED8D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5786E-5C17-49AA-9315-ED47AECD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1D765-DEDD-4407-AFCF-CFDEC043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B278D-E9CA-4D74-8441-EA6DFC93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07E8-4241-4B3A-843F-EAC17C93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4338F-941E-4F95-97E2-3E3BA447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B98B4-6F84-4F4F-BFC0-F791D919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D4CC7-0631-469D-AB95-97F4E0FC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D6047-DD15-44BD-8EF7-55C31BF1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52977-BBB6-4936-B6C3-15659E57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F634D-4F09-4AC1-8CFC-2DA83749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46D3C-15FC-49CE-8871-B51F4D04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AD47B-4E32-4362-BCB6-C26375DE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33DE1-9849-42B2-800B-20C7AE35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49CB9-A3A8-4927-912D-1A536EC2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8C4C-C06E-4757-BD44-E46D69B0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FDB80-999E-417B-A861-BA063E71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23686-3503-41E5-83F8-839C26C4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4E1E5-042C-4997-9F7B-797D15DC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20976-D7C4-4DB8-B603-DC22F967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6D327-FC7B-449D-B911-9C4CEDDC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97537-3DD9-4FB4-A584-8993DF32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F1376-4D50-4592-8077-C5442308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21CD2-8D8E-4B13-8E0B-1D1A4897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95287-45E7-427A-97CF-F2BDAA22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07278-8DB6-483C-ACD1-17149069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9BB5-F7E1-43F3-AA25-C9D78769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36B01-203B-4CC5-923B-7C05064D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2A7C2-4B7C-4939-8DEA-D6B38AD3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F0175-85C4-4B38-87A2-D0114075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1A818-AD99-4974-87F8-BD7C5AE4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95098-90A5-478A-8B88-B93F1AEE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BEC1C-22B4-4CDB-A4FD-A28CF2C8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CF25B-6464-4FB4-8A12-C765C760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6C20F-1842-4FE6-A19A-659E2C2B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E817B-216F-4585-9560-714C112E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13297-AFDA-4E38-A55E-7BB45A15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6970-B96A-4A76-926A-9B9B3E19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A531E-9476-4EB3-BFC8-86B57A50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6C97A-7A46-4F6C-AF8B-6484651B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A2C4E-8226-4B48-8E68-139D2C93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2F842-6858-42E1-B6C7-3DE5B04C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BF833-2643-4E9B-B978-52905170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E36EA-6A42-4193-917E-51ED50D3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D6E34-B997-48AE-B6D2-91E682A7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AC241-033B-4F70-84F2-E912D823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3812C-06BB-4D88-9584-7608743E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76094-3ACC-4947-A72C-62E5FCF9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32D-9984-44D7-B9FA-CD19E50A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53B39-2209-4580-9D78-B90A847C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116F3-2964-4CFD-9BE2-0F142AE4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ECA98-1E90-46D3-82A0-8EB46CA5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3E8A7-55E5-4314-ADF9-DDF4723B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2B529-ED61-4AAF-91D1-97D9BB77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51BE5-7A73-4BEB-946C-501B47E2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0DD10-C816-4C21-A24D-A050CA48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41E20-9CB8-4DAD-A2C0-78049C40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749A6-A4F3-4F9A-8B5D-7D4441C7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474E9-51C3-44A4-99D7-CC46F9C2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20CE-C61A-4130-87B0-F69E8754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B1B63-C2DA-478F-826E-9F556DCC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6EA4D-3939-4F87-9996-16631CCD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4A307-E4DE-4195-AB54-6AC0624E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1F97E-F522-43C1-9A6B-B902583D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5CE04-CC02-4044-91BB-8C63DC04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097DF-70DD-48FE-A742-B88719FE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BD7B6-0D8A-48A2-88F6-BDF454AC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5864E-6989-407F-9E14-45BE57D6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601ED-5BEA-46C0-B7F6-3B9D52A8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FADAC-F128-4203-8B1D-4F7E1669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0C6D-33A3-47C4-88A7-8DCF21A9387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93F1-F317-4327-A77A-F3601C0791A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630A-BF20-42F9-A4BF-534E4C87DE7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A6F4-2A74-4B06-9FB3-0634AA75966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1A4A-45C0-4105-8E72-3ED1E6DFC16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1D11-92ED-4706-A14E-5F86FE4E467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D029-7587-4C37-A63A-E7BDA06C35B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8E24-D350-4B7D-9B3D-EDBC57F92F3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F9D2-965F-49ED-A154-2CE693AB4CE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9DB4-41BC-41B2-9F4A-1EE4C8D83E1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BBAC-8005-49A5-BEF5-45E09298B3A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9F35-262C-415E-85DA-26DA7562E01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71640" y="3033720"/>
            <a:ext cx="6229440" cy="18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Лекция 1. История психологии: 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еоретические основа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РЕТИЙ ПОДХОД В ОПРЕДЕЛЕНИИ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ДМЕТА ИСТОРИИ НАУК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Представители третьего подхода в изучении истории психологии акцентируют внимание на ее персонально-личностных аспектах. Во главу угла в качестве главного двигателя научного прогресса и главного предмета рассмотрения выступает </a:t>
            </a: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личность и творческий путь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того или иного ученого, его научные идеи, взгляды, концепции и подходы. Таким образом, история науки, по сути, становится историей деятелей науки (будь то отдельный ученый, или группа ученых, или то или иное их объединение)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34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боснование определения предмета истории психологии предполагает описание специфики рассматриваемой предметной области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1. По своей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гносеологической природе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история психологии представляет собой отражение процесса становления и развития психологического познания, т.е. является отражением второго порядка - </a:t>
            </a: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отражением отраженного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Она исследует не саму психическую реальность, а представления о ней, складывающиеся на разных этапах истории и в разных культурных ареалах. Этим обусловлена необходимость четкого разведения объективного (соответствующего действительному ходу развития истории) и субъективного (привнесенного его интерпретациями) взгляда на исследуемые процессы. Более того, именно субъективные представления во всем их многообразии как отражающие разные уровни их "отходов" или "приближений" к исследуемой реальности и составляют непосредственный предмет историко-психологического исследования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2. Познание в любой области - глубоко диалектический процесс, включающий преобразование, приращение знания, накопление научной фактологии и углубление ее теоретического осмысления, изменение структуры научного знания и его понятийно-категориального основания и т.д. Отражая реальную диалектику психологического познания, история психологии сама является </a:t>
            </a: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диалектической научной дисциплиной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Причем и здесь, наряду с объективной диалектикой (идущей от самого объекта, его развития), имеют место и субъективные факторы (исторически детерминированные изменения в мировоззрении исследователей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научного познан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). Этим определяется существование разных картин развития психологического знания на разных этапах истории, в рамках разных научных школ и у отдельных ученых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Данное положение усугубляется сложностью выделения точных научных критериев оценки выдвигаемых в области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истории психологии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положений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3. Предметная область истории психологии складывается </a:t>
            </a: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на стыке и пересечении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с рядом научных отраслей. По своему объекту - психическая реальность - история психологии относится к разряду психологических дисциплин, входит в структуру общей психологии. По методу - психолого-историческая реконструкция развития психологического знания - она принадлежит к историческим наукам. Носителем научной фактологии в области истории психологии являются исторические источники и поэтому история психологии тесно связана с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источниковедением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Как область знания, занимающаяся изучением развития научного знания в отдельной отрасли знания, история психологии является разделом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науковеден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Логика исследования и генезис становления психологического знания определяют связь истории психологии с философией, естествознанием,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культурологией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, а также ее опору на данные, полученные в таких разделах психологии, как психология личности, психология творчества, психология развития и историческая психология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3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4. Наконец, учитывая все вышесказанное, есть основание определить историю психологии как объект исследования в качестве системного образования, включающего множество аспектов, иерархическую структуру, сложную, разноуровневую систему детерминант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Для описания сложноорганизованных объектов используется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системная методолог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, предполагающая их всестороннее, целостное рассмотрение. С этой точки зрения предметом истории психологии является динамика психологического познания в его целостности, включающая изучение: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амого научного знания (его структуры, логико-научных, содержательных аспектов) - логико-научный аспект;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роцесса формирования научных идей и представлений в области истории психологии - процессуальный аспект;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оциально-культурных и организационных условий и предпосылок психологического познания - социокультурный аспект;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носителя, субъекта психологического познания (коллективного и индивидуального) - персонально-личностный аспект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6" name="AutoShape 4"/>
          <p:cNvSpPr/>
          <p:nvPr/>
        </p:nvSpPr>
        <p:spPr>
          <a:xfrm>
            <a:off x="791856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6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3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3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ципы и проблемы историко-психологического ис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Важным элементом </a:t>
            </a: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методологии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любой науки является </a:t>
            </a: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система методологических принципов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, каждый из которых выступает в виде кратко сформулированной теории, не только обобщающей исторический опыт развития данной области знания и отражающей ее основные законы и закономерности, но составляющей исходное требование для дальнейших исследований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История психологии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как одна из базовых отраслей психологии в своих теоретико-методологических основаниях опирается на ряд общефилософских и общепсихологических принципов, которые применительно к историко-психологическим исследованиям приобретают специфическое звучание и формулировку, выступая как частно-психологические принципы истории психологии. Что же это за принципы?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0" name="AutoShape 4"/>
          <p:cNvSpPr/>
          <p:nvPr/>
        </p:nvSpPr>
        <p:spPr>
          <a:xfrm>
            <a:off x="766764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2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20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1. Принцип детерминизма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В соответствии с этим принципом, в основе любого историко-психологического события лежит совокупность явных или неявных причин. Нет ни одного факта в истории психологии, которому бы не предшествовали определенные причины. Любое событие на всем протяжении исторического хода формирования психологической науки является результатом, следствием многообразной череды предшествующих явлений или причин и, в тоже время, выступает как одна из предпосылок последующих событий. При этом следует иметь в виду системный характер этих причинно-следственных зависимостей, что позволяет понимать смену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детерминант развития психологии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в разные хронологические периоды. Задача исследователя, в соответствии с этим принципом, состоит, во-первых, в раскрытии совокупности и иерархической структуры этих причин (внутренних и внешних, прямых и косвенных, непосредственных и опосредованных и т.д.), обусловивших путь к современности, а во-вторых, в установлении закономерной связи между прошлым, настоящим и будущим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2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2. Принцип единства логического и исторического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в понимании генезиса развития психологического знания, который отражает понимание соотношения внутренних, внутринаучных (влияние традиции, изменение категориально-понятийного аппарата, динамика структуры науки, взаимосвязи и взаимовлияния разных научных дисциплин, появление новых методов исследования и т.д.) и внешних, социокультурных причин (потребности общественной практики, идеолого-политические влияния, воздействие научно-технического прогресса, особенности духовной и интеллектуальной атмосферы в обществе и т.д.) в ходе реального процесса исторического развития психологии. Другими словами, данный принцип фиксирует взаимосвязь теории и истории психологии, что предполагает, с одной стороны, изучение отношения содержательного (т.е. логического) аспекта объекта историко-психологического исследования с анализом процесса его развития (т.е. исторического), а с другой, - выявление связи познания данного объекта с историей человеческого общества в целом и историей научного познания в частности. 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3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3. Принцип системности.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Он предполагает понимание истории развития психологических идей, проблем и направлений как многоуровневого (фундаментальный и прикладной уровни), многокачественного (обыденное, научное, художественно-образное, религиозное знания), многомерного (научное творчество отдельного ученого, научных коллективов и школ, регионального психологического сообщества, сторонников той или иной парадигмы, теории или концептуального подхода) и многообразного по своим проявлениям (донаучное, научное и паранаучное состояния) процесса, обусловленного многовариантной системой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детерминант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при оформлении ведущего, системообразующего фактора в конкретной исторической и социокультурной ситуации. Реализация данного принципа требует изучения истории психологического знания в различных аспектах: "во-первых, в тех исторических конкретных условиях, в которых наука включалась в общественную жизнь, и, во-вторых, в тех логических, теоретических связях, в которых строились психологические знания каждого исторического этапа, с одной стороны, и в том соотношении, в котором они находятся в современной психологической науке, - с другой"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4. Принцип объективности историко-психологического исследования. 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Данный принцип предполагает, что при такой процедуре, как оценка значимости тех или иных идей и результатов творчества, необходимо исходить не только из современного состояния знания, на которое опирается и от которого отталкивается исследователь, но и учитывать то реальное место, которое занимают те или иные рассматриваемые идеи в психологии и культуре своего времени ("героя судят по законам его времени"). Это позволит историку психологии преодолеть собственные предпочтения (научные и личностные) в восприятии развития психологического знания. Таким образом, в соответствии с данным принципом, перед ученым стоит задача в ходе историко-психологического исследования сформировать и выдержать позицию объективного, строго говоря, не предвзятого (ни как человека с его личностными симпатиями и антипатиями, ни как ученого, приверженного тем или иным теориям и концепциям) в отношении конечного результата наблюдателя по отношению к исследуемому объекту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Объект и предмет истории психологии. Общие закономерности развития психологических знаний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Специфика предметной области истории психологии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Принципы и проблемы историко-психологического исследования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0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4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5. Принцип конструктивно-позитивного анализа.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Принцип объективности непосредственно связан и дополняется принципом конструктивно-позитивного анализа истории психологии, который акцентирует внимание в историко-психологических исследованиях не на ошибках, недостатках и просчетах в развитии психологической мысли какой-либо отстоящей от ученого исторической эпохи, а на выявлении в совокупности историко-психологических фактов, событий, теорий и концепций того позитивного, конструктивного и прогрессивного, что сумела достичь психологическая мысль данного периода; ориентация не на критику несовершенного, а на поиск рационального и перспективного. Однако это не означает отказа от реалистической оценки (включая и ее критические моменты) тех или иных идей, взглядов, подходов. При этом критический анализ из самоцели становится средством научного познания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2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6. Принцип периодизации и преемственности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развития психологического знания, который предполагает наличие качественно различных этапов и периодов (содержательно и логически связанных между собой) в динамике единого и непрерывного процесса научного познания. Руководствуясь данным принципом, историк психологии должен не только выделить ключевые, наиболее значимые вехи и моменты этого процесса, не только описать историческую и логическую специфику выделенных ступеней развития знания, но и показать их эволюционную взаимосвязь и взаимопроникновение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2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7. Принцип единства прошлого, настоящего и будущего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фиксирует понимание роли и целевой функции историко-психологических исследований. Познание истории психологической науки не является только самоцелью с точки зрения собирания и уточнения исторического материала, характеризующего формирование и развитие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психологических знаний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(архивирование фактов), или воссоздания и реконструкции недостающих (неявных) звеньев в единой цепочке развития психологической мысли. Данный принцип ориентирует ученого на прогностическую стратегию исследования, связанную, во-первых, с выявлением перспективных линий, позиций, идей и подходов, сформировавшихся в прошлом, а во-вторых, с их актуализацией в контексте современных достижений психологической науки. Лишь прошлое, рассмотренное в контексте современности, позволяет очертить проблемное поле будущих исследований и тем самым имеет не только чисто познавательный интерес, но и носит установочно-ориентировочный характер для дальнейшего развития психологического знания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05ff6"/>
                </a:solidFill>
                <a:latin typeface="Arial"/>
              </a:rPr>
              <a:t>8. Принцип единства коллективного и индивидуального творчества в развитии психологического знания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предполагает понимание истории психологии как результата деятельности не только отдельных, хотя и выдающихся ученых, но как совокупного усилия всего научного сообщества. Этот принцип ориентирует исследователя на выявление всех предпосылок формирования той или иной идеи, анализ того контекста, который в конечном итоге привел к оформлению в трудах конкретного ученого определенной концепции или теории. Он также предостерегает историка психологии от абсолютизации вклада отдельного ученого или научной школы в формирование совокупного психологического знания. В данном случае имеется в виду понимание историком психологии того факта, что психология, даже в творчестве особенно выдающихся ее представителей, не начинается каждый раз с "чистого листа", а получает лишь свое закономерное развитие. Соответственно и психологическое познание как совокупность идей и теорий, как результат коллективного творчества многих поколений исследователей в работах конкретного ученого получает творческое, порой оригинальное и новаторское, развитие или более четкое концептуальное оформление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2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2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В чем состоит отличие психологического знания от психологического познания?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Какие формы существования психологического знания представлены в современном общественном и индивидуальном сознании?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Укажите основные подходы в определении предмета истории наук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еречислите особенности предметной области истории психологи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пишите основные методологические принципы истории психологи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характеризуйте самостоятельные методы истории психологии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20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4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3" dur="20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2000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ловарь терминов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Метод историко-психологического познания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Методологический принцип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Объект истории психологи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Предмет истории психологи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Психологическое знан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Психологическое познание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581" name="Picture 4" descr="BUTTON16"/>
          <p:cNvPicPr/>
          <p:nvPr/>
        </p:nvPicPr>
        <p:blipFill>
          <a:blip r:embed="rId1"/>
          <a:stretch/>
        </p:blipFill>
        <p:spPr>
          <a:xfrm>
            <a:off x="395280" y="14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UTTON16"/>
          <p:cNvPicPr/>
          <p:nvPr/>
        </p:nvPicPr>
        <p:blipFill>
          <a:blip r:embed="rId2"/>
          <a:stretch/>
        </p:blipFill>
        <p:spPr>
          <a:xfrm>
            <a:off x="395280" y="299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BUTTON16"/>
          <p:cNvPicPr/>
          <p:nvPr/>
        </p:nvPicPr>
        <p:blipFill>
          <a:blip r:embed="rId3"/>
          <a:stretch/>
        </p:blipFill>
        <p:spPr>
          <a:xfrm>
            <a:off x="395280" y="3789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BUTTON16"/>
          <p:cNvPicPr/>
          <p:nvPr/>
        </p:nvPicPr>
        <p:blipFill>
          <a:blip r:embed="rId4"/>
          <a:stretch/>
        </p:blipFill>
        <p:spPr>
          <a:xfrm>
            <a:off x="395280" y="45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9" descr="BUTTON16"/>
          <p:cNvPicPr/>
          <p:nvPr/>
        </p:nvPicPr>
        <p:blipFill>
          <a:blip r:embed="rId5"/>
          <a:stretch/>
        </p:blipFill>
        <p:spPr>
          <a:xfrm>
            <a:off x="395280" y="537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0" descr="BUTTON16"/>
          <p:cNvPicPr/>
          <p:nvPr/>
        </p:nvPicPr>
        <p:blipFill>
          <a:blip r:embed="rId6"/>
          <a:stretch/>
        </p:blipFill>
        <p:spPr>
          <a:xfrm>
            <a:off x="395280" y="2205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8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мы рефератов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равнительный анализ особенностей различных форм психологических знаний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Методологические подходы в определении предмета истории науки: достоинства и недостатк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овышение объективности историко-психологического исследования: пути и способы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собенности применения метода планирования историко-психологического исследования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Метод проблемологического анализа в изучении динамики психологического познания об индивидуальности человека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озитивные и негативные тенденции современного развития историко-психологических исследований </a:t>
            </a:r>
            <a:br>
              <a:rPr sz="2000"/>
            </a:br>
            <a:br>
              <a:rPr sz="1600"/>
            </a:b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2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0" dur="20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4" dur="20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8" dur="20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200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Hall A.P. Merton revisited or society sourse in the seventeen century.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1968. P. 89-97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Koltsova V. Ideological and scientific discourse in Soviet psycholodical science // Post-Soviet Perspectives on Russian Psychology /edited by V.Koltsova, Y.Oleinik, A. Gilgen, K.Gilgen. 1996.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P. 60-70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Oleinik Y. Russian psychology at present: trends and paradoxes // Post-Soviet Perspectives on Russian Psychology /edited by V.Koltsova, Y.Oleinik, A. Gilgen, K.Gilgen. 1996.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. 53-60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Post-Soviet Perspectives on Russian Psychology / edited by V.Koltsova, Y.Oleinik, A. Gilgen, K.Gilgen. 1996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ольшакова В.В. Очерки истории русской психологии (XIX-начало XX вв.). Нижний Новгород, 1994. 160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Ждан А.Н. История психологии. От античности до наших дней. М., 1990. 367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стория психологии. Период открытого кризиса (начало 10-х - середина 30-х годов XX в.): Тексты. М., 1992. 362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атегории материалистической диалектики в психологии / Под ред. Л.И. Анцыферова. М., 1988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2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2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2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2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2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20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20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20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йре А. Очерки истории философской мысли. М., 1985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Лакатос И. История науки и ее рациональная реконструкция // Структура и развитие науки. М., 1978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мчур Е.А. Проблемы социокультурной детерминации научного знания. М., 1987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рцинковская Т.Д. Русская ментальность и ее отражение в науках о человеке. М., 199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рцинковская Т.Д., Ярошевский М.Г. 50 выдающихся психологов мира: Учебное пособие для студентов. М., 1995. 193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икольская А.А. Возрастная и педагогическая психология дореволюционной России. Дубна, 1995. 331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етровский А. Ярошевский М. Г. История психологии: Учебное пособие для высшей школы. М., 1994. 448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истематический ретроспективный указатель (указатель психологической литературы, изданной в СССР за 1987 г.). М., 1990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9" dur="2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3" dur="20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7" dur="20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1" dur="2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20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2000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3" dur="2000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7" dur="2000"/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колова Е.Ю. 13 диалогов о психологии. М., 199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Ткаченко А.Н. Категориальный строй психологии как предмет историко-научного исследования // Методология историко-психологического исследования. М., 197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Эткинд А. Эрос невозможного. История психоанализа в России. СПб., 1993. 463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История психологии (от античности до середины XX в.) М., 1996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Краткий курс истории психологии. М., 1995. 140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Л. Выготский: в поисках новой психологии. СПб, 1993. 300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О категориальном анализе истории психологического познания // Проблемы теории и истории развития психологии. М., 1973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Психология в XX столетии. М., 197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9" name="AutoShape 4">
            <a:hlinkClick r:id="" action="ppaction://hlinkshowjump?jump=endshow"/>
          </p:cNvPr>
          <p:cNvSpPr/>
          <p:nvPr/>
        </p:nvSpPr>
        <p:spPr>
          <a:xfrm>
            <a:off x="4067280" y="5589720"/>
            <a:ext cx="1225440" cy="647640"/>
          </a:xfrm>
          <a:custGeom>
            <a:avLst/>
            <a:gdLst>
              <a:gd name="textAreaLeft" fmla="*/ 41760 w 1225440"/>
              <a:gd name="textAreaRight" fmla="*/ 1183680 w 1225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0860" h="21600">
                <a:moveTo>
                  <a:pt x="0" y="0"/>
                </a:moveTo>
                <a:lnTo>
                  <a:pt x="40860" y="0"/>
                </a:lnTo>
                <a:lnTo>
                  <a:pt x="40860" y="21600"/>
                </a:lnTo>
                <a:lnTo>
                  <a:pt x="0" y="21600"/>
                </a:lnTo>
                <a:close/>
              </a:path>
              <a:path fill="lightenLess" w="40860" h="21600">
                <a:moveTo>
                  <a:pt x="0" y="0"/>
                </a:moveTo>
                <a:lnTo>
                  <a:pt x="40860" y="0"/>
                </a:lnTo>
                <a:lnTo>
                  <a:pt x="39460" y="1400"/>
                </a:lnTo>
                <a:lnTo>
                  <a:pt x="1400" y="1400"/>
                </a:lnTo>
                <a:close/>
              </a:path>
              <a:path fill="darken" w="40860" h="21600">
                <a:moveTo>
                  <a:pt x="40860" y="0"/>
                </a:moveTo>
                <a:lnTo>
                  <a:pt x="40860" y="21600"/>
                </a:lnTo>
                <a:lnTo>
                  <a:pt x="39460" y="20200"/>
                </a:lnTo>
                <a:lnTo>
                  <a:pt x="39460" y="1400"/>
                </a:lnTo>
                <a:close/>
              </a:path>
              <a:path fill="darkenLess" w="40860" h="21600">
                <a:moveTo>
                  <a:pt x="40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60" y="20200"/>
                </a:lnTo>
                <a:close/>
              </a:path>
              <a:path fill="lighten" w="40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60" h="21600">
                <a:moveTo>
                  <a:pt x="20430" y="3837"/>
                </a:moveTo>
                <a:lnTo>
                  <a:pt x="23006" y="6448"/>
                </a:lnTo>
                <a:lnTo>
                  <a:pt x="23006" y="4707"/>
                </a:lnTo>
                <a:lnTo>
                  <a:pt x="24782" y="4707"/>
                </a:lnTo>
                <a:lnTo>
                  <a:pt x="24782" y="8224"/>
                </a:lnTo>
                <a:lnTo>
                  <a:pt x="27393" y="10800"/>
                </a:lnTo>
                <a:lnTo>
                  <a:pt x="25739" y="10800"/>
                </a:lnTo>
                <a:lnTo>
                  <a:pt x="25739" y="17989"/>
                </a:lnTo>
                <a:lnTo>
                  <a:pt x="15121" y="17989"/>
                </a:lnTo>
                <a:lnTo>
                  <a:pt x="15121" y="10800"/>
                </a:lnTo>
                <a:lnTo>
                  <a:pt x="13467" y="10800"/>
                </a:lnTo>
                <a:close/>
              </a:path>
              <a:path fill="darkenLess" w="40860" h="21600">
                <a:moveTo>
                  <a:pt x="23006" y="6448"/>
                </a:moveTo>
                <a:lnTo>
                  <a:pt x="23006" y="4707"/>
                </a:lnTo>
                <a:lnTo>
                  <a:pt x="24782" y="4707"/>
                </a:lnTo>
                <a:lnTo>
                  <a:pt x="24782" y="8224"/>
                </a:lnTo>
                <a:close/>
              </a:path>
              <a:path fill="darkenLess" w="40860" h="21600">
                <a:moveTo>
                  <a:pt x="19507" y="14299"/>
                </a:moveTo>
                <a:lnTo>
                  <a:pt x="21353" y="14299"/>
                </a:lnTo>
                <a:lnTo>
                  <a:pt x="21353" y="17989"/>
                </a:lnTo>
                <a:lnTo>
                  <a:pt x="25739" y="17989"/>
                </a:lnTo>
                <a:lnTo>
                  <a:pt x="25739" y="10800"/>
                </a:lnTo>
                <a:lnTo>
                  <a:pt x="15121" y="10800"/>
                </a:lnTo>
                <a:lnTo>
                  <a:pt x="15121" y="17989"/>
                </a:lnTo>
                <a:lnTo>
                  <a:pt x="1950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0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4600" indent="-444600" algn="r">
              <a:buClr>
                <a:srgbClr val="ffffff"/>
              </a:buClr>
              <a:buFont typeface="Arial"/>
              <a:buAutoNum type="arabicPeriod"/>
              <a:tabLst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КТ И ПРЕДМЕТ ИСТОРИИ ПСИХОЛОГИИ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ИЕ ЗАКОНОМЕРНОСТИ РАЗВИТИЯ ПСИХОЛОГИЧЕСКИХ ЗНАНИ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Появление психологических знаний по времени сопоставимо с рождением человеческой цивилизации: возникает человеческое сообщество и вместе с ним появляются попытки ответить на извечные, волнующие человека вопросы, касающиеся его возможностей и ограничений во взаимодействии с суровой действительностью, его специфики и места в окружающем мире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Результатом такого рода размышлений является возникновение </a:t>
            </a: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психологического познания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, которое, уходя своими корнями в ранние этапы человеческой истории, сопровождает и все дальнейшее ее развитие, вплоть до настоящего времени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06" name="AutoShape 4"/>
          <p:cNvSpPr/>
          <p:nvPr/>
        </p:nvSpPr>
        <p:spPr>
          <a:xfrm>
            <a:off x="7451640" y="6380280"/>
            <a:ext cx="1225800" cy="477720"/>
          </a:xfrm>
          <a:custGeom>
            <a:avLst/>
            <a:gdLst>
              <a:gd name="textAreaLeft" fmla="*/ 30960 w 1225800"/>
              <a:gd name="textAreaRight" fmla="*/ 1194840 w 122580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99" h="21600">
                <a:moveTo>
                  <a:pt x="0" y="0"/>
                </a:moveTo>
                <a:lnTo>
                  <a:pt x="55399" y="0"/>
                </a:lnTo>
                <a:lnTo>
                  <a:pt x="55399" y="21600"/>
                </a:lnTo>
                <a:lnTo>
                  <a:pt x="0" y="21600"/>
                </a:lnTo>
                <a:close/>
              </a:path>
              <a:path fill="lightenLess" w="55399" h="21600">
                <a:moveTo>
                  <a:pt x="0" y="0"/>
                </a:moveTo>
                <a:lnTo>
                  <a:pt x="55399" y="0"/>
                </a:lnTo>
                <a:lnTo>
                  <a:pt x="53999" y="1400"/>
                </a:lnTo>
                <a:lnTo>
                  <a:pt x="1400" y="1400"/>
                </a:lnTo>
                <a:close/>
              </a:path>
              <a:path fill="darken" w="55399" h="21600">
                <a:moveTo>
                  <a:pt x="55399" y="0"/>
                </a:moveTo>
                <a:lnTo>
                  <a:pt x="55399" y="21600"/>
                </a:lnTo>
                <a:lnTo>
                  <a:pt x="53999" y="20200"/>
                </a:lnTo>
                <a:lnTo>
                  <a:pt x="53999" y="1400"/>
                </a:lnTo>
                <a:close/>
              </a:path>
              <a:path fill="darkenLess" w="55399" h="21600">
                <a:moveTo>
                  <a:pt x="55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99" y="20200"/>
                </a:lnTo>
                <a:close/>
              </a:path>
              <a:path fill="lighten" w="55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99" h="21600">
                <a:moveTo>
                  <a:pt x="20693" y="10800"/>
                </a:moveTo>
                <a:lnTo>
                  <a:pt x="34706" y="3794"/>
                </a:lnTo>
                <a:lnTo>
                  <a:pt x="347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0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404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3"/>
          <p:cNvSpPr/>
          <p:nvPr/>
        </p:nvSpPr>
        <p:spPr>
          <a:xfrm>
            <a:off x="468360" y="1413000"/>
            <a:ext cx="7991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ПСИХОЛОГИЧЕСКОЕ ПОЗНАНИЕ</a:t>
            </a: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бъективно происходящее накопление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смысление знаний люде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 психической реа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ак важной составной части развития жизненного процесса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условия совершенствования взаимодействия человека с миром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 самого человека как субъекта психической реа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3" name="AutoShape 4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4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3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3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468360" y="1413000"/>
            <a:ext cx="7991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ПСИХОЛОГИЧЕСКОЕ ЗНАНИЕ</a:t>
            </a: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знание человека о себ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как носителе особых психических свойств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и характеристик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субъекте психической деятельност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0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3"/>
          <p:cNvSpPr/>
          <p:nvPr/>
        </p:nvSpPr>
        <p:spPr>
          <a:xfrm>
            <a:off x="468360" y="1413000"/>
            <a:ext cx="8207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Развитие психологического знания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как результата творческой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ознавательной деятельности человека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в его целостности и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в его реальной </a:t>
            </a: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диалектике</a:t>
            </a: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на разных этапах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культурной эволюции человечества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ЪЕКТ ИСТОРИИ ПСИХОЛОГИИ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AutoShape 5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2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468360" y="1413000"/>
            <a:ext cx="8207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опытки осмыслить процесс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сихологического познания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описать его содержание и структуру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(совокупность взглядов, идей, подходов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направлений и течений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категорий и понятий)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его институциональные 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ерсонально-личностные аспекты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а также закономерности и этапы развития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ЕДМЕТ ИСТОРИИ ПСИХОЛОГ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AutoShape 6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0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8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Развитие </a:t>
            </a: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психологического знания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осуществляется объективно, с непреложной необходимостью в силу его реальной функции в жизнедеятельности человека, в его эволюционном становлении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Знание о психике, следуя за развивающейся жизнью человека и отражая все новые и усложняющиеся стороны его взаимодействия с миром, включается само в это взаимодействие как важный фактор его регуляции, обеспечивая не только адаптивные, приспособительные, но и преобразующе-действенные, активные формы поведения.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Развитие психологического знания происходит в виде различных взаимосвязанных форм (уровней):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"житейские" представления людей о психике, возникающие в их реальной жизненной практике, в разных ее сферах (материальной, производственной деятельности, в бытовой области, в воспитательно-обучающем процессе, в искусстве и т.д.) и основывающиеся на непосредственном отражении разных аспектов бытия и философии "здравого смысла"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сихологические знания, вычленяющиеся в рамках мифологии и религии как исторически первых форм познания мира и человека и отражающие канонические требования указанных видов культурного творчества человечества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сихологические знания, накопленные в рамках художественно-образного наблюдения за окружающей действительностью в работах художников, архитекторов, писателей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сихологические знания, возникающие на определенном этапе развития общества в связи с выделением нового способа реконструкции действительности - науки - и включающие целенаправленный процесс сбора и анализа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психологической фактологии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, логические формы ее объяснения и доказательства, переход от описательной стратегии и методов исследования к объяснительной, т.е. - </a:t>
            </a:r>
            <a:r>
              <a:rPr b="1" i="1" lang="ru-RU" sz="1600" spc="-1" strike="noStrike">
                <a:solidFill>
                  <a:srgbClr val="205ff6"/>
                </a:solidFill>
                <a:latin typeface="Arial"/>
              </a:rPr>
              <a:t>научного знания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. В свою очередь, научные психологические знания, зародившиеся впервые в античном мире, сами проходят длительный путь эволюции - от существования в лоне других наук (философии, истории, естествознания) и до выделения и дальнейшего их развития в рамках самостоятельной научной дисциплины (вторая половина XIX в.)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3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3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30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4"/>
          <p:cNvSpPr/>
          <p:nvPr/>
        </p:nvSpPr>
        <p:spPr>
          <a:xfrm>
            <a:off x="2916360" y="1557360"/>
            <a:ext cx="3744720" cy="115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ИСТОРИЯ ПСИХОЛОГИ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2195640" y="3429000"/>
            <a:ext cx="216036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ОБЪЕКТ</a:t>
            </a:r>
            <a:r>
              <a:rPr b="0" i="1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5003640" y="4365720"/>
            <a:ext cx="2087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ПРЕДМЕТ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8" name="AutoShape 11"/>
          <p:cNvSpPr/>
          <p:nvPr/>
        </p:nvSpPr>
        <p:spPr>
          <a:xfrm>
            <a:off x="250920" y="1989000"/>
            <a:ext cx="2233440" cy="2519640"/>
          </a:xfrm>
          <a:custGeom>
            <a:avLst/>
            <a:gdLst>
              <a:gd name="textAreaLeft" fmla="*/ 299160 w 2233440"/>
              <a:gd name="textAreaRight" fmla="*/ 1934280 w 223344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9" name="AutoShape 12"/>
          <p:cNvSpPr/>
          <p:nvPr/>
        </p:nvSpPr>
        <p:spPr>
          <a:xfrm>
            <a:off x="6877080" y="1916280"/>
            <a:ext cx="2016000" cy="3817800"/>
          </a:xfrm>
          <a:custGeom>
            <a:avLst/>
            <a:gdLst>
              <a:gd name="textAreaLeft" fmla="*/ 270000 w 2016000"/>
              <a:gd name="textAreaRight" fmla="*/ 1746000 w 2016000"/>
              <a:gd name="textAreaTop" fmla="*/ 668160 h 3817800"/>
              <a:gd name="textAreaBottom" fmla="*/ 2768040 h 38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0" name="AutoShape 16"/>
          <p:cNvSpPr/>
          <p:nvPr/>
        </p:nvSpPr>
        <p:spPr>
          <a:xfrm>
            <a:off x="766764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2. СПЕЦИФИКА ПРЕДМЕТНОЙ ОБЛАСТИ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СТОРИИ ПСИХОЛОГИИ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ложность и многоаспектность психологического познания как объекта исследования, а также непосредственная связь его осмысления с развитием общенаучных взглядов о человеке и психологических идей, с методологическими и идейными влияниями обусловливают соответственно различные определения предмета истории психологии. В их основе - выделенные и акцентируемые теми или иными авторами стороны или аспекты единого объекта историко-психологического анализа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Недостаточная отрефлексированность методологических проблем в истории психологии с одной стороны, и ее принадлежность к науковедческим дисциплинам - с другой, объясняют необходимость и возможность при рассмотрении данного вопроса выходить за рамки собственно истории психологии в область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науковеден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В итоге в наиболее общем виде представляется возможным выделить три основных подхода в определении предмета истории науки (в том числе психологии)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759636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ВЫЙ ПОДХОД В ОПРЕДЕЛЕНИИ ПРЕДМЕТА ИСТОРИИ НАУКИ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Первый подход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в основу изучения кладет результат психологического познания, его внутреннее содержание - собственно </a:t>
            </a: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психологическое знание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(его строение, структуру, логико-содержательные аспекты, внутрилогические механизмы развития знания), рассматривая его как самодостаточное и существующее относительно самостоятельно, вне связи с другими сторонами познавательного процесса (социально-культурными и личностными опосредованиями)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Такой подход, акцентирующий внимание в основном на внутренней, логической стороне познания и отвечающий на вопрос "каково содержание знания", может быть назван </a:t>
            </a: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логико-научным, или интернальным, подходом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в истории науки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ТОРОЙ ПОДХОД В ОПРЕДЕЛЕНИИ ПРЕДМЕТА ИСТОРИИ НАУК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В ТОМ ЧИСЛЕ ПСИХОЛОГИИ).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кцент на внешней истории развития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научного знания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и попытка вывести из нее и описать на ее основе внутринаучные закономерности порождает второй подход в понимании предмета истории науки - </a:t>
            </a:r>
            <a:r>
              <a:rPr b="1" i="1" lang="ru-RU" sz="1800" spc="-1" strike="noStrike">
                <a:solidFill>
                  <a:srgbClr val="205ff6"/>
                </a:solidFill>
                <a:latin typeface="Arial"/>
              </a:rPr>
              <a:t>экстернальный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 На этой основе возникает специальная область науковедения - социальная история науки. История науки рассматривается здесь в социальном контексте, в ее зависимости и связи с развитием организационных и социальных условий и предпосылок. Продуктивность указанного подхода состоит в том, что он выявляет значимые факторы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детерминации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научного знания, отвечая на вопрос "почему наука в определенных социально-исторических и культурных условиях приобретает конкретно-исторические формы". С одной стороны, это отражает одну из существенных характеристик науки - ее социальную природу как компонента общественной структуры и как результата совокупных коллективных усилий, с другой стороны, возникают вопросы относительно уровня детерминационных возможностей, степени и глубины социального воздействия на развитие психологического знания (его направления, структуру, содержание исследуемых проблем)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4:09:22Z</dcterms:created>
  <dc:creator>1</dc:creator>
  <dc:description/>
  <dc:language>en-US</dc:language>
  <cp:lastModifiedBy>LEGION</cp:lastModifiedBy>
  <dcterms:modified xsi:type="dcterms:W3CDTF">2014-11-12T08:17:56Z</dcterms:modified>
  <cp:revision>297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