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ACD9-0927-4057-AC59-D05BACA7C18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1. История психологи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ие осн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DDE9-2C91-478D-A7D8-95539132E924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ТИЙ ПОДХОД В ОПРЕДЕЛЕНИ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А ИСТОРИИ НАУ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и третьего подхода в изучении истории психологии акцентируют внимание на ее персонально-личностных аспектах. Во главу угла в качестве главного двигателя научного прогресса и главного предмета рассмотрения выступа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чность и творческий п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ого или иного ученого, его научные идеи, взгляды, концепции и подходы. Таким образом, история науки, по сути, становится историей деятелей науки (будь то отдельный ученый, или группа ученых, или то или иное их объединени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5AF7-863C-40F3-8334-3CA7EB9B6026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е определения предмета истории психологии предполагает описание специфики рассматриваемой предметн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 сво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носеологической природ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я психологии представляет собой отражение процесса становления и развития психологического познания, т.е. является отражением второго порядка -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тражением отражен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на исследует не саму психическую реальность, а представления о ней, складывающиеся на разных этапах истории и в разных культурных ареалах. Этим обусловлена необходимость четкого разведения объективного (соответствующего действительному ходу развития истории) и субъективного (привнесенного его интерпретациями) взгляда на исследуемые процессы. Более того, именно субъективные представления во всем их многообразии как отражающие разные уровни их "отходов" или "приближений" к исследуемой реальности и составляют непосредственный предмет историко-психологического и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4C71-E122-466B-84F5-35C55C720C2B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знание в любой области - глубоко диалектический процесс, включающий преобразование, приращение знания, накопление научной фактологии и углубление ее теоретического осмысления, изменение структуры научного знания и его понятийно-категориального основания и т.д. Отражая реальную диалектику психологического познания, история психологии сама явля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иалектической научной дисципли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ричем и здесь, наряду с объективной диалектикой (идущей от самого объекта, его развития), имеют место и субъективные факторы (исторически детерминированные изменения в мировоззрении исследовател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го по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Этим определяется существование разных картин развития психологического знания на разных этапах истории, в рамках разных научных школ и у отдельных уче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ое положение усугубляется сложностью выделения точных научных критериев оценки выдвигаемых в област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и псих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46E8-39A2-4ED4-8008-28C2B4F49951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едметная область истории психологии склад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 стыке и пересече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рядом научных отраслей. По своему объекту - психическая реальность - история психологии относится к разряду психологических дисциплин, входит в структуру общей психологии. По методу - психолого-историческая реконструкция развития психологического знания - она принадлежит к историческим наукам. Носителем научной фактологии в области истории психологии являются исторические источники и поэтому история психологии тесно связана 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чниковедени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ак область знания, занимающаяся изучением развития научного знания в отдельной отрасли знания, история психологии является раздел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кове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Логика исследования и генезис становления психологического знания определяют связь истории психологии с философией, естествознанием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олог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ее опору на данные, полученные в таких разделах психологии, как психология личности, психология творчества, психология развития и историческая психолог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EAD2-F610-48DD-98B2-931B9DE39897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Наконец, учитывая все вышесказанное, есть основание определить историю психологии как объект исследования в качестве системного образования, включающего множество аспектов, иерархическую структуру, сложную, разноуровневую систему детерминан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описания сложноорганизованных объектов используетс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стемная методолог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редполагающая их всестороннее, целостное рассмотрение. С этой точки зрения предметом истории психологии является динамика психологического познания в его целостности, включающая изучени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ого научного знания (его структуры, логико-научных, содержательных аспектов) - логико-научный аспек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сса формирования научных идей и представлений в области истории психологии - процессуальный аспек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циально-культурных и организационных условий и предпосылок психологического познания - социокультурный аспек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сителя, субъекта психологического познания (коллективного и индивидуального) - персонально-личностный аспек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48E5-DD7D-4A33-838E-C7372B7CFDF6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нципы и проблемы историко-психологического исслед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м элемент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юбой науки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методологических принцип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аждый из которых выступает в виде кратко сформулированной теории, не только обобщающей исторический опыт развития данной области знания и отражающей ее основные законы и закономерности, но составляющей исходное требование для дальнейших исслед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я псих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одна из базовых отраслей психологии в своих теоретико-методологических основаниях опирается на ряд общефилософских и общепсихологических принципов, которые применительно к историко-психологическим исследованиям приобретают специфическое звучание и формулировку, выступая как частно-психологические принципы истории психологии. Что же это за принци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C809-1AF8-4DB8-ACAC-51EBF7B4CA65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. Принцип детерминиз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соответствии с этим принципом, в основе любого историко-психологического события лежит совокупность явных или неявных причин. Нет ни одного факта в истории психологии, которому бы не предшествовали определенные причины. Любое событие на всем протяжении исторического хода формирования психологической науки является результатом, следствием многообразной череды предшествующих явлений или причин и, в тоже время, выступает как одна из предпосылок последующих событий. При этом следует иметь в виду системный характер этих причинно-следственных зависимостей, что позволяет понимать смен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ерминант развития псих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разные хронологические периоды. Задача исследователя, в соответствии с этим принципом, состоит, во-первых, в раскрытии совокупности и иерархической структуры этих причин (внутренних и внешних, прямых и косвенных, непосредственных и опосредованных и т.д.), обусловивших путь к современности, а во-вторых, в установлении закономерной связи между прошлым, настоящим и будущ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A700-ABDB-40CA-BA75-A9B1F05B2E82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 Принцип единства логического и историческ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понимании генезиса развития психологического знания, который отражает понимание соотношения внутренних, внутринаучных (влияние традиции, изменение категориально-понятийного аппарата, динамика структуры науки, взаимосвязи и взаимовлияния разных научных дисциплин, появление новых методов исследования и т.д.) и внешних, социокультурных причин (потребности общественной практики, идеолого-политические влияния, воздействие научно-технического прогресса, особенности духовной и интеллектуальной атмосферы в обществе и т.д.) в ходе реального процесса исторического развития психологии. Другими словами, данный принцип фиксирует взаимосвязь теории и истории психологии, что предполагает, с одной стороны, изучение отношения содержательного (т.е. логического) аспекта объекта историко-психологического исследования с анализом процесса его развития (т.е. исторического), а с другой, - выявление связи познания данного объекта с историей человеческого общества в целом и историей научного познания в частност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9A40-08DD-416D-A6E9-F5358CED7B0A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Принцип систем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н предполагает понимание истории развития психологических идей, проблем и направлений как многоуровневого (фундаментальный и прикладной уровни), многокачественного (обыденное, научное, художественно-образное, религиозное знания), многомерного (научное творчество отдельного ученого, научных коллективов и школ, регионального психологического сообщества, сторонников той или иной парадигмы, теории или концептуального подхода) и многообразного по своим проявлениям (донаучное, научное и паранаучное состояния) процесса, обусловленного многовариантной систем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ермин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оформлении ведущего, системообразующего фактора в конкретной исторической и социокультурной ситуации. Реализация данного принципа требует изучения истории психологического знания в различных аспектах: "во-первых, в тех исторических конкретных условиях, в которых наука включалась в общественную жизнь, и, во-вторых, в тех логических, теоретических связях, в которых строились психологические знания каждого исторического этапа, с одной стороны, и в том соотношении, в котором они находятся в современной психологической науке, - с другой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19A4-7081-4BAB-856A-55871529141C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Принцип объективности историко-психологического исследования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ринцип предполагает, что при такой процедуре, как оценка значимости тех или иных идей и результатов творчества, необходимо исходить не только из современного состояния знания, на которое опирается и от которого отталкивается исследователь, но и учитывать то реальное место, которое занимают те или иные рассматриваемые идеи в психологии и культуре своего времени ("героя судят по законам его времени"). Это позволит историку психологии преодолеть собственные предпочтения (научные и личностные) в восприятии развития психологического знания. Таким образом, в соответствии с данным принципом, перед ученым стоит задача в ходе историко-психологического исследования сформировать и выдержать позицию объективного, строго говоря, не предвзятого (ни как человека с его личностными симпатиями и антипатиями, ни как ученого, приверженного тем или иным теориям и концепциям) в отношении конечного результата наблюдателя по отношению к исследуемому объек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D7B2-7A32-4327-8144-D472D831B4E9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ЛАН 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и предмет истории психологии. Общие закономерности развития психологических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ка предметной области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и проблемы историко-психологического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5BD0-4213-4F46-81AE-D708E85C8700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Принцип конструктивно-позитивного анализ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нцип объективности непосредственно связан и дополняется принципом конструктивно-позитивного анализа истории психологии, который акцентирует внимание в историко-психологических исследованиях не на ошибках, недостатках и просчетах в развитии психологической мысли какой-либо отстоящей от ученого исторической эпохи, а на выявлении в совокупности историко-психологических фактов, событий, теорий и концепций того позитивного, конструктивного и прогрессивного, что сумела достичь психологическая мысль данного периода; ориентация не на критику несовершенного, а на поиск рационального и перспективного. Однако это не означает отказа от реалистической оценки (включая и ее критические моменты) тех или иных идей, взглядов, подходов. При этом критический анализ из самоцели становится средством научного п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DBAE-114E-4EB7-9C20-24F91BAB6C6D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. Принцип периодизации и преемстве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вития психологического знания, который предполагает наличие качественно различных этапов и периодов (содержательно и логически связанных между собой) в динамике единого и непрерывного процесса научного познания. Руководствуясь данным принципом, историк психологии должен не только выделить ключевые, наиболее значимые вехи и моменты этого процесса, не только описать историческую и логическую специфику выделенных ступеней развития знания, но и показать их эволюционную взаимосвязь и взаимопроникнов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A322-12AF-43AA-BE60-10CBF03D4591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7. Принцип единства прошлого, настоящего и будуще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иксирует понимание роли и целевой функции историко-психологических исследований. Познание истории психологической науки не является только самоцелью с точки зрения собирания и уточнения исторического материала, характеризующего формирование и развит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их зн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рхивирование фактов), или воссоздания и реконструкции недостающих (неявных) звеньев в единой цепочке развития психологической мысли. Данный принцип ориентирует ученого на прогностическую стратегию исследования, связанную, во-первых, с выявлением перспективных линий, позиций, идей и подходов, сформировавшихся в прошлом, а во-вторых, с их актуализацией в контексте современных достижений психологической науки. Лишь прошлое, рассмотренное в контексте современности, позволяет очертить проблемное поле будущих исследований и тем самым имеет не только чисто познавательный интерес, но и носит установочно-ориентировочный характер для дальнейшего развития психологического 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4F3F-B6B8-40FB-A05B-0EBA44362BDA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8. Принцип единства коллективного и индивидуального творчества в развитии психологического 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полагает понимание истории психологии как результата деятельности не только отдельных, хотя и выдающихся ученых, но как совокупного усилия всего научного сообщества. Этот принцип ориентирует исследователя на выявление всех предпосылок формирования той или иной идеи, анализ того контекста, который в конечном итоге привел к оформлению в трудах конкретного ученого определенной концепции или теории. Он также предостерегает историка психологии от абсолютизации вклада отдельного ученого или научной школы в формирование совокупного психологического знания. В данном случае имеется в виду понимание историком психологии того факта, что психология, даже в творчестве особенно выдающихся ее представителей, не начинается каждый раз с "чистого листа", а получает лишь свое закономерное развитие. Соответственно и психологическое познание как совокупность идей и теорий, как результат коллективного творчества многих поколений исследователей в работах конкретного ученого получает творческое, порой оригинальное и новаторское, развитие или более четкое концептуальное оформл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4A35-44E2-47BB-97DE-BD11A84D27A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остоит отличие психологического знания от психологического позн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формы существования психологического знания представлены в современном общественном и индивидуальном сознани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жите основные подходы в определении предмета истории нау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особенности предметной области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шите основные методологические принципы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арактеризуйте самостоятельные методы истории психологии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D2FB-6569-4BC3-8E79-5D1F8B75C353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оварь термин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историко-психологического п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ческий принци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зн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познание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5558-984D-40CA-B2DC-E5A9801125C4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ы рефера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й анализ особенностей различных форм психологических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ческие подходы в определении предмета истории науки: достоинства и недостат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объективности историко-психологического исследования: пути и способ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применения метода планирования историко-психологического исслед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роблемологического анализа в изучении динамики психологического познания об индивидуальности челове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е и негативные тенденции современного развития историко-психологических исследований </a:t>
            </a:r>
            <a:br>
              <a:rPr sz="12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29E3-FD9D-4B2E-B5CD-2D7B3D8947EE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l A.P. Merton revisited or society sourse in the seventeen century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8. P. 89-9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ltsova V. Ideological and scientific discourse in Soviet psycholodical science // Post-Soviet Perspectives on Russian Psychology /edited by V.Koltsova, Y.Oleinik, A. Gilgen, K.Gilgen. 1996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. 60-7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einik Y. Russian psychology at present: trends and paradoxes // Post-Soviet Perspectives on Russian Psychology /edited by V.Koltsova, Y.Oleinik, A. Gilgen, K.Gilgen. 1996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. 53-6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-Soviet Perspectives on Russian Psychology / edited by V.Koltsova, Y.Oleinik, A. Gilgen, K.Gilgen. 199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кова В.В. Очерки истории русской психологии (XIX-начало XX вв.). Нижний Новгород, 1994. 160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дан А.Н. История психологии. От античности до наших дней. М., 1990. 367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сихологии. Период открытого кризиса (начало 10-х - середина 30-х годов XX в.): Тексты. М., 1992. 362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и материалистической диалектики в психологии / Под ред. Л.И. Анцыферова. М., 198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C9D4-21B3-4F1C-A352-C7996F442222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йре А. Очерки истории философской мысли. М., 198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катос И. История науки и ее рациональная реконструкция // Структура и развитие науки. М., 197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мчур Е.А. Проблемы социокультурной детерминации научного знания. М., 198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цинковская Т.Д. Русская ментальность и ее отражение в науках о человеке. М., 199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цинковская Т.Д., Ярошевский М.Г. 50 выдающихся психологов мира: Учебное пособие для студентов. М., 1995. 193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ьская А.А. Возрастная и педагогическая психология дореволюционной России. Дубна, 1995. 331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овский А. Ярошевский М. Г. История психологии: Учебное пособие для высшей школы. М., 1994. 448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ческий ретроспективный указатель (указатель психологической литературы, изданной в СССР за 1987 г.). М., 199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EB4B-B802-4E19-BE6B-EF42EC170882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4600" indent="-444600"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ЪЕКТ И ПРЕДМЕТ ИСТОРИИ ПСИХОЛОГИИ.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ЩИЕ ЗАКОНОМЕРНОСТИ РАЗВИТИЯ ПСИХОЛОГИЧЕСКИХ ЗНАНИЙ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44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психологических знаний по времени сопоставимо с рождением человеческой цивилизации: возникает человеческое сообщество и вместе с ним появляются попытки ответить на извечные, волнующие человека вопросы, касающиеся его возможностей и ограничений во взаимодействии с суровой действительностью, его специфики и места в окружающем ми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4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ом такого рода размышлений является возникновен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по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ое, уходя своими корнями в ранние этапы человеческой истории, сопровождает и все дальнейшее ее развитие, вплоть до настоящего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4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4600" indent="0">
              <a:spcBef>
                <a:spcPts val="451"/>
              </a:spcBef>
              <a:buNone/>
              <a:tabLst>
                <a:tab algn="l" pos="0"/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5472-38AE-43E3-B6AB-562EAD5C585E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уществляется объективно, с непреложной необходимостью в силу его реальной функции в жизнедеятельности человека, в его эволюционном становл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о психике, следуя за развивающейся жизнью человека и отражая все новые и усложняющиеся стороны его взаимодействия с миром, включается само в это взаимодействие как важный фактор его регуляции, обеспечивая не только адаптивные, приспособительные, но и преобразующе-действенные, активные формы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сихологического знания происходит в виде различных взаимосвязанных форм (уровней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9E80-8BBA-46A0-8343-19DA889F7BC4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"житейские" представления людей о психике, возникающие в их реальной жизненной практике, в разных ее сферах (материальной, производственной деятельности, в бытовой области, в воспитательно-обучающем процессе, в искусстве и т.д.) и основывающиеся на непосредственном отражении разных аспектов бытия и философии "здравого смысла"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сихологические знания, вычленяющиеся в рамках мифологии и религии как исторически первых форм познания мира и человека и отражающие канонические требования указанных видов культурного творчества человечеств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сихологические знания, накопленные в рамках художественно-образного наблюдения за окружающей действительностью в работах художников, архитекторов, писателей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сихологические знания, возникающие на определенном этапе развития общества в связи с выделением нового способа реконструкции действительности - науки - и включающие целенаправленный процесс сбора и анализа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сихологической фактолог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логические формы ее объяснения и доказательства, переход от описательной стратегии и методов исследования к объяснительной, т.е. -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учного знан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В свою очередь, научные психологические знания, зародившиеся впервые в античном мире, сами проходят длительный путь эволюции - от существования в лоне других наук (философии, истории, естествознания) и до выделения и дальнейшего их развития в рамках самостоятельной научной дисциплины (вторая половина XIX в.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6388-28BA-4732-BAFE-C9A36F139368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8D44-25F0-42C6-933A-E1A97D5CF874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СПЕЦИФИКА ПРЕДМЕТНОЙ ОБЛАСТИ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ТОРИИ ПСИХОЛОГИИ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838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ь и многоаспектность психологического познания как объекта исследования, а также непосредственная связь его осмысления с развитием общенаучных взглядов о человеке и психологических идей, с методологическими и идейными влияниями обусловливают соответственно различные определения предмета истории психологии. В их основе - выделенные и акцентируемые теми или иными авторами стороны или аспекты единого объекта историко-психолог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отрефлексированность методологических проблем в истории психологии с одной стороны, и ее принадлежность к науковедческим дисциплинам - с другой, объясняют необходимость и возможность при рассмотрении данного вопроса выходить за рамки собственно истории психологии в облас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кове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итоге в наиболее общем виде представляется возможным выделить три основных подхода в определении предмета истории науки (в том числе психологи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9520-306C-4FE4-9E42-E257F5020884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ЫЙ ПОДХОД В ОПРЕДЕЛЕНИИ ПРЕДМЕТА ИСТОРИИ НАУК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ый подх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снову изучения кладет результат психологического познания, его внутреннее содержание - собственн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е зн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его строение, структуру, логико-содержательные аспекты, внутрилогические механизмы развития знания), рассматривая его как самодостаточное и существующее относительно самостоятельно, вне связи с другими сторонами познавательного процесса (социально-культурными и личностными опосредованиям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ой подход, акцентирующий внимание в основном на внутренней, логической стороне познания и отвечающий на вопрос "каково содержание знания", может быть назван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огико-научным, или интернальным, подход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истории на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60AB-468E-41C6-AEDF-5E99A014E282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ТОРОЙ ПОДХОД В ОПРЕДЕЛЕНИИ ПРЕДМЕТА ИСТОРИИ НАУ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В ТОМ ЧИСЛЕ ПСИХОЛОГИИ)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на внешней истории развит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го 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попытка вывести из нее и описать на ее основе внутринаучные закономерности порождает второй подход в понимании предмета истории науки -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стерналь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На этой основе возникает специальная область науковедения - социальная история науки. История науки рассматривается здесь в социальном контексте, в ее зависимости и связи с развитием организационных и социальных условий и предпосылок. Продуктивность указанного подхода состоит в том, что он выявляет значимые фактор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ермин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учного знания, отвечая на вопрос "почему наука в определенных социально-исторических и культурных условиях приобретает конкретно-исторические формы". С одной стороны, это отражает одну из существенных характеристик науки - ее социальную природу как компонента общественной структуры и как результата совокупных коллективных усилий, с другой стороны, возникают вопросы относительно уровня детерминационных возможностей, степени и глубины социального воздействия на развитие психологического знания (его направления, структуру, содержание исследуемых пробле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A534-1EF8-4042-A977-550AAA8C6942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97E1-F25B-4D30-BBF8-07AD36FE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9DF6-A4EC-4936-B47D-3440EB43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FDF4A-CF71-476E-98D1-22601B03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E7190-9791-4838-8FB0-51BFA2B5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4578B-987B-4CFA-B3A6-025A2E88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BB19A-85B0-46BF-A59B-2BBEEFFE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1EF3A-66B7-411F-BC6B-BAD4F59A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D1758-ABBA-4359-BD40-6AAF62DF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08770-FC89-4CFC-8F19-9AEBB09A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7F833-8FBD-4B27-94D7-26C451BF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21B04-55B8-4C27-99CC-4B44AD46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DD812-E064-4008-896F-6485E2BB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0B48-C18E-4460-B7D8-FFE8B6850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5F71E-A10C-4030-9757-1A3156DD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87E3B-D8BE-4738-831F-D6B934B5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1F267-96A1-45F3-94A9-27BAB2CC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26504-9F00-4657-81BB-61A73DC2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9C0A6-CAEA-4325-B199-8C94C6EB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1C647-3CD2-42E4-B634-BB2E4DC1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03EAE-1FBC-4368-9CBF-91CDC1B1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CF9EB-6222-4DC4-A4D6-C00D8CC0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F9492-9135-4D12-B7AA-E08122EE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76DAF-AB44-4566-A75F-8058694C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3D57-1AFE-4DDE-B7C3-B0200F26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E2F05-55FF-42F2-962D-703F6667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B8176-5671-4B85-BDF7-78851022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7BAC5-B19D-4A9E-8254-5365BE0C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4E9C1-3131-44DA-8FE6-5B0D6AF2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3702A-EAF9-4C9C-A0E7-1F31006C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FEA23-C2A1-4F08-A684-632FC0F2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C5926-9388-439D-87D2-612F21DF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00BDA-951D-4A95-954F-8ED9A93A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3208D-F9C2-4330-8447-5682C8B9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1001F-664F-423F-988D-07E0A6CA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C2483-DBCD-4285-9AC3-13CBB32B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C2EAE-0D68-4FE4-A3F2-67CD7932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885FA-4BDB-49A9-80CF-1158D2BF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9D112-168A-4D46-A149-9BF8DDAA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60524-AF25-4632-B3A2-BBBAE654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1B50F-DFA8-44BA-9936-9C0C0A60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2D37F-18C0-4C4C-B2EA-528E5D33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193BB9-17C7-468E-AA01-B1041FB6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04998-B14D-4985-8E44-6D231DC2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F07AB-2439-41FF-B570-1394F752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96C22-AFEA-4082-A962-AB7603F2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8F697-B668-487C-8D58-451A5084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2C4BB-A32F-49DC-A605-FC27ABB6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8568F-D76B-4C18-B8BE-FADA3471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58F17-1A30-4709-A540-1835B5C1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91B1F-7DA5-4844-B110-7FB65ED4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40358-8BBB-4212-ABC7-5DB6CB7D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CF27C-6EF6-42AA-957E-AEC4C952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A08AF-0E22-4D65-AC19-E492E6C2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DAE24-E6F5-4BB9-AD74-9E2841BB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2D88A-7EB4-438D-A517-D2142037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A196D-69B9-43A1-83BE-5A8F6662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C5BD-35EA-4356-A4A0-426C59C7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B8987-3807-430E-9AF6-C00B0DE1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C34AB-26B4-4F03-8B8D-6E5AD997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F9CDE-0066-4F63-BF72-074F22A4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DA790-4CA1-4E1A-B136-9C648D12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2153D-5E18-41FA-8B36-1CC4E562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75C67-A47E-497D-8219-85FCF458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660CE-CD01-4B11-BCEF-6C159171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E18F5-FC03-4219-B27F-12D123EA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0AA42-0DC7-4695-AD3D-50CDDB3B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4922D-5F60-48D8-BF1F-592C88F5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12B8-9824-4BF0-ACDF-7217AD23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5755C-B4DD-4F1B-B14B-D73CE81C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8B6B0-ACB2-47D0-9BC2-D6965F04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CD8A7-0803-41A2-853B-E7B1383A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4A916-B631-449D-A996-7CD9CC01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CCB2B-442D-441A-B2D9-0F007F91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22206-C585-4FA3-A8F0-8C3CFACF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0C756-CA7D-4BCA-B2CB-5D9BDA95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F4347-42EB-4C68-91C7-0C1DE958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591F2-AD64-4E1C-B8E2-A2F59D88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44F66-67E9-4179-ABFF-0B4D290D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9626-DB94-433A-8129-46AE63E7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42ADD-E679-4955-9A6C-D977F712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9EA3A-721E-430D-B775-B2D59AA5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000D5-771F-4E14-99B1-3D11E700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E1415-11CF-47B8-A271-E1C6A7DF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4ADEE-AB74-445F-8C46-62E2F9FB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0F43B-00AA-4BBD-8674-35833F3E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FEAED-A498-4B9E-8221-84348F84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6B094-9056-42BD-BF0E-9F78CD94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6CEC6-C85B-4F92-A157-F22CE86F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E0810-37C1-45AA-831A-B7B60A82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E75C-5248-4292-AD2E-D148048C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FBE0D-5968-4FBA-816B-2D507AA3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1011E-2413-4491-9EF1-5CE93F18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BAB53-297A-47D2-B1BC-236F45FC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53C94-E313-4EAA-91B5-749B6324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231E5-3504-491D-B6AD-73C90B4E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62C20-3C7E-4BAB-96C8-8DE94E72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AD9FB-A8F7-42F9-893F-F796111D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7DB35-6A8F-4E7B-96F0-97BA4A46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41906-C6C9-48D5-AA96-8F31CB47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CFD78-86A1-4D3A-93A5-54D578C3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49D-0434-4DE1-A6AA-9FB38C3D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CC52D-E8C2-4652-B168-904C2972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75837-1D7C-4EE1-9B79-F3DC7651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58051-31B3-4D82-B01D-B1186F77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8F6FB-EE7A-44FE-B154-42A01891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BCA27-9C84-4849-A6EF-B7EF42FA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B9C2D-5B0C-4548-A28B-D2A40C98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06246-42E3-4B58-8CC1-52A2A9B6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1B346-BA7F-48FB-8C6F-4FA0B601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828B2-E8C3-4AAB-A8CF-E6CD75BA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E0CE3-6C90-44E9-8ECE-E9B88A61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486C-C765-4EDD-8FAB-5F2B6799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F20D3-2100-4851-95DE-BB9A25BF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E5B17-1FE8-4F88-8154-03535AAE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AF22E-0092-4AA1-BB88-FD89DFD1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E0C67-436D-4C5C-BDB7-3D91E8E1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F38E8-7506-4A99-A3AC-5BFEA465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53F58-41D0-41D3-B8B5-06208FD4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4F47C-08C6-4AA5-BD09-2C6B88B4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2ABC2-F357-4FC2-8C59-27D767FD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A5EEF-A394-47FE-8923-2F7F9D46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6628A-2126-4EA8-B342-05B3135D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957D-8D8E-49D0-9B42-4D450F4E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86200-61C3-474B-A6F0-FFB1BE49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017A3-FA78-471C-9C8E-8CB2CAEC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913BA-1421-460A-A14F-3419DBF0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BED19-52F7-4373-82D2-2788946A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733F2-0E16-4662-9A48-10ADABC2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59B68-9E96-4516-B87D-B84D785FD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576D0-228F-4038-8C67-6632CCD6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F2C83-9FEF-47F3-B735-82C76549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20B3A-53DB-437E-9958-746E83D4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BB0AE-DCA4-43B2-A33C-86FFF6AF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206F-A1EF-487B-935A-EE9030C4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04F35-C16C-46EA-AE06-DF7A6BCF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65556-6830-45F4-AB94-ADD38D93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F8B93-974F-4017-85D8-CE943E97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CFB83-5428-4E0B-A824-0F386E58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773E7-E47A-43E6-B7F8-F63D9BC3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CAB4F-74A2-4641-94C9-7565B0C7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A2644-F01C-48B9-A091-70824D2D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AFFAC-5370-4C40-9464-C3CCA4D3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AE784-600D-4917-BDF8-7F16D04D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8AB0A-123B-456D-8B7E-19A147C5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F73F-821C-421F-B136-FF7E40ABA80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4FD0-BC61-4FE0-9FFC-214431152B2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ACD9-40C0-42B8-9770-95A2B31FB43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A6BB-2793-40E4-A834-C4E3737CEEA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B279-EBE2-448F-8470-C1987D40818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1F38-ADBA-401A-8ABA-BE7A6E1AB8F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D5CB-A428-44A9-AA11-C2039B5619B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65BC-63C7-41C7-AFA5-1C9C1711671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E04D-865F-45A7-993B-D3964F8EDC0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CD0A-B7BB-4D28-BC8D-B310CD193F5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8470-63FC-4A0E-AD93-D22CF591635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D333-A841-4368-BC65-0049DDCE924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71640" y="3033720"/>
            <a:ext cx="6229440" cy="18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Лекция 1. История психологии: 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теоретические основа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РЕТИЙ ПОДХОД В ОПРЕДЕЛЕНИИ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ДМЕТА ИСТОРИИ НАУКИ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Представители третьего подхода в изучении истории психологии акцентируют внимание на ее персонально-личностных аспектах. Во главу угла в качестве главного двигателя научного прогресса и главного предмета рассмотрения выступает </a:t>
            </a: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личность и творческий путь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того или иного ученого, его научные идеи, взгляды, концепции и подходы. Таким образом, история науки, по сути, становится историей деятелей науки (будь то отдельный ученый, или группа ученых, или то или иное их объединение)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34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Обоснование определения предмета истории психологии предполагает описание специфики рассматриваемой предметной области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1. По своей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гносеологической природе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история психологии представляет собой отражение процесса становления и развития психологического познания, т.е. является отражением второго порядка - </a:t>
            </a: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отражением отраженного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Она исследует не саму психическую реальность, а представления о ней, складывающиеся на разных этапах истории и в разных культурных ареалах. Этим обусловлена необходимость четкого разведения объективного (соответствующего действительному ходу развития истории) и субъективного (привнесенного его интерпретациями) взгляда на исследуемые процессы. Более того, именно субъективные представления во всем их многообразии как отражающие разные уровни их "отходов" или "приближений" к исследуемой реальности и составляют непосредственный предмет историко-психологического исследования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3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2. Познание в любой области - глубоко диалектический процесс, включающий преобразование, приращение знания, накопление научной фактологии и углубление ее теоретического осмысления, изменение структуры научного знания и его понятийно-категориального основания и т.д. Отражая реальную диалектику психологического познания, история психологии сама является </a:t>
            </a: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диалектической научной дисциплиной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Причем и здесь, наряду с объективной диалектикой (идущей от самого объекта, его развития), имеют место и субъективные факторы (исторически детерминированные изменения в мировоззрении исследователей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научного познания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). Этим определяется существование разных картин развития психологического знания на разных этапах истории, в рамках разных научных школ и у отдельных ученых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Данное положение усугубляется сложностью выделения точных научных критериев оценки выдвигаемых в области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истории психологии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положений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3. Предметная область истории психологии складывается </a:t>
            </a: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на стыке и пересечении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с рядом научных отраслей. По своему объекту - психическая реальность - история психологии относится к разряду психологических дисциплин, входит в структуру общей психологии. По методу - психолого-историческая реконструкция развития психологического знания - она принадлежит к историческим наукам. Носителем научной фактологии в области истории психологии являются исторические источники и поэтому история психологии тесно связана с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источниковедением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Как область знания, занимающаяся изучением развития научного знания в отдельной отрасли знания, история психологии является разделом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науковедения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Логика исследования и генезис становления психологического знания определяют связь истории психологии с философией, естествознанием,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культурологией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, а также ее опору на данные, полученные в таких разделах психологии, как психология личности, психология творчества, психология развития и историческая психология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3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4. Наконец, учитывая все вышесказанное, есть основание определить историю психологии как объект исследования в качестве системного образования, включающего множество аспектов, иерархическую структуру, сложную, разноуровневую систему детерминант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Для описания сложноорганизованных объектов используется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системная методология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, предполагающая их всестороннее, целостное рассмотрение. С этой точки зрения предметом истории психологии является динамика психологического познания в его целостности, включающая изучение: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1" marL="801000" indent="-280080" algn="just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амого научного знания (его структуры, логико-научных, содержательных аспектов) - логико-научный аспект;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1" marL="801000" indent="-280080" algn="just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роцесса формирования научных идей и представлений в области истории психологии - процессуальный аспект;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1" marL="801000" indent="-280080" algn="just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оциально-культурных и организационных условий и предпосылок психологического познания - социокультурный аспект;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1" marL="801000" indent="-280080" algn="just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носителя, субъекта психологического познания (коллективного и индивидуального) - персонально-личностный аспект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6" name="AutoShape 4"/>
          <p:cNvSpPr/>
          <p:nvPr/>
        </p:nvSpPr>
        <p:spPr>
          <a:xfrm>
            <a:off x="7918560" y="638028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3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3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30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ципы и проблемы историко-психологического ис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Важным элементом </a:t>
            </a: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методологии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любой науки является </a:t>
            </a: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система методологических принципов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, каждый из которых выступает в виде кратко сформулированной теории, не только обобщающей исторический опыт развития данной области знания и отражающей ее основные законы и закономерности, но составляющей исходное требование для дальнейших исследований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История психологии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как одна из базовых отраслей психологии в своих теоретико-методологических основаниях опирается на ряд общефилософских и общепсихологических принципов, которые применительно к историко-психологическим исследованиям приобретают специфическое звучание и формулировку, выступая как частно-психологические принципы истории психологии. Что же это за принципы?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50" name="AutoShape 4"/>
          <p:cNvSpPr/>
          <p:nvPr/>
        </p:nvSpPr>
        <p:spPr>
          <a:xfrm>
            <a:off x="7667640" y="638028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2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20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1. Принцип детерминизма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В соответствии с этим принципом, в основе любого историко-психологического события лежит совокупность явных или неявных причин. Нет ни одного факта в истории психологии, которому бы не предшествовали определенные причины. Любое событие на всем протяжении исторического хода формирования психологической науки является результатом, следствием многообразной череды предшествующих явлений или причин и, в тоже время, выступает как одна из предпосылок последующих событий. При этом следует иметь в виду системный характер этих причинно-следственных зависимостей, что позволяет понимать смену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детерминант развития психологии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в разные хронологические периоды. Задача исследователя, в соответствии с этим принципом, состоит, во-первых, в раскрытии совокупности и иерархической структуры этих причин (внутренних и внешних, прямых и косвенных, непосредственных и опосредованных и т.д.), обусловивших путь к современности, а во-вторых, в установлении закономерной связи между прошлым, настоящим и будущим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2. Принцип единства логического и исторического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в понимании генезиса развития психологического знания, который отражает понимание соотношения внутренних, внутринаучных (влияние традиции, изменение категориально-понятийного аппарата, динамика структуры науки, взаимосвязи и взаимовлияния разных научных дисциплин, появление новых методов исследования и т.д.) и внешних, социокультурных причин (потребности общественной практики, идеолого-политические влияния, воздействие научно-технического прогресса, особенности духовной и интеллектуальной атмосферы в обществе и т.д.) в ходе реального процесса исторического развития психологии. Другими словами, данный принцип фиксирует взаимосвязь теории и истории психологии, что предполагает, с одной стороны, изучение отношения содержательного (т.е. логического) аспекта объекта историко-психологического исследования с анализом процесса его развития (т.е. исторического), а с другой, - выявление связи познания данного объекта с историей человеческого общества в целом и историей научного познания в частности. 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3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3. Принцип системности.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Он предполагает понимание истории развития психологических идей, проблем и направлений как многоуровневого (фундаментальный и прикладной уровни), многокачественного (обыденное, научное, художественно-образное, религиозное знания), многомерного (научное творчество отдельного ученого, научных коллективов и школ, регионального психологического сообщества, сторонников той или иной парадигмы, теории или концептуального подхода) и многообразного по своим проявлениям (донаучное, научное и паранаучное состояния) процесса, обусловленного многовариантной системой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детерминант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при оформлении ведущего, системообразующего фактора в конкретной исторической и социокультурной ситуации. Реализация данного принципа требует изучения истории психологического знания в различных аспектах: "во-первых, в тех исторических конкретных условиях, в которых наука включалась в общественную жизнь, и, во-вторых, в тех логических, теоретических связях, в которых строились психологические знания каждого исторического этапа, с одной стороны, и в том соотношении, в котором они находятся в современной психологической науке, - с другой"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4. Принцип объективности историко-психологического исследования. 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Данный принцип предполагает, что при такой процедуре, как оценка значимости тех или иных идей и результатов творчества, необходимо исходить не только из современного состояния знания, на которое опирается и от которого отталкивается исследователь, но и учитывать то реальное место, которое занимают те или иные рассматриваемые идеи в психологии и культуре своего времени ("героя судят по законам его времени"). Это позволит историку психологии преодолеть собственные предпочтения (научные и личностные) в восприятии развития психологического знания. Таким образом, в соответствии с данным принципом, перед ученым стоит задача в ходе историко-психологического исследования сформировать и выдержать позицию объективного, строго говоря, не предвзятого (ни как человека с его личностными симпатиями и антипатиями, ни как ученого, приверженного тем или иным теориям и концепциям) в отношении конечного результата наблюдателя по отношению к исследуемому объекту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 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Объект и предмет истории психологии. Общие закономерности развития психологических знаний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Специфика предметной области истории психологии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Принципы и проблемы историко-психологического исследования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0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28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4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5. Принцип конструктивно-позитивного анализа.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Принцип объективности непосредственно связан и дополняется принципом конструктивно-позитивного анализа истории психологии, который акцентирует внимание в историко-психологических исследованиях не на ошибках, недостатках и просчетах в развитии психологической мысли какой-либо отстоящей от ученого исторической эпохи, а на выявлении в совокупности историко-психологических фактов, событий, теорий и концепций того позитивного, конструктивного и прогрессивного, что сумела достичь психологическая мысль данного периода; ориентация не на критику несовершенного, а на поиск рационального и перспективного. Однако это не означает отказа от реалистической оценки (включая и ее критические моменты) тех или иных идей, взглядов, подходов. При этом критический анализ из самоцели становится средством научного познания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20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6. Принцип периодизации и преемственности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развития психологического знания, который предполагает наличие качественно различных этапов и периодов (содержательно и логически связанных между собой) в динамике единого и непрерывного процесса научного познания. Руководствуясь данным принципом, историк психологии должен не только выделить ключевые, наиболее значимые вехи и моменты этого процесса, не только описать историческую и логическую специфику выделенных ступеней развития знания, но и показать их эволюционную взаимосвязь и взаимопроникновение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2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7. Принцип единства прошлого, настоящего и будущего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фиксирует понимание роли и целевой функции историко-психологических исследований. Познание истории психологической науки не является только самоцелью с точки зрения собирания и уточнения исторического материала, характеризующего формирование и развитие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психологических знаний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(архивирование фактов), или воссоздания и реконструкции недостающих (неявных) звеньев в единой цепочке развития психологической мысли. Данный принцип ориентирует ученого на прогностическую стратегию исследования, связанную, во-первых, с выявлением перспективных линий, позиций, идей и подходов, сформировавшихся в прошлом, а во-вторых, с их актуализацией в контексте современных достижений психологической науки. Лишь прошлое, рассмотренное в контексте современности, позволяет очертить проблемное поле будущих исследований и тем самым имеет не только чисто познавательный интерес, но и носит установочно-ориентировочный характер для дальнейшего развития психологического знания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05ff6"/>
                </a:solidFill>
                <a:latin typeface="Arial"/>
              </a:rPr>
              <a:t>8. Принцип единства коллективного и индивидуального творчества в развитии психологического знания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предполагает понимание истории психологии как результата деятельности не только отдельных, хотя и выдающихся ученых, но как совокупного усилия всего научного сообщества. Этот принцип ориентирует исследователя на выявление всех предпосылок формирования той или иной идеи, анализ того контекста, который в конечном итоге привел к оформлению в трудах конкретного ученого определенной концепции или теории. Он также предостерегает историка психологии от абсолютизации вклада отдельного ученого или научной школы в формирование совокупного психологического знания. В данном случае имеется в виду понимание историком психологии того факта, что психология, даже в творчестве особенно выдающихся ее представителей, не начинается каждый раз с "чистого листа", а получает лишь свое закономерное развитие. Соответственно и психологическое познание как совокупность идей и теорий, как результат коллективного творчества многих поколений исследователей в работах конкретного ученого получает творческое, порой оригинальное и новаторское, развитие или более четкое концептуальное оформление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2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2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В чем состоит отличие психологического знания от психологического познания?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Какие формы существования психологического знания представлены в современном общественном и индивидуальном сознании?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Укажите основные подходы в определении предмета истории наук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еречислите особенности предметной области истории психологи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Опишите основные методологические принципы истории психологи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Охарактеризуйте самостоятельные методы истории психологии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20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8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2000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ловарь терминов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Метод историко-психологического познания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Методологический принцип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Объект истории психологи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Предмет истории психологи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Психологическое знани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Психологическое познание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581" name="Picture 4" descr="BUTTON16"/>
          <p:cNvPicPr/>
          <p:nvPr/>
        </p:nvPicPr>
        <p:blipFill>
          <a:blip r:embed="rId1"/>
          <a:stretch/>
        </p:blipFill>
        <p:spPr>
          <a:xfrm>
            <a:off x="395280" y="14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BUTTON16"/>
          <p:cNvPicPr/>
          <p:nvPr/>
        </p:nvPicPr>
        <p:blipFill>
          <a:blip r:embed="rId2"/>
          <a:stretch/>
        </p:blipFill>
        <p:spPr>
          <a:xfrm>
            <a:off x="395280" y="299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7" descr="BUTTON16"/>
          <p:cNvPicPr/>
          <p:nvPr/>
        </p:nvPicPr>
        <p:blipFill>
          <a:blip r:embed="rId3"/>
          <a:stretch/>
        </p:blipFill>
        <p:spPr>
          <a:xfrm>
            <a:off x="395280" y="3789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BUTTON16"/>
          <p:cNvPicPr/>
          <p:nvPr/>
        </p:nvPicPr>
        <p:blipFill>
          <a:blip r:embed="rId4"/>
          <a:stretch/>
        </p:blipFill>
        <p:spPr>
          <a:xfrm>
            <a:off x="395280" y="45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9" descr="BUTTON16"/>
          <p:cNvPicPr/>
          <p:nvPr/>
        </p:nvPicPr>
        <p:blipFill>
          <a:blip r:embed="rId5"/>
          <a:stretch/>
        </p:blipFill>
        <p:spPr>
          <a:xfrm>
            <a:off x="395280" y="537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0" descr="BUTTON16"/>
          <p:cNvPicPr/>
          <p:nvPr/>
        </p:nvPicPr>
        <p:blipFill>
          <a:blip r:embed="rId6"/>
          <a:stretch/>
        </p:blipFill>
        <p:spPr>
          <a:xfrm>
            <a:off x="395280" y="2205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8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мы рефератов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равнительный анализ особенностей различных форм психологических знаний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Методологические подходы в определении предмета истории науки: достоинства и недостатк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овышение объективности историко-психологического исследования: пути и способы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Особенности применения метода планирования историко-психологического исследования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Метод проблемологического анализа в изучении динамики психологического познания об индивидуальности человека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озитивные и негативные тенденции современного развития историко-психологических исследований </a:t>
            </a:r>
            <a:br>
              <a:rPr sz="2000"/>
            </a:br>
            <a:br>
              <a:rPr sz="1600"/>
            </a:b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9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0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2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0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4" dur="20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8" dur="20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2" dur="20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6" dur="2000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Hall A.P. Merton revisited or society sourse in the seventeen century.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1968. P. 89-97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Koltsova V. Ideological and scientific discourse in Soviet psycholodical science // Post-Soviet Perspectives on Russian Psychology /edited by V.Koltsova, Y.Oleinik, A. Gilgen, K.Gilgen. 1996.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P. 60-70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Oleinik Y. Russian psychology at present: trends and paradoxes // Post-Soviet Perspectives on Russian Psychology /edited by V.Koltsova, Y.Oleinik, A. Gilgen, K.Gilgen. 1996.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. 53-60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Post-Soviet Perspectives on Russian Psychology / edited by V.Koltsova, Y.Oleinik, A. Gilgen, K.Gilgen. 1996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ольшакова В.В. Очерки истории русской психологии (XIX-начало XX вв.). Нижний Новгород, 1994. 160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Ждан А.Н. История психологии. От античности до наших дней. М., 1990. 367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стория психологии. Период открытого кризиса (начало 10-х - середина 30-х годов XX в.): Тексты. М., 1992. 362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атегории материалистической диалектики в психологии / Под ред. Л.И. Анцыферова. М., 1988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9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2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2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2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20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20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2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20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20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2000" fill="hold"/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2000" fill="hold"/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ойре А. Очерки истории философской мысли. М., 1985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Лакатос И. История науки и ее рациональная реконструкция // Структура и развитие науки. М., 1978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мчур Е.А. Проблемы социокультурной детерминации научного знания. М., 1987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рцинковская Т.Д. Русская ментальность и ее отражение в науках о человеке. М., 1994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рцинковская Т.Д., Ярошевский М.Г. 50 выдающихся психологов мира: Учебное пособие для студентов. М., 1995. 193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икольская А.А. Возрастная и педагогическая психология дореволюционной России. Дубна, 1995. 331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етровский А. Ярошевский М. Г. История психологии: Учебное пособие для высшей школы. М., 1994. 448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истематический ретроспективный указатель (указатель психологической литературы, изданной в СССР за 1987 г.). М., 1990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9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3" dur="2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7" dur="20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1" dur="20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2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9" dur="20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3" dur="2000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7" dur="2000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1" dur="2000"/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колова Е.Ю. 13 диалогов о психологии. М., 1994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Ткаченко А.Н. Категориальный строй психологии как предмет историко-научного исследования // Методология историко-психологического исследования. М., 1974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Эткинд А. Эрос невозможного. История психоанализа в России. СПб., 1993. 463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История психологии (от античности до середины XX в.) М., 1996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Краткий курс истории психологии. М., 1995. 140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Л. Выготский: в поисках новой психологии. СПб, 1993. 300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О категориальном анализе истории психологического познания // Проблемы теории и истории развития психологии. М., 1973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Психология в XX столетии. М., 1974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99" name="AutoShape 4">
            <a:hlinkClick r:id="" action="ppaction://hlinkshowjump?jump=endshow"/>
          </p:cNvPr>
          <p:cNvSpPr/>
          <p:nvPr/>
        </p:nvSpPr>
        <p:spPr>
          <a:xfrm>
            <a:off x="4067280" y="5589720"/>
            <a:ext cx="1225440" cy="647640"/>
          </a:xfrm>
          <a:custGeom>
            <a:avLst/>
            <a:gdLst>
              <a:gd name="textAreaLeft" fmla="*/ 41760 w 1225440"/>
              <a:gd name="textAreaRight" fmla="*/ 1183680 w 1225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0860" h="21600">
                <a:moveTo>
                  <a:pt x="0" y="0"/>
                </a:moveTo>
                <a:lnTo>
                  <a:pt x="40860" y="0"/>
                </a:lnTo>
                <a:lnTo>
                  <a:pt x="40860" y="21600"/>
                </a:lnTo>
                <a:lnTo>
                  <a:pt x="0" y="21600"/>
                </a:lnTo>
                <a:close/>
              </a:path>
              <a:path fill="lightenLess" w="40860" h="21600">
                <a:moveTo>
                  <a:pt x="0" y="0"/>
                </a:moveTo>
                <a:lnTo>
                  <a:pt x="40860" y="0"/>
                </a:lnTo>
                <a:lnTo>
                  <a:pt x="39460" y="1400"/>
                </a:lnTo>
                <a:lnTo>
                  <a:pt x="1400" y="1400"/>
                </a:lnTo>
                <a:close/>
              </a:path>
              <a:path fill="darken" w="40860" h="21600">
                <a:moveTo>
                  <a:pt x="40860" y="0"/>
                </a:moveTo>
                <a:lnTo>
                  <a:pt x="40860" y="21600"/>
                </a:lnTo>
                <a:lnTo>
                  <a:pt x="39460" y="20200"/>
                </a:lnTo>
                <a:lnTo>
                  <a:pt x="39460" y="1400"/>
                </a:lnTo>
                <a:close/>
              </a:path>
              <a:path fill="darkenLess" w="40860" h="21600">
                <a:moveTo>
                  <a:pt x="40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60" y="20200"/>
                </a:lnTo>
                <a:close/>
              </a:path>
              <a:path fill="lighten" w="40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60" h="21600">
                <a:moveTo>
                  <a:pt x="20430" y="3837"/>
                </a:moveTo>
                <a:lnTo>
                  <a:pt x="23006" y="6448"/>
                </a:lnTo>
                <a:lnTo>
                  <a:pt x="23006" y="4707"/>
                </a:lnTo>
                <a:lnTo>
                  <a:pt x="24782" y="4707"/>
                </a:lnTo>
                <a:lnTo>
                  <a:pt x="24782" y="8224"/>
                </a:lnTo>
                <a:lnTo>
                  <a:pt x="27393" y="10800"/>
                </a:lnTo>
                <a:lnTo>
                  <a:pt x="25739" y="10800"/>
                </a:lnTo>
                <a:lnTo>
                  <a:pt x="25739" y="17989"/>
                </a:lnTo>
                <a:lnTo>
                  <a:pt x="15121" y="17989"/>
                </a:lnTo>
                <a:lnTo>
                  <a:pt x="15121" y="10800"/>
                </a:lnTo>
                <a:lnTo>
                  <a:pt x="13467" y="10800"/>
                </a:lnTo>
                <a:close/>
              </a:path>
              <a:path fill="darkenLess" w="40860" h="21600">
                <a:moveTo>
                  <a:pt x="23006" y="6448"/>
                </a:moveTo>
                <a:lnTo>
                  <a:pt x="23006" y="4707"/>
                </a:lnTo>
                <a:lnTo>
                  <a:pt x="24782" y="4707"/>
                </a:lnTo>
                <a:lnTo>
                  <a:pt x="24782" y="8224"/>
                </a:lnTo>
                <a:close/>
              </a:path>
              <a:path fill="darkenLess" w="40860" h="21600">
                <a:moveTo>
                  <a:pt x="19507" y="14299"/>
                </a:moveTo>
                <a:lnTo>
                  <a:pt x="21353" y="14299"/>
                </a:lnTo>
                <a:lnTo>
                  <a:pt x="21353" y="17989"/>
                </a:lnTo>
                <a:lnTo>
                  <a:pt x="25739" y="17989"/>
                </a:lnTo>
                <a:lnTo>
                  <a:pt x="25739" y="10800"/>
                </a:lnTo>
                <a:lnTo>
                  <a:pt x="15121" y="10800"/>
                </a:lnTo>
                <a:lnTo>
                  <a:pt x="15121" y="17989"/>
                </a:lnTo>
                <a:lnTo>
                  <a:pt x="1950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4600" indent="-444600" algn="r">
              <a:buClr>
                <a:srgbClr val="ffffff"/>
              </a:buClr>
              <a:buFont typeface="Arial"/>
              <a:buAutoNum type="arabicPeriod"/>
              <a:tabLst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ЪЕКТ И ПРЕДМЕТ ИСТОРИИ ПСИХОЛОГИИ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ИЕ ЗАКОНОМЕРНОСТИ РАЗВИТИЯ ПСИХОЛОГИЧЕСКИХ ЗНАНИ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Появление психологических знаний по времени сопоставимо с рождением человеческой цивилизации: возникает человеческое сообщество и вместе с ним появляются попытки ответить на извечные, волнующие человека вопросы, касающиеся его возможностей и ограничений во взаимодействии с суровой действительностью, его специфики и места в окружающем мире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Результатом такого рода размышлений является возникновение </a:t>
            </a:r>
            <a:r>
              <a:rPr b="1" i="1" lang="ru-RU" sz="2400" spc="-1" strike="noStrike">
                <a:solidFill>
                  <a:srgbClr val="205ff6"/>
                </a:solidFill>
                <a:latin typeface="Arial"/>
              </a:rPr>
              <a:t>психологического познания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, которое, уходя своими корнями в ранние этапы человеческой истории, сопровождает и все дальнейшее ее развитие, вплоть до настоящего времени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06" name="AutoShape 4"/>
          <p:cNvSpPr/>
          <p:nvPr/>
        </p:nvSpPr>
        <p:spPr>
          <a:xfrm>
            <a:off x="7451640" y="6380280"/>
            <a:ext cx="1225800" cy="477720"/>
          </a:xfrm>
          <a:custGeom>
            <a:avLst/>
            <a:gdLst>
              <a:gd name="textAreaLeft" fmla="*/ 30960 w 1225800"/>
              <a:gd name="textAreaRight" fmla="*/ 1194840 w 122580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99" h="21600">
                <a:moveTo>
                  <a:pt x="0" y="0"/>
                </a:moveTo>
                <a:lnTo>
                  <a:pt x="55399" y="0"/>
                </a:lnTo>
                <a:lnTo>
                  <a:pt x="55399" y="21600"/>
                </a:lnTo>
                <a:lnTo>
                  <a:pt x="0" y="21600"/>
                </a:lnTo>
                <a:close/>
              </a:path>
              <a:path fill="lightenLess" w="55399" h="21600">
                <a:moveTo>
                  <a:pt x="0" y="0"/>
                </a:moveTo>
                <a:lnTo>
                  <a:pt x="55399" y="0"/>
                </a:lnTo>
                <a:lnTo>
                  <a:pt x="53999" y="1400"/>
                </a:lnTo>
                <a:lnTo>
                  <a:pt x="1400" y="1400"/>
                </a:lnTo>
                <a:close/>
              </a:path>
              <a:path fill="darken" w="55399" h="21600">
                <a:moveTo>
                  <a:pt x="55399" y="0"/>
                </a:moveTo>
                <a:lnTo>
                  <a:pt x="55399" y="21600"/>
                </a:lnTo>
                <a:lnTo>
                  <a:pt x="53999" y="20200"/>
                </a:lnTo>
                <a:lnTo>
                  <a:pt x="53999" y="1400"/>
                </a:lnTo>
                <a:close/>
              </a:path>
              <a:path fill="darkenLess" w="55399" h="21600">
                <a:moveTo>
                  <a:pt x="55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99" y="20200"/>
                </a:lnTo>
                <a:close/>
              </a:path>
              <a:path fill="lighten" w="55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99" h="21600">
                <a:moveTo>
                  <a:pt x="20693" y="10800"/>
                </a:moveTo>
                <a:lnTo>
                  <a:pt x="34706" y="3794"/>
                </a:lnTo>
                <a:lnTo>
                  <a:pt x="347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0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404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3"/>
          <p:cNvSpPr/>
          <p:nvPr/>
        </p:nvSpPr>
        <p:spPr>
          <a:xfrm>
            <a:off x="468360" y="1413000"/>
            <a:ext cx="7991280" cy="46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ПСИХОЛОГИЧЕСКОЕ ПОЗНАНИЕ</a:t>
            </a: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бъективно происходящее накопление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смысление знаний люде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 психической реа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ак важной составной части развития жизненного процесса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условия совершенствования взаимодействия человека с миром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 самого человека как субъекта психической реа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3" name="AutoShape 4"/>
          <p:cNvSpPr/>
          <p:nvPr/>
        </p:nvSpPr>
        <p:spPr>
          <a:xfrm>
            <a:off x="7524720" y="587700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4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3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3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5"/>
          <p:cNvSpPr/>
          <p:nvPr/>
        </p:nvSpPr>
        <p:spPr>
          <a:xfrm>
            <a:off x="468360" y="1413000"/>
            <a:ext cx="7991280" cy="46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ПСИХОЛОГИЧЕСКОЕ ЗНАНИЕ</a:t>
            </a: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знание человека о себ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как носителе особых психических свойств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и характеристик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субъекте психической деятельност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7524720" y="587700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0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3"/>
          <p:cNvSpPr/>
          <p:nvPr/>
        </p:nvSpPr>
        <p:spPr>
          <a:xfrm>
            <a:off x="468360" y="1413000"/>
            <a:ext cx="8207280" cy="46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Развитие психологического знания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как результата творческой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познавательной деятельности человека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в его целостности и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в его реальной </a:t>
            </a:r>
            <a:r>
              <a:rPr b="1" i="1" lang="ru-RU" sz="2400" spc="-1" strike="noStrike">
                <a:solidFill>
                  <a:srgbClr val="205ff6"/>
                </a:solidFill>
                <a:latin typeface="Arial"/>
              </a:rPr>
              <a:t>диалектике</a:t>
            </a: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на разных этапах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культурной эволюции человечества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ЪЕКТ ИСТОРИИ ПСИХОЛОГИИ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AutoShape 5"/>
          <p:cNvSpPr/>
          <p:nvPr/>
        </p:nvSpPr>
        <p:spPr>
          <a:xfrm>
            <a:off x="7524720" y="587700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2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0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468360" y="1413000"/>
            <a:ext cx="8207280" cy="46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Попытки осмыслить процесс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психологического познания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описать его содержание и структуру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(совокупность взглядов, идей, подходов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направлений и течений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категорий и понятий)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его институциональные 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персонально-личностные аспекты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а также закономерности и этапы развития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ЕДМЕТ ИСТОРИИ ПСИХОЛОГ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AutoShape 6"/>
          <p:cNvSpPr/>
          <p:nvPr/>
        </p:nvSpPr>
        <p:spPr>
          <a:xfrm>
            <a:off x="7524720" y="587700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8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Развитие </a:t>
            </a: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психологического знания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осуществляется объективно, с непреложной необходимостью в силу его реальной функции в жизнедеятельности человека, в его эволюционном становлении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Знание о психике, следуя за развивающейся жизнью человека и отражая все новые и усложняющиеся стороны его взаимодействия с миром, включается само в это взаимодействие как важный фактор его регуляции, обеспечивая не только адаптивные, приспособительные, но и преобразующе-действенные, активные формы поведения.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Развитие психологического знания происходит в виде различных взаимосвязанных форм (уровней):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265320" algn="just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"житейские" представления людей о психике, возникающие в их реальной жизненной практике, в разных ее сферах (материальной, производственной деятельности, в бытовой области, в воспитательно-обучающем процессе, в искусстве и т.д.) и основывающиеся на непосредственном отражении разных аспектов бытия и философии "здравого смысла"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lvl="1" marL="179280" indent="265320" algn="just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сихологические знания, вычленяющиеся в рамках мифологии и религии как исторически первых форм познания мира и человека и отражающие канонические требования указанных видов культурного творчества человечества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lvl="1" marL="179280" indent="265320" algn="just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сихологические знания, накопленные в рамках художественно-образного наблюдения за окружающей действительностью в работах художников, архитекторов, писателей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lvl="1" marL="179280" indent="265320" algn="just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сихологические знания, возникающие на определенном этапе развития общества в связи с выделением нового способа реконструкции действительности - науки - и включающие целенаправленный процесс сбора и анализа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психологической фактологии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, логические формы ее объяснения и доказательства, переход от описательной стратегии и методов исследования к объяснительной, т.е. - </a:t>
            </a:r>
            <a:r>
              <a:rPr b="1" i="1" lang="ru-RU" sz="1600" spc="-1" strike="noStrike">
                <a:solidFill>
                  <a:srgbClr val="205ff6"/>
                </a:solidFill>
                <a:latin typeface="Arial"/>
              </a:rPr>
              <a:t>научного знания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. В свою очередь, научные психологические знания, зародившиеся впервые в античном мире, сами проходят длительный путь эволюции - от существования в лоне других наук (философии, истории, естествознания) и до выделения и дальнейшего их развития в рамках самостоятельной научной дисциплины (вторая половина XIX в.).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30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30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30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4"/>
          <p:cNvSpPr/>
          <p:nvPr/>
        </p:nvSpPr>
        <p:spPr>
          <a:xfrm>
            <a:off x="2916360" y="1557360"/>
            <a:ext cx="3744720" cy="115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ИСТОРИЯ ПСИХОЛОГИ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2195640" y="3429000"/>
            <a:ext cx="216036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ОБЪЕКТ</a:t>
            </a:r>
            <a:r>
              <a:rPr b="0" i="1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5003640" y="4365720"/>
            <a:ext cx="2087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ПРЕДМЕТ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8" name="AutoShape 11"/>
          <p:cNvSpPr/>
          <p:nvPr/>
        </p:nvSpPr>
        <p:spPr>
          <a:xfrm>
            <a:off x="250920" y="1989000"/>
            <a:ext cx="2233440" cy="2519640"/>
          </a:xfrm>
          <a:custGeom>
            <a:avLst/>
            <a:gdLst>
              <a:gd name="textAreaLeft" fmla="*/ 299160 w 2233440"/>
              <a:gd name="textAreaRight" fmla="*/ 1934280 w 223344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9" name="AutoShape 12"/>
          <p:cNvSpPr/>
          <p:nvPr/>
        </p:nvSpPr>
        <p:spPr>
          <a:xfrm>
            <a:off x="6877080" y="1916280"/>
            <a:ext cx="2016000" cy="3817800"/>
          </a:xfrm>
          <a:custGeom>
            <a:avLst/>
            <a:gdLst>
              <a:gd name="textAreaLeft" fmla="*/ 270000 w 2016000"/>
              <a:gd name="textAreaRight" fmla="*/ 1746000 w 2016000"/>
              <a:gd name="textAreaTop" fmla="*/ 668160 h 3817800"/>
              <a:gd name="textAreaBottom" fmla="*/ 2768040 h 38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0" name="AutoShape 16"/>
          <p:cNvSpPr/>
          <p:nvPr/>
        </p:nvSpPr>
        <p:spPr>
          <a:xfrm>
            <a:off x="7667640" y="638028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2. СПЕЦИФИКА ПРЕДМЕТНОЙ ОБЛАСТИ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СТОРИИ ПСИХОЛОГИИ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ложность и многоаспектность психологического познания как объекта исследования, а также непосредственная связь его осмысления с развитием общенаучных взглядов о человеке и психологических идей, с методологическими и идейными влияниями обусловливают соответственно различные определения предмета истории психологии. В их основе - выделенные и акцентируемые теми или иными авторами стороны или аспекты единого объекта историко-психологического анализа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Недостаточная отрефлексированность методологических проблем в истории психологии с одной стороны, и ее принадлежность к науковедческим дисциплинам - с другой, объясняют необходимость и возможность при рассмотрении данного вопроса выходить за рамки собственно истории психологии в область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науковедения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В итоге в наиболее общем виде представляется возможным выделить три основных подхода в определении предмета истории науки (в том числе психологии)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4" name="AutoShape 4"/>
          <p:cNvSpPr/>
          <p:nvPr/>
        </p:nvSpPr>
        <p:spPr>
          <a:xfrm>
            <a:off x="7596360" y="638028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ВЫЙ ПОДХОД В ОПРЕДЕЛЕНИИ ПРЕДМЕТА ИСТОРИИ НАУКИ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Первый подход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в основу изучения кладет результат психологического познания, его внутреннее содержание - собственно </a:t>
            </a: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психологическое знание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(его строение, структуру, логико-содержательные аспекты, внутрилогические механизмы развития знания), рассматривая его как самодостаточное и существующее относительно самостоятельно, вне связи с другими сторонами познавательного процесса (социально-культурными и личностными опосредованиями)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Такой подход, акцентирующий внимание в основном на внутренней, логической стороне познания и отвечающий на вопрос "каково содержание знания", может быть назван </a:t>
            </a: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логико-научным, или интернальным, подходом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в истории науки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ТОРОЙ ПОДХОД В ОПРЕДЕЛЕНИИ ПРЕДМЕТА ИСТОРИИ НАУК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(В ТОМ ЧИСЛЕ ПСИХОЛОГИИ).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кцент на внешней истории развития </a:t>
            </a: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научного знания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и попытка вывести из нее и описать на ее основе внутринаучные закономерности порождает второй подход в понимании предмета истории науки - </a:t>
            </a:r>
            <a:r>
              <a:rPr b="1" i="1" lang="ru-RU" sz="1800" spc="-1" strike="noStrike">
                <a:solidFill>
                  <a:srgbClr val="205ff6"/>
                </a:solidFill>
                <a:latin typeface="Arial"/>
              </a:rPr>
              <a:t>экстернальный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. На этой основе возникает специальная область науковедения - социальная история науки. История науки рассматривается здесь в социальном контексте, в ее зависимости и связи с развитием организационных и социальных условий и предпосылок. Продуктивность указанного подхода состоит в том, что он выявляет значимые факторы </a:t>
            </a: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детерминации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научного знания, отвечая на вопрос "почему наука в определенных социально-исторических и культурных условиях приобретает конкретно-исторические формы". С одной стороны, это отражает одну из существенных характеристик науки - ее социальную природу как компонента общественной структуры и как результата совокупных коллективных усилий, с другой стороны, возникают вопросы относительно уровня детерминационных возможностей, степени и глубины социального воздействия на развитие психологического знания (его направления, структуру, содержание исследуемых проблем)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4:09:22Z</dcterms:created>
  <dc:creator>1</dc:creator>
  <dc:description/>
  <dc:language>en-US</dc:language>
  <cp:lastModifiedBy>LEGION</cp:lastModifiedBy>
  <dcterms:modified xsi:type="dcterms:W3CDTF">2014-11-12T08:17:56Z</dcterms:modified>
  <cp:revision>297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