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7124-BD38-4A21-A6AA-B51CEEB325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1. История психолог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е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8631-0DEF-40DD-A784-ABBC2EDBD99B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ТИЙ ПОДХОД В ОПРЕДЕЛЕНИ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А ИСТОРИИ НАУ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третьего подхода в изучении истории психологии акцентируют внимание на ее персонально-личностных аспектах. Во главу угла в качестве главного двигателя научного прогресса и главного предмета рассмотрения выступа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чность и творчески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го или иного ученого, его научные идеи, взгляды, концепции и подходы. Таким образом, история науки, по сути, становится историей деятелей науки (будь то отдельный ученый, или группа ученых, или то или иное их объединени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EC96-0D07-4712-8B8A-24E39096B04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определения предмета истории психологии предполагает описание специфики рассматриваемой предметн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сво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носеологической природ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психологии представляет собой отражение процесса становления и развития психологического познания, т.е. является отражением второго порядка 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ражением отраже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на исследует не саму психическую реальность, а представления о ней, складывающиеся на разных этапах истории и в разных культурных ареалах. Этим обусловлена необходимость четкого разведения объективного (соответствующего действительному ходу развития истории) и субъективного (привнесенного его интерпретациями) взгляда на исследуемые процессы. Более того, именно субъективные представления во всем их многообразии как отражающие разные уровни их "отходов" или "приближений" к исследуемой реальности и составляют непосредственный предмет историко-психологического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94D8-F32C-4CED-B28F-75DA4009BA1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знание в любой области - глубоко диалектический процесс, включающий преобразование, приращение знания, накопление научной фактологии и углубление ее теоретического осмысления, изменение структуры научного знания и его понятийно-категориального основания и т.д. Отражая реальную диалектику психологического познания, история психологии сама явля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иалектической научной дисципли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ричем и здесь, наряду с объективной диалектикой (идущей от самого объекта, его развития), имеют место и субъективные факторы (исторически детерминированные изменения в мировоззрении исследовател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го по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Этим определяется существование разных картин развития психологического знания на разных этапах истории, в рамках разных научных школ и у отдельных уче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ое положение усугубляется сложностью выделения точных научных критериев оценки выдвигаемых в област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и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F2E3-2DA4-4228-B52E-DE129602A13E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едметная область истории психологии склад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стыке и пересече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рядом научных отраслей. По своему объекту - психическая реальность - история психологии относится к разряду психологических дисциплин, входит в структуру общей психологии. По методу - психолого-историческая реконструкция развития психологического знания - она принадлежит к историческим наукам. Носителем научной фактологии в области истории психологии являются исторические источники и поэтому история психологии тесно связана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овед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ак область знания, занимающаяся изучением развития научного знания в отдельной отрасли знания, история психологии является раздел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Логика исследования и генезис становления психологического знания определяют связь истории психологии с философией, естествознанием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олог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ее опору на данные, полученные в таких разделах психологии, как психология личности, психология творчества, психология развития и историческая псих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B9CA-0E18-4D88-964A-44B0B73B163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Наконец, учитывая все вышесказанное, есть основание определить историю психологии как объект исследования в качестве системного образования, включающего множество аспектов, иерархическую структуру, сложную, разноуровневую систему детерминан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описания сложноорганизованных объектов используетс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стемная методолог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редполагающая их всестороннее, целостное рассмотрение. С этой точки зрения предметом истории психологии является динамика психологического познания в его целостности, включающая изучен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го научного знания (его структуры, логико-научных, содержательных аспектов) - логико-науч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а формирования научных идей и представлений в области истории психологии - процессуаль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циально-культурных и организационных условий и предпосылок психологического познания - социокультур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сителя, субъекта психологического познания (коллективного и индивидуального) - персонально-личностный аспек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C330-600B-4D4C-9F92-50A5C6C5E9A9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нципы и проблемы историко-психологического исслед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элемен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юбой науки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методологических принци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ждый из которых выступает в виде кратко сформулированной теории, не только обобщающей исторический опыт развития данной области знания и отражающей ее основные законы и закономерности, но составляющей исходное требование для дальнейши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одна из базовых отраслей психологии в своих теоретико-методологических основаниях опирается на ряд общефилософских и общепсихологических принципов, которые применительно к историко-психологическим исследованиям приобретают специфическое звучание и формулировку, выступая как частно-психологические принципы истории психологии. Что же это за принци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FE5D-FC61-4DC1-9D5B-69AECDC2A01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Принцип детерминиз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соответствии с этим принципом, в основе любого историко-психологического события лежит совокупность явных или неявных причин. Нет ни одного факта в истории психологии, которому бы не предшествовали определенные причины. Любое событие на всем протяжении исторического хода формирования психологической науки является результатом, следствием многообразной череды предшествующих явлений или причин и, в тоже время, выступает как одна из предпосылок последующих событий. При этом следует иметь в виду системный характер этих причинно-следственных зависимостей, что позволяет понимать смен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нт развития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разные хронологические периоды. Задача исследователя, в соответствии с этим принципом, состоит, во-первых, в раскрытии совокупности и иерархической структуры этих причин (внутренних и внешних, прямых и косвенных, непосредственных и опосредованных и т.д.), обусловивших путь к современности, а во-вторых, в установлении закономерной связи между прошлым, настоящим и будущ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987A-B269-4031-BFBC-498DB75C0D3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Принцип единства логического и историческ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онимании генезиса развития психологического знания, который отражает понимание соотношения внутренних, внутринаучных (влияние традиции, изменение категориально-понятийного аппарата, динамика структуры науки, взаимосвязи и взаимовлияния разных научных дисциплин, появление новых методов исследования и т.д.) и внешних, социокультурных причин (потребности общественной практики, идеолого-политические влияния, воздействие научно-технического прогресса, особенности духовной и интеллектуальной атмосферы в обществе и т.д.) в ходе реального процесса исторического развития психологии. Другими словами, данный принцип фиксирует взаимосвязь теории и истории психологии, что предполагает, с одной стороны, изучение отношения содержательного (т.е. логического) аспекта объекта историко-психологического исследования с анализом процесса его развития (т.е. исторического), а с другой, - выявление связи познания данного объекта с историей человеческого общества в целом и историей научного познания в частност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F9B6-52F0-48FC-9C76-631BA9EAA3A0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Принцип систем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н предполагает понимание истории развития психологических идей, проблем и направлений как многоуровневого (фундаментальный и прикладной уровни), многокачественного (обыденное, научное, художественно-образное, религиозное знания), многомерного (научное творчество отдельного ученого, научных коллективов и школ, регионального психологического сообщества, сторонников той или иной парадигмы, теории или концептуального подхода) и многообразного по своим проявлениям (донаучное, научное и паранаучное состояния) процесса, обусловленного многовариантной систем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оформлении ведущего, системообразующего фактора в конкретной исторической и социокультурной ситуации. Реализация данного принципа требует изучения истории психологического знания в различных аспектах: "во-первых, в тех исторических конкретных условиях, в которых наука включалась в общественную жизнь, и, во-вторых, в тех логических, теоретических связях, в которых строились психологические знания каждого исторического этапа, с одной стороны, и в том соотношении, в котором они находятся в современной психологической науке, - с другой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E2B0-0DCE-484A-9DFF-81E202BEA2F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Принцип объективности историко-психологического исследования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предполагает, что при такой процедуре, как оценка значимости тех или иных идей и результатов творчества, необходимо исходить не только из современного состояния знания, на которое опирается и от которого отталкивается исследователь, но и учитывать то реальное место, которое занимают те или иные рассматриваемые идеи в психологии и культуре своего времени ("героя судят по законам его времени"). Это позволит историку психологии преодолеть собственные предпочтения (научные и личностные) в восприятии развития психологического знания. Таким образом, в соответствии с данным принципом, перед ученым стоит задача в ходе историко-психологического исследования сформировать и выдержать позицию объективного, строго говоря, не предвзятого (ни как человека с его личностными симпатиями и антипатиями, ни как ученого, приверженного тем или иным теориям и концепциям) в отношении конечного результата наблюдателя по отношению к исследуемому объек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2FCC-CA04-4483-92B7-FC24F02EEEC8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ЛАН 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 предмет истории психологии. Общие закономерности развития психологических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предметной области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и проблемы историко-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CE15-915F-49D1-997B-8037F4C53B3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Принцип конструктивно-позитивного анализ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нцип объективности непосредственно связан и дополняется принципом конструктивно-позитивного анализа истории психологии, который акцентирует внимание в историко-психологических исследованиях не на ошибках, недостатках и просчетах в развитии психологической мысли какой-либо отстоящей от ученого исторической эпохи, а на выявлении в совокупности историко-психологических фактов, событий, теорий и концепций того позитивного, конструктивного и прогрессивного, что сумела достичь психологическая мысль данного периода; ориентация не на критику несовершенного, а на поиск рационального и перспективного. Однако это не означает отказа от реалистической оценки (включая и ее критические моменты) тех или иных идей, взглядов, подходов. При этом критический анализ из самоцели становится средством научного п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E41C-2916-4D4B-9C25-4CA6377BCDA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Принцип периодизации и преемстве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вития психологического знания, который предполагает наличие качественно различных этапов и периодов (содержательно и логически связанных между собой) в динамике единого и непрерывного процесса научного познания. Руководствуясь данным принципом, историк психологии должен не только выделить ключевые, наиболее значимые вехи и моменты этого процесса, не только описать историческую и логическую специфику выделенных ступеней развития знания, но и показать их эволюционную взаимосвязь и взаимопроникнов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10BE-3FBD-4563-AA1F-63DCB2FED73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Принцип единства прошлого, настоящего и будущ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иксирует понимание роли и целевой функции историко-психологических исследований. Познание истории психологической науки не является только самоцелью с точки зрения собирания и уточнения исторического материала, характеризующего формирование и разви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х зн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рхивирование фактов), или воссоздания и реконструкции недостающих (неявных) звеньев в единой цепочке развития психологической мысли. Данный принцип ориентирует ученого на прогностическую стратегию исследования, связанную, во-первых, с выявлением перспективных линий, позиций, идей и подходов, сформировавшихся в прошлом, а во-вторых, с их актуализацией в контексте современных достижений психологической науки. Лишь прошлое, рассмотренное в контексте современности, позволяет очертить проблемное поле будущих исследований и тем самым имеет не только чисто познавательный интерес, но и носит установочно-ориентировочный характер для дальнейшего развития психологического 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A1C4-3932-40AE-9E0E-115EC00F1DC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8. Принцип единства коллективного и индивидуального творчества в развитии психологическ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полагает понимание истории психологии как результата деятельности не только отдельных, хотя и выдающихся ученых, но как совокупного усилия всего научного сообщества. Этот принцип ориентирует исследователя на выявление всех предпосылок формирования той или иной идеи, анализ того контекста, который в конечном итоге привел к оформлению в трудах конкретного ученого определенной концепции или теории. Он также предостерегает историка психологии от абсолютизации вклада отдельного ученого или научной школы в формирование совокупного психологического знания. В данном случае имеется в виду понимание историком психологии того факта, что психология, даже в творчестве особенно выдающихся ее представителей, не начинается каждый раз с "чистого листа", а получает лишь свое закономерное развитие. Соответственно и психологическое познание как совокупность идей и теорий, как результат коллективного творчества многих поколений исследователей в работах конкретного ученого получает творческое, порой оригинальное и новаторское, развитие или более четкое концептуальное оформ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B768-A3F1-45C8-84EC-3034EC0C3618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остоит отличие психологического знания от психологического позн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формы существования психологического знания представлены в современном общественном и индивидуальном созна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 основные подходы в определении предмета истории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особенности предметной области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шите основные методологические принципы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арактеризуйте самостоятельные методы истории психологии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086D-B0EE-4AE2-ADEE-3F763734C70B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оварь термин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историко-психологического п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й принци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зн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познание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CEF6-E453-48AE-B68F-DA2D1605AF5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ы рефера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анализ особенностей различных форм психологически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е подходы в определении предмета истории науки: достоинства и недостат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объективности историко-психологического исследования: пути и спосо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применения метода планирования историко-психологического иссле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облемологического анализа в изучении динамики психологического познания об индивидуальности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 и негативные тенденции современного развития историко-психологических исследований </a:t>
            </a: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4E28-0A78-401C-8433-5D82C5968476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l A.P. Merton revisited or society sourse in the seventeen century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. P. 89-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ltsova V. Ideological and scientific discourse in Soviet psycholodical science // Post-Soviet Perspectives on Russian Psychology /edited by V.Koltsova, Y.Oleinik, A. Gilgen, K.Gilgen. 1996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. 60-7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einik Y. Russian psychology at present: trends and paradoxes // Post-Soviet Perspectives on Russian Psychology /edited by V.Koltsova, Y.Oleinik, A. Gilgen, K.Gilgen. 1996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. 53-6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-Soviet Perspectives on Russian Psychology / edited by V.Koltsova, Y.Oleinik, A. Gilgen, K.Gilgen. 199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кова В.В. Очерки истории русской психологии (XIX-начало XX вв.). Нижний Новгород, 1994. 160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дан А.Н. История психологии. От античности до наших дней. М., 1990. 367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сихологии. Период открытого кризиса (начало 10-х - середина 30-х годов XX в.): Тексты. М., 1992. 362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материалистической диалектики в психологии / Под ред. Л.И. Анцыферова. М., 198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2398-C32C-4C83-A05D-A8A50AD8592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йре А. Очерки истории философской мысли. М., 198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катос И. История науки и ее рациональная реконструкция // Структура и развитие науки. М., 197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мчур Е.А. Проблемы социокультурной детерминации научного знания. М., 198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цинковская Т.Д. Русская ментальность и ее отражение в науках о человеке. М., 199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цинковская Т.Д., Ярошевский М.Г. 50 выдающихся психологов мира: Учебное пособие для студентов. М., 1995. 193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ьская А.А. Возрастная и педагогическая психология дореволюционной России. Дубна, 1995. 331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овский А. Ярошевский М. Г. История психологии: Учебное пособие для высшей школы. М., 1994. 448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ческий ретроспективный указатель (указатель психологической литературы, изданной в СССР за 1987 г.). М., 199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DAC9-7A00-4ABC-B900-AFD7C36F5221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4600" indent="-4446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ЪЕКТ И ПРЕДМЕТ ИСТОРИИ ПСИХОЛОГИИ.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ЩИЕ ЗАКОНОМЕРНОСТИ РАЗВИТИЯ ПСИХОЛОГИЧЕСКИХ ЗНАНИЙ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психологических знаний по времени сопоставимо с рождением человеческой цивилизации: возникает человеческое сообщество и вместе с ним появляются попытки ответить на извечные, волнующие человека вопросы, касающиеся его возможностей и ограничений во взаимодействии с суровой действительностью, его специфики и места в окружающе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ом такого рода размышлений является возникнове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по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е, уходя своими корнями в ранние этапы человеческой истории, сопровождает и все дальнейшее ее развитие, вплоть до настоящего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DAA3-811F-4DFB-A910-2BA22B446C40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уществляется объективно, с непреложной необходимостью в силу его реальной функции в жизнедеятельности человека, в его эволюционном становл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о психике, следуя за развивающейся жизнью человека и отражая все новые и усложняющиеся стороны его взаимодействия с миром, включается само в это взаимодействие как важный фактор его регуляции, обеспечивая не только адаптивные, приспособительные, но и преобразующе-действенные, активные формы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сихологического знания происходит в виде различных взаимосвязанных форм (уровней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819D-BF1C-41A8-8BDC-8FF92B7322E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"житейские" представления людей о психике, возникающие в их реальной жизненной практике, в разных ее сферах (материальной, производственной деятельности, в бытовой области, в воспитательно-обучающем процессе, в искусстве и т.д.) и основывающиеся на непосредственном отражении разных аспектов бытия и философии "здравого смысла"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вычленяющиеся в рамках мифологии и религии как исторически первых форм познания мира и человека и отражающие канонические требования указанных видов культурного творчества человечеств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накопленные в рамках художественно-образного наблюдения за окружающей действительностью в работах художников, архитекторов, писателей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возникающие на определенном этапе развития общества в связи с выделением нового способа реконструкции действительности - науки - и включающие целенаправленный процесс сбора и анализ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сихологической фактолог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логические формы ее объяснения и доказательства, переход от описательной стратегии и методов исследования к объяснительной, т.е. -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учного зна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В свою очередь, научные психологические знания, зародившиеся впервые в античном мире, сами проходят длительный путь эволюции - от существования в лоне других наук (философии, истории, естествознания) и до выделения и дальнейшего их развития в рамках самостоятельной научной дисциплины (вторая половина XIX в.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5AFF-37A2-48B2-8B6D-7BA8164042E6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9047-1455-4165-89A4-492E6AD5418B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СПЕЦИФИКА ПРЕДМЕТНОЙ ОБЛАСТ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ТОРИИ ПСИХОЛОГИИ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838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и многоаспектность психологического познания как объекта исследования, а также непосредственная связь его осмысления с развитием общенаучных взглядов о человеке и психологических идей, с методологическими и идейными влияниями обусловливают соответственно различные определения предмета истории психологии. В их основе - выделенные и акцентируемые теми или иными авторами стороны или аспекты единого объекта историко-психолог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отрефлексированность методологических проблем в истории психологии с одной стороны, и ее принадлежность к науковедческим дисциплинам - с другой, объясняют необходимость и возможность при рассмотрении данного вопроса выходить за рамки собственно истории психологии в обла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тоге в наиболее общем виде представляется возможным выделить три основных подхода в определении предмета истории науки (в том числе психолог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B9D4-876A-444D-A180-5B66D957D742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Й ПОДХОД В ОПРЕДЕЛЕНИИ ПРЕДМЕТА ИСТОРИИ НАУК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снову изучения кладет результат психологического познания, его внутреннее содержание - собствен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е зн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о строение, структуру, логико-содержательные аспекты, внутрилогические механизмы развития знания), рассматривая его как самодостаточное и существующее относительно самостоятельно, вне связи с другими сторонами познавательного процесса (социально-культурными и личностными опосредования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подход, акцентирующий внимание в основном на внутренней, логической стороне познания и отвечающий на вопрос "каково содержание знания", может быть назван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огико-научным, или интернальным, подход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истории на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D007-D93D-4D62-A2D2-245C60ADADC0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ТОРОЙ ПОДХОД В ОПРЕДЕЛЕНИИ ПРЕДМЕТА ИСТОРИИ НАУ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В ТОМ ЧИСЛЕ ПСИХОЛОГИИ)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на внешней истории развит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опытка вывести из нее и описать на ее основе внутринаучные закономерности порождает второй подход в понимании предмета истории науки 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стерналь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На этой основе возникает специальная область науковедения - социальная история науки. История науки рассматривается здесь в социальном контексте, в ее зависимости и связи с развитием организационных и социальных условий и предпосылок. Продуктивность указанного подхода состоит в том, что он выявляет значимые фактор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учного знания, отвечая на вопрос "почему наука в определенных социально-исторических и культурных условиях приобретает конкретно-исторические формы". С одной стороны, это отражает одну из существенных характеристик науки - ее социальную природу как компонента общественной структуры и как результата совокупных коллективных усилий, с другой стороны, возникают вопросы относительно уровня детерминационных возможностей, степени и глубины социального воздействия на развитие психологического знания (его направления, структуру, содержание исследуемых пробле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B4F3-47B9-479E-9060-BE663F68F3A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66B4-E809-4080-9860-37375663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4FE2-E6EA-4DD2-9A20-5B8A7995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F8555-DB50-413D-BA3E-04819A0B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747A7-1E5E-409F-9575-EE9636AA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C18A0-09C2-42A7-8C6C-691178CC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35EEF-7E8C-4A6A-AA35-CABC3A2D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32CDE-5DC2-421C-876F-52590EF9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76FDD-B6F7-4DEB-BE70-8BED8C38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AA91C-E110-4E66-B288-513460DC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913E9-5F86-462E-A3EA-D3A6FA1A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44EB5-2CC4-4995-A982-3C81749F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D2624-F3A5-4A9F-88E2-1630A679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66F-8AA1-40C6-AA5F-C73AE0B5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27F72-AC11-41DF-8772-EEBDB42D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08B53-0047-416D-B9A3-BDF0171A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E7083-AC5A-49E6-985F-D9E2412C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BAAE0-39FB-48BE-9037-33EA9CE5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03B94-415F-4F17-B606-CFDA1D95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D4A2C-4A09-453E-BF2A-D306F5D3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4DE1E-A7AA-442C-AB57-185F4C42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2CF6C-0CA5-4097-817B-3C186767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DCBAB-1E30-4384-9CAD-A7C918AF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9689A-CB7B-4925-B844-0EDAB2FD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24A-5AD4-4212-9F44-8EE5E943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30501-A84E-465B-B92D-DB8BA111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0BC0A-2C3C-42D7-8CFD-2924A501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23B31-435A-4C86-BBA2-F4AE4F4A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5E542-B44F-439D-A328-2EB721AA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30D54-3A1C-4182-B745-1C1FC44A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11FF4-0A13-4CF4-82ED-8D2F1AA4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B9702-2BB3-48AA-85C5-5B268832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60660-24AB-4FB3-BA44-23E99B44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5210D-C03F-410C-A3C7-7BEADD9D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72501-3419-4A0B-A5D6-79854FA4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9CED0-680D-407B-B9B1-971982C1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AF3ED-D281-471D-96C1-2DC1B51C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7519C-B8A8-459D-8F1B-33C9F38E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DFB4B-DDBA-4E01-A837-6BF7D3E2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CACAC-31AC-4329-BD56-3B2C6144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98014-64C5-4BA1-A3B1-7F993F68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BEC90-E18D-4CAD-9026-7286D69E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BD51C-A1FA-40B3-A2B4-F49CBDC4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6C8DD-60C9-4C18-9904-C0962FBE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F5C96-6142-458D-AD22-C15F6065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20884-D152-48FE-AAA8-59BD69E4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D9227-577C-4128-806E-5C9AB9B7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15357-9FA1-4596-B672-E2125845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20CB8-AFE3-4F57-ADE6-E9182366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53DB6-AE50-49CB-872F-1EEE9658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19AC0-B873-44AD-99E7-A5934D08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9A763-696D-4C17-B1AA-6F74BC42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3FF3B-611B-4387-8E5A-707E912E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93CAC-0410-4BE4-A83C-7898C728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F5F99-43E6-4937-85F7-0FD6BFF0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F8913-715B-4C95-9A83-556AFE78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7DFE3-147B-4E79-863A-406CF4C9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F155-3DC8-4887-B867-E18B70DE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1C49D-C8BB-4CEF-B408-43ED204C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9EB0F-F728-41E0-A3B6-FFDD9020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1B52C-C2E6-4E61-803D-DDDBF6F4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32217-9FA1-4153-BC5F-4E4CDD01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61133-95FC-4D73-AA32-2E1F5F27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53F6F-1CBC-499B-84C2-73833105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01A0-2B62-4963-8D36-9749D8F1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DE375-CA20-495E-8081-97A4F408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95733-41D6-44B0-B4AB-6011607D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FA72E-B340-4AD8-95EB-89B073E8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6C58-C644-49CB-80D2-FCEACBA8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6AFF4-84DA-44D0-9348-4B1ED08B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FB2ED-CCEF-49EB-89A8-C8138A00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C339D-3E96-4D4E-91F4-CB525316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2647A-1F34-4DC6-96F3-010B29B8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E2A35-5040-4D85-8C3C-C6609C09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B72CB-1D10-4490-BB7A-9528929E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28665-23D1-4FFC-A481-582F2C04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088A3-40C0-4E95-812F-AFF99C50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13B4E-53D1-43C8-94F6-4C6D15AD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3FB7F-24F9-4461-A9D3-7E135F45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A6B-9CB7-4731-93F8-39824423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17910-70A5-415E-B5B5-CF188801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3E331-34B0-4986-95B3-6E9E43EF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F7919-5CB7-4B13-9372-B87259DA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F508C-6208-49CF-8230-D5E4F3ED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759BD-BE53-4660-96BD-66396FE8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FCEFA-22FA-4948-8C0D-4682A88D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25547-CD04-4503-B296-2FBACB41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D0F30-E08B-435B-906C-41C6C848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DE33E-F31A-4E5C-8BAA-AABE280D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2EC04-B393-455F-9383-B5FA4EDF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925-E0DA-4E9B-B7F6-9041A02E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CF2AE-CF12-4AF9-B411-B4305EED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F317A-DE33-4592-BDB5-1852E869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524AE-55FF-4617-9E82-2E08A867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52EE3-4DDF-4AA8-B201-E2F7E971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AE982-79CF-47A6-AB81-07C4A0D7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8436D-3C9F-4D61-B4CC-4D85F54C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742C2-34DB-4698-9D69-90EBDD7C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C1319-8561-4A1F-97ED-3988B050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DC7DF-F9D0-4265-8976-062C3262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7EDD8-0880-4E9D-9A3F-6BB9AC3E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B5D-58C4-4467-8C48-B6080C50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169D6-5CD8-4BA7-A6D5-E0D7EEA3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4F149-5B72-4D18-B006-D2861C93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86315-AE93-4DBD-975B-D61D9B24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A5DED-22A4-46D3-9460-C5C8503B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3091C-D0E4-413E-99C1-674844FA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75895-3388-43EA-9596-10E4C5B7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DFC66-B8B8-48E7-A56C-7E6FFA4B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828B5-915B-4196-8DC9-590001A4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37945-C92E-46FC-AA15-63021484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57EC5-48E2-4B4E-8967-A492F5C3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4714-EAE3-412F-B84C-EFCAA86B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46EDE-54B1-4EF4-AA0E-5D5DCA35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A43BE-A393-4CE7-8E52-FED8F0EE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D51AA-5693-4050-AECA-C95643C3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B6011-C373-4EB7-B6E7-42D90718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88EDF-D479-4808-A1D4-AF9038CC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600AD-A471-4248-AB15-0AD099E9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2BED0-5445-4D66-A4A1-F89A3406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E610D-4471-44BD-8ED1-34B23E1C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C0DC3-42B3-4E5C-83C5-3BBF758F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DE117-FF11-4FBC-B196-8E2EAA72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393C-11F3-43B1-B8C1-A2FEE10F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04308-66FC-4C6D-AF32-59D45B84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80923-CC5C-40A9-B702-53120E5B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CD35C-9DB2-44F6-B25C-1936085F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9AA33-3ECD-4740-84BD-6F5BFCD2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B60F7-E018-4174-9BF4-970D034B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29F72-13EB-4C0E-8D2C-B3B1B9BE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9A5D6-3E0D-472B-921B-68A763B6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FF2A0-1D50-4DB1-8901-0C5B4C53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CD7A2-DD2C-4014-9BFA-9B62DAE5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5B9AE-B481-476D-889D-A9609D2A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CC7-4915-4A60-8D51-0D547717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DC7D8-4934-4502-925F-A2CCBEBC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DFDEC-6A24-45F5-A63E-0C52A93C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8C4CB-DD7A-4D38-BB2B-2C250CFD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573A2-4E7A-4231-B72B-7E1C808A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15C7D-5EF9-4BF0-A61D-118469EB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0F35B-BD28-40B9-AC2F-A8D8BD9C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4BAA6-CE21-42BB-8780-9E3E53F8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C6A77-6B21-448A-8517-C34F55AC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00361-0564-4263-A8C7-D214F2B4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1C665-A0CD-4A7B-AC55-15B594F4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02B8-B7F1-40A6-8030-2B200482691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E59D-8CCF-43AA-8CC2-15C6DD35160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42A8-1A78-4996-B43B-8160A9C750E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6776-881D-44C6-99B9-6C109F69BC2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C743-4B29-4514-862C-12C6BDB1971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EFFD-5172-4400-AC14-4A4C844B014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0F61-F91C-4A69-B59A-6EB5B484983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0081-5897-4401-ADCE-78FCAFD141F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62EA-7F90-4C72-B674-738982A3676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C070-D7EC-42B7-A380-942AD2EB550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D81C-A0C6-47C0-8514-6C563D5EF38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BEDD-45E6-4D52-A95F-B73CC3445D5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71640" y="3033720"/>
            <a:ext cx="6229440" cy="18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Лекция 1. История психологии: 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еоретические осн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РЕТИЙ ПОДХОД В ОПРЕДЕЛЕНИИ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ДМЕТА ИСТОРИИ НАУК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Представители третьего подхода в изучении истории психологии акцентируют внимание на ее персонально-личностных аспектах. Во главу угла в качестве главного двигателя научного прогресса и главного предмета рассмотрения выступает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личность и творческий путь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того или иного ученого, его научные идеи, взгляды, концепции и подходы. Таким образом, история науки, по сути, становится историей деятелей науки (будь то отдельный ученый, или группа ученых, или то или иное их объединение)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боснование определения предмета истории психологии предполагает описание специфики рассматриваемой предметной области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1. По свое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гносеологической природе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история психологии представляет собой отражение процесса становления и развития психологического познания, т.е. является отражением второго порядка -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отражением отраженно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Она исследует не саму психическую реальность, а представления о ней, складывающиеся на разных этапах истории и в разных культурных ареалах. Этим обусловлена необходимость четкого разведения объективного (соответствующего действительному ходу развития истории) и субъективного (привнесенного его интерпретациями) взгляда на исследуемые процессы. Более того, именно субъективные представления во всем их многообразии как отражающие разные уровни их "отходов" или "приближений" к исследуемой реальности и составляют непосредственный предмет историко-психологического исследования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2. Познание в любой области - глубоко диалектический процесс, включающий преобразование, приращение знания, накопление научной фактологии и углубление ее теоретического осмысления, изменение структуры научного знания и его понятийно-категориального основания и т.д. Отражая реальную диалектику психологического познания, история психологии сама является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диалектической научной дисциплино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Причем и здесь, наряду с объективной диалектикой (идущей от самого объекта, его развития), имеют место и субъективные факторы (исторически детерминированные изменения в мировоззрении исследователе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чного позна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). Этим определяется существование разных картин развития психологического знания на разных этапах истории, в рамках разных научных школ и у отдельных ученых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анное положение усугубляется сложностью выделения точных научных критериев оценки выдвигаемых в области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истории психолог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положений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3. Предметная область истории психологии складывается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на стыке и пересечен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с рядом научных отраслей. По своему объекту - психическая реальность - история психологии относится к разряду психологических дисциплин, входит в структуру общей психологии. По методу - психолого-историческая реконструкция развития психологического знания - она принадлежит к историческим наукам. Носителем научной фактологии в области истории психологии являются исторические источники и поэтому история психологии тесно связана с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источниковедением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Как область знания, занимающаяся изучением развития научного знания в отдельной отрасли знания, история психологии является разделом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коведе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Логика исследования и генезис становления психологического знания определяют связь истории психологии с философией, естествознанием,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культурологие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, а также ее опору на данные, полученные в таких разделах психологии, как психология личности, психология творчества, психология развития и историческая психология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3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4. Наконец, учитывая все вышесказанное, есть основание определить историю психологии как объект исследования в качестве системного образования, включающего множество аспектов, иерархическую структуру, сложную, разноуровневую систему детерминант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ля описания сложноорганизованных объектов используется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системная методолог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, предполагающая их всестороннее, целостное рассмотрение. С этой точки зрения предметом истории психологии является динамика психологического познания в его целостности, включающая изучение: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амого научного знания (его структуры, логико-научных, содержательных аспектов) - логико-науч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роцесса формирования научных идей и представлений в области истории психологии - процессуаль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оциально-культурных и организационных условий и предпосылок психологического познания - социокультур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носителя, субъекта психологического познания (коллективного и индивидуального) - персонально-личностный аспект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791856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3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ы и проблемы историко-психологического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Важным элементом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методологи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любой науки является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система методологических принципов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, каждый из которых выступает в виде кратко сформулированной теории, не только обобщающей исторический опыт развития данной области знания и отражающей ее основные законы и закономерности, но составляющей исходное требование для дальнейших исследований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История психологи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как одна из базовых отраслей психологии в своих теоретико-методологических основаниях опирается на ряд общефилософских и общепсихологических принципов, которые применительно к историко-психологическим исследованиям приобретают специфическое звучание и формулировку, выступая как частно-психологические принципы истории психологии. Что же это за принципы?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0" name="AutoShape 4"/>
          <p:cNvSpPr/>
          <p:nvPr/>
        </p:nvSpPr>
        <p:spPr>
          <a:xfrm>
            <a:off x="766764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2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20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1. Принцип детерминизма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В соответствии с этим принципом, в основе любого историко-психологического события лежит совокупность явных или неявных причин. Нет ни одного факта в истории психологии, которому бы не предшествовали определенные причины. Любое событие на всем протяжении исторического хода формирования психологической науки является результатом, следствием многообразной череды предшествующих явлений или причин и, в тоже время, выступает как одна из предпосылок последующих событий. При этом следует иметь в виду системный характер этих причинно-следственных зависимостей, что позволяет понимать смену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детерминант развития психолог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в разные хронологические периоды. Задача исследователя, в соответствии с этим принципом, состоит, во-первых, в раскрытии совокупности и иерархической структуры этих причин (внутренних и внешних, прямых и косвенных, непосредственных и опосредованных и т.д.), обусловивших путь к современности, а во-вторых, в установлении закономерной связи между прошлым, настоящим и будущим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2. Принцип единства логического и историческо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в понимании генезиса развития психологического знания, который отражает понимание соотношения внутренних, внутринаучных (влияние традиции, изменение категориально-понятийного аппарата, динамика структуры науки, взаимосвязи и взаимовлияния разных научных дисциплин, появление новых методов исследования и т.д.) и внешних, социокультурных причин (потребности общественной практики, идеолого-политические влияния, воздействие научно-технического прогресса, особенности духовной и интеллектуальной атмосферы в обществе и т.д.) в ходе реального процесса исторического развития психологии. Другими словами, данный принцип фиксирует взаимосвязь теории и истории психологии, что предполагает, с одной стороны, изучение отношения содержательного (т.е. логического) аспекта объекта историко-психологического исследования с анализом процесса его развития (т.е. исторического), а с другой, - выявление связи познания данного объекта с историей человеческого общества в целом и историей научного познания в частности. 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3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3. Принцип системности.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Он предполагает понимание истории развития психологических идей, проблем и направлений как многоуровневого (фундаментальный и прикладной уровни), многокачественного (обыденное, научное, художественно-образное, религиозное знания), многомерного (научное творчество отдельного ученого, научных коллективов и школ, регионального психологического сообщества, сторонников той или иной парадигмы, теории или концептуального подхода) и многообразного по своим проявлениям (донаучное, научное и паранаучное состояния) процесса, обусловленного многовариантной системо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детерминант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при оформлении ведущего, системообразующего фактора в конкретной исторической и социокультурной ситуации. Реализация данного принципа требует изучения истории психологического знания в различных аспектах: "во-первых, в тех исторических конкретных условиях, в которых наука включалась в общественную жизнь, и, во-вторых, в тех логических, теоретических связях, в которых строились психологические знания каждого исторического этапа, с одной стороны, и в том соотношении, в котором они находятся в современной психологической науке, - с другой"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4. Принцип объективности историко-психологического исследования. 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анный принцип предполагает, что при такой процедуре, как оценка значимости тех или иных идей и результатов творчества, необходимо исходить не только из современного состояния знания, на которое опирается и от которого отталкивается исследователь, но и учитывать то реальное место, которое занимают те или иные рассматриваемые идеи в психологии и культуре своего времени ("героя судят по законам его времени"). Это позволит историку психологии преодолеть собственные предпочтения (научные и личностные) в восприятии развития психологического знания. Таким образом, в соответствии с данным принципом, перед ученым стоит задача в ходе историко-психологического исследования сформировать и выдержать позицию объективного, строго говоря, не предвзятого (ни как человека с его личностными симпатиями и антипатиями, ни как ученого, приверженного тем или иным теориям и концепциям) в отношении конечного результата наблюдателя по отношению к исследуемому объекту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Объект и предмет истории психологии. Общие закономерности развития психологических знаний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Специфика предметной области истории психологии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Принципы и проблемы историко-психологического исследовани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4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5. Принцип конструктивно-позитивного анализа.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Принцип объективности непосредственно связан и дополняется принципом конструктивно-позитивного анализа истории психологии, который акцентирует внимание в историко-психологических исследованиях не на ошибках, недостатках и просчетах в развитии психологической мысли какой-либо отстоящей от ученого исторической эпохи, а на выявлении в совокупности историко-психологических фактов, событий, теорий и концепций того позитивного, конструктивного и прогрессивного, что сумела достичь психологическая мысль данного периода; ориентация не на критику несовершенного, а на поиск рационального и перспективного. Однако это не означает отказа от реалистической оценки (включая и ее критические моменты) тех или иных идей, взглядов, подходов. При этом критический анализ из самоцели становится средством научного познания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2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6. Принцип периодизации и преемственност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развития психологического знания, который предполагает наличие качественно различных этапов и периодов (содержательно и логически связанных между собой) в динамике единого и непрерывного процесса научного познания. Руководствуясь данным принципом, историк психологии должен не только выделить ключевые, наиболее значимые вехи и моменты этого процесса, не только описать историческую и логическую специфику выделенных ступеней развития знания, но и показать их эволюционную взаимосвязь и взаимопроникновение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2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7. Принцип единства прошлого, настоящего и будуще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фиксирует понимание роли и целевой функции историко-психологических исследований. Познание истории психологической науки не является только самоцелью с точки зрения собирания и уточнения исторического материала, характеризующего формирование и развитие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психологических знани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(архивирование фактов), или воссоздания и реконструкции недостающих (неявных) звеньев в единой цепочке развития психологической мысли. Данный принцип ориентирует ученого на прогностическую стратегию исследования, связанную, во-первых, с выявлением перспективных линий, позиций, идей и подходов, сформировавшихся в прошлом, а во-вторых, с их актуализацией в контексте современных достижений психологической науки. Лишь прошлое, рассмотренное в контексте современности, позволяет очертить проблемное поле будущих исследований и тем самым имеет не только чисто познавательный интерес, но и носит установочно-ориентировочный характер для дальнейшего развития психологического знания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05ff6"/>
                </a:solidFill>
                <a:latin typeface="Arial"/>
              </a:rPr>
              <a:t>8. Принцип единства коллективного и индивидуального творчества в развитии психологического знания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предполагает понимание истории психологии как результата деятельности не только отдельных, хотя и выдающихся ученых, но как совокупного усилия всего научного сообщества. Этот принцип ориентирует исследователя на выявление всех предпосылок формирования той или иной идеи, анализ того контекста, который в конечном итоге привел к оформлению в трудах конкретного ученого определенной концепции или теории. Он также предостерегает историка психологии от абсолютизации вклада отдельного ученого или научной школы в формирование совокупного психологического знания. В данном случае имеется в виду понимание историком психологии того факта, что психология, даже в творчестве особенно выдающихся ее представителей, не начинается каждый раз с "чистого листа", а получает лишь свое закономерное развитие. Соответственно и психологическое познание как совокупность идей и теорий, как результат коллективного творчества многих поколений исследователей в работах конкретного ученого получает творческое, порой оригинальное и новаторское, развитие или более четкое концептуальное оформление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2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2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В чем состоит отличие психологического знания от психологического познания?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Какие формы существования психологического знания представлены в современном общественном и индивидуальном сознании?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Укажите основные подходы в определении предмета истории наук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еречислите особенности предметной области истории психологи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пишите основные методологические принципы истории психологи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характеризуйте самостоятельные методы истории психологии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2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2000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ловарь терминов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Метод историко-психологического познани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Методологический принцип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Объект истории психолог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редмет истории психолог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сихологическое знан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сихологическое позна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581" name="Picture 4" descr="BUTTON16"/>
          <p:cNvPicPr/>
          <p:nvPr/>
        </p:nvPicPr>
        <p:blipFill>
          <a:blip r:embed="rId1"/>
          <a:stretch/>
        </p:blipFill>
        <p:spPr>
          <a:xfrm>
            <a:off x="395280" y="14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UTTON16"/>
          <p:cNvPicPr/>
          <p:nvPr/>
        </p:nvPicPr>
        <p:blipFill>
          <a:blip r:embed="rId2"/>
          <a:stretch/>
        </p:blipFill>
        <p:spPr>
          <a:xfrm>
            <a:off x="39528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BUTTON16"/>
          <p:cNvPicPr/>
          <p:nvPr/>
        </p:nvPicPr>
        <p:blipFill>
          <a:blip r:embed="rId3"/>
          <a:stretch/>
        </p:blipFill>
        <p:spPr>
          <a:xfrm>
            <a:off x="395280" y="3789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BUTTON16"/>
          <p:cNvPicPr/>
          <p:nvPr/>
        </p:nvPicPr>
        <p:blipFill>
          <a:blip r:embed="rId4"/>
          <a:stretch/>
        </p:blipFill>
        <p:spPr>
          <a:xfrm>
            <a:off x="395280" y="45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9" descr="BUTTON16"/>
          <p:cNvPicPr/>
          <p:nvPr/>
        </p:nvPicPr>
        <p:blipFill>
          <a:blip r:embed="rId5"/>
          <a:stretch/>
        </p:blipFill>
        <p:spPr>
          <a:xfrm>
            <a:off x="395280" y="537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0" descr="BUTTON16"/>
          <p:cNvPicPr/>
          <p:nvPr/>
        </p:nvPicPr>
        <p:blipFill>
          <a:blip r:embed="rId6"/>
          <a:stretch/>
        </p:blipFill>
        <p:spPr>
          <a:xfrm>
            <a:off x="395280" y="2205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8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мы рефератов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равнительный анализ особенностей различных форм психологических знаний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Методологические подходы в определении предмета истории науки: достоинства и недостатк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овышение объективности историко-психологического исследования: пути и способы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собенности применения метода планирования историко-психологического исследования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Метод проблемологического анализа в изучении динамики психологического познания об индивидуальности человека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озитивные и негативные тенденции современного развития историко-психологических исследований </a:t>
            </a:r>
            <a:br>
              <a:rPr sz="2000"/>
            </a:br>
            <a:br>
              <a:rPr sz="1600"/>
            </a:b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1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2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3" dur="2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20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1" dur="20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5" dur="20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Hall A.P. Merton revisited or society sourse in the seventeen century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1968. P. 89-97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Koltsova V. Ideological and scientific discourse in Soviet psycholodical science // Post-Soviet Perspectives on Russian Psychology /edited by V.Koltsova, Y.Oleinik, A. Gilgen, K.Gilgen. 1996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P. 60-7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Oleinik Y. Russian psychology at present: trends and paradoxes // Post-Soviet Perspectives on Russian Psychology /edited by V.Koltsova, Y.Oleinik, A. Gilgen, K.Gilgen. 1996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. 53-6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Post-Soviet Perspectives on Russian Psychology / edited by V.Koltsova, Y.Oleinik, A. Gilgen, K.Gilgen. 1996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ольшакова В.В. Очерки истории русской психологии (XIX-начало XX вв.). Нижний Новгород, 1994. 16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Ждан А.Н. История психологии. От античности до наших дней. М., 1990. 367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стория психологии. Период открытого кризиса (начало 10-х - середина 30-х годов XX в.): Тексты. М., 1992. 362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атегории материалистической диалектики в психологии / Под ред. Л.И. Анцыферова. М., 1988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2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йре А. Очерки истории философской мысли. М., 1985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Лакатос И. История науки и ее рациональная реконструкция // Структура и развитие науки. М., 1978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мчур Е.А. Проблемы социокультурной детерминации научного знания. М., 1987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рцинковская Т.Д. Русская ментальность и ее отражение в науках о человеке. М., 199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рцинковская Т.Д., Ярошевский М.Г. 50 выдающихся психологов мира: Учебное пособие для студентов. М., 1995. 193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икольская А.А. Возрастная и педагогическая психология дореволюционной России. Дубна, 1995. 331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етровский А. Ярошевский М. Г. История психологии: Учебное пособие для высшей школы. М., 1994. 448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истематический ретроспективный указатель (указатель психологической литературы, изданной в СССР за 1987 г.). М., 199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2" dur="2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6" dur="2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20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2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8" dur="20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2" dur="2000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6" dur="2000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0" dur="2000"/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колова Е.Ю. 13 диалогов о психологии. М., 199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каченко А.Н. Категориальный строй психологии как предмет историко-научного исследования // Методология историко-психологического исследования. М., 197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Эткинд А. Эрос невозможного. История психоанализа в России. СПб., 1993. 463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История психологии (от античности до середины XX в.) М., 1996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Краткий курс истории психологии. М., 1995. 14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Л. Выготский: в поисках новой психологии. СПб, 1993. 30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О категориальном анализе истории психологического познания // Проблемы теории и истории развития психологии. М., 1973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Психология в XX столетии. М., 197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9" name="AutoShape 4">
            <a:hlinkClick r:id="" action="ppaction://hlinkshowjump?jump=endshow"/>
          </p:cNvPr>
          <p:cNvSpPr/>
          <p:nvPr/>
        </p:nvSpPr>
        <p:spPr>
          <a:xfrm>
            <a:off x="4067280" y="5589720"/>
            <a:ext cx="1225440" cy="647640"/>
          </a:xfrm>
          <a:custGeom>
            <a:avLst/>
            <a:gdLst>
              <a:gd name="textAreaLeft" fmla="*/ 41760 w 1225440"/>
              <a:gd name="textAreaRight" fmla="*/ 1183680 w 1225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0860" h="21600">
                <a:moveTo>
                  <a:pt x="0" y="0"/>
                </a:moveTo>
                <a:lnTo>
                  <a:pt x="40860" y="0"/>
                </a:lnTo>
                <a:lnTo>
                  <a:pt x="40860" y="21600"/>
                </a:lnTo>
                <a:lnTo>
                  <a:pt x="0" y="21600"/>
                </a:lnTo>
                <a:close/>
              </a:path>
              <a:path fill="lightenLess" w="40860" h="21600">
                <a:moveTo>
                  <a:pt x="0" y="0"/>
                </a:moveTo>
                <a:lnTo>
                  <a:pt x="40860" y="0"/>
                </a:lnTo>
                <a:lnTo>
                  <a:pt x="39460" y="1400"/>
                </a:lnTo>
                <a:lnTo>
                  <a:pt x="1400" y="1400"/>
                </a:lnTo>
                <a:close/>
              </a:path>
              <a:path fill="darken" w="40860" h="21600">
                <a:moveTo>
                  <a:pt x="40860" y="0"/>
                </a:moveTo>
                <a:lnTo>
                  <a:pt x="40860" y="21600"/>
                </a:lnTo>
                <a:lnTo>
                  <a:pt x="39460" y="20200"/>
                </a:lnTo>
                <a:lnTo>
                  <a:pt x="39460" y="1400"/>
                </a:lnTo>
                <a:close/>
              </a:path>
              <a:path fill="darkenLess" w="40860" h="21600">
                <a:moveTo>
                  <a:pt x="40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60" y="20200"/>
                </a:lnTo>
                <a:close/>
              </a:path>
              <a:path fill="lighten" w="40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60" h="21600">
                <a:moveTo>
                  <a:pt x="20430" y="3837"/>
                </a:moveTo>
                <a:lnTo>
                  <a:pt x="23006" y="6448"/>
                </a:lnTo>
                <a:lnTo>
                  <a:pt x="23006" y="4707"/>
                </a:lnTo>
                <a:lnTo>
                  <a:pt x="24782" y="4707"/>
                </a:lnTo>
                <a:lnTo>
                  <a:pt x="24782" y="8224"/>
                </a:lnTo>
                <a:lnTo>
                  <a:pt x="27393" y="10800"/>
                </a:lnTo>
                <a:lnTo>
                  <a:pt x="25739" y="10800"/>
                </a:lnTo>
                <a:lnTo>
                  <a:pt x="25739" y="17989"/>
                </a:lnTo>
                <a:lnTo>
                  <a:pt x="15121" y="17989"/>
                </a:lnTo>
                <a:lnTo>
                  <a:pt x="15121" y="10800"/>
                </a:lnTo>
                <a:lnTo>
                  <a:pt x="13467" y="10800"/>
                </a:lnTo>
                <a:close/>
              </a:path>
              <a:path fill="darkenLess" w="40860" h="21600">
                <a:moveTo>
                  <a:pt x="23006" y="6448"/>
                </a:moveTo>
                <a:lnTo>
                  <a:pt x="23006" y="4707"/>
                </a:lnTo>
                <a:lnTo>
                  <a:pt x="24782" y="4707"/>
                </a:lnTo>
                <a:lnTo>
                  <a:pt x="24782" y="8224"/>
                </a:lnTo>
                <a:close/>
              </a:path>
              <a:path fill="darkenLess" w="40860" h="21600">
                <a:moveTo>
                  <a:pt x="19507" y="14299"/>
                </a:moveTo>
                <a:lnTo>
                  <a:pt x="21353" y="14299"/>
                </a:lnTo>
                <a:lnTo>
                  <a:pt x="21353" y="17989"/>
                </a:lnTo>
                <a:lnTo>
                  <a:pt x="25739" y="17989"/>
                </a:lnTo>
                <a:lnTo>
                  <a:pt x="25739" y="10800"/>
                </a:lnTo>
                <a:lnTo>
                  <a:pt x="15121" y="10800"/>
                </a:lnTo>
                <a:lnTo>
                  <a:pt x="15121" y="17989"/>
                </a:lnTo>
                <a:lnTo>
                  <a:pt x="1950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4600" indent="-444600" algn="r">
              <a:buClr>
                <a:srgbClr val="ffffff"/>
              </a:buClr>
              <a:buFont typeface="Arial"/>
              <a:buAutoNum type="arabicPeriod"/>
              <a:tabLst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 И ПРЕДМЕТ ИСТОРИИ ПСИХОЛОГИИ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Е ЗАКОНОМЕРНОСТИ РАЗВИТИЯ ПСИХОЛОГИЧЕСКИХ ЗНАНИ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Появление психологических знаний по времени сопоставимо с рождением человеческой цивилизации: возникает человеческое сообщество и вместе с ним появляются попытки ответить на извечные, волнующие человека вопросы, касающиеся его возможностей и ограничений во взаимодействии с суровой действительностью, его специфики и места в окружающем мире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езультатом такого рода размышлений является возникновение </a:t>
            </a: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психологического познания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, которое, уходя своими корнями в ранние этапы человеческой истории, сопровождает и все дальнейшее ее развитие, вплоть до настоящего времен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6" name="AutoShape 4"/>
          <p:cNvSpPr/>
          <p:nvPr/>
        </p:nvSpPr>
        <p:spPr>
          <a:xfrm>
            <a:off x="7451640" y="6380280"/>
            <a:ext cx="1225800" cy="477720"/>
          </a:xfrm>
          <a:custGeom>
            <a:avLst/>
            <a:gdLst>
              <a:gd name="textAreaLeft" fmla="*/ 30960 w 1225800"/>
              <a:gd name="textAreaRight" fmla="*/ 1194840 w 122580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99" h="21600">
                <a:moveTo>
                  <a:pt x="0" y="0"/>
                </a:moveTo>
                <a:lnTo>
                  <a:pt x="55399" y="0"/>
                </a:lnTo>
                <a:lnTo>
                  <a:pt x="55399" y="21600"/>
                </a:lnTo>
                <a:lnTo>
                  <a:pt x="0" y="21600"/>
                </a:lnTo>
                <a:close/>
              </a:path>
              <a:path fill="lightenLess" w="55399" h="21600">
                <a:moveTo>
                  <a:pt x="0" y="0"/>
                </a:moveTo>
                <a:lnTo>
                  <a:pt x="55399" y="0"/>
                </a:lnTo>
                <a:lnTo>
                  <a:pt x="53999" y="1400"/>
                </a:lnTo>
                <a:lnTo>
                  <a:pt x="1400" y="1400"/>
                </a:lnTo>
                <a:close/>
              </a:path>
              <a:path fill="darken" w="55399" h="21600">
                <a:moveTo>
                  <a:pt x="55399" y="0"/>
                </a:moveTo>
                <a:lnTo>
                  <a:pt x="55399" y="21600"/>
                </a:lnTo>
                <a:lnTo>
                  <a:pt x="53999" y="20200"/>
                </a:lnTo>
                <a:lnTo>
                  <a:pt x="53999" y="1400"/>
                </a:lnTo>
                <a:close/>
              </a:path>
              <a:path fill="darkenLess" w="55399" h="21600">
                <a:moveTo>
                  <a:pt x="55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99" y="20200"/>
                </a:lnTo>
                <a:close/>
              </a:path>
              <a:path fill="lighten" w="55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99" h="21600">
                <a:moveTo>
                  <a:pt x="20693" y="10800"/>
                </a:moveTo>
                <a:lnTo>
                  <a:pt x="34706" y="3794"/>
                </a:lnTo>
                <a:lnTo>
                  <a:pt x="347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404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3"/>
          <p:cNvSpPr/>
          <p:nvPr/>
        </p:nvSpPr>
        <p:spPr>
          <a:xfrm>
            <a:off x="468360" y="1413000"/>
            <a:ext cx="7991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ПСИХОЛОГИЧЕСКОЕ ПОЗНАНИЕ</a:t>
            </a: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бъективно происходящее накопление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смысление знаний люде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 психической реа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ак важной составной части развития жизненного процесса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условия совершенствования взаимодействия человека с миро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 самого человека как субъекта психической реа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0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3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468360" y="1413000"/>
            <a:ext cx="7991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ПСИХОЛОГИЧЕСКОЕ ЗНАНИЕ</a:t>
            </a: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знание человека о себ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как носителе особых психических свойств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и характеристик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субъекте психической деятельност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3"/>
          <p:cNvSpPr/>
          <p:nvPr/>
        </p:nvSpPr>
        <p:spPr>
          <a:xfrm>
            <a:off x="468360" y="1413000"/>
            <a:ext cx="8207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Развитие психологического знани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ак результата творческой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ознавательной деятельности человека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в его целостности и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в его реальной </a:t>
            </a: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диалектике</a:t>
            </a: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на разных этапах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ультурной эволюции человечества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 ИСТОРИИ ПСИХОЛОГИ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AutoShape 5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468360" y="1413000"/>
            <a:ext cx="8207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опытки осмыслить процесс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сихологического познания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описать его содержание и структуру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(совокупность взглядов, идей, подходов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направлений и течений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атегорий и понятий)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его институциональные 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ерсонально-личностные аспекты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а также закономерности и этапы развития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ДМЕТ ИСТОРИИ ПСИХОЛО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0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8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азвитие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психологического знания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осуществляется объективно, с непреложной необходимостью в силу его реальной функции в жизнедеятельности человека, в его эволюционном становлени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Знание о психике, следуя за развивающейся жизнью человека и отражая все новые и усложняющиеся стороны его взаимодействия с миром, включается само в это взаимодействие как важный фактор его регуляции, обеспечивая не только адаптивные, приспособительные, но и преобразующе-действенные, активные формы поведения.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азвитие психологического знания происходит в виде различных взаимосвязанных форм (уровней):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"житейские" представления людей о психике, возникающие в их реальной жизненной практике, в разных ее сферах (материальной, производственной деятельности, в бытовой области, в воспитательно-обучающем процессе, в искусстве и т.д.) и основывающиеся на непосредственном отражении разных аспектов бытия и философии "здравого смысла"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вычленяющиеся в рамках мифологии и религии как исторически первых форм познания мира и человека и отражающие канонические требования указанных видов культурного творчества человечества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накопленные в рамках художественно-образного наблюдения за окружающей действительностью в работах художников, архитекторов, писателей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возникающие на определенном этапе развития общества в связи с выделением нового способа реконструкции действительности - науки - и включающие целенаправленный процесс сбора и анализа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психологической фактологии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, логические формы ее объяснения и доказательства, переход от описательной стратегии и методов исследования к объяснительной, т.е. - </a:t>
            </a:r>
            <a:r>
              <a:rPr b="1" i="1" lang="ru-RU" sz="1600" spc="-1" strike="noStrike">
                <a:solidFill>
                  <a:srgbClr val="205ff6"/>
                </a:solidFill>
                <a:latin typeface="Arial"/>
              </a:rPr>
              <a:t>научного знания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. В свою очередь, научные психологические знания, зародившиеся впервые в античном мире, сами проходят длительный путь эволюции - от существования в лоне других наук (философии, истории, естествознания) и до выделения и дальнейшего их развития в рамках самостоятельной научной дисциплины (вторая половина XIX в.)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3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3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3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4"/>
          <p:cNvSpPr/>
          <p:nvPr/>
        </p:nvSpPr>
        <p:spPr>
          <a:xfrm>
            <a:off x="2916360" y="1557360"/>
            <a:ext cx="374472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ИСТОРИЯ ПСИХОЛОГИ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2195640" y="3429000"/>
            <a:ext cx="216036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ОБЪЕКТ</a:t>
            </a:r>
            <a:r>
              <a:rPr b="0" i="1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5003640" y="4365720"/>
            <a:ext cx="2087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ПРЕДМЕТ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8" name="AutoShape 11"/>
          <p:cNvSpPr/>
          <p:nvPr/>
        </p:nvSpPr>
        <p:spPr>
          <a:xfrm>
            <a:off x="250920" y="1989000"/>
            <a:ext cx="2233440" cy="2519640"/>
          </a:xfrm>
          <a:custGeom>
            <a:avLst/>
            <a:gdLst>
              <a:gd name="textAreaLeft" fmla="*/ 299160 w 2233440"/>
              <a:gd name="textAreaRight" fmla="*/ 1934280 w 223344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9" name="AutoShape 12"/>
          <p:cNvSpPr/>
          <p:nvPr/>
        </p:nvSpPr>
        <p:spPr>
          <a:xfrm>
            <a:off x="6877080" y="1916280"/>
            <a:ext cx="2016000" cy="381780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668160 h 3817800"/>
              <a:gd name="textAreaBottom" fmla="*/ 2768040 h 38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0" name="AutoShape 16"/>
          <p:cNvSpPr/>
          <p:nvPr/>
        </p:nvSpPr>
        <p:spPr>
          <a:xfrm>
            <a:off x="766764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2. СПЕЦИФИКА ПРЕДМЕТНОЙ ОБЛАСТИ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СТОРИИ ПСИХОЛОГИИ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ложность и многоаспектность психологического познания как объекта исследования, а также непосредственная связь его осмысления с развитием общенаучных взглядов о человеке и психологических идей, с методологическими и идейными влияниями обусловливают соответственно различные определения предмета истории психологии. В их основе - выделенные и акцентируемые теми или иными авторами стороны или аспекты единого объекта историко-психологического анализа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Недостаточная отрефлексированность методологических проблем в истории психологии с одной стороны, и ее принадлежность к науковедческим дисциплинам - с другой, объясняют необходимость и возможность при рассмотрении данного вопроса выходить за рамки собственно истории психологии в область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коведе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В итоге в наиболее общем виде представляется возможным выделить три основных подхода в определении предмета истории науки (в том числе психологии)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759636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ВЫЙ ПОДХОД В ОПРЕДЕЛЕНИИ ПРЕДМЕТА ИСТОРИИ НАУКИ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Первый подход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в основу изучения кладет результат психологического познания, его внутреннее содержание - собственно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психологическое знание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(его строение, структуру, логико-содержательные аспекты, внутрилогические механизмы развития знания), рассматривая его как самодостаточное и существующее относительно самостоятельно, вне связи с другими сторонами познавательного процесса (социально-культурными и личностными опосредованиями)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Такой подход, акцентирующий внимание в основном на внутренней, логической стороне познания и отвечающий на вопрос "каково содержание знания", может быть назван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логико-научным, или интернальным, подходом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в истории наук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ТОРОЙ ПОДХОД В ОПРЕДЕЛЕНИИ ПРЕДМЕТА ИСТОРИИ НАУК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В ТОМ ЧИСЛЕ ПСИХОЛОГИИ).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кцент на внешней истории развития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научного знания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и попытка вывести из нее и описать на ее основе внутринаучные закономерности порождает второй подход в понимании предмета истории науки - </a:t>
            </a:r>
            <a:r>
              <a:rPr b="1" i="1" lang="ru-RU" sz="1800" spc="-1" strike="noStrike">
                <a:solidFill>
                  <a:srgbClr val="205ff6"/>
                </a:solidFill>
                <a:latin typeface="Arial"/>
              </a:rPr>
              <a:t>экстернальный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 На этой основе возникает специальная область науковедения - социальная история науки. История науки рассматривается здесь в социальном контексте, в ее зависимости и связи с развитием организационных и социальных условий и предпосылок. Продуктивность указанного подхода состоит в том, что он выявляет значимые факторы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детерминации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научного знания, отвечая на вопрос "почему наука в определенных социально-исторических и культурных условиях приобретает конкретно-исторические формы". С одной стороны, это отражает одну из существенных характеристик науки - ее социальную природу как компонента общественной структуры и как результата совокупных коллективных усилий, с другой стороны, возникают вопросы относительно уровня детерминационных возможностей, степени и глубины социального воздействия на развитие психологического знания (его направления, структуру, содержание исследуемых проблем)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4:09:22Z</dcterms:created>
  <dc:creator>1</dc:creator>
  <dc:description/>
  <dc:language>en-US</dc:language>
  <cp:lastModifiedBy>LEGION</cp:lastModifiedBy>
  <dcterms:modified xsi:type="dcterms:W3CDTF">2014-11-12T08:17:56Z</dcterms:modified>
  <cp:revision>297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