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52D-3C47-4CB9-8F27-010301792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исследовательский университет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ая Школ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 - Крылова Дина Владими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Межрегионального Обще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а «Деловая перспекти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одаватель кафед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еория и практика взаимо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а и в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, 10 окт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е и среднее предпринимательство в Росс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ая программа поддержк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оду – 4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федерального бюджета, выделенные на поддержку М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оду – 105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10 году – 17200, 0 м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ритетные мероприятия поддерж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поддержки начинающих – гранты на создание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бизнес-инкубаторов, промышленных и технопар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гарантийных фондов по кредитов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развития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муниципальных программ развития М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оддержки МСП через гос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ый дост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достижения в области поддержки МСП в России за 2009-2011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регионов установлены льготные арендные ставки при аренде малыми и средними компаниями федерального иму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ые тенденции развития МС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закона «О развитии малого и среднего предприниматель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малых предприятий стало обращаться в банки за креди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ет Федеральная программа поддержки развития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ряд ведомственных программ поддержки мал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ются венчурные фонды и бизнес-инкуба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ы консультативно-совещательные органы при структурах власти всех уров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долго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алого бизнеса в общем ВВП - 3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щего числа субъектов предпринимательской деятельности до 6 млн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отраслевой структуры МСП, в том чис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развития МСП в РФ на среднесрочную перспект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е менее 500 бизнес-инкуб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 каждом субъекте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рантийного фонда объемом не менее 1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униципальной инфраструктуры микрофинанс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онда прямых инвестиций в средние компании (с количеством занятых до 250 челове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СП на 1 января  201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ЭР в Российской Федерации на 1 января 2011 года дей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7 млн. юридических лиц; (1,6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,1 млн. индивидуальных предпринимателей; (4,0 млн. – 1 января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 - торговл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% 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 - строительство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5%- обрабатывающе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,75% - сфера науки, научных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числа малых предприятий в 2009 г. – 9,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числа малых предприятий в 2010 г. – 3,6% (НИСИП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количество занятых – около 16,9 млн. человек (МЭ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малых предприятий – 13,5 трлн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МСП: 21% в структуре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инновационного МСП около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й бизнес (М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 +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и развитие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 год – 64 мес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6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5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63 место (опустила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63 место (между Уругваем и Шри-Ланкой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дексе  IMD (International Institute for Management Development) Россия заняла следующие места (всего 57 государст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6 год – 55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год – 43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8 год – 47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 – 51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 год – 49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й закон «О развитии МСП в Российской Федерации» от 24.07.2007 г. № 209-Ф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– не бол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– от 16 до 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– от 101 до 25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 по  обороту (установлены Постановлением Правительства РФ от 22.07.2008 № 556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предприятия - 6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предприятия - 400 млн. руб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предприятия - 1000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аспекты госрегулировани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чало осуществления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Государственный контроль (надзо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логообложение субъектов мало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Доступность финансовых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Развитие конкур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Доступ к государственному (муниципальному) имуще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Доступ к государственным/муниципальным зака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Лицензирование отдельных видов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 Обязательное подтверждение соответствия (сертификация. Деклариров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МСП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анные мониторинга ОПОРЫ РОССИИ и ВЦИ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5 г. 8,5% от выру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6 г. 9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7 г. 6%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8 г. 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9 г. 6%(отмечено снижение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издерже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барьеры и корру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е орг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ждение к повышению размера заработной платы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институциональ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доступа к объект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ов естественных монопол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рруп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 к финансовым ресурс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гос/муниципальных зак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предпринимательской инициа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условия для развития МС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прав предпринима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участия бизнес-объединений в суд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налогообложения для ведени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 персональной ответственности чинов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D853-7EE6-4363-9425-EA6A0D16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5FC-5AF3-48AE-800F-4739C9A9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1DC-780E-41DB-B836-8880E524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B278-8EAA-4287-8240-198B47AA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091C-2F92-415B-AACD-0E50B56B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0F1C-C188-4747-BACC-F363392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0ECA-55A7-4256-BE46-3DCB9CB2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7F19-58DE-48B3-BA97-76B71E9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BE2F-0061-4217-81EF-3207473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6B9-BBA9-4112-BAAF-BF4BC0A6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8D5-9C0D-4AAB-8539-B16D115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C49-45EB-4105-9DAB-57B28FB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9857-FC3A-46DD-A416-471C62E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7651-5C09-4991-9D9E-A60D89DA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9F3A-2F7D-4E3A-BECD-51F75661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34C-CADD-4CF5-9AE2-23F8BD51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3596-CB47-446A-A0A9-6BD9F916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4AE-C9EC-4A71-A76F-3FDD4EDE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5E1-64A5-483F-8AE6-84365DA9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1D0-1BD3-4CA7-9BCE-5E3A200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E42-B88D-49C4-BF01-982E3BC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34A-D2D5-4CE7-8E9B-112FEBE6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3A5-1007-40D1-A3B4-595EDBE0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979-AD4F-4978-8E15-BEA4FE2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410E-4E7A-490A-9936-9FC5CF4BB86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361-653F-407B-94A9-22C90F09C2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Национальный исследовательский университет -</a:t>
            </a:r>
            <a:br>
              <a:rPr sz="3000"/>
            </a:br>
            <a:r>
              <a:rPr b="0" lang="ru-RU" sz="3000" spc="-1" strike="noStrike">
                <a:solidFill>
                  <a:srgbClr val="eaeaea"/>
                </a:solidFill>
                <a:latin typeface="Arial"/>
              </a:rPr>
              <a:t>Высшая Школа Экономики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3090960"/>
            <a:ext cx="79930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подаватель - Крылова Дина Владимиров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идент Межрегионального Обществен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нда «Деловая перспекти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. преподаватель кафед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ория и практика взаимодейств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знеса и в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сква, 10 октября 2011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11280" y="1397160"/>
            <a:ext cx="77058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лое и среднее предпринимательство в Росс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Федеральная программа поддержки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8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4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ства федерального бюджета, выделенные на поддержку МП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09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0500, 0 млн. руб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2010 году –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17200, 0 млн. руб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оритетные мероприятия поддержки: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рограммы поддержки начинающих – гранты на создание бизнеса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бизнес-инкубаторов, промышленных и технопарков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Создание гарантийных фондов по кредитованию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Образовательные программы – повышение квалификации,  лекции, стажировки, семинары и др.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Институты развития микрофинансирования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Развитие малого предпринимательства в промышленности (кластеры, развитие субконтрактации);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Поддержка муниципальных программ развития МП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инципы поддержки МСП через госпрограмм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кры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вный досту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тветственность органов власти всех уровней за обеспечение благоприятных условий дл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еждународное сотруд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864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Основные достижения в области поддержки МСП в России за 2009-2011 гг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53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величен до 60 млн. рублей предельный размер доходов, ограничивающий право перехода организации на упрощенную систему налогообложения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менена обязанность применения контрольно-кассовой техники предпринимателями, которые уплачивают единый налог на вмененный доход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о количество проверок малых предприятий - не чаще, чем 3 раза в год, а внеплановая проверка  - только с санкции прокуро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ановлены льготные тарифы на технологическое присоединение к электрическим сетям – для подключения мощности до 15 кВт стоимость присоединения не более 5 МРОТ (550 руб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яде регионов установлены льготные арендные ставки при аренде малыми и средними компаниями федерального имущества.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Положительные тенденции развития МСП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Принятие закона «О развитии малого и среднего предпринимательства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Устойчивые тенденции легализации малого бизнеса (4 года назад в «тени» находилось более 50% МП. Сейчас – примерно 30%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Больше малых предприятий стало обращаться в банки за кредит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ботает Федеральная программа поддержки развития малого 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Разработан ряд ведомственных программ поддержки малого предпринимательст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ются венчурные фонды и бизнес-инкубатор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кратилось число лицензируемых видов деятельности, часть из них заменяется страхованием ответственности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Созданы консультативно-совещательные органы при структурах власти всех уровней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долго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В соответствие с Концепцией долгосрочного социально-экономического развития Российской Федерации к 2020 году должны быть достигнуты следующие показатели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доля малого бизнеса в общем ВВП - 3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т общего числа субъектов предпринимательской деятельности до 6 млн.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малого и среднего бизнеса в общем количестве действующих субъектов предпринимательства до 80%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увеличение доли занятых в сфере малого и среднего бизнеса до 60% населения РФ и до 30 % от числа всего занятого населени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зменение отраслевой структуры МСП, в том числе: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сокращение относительной доли малых предприятий, занятых в сфере торговли – до 20% (в 2,5 раза), без сокращения их общей численност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числа предприятий, занятых в сфере здравоохранении, ЖКХ, информационных услугах, науке – до 50% (в 12 раз)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-рост компаний, занятых в строительстве и обрабатывающей промышленности – в 4-5 раз (от 130 тысяч до 500 тысяч компаний)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рогноз развития МСП в РФ на среднесрочную перспектив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 целям, поставленным Правительством Российской Федерации на первом этапе инновационного развития (2008 – 2012 гг.) относя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не менее 500 бизнес-инкубатор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в каждом субъекте РФ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гарантийного фонда объемом не менее 1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муниципальной инфраструктуры микрофинансир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фонда прямых инвестиций в средние компании (с количеством занятых до 250 человек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Tahoma"/>
              </a:rPr>
              <a:t>МСП на 1 января  2011 года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20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По данным МЭР в Российской Федерации на 1 января 2011 года действуют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,7 млн. юридических лиц; (1,6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,1 млн. индивидуальных предпринимателей; (4,0 млн. – 1 января 2010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феры деятельност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1% - торговля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8% - услуги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2% - строительство;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0,5%- обрабатывающее производство;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ahoma"/>
              </a:rPr>
              <a:t>0,75% - сфера науки, научных исследова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Рост числа малых предприятий в 2009 г. – 9,1%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Снижение числа малых предприятий в 2010 г. – 3,6% (НИСИПП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щее количество занятых – около 16,9 млн. человек (МЭР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Оборот малых предприятий – 13,5 трлн. руб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МСП: 21% в структуре ВВП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Доля инновационного МСП около 1%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7840" y="188640"/>
            <a:ext cx="860580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Tahoma"/>
              </a:rPr>
              <a:t>Структура МСП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216000" y="1052640"/>
          <a:ext cx="4765680" cy="55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052640"/>
                    <a:ext cx="476568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1195200" y="911160"/>
            <a:ext cx="24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лый бизне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148280" y="911160"/>
            <a:ext cx="48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Б +Индивидуальные 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652920" y="4724280"/>
            <a:ext cx="11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4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652920" y="5084640"/>
            <a:ext cx="1173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1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95640" y="5300640"/>
            <a:ext cx="576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724920" y="5445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3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724920" y="5661000"/>
            <a:ext cx="1087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Object 11"/>
          <p:cNvGraphicFramePr/>
          <p:nvPr/>
        </p:nvGraphicFramePr>
        <p:xfrm>
          <a:off x="4448160" y="1141560"/>
          <a:ext cx="4635360" cy="49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8160" y="1141560"/>
                    <a:ext cx="463536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2"/>
          <p:cNvSpPr/>
          <p:nvPr/>
        </p:nvSpPr>
        <p:spPr>
          <a:xfrm>
            <a:off x="4067280" y="5842080"/>
            <a:ext cx="504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2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Конкурентоспособность и развитие МСП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Положение России в рейтинге Всемирного экономического форума по индексу глобальной конкурентоспособности (всего 133 государства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2 год – 64 место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62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5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63 место (опустилась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63 место (между Уругваем и Шри-Ланкой) 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  рейтинге стран БРИК в 2009 году Россия заняла четвертое место (Бразилия – 58 место, Индия - 51, Китай- 27)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индексе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IMD (International Institute for Management Development) </a:t>
            </a: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Россия заняла следующие места (всего 57 государств):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6 год – 55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7 год – 43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8 год – 47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09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0 год – 51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2011 год – 49 место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Критерии МС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360" y="122400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еральный закон «О развитии МСП в Российской Федерации» от 24.07.2007 г. № 209-ФЗ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ЕР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икропредприятия – не более 15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Малые предприятия – от 16 до 10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Средние предприятия – от 101 до 250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граничения по  обороту (установлены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Постановлением Правительства РФ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от 22.07.2008 № 556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кропредприятия - 6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ые предприятия - 400 млн. руб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ние предприятия - 1000 млн. руб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Ключевые аспекты госрегулировани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1) Начало осуществления предприниматель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2) Государственный контроль (надзор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3) Налогообложение субъектов малого предприниматель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4) Доступность финансовых услу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5) Развитие конкуренци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6) Доступ к государственному (муниципальному) имуществ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7) Доступ к государственным/муниципальным заказа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8) Лицензирование отдельных видов деятель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9) Обязательное подтверждение соответствия (сертификация. Декларирование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aeaea"/>
                </a:solidFill>
                <a:latin typeface="Tahoma"/>
              </a:rPr>
              <a:t>Издержки МСП </a:t>
            </a:r>
            <a:br>
              <a:rPr sz="3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(данные мониторинга ОПОРЫ РОССИИ и ВЦИОМ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5 г. 8,5% от выруч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6 г. 9,6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7 г. 6%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8 г. 8%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2009 г. 6%(отмечено снижение издержек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сновные источники издержек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дминистративные барьеры и коррупц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сходы на приобретение контрольно-кассовой техники (ККТ) (проблема решена для плательщиков ЕНВД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авоохранительные органы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нуждение к повышению размера заработной платы и др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оздание благоприятных условий для предпринимательск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институциональной среды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странение избыточных административных ограничен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вершенствование контрольно-надзорой сферы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доступа к объект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раструктур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беспечение недискриминационного доступа к ресурсам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убъектов естественных монополий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нтикоррупционная политик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 к финансовым ресурса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овершенствование налогообложения малого        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едпринимательств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оступность гос/муниципальных заказо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ддержка предпринимательской инициативы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обходимые условия для развития МС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33360"/>
            <a:ext cx="9144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эффективности защиты прав предпринима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участия бизнес-объединений в судебном процес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благоприятных условий налогообложения для ведения бизн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репление персональной ответственности чино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ение материально-технической базой (создание бизнес-инкубаторов, кластеров, промпарков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0:39:45Z</dcterms:created>
  <dc:creator>musihin</dc:creator>
  <dc:description/>
  <dc:language>en-US</dc:language>
  <cp:lastModifiedBy>LEGION</cp:lastModifiedBy>
  <dcterms:modified xsi:type="dcterms:W3CDTF">2016-01-05T12:45:15Z</dcterms:modified>
  <cp:revision>49</cp:revision>
  <dc:subject/>
  <dc:title>Малое и среднее предпринимательство в России</dc:title>
</cp:coreProperties>
</file>