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DB52E-A82A-4B42-97B9-E1E2B57FFD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циональный исследовательский университет -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сшая Школа Экономик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подаватель - Крылова Дина Владимировна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зидент Межрегионального Общественног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онда «Деловая перспектива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. преподаватель кафедры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Теория и практика взаимодействия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изнеса и власти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сква, 10 октября 2011 г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лое и среднее предпринимательство в России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ый исследовательский университет 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шая Школ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подаватель - Крылова Дина Владимировн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идент Межрегионального Общественн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нда «Деловая перспектив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. преподаватель кафедр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Теория и практика взаимодейств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знеса и власт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сква, 10 октября 2011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лое и среднее предпринимательство в Росс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едеральная программа поддержки МСП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редства федерального бюджета, выделенные на поддержку МП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2008 году – 4500, 0 млн. руб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редства федерального бюджета, выделенные на поддержку МП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2009 году – 10500, 0 млн. руб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2010 году – 17200, 0 млн. руб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оритетные мероприятия поддержки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граммы поддержки начинающих – гранты на создание бизнеса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витие бизнес-инкубаторов, промышленных и технопарков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здание гарантийных фондов по кредитованию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е программы – повышение квалификации,  лекции, стажировки, семинары и др.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ституты развития микрофинансирования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витие малого предпринимательства в промышленности (кластеры, развитие субконтрактации)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ддержка муниципальных программ развития МП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едеральная программа поддержки МС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ства федерального бюджета, выделенные на поддержку М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2008 году – 4500, 0 млн. ру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ства федерального бюджета, выделенные на поддержку М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2009 году – 10500, 0 млн. ру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2010 году – 17200, 0 млн. ру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оритетные мероприятия поддерж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раммы поддержки начинающих – гранты на создание бизнес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бизнес-инкубаторов, промышленных и технопар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гарантийных фондов по кредитованию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овательные программы – повышение квалификации,  лекции, стажировки, семинары и др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титуты развития микрофинансир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малого предпринимательства в промышленности (кластеры, развитие субконтрактации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держка муниципальных программ развития М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ы поддержки МСП через госпрограмм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крытост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вный доступ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ветственность органов власти всех уровней за обеспечение благоприятных условий для бизнес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ждународное сотрудничеств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поддержки МСП через госпрограм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рыт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вный досту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ветственность органов власти всех уровней за обеспечение благоприятных условий для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ое сотруднич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достижения в области поддержки МСП в России за 2009-2011 гг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величен до 60 млн. рублей предельный размер доходов, ограничивающий право перехода организации на упрощенную систему налогообложения;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менена обязанность применения контрольно-кассовой техники предпринимателями, которые уплачивают единый налог на вмененный доход;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кращено количество проверок малых предприятий - не чаще, чем 3 раза в год, а внеплановая проверка  - только с санкции прокурора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становлены льготные тарифы на технологическое присоединение к электрическим сетям – для подключения мощности до 15 кВт стоимость присоединения не более 5 МРОТ (550 рублей)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ряде регионов установлены льготные арендные ставки при аренде малыми и средними компаниями федерального имущества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достижения в области поддержки МСП в России за 2009-2011 г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еличен до 60 млн. рублей предельный размер доходов, ограничивающий право перехода организации на упрощенную систему налогообложения;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менена обязанность применения контрольно-кассовой техники предпринимателями, которые уплачивают единый налог на вмененный доход;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кращено количество проверок малых предприятий - не чаще, чем 3 раза в год, а внеплановая проверка  - только с санкции прокурор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лены льготные тарифы на технологическое присоединение к электрическим сетям – для подключения мощности до 15 кВт стоимость присоединения не более 5 МРОТ (550 рублей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яде регионов установлены льготные арендные ставки при аренде малыми и средними компаниями федерального имуще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ложительные тенденции развития МСП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ятие закона «О развитии малого и среднего предпринимательства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стойчивые тенденции легализации малого бизнеса (4 года назад в «тени» находилось более 50% МП. Сейчас – примерно 30%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ольше малых предприятий стало обращаться в банки за кредитам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ботает Федеральная программа поддержки развития малого предпринимательств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работан ряд ведомственных программ поддержки малого предпринимательств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здаются венчурные фонды и бизнес-инкубатор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кратилось число лицензируемых видов деятельности, часть из них заменяется страхованием ответственности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зданы консультативно-совещательные органы при структурах власти всех уровней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ожительные тенденции развития МСП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ятие закона «О развитии малого и среднего предпринимательств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ойчивые тенденции легализации малого бизнеса (4 года назад в «тени» находилось более 50% МП. Сейчас – примерно 30%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е малых предприятий стало обращаться в банки за кредит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ает Федеральная программа поддержки развития малого предприниматель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ан ряд ведомственных программ поддержки малого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ются венчурные фонды и бизнес-инкубато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кратилось число лицензируемых видов деятельности, часть из них заменяется страхованием ответствен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ы консультативно-совещательные органы при структурах власти всех уровн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гноз развития МСП в РФ на долгосрочную перспектив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соответствие с Концепцией долгосрочного социально-экономического развития Российской Федерации к 2020 году должны быть достигнуты следующие показатели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ля малого бизнеса в общем ВВП - 30%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ост общего числа субъектов предпринимательской деятельности до 6 млн.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величение доли малого и среднего бизнеса в общем количестве действующих субъектов предпринимательства до 80%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величение доли занятых в сфере малого и среднего бизнеса до 60% населения РФ и до 30 % от числа всего занятого населения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зменение отраслевой структуры МСП, в том числе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сокращение относительной доли малых предприятий, занятых в сфере торговли – до 20% (в 2,5 раза), без сокращения их общей численности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рост числа предприятий, занятых в сфере здравоохранении, ЖКХ, информационных услугах, науке – до 50% (в 12 раз)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рост компаний, занятых в строительстве и обрабатывающей промышленности – в 4-5 раз (от 130 тысяч до 500 тысяч компаний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ноз развития МСП в РФ на долгосрочную перспектив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оответствие с Концепцией долгосрочного социально-экономического развития Российской Федерации к 2020 году должны быть достигнуты следующие показател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я малого бизнеса в общем ВВП - 30%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 общего числа субъектов предпринимательской деятельности до 6 млн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еличение доли малого и среднего бизнеса в общем количестве действующих субъектов предпринимательства до 80%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еличение доли занятых в сфере малого и среднего бизнеса до 60% населения РФ и до 30 % от числа всего занятого населени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отраслевой структуры МСП, в том числе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сокращение относительной доли малых предприятий, занятых в сфере торговли – до 20% (в 2,5 раза), без сокращения их общей числен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рост числа предприятий, занятых в сфере здравоохранении, ЖКХ, информационных услугах, науке – до 50% (в 12 раз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рост компаний, занятых в строительстве и обрабатывающей промышленности – в 4-5 раз (от 130 тысяч до 500 тысяч компаний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гноз развития МСП в РФ на среднесрочную перспектив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 целям, поставленным Правительством Российской Федерации на первом этапе инновационного развития (2008 – 2012 гг.) относятся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здание не менее 500 бизнес-инкубаторов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личие в каждом субъекте РФ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гарантийного фонда объемом не менее 100 млн. рублей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муниципальной инфраструктуры микрофинансирования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фонда прямых инвестиций в средние компании (с количеством занятых до 250 человек)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ноз развития МСП в РФ на среднесрочную перспектив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целям, поставленным Правительством Российской Федерации на первом этапе инновационного развития (2008 – 2012 гг.) относя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не менее 500 бизнес-инкубатор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 в каждом субъекте РФ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гарантийного фонда объемом не менее 100 млн. рубл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муниципальной инфраструктуры микрофинансир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фонда прямых инвестиций в средние компании (с количеством занятых до 250 человек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СП на 1 января  2011 год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данным МЭР в Российской Федерации на 1 января 2011 года действуют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,7 млн. юридических лиц; (1,6 млн. – 1 января 2010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,1 млн. индивидуальных предпринимателей; (4,0 млн. – 1 января 2010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феры деятельност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1% - торговля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8% - услуги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2% - строительство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0,5%- обрабатывающее производство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0,75% - сфера науки, научных исследовани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ост числа малых предприятий в 2009 г. – 9,1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нижение числа малых предприятий в 2010 г. – 3,6% (НИСИПП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щее количество занятых – около 16,9 млн. человек (МЭР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орот малых предприятий – 13,5 трлн. руб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ля МСП: 21% в структуре ВВП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ля инновационного МСП около 1%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СП на 1 января  2011 г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данным МЭР в Российской Федерации на 1 января 2011 года действую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,7 млн. юридических лиц; (1,6 млн. – 1 января 20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,1 млн. индивидуальных предпринимателей; (4,0 млн. – 1 января 20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еры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1% - торговл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8% - услуг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% - строительство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,5%- обрабатывающее производств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,75% - сфера науки, научных исследова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 числа малых предприятий в 2009 г. – 9,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ие числа малых предприятий в 2010 г. – 3,6% (НИСИПП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е количество занятых – около 16,9 млн. человек (МЭР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от малых предприятий – 13,5 трлн. ру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я МСП: 21% в структуре ВВ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я инновационного МСП около 1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руктура МСП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лый бизнес (МБ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Б +Индивидуальные предпринимател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1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1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2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7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МС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лый бизнес (МБ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Б +Индивидуальные предпринимат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нкурентоспособность и развитие МСП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ложение России в рейтинге Всемирного экономического форума по индексу глобальной конкурентоспособности (всего 133 государства)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02 год – 64 место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06 год – 62 мест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07 год – 57 мест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08 год – 51 мест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09 год – 63 место (опустилась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10 год – 63 место (между Уругваем и Шри-Ланкой)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 рейтинге стран БРИК в 2009 году Россия заняла четвертое место (Бразилия – 58 место, Индия - 51, Китай- 27)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индексе  IMD (International Institute for Management Development) Россия заняла следующие места (всего 57 государств)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06 год – 55 мест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07 год – 43 мест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08 год – 47 мест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09 год – 49 мест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10 год – 51 мест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11 год – 49 мест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курентоспособность и развитие МС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ожение России в рейтинге Всемирного экономического форума по индексу глобальной конкурентоспособности (всего 133 государства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2 год – 64 мест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6 год – 62 мес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7 год – 57 мес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8 год – 51 мес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9 год – 63 место (опустилас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0 год – 63 место (между Уругваем и Шри-Ланкой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 рейтинге стран БРИК в 2009 году Россия заняла четвертое место (Бразилия – 58 место, Индия - 51, Китай- 27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индексе  IMD (International Institute for Management Development) Россия заняла следующие места (всего 57 государств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6 год – 55 мес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7 год – 43 мес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8 год – 47 мес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9 год – 49 мес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0 год – 51 мес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1 год – 49 мес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итерии МСП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едеральный закон «О развитии МСП в Российской Федерации» от 24.07.2007 г. № 209-ФЗ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ИТЕРИИ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икропредприятия – не более 15 челове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лые предприятия – от 16 до 100 челове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редние предприятия – от 101 до 250 челове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граничения по  обороту (установлены Постановлением Правительства РФ от 22.07.2008 № 556)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икропредприятия - 60 млн. рублей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лые предприятия - 400 млн. рублей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редние предприятия - 1000 млн. рубле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терии МС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едеральный закон «О развитии МСП в Российской Федерации» от 24.07.2007 г. № 209-ФЗ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ТЕР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кропредприятия – не более 15 челов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лые предприятия – от 16 до 100 челов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ние предприятия – от 101 до 250 челов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раничения по  обороту (установлены Постановлением Правительства РФ от 22.07.2008 № 556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кропредприятия - 60 млн. рубл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лые предприятия - 400 млн. рубл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ние предприятия - 1000 млн. руб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лючевые аспекты госрегулирования предпринимательской деятельност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) Начало осуществления предпринимательской деятельност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) Государственный контроль (надзор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) Налогообложение субъектов малого предпринимательств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) Доступность финансовых услуг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) Развитие конкуренци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6) Доступ к государственному (муниципальному) имуществу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7) Доступ к государственным/муниципальным заказа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8) Лицензирование отдельных видов деятельност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9) Обязательное подтверждение соответствия (сертификация. Декларирование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ючевые аспекты госрегулирования предприниматель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Начало осуществления предпринимательск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Государственный контроль (надзор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Налогообложение субъектов малого предприниматель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Доступность финансовых услу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 Развитие конкурен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) Доступ к государственному (муниципальному) имуществ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) Доступ к государственным/муниципальным заказ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) Лицензирование отдельных видов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) Обязательное подтверждение соответствия (сертификация. Декларирование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здержки МСП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данные мониторинга ОПОРЫ РОССИИ и ВЦИОМ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2005 г. 8,5% от выручк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2006 г. 9,6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2007 г. 6%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2008 г. 8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2009 г. 6%(отмечено снижение издержек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источники издержек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дминистративные барьеры и коррупц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ходы на приобретение контрольно-кассовой техники (ККТ) (проблема решена для плательщиков ЕНВД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воохранительные органы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уждение к повышению размера заработной платы и др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держки МСП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данные мониторинга ОПОРЫ РОССИИ и ВЦИО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2005 г. 8,5% от выруч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2006 г. 9,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2007 г. 6%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2008 г. 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2009 г. 6%(отмечено снижение издерже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источники издержек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ые барьеры и корруп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ходы на приобретение контрольно-кассовой техники (ККТ) (проблема решена для плательщиков ЕНВД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охранительные орга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уждение к повышению размера заработной платы и д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здание благоприятных условий для предпринимательской деятельност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вершенствование институциональной сред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странение избыточных административных ограничений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вершенствование контрольно-надзорой сферы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еспечение доступа к объектам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фраструктур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еспечение недискриминационного доступа к ресурсам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бъектов естественных монополий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нтикоррупционная политик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ступ к финансовым ресурса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вершенствование налогообложения малого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принимательств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ступность гос/муниципальных заказов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ддержка предпринимательской инициативы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благоприятных условий для предприниматель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ршенствование институциональной сре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ранение избыточных административных ограниче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ршенствование контрольно-надзорой сферы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ение доступа к объектам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ение недискриминационного доступа к ресурсам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ъектов естественных монопол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икоррупционная полит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уп к финансовым ресурс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ршенствование налогообложения малого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упность гос/муниципальных заказ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держка предпринимательской инициатив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обходимые условия для развития МСП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вышение эффективности защиты прав предпринимателей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еспечение участия бизнес-объединений в судебном процесс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здание благоприятных условий налогообложения для ведения бизнес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крепление персональной ответственности чиновнико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еспечение материально-технической базой (создание бизнес-инкубаторов, кластеров, промпарков)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ые условия для развития МС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эффективности защиты прав предпринимател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ение участия бизнес-объединений в судебном процесс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благоприятных условий налогообложения для ведения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репление персональной ответственности чиновни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ение материально-технической базой (создание бизнес-инкубаторов, кластеров, промпарков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61EE-8193-4D4D-8C14-B2296B714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D28C-4A28-4425-959A-C8CE9046C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FFC0-A0D1-496E-B684-1559BBD10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86C1-AB91-4B93-A0B8-25A7CAAEC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E9FA2-26B9-457F-B94D-7B425B1A3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6DF97-6779-4567-A33B-B8CE39B97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C684B-FCBC-4ED1-A440-9960F9026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C3BB7-A1E9-4FC7-A135-1B34D9DBF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8AAD9-8760-4D79-9C63-29B5642A8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61976-D7F2-4DA2-A17E-0F6856C4A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266DE-5BAB-4E99-871C-32FCD3EC4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6AA8-83E3-4419-9CE7-86BCD6CE2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C7BC7-5EF6-4D7E-BEC1-47164BD61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2BCA7-9052-416D-9594-BE65BF342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AC7F1-E8EC-4D08-9E82-EBB443CE2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48C14-A0AE-4A05-96AB-2BA346CF9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5FE87-4153-4C97-BE41-D7F38F28A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7ADF-4720-4E6E-8A63-076578554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4B3F-3202-4A4C-B3B5-A1D42C60E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3E3D-68F3-4149-807D-DCBB753E4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17A9-02B1-46B7-BB4B-78AF09C48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FF38-7087-4CAA-B8F4-9E120B70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3F71-A471-4AD0-8FD3-F313FE260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10EB-9DF9-4984-AD8F-6D4125FE7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69B50-9C2F-42A9-B1C0-641C0E5CC644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8724E-51B6-4872-9BBF-88B918ED37E3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77840"/>
            <a:ext cx="9144000" cy="101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Arial"/>
              </a:rPr>
              <a:t>Национальный исследовательский университет -</a:t>
            </a:r>
            <a:br>
              <a:rPr sz="3000"/>
            </a:br>
            <a:r>
              <a:rPr b="0" lang="ru-RU" sz="3000" spc="-1" strike="noStrike">
                <a:solidFill>
                  <a:srgbClr val="eaeaea"/>
                </a:solidFill>
                <a:latin typeface="Arial"/>
              </a:rPr>
              <a:t>Высшая Школа Экономики</a:t>
            </a:r>
            <a:endParaRPr b="1" lang="en-US" sz="3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899640" y="3090960"/>
            <a:ext cx="7993080" cy="33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еподаватель - Крылова Дина Владимировна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езидент Межрегионального Общественног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онда «Деловая перспектива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т. преподаватель кафедры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Теория и практика взаимодействи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изнеса и власти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сква, 10 октября 2011 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611280" y="1397160"/>
            <a:ext cx="77058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Малое и среднее предпринимательство в России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Федеральная программа поддержки МСП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728640"/>
            <a:ext cx="9144000" cy="61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ahoma"/>
              </a:rPr>
              <a:t>Средства федерального бюджета, выделенные на поддержку МП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2008 году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Tahoma"/>
              </a:rPr>
              <a:t>4500, 0 млн. руб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редства федерального бюджета, выделенные на поддержку МП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2009 году –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Tahoma"/>
              </a:rPr>
              <a:t>10500, 0 млн. руб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2010 году –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Tahoma"/>
              </a:rPr>
              <a:t>17200, 0 млн. руб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ahoma"/>
              </a:rPr>
              <a:t>Приоритетные мероприятия поддержки: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25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Программы поддержки начинающих – гранты на создание бизнеса;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25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Развитие бизнес-инкубаторов, промышленных и технопарков.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2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25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Создание гарантийных фондов по кредитованию;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2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25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Образовательные программы – повышение квалификации,  лекции, стажировки, семинары и др.;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3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25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Институты развития микрофинансирования;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2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25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Развитие малого предпринимательства в промышленности (кластеры, развитие субконтрактации);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2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25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Поддержка муниципальных программ развития МП.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Принципы поддержки МСП через госпрограмму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открыт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равный доступ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ответственность органов власти всех уровней за обеспечение благоприятных условий для бизне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международное сотрудничеств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8648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Основные достижения в области поддержки МСП в России за 2009-2011 гг.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853272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величен до 60 млн. рублей предельный размер доходов, ограничивающий право перехода организации на упрощенную систему налогообложения;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тменена обязанность применения контрольно-кассовой техники предпринимателями, которые уплачивают единый налог на вмененный доход;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кращено количество проверок малых предприятий - не чаще, чем 3 раза в год, а внеплановая проверка  - только с санкции прокурор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становлены льготные тарифы на технологическое присоединение к электрическим сетям – для подключения мощности до 15 кВт стоимость присоединения не более 5 МРОТ (550 рублей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ряде регионов установлены льготные арендные ставки при аренде малыми и средними компаниями федерального имущества.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aeaea"/>
                </a:solidFill>
                <a:latin typeface="Tahoma"/>
              </a:rPr>
              <a:t>Положительные тенденции развития МСП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Принятие закона «О развитии малого и среднего предпринимательства»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Устойчивые тенденции легализации малого бизнеса (4 года назад в «тени» находилось более 50% МП. Сейчас – примерно 30%)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Больше малых предприятий стало обращаться в банки за кредитами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Работает Федеральная программа поддержки развития малого предпринимательства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Разработан ряд ведомственных программ поддержки малого предпринимательства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Создаются венчурные фонды и бизнес-инкубаторы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Сократилось число лицензируемых видов деятельности, часть из них заменяется страхованием ответственности.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Созданы консультативно-совещательные органы при структурах власти всех уровней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Прогноз развития МСП в РФ на долгосрочную перспективу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74872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В соответствие с Концепцией долгосрочного социально-экономического развития Российской Федерации к 2020 году должны быть достигнуты следующие показатели: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доля малого бизнеса в общем ВВП - 30%;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рост общего числа субъектов предпринимательской деятельности до 6 млн.;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увеличение доли малого и среднего бизнеса в общем количестве действующих субъектов предпринимательства до 80%;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увеличение доли занятых в сфере малого и среднего бизнеса до 60% населения РФ и до 30 % от числа всего занятого населения;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изменение отраслевой структуры МСП, в том числе: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-сокращение относительной доли малых предприятий, занятых в сфере торговли – до 20% (в 2,5 раза), без сокращения их общей численности;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-рост числа предприятий, занятых в сфере здравоохранении, ЖКХ, информационных услугах, науке – до 50% (в 12 раз);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-рост компаний, занятых в строительстве и обрабатывающей промышленности – в 4-5 раз (от 130 тысяч до 500 тысяч компаний)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Прогноз развития МСП в РФ на среднесрочную перспективу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 целям, поставленным Правительством Российской Федерации на первом этапе инновационного развития (2008 – 2012 гг.) относятся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здание не менее 500 бизнес-инкубаторо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личие в каждом субъекте РФ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гарантийного фонда объемом не менее 100 млн. рубле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муниципальной инфраструктуры микрофинансирован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фонда прямых инвестиций в средние компании (с количеством занятых до 250 человек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Tahoma"/>
              </a:rPr>
              <a:t>Спасибо за внимание!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3640" y="-100440"/>
            <a:ext cx="822636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eaeaea"/>
                </a:solidFill>
                <a:latin typeface="Tahoma"/>
              </a:rPr>
              <a:t>МСП на 1 января  2011 года</a:t>
            </a:r>
            <a:endParaRPr b="1" lang="en-US" sz="35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72036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По данным МЭР в Российской Федерации на 1 января 2011 года действуют: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1,7 млн. юридических лиц; (1,6 млн. – 1 января 2010)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4,1 млн. индивидуальных предпринимателей; (4,0 млн. – 1 января 2010)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Сферы деятельности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41% - торговля;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18% - услуги;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12% - строительство;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10,5%- обрабатывающее производство;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Tahoma"/>
              </a:rPr>
              <a:t>0,75% - сфера науки, научных исследований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Рост числа малых предприятий в 2009 г. – 9,1%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Снижение числа малых предприятий в 2010 г. – 3,6% (НИСИПП)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Общее количество занятых – около 16,9 млн. человек (МЭР)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Оборот малых предприятий – 13,5 трлн. руб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Доля МСП: 21% в структуре ВВП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Доля инновационного МСП около 1%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7840" y="188640"/>
            <a:ext cx="860580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aeaea"/>
                </a:solidFill>
                <a:latin typeface="Tahoma"/>
              </a:rPr>
              <a:t>Структура МСП</a:t>
            </a:r>
            <a:endParaRPr b="1" lang="en-US" sz="30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24" name="Object 3"/>
          <p:cNvGraphicFramePr/>
          <p:nvPr/>
        </p:nvGraphicFramePr>
        <p:xfrm>
          <a:off x="216000" y="1052640"/>
          <a:ext cx="4765680" cy="551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000" y="1052640"/>
                    <a:ext cx="4765680" cy="55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Text Box 4"/>
          <p:cNvSpPr/>
          <p:nvPr/>
        </p:nvSpPr>
        <p:spPr>
          <a:xfrm>
            <a:off x="1195200" y="911160"/>
            <a:ext cx="240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Малый бизнес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(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М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4148280" y="911160"/>
            <a:ext cx="48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МБ +Индивидуальные предпринимател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3652920" y="4724280"/>
            <a:ext cx="11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41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3652920" y="5084640"/>
            <a:ext cx="11732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11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3995640" y="5300640"/>
            <a:ext cx="576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12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3724920" y="5445000"/>
            <a:ext cx="10879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3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3724920" y="5661000"/>
            <a:ext cx="10879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2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3" name="Object 11"/>
          <p:cNvGraphicFramePr/>
          <p:nvPr/>
        </p:nvGraphicFramePr>
        <p:xfrm>
          <a:off x="4448160" y="1141560"/>
          <a:ext cx="4635360" cy="495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4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48160" y="1141560"/>
                    <a:ext cx="4635360" cy="49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12"/>
          <p:cNvSpPr/>
          <p:nvPr/>
        </p:nvSpPr>
        <p:spPr>
          <a:xfrm>
            <a:off x="4067280" y="5842080"/>
            <a:ext cx="5047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2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Конкурентоспособность и развитие МСП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89308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Положение России в рейтинге Всемирного экономического форума по индексу глобальной конкурентоспособности (всего 133 государства):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2002 год – 64 место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2006 год – 62 место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2007 год – 57 место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2008 год – 51 место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2009 год – 63 место (опустилась)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2010 год – 63 место (между Уругваем и Шри-Ланкой) 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В  рейтинге стран БРИК в 2009 году Россия заняла четвертое место (Бразилия – 58 место, Индия - 51, Китай- 27).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индексе</a:t>
            </a: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  IMD (International Institute for Management Development) 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Россия заняла следующие места (всего 57 государств):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2006 год – 55 место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2007 год – 43 место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2008 год – 47 место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2009 год – 49 место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2010 год – 51 место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2011 год – 49 место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ahoma"/>
              </a:rPr>
              <a:t>Критерии МСП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-36360" y="1224000"/>
            <a:ext cx="9144000" cy="602136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едеральный закон «О развитии МСП в Российской Федерации» от 24.07.2007 г. № 209-ФЗ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РИТЕРИ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ahoma"/>
              </a:rPr>
              <a:t>Микропредприятия – не более 15 челове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ahoma"/>
              </a:rPr>
              <a:t>Малые предприятия – от 16 до 100 челове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ahoma"/>
              </a:rPr>
              <a:t>Средние предприятия – от 101 до 250 челове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ahoma"/>
              </a:rPr>
              <a:t>Ограничения по  обороту (установлены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Tahoma"/>
              </a:rPr>
              <a:t>Постановлением Правительства РФ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Tahoma"/>
              </a:rPr>
              <a:t>от 22.07.2008 № 556)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икропредприятия - 60 млн. рубле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алые предприятия - 400 млн. рубле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редние предприятия - 1000 млн. рубл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Ключевые аспекты госрегулирования предпринимательской деятельности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50716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1) Начало осуществления предпринимательской деятельности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2) Государственный контроль (надзор)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3) Налогообложение субъектов малого предпринимательства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4) Доступность финансовых услуг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5) Развитие конкуренции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6) Доступ к государственному (муниципальному) имуществу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7) Доступ к государственным/муниципальным заказам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8) Лицензирование отдельных видов деятельности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9) Обязательное подтверждение соответствия (сертификация. Декларирование)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eaeaea"/>
                </a:solidFill>
                <a:latin typeface="Tahoma"/>
              </a:rPr>
              <a:t>Издержки МСП </a:t>
            </a:r>
            <a:br>
              <a:rPr sz="3400"/>
            </a:br>
            <a:r>
              <a:rPr b="1" lang="ru-RU" sz="2400" spc="-1" strike="noStrike">
                <a:solidFill>
                  <a:srgbClr val="eaeaea"/>
                </a:solidFill>
                <a:latin typeface="Tahoma"/>
              </a:rPr>
              <a:t>(данные мониторинга ОПОРЫ РОССИИ и ВЦИОМ)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В 2005 г. 8,5% от выручки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В 2006 г. 9,6%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В 2007 г. 6%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В 2008 г. 8%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В 2009 г. 6%(отмечено снижение издержек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Основные источники издержек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Административные барьеры и коррупция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расходы на приобретение контрольно-кассовой техники (ККТ) (проблема решена для плательщиков ЕНВД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равоохранительные органы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ринуждение к повышению размера заработной платы и др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Создание благоприятных условий для предпринимательской деятельности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9647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Совершенствование институциональной среды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Устранение избыточных административных ограничений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Совершенствование контрольно-надзорой сферы 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Обеспечение доступа к объектам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инфраструктуры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Обеспечение недискриминационного доступа к ресурсам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субъектов естественных монополий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Антикоррупционная политика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Доступ к финансовым ресурсам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Совершенствование налогообложения малого         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предпринимательства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Доступность гос/муниципальных заказов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Поддержка предпринимательской инициативы.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Необходимые условия для развития МСП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233360"/>
            <a:ext cx="9144000" cy="56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вышение эффективности защиты прав предпринимателе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еспечение участия бизнес-объединений в судебном процесс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здание благоприятных условий налогообложения для ведения бизне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крепление персональной ответственности чиновник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еспечение материально-технической базой (создание бизнес-инкубаторов, кластеров, промпарков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10:39:45Z</dcterms:created>
  <dc:creator>musihin</dc:creator>
  <dc:description/>
  <dc:language>en-US</dc:language>
  <cp:lastModifiedBy>LEGION</cp:lastModifiedBy>
  <dcterms:modified xsi:type="dcterms:W3CDTF">2016-01-05T12:45:15Z</dcterms:modified>
  <cp:revision>49</cp:revision>
  <dc:subject/>
  <dc:title>Малое и среднее предпринимательство в России</dc:title>
</cp:coreProperties>
</file>