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camera.wav" ContentType="audio/x-wav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0F69-AFA7-4023-A9B7-6911021C68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D93-6C93-4276-9BD0-F70DE9E4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44A-A159-441A-9287-07AE2C7C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229-B9BD-4C23-A252-82B19F50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40C-EE47-4300-ABA7-CDC6D5EC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6C4B-EFCC-4CAE-90B3-2BEE76E2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F090-EFF9-4EF8-8A74-0F812B34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2D53-7360-4F2D-8D06-B38F80F2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AAAD-EF5E-4B7D-912C-F4938FA0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410E-C003-4609-BCF5-91EA50A2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32CC-AEA7-46D4-90EC-3E8423E1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45F9-8507-46B5-9A91-4C71A64D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444-A31E-40CF-BE61-7817C6D6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88A7-D95D-46A8-B0B4-9FC8045B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D1A6-6EE9-4B99-AEB6-DA32BE9C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4490-99FC-46BC-86B1-3A1ACE25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BD63-3720-428D-B9C9-68ABD2CA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2DE8-E122-4C58-AE87-DB640029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222-482A-454A-9179-86768147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7AE-1839-4609-9EE5-6AEE1124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3EB-9757-4F40-8653-A45BC209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246-D47C-4B8A-A5B5-8F1E3A33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80E-3705-4F01-BC3C-6181CE40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4F9-2D04-4064-B804-64738AEB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AFA-4E04-45B4-BFEC-ECB1CEF2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2F7E-6B50-46A3-BA8D-215EF38382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DCF8-37D3-48D9-BA27-AAC287F834D3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indem.ru/" TargetMode="External"/><Relationship Id="rId4" Type="http://schemas.openxmlformats.org/officeDocument/2006/relationships/hyperlink" Target="mailto:fond@indem.ru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6941880" cy="27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ОВ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УП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468360" y="4773600"/>
          <a:ext cx="30258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73600"/>
                    <a:ext cx="30258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8"/>
          <p:cNvSpPr/>
          <p:nvPr/>
        </p:nvSpPr>
        <p:spPr>
          <a:xfrm>
            <a:off x="4643280" y="255600"/>
            <a:ext cx="4249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www.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fond@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206-81-7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9" descr="mone0076"/>
          <p:cNvPicPr/>
          <p:nvPr/>
        </p:nvPicPr>
        <p:blipFill>
          <a:blip r:embed="rId5"/>
          <a:stretch/>
        </p:blipFill>
        <p:spPr>
          <a:xfrm>
            <a:off x="4427640" y="3371760"/>
            <a:ext cx="4338360" cy="31082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259920"/>
            <a:ext cx="71578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ценка уровня коррупции как высо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286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птим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403280" y="1965240"/>
            <a:ext cx="6481800" cy="39798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ктивная вовлеченность в корруп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97440" cy="3797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збегание корруп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2023920"/>
            <a:ext cx="66261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2040" y="259920"/>
            <a:ext cx="745632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остараются принять участие в борьбе с корруп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258920" y="2166840"/>
          <a:ext cx="6553080" cy="34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166840"/>
                    <a:ext cx="65530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385040" cy="18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участвовать в распространении этического ко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408720" cy="36086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2040" y="260280"/>
            <a:ext cx="74563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поддержать усиление государственного контроля за расходами всех граж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1258920" y="2349360"/>
          <a:ext cx="6769080" cy="36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349360"/>
                    <a:ext cx="676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-360"/>
            <a:ext cx="745632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"Нельзя допустить, чтобы вся власть попала в одни руки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24720" cy="37288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188640"/>
            <a:ext cx="715788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ность голосовать за СП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971640" y="2133720"/>
          <a:ext cx="7129440" cy="37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712944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1844640"/>
          <a:ext cx="5410080" cy="4754520"/>
        </p:xfrm>
        <a:graphic>
          <a:graphicData uri="http://schemas.openxmlformats.org/drawingml/2006/table">
            <a:tbl>
              <a:tblPr/>
              <a:tblGrid>
                <a:gridCol w="4190760"/>
                <a:gridCol w="1219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упател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и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сам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т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4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вщ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вок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5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остранец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налис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берна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ст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ГЛАВН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53680" y="1844640"/>
            <a:ext cx="8039880" cy="5205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Коррупция – это сигнал о неэффективности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1372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844640"/>
          <a:ext cx="5334120" cy="4754520"/>
        </p:xfrm>
        <a:graphic>
          <a:graphicData uri="http://schemas.openxmlformats.org/drawingml/2006/table">
            <a:tbl>
              <a:tblPr/>
              <a:tblGrid>
                <a:gridCol w="3962520"/>
                <a:gridCol w="1371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кур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3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пут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дь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6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кур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лицио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4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можен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7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нов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пектор (пожнадзора и т.п.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ж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инспек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полицейский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9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ди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60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1776240"/>
          <a:ext cx="8137440" cy="5062680"/>
        </p:xfrm>
        <a:graphic>
          <a:graphicData uri="http://schemas.openxmlformats.org/drawingml/2006/table">
            <a:tbl>
              <a:tblPr/>
              <a:tblGrid>
                <a:gridCol w="7067520"/>
                <a:gridCol w="1069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й уровень налоговых ставок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9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Запутанность норм налогового права (усложненность порядка взимания налогов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8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бюрократической машин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4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7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тсутствие ясной и четкой экономической политики государств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6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динаковое отношение бюрократии к разным фирмам (при толковании законов и правил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защищенность прав собственност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судебной систем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Дорогие кредит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бъективность, коррумпированность судебных решений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0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80880" y="47628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0920" y="1844640"/>
          <a:ext cx="8686800" cy="464040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развитость экономической инфраструктур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7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облюдение всех правовых норм требует высоких затрат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4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ащивание власти и бизнес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3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нфля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1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издержек, связанных с соблюдением правовых нор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цены на энергоносител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становленное законом неравномерное распределение налогового бремен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честная (несправедливая) конкурен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5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транспортные расход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3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збирательный подход чиновников налоговых органов к взиманию налогов с разных налогоплательщиков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3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844640"/>
          <a:ext cx="8686800" cy="472428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головные преступления (хищения, кражи и т.д.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литическая нестабильность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алютное регулирование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торговлю с иностранными государствами (экспорт\импорт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4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пределенность исхода коррупционной сдел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ровень выплат криминальным структура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0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расходов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8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Большие расходы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7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Государственный контроль над ценам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создание коммерческой организаци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2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4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2205000"/>
          <a:ext cx="8642160" cy="4378320"/>
        </p:xfrm>
        <a:graphic>
          <a:graphicData uri="http://schemas.openxmlformats.org/drawingml/2006/table">
            <a:tbl>
              <a:tblPr/>
              <a:tblGrid>
                <a:gridCol w="5184720"/>
                <a:gridCol w="865080"/>
                <a:gridCol w="863640"/>
                <a:gridCol w="863640"/>
                <a:gridCol w="865080"/>
              </a:tblGrid>
              <a:tr h="52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редсказуемость издержек, связанных с соблюдением правовых норм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азвитость экономической инфраструктур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ляция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ъективность, коррумпированность судебных решений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е транспортные расход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05"/>
          <p:cNvSpPr/>
          <p:nvPr/>
        </p:nvSpPr>
        <p:spPr>
          <a:xfrm>
            <a:off x="6516720" y="170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вартил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692280"/>
            <a:ext cx="715788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2950920" cy="2739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ЕЩЕ 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1763640" y="1773360"/>
          <a:ext cx="55897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73360"/>
                    <a:ext cx="55897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45632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ВРП И КОРРУПЦИЯ В РОССИЙСКИХ РЕГИО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2133720"/>
          <a:ext cx="8496000" cy="4190760"/>
        </p:xfrm>
        <a:graphic>
          <a:graphicData uri="http://schemas.openxmlformats.org/drawingml/2006/table">
            <a:tbl>
              <a:tblPr/>
              <a:tblGrid>
                <a:gridCol w="4464000"/>
                <a:gridCol w="172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дикатор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упци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еляц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верительная вероятност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законода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5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0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исполни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40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1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гральный индекс объема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м-пированности региональной власт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нсивность деловой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6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ИТУАЦИЯ В РОССИИ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16360" cy="336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56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Коррупционные рынки –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разные виды регу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700280"/>
          <a:ext cx="8353440" cy="4841640"/>
        </p:xfrm>
        <a:graphic>
          <a:graphicData uri="http://schemas.openxmlformats.org/drawingml/2006/table">
            <a:tbl>
              <a:tblPr/>
              <a:tblGrid>
                <a:gridCol w="2089080"/>
                <a:gridCol w="2162160"/>
                <a:gridCol w="2013120"/>
                <a:gridCol w="20890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ид регулирован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лотность коррупцио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ых сдело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едний размер взяток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(тыс.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$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бъем (в %) коррупционного рынк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финансовое контрольное, надзор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53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Фискальное, налогов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83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2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Лицензио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68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аможе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2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равоохрани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ель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1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27092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бщий годовой объем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рынка деловой корруп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1752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imes New Roman Cyr"/>
              </a:rPr>
              <a:t>$ 33,5 миллиардов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Picture 4" descr="1-2"/>
          <p:cNvPicPr/>
          <p:nvPr/>
        </p:nvPicPr>
        <p:blipFill>
          <a:blip r:embed="rId1"/>
          <a:stretch/>
        </p:blipFill>
        <p:spPr>
          <a:xfrm>
            <a:off x="468360" y="2946240"/>
            <a:ext cx="3798720" cy="347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495680" y="2860560"/>
            <a:ext cx="4419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Для сравнения</a:t>
            </a: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Доходная часть федерального бюджета России в 2000 г.</a:t>
            </a:r>
            <a:r>
              <a:rPr b="0" lang="en-US" sz="2800" spc="-1" strike="noStrike">
                <a:solidFill>
                  <a:srgbClr val="292929"/>
                </a:solidFill>
                <a:latin typeface="Times New Roman Cyr"/>
              </a:rPr>
              <a:t>:</a:t>
            </a: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$ 40</a:t>
            </a:r>
            <a:r>
              <a:rPr b="1" lang="en-US" sz="3600" spc="-1" strike="noStrike">
                <a:solidFill>
                  <a:srgbClr val="336600"/>
                </a:solidFill>
                <a:latin typeface="Times New Roman Cyr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миллиардо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обенности малого и крупного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3284280"/>
            <a:ext cx="85690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 квартиль – до 2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 квартиль – от 200 000 до 8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3 квартиль – от 800 000 до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4 квартиль – свыше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184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Квартильное разбиение фирм по месячному оборот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пешность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116000" y="1976400"/>
            <a:ext cx="6840720" cy="3851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2:45:07Z</dcterms:modified>
  <cp:revision>74</cp:revision>
  <dc:subject/>
  <dc:title>PowerPoint Presentation</dc:title>
</cp:coreProperties>
</file>