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camera.wav" ContentType="audio/x-wav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8329-846E-4980-9E41-584C34067F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F6E-0B50-41B3-9B71-8A8B4BD2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3C3-1855-4C82-A217-65923E92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E3B-509E-40E1-B48B-459F0A4C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33D-CD18-433C-8B61-D843A5C5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0B6B-4E65-43A3-85EA-D8E3F2E5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EE9D-56B7-4D98-949E-2D4A0DC1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D65E-917D-4358-837F-89BCBD8E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35F0-79C4-4519-BB1D-BCA03C9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5147-123F-4E63-BA5A-41219B0E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B7C1-E2F5-43CC-A402-8A96184A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B46A-27B1-4C59-B515-3DB95530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EFB-BC5C-47FB-ABB0-232F8EBD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934E-A71E-46C3-994D-53B5297A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1854-BC66-40B3-BC91-85D319A2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F760-8E60-4891-97DD-2CCDCE4C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46C8-6C04-4421-A4C0-394CF190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6B34-DB89-4BB2-A0BA-79C0BEA4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120-4CD8-4373-A471-DC57AE75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B0A-A21E-49B1-BDBE-A10714D9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9A0-5405-4295-ADB0-EF959F6D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C59-AA75-482A-8097-97BF95DC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40A-D57C-4647-AD44-66C234A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322-4B5B-4D6E-BF17-F49BEC8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BBC-8B8C-493F-BD60-D4880605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5E93-8046-4692-8280-41DFC8FED2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3CB9-B8CA-46CC-AB81-FED01CED4B79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indem.ru/" TargetMode="External"/><Relationship Id="rId4" Type="http://schemas.openxmlformats.org/officeDocument/2006/relationships/hyperlink" Target="mailto:fond@indem.r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6941880" cy="27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УП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468360" y="4773600"/>
          <a:ext cx="30258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73600"/>
                    <a:ext cx="30258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8"/>
          <p:cNvSpPr/>
          <p:nvPr/>
        </p:nvSpPr>
        <p:spPr>
          <a:xfrm>
            <a:off x="4643280" y="255600"/>
            <a:ext cx="424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www.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fond@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206-81-7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9" descr="mone0076"/>
          <p:cNvPicPr/>
          <p:nvPr/>
        </p:nvPicPr>
        <p:blipFill>
          <a:blip r:embed="rId5"/>
          <a:stretch/>
        </p:blipFill>
        <p:spPr>
          <a:xfrm>
            <a:off x="4427640" y="3371760"/>
            <a:ext cx="4338360" cy="31082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259920"/>
            <a:ext cx="71578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ценка уровня коррупции как высо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птим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1965240"/>
            <a:ext cx="6481800" cy="39798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ктивная вовлеченность в корруп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97440" cy="3797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збеган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2023920"/>
            <a:ext cx="66261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45632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стараются принять участие в борьбе с корруп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8920" y="2166840"/>
          <a:ext cx="6553080" cy="34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6840"/>
                    <a:ext cx="6553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38504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участвовать в распространении этического ко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408720" cy="36086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260280"/>
            <a:ext cx="745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поддержать усиление государственного контроля за расходами всех граж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2349360"/>
          <a:ext cx="676908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49360"/>
                    <a:ext cx="67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4563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"Нельзя допустить, чтобы вся власть попала в одни руки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4720" cy="37288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7157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ность голосовать за С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971640" y="2133720"/>
          <a:ext cx="712944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1294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1844640"/>
          <a:ext cx="5410080" cy="4754520"/>
        </p:xfrm>
        <a:graphic>
          <a:graphicData uri="http://schemas.openxmlformats.org/drawingml/2006/table">
            <a:tbl>
              <a:tblPr/>
              <a:tblGrid>
                <a:gridCol w="419076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упател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сам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т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4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вщ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вок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5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остранец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налис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берна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ст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ЛА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53680" y="1844640"/>
            <a:ext cx="8039880" cy="520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ррупция – это сигнал о неэффективност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372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844640"/>
          <a:ext cx="5334120" cy="4754520"/>
        </p:xfrm>
        <a:graphic>
          <a:graphicData uri="http://schemas.openxmlformats.org/drawingml/2006/table">
            <a:tbl>
              <a:tblPr/>
              <a:tblGrid>
                <a:gridCol w="3962520"/>
                <a:gridCol w="1371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3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пут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дь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6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кур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ицио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4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можен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7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нов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пектор (пожнадзора и т.п.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инспек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полицейский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9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ди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60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776240"/>
          <a:ext cx="8137440" cy="5062680"/>
        </p:xfrm>
        <a:graphic>
          <a:graphicData uri="http://schemas.openxmlformats.org/drawingml/2006/table">
            <a:tbl>
              <a:tblPr/>
              <a:tblGrid>
                <a:gridCol w="7067520"/>
                <a:gridCol w="1069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й уровень налоговых ставок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9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Запутанность норм налогового права (усложненность порядка взимания налогов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8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бюрократической машин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4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7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тсутствие ясной и четкой экономической политики государств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6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динаковое отношение бюрократии к разным фирмам (при толковании законов и правил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защищенность прав собственност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судебной систем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Дорогие кредит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бъективность, коррумпированность судебных решени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0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47628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844640"/>
          <a:ext cx="8686800" cy="464040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развитость экономической инфраструктур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7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облюдение всех правовых норм требует высоких затрат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4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ащивание власти и бизнес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3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нфля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издержек, связанных с соблюдением правовых нор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цены на энергоносител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становленное законом неравномерное распределение налогового бремен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честная (несправедливая) конкурен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5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транспортные расход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3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збирательный подход чиновников налоговых органов к взиманию налогов с разных налогоплательщиков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844640"/>
          <a:ext cx="8686800" cy="472428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головные преступления (хищения, кражи и т.д.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литическая нестабильность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алютное регулирование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торговлю с иностранными государствами (экспорт\импорт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4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пределенность исхода коррупционной сдел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ровень выплат криминальным структура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0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расходов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8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Большие расходы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7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Государственный контроль над ценам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создание коммерческой организаци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2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205000"/>
          <a:ext cx="8642160" cy="4378320"/>
        </p:xfrm>
        <a:graphic>
          <a:graphicData uri="http://schemas.openxmlformats.org/drawingml/2006/table">
            <a:tbl>
              <a:tblPr/>
              <a:tblGrid>
                <a:gridCol w="5184720"/>
                <a:gridCol w="865080"/>
                <a:gridCol w="863640"/>
                <a:gridCol w="863640"/>
                <a:gridCol w="865080"/>
              </a:tblGrid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сказуемость издержек, связанных с соблюдением правовых норм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азвитость экономической инфраструктур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ляция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ъективность, коррумпированность судебных решений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е транспортные расход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05"/>
          <p:cNvSpPr/>
          <p:nvPr/>
        </p:nvSpPr>
        <p:spPr>
          <a:xfrm>
            <a:off x="651672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варт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71578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950920" cy="2739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ЕЩЕ 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763640" y="1773360"/>
          <a:ext cx="55897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5897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РП И КОРРУПЦИЯ В РОССИЙСКИХ РЕГИ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133720"/>
          <a:ext cx="8496000" cy="4190760"/>
        </p:xfrm>
        <a:graphic>
          <a:graphicData uri="http://schemas.openxmlformats.org/drawingml/2006/table">
            <a:tbl>
              <a:tblPr/>
              <a:tblGrid>
                <a:gridCol w="4464000"/>
                <a:gridCol w="172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дикато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упци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еля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верительная вероятност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законода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5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0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исполни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40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1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гральный индекс объема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м-пированности региональной власт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нсивность деловой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ТУАЦИЯ В РОССИ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1636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ррупционные рынки –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разные виды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700280"/>
          <a:ext cx="8353440" cy="4841640"/>
        </p:xfrm>
        <a:graphic>
          <a:graphicData uri="http://schemas.openxmlformats.org/drawingml/2006/table">
            <a:tbl>
              <a:tblPr/>
              <a:tblGrid>
                <a:gridCol w="2089080"/>
                <a:gridCol w="2162160"/>
                <a:gridCol w="2013120"/>
                <a:gridCol w="2089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ид регулирова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лотность коррупцио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ых сдело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едний размер взяток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(тыс.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бъем (в %) коррупционного рын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финансовое контрольное, надзор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53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Фискальное, налогов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83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Лицензио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68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аможе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2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равоохрани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ель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бщий годовой объем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ынка деловой корруп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752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 Cyr"/>
              </a:rPr>
              <a:t>$ 33,5 миллиардов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4" descr="1-2"/>
          <p:cNvPicPr/>
          <p:nvPr/>
        </p:nvPicPr>
        <p:blipFill>
          <a:blip r:embed="rId1"/>
          <a:stretch/>
        </p:blipFill>
        <p:spPr>
          <a:xfrm>
            <a:off x="468360" y="2946240"/>
            <a:ext cx="3798720" cy="347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495680" y="2860560"/>
            <a:ext cx="441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Для сравнения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Доходная часть федерального бюджета России в 2000 г.</a:t>
            </a:r>
            <a:r>
              <a:rPr b="0" lang="en-US" sz="2800" spc="-1" strike="noStrike">
                <a:solidFill>
                  <a:srgbClr val="292929"/>
                </a:solidFill>
                <a:latin typeface="Times New Roman Cyr"/>
              </a:rPr>
              <a:t>:</a:t>
            </a: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$ 40</a:t>
            </a:r>
            <a:r>
              <a:rPr b="1" lang="en-US" sz="3600" spc="-1" strike="noStrike">
                <a:solidFill>
                  <a:srgbClr val="336600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миллиардо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обенности малого и круп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8569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 квартиль – до 2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 квартиль – от 200 000 до 8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квартиль – от 800 000 до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4 квартиль – свыше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84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Квартильное разбиение фирм по месячному обор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пешность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116000" y="1976400"/>
            <a:ext cx="6840720" cy="3851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2:45:07Z</dcterms:modified>
  <cp:revision>74</cp:revision>
  <dc:subject/>
  <dc:title>PowerPoint Presentation</dc:title>
</cp:coreProperties>
</file>