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A014-46D5-4BEA-A2A6-0873016C86C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оративная социальная ответственность: институциональная теория и российская практик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. Полищ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: институциональная теория и российская практика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. Полищу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– современное воплощение частного урегулирования экстерналий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ая ответственность компаний – результат явных и неявных консультаций со стейкхолдерами, в результате которых компания получает «общественную лицензию» (social license to operate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Corporate legitimacy is being socially constructed in discursive process” (J.Ludischer, A. McWilliams, and D.Siege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договоренностей – обязательства компаний относительно своей производственной деятельности и (односторонние) платежи, компенсирующие стейкхолдеров за нарушение их «естественных прав» (property rules vs. liability rule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– современное воплощение частного урегулирования экстерналий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ая ответственность компаний – результат явных и неявных консультаций со стейкхолдерами, в результате которых компания получает «общественную лицензию» (social license to operate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Corporate legitimacy is being socially constructed in discursive process” (J.Ludischer, A. McWilliams, and D.Sieg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договоренностей – обязательства компаний относительно своей производственной деятельности и (односторонние) платежи, компенсирующие стейкхолдеров за нарушение их «естественных прав» (property rules vs. liability rul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чего зависят сравнительные преимущества КСО перед госрегулированием?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фера 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я и потенциал государственного управл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и структура экономики и рынк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ояние общ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циональная сред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 чего зависят сравнительные преимущества КСО перед госрегулированием?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регул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я и потенциал государственного управл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и структура экономики и рынк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яние обще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итуциональная сре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требность в регулировании и эффективность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шире проблематика регулирования (возможность возникновения «провалов рынка») и чем больше оснований сомневаться в способности государства должным образом осуществлять регулятивные функции, тем более, при прочих равных условиях, может быть востребовано КС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более эффективно справляется со сравнительно простыми задачами регулирования. Информационная асимметрия – фактор, благоприятствующий КСО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наличия необходимого опыта и знаний, административной культуры, должных стимулов, подотчетности и прозрачности, а также возможности справедливого разрешения споров госрегулирование оказывается неэффективны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требность в регулировании и эффективность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шире проблематика регулирования (возможность возникновения «провалов рынка») и чем больше оснований сомневаться в способности государства должным образом осуществлять регулятивные функции, тем более, при прочих равных условиях, может быть востребовано КС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более эффективно справляется со сравнительно простыми задачами регулирования. Информационная асимметрия – фактор, благоприятствующий КСО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 наличия необходимого опыта и знаний, административной культуры, должных стимулов, подотчетности и прозрачности, а также возможности справедливого разрешения споров госрегулирование оказывается неэффективны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ль (де)центра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трализация регулятивных функций и государственных финансов усиливает «спрос» на КСО. Информационная асимметрия и разнообразие местных условия пагубно сказываются на эффективности централизованного регулирования, а дисбаланс между доходами и обязательствами региональных и местных органов власти заставляет искать помощи у комп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 КСО в обмен на уклонение от налог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P. Haaparanta, T. Juurikkala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ль (де)централиза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трализация регулятивных функций и государственных финансов усиливает «спрос» на КСО. Информационная асимметрия и разнообразие местных условия пагубно сказываются на эффективности централизованного регулирования, а дисбаланс между доходами и обязательствами региональных и местных органов власти заставляет искать помощи у компан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: КСО в обмен на уклонение от налог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P. Haaparanta, T. Juurikkala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словиях высокой концентрации производства для крупнейших фирм производственная и социальная инфраструктура становится в значительной степени «внутренним делом» и проблема «безбилетника» утрачивает остроту. Вдобавок предприятие и город или регион становятся сравнимыми по значению партнерами и нуждаются в специфических инвестициях, которые оформляются в виде КС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ственность «градообразующих предприятий» за социальные услуги и инфраструктуру – воплощение старых практик в современной форме КС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условиях высокой концентрации производства для крупнейших фирм производственная и социальная инфраструктура становится в значительной степени «внутренним делом» и проблема «безбилетника» утрачивает остроту. Вдобавок предприятие и город или регион становятся сравнимыми по значению партнерами и нуждаются в специфических инвестициях, которые оформляются в виде КС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ветственность «градообразующих предприятий» за социальные услуги и инфраструктуру – воплощение старых практик в современной форме КСО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енность прав собств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а собственности определяют точку «статус-кво» – исходный пункт переговоров по Коузу. КСО – результат согласования реализации компанией своих прав собственности с правами стейкхолдеров, которые затрагиваются деятельностью компан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язвимость прав собственности повышает уязвимость компаний к давлению извне в отношении распоряжения правами контроля и дохода. Рост «количества» КСО сопровождается в таком случае снижением его социально-экономического качества и превращает в инструмент эрозии прав собственности. Такой вывод согласуется с теоремой Коуза, поскольку неопределенность прав собственности влечет за собой рост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а собственности определяют точку «статус-кво» – исходный пункт переговоров по Коузу. КСО – результат согласования реализации компанией своих прав собственности с правами стейкхолдеров, которые затрагиваются деятельностью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язвимость прав собственности повышает уязвимость компаний к давлению извне в отношении распоряжения правами контроля и дохода. Рост «количества» КСО сопровождается в таком случае снижением его социально-экономического качества и превращает в инструмент эрозии прав собственности. Такой вывод согласуется с теоремой Коуза, поскольку неопределенность прав собственности влечет за собой рост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упление «первородного грех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находится на 92-м месте из 115 стран по защите прав собственности (International Property Rights Index Report 2008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фицит легитимности прав собственности придает вес требованиям «делиться надо». Социальные инвестиции российских компаний рассматриваются как средство искупления «первородного греха» и коррелированны с сомнениями в легитимности прав собственности акционеров (T. Frye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купление «первородного греха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я находится на 92-м месте из 115 стран по защите прав собственности (International Property Rights Index Report 2008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фицит легитимности прав собственности придает вес требованиям «делиться надо». Социальные инвестиции российских компаний рассматриваются как средство искупления «первородного греха» и коррелированны с сомнениями в легитимности прав собственности акционеров (T. Frye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капи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ость КСО зависит от способности общества осознать и защищать свои интересы. Такая способность, в свою очередь, обеспечивается социальным капиталом – нормами, ценностями, культурой, доверием, способностью к самоорганизации и сотрудничеств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 ответственное поведение компаний – общественное благо, и эффективное КСО сталкивается таким образом с проблемой коллективных действий. Неспособность общества эффективно разрешить эту проблему пагубно сказывается на эффективности КСО и создает предпосылки для «захвата» института КСО узкими группами интересов (CSR as “stakeholder management”). При этом также может произойти рост «количества» КСО в ущерб его качеству. Договоренности между компаниями и организованными интересами могут достигаться за счет не представленных сторон и наносить урон интересам общества в це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й капита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ффективность КСО зависит от способности общества осознать и защищать свои интересы. Такая способность, в свою очередь, обеспечивается социальным капиталом – нормами, ценностями, культурой, доверием, способностью к самоорганизации и сотрудничеству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о ответственное поведение компаний – общественное благо, и эффективное КСО сталкивается таким образом с проблемой коллективных действий. Неспособность общества эффективно разрешить эту проблему пагубно сказывается на эффективности КСО и создает предпосылки для «захвата» института КСО узкими группами интересов (CSR as “stakeholder management”). При этом также может произойти рост «количества» КСО в ущерб его качеству. Договоренности между компаниями и организованными интересами могут достигаться за счет не представленных сторон и наносить урон интересам общества в целом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вместо обще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ой России отмечается острый дефицит социального капитала (R. Rose), и общество не является должным образом представленным в диалоге с компа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куум заполняется государством; командно-административный мотив преобладает в российской социальной ответственности (О. Сысуев), государство является «одним из главных и бдительных стейкхолдеров» в российском КСО, которое нередко носит «добровольно-принудительный» характе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ространены также более или менее добровольные соглашения государственных органов и компаний, известные как «частно-государственные партнерств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место обще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овременной России отмечается острый дефицит социального капитала (R. Rose), и общество не является должным образом представленным в диалоге с компаниям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акуум заполняется государством; командно-административный мотив преобладает в российской социальной ответственности (О. Сысуев), государство является «одним из главных и бдительных стейкхолдеров» в российском КСО, которое нередко носит «добровольно-принудительный» характер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остранены также более или менее добровольные соглашения государственных органов и компаний, известные как «частно-государственные партнерства»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строить экономическую теорию КСО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бъяснить разнообразие и эволюцию моделей КСО(«позитивный» аспект)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ценить эффективность КСО («нормативный» аспект)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нтерпретировать полученные выводы применительно к России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просы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построить экономическую теорию КСО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объяснить разнообразие и эволюцию моделей КСО(«позитивный» аспект)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оценить эффективность КСО («нормативный» аспект)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интерпретировать полученные выводы применительно к России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fer to 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nsfer to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КС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поративная социальная ответственность – учет компаниями в своей деятельности общественных интересов (интересов стейкхолдеров) сверх прямых требований рынка и действующего законодатель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A. McWilliams, D. Siegel: “… actions that appear to further some social good, beyond the interests of the firm and that which is required by law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КСО: самоограничение в производственной деятельности и «социальные инвестиции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КС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 – учет компаниями в своей деятельности общественных интересов (интересов стейкхолдеров) сверх прямых требований рынка и действующего законодатель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A. McWilliams, D. Siegel: “… actions that appear to further some social good, beyond the interests of the firm and that which is required by law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рмы КСО: самоограничение в производственной деятельности и «социальные инвестиции»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вод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очих равных условиях КСО может составить альтернативу государственному регулированию при негибкости последнего и разнообразии местных условий, а также при наличии достаточного социального капит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не дает желаемого эффекта при нехватке социального капитала и незащищенности прав собств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воды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прочих равных условиях КСО может составить альтернативу государственному регулированию при негибкости последнего и разнообразии местных условий, а также при наличии достаточного социального капитал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не дает желаемого эффекта при нехватке социального капитала и незащищенности прав собственн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ая модель КСО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чины аномальных масштабов социальных инвестиций в Росси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численные погрешности и пробелы в законодательстве, правоприменении и государственном регулировании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резмерная централизация бюджетных ресурсов и регулятивных полномоч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жность экономических, социальных, экологических и пр. пробл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азвитость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центрация производства и богат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риятие в обществе сложившегося институционального поряд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в России следует рассматривать как естественную институциональную реакцию на перечисленные особ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ая модель КСО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аномальных масштабов социальных инвестиций в Росси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численные погрешности и пробелы в законодательстве, правоприменении и государственном регулировании экономи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резмерная централизация бюджетных ресурсов и регулятивных полномоч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жность экономических, социальных, экологических и пр. пробл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азвитость рынк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центрация производства и богат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приятие в обществе сложившегося институционального поряд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в России следует рассматривать как естественную институциональную реакцию на перечисленные особен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Латание дыр» (quick fixes) или завершение рефор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звитых странах КСО конкурирует с эффективной системой государственного регулирования и финансов. В России оно замещает многие элементы этой системы, но не является их полноценной альтернатив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е инвестиции как замена обычных бюджетных доходов нарушают принципы целостности и подотчетности и смягчают бюджетные ограничения в госсект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омпаний «добровольно-принудительные» пожертвования становятся непредсказуемым налогом, который выхолащивает усилия по сокращению налогового бремени («шаг вперед, шаг назад», или seesaw effect;  D. Acemoglu, J.Robinso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Латание дыр» (quick fixes) или завершение рефор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развитых странах КСО конкурирует с эффективной системой государственного регулирования и финансов. В России оно замещает многие элементы этой системы, но не является их полноценной альтернатив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е инвестиции как замена обычных бюджетных доходов нарушают принципы целостности и подотчетности и смягчают бюджетные ограничения в госсекто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компаний «добровольно-принудительные» пожертвования становятся непредсказуемым налогом, который выхолащивает усилия по сокращению налогового бремени («шаг вперед, шаг назад», или seesaw effect;  D. Acemoglu, J.Robinso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тельство как основной “заказчик» КС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иворечие с фундаментальным представлением о КСО как частной альтернативе государственному регулирова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правительство заменяет слабое гражданское общество в диалоге с бизнесом, то оно должно действовать стандартными прозрачными инструментами государственного воздействия на частный сект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тельство как основной “заказчик» КС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иворечие с фундаментальным представлением о КСО как частной альтернативе государственному регулировани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правительство заменяет слабое гражданское общество в диалоге с бизнесом, то оно должно действовать стандартными прозрачными инструментами государственного воздействия на частный сек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мены между бизнесом и власть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мнения в качестве представления общественных интересов: приоритеты политиков не всегда тождественны общественным нужд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нии ценят возможность обменивать лояльность и «правильные» инвестиции на «режим наибольшего благоприятствования», эксклюзивные привилегии и защиту от конкур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просе Ассоциации менеджеров (2008) 94% респондентов высказали мнение, что социальные инвестиции должны «материально поощряться» власт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легитимизирует обмены между бизнесом и властью и сокращает соответствующие транзакционные издерж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мены между бизнесом и власть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мнения в качестве представления общественных интересов: приоритеты политиков не всегда тождественны общественным нужда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ании ценят возможность обменивать лояльность и «правильные» инвестиции на «режим наибольшего благоприятствования», эксклюзивные привилегии и защиту от конкур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опросе Ассоциации менеджеров (2008) 94% респондентов высказали мнение, что социальные инвестиции должны «материально поощряться» власт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легитимизирует обмены между бизнесом и властью и сокращает соответствующие транзакционные издерж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iticians and Firms (Shleifer, Vishny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iticians and Firms (Shleifer, Vishn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циональные предпосылки эффективного КСО (institutional complemenarity; P. Milgrom, M.Aoki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жданская актив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зрачность и подотчетность в частном и государственном секто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щенность прав собствен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бость гражданского общества и уязвимость прав собственности оказывают негативно отражаются на эффективности КСО в Ро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ыв между «быстрой» и «медленной» институциональной динамикой (fast-moving and slow-moving institutions; G. Roland) лишает российское КСО корней в обществе и делает его уязвимым к «захвату» (capture) с целью извлечения ренты из «недореформированной» экономики (J. Hellman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итуциональные предпосылки эффективного КСО (institutional complemenarity; P. Milgrom, M.Aoki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жданская актив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зрачность и подотчетность в частном и государственном сектор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бость гражданского общества и уязвимость прав собственности оказывают негативно отражаются на эффективности КСО в Росс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ыв между «быстрой» и «медленной» институциональной динамикой (fast-moving and slow-moving institutions; G. Roland) лишает российское КСО корней в обществе и делает его уязвимым к «захвату» (capture) с целью извлечения ренты из «недореформированной» экономики (J. Hellman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в России: возрождение тради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ие предприятия «социально гиперответственны» (Я. Паппэ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кризисные социальные инвестиции многократно превосходили западные стандар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йское КСО – сплав советской патерналистской традиции и современных международных стандартов корпоративного управл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нии дополняют и нередко замещают государственные социальные и инфраструктурные программы и службы, а корпоративные пожертвования становятся весомой альтернативой государственных финанс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в России: возрождение тради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ие предприятия «социально гиперответственны» (Я. Паппэ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ризисные социальные инвестиции многократно превосходили западные стандарт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оссийское КСО – сплав советской патерналистской традиции и современных международных стандартов корпоративного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пании дополняют и нередко замещают государственные социальные и инфраструктурные программы и службы, а корпоративные пожертвования становятся весомой альтернативой государственных финанс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Основания КС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Friedman: “the social responsibility of business is to increase its profit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нцепция множественности стейкхолдеров – компания де факто подотчетна не только акционер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orter, M.Kramer: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СО – источник конкурентных преимуществ («и нашим, и вашим»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снования КС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iedman: “the social responsibility of business is to increase its profits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онцепция множественности стейкхолдеров – компания де факто подотчетна не только акционера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М.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orter, M.Kramer: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КСО – источник конкурентных преимуществ («и нашим, и вашим»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новидности КС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ый маркетинг (дифференциация продукт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Бесплатные обеды» (прямая заинтересованность в общественных благах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тегическое (ая?) КСО (воздействие на поведение стейкхолдеро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овидности КС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циальный маркетинг (дифференциация продуктов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«Бесплатные обеды» (прямая заинтересованность в общественных благах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атегическое (ая?) КСО (воздействие на поведение стейкхолдеров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СО и экстернал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терналия – синоним «нерыночного» воздействия компаний на стейкхолде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терналии составляют материальную основу КС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СО и экстерна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терналия – синоним «нерыночного» воздействия компаний на стейкхолде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стерналии составляют материальную основу КС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ы координации в эконом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 у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дебное у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регулирован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из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между механизмами координации зависит от их сравнительных достоинств и недостатков, которые изменяются со временем и от одной страны и общества к другому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: внедрение государственного регулирования в США (E.Glaser, A.Shleifer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ханизмы координации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ое урегулиров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дебное урегулиров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ционализа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ор между механизмами координации зависит от их сравнительных достоинств и недостатков, которые изменяются со временем и от одной страны и общества к другом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мер: внедрение государственного регулирования в США (E.Glaser, A.Shleifer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альтернатива государственному регулировани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R.Coase: экономические агенты способны самостоятельно уладить возникающие между ними проблемы путем договоренности при условии небольших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ки государственного регулирован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очность нацеливания (тупой инструмент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можность «захвата» (capture) и нецелевого при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статочная эффективность администр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аздывание госрегулиро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 альтернатива государственному регулированию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R.Coase: экономические агенты способны самостоятельно уладить возникающие между ними проблемы путем договоренности при условии небольших транзакционных издерж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ки государственного регулирования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точность нацеливания (тупой инструмент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«захвата» (capture) и нецелевого примен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статочная эффективность администр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паздывание госрегул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E5C6-D628-4B9F-8418-F32EF1440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221F-99DC-4E05-947A-E5D25DF11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ED92-4051-46F5-8F28-A0BAD0971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E29F-2E89-41ED-955E-07D2B5BC1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A8BE-44C2-4436-A5B3-ECE65305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1299-6666-4385-8D72-F74BC240E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DB683-C5D8-42CB-A404-D8323363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E9B1-3654-4E72-8968-50B80B498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8A47-87E4-4BA2-9F7F-DADA30AC4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BD64-65B8-4E79-A6C9-046DAF31F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19BD-C8E6-4328-8ACE-DAF398314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CD94-593C-4FF7-8F30-D2A2E75D0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46B0-18F6-4158-9204-D09E74EFF3C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1125000"/>
            <a:ext cx="7846920" cy="247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: институциональная теория и российская практика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. Полищу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СО – современное воплощение частного урегулирования экстерналий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ая ответственность компаний – результат явных и неявных консультаций со стейкхолдерами, в результате которых компания получает «общественную лицензию»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ial license to operat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porate legitimacy is being socially constructed in discursive process” (J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udischer, A. McWilliams, and D.Sieg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держание договоренностей – обязательства компаний относительно своей производственной деятельности и (односторонние) платежи, компенсирующие стейкхолдеров за нарушение их «естественных прав»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roperty rules vs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liability rule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 чего зависят сравнительные преимущества КСО перед госрегулированием?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21844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фера регул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рганизация и потенциал государственного управл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и структура экономики и рынк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стояние обще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ституциональная сред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требность в регулировании и эффективность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62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Чем шире проблематика регулирования (возможность возникновения «провалов рынка») и чем больше оснований сомневаться в способности государства должным образом осуществлять регулятивные функции, тем более, при прочих равных условиях, может быть востребовано КС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осударство более эффективно справляется со сравнительно простыми задачами регулирования. Информационная асимметрия – фактор, благоприятствующий КСО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ез наличия необходимого опыта и знаний, административной культуры, должных стимулов, подотчетности и прозрачности, а также возможности справедливого разрешения споров госрегулирование оказывается неэффективны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оль (де)централиза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нтрализация регулятивных функций и государственных финансов усиливает «спрос» на КСО. Информационная асимметрия и разнообразие местных условия пагубно сказываются на эффективности централизованного регулирования, а дисбаланс между доходами и обязательствами региональных и местных органов власти заставляет искать помощи у компа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: КСО в обмен на уклонение от налого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Haaparant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Juurikkal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труктура рын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условиях высокой концентрации производства для крупнейших фирм производственная и социальная инфраструктура становится в значительной степени «внутренним делом» и проблема «безбилетника» утрачивает остроту. Вдобавок предприятие и город или регион становятся сравнимыми по значению партнерами и нуждаются в специфических инвестициях, которые оформляются в виде КС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ветственность «градообразующих предприятий» за социальные услуги и инфраструктуру – воплощение старых практик в современной форме КС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10920" y="1628640"/>
            <a:ext cx="82818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ава собственности определяют точку «статус-кво» – исходный пункт переговоров по Коузу. КСО – результат согласования реализации компанией своих прав собственности с правами стейкхолдеров, которые затрагиваются деятельностью компани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язвимость прав собственности повышает уязвимость компаний к давлению извне в отношении распоряжения правами контроля и дохода. Рост «количества» КСО сопровождается в таком случае снижением его социально-экономического качества и превращает в инструмент эрозии прав собственности. Такой вывод согласуется с теоремой Коуза, поскольку неопределенность прав собственности влечет за собой рост транзакционных издерж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купление «первородного греха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оссия находится на 92-м месте из 115 стран по защите прав собственности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International Property Rights Index Repor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2008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ефицит легитимности прав собственности придает вес требованиям «делиться надо». Социальные инвестиции российских компаний рассматриваются как средство искупления «первородного греха» и коррелированны с сомнениями в легитимности прав собственности акционеров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Fry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91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оциальный капита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5075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Эффективность КСО зависит от способности общества осознать и защищать свои интересы. Такая способность, в свою очередь, обеспечивается социальным капиталом – нормами, ценностями, культурой, доверием, способностью к самоорганизации и сотрудничеству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оциально ответственное поведение компаний – общественное благо, и эффективное КСО сталкивается таким образом с проблемой коллективных действий. Неспособность общества эффективно разрешить эту проблему пагубно сказывается на эффективности КСО и создает предпосылки для «захвата» института КСО узкими группами интересов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CSR as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“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MS PGothic"/>
              </a:rPr>
              <a:t>stakeholder managemen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”). При этом также может произойти рост «количества» КСО в ущерб его качеству. Договоренности между компаниями и организованными интересами могут достигаться за счет не представленных сторон и наносить урон интересам общества в цело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Государство вместо обществ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современной России отмечается острый дефицит социального капитала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Rose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, и общество не является должным образом представленным в диалоге с компани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акуум заполняется государством; командно-административный мотив преобладает в российской социальной ответственности (О. Сысуев), государство является «одним из главных и бдительных стейкхолдеров» в российском КСО, которое нередко носит «добровольно-принудительный» характер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спространены также более или менее добровольные соглашения государственных органов и компаний, известные как «частно-государственные партнерства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611280" y="1890720"/>
            <a:ext cx="8137440" cy="29163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692280"/>
            <a:ext cx="821844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опросы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построить экономическую теорию КСО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объяснить разнообразие и эволюцию моделей КСО(«позитивный» аспект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оценить эффективность КСО («нормативный» аспект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 интерпретировать полученные выводы применительно к России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5" descr=""/>
          <p:cNvPicPr/>
          <p:nvPr/>
        </p:nvPicPr>
        <p:blipFill>
          <a:blip r:embed="rId1"/>
          <a:stretch/>
        </p:blipFill>
        <p:spPr>
          <a:xfrm>
            <a:off x="395280" y="2981160"/>
            <a:ext cx="8137440" cy="143532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79280" y="1455840"/>
            <a:ext cx="8064720" cy="2985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324000" y="2482920"/>
            <a:ext cx="8280360" cy="202572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42"/>
          <p:cNvGrpSpPr/>
          <p:nvPr/>
        </p:nvGrpSpPr>
        <p:grpSpPr>
          <a:xfrm>
            <a:off x="1197000" y="1784880"/>
            <a:ext cx="3879720" cy="3503160"/>
            <a:chOff x="1197000" y="1784880"/>
            <a:chExt cx="3879720" cy="3503160"/>
          </a:xfrm>
        </p:grpSpPr>
        <p:sp>
          <p:nvSpPr>
            <p:cNvPr id="110" name="Oval 43"/>
            <p:cNvSpPr/>
            <p:nvPr/>
          </p:nvSpPr>
          <p:spPr>
            <a:xfrm>
              <a:off x="1618200" y="3452760"/>
              <a:ext cx="9000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44"/>
            <p:cNvSpPr/>
            <p:nvPr/>
          </p:nvSpPr>
          <p:spPr>
            <a:xfrm flipV="1">
              <a:off x="1197000" y="2529360"/>
              <a:ext cx="0" cy="27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45"/>
            <p:cNvSpPr/>
            <p:nvPr/>
          </p:nvSpPr>
          <p:spPr>
            <a:xfrm>
              <a:off x="1197000" y="5288040"/>
              <a:ext cx="387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46"/>
            <p:cNvSpPr/>
            <p:nvPr/>
          </p:nvSpPr>
          <p:spPr>
            <a:xfrm>
              <a:off x="2449440" y="4230720"/>
              <a:ext cx="90000" cy="86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Arc 47"/>
            <p:cNvSpPr/>
            <p:nvPr/>
          </p:nvSpPr>
          <p:spPr>
            <a:xfrm rot="10158600">
              <a:off x="1666800" y="2307240"/>
              <a:ext cx="2746440" cy="2599920"/>
            </a:xfrm>
            <a:custGeom>
              <a:avLst/>
              <a:gdLst>
                <a:gd name="textAreaLeft" fmla="*/ 0 w 2746440"/>
                <a:gd name="textAreaRight" fmla="*/ 2746800 w 2746440"/>
                <a:gd name="textAreaTop" fmla="*/ 0 h 2599920"/>
                <a:gd name="textAreaBottom" fmla="*/ 2600280 h 2599920"/>
              </a:gdLst>
              <a:ahLst/>
              <a:rect l="textAreaLeft" t="textAreaTop" r="textAreaRight" b="textAreaBottom"/>
              <a:pathLst>
                <a:path fill="none" w="20456" h="21408">
                  <a:moveTo>
                    <a:pt x="2872" y="-1"/>
                  </a:moveTo>
                  <a:cubicBezTo>
                    <a:pt x="11006" y="1091"/>
                    <a:pt x="17819" y="6698"/>
                    <a:pt x="20455" y="14471"/>
                  </a:cubicBezTo>
                </a:path>
                <a:path stroke="0" w="20456" h="21408">
                  <a:moveTo>
                    <a:pt x="2872" y="-1"/>
                  </a:moveTo>
                  <a:cubicBezTo>
                    <a:pt x="11006" y="1091"/>
                    <a:pt x="17819" y="6698"/>
                    <a:pt x="20455" y="14471"/>
                  </a:cubicBezTo>
                  <a:lnTo>
                    <a:pt x="0" y="21408"/>
                  </a:lnTo>
                  <a:lnTo>
                    <a:pt x="2872" y="-1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Arc 48"/>
            <p:cNvSpPr/>
            <p:nvPr/>
          </p:nvSpPr>
          <p:spPr>
            <a:xfrm rot="11959200">
              <a:off x="1672200" y="2133360"/>
              <a:ext cx="2555640" cy="2622960"/>
            </a:xfrm>
            <a:custGeom>
              <a:avLst/>
              <a:gdLst>
                <a:gd name="textAreaLeft" fmla="*/ 0 w 2555640"/>
                <a:gd name="textAreaRight" fmla="*/ 2556000 w 2555640"/>
                <a:gd name="textAreaTop" fmla="*/ 0 h 2622960"/>
                <a:gd name="textAreaBottom" fmla="*/ 2623320 h 2622960"/>
              </a:gdLst>
              <a:ahLst/>
              <a:rect l="textAreaLeft" t="textAreaTop" r="textAreaRight" b="textAreaBottom"/>
              <a:pathLst>
                <a:path fill="none" w="19976" h="21600">
                  <a:moveTo>
                    <a:pt x="-1" y="0"/>
                  </a:moveTo>
                  <a:cubicBezTo>
                    <a:pt x="8755" y="0"/>
                    <a:pt x="16644" y="5285"/>
                    <a:pt x="19975" y="13382"/>
                  </a:cubicBezTo>
                </a:path>
                <a:path stroke="0" w="19976" h="21600">
                  <a:moveTo>
                    <a:pt x="-1" y="0"/>
                  </a:moveTo>
                  <a:cubicBezTo>
                    <a:pt x="8755" y="0"/>
                    <a:pt x="16644" y="5285"/>
                    <a:pt x="19975" y="1338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Rectangle 62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61"/>
              <p:cNvSpPr txBox="1"/>
              <p:nvPr/>
            </p:nvSpPr>
            <p:spPr>
              <a:xfrm>
                <a:off x="4284720" y="4081320"/>
                <a:ext cx="12952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Rectangle 66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65"/>
              <p:cNvSpPr txBox="1"/>
              <p:nvPr/>
            </p:nvSpPr>
            <p:spPr>
              <a:xfrm>
                <a:off x="1976400" y="4289400"/>
                <a:ext cx="43200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Rectangle 68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67"/>
              <p:cNvSpPr txBox="1"/>
              <p:nvPr/>
            </p:nvSpPr>
            <p:spPr>
              <a:xfrm>
                <a:off x="4660920" y="5373720"/>
                <a:ext cx="35064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" name="Rectangle 70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Object 69"/>
              <p:cNvSpPr txBox="1"/>
              <p:nvPr/>
            </p:nvSpPr>
            <p:spPr>
              <a:xfrm>
                <a:off x="649440" y="2205000"/>
                <a:ext cx="419040" cy="5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Rectangle 72"/>
          <p:cNvSpPr/>
          <p:nvPr/>
        </p:nvSpPr>
        <p:spPr>
          <a:xfrm>
            <a:off x="0" y="33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71"/>
              <p:cNvSpPr txBox="1"/>
              <p:nvPr/>
            </p:nvSpPr>
            <p:spPr>
              <a:xfrm>
                <a:off x="1459080" y="2852640"/>
                <a:ext cx="3952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73"/>
              <p:cNvSpPr txBox="1"/>
              <p:nvPr/>
            </p:nvSpPr>
            <p:spPr>
              <a:xfrm>
                <a:off x="1908000" y="2565360"/>
                <a:ext cx="1224000" cy="4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с</m:t>
                        </m:r>
                      </m:e>
                      <m:sub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"/>
          <p:cNvPicPr/>
          <p:nvPr/>
        </p:nvPicPr>
        <p:blipFill>
          <a:blip r:embed="rId1"/>
          <a:stretch/>
        </p:blipFill>
        <p:spPr>
          <a:xfrm>
            <a:off x="395280" y="1660680"/>
            <a:ext cx="7777080" cy="2646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179280" y="1252440"/>
            <a:ext cx="8280360" cy="311148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395280" y="749160"/>
            <a:ext cx="7993080" cy="40230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250920" y="1781280"/>
            <a:ext cx="8188200" cy="24480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44"/>
          <p:cNvGrpSpPr/>
          <p:nvPr/>
        </p:nvGrpSpPr>
        <p:grpSpPr>
          <a:xfrm>
            <a:off x="1042920" y="2204640"/>
            <a:ext cx="3887640" cy="3047760"/>
            <a:chOff x="1042920" y="2204640"/>
            <a:chExt cx="3887640" cy="3047760"/>
          </a:xfrm>
        </p:grpSpPr>
        <p:sp>
          <p:nvSpPr>
            <p:cNvPr id="137" name="Oval 45"/>
            <p:cNvSpPr/>
            <p:nvPr/>
          </p:nvSpPr>
          <p:spPr>
            <a:xfrm>
              <a:off x="3123360" y="4179960"/>
              <a:ext cx="90000" cy="85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" name="Group 46"/>
            <p:cNvGrpSpPr/>
            <p:nvPr/>
          </p:nvGrpSpPr>
          <p:grpSpPr>
            <a:xfrm>
              <a:off x="1042920" y="2204640"/>
              <a:ext cx="3887640" cy="3047760"/>
              <a:chOff x="1042920" y="2204640"/>
              <a:chExt cx="3887640" cy="3047760"/>
            </a:xfrm>
          </p:grpSpPr>
          <p:sp>
            <p:nvSpPr>
              <p:cNvPr id="139" name="Line 47"/>
              <p:cNvSpPr/>
              <p:nvPr/>
            </p:nvSpPr>
            <p:spPr>
              <a:xfrm flipV="1">
                <a:off x="1046520" y="2204640"/>
                <a:ext cx="0" cy="27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Line 48"/>
              <p:cNvSpPr/>
              <p:nvPr/>
            </p:nvSpPr>
            <p:spPr>
              <a:xfrm>
                <a:off x="1046520" y="4925520"/>
                <a:ext cx="388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lg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" name="Group 49"/>
              <p:cNvGrpSpPr/>
              <p:nvPr/>
            </p:nvGrpSpPr>
            <p:grpSpPr>
              <a:xfrm>
                <a:off x="1042920" y="2495520"/>
                <a:ext cx="3830040" cy="2756880"/>
                <a:chOff x="1042920" y="2495520"/>
                <a:chExt cx="3830040" cy="2756880"/>
              </a:xfrm>
            </p:grpSpPr>
            <p:sp>
              <p:nvSpPr>
                <p:cNvPr id="142" name="Line 50"/>
                <p:cNvSpPr/>
                <p:nvPr/>
              </p:nvSpPr>
              <p:spPr>
                <a:xfrm>
                  <a:off x="3768480" y="3820320"/>
                  <a:ext cx="0" cy="1104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Arc 51"/>
                <p:cNvSpPr/>
                <p:nvPr/>
              </p:nvSpPr>
              <p:spPr>
                <a:xfrm>
                  <a:off x="1042920" y="2894760"/>
                  <a:ext cx="3114360" cy="2357640"/>
                </a:xfrm>
                <a:custGeom>
                  <a:avLst/>
                  <a:gdLst>
                    <a:gd name="textAreaLeft" fmla="*/ 0 w 3114360"/>
                    <a:gd name="textAreaRight" fmla="*/ 3114720 w 3114360"/>
                    <a:gd name="textAreaTop" fmla="*/ 0 h 2357640"/>
                    <a:gd name="textAreaBottom" fmla="*/ 2358000 h 2357640"/>
                  </a:gdLst>
                  <a:ahLst/>
                  <a:rect l="textAreaLeft" t="textAreaTop" r="textAreaRight" b="textAreaBottom"/>
                  <a:pathLst>
                    <a:path fill="none" w="21387" h="21600">
                      <a:moveTo>
                        <a:pt x="81" y="0"/>
                      </a:moveTo>
                      <a:cubicBezTo>
                        <a:pt x="10811" y="40"/>
                        <a:pt x="19884" y="7951"/>
                        <a:pt x="21387" y="18574"/>
                      </a:cubicBezTo>
                    </a:path>
                    <a:path stroke="0" w="21387" h="21600">
                      <a:moveTo>
                        <a:pt x="81" y="0"/>
                      </a:moveTo>
                      <a:cubicBezTo>
                        <a:pt x="10811" y="40"/>
                        <a:pt x="19884" y="7951"/>
                        <a:pt x="21387" y="18574"/>
                      </a:cubicBezTo>
                      <a:lnTo>
                        <a:pt x="0" y="21600"/>
                      </a:lnTo>
                      <a:lnTo>
                        <a:pt x="81" y="0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Line 52"/>
                <p:cNvSpPr/>
                <p:nvPr/>
              </p:nvSpPr>
              <p:spPr>
                <a:xfrm flipV="1">
                  <a:off x="3164400" y="4221000"/>
                  <a:ext cx="1325520" cy="46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" name="Group 53"/>
                <p:cNvGrpSpPr/>
                <p:nvPr/>
              </p:nvGrpSpPr>
              <p:grpSpPr>
                <a:xfrm>
                  <a:off x="1054800" y="2495520"/>
                  <a:ext cx="3818160" cy="2421720"/>
                  <a:chOff x="1054800" y="2495520"/>
                  <a:chExt cx="3818160" cy="2421720"/>
                </a:xfrm>
              </p:grpSpPr>
              <p:sp>
                <p:nvSpPr>
                  <p:cNvPr id="146" name="Line 54"/>
                  <p:cNvSpPr/>
                  <p:nvPr/>
                </p:nvSpPr>
                <p:spPr>
                  <a:xfrm flipV="1">
                    <a:off x="3172320" y="3850200"/>
                    <a:ext cx="560880" cy="3726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sm" type="triangle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Line 55"/>
                  <p:cNvSpPr/>
                  <p:nvPr/>
                </p:nvSpPr>
                <p:spPr>
                  <a:xfrm flipV="1">
                    <a:off x="1058400" y="3299760"/>
                    <a:ext cx="1791000" cy="1609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Oval 56"/>
                  <p:cNvSpPr/>
                  <p:nvPr/>
                </p:nvSpPr>
                <p:spPr>
                  <a:xfrm>
                    <a:off x="2800800" y="3268800"/>
                    <a:ext cx="90000" cy="8568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Line 57"/>
                  <p:cNvSpPr/>
                  <p:nvPr/>
                </p:nvSpPr>
                <p:spPr>
                  <a:xfrm>
                    <a:off x="1354680" y="2495520"/>
                    <a:ext cx="3518280" cy="19306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Line 58"/>
                  <p:cNvSpPr/>
                  <p:nvPr/>
                </p:nvSpPr>
                <p:spPr>
                  <a:xfrm flipH="1">
                    <a:off x="2828520" y="3325320"/>
                    <a:ext cx="15840" cy="1591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Line 59"/>
                  <p:cNvSpPr/>
                  <p:nvPr/>
                </p:nvSpPr>
                <p:spPr>
                  <a:xfrm>
                    <a:off x="1054800" y="3315240"/>
                    <a:ext cx="17910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Oval 60"/>
                  <p:cNvSpPr/>
                  <p:nvPr/>
                </p:nvSpPr>
                <p:spPr>
                  <a:xfrm>
                    <a:off x="3724200" y="3775320"/>
                    <a:ext cx="90000" cy="853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rm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3" name="Line 61"/>
                  <p:cNvSpPr/>
                  <p:nvPr/>
                </p:nvSpPr>
                <p:spPr>
                  <a:xfrm flipH="1">
                    <a:off x="3166920" y="3491640"/>
                    <a:ext cx="3600" cy="7228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" name="AutoShape 62"/>
              <p:cNvSpPr/>
              <p:nvPr/>
            </p:nvSpPr>
            <p:spPr>
              <a:xfrm flipH="1" rot="16200000">
                <a:off x="3169080" y="4651920"/>
                <a:ext cx="226800" cy="955080"/>
              </a:xfrm>
              <a:custGeom>
                <a:avLst/>
                <a:gdLst>
                  <a:gd name="textAreaLeft" fmla="*/ 360 w 226800"/>
                  <a:gd name="textAreaRight" fmla="*/ 82080 w 226800"/>
                  <a:gd name="textAreaTop" fmla="*/ 24840 h 955080"/>
                  <a:gd name="textAreaBottom" fmla="*/ 930240 h 95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" name="Rectangle 64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Object 63"/>
              <p:cNvSpPr txBox="1"/>
              <p:nvPr/>
            </p:nvSpPr>
            <p:spPr>
              <a:xfrm>
                <a:off x="2843280" y="2924280"/>
                <a:ext cx="86508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Text Box 65"/>
          <p:cNvSpPr/>
          <p:nvPr/>
        </p:nvSpPr>
        <p:spPr>
          <a:xfrm flipH="1">
            <a:off x="3852720" y="350028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6"/>
          <p:cNvSpPr/>
          <p:nvPr/>
        </p:nvSpPr>
        <p:spPr>
          <a:xfrm flipH="1">
            <a:off x="2986920" y="436572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7"/>
          <p:cNvSpPr/>
          <p:nvPr/>
        </p:nvSpPr>
        <p:spPr>
          <a:xfrm flipH="1">
            <a:off x="538920" y="1844640"/>
            <a:ext cx="792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68"/>
          <p:cNvSpPr/>
          <p:nvPr/>
        </p:nvSpPr>
        <p:spPr>
          <a:xfrm flipH="1">
            <a:off x="4355280" y="5013360"/>
            <a:ext cx="12956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69"/>
          <p:cNvSpPr/>
          <p:nvPr/>
        </p:nvSpPr>
        <p:spPr>
          <a:xfrm flipH="1">
            <a:off x="2411280" y="5300640"/>
            <a:ext cx="223200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Transfer to Commun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Group 6"/>
          <p:cNvGrpSpPr/>
          <p:nvPr/>
        </p:nvGrpSpPr>
        <p:grpSpPr>
          <a:xfrm>
            <a:off x="1116000" y="2060640"/>
            <a:ext cx="3960720" cy="3023640"/>
            <a:chOff x="1116000" y="2060640"/>
            <a:chExt cx="3960720" cy="3023640"/>
          </a:xfrm>
        </p:grpSpPr>
        <p:sp>
          <p:nvSpPr>
            <p:cNvPr id="164" name="Line 7"/>
            <p:cNvSpPr/>
            <p:nvPr/>
          </p:nvSpPr>
          <p:spPr>
            <a:xfrm flipV="1">
              <a:off x="1119960" y="2060640"/>
              <a:ext cx="0" cy="269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8"/>
            <p:cNvSpPr/>
            <p:nvPr/>
          </p:nvSpPr>
          <p:spPr>
            <a:xfrm>
              <a:off x="1119960" y="4759920"/>
              <a:ext cx="395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Arc 9"/>
            <p:cNvSpPr/>
            <p:nvPr/>
          </p:nvSpPr>
          <p:spPr>
            <a:xfrm>
              <a:off x="1116000" y="2745000"/>
              <a:ext cx="3172320" cy="2339280"/>
            </a:xfrm>
            <a:custGeom>
              <a:avLst/>
              <a:gdLst>
                <a:gd name="textAreaLeft" fmla="*/ 0 w 3172320"/>
                <a:gd name="textAreaRight" fmla="*/ 3172680 w 3172320"/>
                <a:gd name="textAreaTop" fmla="*/ 0 h 2339280"/>
                <a:gd name="textAreaBottom" fmla="*/ 2339280 h 2339280"/>
              </a:gdLst>
              <a:ahLst/>
              <a:rect l="textAreaLeft" t="textAreaTop" r="textAreaRight" b="textAreaBottom"/>
              <a:pathLst>
                <a:path fill="none" w="21387" h="21600">
                  <a:moveTo>
                    <a:pt x="81" y="0"/>
                  </a:moveTo>
                  <a:cubicBezTo>
                    <a:pt x="10811" y="40"/>
                    <a:pt x="19884" y="7951"/>
                    <a:pt x="21387" y="18574"/>
                  </a:cubicBezTo>
                </a:path>
                <a:path stroke="0" w="21387" h="21600">
                  <a:moveTo>
                    <a:pt x="81" y="0"/>
                  </a:moveTo>
                  <a:cubicBezTo>
                    <a:pt x="10811" y="40"/>
                    <a:pt x="19884" y="7951"/>
                    <a:pt x="21387" y="18574"/>
                  </a:cubicBezTo>
                  <a:lnTo>
                    <a:pt x="0" y="21600"/>
                  </a:lnTo>
                  <a:lnTo>
                    <a:pt x="81" y="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Oval 10"/>
            <p:cNvSpPr/>
            <p:nvPr/>
          </p:nvSpPr>
          <p:spPr>
            <a:xfrm>
              <a:off x="2906640" y="3116520"/>
              <a:ext cx="91800" cy="84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11"/>
            <p:cNvSpPr/>
            <p:nvPr/>
          </p:nvSpPr>
          <p:spPr>
            <a:xfrm>
              <a:off x="1433520" y="2349360"/>
              <a:ext cx="3584880" cy="19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12"/>
            <p:cNvSpPr/>
            <p:nvPr/>
          </p:nvSpPr>
          <p:spPr>
            <a:xfrm flipH="1">
              <a:off x="2935080" y="3172680"/>
              <a:ext cx="16200" cy="15793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13"/>
            <p:cNvSpPr/>
            <p:nvPr/>
          </p:nvSpPr>
          <p:spPr>
            <a:xfrm>
              <a:off x="1127880" y="3162600"/>
              <a:ext cx="18248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Oval 14"/>
            <p:cNvSpPr/>
            <p:nvPr/>
          </p:nvSpPr>
          <p:spPr>
            <a:xfrm>
              <a:off x="1822680" y="2755440"/>
              <a:ext cx="91800" cy="84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Oval 15"/>
            <p:cNvSpPr/>
            <p:nvPr/>
          </p:nvSpPr>
          <p:spPr>
            <a:xfrm>
              <a:off x="1495800" y="3041640"/>
              <a:ext cx="91800" cy="84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6"/>
            <p:cNvSpPr/>
            <p:nvPr/>
          </p:nvSpPr>
          <p:spPr>
            <a:xfrm flipV="1">
              <a:off x="1575360" y="2836440"/>
              <a:ext cx="24732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Text Box 17"/>
          <p:cNvSpPr/>
          <p:nvPr/>
        </p:nvSpPr>
        <p:spPr>
          <a:xfrm flipH="1">
            <a:off x="538920" y="1844640"/>
            <a:ext cx="7923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Fi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8"/>
          <p:cNvSpPr/>
          <p:nvPr/>
        </p:nvSpPr>
        <p:spPr>
          <a:xfrm flipH="1">
            <a:off x="4241880" y="4809960"/>
            <a:ext cx="1295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Commun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Object 19"/>
              <p:cNvSpPr txBox="1"/>
              <p:nvPr/>
            </p:nvSpPr>
            <p:spPr>
              <a:xfrm>
                <a:off x="2916360" y="2755800"/>
                <a:ext cx="863640" cy="34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∗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7" name="Text Box 21"/>
          <p:cNvSpPr/>
          <p:nvPr/>
        </p:nvSpPr>
        <p:spPr>
          <a:xfrm flipH="1">
            <a:off x="1132920" y="2778120"/>
            <a:ext cx="360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22"/>
          <p:cNvSpPr/>
          <p:nvPr/>
        </p:nvSpPr>
        <p:spPr>
          <a:xfrm flipH="1">
            <a:off x="1325520" y="2408400"/>
            <a:ext cx="43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пределение КС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рпоративная социальная ответственность – учет компаниями в своей деятельности общественных интересов (интересов стейкхолдеров) сверх прямых требований рынка и действующего законодатель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MS PGothic"/>
              </a:rPr>
              <a:t>A. McWilliams, D. Siegel: “… actions that appear to further some social good, beyond the interests of the firm and that which is required by law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ормы КСО: самоограничение в производственной деятельности и «социальные инвестиции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воды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 прочих равных условиях КСО может составить альтернативу государственному регулированию при негибкости последнего и разнообразии местных условий, а также при наличии достаточного социального капита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СО не дает желаемого эффекта при нехватке социального капитала и незащищенности прав собственнос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оссийская модель КСО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197000"/>
            <a:ext cx="82184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ичины аномальных масштабов социальных инвестиций в России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ногочисленные погрешности и пробелы в законодательстве, правоприменении и государственном регулировании экономик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резмерная централизация бюджетных ресурсов и регулятивных полномочий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ложность экономических, социальных, экологических и пр. пробле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развитость рынк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онцентрация производства и богатств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приятие в обществе сложившегося институционального порядк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СО в России следует рассматривать как естественную институциональную реакцию на перечисленные особенност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«Латание дыр» (quick fixes) или завершение рефор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развитых странах КСО конкурирует с эффективной системой государственного регулирования и финансов. В России оно замещает многие элементы этой системы, но не является их полноценной альтернати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циальные инвестиции как замена обычных бюджетных доходов нарушают принципы целостности и подотчетности и смягчают бюджетные ограничения в госсект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я компаний «добровольно-принудительные» пожертвования становятся непредсказуемым налогом, который выхолащивает усилия по сокращению налогового бремени («шаг вперед, шаг назад», или seesaw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;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. Acemoglu, J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inso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Правительство как основной “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казчик» КС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отиворечие с фундаментальным представлением о КСО как частной альтернативе государственному регулиров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сли правительство заменяет слабое гражданское общество в диалоге с бизнесом, то оно должно действовать стандартными прозрачными инструментами государственного воздействия на частный сект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мены между бизнесом и властью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мнения в качестве представления общественных интересов: приоритеты политиков не всегда тождественны общественным нужда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ании ценят возможность обменивать лояльность и «правильные» инвестиции на «режим наибольшего благоприятствования», эксклюзивные привилегии и защиту от конкурен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опросе Ассоциации менеджеров (2008) 94% респондентов высказали мнение, что социальные инвестиции должны «материально поощряться» властя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СО легитимизирует обмены между бизнесом и властью и сокращает соответствующие транзакционные издерж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liticians and Firms (Shleifer, Vishny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395280" y="2241720"/>
            <a:ext cx="8748720" cy="310176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ституциональны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едпосылк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эффективног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С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institutional complemenarity; P. Milgrom, M.Aoki)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ажданская актив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зрачность и подотчетность в частном и государственном секто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щищенность прав собствен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лабость гражданского общества и уязвимость прав собственности оказывают негативно отражаются на эффективности КСО в Росс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зрыв между «быстрой» и «медленной» институциональной динамикой (fast-moving and slow-moving institutions; 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land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 лишает российское КСО корней в обществе и делает его уязвимым к «захвату» (capture) с целью извлечения ренты из «недореформированной» экономики (J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llma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СО в России: возрождение тради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сийские предприятия «социально гиперответственны» (Я. Паппэ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кризисные социальные инвестиции многократно превосходили западные стандарт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оссийское КСО – сплав советской патерналистской традиции и современных международных стандартов корпоративного упр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мпании дополняют и нередко замещают государственные социальные и инфраструктурные программы и службы, а корпоративные пожертвования становятся весомой альтернативой государственных финанс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снования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СО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Friedman: “the social responsibility of business is to increase its profits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Концепция множественности стейкхолдеров – компания де факто подотчетна не только акционерам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ram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КСО – источник конкурентных преимуществ («и нашим, и вашим»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Разновидности КС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оциальный маркетинг (дифференциация продукт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Бесплатные обеды» (прямая заинтересованность в общественных благах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атегическое (ая?) КСО (воздействие на поведение стейкхолдеров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КСО и экстернал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терналия – синоним «нерыночного» воздействия компаний на стейкхолдер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стерналии составляют материальную основу КС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еханизмы координации в экономик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ное урегу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дебное урегу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ционализац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бор между механизмами координации зависит от их сравнительных достоинств и недостатков, которые изменяются со временем и от одной страны и общества к другом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мер: внедрение государственного регулирования в США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as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leifer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астная альтернатива государственному регулированию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267920"/>
            <a:ext cx="821844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oase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: экономические агенты способны самостоятельно уладить возникающие между ними проблемы путем договоренности при условии небольших транзакционных издержек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ки государственного регулировани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точность нацеливания (тупой инструмент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зможность «захвата»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tur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и нецелевого примен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едостаточная эффективность администр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паздывание госрегулиров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9T12:35:03Z</dcterms:created>
  <dc:creator>User</dc:creator>
  <dc:description/>
  <dc:language>en-US</dc:language>
  <cp:lastModifiedBy>LEGION</cp:lastModifiedBy>
  <dcterms:modified xsi:type="dcterms:W3CDTF">2016-01-05T12:45:00Z</dcterms:modified>
  <cp:revision>15</cp:revision>
  <dc:subject/>
  <dc:title>Корпоративная социальная ответственность: институциональная теория и российская практика</dc:title>
</cp:coreProperties>
</file>