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FA1A-62DD-4F49-A19B-C8AB35EB5A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367-ED62-4323-A330-652DEAAE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44E-A2AC-4D0B-8FDB-E689F5A7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959-AB5A-4F08-BFC2-AB3DB621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874-92AF-4E99-9E38-29035C57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180-073D-4193-8C9C-678506CA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D2D-734E-4B97-9D94-68224D61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B90-280C-40CD-9D81-864449A5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53D-48C1-4A16-B259-3BF97AB6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3B2-2F38-448A-8D6A-5F2677B2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461-C22A-49F5-B873-5FC1298E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B9D-6B76-43E1-BA4F-14E6AB6C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3D2-5582-435C-9C12-78EFB945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88FF-3C86-4D02-B349-F08ED774D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icense to ope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udischer, A. McWilliams, and D.Sieg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perty rules v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ability ru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ль (де)централиз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aparant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urikkal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national Property Rights Index Repor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200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y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SR a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keholder managemen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и общество не является должным образом представленным в диалоге с комп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11280" y="1890720"/>
            <a:ext cx="8137440" cy="2916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981160"/>
            <a:ext cx="8137440" cy="14353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064720" cy="2985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24000" y="2482920"/>
            <a:ext cx="8280360" cy="2025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2"/>
          <p:cNvGrpSpPr/>
          <p:nvPr/>
        </p:nvGrpSpPr>
        <p:grpSpPr>
          <a:xfrm>
            <a:off x="1197000" y="1784880"/>
            <a:ext cx="3879720" cy="3503160"/>
            <a:chOff x="1197000" y="1784880"/>
            <a:chExt cx="3879720" cy="3503160"/>
          </a:xfrm>
        </p:grpSpPr>
        <p:sp>
          <p:nvSpPr>
            <p:cNvPr id="110" name="Oval 43"/>
            <p:cNvSpPr/>
            <p:nvPr/>
          </p:nvSpPr>
          <p:spPr>
            <a:xfrm>
              <a:off x="1618200" y="345276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 flipV="1">
              <a:off x="1197000" y="252936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45"/>
            <p:cNvSpPr/>
            <p:nvPr/>
          </p:nvSpPr>
          <p:spPr>
            <a:xfrm>
              <a:off x="1197000" y="5288040"/>
              <a:ext cx="38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46"/>
            <p:cNvSpPr/>
            <p:nvPr/>
          </p:nvSpPr>
          <p:spPr>
            <a:xfrm>
              <a:off x="2449440" y="423072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rc 47"/>
            <p:cNvSpPr/>
            <p:nvPr/>
          </p:nvSpPr>
          <p:spPr>
            <a:xfrm rot="10158600">
              <a:off x="1666800" y="2307240"/>
              <a:ext cx="2746440" cy="2599920"/>
            </a:xfrm>
            <a:custGeom>
              <a:avLst/>
              <a:gdLst>
                <a:gd name="textAreaLeft" fmla="*/ 0 w 2746440"/>
                <a:gd name="textAreaRight" fmla="*/ 2746800 w 274644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fill="none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</a:path>
                <a:path stroke="0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  <a:lnTo>
                    <a:pt x="0" y="21408"/>
                  </a:lnTo>
                  <a:lnTo>
                    <a:pt x="2872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rc 48"/>
            <p:cNvSpPr/>
            <p:nvPr/>
          </p:nvSpPr>
          <p:spPr>
            <a:xfrm rot="11959200">
              <a:off x="1672200" y="2133360"/>
              <a:ext cx="2555640" cy="2622960"/>
            </a:xfrm>
            <a:custGeom>
              <a:avLst/>
              <a:gdLst>
                <a:gd name="textAreaLeft" fmla="*/ 0 w 2555640"/>
                <a:gd name="textAreaRight" fmla="*/ 2556000 w 2555640"/>
                <a:gd name="textAreaTop" fmla="*/ 0 h 2622960"/>
                <a:gd name="textAreaBottom" fmla="*/ 2623320 h 2622960"/>
              </a:gdLst>
              <a:ahLst/>
              <a:rect l="textAreaLeft" t="textAreaTop" r="textAreaRight" b="textAreaBottom"/>
              <a:pathLst>
                <a:path fill="none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</a:path>
                <a:path stroke="0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6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1"/>
              <p:cNvSpPr txBox="1"/>
              <p:nvPr/>
            </p:nvSpPr>
            <p:spPr>
              <a:xfrm>
                <a:off x="4284720" y="4081320"/>
                <a:ext cx="1295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6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5"/>
              <p:cNvSpPr txBox="1"/>
              <p:nvPr/>
            </p:nvSpPr>
            <p:spPr>
              <a:xfrm>
                <a:off x="1976400" y="4289400"/>
                <a:ext cx="43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6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7"/>
              <p:cNvSpPr txBox="1"/>
              <p:nvPr/>
            </p:nvSpPr>
            <p:spPr>
              <a:xfrm>
                <a:off x="4660920" y="537372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7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9"/>
              <p:cNvSpPr txBox="1"/>
              <p:nvPr/>
            </p:nvSpPr>
            <p:spPr>
              <a:xfrm>
                <a:off x="649440" y="2205000"/>
                <a:ext cx="41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7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71"/>
              <p:cNvSpPr txBox="1"/>
              <p:nvPr/>
            </p:nvSpPr>
            <p:spPr>
              <a:xfrm>
                <a:off x="1459080" y="2852640"/>
                <a:ext cx="395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3"/>
              <p:cNvSpPr txBox="1"/>
              <p:nvPr/>
            </p:nvSpPr>
            <p:spPr>
              <a:xfrm>
                <a:off x="1908000" y="2565360"/>
                <a:ext cx="1224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95280" y="1660680"/>
            <a:ext cx="7777080" cy="264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9280" y="1252440"/>
            <a:ext cx="8280360" cy="3111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749160"/>
            <a:ext cx="7993080" cy="4023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50920" y="1781280"/>
            <a:ext cx="8188200" cy="244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4"/>
          <p:cNvGrpSpPr/>
          <p:nvPr/>
        </p:nvGrpSpPr>
        <p:grpSpPr>
          <a:xfrm>
            <a:off x="1042920" y="2204640"/>
            <a:ext cx="3887640" cy="3047760"/>
            <a:chOff x="1042920" y="2204640"/>
            <a:chExt cx="3887640" cy="3047760"/>
          </a:xfrm>
        </p:grpSpPr>
        <p:sp>
          <p:nvSpPr>
            <p:cNvPr id="137" name="Oval 45"/>
            <p:cNvSpPr/>
            <p:nvPr/>
          </p:nvSpPr>
          <p:spPr>
            <a:xfrm>
              <a:off x="3123360" y="4179960"/>
              <a:ext cx="9000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46"/>
            <p:cNvGrpSpPr/>
            <p:nvPr/>
          </p:nvGrpSpPr>
          <p:grpSpPr>
            <a:xfrm>
              <a:off x="1042920" y="2204640"/>
              <a:ext cx="3887640" cy="3047760"/>
              <a:chOff x="1042920" y="2204640"/>
              <a:chExt cx="3887640" cy="3047760"/>
            </a:xfrm>
          </p:grpSpPr>
          <p:sp>
            <p:nvSpPr>
              <p:cNvPr id="139" name="Line 47"/>
              <p:cNvSpPr/>
              <p:nvPr/>
            </p:nvSpPr>
            <p:spPr>
              <a:xfrm flipV="1">
                <a:off x="1046520" y="2204640"/>
                <a:ext cx="0" cy="27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48"/>
              <p:cNvSpPr/>
              <p:nvPr/>
            </p:nvSpPr>
            <p:spPr>
              <a:xfrm>
                <a:off x="1046520" y="4925520"/>
                <a:ext cx="388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49"/>
              <p:cNvGrpSpPr/>
              <p:nvPr/>
            </p:nvGrpSpPr>
            <p:grpSpPr>
              <a:xfrm>
                <a:off x="1042920" y="2495520"/>
                <a:ext cx="3830040" cy="2756880"/>
                <a:chOff x="1042920" y="2495520"/>
                <a:chExt cx="3830040" cy="2756880"/>
              </a:xfrm>
            </p:grpSpPr>
            <p:sp>
              <p:nvSpPr>
                <p:cNvPr id="142" name="Line 50"/>
                <p:cNvSpPr/>
                <p:nvPr/>
              </p:nvSpPr>
              <p:spPr>
                <a:xfrm>
                  <a:off x="3768480" y="3820320"/>
                  <a:ext cx="0" cy="11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rc 51"/>
                <p:cNvSpPr/>
                <p:nvPr/>
              </p:nvSpPr>
              <p:spPr>
                <a:xfrm>
                  <a:off x="1042920" y="2894760"/>
                  <a:ext cx="3114360" cy="2357640"/>
                </a:xfrm>
                <a:custGeom>
                  <a:avLst/>
                  <a:gdLst>
                    <a:gd name="textAreaLeft" fmla="*/ 0 w 3114360"/>
                    <a:gd name="textAreaRight" fmla="*/ 3114720 w 3114360"/>
                    <a:gd name="textAreaTop" fmla="*/ 0 h 2357640"/>
                    <a:gd name="textAreaBottom" fmla="*/ 2358000 h 2357640"/>
                  </a:gdLst>
                  <a:ahLst/>
                  <a:rect l="textAreaLeft" t="textAreaTop" r="textAreaRight" b="textAreaBottom"/>
                  <a:pathLst>
                    <a:path fill="none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</a:path>
                    <a:path stroke="0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  <a:lnTo>
                        <a:pt x="0" y="2160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52"/>
                <p:cNvSpPr/>
                <p:nvPr/>
              </p:nvSpPr>
              <p:spPr>
                <a:xfrm flipV="1">
                  <a:off x="3164400" y="4221000"/>
                  <a:ext cx="13255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53"/>
                <p:cNvGrpSpPr/>
                <p:nvPr/>
              </p:nvGrpSpPr>
              <p:grpSpPr>
                <a:xfrm>
                  <a:off x="1054800" y="2495520"/>
                  <a:ext cx="3818160" cy="2421720"/>
                  <a:chOff x="1054800" y="2495520"/>
                  <a:chExt cx="3818160" cy="2421720"/>
                </a:xfrm>
              </p:grpSpPr>
              <p:sp>
                <p:nvSpPr>
                  <p:cNvPr id="146" name="Line 54"/>
                  <p:cNvSpPr/>
                  <p:nvPr/>
                </p:nvSpPr>
                <p:spPr>
                  <a:xfrm flipV="1">
                    <a:off x="3172320" y="3850200"/>
                    <a:ext cx="560880" cy="37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55"/>
                  <p:cNvSpPr/>
                  <p:nvPr/>
                </p:nvSpPr>
                <p:spPr>
                  <a:xfrm flipV="1">
                    <a:off x="1058400" y="3299760"/>
                    <a:ext cx="1791000" cy="160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Oval 56"/>
                  <p:cNvSpPr/>
                  <p:nvPr/>
                </p:nvSpPr>
                <p:spPr>
                  <a:xfrm>
                    <a:off x="2800800" y="3268800"/>
                    <a:ext cx="9000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57"/>
                  <p:cNvSpPr/>
                  <p:nvPr/>
                </p:nvSpPr>
                <p:spPr>
                  <a:xfrm>
                    <a:off x="1354680" y="2495520"/>
                    <a:ext cx="3518280" cy="193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58"/>
                  <p:cNvSpPr/>
                  <p:nvPr/>
                </p:nvSpPr>
                <p:spPr>
                  <a:xfrm flipH="1">
                    <a:off x="2828520" y="3325320"/>
                    <a:ext cx="15840" cy="159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59"/>
                  <p:cNvSpPr/>
                  <p:nvPr/>
                </p:nvSpPr>
                <p:spPr>
                  <a:xfrm>
                    <a:off x="1054800" y="3315240"/>
                    <a:ext cx="179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Oval 60"/>
                  <p:cNvSpPr/>
                  <p:nvPr/>
                </p:nvSpPr>
                <p:spPr>
                  <a:xfrm>
                    <a:off x="3724200" y="3775320"/>
                    <a:ext cx="90000" cy="85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Line 61"/>
                  <p:cNvSpPr/>
                  <p:nvPr/>
                </p:nvSpPr>
                <p:spPr>
                  <a:xfrm flipH="1">
                    <a:off x="3166920" y="3491640"/>
                    <a:ext cx="3600" cy="72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AutoShape 62"/>
              <p:cNvSpPr/>
              <p:nvPr/>
            </p:nvSpPr>
            <p:spPr>
              <a:xfrm flipH="1" rot="16200000">
                <a:off x="3169080" y="4651920"/>
                <a:ext cx="226800" cy="955080"/>
              </a:xfrm>
              <a:custGeom>
                <a:avLst/>
                <a:gdLst>
                  <a:gd name="textAreaLeft" fmla="*/ 360 w 226800"/>
                  <a:gd name="textAreaRight" fmla="*/ 82080 w 226800"/>
                  <a:gd name="textAreaTop" fmla="*/ 24840 h 955080"/>
                  <a:gd name="textAreaBottom" fmla="*/ 930240 h 95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6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3"/>
              <p:cNvSpPr txBox="1"/>
              <p:nvPr/>
            </p:nvSpPr>
            <p:spPr>
              <a:xfrm>
                <a:off x="2843280" y="2924280"/>
                <a:ext cx="86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65"/>
          <p:cNvSpPr/>
          <p:nvPr/>
        </p:nvSpPr>
        <p:spPr>
          <a:xfrm flipH="1">
            <a:off x="3852720" y="350028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 flipH="1">
            <a:off x="2986920" y="43657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8"/>
          <p:cNvSpPr/>
          <p:nvPr/>
        </p:nvSpPr>
        <p:spPr>
          <a:xfrm flipH="1">
            <a:off x="4355280" y="5013360"/>
            <a:ext cx="12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9"/>
          <p:cNvSpPr/>
          <p:nvPr/>
        </p:nvSpPr>
        <p:spPr>
          <a:xfrm flipH="1">
            <a:off x="2411280" y="5300640"/>
            <a:ext cx="2232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1116000" y="2060640"/>
            <a:ext cx="3960720" cy="3023640"/>
            <a:chOff x="1116000" y="2060640"/>
            <a:chExt cx="3960720" cy="3023640"/>
          </a:xfrm>
        </p:grpSpPr>
        <p:sp>
          <p:nvSpPr>
            <p:cNvPr id="164" name="Line 7"/>
            <p:cNvSpPr/>
            <p:nvPr/>
          </p:nvSpPr>
          <p:spPr>
            <a:xfrm flipV="1">
              <a:off x="1119960" y="2060640"/>
              <a:ext cx="0" cy="26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1119960" y="4759920"/>
              <a:ext cx="395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rc 9"/>
            <p:cNvSpPr/>
            <p:nvPr/>
          </p:nvSpPr>
          <p:spPr>
            <a:xfrm>
              <a:off x="1116000" y="2745000"/>
              <a:ext cx="3172320" cy="2339280"/>
            </a:xfrm>
            <a:custGeom>
              <a:avLst/>
              <a:gdLst>
                <a:gd name="textAreaLeft" fmla="*/ 0 w 3172320"/>
                <a:gd name="textAreaRight" fmla="*/ 3172680 w 3172320"/>
                <a:gd name="textAreaTop" fmla="*/ 0 h 2339280"/>
                <a:gd name="textAreaBottom" fmla="*/ 2339280 h 2339280"/>
              </a:gdLst>
              <a:ahLst/>
              <a:rect l="textAreaLeft" t="textAreaTop" r="textAreaRight" b="textAreaBottom"/>
              <a:pathLst>
                <a:path fill="none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</a:path>
                <a:path stroke="0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  <a:lnTo>
                    <a:pt x="0" y="21600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2906640" y="311652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433520" y="2349360"/>
              <a:ext cx="3584880" cy="19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H="1">
              <a:off x="2935080" y="3172680"/>
              <a:ext cx="16200" cy="157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127880" y="3162600"/>
              <a:ext cx="182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1822680" y="275544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1495800" y="3041640"/>
              <a:ext cx="91800" cy="84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360" y="2836440"/>
              <a:ext cx="247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1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 flipH="1">
            <a:off x="4241880" y="480996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9"/>
              <p:cNvSpPr txBox="1"/>
              <p:nvPr/>
            </p:nvSpPr>
            <p:spPr>
              <a:xfrm>
                <a:off x="2916360" y="2755800"/>
                <a:ext cx="863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21"/>
          <p:cNvSpPr/>
          <p:nvPr/>
        </p:nvSpPr>
        <p:spPr>
          <a:xfrm flipH="1">
            <a:off x="1132920" y="2778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 flipH="1">
            <a:off x="1325520" y="24084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е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. McWilliams, D. Siegel: “… actions that appear to further some social good, beyond the interests of the firm and that which is required by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cemoglu, J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s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казчик» К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liticians and Firms (Shleifer, Vishn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395280" y="2241720"/>
            <a:ext cx="8748720" cy="31017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о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stitutional complemenarity; P. Milgrom, M.Aoki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лишает российское КСО корней в обществе и делает его уязвимым к «захвату» (capture) с целью извлечения ренты из «недореформированной» экономики (J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m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нова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Friedman: “the social responsibility of business is to increase its profit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m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КСО – источник конкурентных преимуществ («и нашим, и вашим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новидности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lei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as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«захвата»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и нецелевого при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2:35:03Z</dcterms:created>
  <dc:creator>User</dc:creator>
  <dc:description/>
  <dc:language>en-US</dc:language>
  <cp:lastModifiedBy>LEGION</cp:lastModifiedBy>
  <dcterms:modified xsi:type="dcterms:W3CDTF">2016-01-05T12:45:00Z</dcterms:modified>
  <cp:revision>15</cp:revision>
  <dc:subject/>
  <dc:title>Корпоративная социальная ответственность: институциональная теория и российская практика</dc:title>
</cp:coreProperties>
</file>