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0285-35A3-42A8-964A-BB9DC3F992B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 Полищ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. Полищ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– современное воплощение частного урегулирования экстернал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social license to operat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orporate legitimacy is being socially constructed in discursive process” (J.Ludischer, A. McWilliams, and D.Sieg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property rules vs. liability rul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– современное воплощение частного урегулирования экстернал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social license to operat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Corporate legitimacy is being socially constructed in discursive process” (J.Ludischer, A. McWilliams, and D.Sieg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property rules vs. liability ru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ят сравнительные преимущества КСО перед госрегулированием?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а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 потенциал государственного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и структура экономики и ры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об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циональная сре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чего зависят сравнительные преимущества КСО перед госрегулированием?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регул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и потенциал государственного управл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и структура экономики и рын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обще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туциональная сре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в регулировании и эффективность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ность в регулировании и эффективность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(де)центр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 КСО в обмен на уклонение от налог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P. Haaparanta, T. Juurikkala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(де)централиза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КСО в обмен на уклонение от налог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P. Haaparanta, T. Juurikkal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ость прав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пление «первородного грех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находится на 92-м месте из 115 стран по защите прав собственности (International Property Rights Index Report 2008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T. Fry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пление «первородного грех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находится на 92-м месте из 115 стран по защите прав собственности (International Property Rights Index Report 2008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T. Fry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CSR as “stakeholder management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й капита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CSR as “stakeholder management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место об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России отмечается острый дефицит социального капитала (R. Rose), и общество не является должным образом представленным в диалоге с компа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место обще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России отмечается острый дефицит социального капитала (R. Rose), и общество не является должным образом представленным в диалоге с компа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строить экономическую теорию КС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бъяснить разнообразие и эволюцию моделей КСО(«позитивный» аспект)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ценить эффективность КСО («нормативный» аспект)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терпретировать полученные выводы применительно к Росс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остроить экономическую теорию КСО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бъяснить разнообразие и эволюцию моделей КСО(«позитивный» аспект)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ценить эффективность КСО («нормативный» аспект)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интерпретировать полученные выводы применительно к Росси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to 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to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. McWilliams, D. Siegel: “… actions that appear to further some social good, beyond the interests of the firm and that which is required by law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A. McWilliams, D. Siegel: “… actions that appear to further some social good, beyond the interests of the firm and that which is required by la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модель КСО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аномальных масштабов социальных инвестиций в Росс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ая централизация бюджетных ресурсов и регулятивных полномоч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экономических, социальных, экологических и пр.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звитость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я производства и богат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иятие в обществе сложившегося институционального поряд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ая модель КСО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аномальных масштабов социальных инвестиций в Росс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резмерная централизация бюджетных ресурсов и регулятивных полномоч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ь экономических, социальных, экологических и пр. пробл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азвитость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производства и богат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иятие в обществе сложившегося институционального поряд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атание дыр» (quick fixes) или завершение реф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effect;  D. Acemoglu, J.Robinso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Латание дыр» (quick fixes) или завершение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effect;  D. Acemoglu, J.Robins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о как основной “заказчик» КС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тельство как основной “заказчик» К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ы между бизнесом и власть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ы между бизнесом и власть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ians and Firms (Shleifer, Vishny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ians and Firms (Shleifer, Vishn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циональные предпосылки эффективного КСО (institutional complemenarity; P. Milgrom, M.Aoki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ая актив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зрачность и подотчетность в частном и государственном сект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ость прав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ыв между «быстрой» и «медленной» институциональной динамикой (fast-moving and slow-moving institutions; G. Roland) лишает российское КСО корней в обществе и делает его уязвимым к «захвату» (capture) с целью извлечения ренты из «недореформированной» экономики (J. Hellma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туциональные предпосылки эффективного КСО (institutional complemenarity; P. Milgrom, M.Aoki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жданская актив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рачность и подотчетность в частном и государственном сек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ыв между «быстрой» и «медленной» институциональной динамикой (fast-moving and slow-moving institutions; G. Roland) лишает российское КСО корней в обществе и делает его уязвимым к «захвату» (capture) с целью извлечения ренты из «недореформированной» экономики (J. Hellma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в России: возрождение трад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е предприятия «социально гиперответственны» (Я. Паппэ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ризисные социальные инвестиции многократно превосходили западные стандар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в России: возрождение тради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ие предприятия «социально гиперответственны» (Я. Пап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ризисные социальные инвестиции многократно превосходили западные стандарт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снования КС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riedman: “the social responsibility of business is to increase its profit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rter, M.Kramer: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СО – источник конкурентных преимуществ («и нашим, и вашим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снования КС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iedman: “the social responsibility of business is to increase its profit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rter, M.Kramer: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СО – источник конкурентных преимуществ («и нашим, и вашим»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и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маркетинг (дифференциация продук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есплатные обеды» (прямая заинтересованность в общественных блага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(ая?) КСО (воздействие на поведение стейкхолдер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овидности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й маркетинг (дифференциация продуктов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есплатные обеды» (прямая заинтересованность в общественных благах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ческое (ая?) КСО (воздействие на поведение стейкхолдеров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и экстерна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ерналия – синоним «нерыночного» воздействия компаний на стейкхолде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ерналии составляют материальную основу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и экстерна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терналия – синоним «нерыночного» воздействия компаний на стейкхолде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терналии составляют материальную основу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координации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у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у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 внедрение государственного регулирования в США (E.Glaser, A.Shleif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ы координации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ое у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дебное у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из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внедрение государственного регулирования в США (E.Glaser, A.Shleif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альтернатива государственному регулировани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.Coase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 государственного регулир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очность нацеливания (тупой инструмен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«захвата» (capture) и нецелевого при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эффективность администр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здывание гос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 альтернатива государственному регулировани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.Coase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государственного регулирован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очность нацеливания (тупой инструмент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«захвата» (capture) и нецелевого примен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очная эффективность администр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здывание госрегул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FFC-44B8-4008-A2C1-D7109DAE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54E3-72D4-480E-A4B3-CBACD3A7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C995-126F-4B80-B1FB-177ED1EC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2E18-1134-4B30-B4E1-F64E207C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2610-54B3-4D3A-A5CB-E9160E56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71B4-C670-4E30-B096-83E7C48E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CF8C-E6B8-4169-A29E-2527F216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5577-F67E-462A-A6D5-2C3FA3D9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3AE-30F2-46AE-93FD-31618560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927-3DB1-46EC-AF3B-6B296DBA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011-87CA-4648-9D05-A5B91202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93D-C56F-46C5-9834-4DCF683A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316E-689B-436E-A778-F4D0D4E0E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125000"/>
            <a:ext cx="784692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. Полищ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– современное воплощение частного урегулирования экстерналий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license to opera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rate legitimacy is being socially constructed in discursive process” (J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udischer, A. McWilliams, and D.Sieg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perty rules vs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ability rul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 чего зависят сравнительные преимущества КСО перед госрегулированием?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218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ера регул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ация и потенциал государственного упра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и структура экономики и рын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об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итуциональная сре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требность в регулировании и эффективность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ль (де)централиза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: КСО в обмен на уклонение от налог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aparant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uurikkal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руктура ры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81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купление «первородного грех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сия находится на 92-м месте из 115 стран по защите прав собственности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ternational Property Rights Index Repor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2008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y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циальный капит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SR a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akeholder managemen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осударство вместо общест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временной России отмечается острый дефицит социального капитал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os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и общество не является должным образом представленным в диалоге с компа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11280" y="1890720"/>
            <a:ext cx="8137440" cy="2916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построить экономическую теорию КС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объяснить разнообразие и эволюцию моделей КСО(«позитивный» аспект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оценить эффективность КСО («нормативный» аспект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интерпретировать полученные выводы применительно к Росси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95280" y="2981160"/>
            <a:ext cx="8137440" cy="143532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79280" y="1455840"/>
            <a:ext cx="8064720" cy="2985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324000" y="2482920"/>
            <a:ext cx="8280360" cy="20257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2"/>
          <p:cNvGrpSpPr/>
          <p:nvPr/>
        </p:nvGrpSpPr>
        <p:grpSpPr>
          <a:xfrm>
            <a:off x="1197000" y="1784880"/>
            <a:ext cx="3879720" cy="3503160"/>
            <a:chOff x="1197000" y="1784880"/>
            <a:chExt cx="3879720" cy="3503160"/>
          </a:xfrm>
        </p:grpSpPr>
        <p:sp>
          <p:nvSpPr>
            <p:cNvPr id="110" name="Oval 43"/>
            <p:cNvSpPr/>
            <p:nvPr/>
          </p:nvSpPr>
          <p:spPr>
            <a:xfrm>
              <a:off x="1618200" y="3452760"/>
              <a:ext cx="9000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44"/>
            <p:cNvSpPr/>
            <p:nvPr/>
          </p:nvSpPr>
          <p:spPr>
            <a:xfrm flipV="1">
              <a:off x="1197000" y="252936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45"/>
            <p:cNvSpPr/>
            <p:nvPr/>
          </p:nvSpPr>
          <p:spPr>
            <a:xfrm>
              <a:off x="1197000" y="5288040"/>
              <a:ext cx="38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46"/>
            <p:cNvSpPr/>
            <p:nvPr/>
          </p:nvSpPr>
          <p:spPr>
            <a:xfrm>
              <a:off x="2449440" y="4230720"/>
              <a:ext cx="9000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rc 47"/>
            <p:cNvSpPr/>
            <p:nvPr/>
          </p:nvSpPr>
          <p:spPr>
            <a:xfrm rot="10158600">
              <a:off x="1666800" y="2307240"/>
              <a:ext cx="2746440" cy="2599920"/>
            </a:xfrm>
            <a:custGeom>
              <a:avLst/>
              <a:gdLst>
                <a:gd name="textAreaLeft" fmla="*/ 0 w 2746440"/>
                <a:gd name="textAreaRight" fmla="*/ 2746800 w 274644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fill="none" w="20456" h="21408">
                  <a:moveTo>
                    <a:pt x="2872" y="-1"/>
                  </a:moveTo>
                  <a:cubicBezTo>
                    <a:pt x="11006" y="1091"/>
                    <a:pt x="17819" y="6698"/>
                    <a:pt x="20455" y="14471"/>
                  </a:cubicBezTo>
                </a:path>
                <a:path stroke="0" w="20456" h="21408">
                  <a:moveTo>
                    <a:pt x="2872" y="-1"/>
                  </a:moveTo>
                  <a:cubicBezTo>
                    <a:pt x="11006" y="1091"/>
                    <a:pt x="17819" y="6698"/>
                    <a:pt x="20455" y="14471"/>
                  </a:cubicBezTo>
                  <a:lnTo>
                    <a:pt x="0" y="21408"/>
                  </a:lnTo>
                  <a:lnTo>
                    <a:pt x="2872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rc 48"/>
            <p:cNvSpPr/>
            <p:nvPr/>
          </p:nvSpPr>
          <p:spPr>
            <a:xfrm rot="11959200">
              <a:off x="1672200" y="2133360"/>
              <a:ext cx="2555640" cy="2622960"/>
            </a:xfrm>
            <a:custGeom>
              <a:avLst/>
              <a:gdLst>
                <a:gd name="textAreaLeft" fmla="*/ 0 w 2555640"/>
                <a:gd name="textAreaRight" fmla="*/ 2556000 w 2555640"/>
                <a:gd name="textAreaTop" fmla="*/ 0 h 2622960"/>
                <a:gd name="textAreaBottom" fmla="*/ 2623320 h 2622960"/>
              </a:gdLst>
              <a:ahLst/>
              <a:rect l="textAreaLeft" t="textAreaTop" r="textAreaRight" b="textAreaBottom"/>
              <a:pathLst>
                <a:path fill="none" w="19976" h="21600">
                  <a:moveTo>
                    <a:pt x="-1" y="0"/>
                  </a:moveTo>
                  <a:cubicBezTo>
                    <a:pt x="8755" y="0"/>
                    <a:pt x="16644" y="5285"/>
                    <a:pt x="19975" y="13382"/>
                  </a:cubicBezTo>
                </a:path>
                <a:path stroke="0" w="19976" h="21600">
                  <a:moveTo>
                    <a:pt x="-1" y="0"/>
                  </a:moveTo>
                  <a:cubicBezTo>
                    <a:pt x="8755" y="0"/>
                    <a:pt x="16644" y="5285"/>
                    <a:pt x="19975" y="1338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Rectangle 6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61"/>
              <p:cNvSpPr txBox="1"/>
              <p:nvPr/>
            </p:nvSpPr>
            <p:spPr>
              <a:xfrm>
                <a:off x="4284720" y="4081320"/>
                <a:ext cx="12952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Rectangle 6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5"/>
              <p:cNvSpPr txBox="1"/>
              <p:nvPr/>
            </p:nvSpPr>
            <p:spPr>
              <a:xfrm>
                <a:off x="1976400" y="4289400"/>
                <a:ext cx="432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6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67"/>
              <p:cNvSpPr txBox="1"/>
              <p:nvPr/>
            </p:nvSpPr>
            <p:spPr>
              <a:xfrm>
                <a:off x="4660920" y="5373720"/>
                <a:ext cx="350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7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69"/>
              <p:cNvSpPr txBox="1"/>
              <p:nvPr/>
            </p:nvSpPr>
            <p:spPr>
              <a:xfrm>
                <a:off x="649440" y="2205000"/>
                <a:ext cx="41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7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71"/>
              <p:cNvSpPr txBox="1"/>
              <p:nvPr/>
            </p:nvSpPr>
            <p:spPr>
              <a:xfrm>
                <a:off x="1459080" y="2852640"/>
                <a:ext cx="395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3"/>
              <p:cNvSpPr txBox="1"/>
              <p:nvPr/>
            </p:nvSpPr>
            <p:spPr>
              <a:xfrm>
                <a:off x="1908000" y="2565360"/>
                <a:ext cx="1224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95280" y="1660680"/>
            <a:ext cx="7777080" cy="2646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79280" y="1252440"/>
            <a:ext cx="8280360" cy="31114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95280" y="749160"/>
            <a:ext cx="7993080" cy="4023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250920" y="1781280"/>
            <a:ext cx="8188200" cy="244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4"/>
          <p:cNvGrpSpPr/>
          <p:nvPr/>
        </p:nvGrpSpPr>
        <p:grpSpPr>
          <a:xfrm>
            <a:off x="1042920" y="2204640"/>
            <a:ext cx="3887640" cy="3047760"/>
            <a:chOff x="1042920" y="2204640"/>
            <a:chExt cx="3887640" cy="3047760"/>
          </a:xfrm>
        </p:grpSpPr>
        <p:sp>
          <p:nvSpPr>
            <p:cNvPr id="137" name="Oval 45"/>
            <p:cNvSpPr/>
            <p:nvPr/>
          </p:nvSpPr>
          <p:spPr>
            <a:xfrm>
              <a:off x="3123360" y="4179960"/>
              <a:ext cx="9000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46"/>
            <p:cNvGrpSpPr/>
            <p:nvPr/>
          </p:nvGrpSpPr>
          <p:grpSpPr>
            <a:xfrm>
              <a:off x="1042920" y="2204640"/>
              <a:ext cx="3887640" cy="3047760"/>
              <a:chOff x="1042920" y="2204640"/>
              <a:chExt cx="3887640" cy="3047760"/>
            </a:xfrm>
          </p:grpSpPr>
          <p:sp>
            <p:nvSpPr>
              <p:cNvPr id="139" name="Line 47"/>
              <p:cNvSpPr/>
              <p:nvPr/>
            </p:nvSpPr>
            <p:spPr>
              <a:xfrm flipV="1">
                <a:off x="1046520" y="2204640"/>
                <a:ext cx="0" cy="27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48"/>
              <p:cNvSpPr/>
              <p:nvPr/>
            </p:nvSpPr>
            <p:spPr>
              <a:xfrm>
                <a:off x="1046520" y="4925520"/>
                <a:ext cx="388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Group 49"/>
              <p:cNvGrpSpPr/>
              <p:nvPr/>
            </p:nvGrpSpPr>
            <p:grpSpPr>
              <a:xfrm>
                <a:off x="1042920" y="2495520"/>
                <a:ext cx="3830040" cy="2756880"/>
                <a:chOff x="1042920" y="2495520"/>
                <a:chExt cx="3830040" cy="2756880"/>
              </a:xfrm>
            </p:grpSpPr>
            <p:sp>
              <p:nvSpPr>
                <p:cNvPr id="142" name="Line 50"/>
                <p:cNvSpPr/>
                <p:nvPr/>
              </p:nvSpPr>
              <p:spPr>
                <a:xfrm>
                  <a:off x="3768480" y="3820320"/>
                  <a:ext cx="0" cy="110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Arc 51"/>
                <p:cNvSpPr/>
                <p:nvPr/>
              </p:nvSpPr>
              <p:spPr>
                <a:xfrm>
                  <a:off x="1042920" y="2894760"/>
                  <a:ext cx="3114360" cy="2357640"/>
                </a:xfrm>
                <a:custGeom>
                  <a:avLst/>
                  <a:gdLst>
                    <a:gd name="textAreaLeft" fmla="*/ 0 w 3114360"/>
                    <a:gd name="textAreaRight" fmla="*/ 3114720 w 3114360"/>
                    <a:gd name="textAreaTop" fmla="*/ 0 h 2357640"/>
                    <a:gd name="textAreaBottom" fmla="*/ 2358000 h 2357640"/>
                  </a:gdLst>
                  <a:ahLst/>
                  <a:rect l="textAreaLeft" t="textAreaTop" r="textAreaRight" b="textAreaBottom"/>
                  <a:pathLst>
                    <a:path fill="none" w="21387" h="21600">
                      <a:moveTo>
                        <a:pt x="81" y="0"/>
                      </a:moveTo>
                      <a:cubicBezTo>
                        <a:pt x="10811" y="40"/>
                        <a:pt x="19884" y="7951"/>
                        <a:pt x="21387" y="18574"/>
                      </a:cubicBezTo>
                    </a:path>
                    <a:path stroke="0" w="21387" h="21600">
                      <a:moveTo>
                        <a:pt x="81" y="0"/>
                      </a:moveTo>
                      <a:cubicBezTo>
                        <a:pt x="10811" y="40"/>
                        <a:pt x="19884" y="7951"/>
                        <a:pt x="21387" y="18574"/>
                      </a:cubicBezTo>
                      <a:lnTo>
                        <a:pt x="0" y="2160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52"/>
                <p:cNvSpPr/>
                <p:nvPr/>
              </p:nvSpPr>
              <p:spPr>
                <a:xfrm flipV="1">
                  <a:off x="3164400" y="4221000"/>
                  <a:ext cx="13255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Group 53"/>
                <p:cNvGrpSpPr/>
                <p:nvPr/>
              </p:nvGrpSpPr>
              <p:grpSpPr>
                <a:xfrm>
                  <a:off x="1054800" y="2495520"/>
                  <a:ext cx="3818160" cy="2421720"/>
                  <a:chOff x="1054800" y="2495520"/>
                  <a:chExt cx="3818160" cy="2421720"/>
                </a:xfrm>
              </p:grpSpPr>
              <p:sp>
                <p:nvSpPr>
                  <p:cNvPr id="146" name="Line 54"/>
                  <p:cNvSpPr/>
                  <p:nvPr/>
                </p:nvSpPr>
                <p:spPr>
                  <a:xfrm flipV="1">
                    <a:off x="3172320" y="3850200"/>
                    <a:ext cx="560880" cy="37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Line 55"/>
                  <p:cNvSpPr/>
                  <p:nvPr/>
                </p:nvSpPr>
                <p:spPr>
                  <a:xfrm flipV="1">
                    <a:off x="1058400" y="3299760"/>
                    <a:ext cx="1791000" cy="160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Oval 56"/>
                  <p:cNvSpPr/>
                  <p:nvPr/>
                </p:nvSpPr>
                <p:spPr>
                  <a:xfrm>
                    <a:off x="2800800" y="3268800"/>
                    <a:ext cx="90000" cy="85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Line 57"/>
                  <p:cNvSpPr/>
                  <p:nvPr/>
                </p:nvSpPr>
                <p:spPr>
                  <a:xfrm>
                    <a:off x="1354680" y="2495520"/>
                    <a:ext cx="3518280" cy="193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Line 58"/>
                  <p:cNvSpPr/>
                  <p:nvPr/>
                </p:nvSpPr>
                <p:spPr>
                  <a:xfrm flipH="1">
                    <a:off x="2828520" y="3325320"/>
                    <a:ext cx="15840" cy="159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Line 59"/>
                  <p:cNvSpPr/>
                  <p:nvPr/>
                </p:nvSpPr>
                <p:spPr>
                  <a:xfrm>
                    <a:off x="1054800" y="3315240"/>
                    <a:ext cx="1791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Oval 60"/>
                  <p:cNvSpPr/>
                  <p:nvPr/>
                </p:nvSpPr>
                <p:spPr>
                  <a:xfrm>
                    <a:off x="3724200" y="3775320"/>
                    <a:ext cx="90000" cy="85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Line 61"/>
                  <p:cNvSpPr/>
                  <p:nvPr/>
                </p:nvSpPr>
                <p:spPr>
                  <a:xfrm flipH="1">
                    <a:off x="3166920" y="3491640"/>
                    <a:ext cx="3600" cy="72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" name="AutoShape 62"/>
              <p:cNvSpPr/>
              <p:nvPr/>
            </p:nvSpPr>
            <p:spPr>
              <a:xfrm flipH="1" rot="16200000">
                <a:off x="3169080" y="4651920"/>
                <a:ext cx="226800" cy="955080"/>
              </a:xfrm>
              <a:custGeom>
                <a:avLst/>
                <a:gdLst>
                  <a:gd name="textAreaLeft" fmla="*/ 360 w 226800"/>
                  <a:gd name="textAreaRight" fmla="*/ 82080 w 226800"/>
                  <a:gd name="textAreaTop" fmla="*/ 24840 h 955080"/>
                  <a:gd name="textAreaBottom" fmla="*/ 930240 h 95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Rectangle 6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3"/>
              <p:cNvSpPr txBox="1"/>
              <p:nvPr/>
            </p:nvSpPr>
            <p:spPr>
              <a:xfrm>
                <a:off x="2843280" y="2924280"/>
                <a:ext cx="8650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Text Box 65"/>
          <p:cNvSpPr/>
          <p:nvPr/>
        </p:nvSpPr>
        <p:spPr>
          <a:xfrm flipH="1">
            <a:off x="3852720" y="350028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6"/>
          <p:cNvSpPr/>
          <p:nvPr/>
        </p:nvSpPr>
        <p:spPr>
          <a:xfrm flipH="1">
            <a:off x="2986920" y="43657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7"/>
          <p:cNvSpPr/>
          <p:nvPr/>
        </p:nvSpPr>
        <p:spPr>
          <a:xfrm flipH="1">
            <a:off x="538920" y="1844640"/>
            <a:ext cx="792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8"/>
          <p:cNvSpPr/>
          <p:nvPr/>
        </p:nvSpPr>
        <p:spPr>
          <a:xfrm flipH="1">
            <a:off x="4355280" y="5013360"/>
            <a:ext cx="129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9"/>
          <p:cNvSpPr/>
          <p:nvPr/>
        </p:nvSpPr>
        <p:spPr>
          <a:xfrm flipH="1">
            <a:off x="2411280" y="5300640"/>
            <a:ext cx="2232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Transfer to Commun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6"/>
          <p:cNvGrpSpPr/>
          <p:nvPr/>
        </p:nvGrpSpPr>
        <p:grpSpPr>
          <a:xfrm>
            <a:off x="1116000" y="2060640"/>
            <a:ext cx="3960720" cy="3023640"/>
            <a:chOff x="1116000" y="2060640"/>
            <a:chExt cx="3960720" cy="3023640"/>
          </a:xfrm>
        </p:grpSpPr>
        <p:sp>
          <p:nvSpPr>
            <p:cNvPr id="164" name="Line 7"/>
            <p:cNvSpPr/>
            <p:nvPr/>
          </p:nvSpPr>
          <p:spPr>
            <a:xfrm flipV="1">
              <a:off x="1119960" y="2060640"/>
              <a:ext cx="0" cy="26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>
              <a:off x="1119960" y="4759920"/>
              <a:ext cx="395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Arc 9"/>
            <p:cNvSpPr/>
            <p:nvPr/>
          </p:nvSpPr>
          <p:spPr>
            <a:xfrm>
              <a:off x="1116000" y="2745000"/>
              <a:ext cx="3172320" cy="2339280"/>
            </a:xfrm>
            <a:custGeom>
              <a:avLst/>
              <a:gdLst>
                <a:gd name="textAreaLeft" fmla="*/ 0 w 3172320"/>
                <a:gd name="textAreaRight" fmla="*/ 3172680 w 3172320"/>
                <a:gd name="textAreaTop" fmla="*/ 0 h 2339280"/>
                <a:gd name="textAreaBottom" fmla="*/ 2339280 h 2339280"/>
              </a:gdLst>
              <a:ahLst/>
              <a:rect l="textAreaLeft" t="textAreaTop" r="textAreaRight" b="textAreaBottom"/>
              <a:pathLst>
                <a:path fill="none" w="21387" h="21600">
                  <a:moveTo>
                    <a:pt x="81" y="0"/>
                  </a:moveTo>
                  <a:cubicBezTo>
                    <a:pt x="10811" y="40"/>
                    <a:pt x="19884" y="7951"/>
                    <a:pt x="21387" y="18574"/>
                  </a:cubicBezTo>
                </a:path>
                <a:path stroke="0" w="21387" h="21600">
                  <a:moveTo>
                    <a:pt x="81" y="0"/>
                  </a:moveTo>
                  <a:cubicBezTo>
                    <a:pt x="10811" y="40"/>
                    <a:pt x="19884" y="7951"/>
                    <a:pt x="21387" y="18574"/>
                  </a:cubicBezTo>
                  <a:lnTo>
                    <a:pt x="0" y="21600"/>
                  </a:lnTo>
                  <a:lnTo>
                    <a:pt x="8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2906640" y="3116520"/>
              <a:ext cx="91800" cy="8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1"/>
            <p:cNvSpPr/>
            <p:nvPr/>
          </p:nvSpPr>
          <p:spPr>
            <a:xfrm>
              <a:off x="1433520" y="2349360"/>
              <a:ext cx="3584880" cy="19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 flipH="1">
              <a:off x="2935080" y="3172680"/>
              <a:ext cx="16200" cy="157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1127880" y="3162600"/>
              <a:ext cx="182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14"/>
            <p:cNvSpPr/>
            <p:nvPr/>
          </p:nvSpPr>
          <p:spPr>
            <a:xfrm>
              <a:off x="1822680" y="2755440"/>
              <a:ext cx="91800" cy="8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15"/>
            <p:cNvSpPr/>
            <p:nvPr/>
          </p:nvSpPr>
          <p:spPr>
            <a:xfrm>
              <a:off x="1495800" y="3041640"/>
              <a:ext cx="91800" cy="84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 flipV="1">
              <a:off x="1575360" y="2836440"/>
              <a:ext cx="2473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17"/>
          <p:cNvSpPr/>
          <p:nvPr/>
        </p:nvSpPr>
        <p:spPr>
          <a:xfrm flipH="1">
            <a:off x="538920" y="1844640"/>
            <a:ext cx="792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 flipH="1">
            <a:off x="4241880" y="4809960"/>
            <a:ext cx="129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9"/>
              <p:cNvSpPr txBox="1"/>
              <p:nvPr/>
            </p:nvSpPr>
            <p:spPr>
              <a:xfrm>
                <a:off x="2916360" y="2755800"/>
                <a:ext cx="863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Text Box 21"/>
          <p:cNvSpPr/>
          <p:nvPr/>
        </p:nvSpPr>
        <p:spPr>
          <a:xfrm flipH="1">
            <a:off x="1132920" y="27781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2"/>
          <p:cNvSpPr/>
          <p:nvPr/>
        </p:nvSpPr>
        <p:spPr>
          <a:xfrm flipH="1">
            <a:off x="1325520" y="240840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ределение КС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. McWilliams, D. Siegel: “… actions that appear to further some social good, beyond the interests of the firm and that which is required by la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воды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ссийская модель КСО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чины аномальных масштабов социальных инвестиций в Росси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резмерная централизация бюджетных ресурсов и регулятивных полномоч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ожность экономических, социальных, экологических и пр. пробл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развитость рын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центрация производства и богатст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приятие в обществе сложившегося институционального поряд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Латание дыр» (quick fixes) или завершение рефор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cemoglu, J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ins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авительство как основной “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казчик» К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мены между бизнесом и властью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liticians and Firms (Shleifer, Vishny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395280" y="2241720"/>
            <a:ext cx="8748720" cy="310176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итуциональны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ивног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С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stitutional complemenarity; P. Milgrom, M.Aoki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жданская актив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зрачность и подотчетность в частном и государственном сек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ыв между «быстрой» и «медленной» институциональной динамикой (fast-moving and slow-moving institutions; 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an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лишает российское КСО корней в обществе и делает его уязвимым к «захвату» (capture) с целью извлечения ренты из «недореформированной» экономики (J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ma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в России: возрождение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ие предприятия «социально гиперответственны» (Я. Паппэ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ризисные социальные инвестиции многократно превосходили западные стандар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снован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С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Friedman: “the social responsibility of business is to increase its profit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am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КСО – источник конкурентных преимуществ («и нашим, и вашим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новидности КС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иальный маркетинг (дифференциация продукт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Бесплатные обеды» (прямая заинтересованность в общественных блага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ое (ая?) КСО (воздействие на поведение стейкхолдер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СО и экстерна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терналия – синоним «нерыночного» воздействия компаний на стейкхолде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терналии составляют материальную основу КС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ханизмы координации в эконом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ное у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дебное у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ционал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: внедрение государственного регулирования в США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as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leif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ная альтернатива государственному регулированию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as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 государственного регулиров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очность нацеливания (тупой инструмен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«захвата»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и нецелевого приме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очная эффективность администр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аздывание госрегул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2:35:03Z</dcterms:created>
  <dc:creator>User</dc:creator>
  <dc:description/>
  <dc:language>en-US</dc:language>
  <cp:lastModifiedBy>LEGION</cp:lastModifiedBy>
  <dcterms:modified xsi:type="dcterms:W3CDTF">2016-01-05T12:45:00Z</dcterms:modified>
  <cp:revision>15</cp:revision>
  <dc:subject/>
  <dc:title>Корпоративная социальная ответственность: институциональная теория и российская практика</dc:title>
</cp:coreProperties>
</file>