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039B-C0B1-444F-8173-0A13B866E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A97F-873A-42A0-B136-3B082441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32A2-2E31-457E-9C71-32DC3623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C859-9BC4-42BD-9AE8-55417753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2B77-5E8D-4DC8-B061-2BE0968E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9F4B-E104-4A18-B074-218511C2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F81A-C565-4574-A9E1-AC88AE48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DCD4-9906-4362-88F2-F5FA8D9E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44FE-4F12-4671-94A6-E1643267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AE76-4172-476E-86CE-E6AB6BB5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F82D-7161-4FE3-9BDC-BA94CB07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A58E-BB92-4791-BE6F-168012D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5F06-4A76-49AF-9CBC-724D5C02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F568-7796-401A-9FE3-48205F69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071C-3F57-45CB-B237-07BB2296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EBFB-8883-4856-A82D-DC5D1C0C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B5D9-80B6-4298-A6C5-3AC9CF2F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9BC9-4166-4BC4-8B90-8EA7C14B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502A-7204-466A-A275-AA0BBE66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DA78-A7D7-4667-9D94-98EF3122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CC6C-1124-4D50-AA19-01CBF987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B64F-3BF3-43D4-89C4-314D192D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1597-4EF8-4C0A-B169-6B1B1059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6D35-AAF7-4638-AB61-DD1DAD3E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DE88-1B9A-4914-84FE-757BFCE6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7940-8D67-4E59-A524-059C16983B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11280" y="630864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Ф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B9A1-315D-4DEC-BCD6-1B5E8C54E5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708360" y="4851360"/>
            <a:ext cx="1625760" cy="900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пекуля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предпринимате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тремление к процветанию и росту своего дела, а подчиненная цель – рост при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с Вебе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4–1920)- немецкий социолог, экономист и историк культу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Протестантская этика и дух капитализма» (19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Мои документы\Фото\ИРП Слайды\Max_Weber_1894[1].jpg"/>
          <p:cNvPicPr/>
          <p:nvPr/>
        </p:nvPicPr>
        <p:blipFill>
          <a:blip r:embed="rId1"/>
          <a:stretch/>
        </p:blipFill>
        <p:spPr>
          <a:xfrm>
            <a:off x="5211720" y="1981080"/>
            <a:ext cx="291168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 особой роли протестантизма в развитии предприниматель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83-1950) — австрийский и американский экономист, социолог и историк экономической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экономического анализа»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D:\Мои документы\Фото\Free%20Money[1].jpg"/>
          <p:cNvPicPr/>
          <p:nvPr/>
        </p:nvPicPr>
        <p:blipFill>
          <a:blip r:embed="rId1"/>
          <a:stretch/>
        </p:blipFill>
        <p:spPr>
          <a:xfrm>
            <a:off x="5186520" y="1981080"/>
            <a:ext cx="29620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едпринимательство – универсальная общеэкономическая функция любой общественной 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лгаков С. Н. (о. Сергий)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71-1944) - философ, экономист, публицист и богосл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работ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Философия хозяйства» (19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D:\Мои документы\Фото\f5248d8404aa[1].jpg"/>
          <p:cNvPicPr/>
          <p:nvPr/>
        </p:nvPicPr>
        <p:blipFill>
          <a:blip r:embed="rId1"/>
          <a:stretch/>
        </p:blipFill>
        <p:spPr>
          <a:xfrm>
            <a:off x="5176800" y="1981080"/>
            <a:ext cx="298152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39640" y="2133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езис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экономического расцвета необходимо использовать нравственный и воспитательный потенциал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.е. основа хозяйства должна быть духовно-нравств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ган-Барановский М. 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5 – 1919) – экономист, истор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Русская фабрика в прошлом и настоящем» (18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D:\Мои документы\Фото\Baranovskij[1].jpg"/>
          <p:cNvPicPr/>
          <p:nvPr/>
        </p:nvPicPr>
        <p:blipFill>
          <a:blip r:embed="rId1"/>
          <a:stretch/>
        </p:blipFill>
        <p:spPr>
          <a:xfrm>
            <a:off x="5227560" y="1981080"/>
            <a:ext cx="287964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ьный 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 К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87-1971) – юрист, публиц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D:\Мои документы\Фото\Gins[1].jpg"/>
          <p:cNvPicPr/>
          <p:nvPr/>
        </p:nvPicPr>
        <p:blipFill>
          <a:blip r:embed="rId1"/>
          <a:stretch/>
        </p:blipFill>
        <p:spPr>
          <a:xfrm>
            <a:off x="5508720" y="2060640"/>
            <a:ext cx="2457360" cy="3595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оватор в хозя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организующий предприятие за счет собственных или привлеченных средств с целью получ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 со свободной инициативой, желающий самоутвердиться или обрести самосто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который умножает не только свое, но и национальное 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 самом общем смысл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падает с человеческой деятель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чард Кантильо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к. 1680-1734) – банкир, экономист, демог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Очерк о природе торговли вообще» (издан в Лондоне на французском языке в 175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4" descr="377px-Cant[1].jpg"/>
          <p:cNvPicPr/>
          <p:nvPr/>
        </p:nvPicPr>
        <p:blipFill>
          <a:blip r:embed="rId1"/>
          <a:stretch/>
        </p:blipFill>
        <p:spPr>
          <a:xfrm>
            <a:off x="5445000" y="19810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eu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человек, подвергающий себя риску непостоянных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23 – 1790) – шотландский экономист, философ-эти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следование о природе и причинах богатства народов»  (177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4" descr="AdamSmith.jpg"/>
          <p:cNvPicPr/>
          <p:nvPr/>
        </p:nvPicPr>
        <p:blipFill>
          <a:blip r:embed="rId1"/>
          <a:stretch/>
        </p:blipFill>
        <p:spPr>
          <a:xfrm>
            <a:off x="5365800" y="1981080"/>
            <a:ext cx="260352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доктрин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ного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ономического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видимой руки рын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67-1832) – французский экономис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D:\Мои документы\Фото\say.jpg"/>
          <p:cNvPicPr/>
          <p:nvPr/>
        </p:nvPicPr>
        <p:blipFill>
          <a:blip r:embed="rId1"/>
          <a:stretch/>
        </p:blipFill>
        <p:spPr>
          <a:xfrm>
            <a:off x="5200560" y="1981080"/>
            <a:ext cx="2933640" cy="3886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а) соединение факторов производства (капитала и тру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терми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умелость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эффективно функционируют только те предприятия, которые ведутся ум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ер Зомбар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63-1941) - немецкий экономист, социолог, филосо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Современный капитализм»     (1902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D:\Мои документы\Фото\ИРП Слайды\Verner[1].jpg"/>
          <p:cNvPicPr/>
          <p:nvPr/>
        </p:nvPicPr>
        <p:blipFill>
          <a:blip r:embed="rId1"/>
          <a:stretch/>
        </p:blipFill>
        <p:spPr>
          <a:xfrm>
            <a:off x="5025960" y="1981080"/>
            <a:ext cx="328284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7:36:08Z</dcterms:created>
  <dc:creator>Admin</dc:creator>
  <dc:description/>
  <dc:language>en-US</dc:language>
  <cp:lastModifiedBy>LEGION</cp:lastModifiedBy>
  <dcterms:modified xsi:type="dcterms:W3CDTF">2016-01-05T12:44:40Z</dcterms:modified>
  <cp:revision>91</cp:revision>
  <dc:subject/>
  <dc:title>История российского предпринимательства</dc:title>
</cp:coreProperties>
</file>