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831B-A278-4849-8CD1-8344B345D4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российского        предпринимательства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Введение в историю предпринимательств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ческие подходы к исследованию предпринимательства в западной и российской историограф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ссолицын Александр Алексеевич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э.н., професс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российского        предпринимательства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Введение в историю предпринимательств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ческие подходы к исследованию предпринимательства в западной и российской историограф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ссолицын Александр Алексеевич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э.н., професс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ер Зомбарт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л качества, необходимые предпринимателю для успешного ведения дела: 1)Предпринимательский дух;                                       2) Бюргерский (гражданский) ду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ипы предпринимателей (помимо купцов и промышленников), сформировавшиеся на заре капиталистической эпохи: разбойник, феодал-землевладел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ый тип предпринимателя  - спекуля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ер Зомбарт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л качества, необходимые предпринимателю для успешного ведения дела: 1)Предпринимательский дух;                                       2) Бюргерский (гражданский) ду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ипы предпринимателей (помимо купцов и промышленников), сформировавшиеся на заре капиталистической эпохи: разбойник, феодал-землевладел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ый тип предпринимателя  - спекуля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ер Зомбарт о предпринимательстве (продол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о – есть осуществление дальновидного плана, для проведения которого в жизнь требуется длительное сотрудничество нескольких лиц под объединяющим их всех руковод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– буржуа, который, если хочет иметь успех, должен осуществлять в единстве функции «завоевателя», «организатора» и «торговц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цель предпринимателя – стремление к процветанию и росту своего дела, а подчиненная цель – рост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ер Зомбарт о предпринимательстве (продол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о – есть осуществление дальновидного плана, для проведения которого в жизнь требуется длительное сотрудничество нескольких лиц под объединяющим их всех руковод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– буржуа, который, если хочет иметь успех, должен осуществлять в единстве функции «завоевателя», «организатора» и «торговц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цель предпринимателя – стремление к процветанию и росту своего дела, а подчиненная цель – рост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 Вебер  (1864–1920)- немецкий социолог, экономист и историк культур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 «Протестантская этика и дух капитализма» (19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 Вебер  (1864–1920)- немецкий социолог, экономист и историк культур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 «Протестантская этика и дух капитализма» (19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 Вебер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зис об особой роли протестантизма в развитии предпринимательства (европейский капитализм обязан своим происхождением протестантизму как религиозно-этическому комплексу, обеспечивающему воспитание таких черт личности, как трудолюбие, бережливость, честность, расчетлив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зис о движущих силах экспансии капитализма (капиталистический дух – там, где он возникает и оказывает свое воздействие, он добывает необходимые ему денежные ресурсы, но не наоборо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 Вебер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зис об особой роли протестантизма в развитии предпринимательства (европейский капитализм обязан своим происхождением протестантизму как религиозно-этическому комплексу, обеспечивающему воспитание таких черт личности, как трудолюбие, бережливость, честность, расчетлив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зис о движущих силах экспансии капитализма (капиталистический дух – там, где он возникает и оказывает свое воздействие, он добывает необходимые ему денежные ресурсы, но не наоборо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Йозеф Шумпетер (1883-1950) — австрийский и американский экономист, социолог и историк экономической мыс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 «История экономического анализа» (195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Йозеф Шумпетер (1883-1950) — австрийский и американский экономист, социолог и историк экономической мыс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 «История экономического анализа» (195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Йозеф Шумпетер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ая деятельность не может рассматриваться как профессия (Предпринимательство – универсальная общеэкономическая функция любой общественной форм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функция предпринимательств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волюционизирование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предпринимательской дея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ение новых комбинаций (иннова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ождествление предпринимательской функции с менеджментом в самом широком смысле сл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Йозеф Шумпетер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ая деятельность не может рассматриваться как профессия (Предпринимательство – универсальная общеэкономическая функция любой общественной форм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функция предпринимательств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волюционизирование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предпринимательской дея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ение новых комбинаций (иннова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ождествление предпринимательской функции с менеджментом в самом широком смысле сл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лгаков С. Н. (о. Сергий) - (1871-1944) - философ, экономист, публицист и богосл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боты: «Философия хозяйства» (19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ародное хозяйство и религиозная личность» (19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Христианская социология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лгаков С. Н. (о. Сергий) - (1871-1944) - философ, экономист, публицист и богосл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боты: «Философия хозяйства» (19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ародное хозяйство и религиозная личность» (19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Христианская социология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лгаков С.Н.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езис: Для экономического расцвета необходимо использовать нравственный и воспитательный потенциал правосла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ез благочестия неосуществимо хозяйственное богатство» (т.е. основа хозяйства должна быть духовно-нравственн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трудовой этики, основанной на этике правосла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лгаков С.Н.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езис: Для экономического расцвета необходимо использовать нравственный и воспитательный потенциал правосла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ез благочестия неосуществимо хозяйственное богатство» (т.е. основа хозяйства должна быть духовно-нравственн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трудовой этики, основанной на этике правосла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ган-Барановский М. И. (1865 – 1919) – экономист, истори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 «Русская фабрика в прошлом и настоящем» (18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ган-Барановский М. И. (1865 – 1919) – экономист, истори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 «Русская фабрика в прошлом и настоящем» (18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ган-Барановский М.И.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й тезис – отличие российского промышленного капитализма от западноевропейского заключается: 1) в отсутствии докапиталистической промышленной культуры и 2) в длительном господстве крепостн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ка развития российского капитализма: отсутствие средней и мелкой промышленной буржуазии способствовало высокой концентрации производства в России; высокие темпы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ган-Барановский М.И.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й тезис – отличие российского промышленного капитализма от западноевропейского заключается: 1) в отсутствии докапиталистической промышленной культуры и 2) в длительном господстве крепостн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ка развития российского капитализма: отсутствие средней и мелкой промышленной буржуазии способствовало высокой концентрации производства в России; высокие темпы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Методологические подходы к исследованию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тезис – История предпринимательства – это часть экономической ис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тезис – История предпринимательства - это особая сфера по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предпринимательства – наука о закономерностях и особенностях развития предпринимательства, формах и методах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Методологические подходы к исследованию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тезис – История предпринимательства – это часть экономической ис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тезис – История предпринимательства - это особая сфера по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предпринимательства – наука о закономерностях и особенностях развития предпринимательства, формах и методах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нс Г. К. (1887-1971) – юрист, публици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едприниматель» (Харбин,1941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нс Г. К. (1887-1971) – юрист, публици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едприниматель» (Харбин,1941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нс Г.К.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- разновидность хозяина, а не собственника (антрепренер, не имеющий собственности и на чужие деньги организующий спектакли – предпринимател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– новатор в хозяй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ая предпосылка для предпринимательства – предприимчивость (сообразительность, активность, способность предвидения, умение составить план и т.п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нс Г.К.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- разновидность хозяина, а не собственника (антрепренер, не имеющий собственности и на чужие деньги организующий спектакли – предпринимател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– новатор в хозяй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ая предпосылка для предпринимательства – предприимчивость (сообразительность, активность, способность предвидения, умение составить план и т.п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подходы в трактовке понятия «предприниматель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финансиста – человек, организующий предприятие за счет собственных или привлеченных средств с целью получения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психолога – человек со свободной инициативой, желающий самоутвердиться или обрести самосто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политэконома – человек, который умножает не только свое, но и национальное богат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подходы в трактовке понятия «предприниматель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финансиста – человек, организующий предприятие за счет собственных или привлеченных средств с целью получения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психолога – человек со свободной инициативой, желающий самоутвердиться или обрести самосто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политэконома – человек, который умножает не только свое, но и национальное богат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факторы, способствующие развитию предпринимательства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о-хозяйственное новаторство (креатив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своб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льные факторы (владение капиталом, несение риска, ориентация на извлечение прибыли, готовность к конкуренции, принятие решений, лидерство и т.д.) носят вспомогатель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факторы, способствующие развитию предпринимательства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о-хозяйственное новаторство (креатив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своб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льные факторы (владение капиталом, несение риска, ориентация на извлечение прибыли, готовность к конкуренции, принятие решений, лидерство и т.д.) носят вспомогатель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стрийская экономическ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о (в самом общем смысле) совпадает с человеческой деятельностью, т.е. в действиях любого человека, направленных на то, чтобы изменить настоящее и достичь своих целей в будущем, содержится элемент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стрийская экономическ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о (в самом общем смысле) совпадает с человеческой деятельностью, т.е. в действиях любого человека, направленных на то, чтобы изменить настоящее и достичь своих целей в будущем, содержится элемент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чард Кантильон (ок. 1680-1734) – банкир, экономист, демогра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лся в Ирландии, работал коммерсантом в Лондоне и банкиром в Париж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– «Очерк о природе торговли вообще» (издан в Лондоне на французском языке в 1755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чард Кантильон (ок. 1680-1734) – банкир, экономист, демогра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лся в Ирландии, работал коммерсантом в Лондоне и банкиром в Париж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– «Очерк о природе торговли вообще» (издан в Лондоне на французском языке в 1755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чард Кантильон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богатства – земля и тр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л в оборот понятие «предприниматель» (entrepreneur) – человек, подвергающий себя риску непостоянных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личительная черта деятельности предпринимателя – риск и неопределенность: (покупает товар по определенной цене, продает – по неопределенн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чард Кантильон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богатства – земля и тр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л в оборот понятие «предприниматель» (entrepreneur) – человек, подвергающий себя риску непостоянных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личительная черта деятельности предпринимателя – риск и неопределенность: (покупает товар по определенной цене, продает – по неопределенн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ам Смит (1723 – 1790) – шотландский экономист, философ-этик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ор логики в университете Глазго (с 1751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– «Исследование о природе и причинах богатства народов»  (1776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ам Смит (1723 – 1790) – шотландский экономист, философ-этик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ор логики в университете Глазго (с 1751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– «Исследование о природе и причинах богатства народов»  (1776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ам Смит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л доктрину свободного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арактеризовал предпринимателей с позиции «экономического челове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ая идея – экономика функционирует лучше, если исключить ее регулирование государством (принцип «невидимой руки рынка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ам Смит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л доктрину свободного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арактеризовал предпринимателей с позиции «экономического челове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ая идея – экономика функционирует лучше, если исключить ее регулирование государством (принцип «невидимой руки рынка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-Батист Сэй (1767-1832) – французский экономис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ор политической эконо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-«Трактат политической экономии, или Простое изложение способа, которым образуются, распределяются и потребляются богатства»              (1803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-Батист Сэй (1767-1832) – французский экономис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ор политической эконо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-«Трактат политической экономии, или Простое изложение способа, которым образуются, распределяются и потребляются богатства»              (1803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-Батист Сэй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л важнейшие функции предпринимателя:                     а) соединение факторов производства (капитала и труд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сбор информации и накопление опы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ринятие решения и организация производственн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л термин «умелость» (эффективно функционируют только те предприятия, которые ведутся умел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-Батист Сэй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л важнейшие функции предпринимателя:                     а) соединение факторов производства (капитала и труд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сбор информации и накопление опы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ринятие решения и организация производственн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л термин «умелость» (эффективно функционируют только те предприятия, которые ведутся умел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ер Зомбарт (1863-1941) - немецкий экономист, социолог, философ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– «Современный капитализм»     (1902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ер Зомбарт (1863-1941) - немецкий экономист, социолог, философ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– «Современный капитализм»     (1902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FA292-F425-48C1-9219-F2671832C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969C2-1843-4AAA-949E-DB092138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05C31-A615-400A-A970-885472CA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72CD7-80BE-4ADC-BE8E-96ED9EE34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5A03-C50C-4F47-A627-A0490CF25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8B40-56BB-43CF-B647-EFFA726B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A957-7A68-4AC0-81B8-74CBDFBE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4917-28DC-4ED0-8D4F-549892A1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56CD-568B-41DB-ADF6-6D5A9AC8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A242-B124-417E-BDEA-2C6EE1D9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B313-86E3-45A1-BFF3-1906F5E2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8A5E8-D366-4FD1-8006-8FDFEBBC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DCFA-18C5-4E02-A2A2-17160076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DD3A-016B-4259-BE0A-F08665F6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D1CB-0874-4EDC-A572-33B3C31E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4A26-8903-4A07-BA3C-0E0186C8E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DC62-140C-461E-8517-2B027850E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87A88-FFEA-4AED-9EE4-8E99711B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3857A-C3DB-4C72-85F8-94FEBC28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CEC15-E267-4EF8-8E54-FD5532A0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B6297-5299-43AF-87B3-63712485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2D919-04BC-4FE8-A65E-845A3EC7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827FB-4C65-426B-9ABE-5DC97DB1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B709A-FAEB-477C-9D07-4A922160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2FA3-47EB-4CC9-A296-CC50CAA75FC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7"/>
          <p:cNvSpPr/>
          <p:nvPr/>
        </p:nvSpPr>
        <p:spPr>
          <a:xfrm>
            <a:off x="611280" y="6308640"/>
            <a:ext cx="80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ФП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Российского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58B1-191D-474E-A26B-B46B546E852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тория российского        предпринимательства</a:t>
            </a: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1. Введение в историю предпринимательств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ологические подходы к исследованию предпринимательства в западной и российской историографии</a:t>
            </a:r>
            <a:br>
              <a:rPr sz="2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ссолицын Александр Алексеевич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.э.н., професс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708360" y="4851360"/>
            <a:ext cx="1625760" cy="9000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нер Зомбарт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ели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чества, необходимые предпринимателю для успешного ведения дела: 1)Предпринимательский дух;                                       2) Бюргерский (гражданский) ду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тип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принимателей (помимо купцов и промышленников), сформировавшиеся на заре капиталистической эпохи: разбойник, феодал-землевладел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иальный тип предпринимател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спекуля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нер Зомбарт о предпринимательств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принимательств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есть осуществление дальновидного плана, для проведения которого в жизнь требуется длительное сотрудничество нескольких лиц под объединяющим их всех руковод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принимател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буржуа, который, если хочет иметь успех, должен осуществлять в единстве функции «завоевателя», «организатора» и «торговц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ая цель предпринимател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тремление к процветанию и росту своего дела, а подчиненная цель – рост прибы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кс Вебер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1864–1920)- немецкий социолог, экономист и историк культур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ой труд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«Протестантская этика и дух капитализма» (19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D:\Мои документы\Фото\ИРП Слайды\Max_Weber_1894[1].jpg"/>
          <p:cNvPicPr/>
          <p:nvPr/>
        </p:nvPicPr>
        <p:blipFill>
          <a:blip r:embed="rId1"/>
          <a:stretch/>
        </p:blipFill>
        <p:spPr>
          <a:xfrm>
            <a:off x="5211720" y="1981080"/>
            <a:ext cx="2911680" cy="38862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с Вебер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зи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 особой роли протестантизма в развитии предпринимательств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европейский капитализм обязан своим происхождением протестантизму как религиозно-этическому комплексу, обеспечивающему воспитание таких черт личности, как трудолюбие, бережливость, честность, расчетлив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зи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 движущих силах экспансии капитализма (капиталистический дух – там, где он возникает и оказывает свое воздействие, он добывает необходимые ему денежные ресурсы, но не наоборо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Йозеф Шумпет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883-1950) — австрийский и американский экономист, социолог и историк экономической мыс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й труд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История экономического анализа» (195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D:\Мои документы\Фото\Free%20Money[1].jpg"/>
          <p:cNvPicPr/>
          <p:nvPr/>
        </p:nvPicPr>
        <p:blipFill>
          <a:blip r:embed="rId1"/>
          <a:stretch/>
        </p:blipFill>
        <p:spPr>
          <a:xfrm>
            <a:off x="5186520" y="1981080"/>
            <a:ext cx="2962080" cy="388620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Йозеф Шумпетер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1844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ринимательская деятельность не может рассматриваться как професс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едпринимательство – универсальная общеэкономическая функция любой общественной форм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ая функция предпринимательства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волюционизирование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держание предпринимательской деятель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ение новых комбинаций (инновац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ождествление предпринимательской функции с менеджментом в самом широком смысле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улгаков С. Н. (о. Сергий)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71-1944) - философ, экономист, публицист и богослов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работы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Философия хозяйства» (19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ародное хозяйство и религиозная личность» (19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Христианская социология»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D:\Мои документы\Фото\f5248d8404aa[1].jpg"/>
          <p:cNvPicPr/>
          <p:nvPr/>
        </p:nvPicPr>
        <p:blipFill>
          <a:blip r:embed="rId1"/>
          <a:stretch/>
        </p:blipFill>
        <p:spPr>
          <a:xfrm>
            <a:off x="5176800" y="1981080"/>
            <a:ext cx="2981520" cy="38862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лгаков С.Н.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8218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539640" y="2133720"/>
            <a:ext cx="82296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й тезис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экономического расцвета необходимо использовать нравственный и воспитательный потенциал правосла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Без благочестия неосуществимо хозяйственное богатство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т.е. основа хозяйства должна быть духовно-нравствен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цепция трудовой этики, основанной на этике правосла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уган-Барановский М. 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1865 – 1919) – экономист, историк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ой труд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«Русская фабрика в прошлом и настоящем» (18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D:\Мои документы\Фото\Baranovskij[1].jpg"/>
          <p:cNvPicPr/>
          <p:nvPr/>
        </p:nvPicPr>
        <p:blipFill>
          <a:blip r:embed="rId1"/>
          <a:stretch/>
        </p:blipFill>
        <p:spPr>
          <a:xfrm>
            <a:off x="5227560" y="1981080"/>
            <a:ext cx="2879640" cy="388620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уган-Барановский М.И.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нтральный тези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тличие российского промышленного капитализма от западноевропейского заключается: 1) в отсутствии докапиталистической промышленной культуры и 2) в длительном господстве крепостного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ифика развития российского капитализма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сутствие средней и мелкой промышленной буржуазии способствовало высокой концентрации производства в России; высокие темпы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Методологические подходы к исследованию предприним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0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тезис – История предпринимательства – это часть экономической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тезис – История предпринимательства - это особая сфера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пределение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предпринимательства – наука о закономерностях и особенностях развития предпринимательства, формах и методах предприниматель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нс Г. К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87-1971) – юрист, публиц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ой тру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редприниматель» (Харбин,1941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D:\Мои документы\Фото\Gins[1].jpg"/>
          <p:cNvPicPr/>
          <p:nvPr/>
        </p:nvPicPr>
        <p:blipFill>
          <a:blip r:embed="rId1"/>
          <a:stretch/>
        </p:blipFill>
        <p:spPr>
          <a:xfrm>
            <a:off x="5508720" y="2060640"/>
            <a:ext cx="2457360" cy="359568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нс Г.К. о предприниматель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ринимате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зновидность хозяина, а не собственника (антрепренер, не имеющий собственности и на чужие деньги организующий спектакли – предпринимате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ринима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оватор в хозяй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ая предпосылка для предпринимательства – предприимчивость (сообразительность, активность, способность предвидения, умение составить план и т.п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ременные подходы в трактовке понятия «предприниматель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финансис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еловек, организующий предприятие за счет собственных или привлеченных средств с целью получ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психолог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еловек со свободной инициативой, желающий самоутвердиться или обрести самосто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политэконо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еловек, который умножает не только свое, но и национальное богат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сновные факторы, способствующие развитию предпринимательств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онно-хозяйственное новаторство (креатив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номическая своб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льные факторы (владение капиталом, несение риска, ориентация на извлечение прибыли, готовность к конкуренции, принятие решений, лидерство и т.д.) носят вспомогатель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встрийская экономическая шк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приниматель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в самом общем смысле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впадает с человеческой деятельность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т.е. в действиях любого человека, направленных на то, чтобы изменить настоящее и достичь своих целей в будущем, содержится элемент предприним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ичард Кантильон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к. 1680-1734) – банкир, экономист, демогра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лся в Ирландии, работал коммерсантом в Лондоне и банкиром в Париж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й труд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Очерк о природе торговли вообще» (издан в Лондоне на французском языке в 1755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Содержимое 4" descr="377px-Cant[1].jpg"/>
          <p:cNvPicPr/>
          <p:nvPr/>
        </p:nvPicPr>
        <p:blipFill>
          <a:blip r:embed="rId1"/>
          <a:stretch/>
        </p:blipFill>
        <p:spPr>
          <a:xfrm>
            <a:off x="5445000" y="1981080"/>
            <a:ext cx="2444760" cy="38862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ичард Кантильон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0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 богатства – земля и тр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л в оборот понятие «предприниматель»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preneu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– человек, подвергающий себя риску непостоянных до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личительная черта деятельности предпринимателя – риск и неопределенность: (покупает товар по определенной цене, продает – по неопределен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дам Сми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723 – 1790) – шотландский экономист, философ-этик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ор логики в университете Глазго (с 1751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й труд –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Исследование о природе и причинах богатства народов»  (1776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Содержимое 4" descr="AdamSmith.jpg"/>
          <p:cNvPicPr/>
          <p:nvPr/>
        </p:nvPicPr>
        <p:blipFill>
          <a:blip r:embed="rId1"/>
          <a:stretch/>
        </p:blipFill>
        <p:spPr>
          <a:xfrm>
            <a:off x="5365800" y="1981080"/>
            <a:ext cx="2603520" cy="38862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дам Смит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147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л доктрин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бодного предприним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характеризовал предпринимателей с позиц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экономического челов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альная идея – экономика функционирует лучше, если исключить ее регулирование государством (принцип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невидимой руки рынка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ан-Батист Сэ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767-1832) – французский экономис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ор политической эконо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й труд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Трактат политической экономии, или Простое изложение способа, которым образуются, распределяются и потребляются богатства»              (1803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D:\Мои документы\Фото\say.jpg"/>
          <p:cNvPicPr/>
          <p:nvPr/>
        </p:nvPicPr>
        <p:blipFill>
          <a:blip r:embed="rId1"/>
          <a:stretch/>
        </p:blipFill>
        <p:spPr>
          <a:xfrm>
            <a:off x="5200560" y="1981080"/>
            <a:ext cx="2933640" cy="38862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ан-Батист Сэй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елил важнейшие функции предпринимател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а) соединение факторов производства (капитала и труд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сбор информации и накопление опы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принятие решения и организация производствен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л термин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умелость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эффективно функционируют только те предприятия, которые ведутся умел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рнер Зомбар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63-1941) - немецкий экономист, социолог, философ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ой труд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«Современный капитализм»     (1902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D:\Мои документы\Фото\ИРП Слайды\Verner[1].jpg"/>
          <p:cNvPicPr/>
          <p:nvPr/>
        </p:nvPicPr>
        <p:blipFill>
          <a:blip r:embed="rId1"/>
          <a:stretch/>
        </p:blipFill>
        <p:spPr>
          <a:xfrm>
            <a:off x="5025960" y="1981080"/>
            <a:ext cx="3282840" cy="38862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6T17:36:08Z</dcterms:created>
  <dc:creator>Admin</dc:creator>
  <dc:description/>
  <dc:language>en-US</dc:language>
  <cp:lastModifiedBy>LEGION</cp:lastModifiedBy>
  <dcterms:modified xsi:type="dcterms:W3CDTF">2016-01-05T12:44:40Z</dcterms:modified>
  <cp:revision>91</cp:revision>
  <dc:subject/>
  <dc:title>История российского предпринимательства</dc:title>
</cp:coreProperties>
</file>