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07F4-3500-4CE7-A102-9CDA10C60E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 - спекуля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 - спекуля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предпринимателя – стремление к процветанию и росту своего дела, а подчиненная цель – рост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предпринимателя – стремление к процветанию и росту своего дела, а подчиненная цель – рост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 (1864–1920)- немецкий социолог, экономист и историк куль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Протестантская этика и дух капитализма»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 (1864–1920)- немецкий социолог, экономист и историк куль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Протестантская этика и дух капитализма»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б особой роли протестантизма в развитии предпринимательства 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б особой роли протестантизма в развитии предпринимательства 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(1883-1950) — австрийский и американский экономист, социолог и историк экономической мыс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История экономического анализа» (195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(1883-1950) — австрийский и американский экономист, социолог и историк экономической мыс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История экономического анализа» (195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(Предпринимательство – универсальная общеэкономическая функция любой общественной 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(Предпринимательство – универсальная общеэкономическая функция любой общественной 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 Н. (о. Сергий) - (1871-1944) - философ, экономист, публицист и богос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боты: «Философия хозяйства» (19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 Н. (о. Сергий) - (1871-1944) - философ, экономист, публицист и богос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боты: «Философия хозяйства» (19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езис: Для экономического расцвета необходимо использовать нравственный и воспитательный потенциал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 (т.е. основа хозяйства должна быть духовно-нравств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езис: Для экономического расцвета необходимо использовать нравственный и воспитательный потенциал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 (т.е. основа хозяйства должна быть духовно-нравств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 И. (1865 – 1919) – экономист, истори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Русская фабрика в прошлом и настоящем» (18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 И. (1865 – 1919) – экономист, истори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Русская фабрика в прошлом и настоящем» (18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тезис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тезис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 К. (1887-1971) – юрист, публиц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 К. (1887-1971) – юрист, публиц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новатор в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новатор в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 – человек, организующий предприятие за счет собственных или привлеченных средств с целью получен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 – человек со свободной инициативой, желающий самоутвердиться или обрести 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 – человек, который умножает не только свое, но и национальное богат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 – человек, организующий предприятие за счет собственных или привлеченных средств с целью получен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 – человек со свободной инициативой, желающий самоутвердиться или обрести 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 – человек, который умножает не только свое, но и национальное богат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(в самом общем смысле) совпадает с человеческой деятельностью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(в самом общем смысле) совпадает с человеческой деятельностью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(ок. 1680-1734) – банкир, экономист, демогра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Очерк о природе торговли вообще» (издан в Лондоне на французском языке в 175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(ок. 1680-1734) – банкир, экономист, демогра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Очерк о природе торговли вообще» (издан в Лондоне на французском языке в 175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entrepreneur) – человек, подвергающий себя риску непостоянных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entrepreneur) – человек, подвергающий себя риску непостоянных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(1723 – 1790) – шотландский экономист, философ-эти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Исследование о природе и причинах богатства народов»  (177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(1723 – 1790) – шотландский экономист, философ-эти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Исследование о природе и причинах богатства народов»  (177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доктрину свобод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«экономического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«невидимой руки рынк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доктрину свобод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«экономического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«невидимой руки рынк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(1767-1832) – французский экономи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-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(1767-1832) – французский экономи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-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                     а) соединение факторов производства (капитала и труд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термин «умелость» (эффективно функционируют только те предприятия, которые ведутся уме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                     а) соединение факторов производства (капитала и труд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термин «умелость» (эффективно функционируют только те предприятия, которые ведутся уме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(1863-1941) - немецкий экономист, социолог, философ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Современный капитализм»     (190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(1863-1941) - немецкий экономист, социолог, философ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Современный капитализм»     (190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D5FB2-64C6-4BC6-877F-02CBD411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FBF83-935A-4054-BA63-A1A91F55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1383C-B7EA-4631-B1D9-8B6687AD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22C2D-332C-4A83-BFF0-BA9DEFA0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A0C4-A89A-4F86-9F72-48B94C14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DD79-00D1-4164-988C-C79DE09E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920E-22E3-4DD3-B75C-F01DDC61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4462-3FE4-4BF5-A343-382ABAE0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279E-D4F9-4245-9C17-743D7824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FF4F-D757-4529-B45B-707562CC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B2B8-DD28-456A-A0B4-A37DDC2B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22B7-FB6E-4DED-A619-3BD0BF9A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DBA5-A81A-4C9B-A843-8AB57D8D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A19A-B0EF-4489-8520-F1473D86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38DD-B74A-43CB-BF52-BEE18C58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C7AE-CEFF-4D69-848D-5CB01522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6FE6-EE58-4241-A059-1B724283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162B8-11E6-418C-A477-CC8E2909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4693-A126-4268-B550-F08927A0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F9D50-9696-4A0E-9A7B-72551C38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271FC-07E3-4A2D-8B73-63752D74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769C-81DD-4716-B061-495A7E1A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D8AB-208D-4B60-B52A-9B54DF4C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AD81-88A2-42C1-80DF-6AF800C0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1FA6-9D53-43A8-9DD0-3C46174BDA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611280" y="630864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Ф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C5E6-2EEB-46FB-B9A8-4BC42769DF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708360" y="4851360"/>
            <a:ext cx="1625760" cy="900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т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пекуля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нимательств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нимате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ая цель предпринимател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тремление к процветанию и росту своего дела, а подчиненная цель – рост при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с Вебе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864–1920)- немецкий социолог, экономист и историк культур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Протестантская этика и дух капитализма» (19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D:\Мои документы\Фото\ИРП Слайды\Max_Weber_1894[1].jpg"/>
          <p:cNvPicPr/>
          <p:nvPr/>
        </p:nvPicPr>
        <p:blipFill>
          <a:blip r:embed="rId1"/>
          <a:stretch/>
        </p:blipFill>
        <p:spPr>
          <a:xfrm>
            <a:off x="5211720" y="1981080"/>
            <a:ext cx="2911680" cy="38862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 особой роли протестантизма в развитии предприниматель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озеф Шумпе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83-1950) — австрийский и американский экономист, социолог и историк экономической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История экономического анализа» (19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D:\Мои документы\Фото\Free%20Money[1].jpg"/>
          <p:cNvPicPr/>
          <p:nvPr/>
        </p:nvPicPr>
        <p:blipFill>
          <a:blip r:embed="rId1"/>
          <a:stretch/>
        </p:blipFill>
        <p:spPr>
          <a:xfrm>
            <a:off x="5186520" y="1981080"/>
            <a:ext cx="2962080" cy="38862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едпринимательство – универсальная общеэкономическая функция любой общественной 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лгаков С. Н. (о. Сергий)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71-1944) - философ, экономист, публицист и богосло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работ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Философия хозяйства» (19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D:\Мои документы\Фото\f5248d8404aa[1].jpg"/>
          <p:cNvPicPr/>
          <p:nvPr/>
        </p:nvPicPr>
        <p:blipFill>
          <a:blip r:embed="rId1"/>
          <a:stretch/>
        </p:blipFill>
        <p:spPr>
          <a:xfrm>
            <a:off x="5176800" y="1981080"/>
            <a:ext cx="2981520" cy="38862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539640" y="2133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езис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экономического расцвета необходимо использовать нравственный и воспитательный потенциал правосл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.е. основа хозяйства должна быть духовно-нравств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уган-Барановский М. 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865 – 1919) – экономист, истори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Русская фабрика в прошлом и настоящем» (18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D:\Мои документы\Фото\Baranovskij[1].jpg"/>
          <p:cNvPicPr/>
          <p:nvPr/>
        </p:nvPicPr>
        <p:blipFill>
          <a:blip r:embed="rId1"/>
          <a:stretch/>
        </p:blipFill>
        <p:spPr>
          <a:xfrm>
            <a:off x="5227560" y="1981080"/>
            <a:ext cx="2879640" cy="38862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ьный 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нс Г. К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87-1971) – юрист, публиц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D:\Мои документы\Фото\Gins[1].jpg"/>
          <p:cNvPicPr/>
          <p:nvPr/>
        </p:nvPicPr>
        <p:blipFill>
          <a:blip r:embed="rId1"/>
          <a:stretch/>
        </p:blipFill>
        <p:spPr>
          <a:xfrm>
            <a:off x="5508720" y="2060640"/>
            <a:ext cx="2457360" cy="35956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оватор в хозяй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, организующий предприятие за счет собственных или привлеченных средств с целью получ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 со свободной инициативой, желающий самоутвердиться или обрести самосто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, который умножает не только свое, но и национальное бога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ь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в самом общем смысле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падает с человеческой деятель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чард Кантильо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к. 1680-1734) – банкир, экономист, демогра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Очерк о природе торговли вообще» (издан в Лондоне на французском языке в 1755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4" descr="377px-Cant[1].jpg"/>
          <p:cNvPicPr/>
          <p:nvPr/>
        </p:nvPicPr>
        <p:blipFill>
          <a:blip r:embed="rId1"/>
          <a:stretch/>
        </p:blipFill>
        <p:spPr>
          <a:xfrm>
            <a:off x="5445000" y="1981080"/>
            <a:ext cx="2444760" cy="3886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preneu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человек, подвергающий себя риску непостоянных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м Сми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723 – 1790) – шотландский экономист, философ-эти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сследование о природе и причинах богатства народов»  (177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4" descr="AdamSmith.jpg"/>
          <p:cNvPicPr/>
          <p:nvPr/>
        </p:nvPicPr>
        <p:blipFill>
          <a:blip r:embed="rId1"/>
          <a:stretch/>
        </p:blipFill>
        <p:spPr>
          <a:xfrm>
            <a:off x="5365800" y="1981080"/>
            <a:ext cx="260352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доктрин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бодного предприним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кономического чело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невидимой руки рынк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н-Батист Сэ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767-1832) – французский экономис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D:\Мои документы\Фото\say.jpg"/>
          <p:cNvPicPr/>
          <p:nvPr/>
        </p:nvPicPr>
        <p:blipFill>
          <a:blip r:embed="rId1"/>
          <a:stretch/>
        </p:blipFill>
        <p:spPr>
          <a:xfrm>
            <a:off x="5200560" y="1981080"/>
            <a:ext cx="2933640" cy="3886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а) соединение факторов производства (капитала и труд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терми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умелость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эффективно функционируют только те предприятия, которые ведутся уме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нер Зомбар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63-1941) - немецкий экономист, социолог, филосо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Современный капитализм»     (1902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D:\Мои документы\Фото\ИРП Слайды\Verner[1].jpg"/>
          <p:cNvPicPr/>
          <p:nvPr/>
        </p:nvPicPr>
        <p:blipFill>
          <a:blip r:embed="rId1"/>
          <a:stretch/>
        </p:blipFill>
        <p:spPr>
          <a:xfrm>
            <a:off x="5025960" y="1981080"/>
            <a:ext cx="328284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7:36:08Z</dcterms:created>
  <dc:creator>Admin</dc:creator>
  <dc:description/>
  <dc:language>en-US</dc:language>
  <cp:lastModifiedBy>LEGION</cp:lastModifiedBy>
  <dcterms:modified xsi:type="dcterms:W3CDTF">2016-01-05T12:44:40Z</dcterms:modified>
  <cp:revision>91</cp:revision>
  <dc:subject/>
  <dc:title>История российского предпринимательства</dc:title>
</cp:coreProperties>
</file>