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634-77DF-41EF-B62C-B3452C988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 - спекуля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цель предпринимателя – стремление к процветанию и росту своего дела, а подчиненная цель – рост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 (1864–1920)- немецкий социолог, экономист и историк куль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Протестантская этика и дух капитализма»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б особой роли протестантизма в развитии предпринимательства 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зис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(1883-1950) — австрийский и американский экономист, социолог и историк экономической мыс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История экономического анализа» (195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(Предпринимательство – универсальная общеэкономическая функция любой общественной 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 Н. (о. Сергий) - (1871-1944) - философ, экономист, публицист и богос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боты: «Философия хозяйства» (19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езис: Для экономического расцвета необходимо использовать нравственный и воспитательный потенциал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 (т.е. основа хозяйства должна быть духовно-нравств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 И. (1865 – 1919) – экономист, истори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 «Русская фабрика в прошлом и настоящем» (18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тезис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 К. (1887-1971) – юрист, публиц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– новатор в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 – человек, организующий предприятие за счет собственных или привлеченных средств с целью получен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 – человек со свободной инициативой, желающий самоутвердиться или обрести 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 – человек, который умножает не только свое, но и национальное бога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о (в самом общем смысле) совпадает с человеческой деятельностью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(ок. 1680-1734) – банкир, экономист, демогра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Очерк о природе торговли вообще» (издан в Лондоне на французском языке в 1755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entrepreneur) – человек, подвергающий себя риску непостоянных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(1723 – 1790) – шотландский экономист, философ-эти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Исследование о природе и причинах богатства народов»  (177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доктрину свобод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«экономического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«невидимой руки рынк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(1767-1832) – французский экономи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-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                     а) соединение факторов производства (капитала и труд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л термин «умелость» (эффективно функционируют только те предприятия, которые ведутся ум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ер Зомбарт (1863-1941) - немецкий экономист, социолог, философ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труд – «Современный капитализм»     (1902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2077-C710-492B-AD3D-934A4711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15FC-22DA-4E66-A6EC-96FFF61E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978F-585B-4058-BF17-42D19AC0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A92D-1660-4503-8B28-439F9C7A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66C7-738C-4586-B472-F3C36D0B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31F6-327E-4944-9962-E0E5C408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78F4-D162-4276-97FC-783AD2C8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6F3C-F976-4ED7-AD09-999CE066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400F-BCE7-40DF-BFE3-4A3E90E3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8EBF-97AC-416B-B884-16C08E6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B245-E64F-4A2D-A012-C80FBC5E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6EB73-F649-4EA8-9F5B-ADA792BD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8CEC-F0BD-4309-BDFB-2585CDCC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6C0B-2A13-4435-BE81-069D42B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D7B9-D1A3-4177-98DB-D8FE7085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3FC-B76F-4755-B791-26693CBE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D188-D20B-4D61-80FC-12F8ED3A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7091-AD88-438A-8833-E974F1F6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7F92-2DCC-4F7B-B8D9-E26AE718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9FD8B-F81C-4F86-8438-BDE0EDC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CC9C-BA71-404B-A656-EE8EFE98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640D-F315-4D47-B498-2E5533A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064A4-54C1-474F-A524-64EB23AF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B283-8EDF-4950-AA2F-628AD5FA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76C-5FBC-4E95-97EE-5EFFBB72CE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11280" y="630864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Ф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оссийск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20D6-30FA-4E2B-A074-B8E49F2D18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российского        предпринимательства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Введение в историю предпринимательст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ологические подходы к исследованию предпринимательства в западной и российской историографии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солицын Александр Алексеевич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э.н., проф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708360" y="4851360"/>
            <a:ext cx="1625760" cy="900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а, необходимые предпринимателю для успешного ведения дела: 1)Предпринимательский дух;                                       2) Бюргерский (гражданский) ду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принимателей (помимо купцов и промышленников), сформировавшиеся на заре капиталистической эпохи: разбойник, феодал-землевладел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тип предпринима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пекуля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нер Зомбарт о предпринимательств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ств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есть осуществление дальновидного плана, для проведения которого в жизнь требуется длительное сотрудничество нескольких лиц под объединяющим их всех руково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уржуа, который, если хочет иметь успех, должен осуществлять в единстве функции «завоевателя», «организатора» и «торгов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предпринимател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тремление к процветанию и росту своего дела, а подчиненная цель – рост при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с Вебе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4–1920)- немецкий социолог, экономист и историк куль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Протестантская этика и дух капитализма» (19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\Фото\ИРП Слайды\Max_Weber_1894[1].jpg"/>
          <p:cNvPicPr/>
          <p:nvPr/>
        </p:nvPicPr>
        <p:blipFill>
          <a:blip r:embed="rId1"/>
          <a:stretch/>
        </p:blipFill>
        <p:spPr>
          <a:xfrm>
            <a:off x="5211720" y="1981080"/>
            <a:ext cx="2911680" cy="38862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б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 особой роли протестантизма в развитии предприниматель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ропейский капитализм обязан своим происхождением протестантизму как религиозно-этическому комплексу, обеспечивающему воспитание таких черт личности, как трудолюбие, бережливость, честность, расчетлив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движущих силах экспансии капитализма (капиталистический дух – там, где он возникает и оказывает свое воздействие, он добывает необходимые ему денежные ресурсы, но не наоборо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83-1950) — австрийский и американский экономист, социолог и историк экономической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История экономического анализа» (19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D:\Мои документы\Фото\Free%20Money[1].jpg"/>
          <p:cNvPicPr/>
          <p:nvPr/>
        </p:nvPicPr>
        <p:blipFill>
          <a:blip r:embed="rId1"/>
          <a:stretch/>
        </p:blipFill>
        <p:spPr>
          <a:xfrm>
            <a:off x="5186520" y="1981080"/>
            <a:ext cx="29620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озеф Шумпетер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 не может рассматриваться как професс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едпринимательство – универсальная общеэкономическая функция любой общественной 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функция предпринимательств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олюционизирование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едпринимательск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новых комбинаций (иннова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ождествление предпринимательской функции с менеджментом в самом широком смысл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лгаков С. Н. (о. Сергий)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71-1944) - философ, экономист, публицист и богосл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работ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Философия хозяйства» (19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родное хозяйство и религиозная личность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ристианская социология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Мои документы\Фото\f5248d8404aa[1].jpg"/>
          <p:cNvPicPr/>
          <p:nvPr/>
        </p:nvPicPr>
        <p:blipFill>
          <a:blip r:embed="rId1"/>
          <a:stretch/>
        </p:blipFill>
        <p:spPr>
          <a:xfrm>
            <a:off x="5176800" y="1981080"/>
            <a:ext cx="298152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гаков С.Н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198072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539640" y="2133720"/>
            <a:ext cx="82296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езис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ономического расцвета необходимо использовать нравственный и воспитательный потенциал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з благочестия неосуществимо хозяйственное богатств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.е. основа хозяйства должна быть духовно-нравств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трудовой этики, основанной на этике правосл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уган-Барановский М. 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865 – 1919) – экономист, истори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Русская фабрика в прошлом и настоящем» (18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D:\Мои документы\Фото\Baranovskij[1].jpg"/>
          <p:cNvPicPr/>
          <p:nvPr/>
        </p:nvPicPr>
        <p:blipFill>
          <a:blip r:embed="rId1"/>
          <a:stretch/>
        </p:blipFill>
        <p:spPr>
          <a:xfrm>
            <a:off x="5227560" y="1981080"/>
            <a:ext cx="287964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ган-Барановский М.И.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альный тез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личие российского промышленного капитализма от западноевропейского заключается: 1) в отсутствии докапиталистической промышленной культуры и 2) в длительном господстве крепост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 развития российского капитализм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сутствие средней и мелкой промышленной буржуазии способствовало высокой концентрации производства в России; высокие темп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Методологические подходы к исследованию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тезис – История предпринимательства – это часть экономической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тезис – История предпринимательства - это особая сфер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предпринимательства – наука о закономерностях и особенностях развития предпринимательства, формах и методах предприним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 К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87-1971) – юрист, публиц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едприниматель» (Харбин,1941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D:\Мои документы\Фото\Gins[1].jpg"/>
          <p:cNvPicPr/>
          <p:nvPr/>
        </p:nvPicPr>
        <p:blipFill>
          <a:blip r:embed="rId1"/>
          <a:stretch/>
        </p:blipFill>
        <p:spPr>
          <a:xfrm>
            <a:off x="5508720" y="2060640"/>
            <a:ext cx="2457360" cy="3595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нс Г.К. о предприниматель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новидность хозяина, а не собственника (антрепренер, не имеющий собственности и на чужие деньги организующий спектакли – предпринимат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оватор в хозяй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ая предпосылка для предпринимательства – предприимчивость (сообразительность, активность, способность предвидения, умение составить план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одходы в трактовке понятия «предприниматель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финанси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организующий предприятие за счет собственных или привлеченных средств с целью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сихоло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 со свободной инициативой, желающий самоутвердиться или обрести сам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риниматель с точки зрения политэконо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человек, который умножает не только свое, но и национальное бог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ые факторы, способствующие развитию предприниматель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-хозяйственное новаторство (креатив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факторы (владение капиталом, несение риска, ориентация на извлечение прибыли, готовность к конкуренции, принятие решений, лидерство и т.д.) носят вспомогатель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стрийская экономическ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риниматель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в самом общем смысл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падает с человеческой деятель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 действиях любого человека, направленных на то, чтобы изменить настоящее и достичь своих целей в будущем, содержится элемент предприним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чард Кантильо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к. 1680-1734) – банкир, экономист, демогр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лся в Ирландии, работал коммерсантом в Лондоне и банкиром в Пари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черк о природе торговли вообще» (издан в Лондоне на французском языке в 1755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377px-Cant[1].jpg"/>
          <p:cNvPicPr/>
          <p:nvPr/>
        </p:nvPicPr>
        <p:blipFill>
          <a:blip r:embed="rId1"/>
          <a:stretch/>
        </p:blipFill>
        <p:spPr>
          <a:xfrm>
            <a:off x="5445000" y="19810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чард Кантильон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богатства – земля и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в оборот понятие «предприниматель»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preneu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человек, подвергающий себя риску непостоянных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ительная черта деятельности предпринимателя – риск и неопределенность: (покупает товар по определенной цене, продает – по неопредел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23 – 1790) – шотландский экономист, философ-эт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логики в университете Глазго (с 1751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природе и причинах богатства народов»  (177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4" descr="AdamSmith.jpg"/>
          <p:cNvPicPr/>
          <p:nvPr/>
        </p:nvPicPr>
        <p:blipFill>
          <a:blip r:embed="rId1"/>
          <a:stretch/>
        </p:blipFill>
        <p:spPr>
          <a:xfrm>
            <a:off x="5365800" y="1981080"/>
            <a:ext cx="2603520" cy="38862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м Смит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доктрин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бодного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л предпринимателей с пози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экономического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ая идея – экономика функционирует лучше, если исключить ее регулирование государством (принцип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видимой руки рын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767-1832) – французский экономис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олитической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труд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рактат политической экономии, или Простое изложение способа, которым образуются, распределяются и потребляются богатства»              (1803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D:\Мои документы\Фото\say.jpg"/>
          <p:cNvPicPr/>
          <p:nvPr/>
        </p:nvPicPr>
        <p:blipFill>
          <a:blip r:embed="rId1"/>
          <a:stretch/>
        </p:blipFill>
        <p:spPr>
          <a:xfrm>
            <a:off x="5200560" y="1981080"/>
            <a:ext cx="293364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н-Батист Сэй о предприним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л важнейшие функции предпринимате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а) соединение факторов производства (капитала и тру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бор информации и накопление опы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ринятие решения и организация производстве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л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умелость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эффективно функционируют только те предприятия, которые ведутся ум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нер Зомбар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63-1941) - немецкий экономист, социолог, филосо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й труд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Современный капитализм»     (1902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Мои документы\Фото\ИРП Слайды\Verner[1].jpg"/>
          <p:cNvPicPr/>
          <p:nvPr/>
        </p:nvPicPr>
        <p:blipFill>
          <a:blip r:embed="rId1"/>
          <a:stretch/>
        </p:blipFill>
        <p:spPr>
          <a:xfrm>
            <a:off x="5025960" y="1981080"/>
            <a:ext cx="3282840" cy="38862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7:36:08Z</dcterms:created>
  <dc:creator>Admin</dc:creator>
  <dc:description/>
  <dc:language>en-US</dc:language>
  <cp:lastModifiedBy>LEGION</cp:lastModifiedBy>
  <dcterms:modified xsi:type="dcterms:W3CDTF">2016-01-05T12:44:40Z</dcterms:modified>
  <cp:revision>91</cp:revision>
  <dc:subject/>
  <dc:title>История российского предпринимательства</dc:title>
</cp:coreProperties>
</file>