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4FB8-B85A-4B46-BAC4-A3A4F99038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ДЕНЦИАЛЬНО: УСТАНОВЛЕНИЕ ПРОГРАММЫ ЗАЩИТЫ КОММЕРЧЕСКИХ ТАЙН B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ю.н. Янушаускайте Крист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ИС Программа обу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еров (экспертов) по ИС для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– 20 августа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ДЕНЦИАЛЬНО: УСТАНОВЛЕНИЕ ПРОГРАММЫ ЗАЩИТЫ КОММЕРЧЕСКИХ ТАЙН B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ю.н. Янушаускайте Кристи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ИС Программа обу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еров (экспертов) по ИС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 – 20 августа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обучать всех сотрудников в вопросах, связанных с безопасностью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– 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- включать разумные ограничения в письменной форме во все контр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обучать всех сотрудников в вопросах, связанных с безопасностью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– 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- включать разумные ограничения в письменной форме во все контр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- ограничить доступ к бумажным отч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- отмечать док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- обеспечивать конфиденциальность в помещении оф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- поддерживать тайну компью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- охранять тайну, которая разделена с партне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- ограничить доступ к бумажным отче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- отмечать докум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- обеспечивать конфиденциальность в помещении оф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 - поддерживать тайну компьют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- охранять тайну, которая разделена с партне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конное завладение коммерческих тайн: опреде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праведливое приобретение коммерческой тайны воровством, мошенничеством, принуждением или любыми другими противоправными действ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коммерческой тайны, зная (или будучи чрезвычайно небрежным в подвождении знать), что это было незаконно приобретено преж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инно приобретая коммерческую тайну, но используя или разглашая ее после изучения более раннего незаконного приобре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ли разглашение коммерческой тайны в нарушении договорного обяз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конное завладение коммерческих тайн: опреде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ое приобретение коммерческой тайны воровством, мошенничеством, принуждением или любыми другими противоправными действ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коммерческой тайны, зная (или будучи чрезвычайно небрежным в подвождении знать), что это было незаконно приобретено преж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инно приобретая коммерческую тайну, но используя или разглашая ее после изучения более раннего незаконного приобре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или разглашение коммерческой тайны в нарушении договорного обяз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коммерческие тайны становятся украд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‘взял’ этот пароль от своего коллеги, который фактически 'взломал'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прокомментируете такое объясн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коммерческие тайны становятся украденн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‘взял’ этот пароль от своего коллеги, который фактически 'взломал' 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прокомментируете такое объяснен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тран нет определенных законов о коммерческих тай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установл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гражданским законам (Узбекист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законам о нечестной конкуренции (например, в Герман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ым правом (во многих стран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м правом (например, в странах Европейского Союза, США, Росс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ольшинстве стран нет определенных законов о коммерческих тай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установле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гражданским законам (Узбеки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законам о нечестной конкуренции (например, в Герман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ым правом (во многих стран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овным правом (например, в странах Европейского Союза, США, Росс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становить нарушение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жде всего, ответи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Действительно ли информация была тай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Были ли предприняты разумные шаги, чтобы поддержать эту информацию в тай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установить нарушение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жде всего, ответи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Действительно ли информация была тайн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Были ли предприняты разумные шаги, чтобы поддержать эту информацию в тай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юридической защиты: самые обы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суда остановить дальнейшее использования и получения вы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незаконно приобретенной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суда признать убытки (фактическое повреждение, потеря прибыли или несправедливого обогащ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 поиск в помещении ответчика, чтобы получить свиде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юридической защиты: самые обы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суда остановить дальнейшее использования и получения выг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ение незаконно приобретенн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суда признать убытки (фактическое повреждение, потеря прибыли или несправедливого обогащ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 поиск в помещении ответчика, чтобы получить свиде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 коммерческих тайн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можете помочь генеральному директору и объяснить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 коммерческих тайн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 можете помочь генеральному директору и объяснить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й список шаг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Установить существенные коммерческие тайны в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оверить право компании на данные коммерческие та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Проверить, чтобы процедуры конфиденциальности  были сопровожд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й список шаг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Установить существенные коммерческие тайны в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Проверить право компании на данные коммерческие тай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Проверить, чтобы процедуры конфиденциальности  были сопровожд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'коммерческая тайна'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и характерные кри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защищать коммерческую тай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ми тайн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конное завладение коммерческими тайнами: как это запретить и каковы системы защи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коммерческих тайн: как это установить и каковы средства юридической защи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оводить аудит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'коммерческая тайна'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и характерные крит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защищать коммерческую тайн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удобства защиты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ми тайн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конное завладение коммерческими тайнами: как это запретить и каковы системы защи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коммерческих тайн: как это установить и каковы средства юридической защи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оводить аудит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ОПРОСЫ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!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ОПРОСЫ?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'коммерческая тайна'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к А (инженер), который работал в компании A 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, что он никогда не слышал не о чем ' секретном'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'коммерческая тайна'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к А (инженер), который работал в компании A 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, что он никогда не слышал не о чем ' секретном'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ая тайна – эт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(технологическая, коммерческая, финансовая, стратегическая, логистическая, научная, и т.д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ется общеизвестной ни для общество, ни для других соответствующих круг 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коммерческую ценность ее владельцу из-за факта, что это является секрет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лежит разумным усилиям поддержать тайну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ая тайна – эт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(технологическая, коммерческая, финансовая, стратегическая, логистическая, научная,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является общеизвестной ни для общество, ни для других соответствующих круг бизне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коммерческую ценность ее владельцу из-за факта, что это является секрет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лежит разумным усилиям поддержать тайну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ая тайна” в Узбекском законодательств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м законодательством защищается информация, составляющая служебную и коммерческую тайну, в случае, когда информация имеет действительную или потенциальную коммерческую ценность в силу неизвестности ее третьим лицам, к ней нет свободного доступа на законном основании и обладатель информации принимает меры к охране ее конфиденциальности (ст. 98 ГК РУ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ая тайна” в Узбекском законодательств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м законодательством защищается информация, составляющая служебную и коммерческую тайну, в случае, когда информация имеет действительную или потенциальную коммерческую ценность в силу неизвестности ее третьим лицам, к ней нет свободного доступа на законном основании и обладатель информации принимает меры к охране ее конфиденциальности (ст. 98 ГК РУ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Химические) формулы: напитки, пища, косметика, лекарства,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и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ы испы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, развитие и исследование, стратегические пл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ая информация (процессы, которые не работали,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ки клиентов и информация о клиен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и информация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идеи, методы,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знаменитый пример: формула напитков Coca-C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Химические) формулы: напитки, пища, косметика, лекарства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ы и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спы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, развитие и исследование, стратегические пл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ая информация (процессы, которые не работали,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ки клиентов и информация о клиен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и информация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идеи, методы,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й знаменитый пример: формула напитков Coca-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рмула напитков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ca-C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ормула напитков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удобства защиты коммерческих тай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установить систему идентификации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развивать политику в области безопасности относительно информации, которая включает информацию о коммерческих тайнах (физический, административный и технический контро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установить систему идентификации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развивать политику в области безопасности относительно информации, которая включает информацию о коммерческих тайнах (физический, административный и технический контро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B15-1B5A-48F2-85B1-E2F8417C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8C33-CF73-41B7-942C-23D2DC65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D2F0-FA38-4AA5-B41F-7077139B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F34E-A46A-4E88-844A-D0C443F4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A71E-4066-4382-ABD4-3F2D1052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344A-EF30-4BF9-B383-6269B4E8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166-D419-4C91-8A42-A5F43627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C35-C22D-4047-9E22-10F72F14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1A47-E829-4848-B953-4808101E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B78A-827D-490C-9B0E-B4991D30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D672-809E-4ECF-ADAD-2F00E8DC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B6D-58C1-4E6D-B614-DD64EB21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A481-6B1D-48A9-AA3B-B5CCC0FC32E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1360-6CE3-40D8-AF14-B21E61C1134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025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ОНФИДЕНЦИАЛЬНО</a:t>
            </a:r>
            <a:r>
              <a:rPr b="1" lang="en-GB" sz="3200" spc="-1" strike="noStrike">
                <a:solidFill>
                  <a:srgbClr val="003300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УСТАНОВЛЕНИЕ ПРОГРАММЫ ЗАЩИТЫ КОММЕРЧЕСКИХ ТАЙН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B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КОМПА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73372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.ю.н. Янушаускайте Кристи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ИС Программа обучен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енеров (экспертов) по ИС для бизне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6 – 20 августа, 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42720" y="1268280"/>
            <a:ext cx="70009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учать всех сотрудников в вопросах, связанных с безопасностью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5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ать разумные ограничения в письменной форме во все контрак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tradesecrets"/>
          <p:cNvPicPr/>
          <p:nvPr/>
        </p:nvPicPr>
        <p:blipFill>
          <a:blip r:embed="rId1"/>
          <a:stretch/>
        </p:blipFill>
        <p:spPr>
          <a:xfrm>
            <a:off x="4643280" y="4941720"/>
            <a:ext cx="1833840" cy="16923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42720" y="1413000"/>
            <a:ext cx="7000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6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граничить доступ к бумажным отче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7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мечать докумен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8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ивать конфиденциальность в помещении офи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9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держивать тайну компьюте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0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хранять тайну, которая разделена с партне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image_2[1]"/>
          <p:cNvPicPr/>
          <p:nvPr/>
        </p:nvPicPr>
        <p:blipFill>
          <a:blip r:embed="rId1"/>
          <a:stretch/>
        </p:blipFill>
        <p:spPr>
          <a:xfrm>
            <a:off x="4067280" y="5229360"/>
            <a:ext cx="2076480" cy="14396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 коммерческих тайн?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Car_Tyres"/>
          <p:cNvPicPr/>
          <p:nvPr/>
        </p:nvPicPr>
        <p:blipFill>
          <a:blip r:embed="rId2"/>
          <a:stretch/>
        </p:blipFill>
        <p:spPr>
          <a:xfrm>
            <a:off x="3276720" y="4797360"/>
            <a:ext cx="2431800" cy="17366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Незаконное завладение</a:t>
            </a: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 коммерческих тайн</a:t>
            </a:r>
            <a:r>
              <a:rPr b="0" lang="en-GB" sz="3200" spc="-1" strike="noStrike">
                <a:solidFill>
                  <a:srgbClr val="eeece1"/>
                </a:solidFill>
                <a:latin typeface="Calibri"/>
              </a:rPr>
              <a:t>: определени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справедливое приобретение коммерческой тай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ровством, мошенничеством, принуждением или любыми другими противоправными действ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обретение коммерческой тайны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ная (или будучи чрезвычайно небрежным в подвождении знать), что это было незаконно приобретено преж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винно приобрет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оммерческую тайну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 используя или разглашая ее после изучения более раннего незаконного приобре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или разглашение коммерческой тай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нарушении договорного обязатель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Calibri"/>
              </a:rPr>
              <a:t>Как коммерческие тайны становятся украденны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39640" y="2060640"/>
            <a:ext cx="820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я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т пароль от своего коллеги, который фактически 'взломал'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ак Вы прокомментируете такое объясн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ar_Tyres"/>
          <p:cNvPicPr/>
          <p:nvPr/>
        </p:nvPicPr>
        <p:blipFill>
          <a:blip r:embed="rId2"/>
          <a:stretch/>
        </p:blipFill>
        <p:spPr>
          <a:xfrm>
            <a:off x="3348000" y="5454720"/>
            <a:ext cx="2432160" cy="1403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щита коммерческих тай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43080" y="1413000"/>
            <a:ext cx="6532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большинстве стран нет определенных законов о коммерческих тай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щита установле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гражданским закона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Узбекиста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законам 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честной конкуренции (например, в Герман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говорным правом (во многих стран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головным правом (например, в странах Европейского Союза, СШ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Росс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404640"/>
            <a:ext cx="66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установит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нарушение коммерческих тайн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50920" y="1341000"/>
            <a:ext cx="68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ежде всего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ветить на вопро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- Действительно ли информация была тайн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- Были ли предприняты разумные шаги, чтобы поддержать эту информацию в тайн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Средства юридической защиты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: </a:t>
            </a:r>
            <a:r>
              <a:rPr b="0" lang="fr-CA" sz="4000" spc="-1" strike="noStrike">
                <a:solidFill>
                  <a:srgbClr val="eeece1"/>
                </a:solidFill>
                <a:latin typeface="Calibri"/>
              </a:rPr>
              <a:t>самы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е</a:t>
            </a:r>
            <a:r>
              <a:rPr b="0" lang="fr-CA" sz="4000" spc="-1" strike="noStrike">
                <a:solidFill>
                  <a:srgbClr val="eeece1"/>
                </a:solidFill>
                <a:latin typeface="Calibri"/>
              </a:rPr>
              <a:t> обычны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новление суд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тановить дальнейшее использования и получения вы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руше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законно приобретенно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ду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новление суд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знать убытки (фактическое повреждение, потеря прибыли или несправедливого обогащ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фискация и поис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помещении ответчика, чтобы получить свидетель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Аудит коммерческих тайн компа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ы можете помочь генеральному директору и объяснить эт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documents"/>
          <p:cNvPicPr/>
          <p:nvPr/>
        </p:nvPicPr>
        <p:blipFill>
          <a:blip r:embed="rId2"/>
          <a:stretch/>
        </p:blipFill>
        <p:spPr>
          <a:xfrm>
            <a:off x="468360" y="3500280"/>
            <a:ext cx="3600360" cy="273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lock3"/>
          <p:cNvPicPr/>
          <p:nvPr/>
        </p:nvPicPr>
        <p:blipFill>
          <a:blip r:embed="rId3"/>
          <a:stretch/>
        </p:blipFill>
        <p:spPr>
          <a:xfrm>
            <a:off x="4859280" y="3500280"/>
            <a:ext cx="345600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Контрольный список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шагов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000" y="1773360"/>
            <a:ext cx="8218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- Установить существенные коммерческие тайны в компа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- Проверить право компании на данные коммерческие тай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- Проверить, чтобы процедуры конфиденциальности  были сопровожд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Calibri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35280" y="189000"/>
            <a:ext cx="7129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'коммерческая тай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'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рода и характерные крите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чему защищать коммерческую тайн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ммерческими тайна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законное завлад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ммерческими тайнами: как это запретить и каковы системы защ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руше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мерческих тайн: как это установить и каковы средства юридической защ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ровод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уди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мерческих тайн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025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СПАСИБО!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ВОПРОСЫ</a:t>
            </a:r>
            <a:r>
              <a:rPr b="1" lang="en-GB" sz="3200" spc="-1" strike="noStrike">
                <a:solidFill>
                  <a:srgbClr val="003300"/>
                </a:solidFill>
                <a:latin typeface="Arial"/>
              </a:rPr>
              <a:t>?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Что такое 'коммерческая тайна'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00280"/>
            <a:ext cx="822960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к А (инженер), который работал в компании 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он никогда не слышал не о чем ' секретном'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Car_Tyres"/>
          <p:cNvPicPr/>
          <p:nvPr/>
        </p:nvPicPr>
        <p:blipFill>
          <a:blip r:embed="rId2"/>
          <a:stretch/>
        </p:blipFill>
        <p:spPr>
          <a:xfrm>
            <a:off x="971640" y="4941720"/>
            <a:ext cx="2431800" cy="173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ar_Tyres"/>
          <p:cNvPicPr/>
          <p:nvPr/>
        </p:nvPicPr>
        <p:blipFill>
          <a:blip r:embed="rId3"/>
          <a:stretch/>
        </p:blipFill>
        <p:spPr>
          <a:xfrm>
            <a:off x="6012000" y="4869000"/>
            <a:ext cx="2431800" cy="17366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Коммерческая тайна – это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я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ехнологическая, коммерческая, финансовая, стратегическая, логистическая, научная, и т.д.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е является общеизвест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и для обществ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и для других соответствующих круг бизнес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ммерческую цен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е владельцу из-за факта, что это является секретной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лежи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азумным усилиям поддержа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йну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Коммерческая тайна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” 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в Узбекском законодательстве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жданским законодательством защищается информация, составляющ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лужебную и коммерческую тайн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случае, когда информация име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йствительную или потенциальную коммерческую цен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силу неизвестности ее третьим лицам, к ней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т свободного доступ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 законном основании и обладатель информаци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имает меры к охран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е конфиденциальност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ст. 98 ГК РУз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89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Приме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42720" y="333000"/>
            <a:ext cx="6543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енные процес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Химические) формулы: напитки, пища, косметика, лекарства,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ы и мод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дуры испы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, развитие и исследование, стратегические пл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рицательная информация (процессы, которые не работал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т.д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иски клиентов и информация о клиент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ы и информация затр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вые идеи, методы, пон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й знаменитый пример: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формула напитков Coca-C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89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Прим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42720" y="333000"/>
            <a:ext cx="6543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ормула напитков Coca-C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coke460"/>
          <p:cNvPicPr/>
          <p:nvPr/>
        </p:nvPicPr>
        <p:blipFill>
          <a:blip r:embed="rId1"/>
          <a:stretch/>
        </p:blipFill>
        <p:spPr>
          <a:xfrm>
            <a:off x="2195640" y="981000"/>
            <a:ext cx="3743280" cy="201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oca-cola-two-guys"/>
          <p:cNvPicPr/>
          <p:nvPr/>
        </p:nvPicPr>
        <p:blipFill>
          <a:blip r:embed="rId2"/>
          <a:stretch/>
        </p:blipFill>
        <p:spPr>
          <a:xfrm>
            <a:off x="2195640" y="3174840"/>
            <a:ext cx="4824360" cy="2918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okeSecretIngredient"/>
          <p:cNvPicPr/>
          <p:nvPr/>
        </p:nvPicPr>
        <p:blipFill>
          <a:blip r:embed="rId3"/>
          <a:stretch/>
        </p:blipFill>
        <p:spPr>
          <a:xfrm>
            <a:off x="6443640" y="907920"/>
            <a:ext cx="2432160" cy="35290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358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Преимущества и неудобства защиты коммерческих тайн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95280" y="1844640"/>
          <a:ext cx="8497800" cy="4938840"/>
        </p:xfrm>
        <a:graphic>
          <a:graphicData uri="http://schemas.openxmlformats.org/drawingml/2006/table">
            <a:tbl>
              <a:tblPr/>
              <a:tblGrid>
                <a:gridCol w="3990960"/>
                <a:gridCol w="450684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иму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удоб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регистрации, меньше затрат, непосредственный эфф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но поддерживать в течение более длительного пери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необходимости удовлетворить требование новизны или оригинальности,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граниченные возможности защиты, трудное осуществление 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необходимости ра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возможности остановить других от изобретения того же самого продукта или проце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граниченное время защ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защиты тогда, когда информация обнаружена справедливыми и честными средствами, например, обратное проект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43080" y="1557000"/>
            <a:ext cx="675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ить систему идентификации коммерческих та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политику в области безопасности относительно информации, которая включает информацию о коммерческих тайнах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ический, административный и технический контроль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secret"/>
          <p:cNvPicPr/>
          <p:nvPr/>
        </p:nvPicPr>
        <p:blipFill>
          <a:blip r:embed="rId1"/>
          <a:stretch/>
        </p:blipFill>
        <p:spPr>
          <a:xfrm>
            <a:off x="3851280" y="4365720"/>
            <a:ext cx="2592360" cy="22320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0:48:15Z</dcterms:created>
  <dc:creator> </dc:creator>
  <dc:description/>
  <dc:language>en-US</dc:language>
  <cp:lastModifiedBy>LEGION</cp:lastModifiedBy>
  <dcterms:modified xsi:type="dcterms:W3CDTF">2016-01-05T12:44:33Z</dcterms:modified>
  <cp:revision>43</cp:revision>
  <dc:subject/>
  <dc:title>PRESENTATION  NAME</dc:title>
</cp:coreProperties>
</file>