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6064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81E5-DEB1-4B47-9F0D-45CD8D466D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ДОБИТЬСЯ ПРОЗРАЧНОСТИ И КОНТРОЛИРУЕМОСТИ БИЗНЕС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Чадин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управляющий «Связной БЕЛ», ГК Связ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мизация операционной деятельности: оттачиваем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3 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 мероприятий охватывает и нестандартные [невидимые/неочевидные для специалистов финансового управления] варианты сниж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[vs. РЕактивный взгляд: постоянные попытки «латания дыр прошлого»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прием платеже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ежи принимаются на грани рентаб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аться от платеж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стоимость инкасс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зи-ро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зи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ие издерж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ть комиссию от партн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ь комиссию с кл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ерспектив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: критерии отбо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реал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ем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р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тдачи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е страте-гическим интерес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я в результа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ят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бельности и оборачиваемости 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апущенности» ситуац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угроз (конкуренты, экономическое окружение и т.д.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, стоящих перед менеджментом и бизнесом в цело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ланирование и реализация 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ая заинтересованность всего высшего 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персонала на всех стад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шаг за шагом»: сначала - проекты с быстрой отдач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тивация персонала на «участие в успехе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аганда «экономического мышления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новка амбициозных задач владельц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грозы (конкуренты, рейдер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сткость и готовность идти до кон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успех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анализ [промежуточных/окончательных] результа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неэффективных издерже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й фак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из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еднамерен-ный (нехватка квалификации, инертность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наме-ренный (мо-шенничество, саботаж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обучение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мена и мотивация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ольнение с привлечением СБ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, организация превентивных мер и профилак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одводные камни и н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И ПРИ РЕАЛИЗАЦИИ ПРОГРАМ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ридическ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sh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ull-факто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внедрения мероприят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нижению затрат: технические, финансовые, психологическ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ингредиенты успех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ход на регуляр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[Любой] опыт и практические наработки успешных [и неуспешных]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йте выводы из неудач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е внимание необходимо уделять случаям преднамеренного завышения затра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 про затраты, приносящие доход. Зарабатывайте на расходах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ШУ ЗАДАВАТЬ ВОПРО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то-то вспомните позже, не постесняйтесь написать на 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: описание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огательные 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ющие продукт (диктуются отраслевыми стандартам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ающие продукт уникальным (собственные решен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ов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уживающие бизнес (не создающие продукт непо-средственн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иповые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узка на бизнес (социальные программы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их процессах «лежит» стратегия развития бизнес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каких процессов можно отказаться, а от каких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процессы можно передать на субподряд, а какие нельз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: анализ эффективности бизнес-процесс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KP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информационного обме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он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регулярных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ные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ючевые показатели эффективности управления проек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доступная информация (Интернет, гос.статистика, отраслевые СМИ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кальная информация (данные кон-курентов, парт-неров, внутри-групповые и т.п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рный анали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работать систему KPI и поддерживать ее актуально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оевременно получать полную достоверную информацию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учиться анализировать ПРОактивно, а не РЕактив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: ранжирование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важные вопросы на этом этапе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ень статей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щие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затрат для измен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NB: результаты этап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[возможно, уже обновленных по результатам этого этапа]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активный взгляд на вещи: решение заниматься тем, что получается лучше всего [ vs. РЕактивный взгляд: решение заниматься тем, что сложилось исторически]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Речь может идти как об отдельных этапах, процессах и направлениях, так и о бизнесе в цел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структуры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ыявления наиболее критичных статей издерже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.S. Пример: Отдел актив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ая точка (розниц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тор сотовой 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е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и актив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 активации (офис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ивлечение «в команду» всех работни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ситуации (телефонный разговор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й перевозчик: Почем Вы возите этот груз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 транспортного отдела: По $1200 за рей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П: Готов возить за $11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ТО: Ок, направление Ваше. (кладет трубку) Отлично! Сэкономил $100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же оказывается, что НП работает на «упрощенке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эффект от смены оператора = -$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аботники компании должны быть вашими «агентами по снижению издержек на местах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 обоснованно вести переговоры с партнер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коллективные мозговые шту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знес-процес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аз от процес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работ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ценарие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утсорс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нде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инжинирин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хранение как е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вариан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еря гибк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рат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хватка персон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затра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аче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 программы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960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6064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и первичная оце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роприятий по снижению затра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ранжирование и подготовка кратких презентаци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зен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инятия реш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ТЕРЯЕМ ДЕНЬГИ? КАК ДОБИТЬСЯ ПРОЗРАЧ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НТРОЛИРУЕМОСТИ БИЗНЕС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249-4A07-4913-83C0-2E5D8D18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319-16A1-4A38-B276-C4DF316E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2E6-9097-4156-B233-86C01DCB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72A-E5B7-4B18-BF52-3FDA8042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EBA9-D288-41B9-B01A-91C6B018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5109-9088-4A09-BBE0-B3724DE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9623-7025-491B-98A8-86C39CA8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20D9-3D8F-4D6D-A7B0-BE5AEEC5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6D69-AFAC-4138-B37B-4FB98C2E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EA57-CAEB-4D94-A882-5CC4CA6A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044E-8079-4A9F-8191-AD1111A4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FF1-0EF7-4204-A3EC-95517572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5DE0-B1E6-49AC-BA8D-199FBAC6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1344-0BE3-4E9F-AC23-F24CD198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2BFF-5F93-46C7-87FC-D7910B54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EB1B-B6A6-4828-9CE4-94A7DB65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CE8A-0501-4531-94D3-F28D7BB9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67CD0-490F-451A-B684-AC07661C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5BD1-B771-4A7E-95F7-ADCEE399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08109-0C6A-4FF4-8439-8F391FBA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85CC-FAD5-4FD6-A2DF-F2D03B16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154C-0EB4-473D-8844-C213193F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9E9-9C8C-4582-BDA5-661D32C0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296C3-C622-475A-801D-8B708800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A2E2-9D50-4E6D-BBC6-F0FAF763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1ABB-6F72-4E60-B8EA-B59603BD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8C55-1F1C-43E9-970E-4F64EA4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3FC8-0BDA-4B82-9355-AD1A10CB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9F6A-72BA-4F73-9AB5-8CABEE27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616A-6E4B-41AC-BFE9-0891BB94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EEDB4-66B3-4247-BDF7-1D2546D8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7383E-FD97-4798-ABD4-5CD0188F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3E799-8505-4980-96B9-F7B7B8DF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EBC-5DC1-4046-9490-5C104FF5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A8E2F-27DD-499A-B8E4-3BF53FAC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72C0-FF9D-44B6-ADBB-FF1410E7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526A-FFB7-401E-BE4B-10F18284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85EC7-33E7-46E6-B2A0-F587B9D3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F13E-2FB9-40CD-B820-ADD3CDA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27718-ADE1-4F47-A4A7-929544D0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6423-81B1-4F7C-A76D-80423154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E64D-8224-4CCF-8AE0-5904839C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DD2A-B277-45E7-AE9A-750E22A2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6C8-0E63-44F2-BD45-2C9D53A0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C7A-6332-4CA9-9A17-C3BDFAC8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3B4-66BA-4715-B8F2-43E28A3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9F7-4597-4206-BBEE-E0B4AD81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E17-FCCB-4B5E-850C-BF937CC5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0E04-246E-40B8-A5ED-C68844228E48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eef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eef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9668-CD57-4BC8-AC52-C1BABA657F8A}" type="slidenum">
              <a:rPr b="0" lang="sv-S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Нашивка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Нашивка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" name="Нашивка 11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Нашивка 11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56E9-CA33-4FEC-BAB3-E86A0C400127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4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6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67" name="Нашивка 18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168" name="Нашивка 18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Нашивка 19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171" name="Нашивка 19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CFF6-046C-47C5-9964-CCF59E04A464}" type="slidenum"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3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3143160" y="1774800"/>
            <a:ext cx="3195720" cy="2397240"/>
          </a:xfrm>
          <a:prstGeom prst="rect">
            <a:avLst/>
          </a:prstGeom>
          <a:ln w="0">
            <a:noFill/>
          </a:ln>
        </p:spPr>
      </p:pic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712800" y="706320"/>
            <a:ext cx="7772400" cy="42800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785880" y="283680"/>
            <a:ext cx="825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птимизация операционной деятельности: оттачиваем бизнес-процесс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634920" y="6196680"/>
            <a:ext cx="187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03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рта 2011, Моск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35" descr=""/>
          <p:cNvPicPr/>
          <p:nvPr/>
        </p:nvPicPr>
        <p:blipFill>
          <a:blip r:embed="rId3"/>
          <a:stretch/>
        </p:blipFill>
        <p:spPr>
          <a:xfrm>
            <a:off x="5357880" y="2273400"/>
            <a:ext cx="9237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4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что проблемой затрат заняты все подразделения, в том числе «отрабатывая» ее уже на этапе первичных переговоров с партнерами, грамотно защищая экономические интересы компа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азработка и первичная оценка мероприятий охватывает и нестандартные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видимые/неочевидные для специалистов финансового управления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варианты сниж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непосредственно перечня мероприятий проработаны сопряженные с их реализацией риски, а так же оценены ресурсы для воплощения планов в жиз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мероприятия направляются на изменение философии всех сотрудников в части работы с экономической составляющей процессами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постоянные попытки «латания дыр прошлого»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ый прямоугольник 10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латежи принимаются на грани рентаб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Скругленный прямоугольник 11"/>
          <p:cNvSpPr/>
          <p:nvPr/>
        </p:nvSpPr>
        <p:spPr>
          <a:xfrm>
            <a:off x="3571920" y="1785960"/>
            <a:ext cx="19288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аться от платеж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Скругленный прямоугольник 13"/>
          <p:cNvSpPr/>
          <p:nvPr/>
        </p:nvSpPr>
        <p:spPr>
          <a:xfrm>
            <a:off x="114300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стоимость инкасс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Скругленный прямоугольник 14"/>
          <p:cNvSpPr/>
          <p:nvPr/>
        </p:nvSpPr>
        <p:spPr>
          <a:xfrm>
            <a:off x="3571920" y="4714920"/>
            <a:ext cx="1928880" cy="57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втоматизи-ров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Скругленный прямоугольник 15"/>
          <p:cNvSpPr/>
          <p:nvPr/>
        </p:nvSpPr>
        <p:spPr>
          <a:xfrm>
            <a:off x="121428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з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чие издерж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Крест 16"/>
          <p:cNvSpPr/>
          <p:nvPr/>
        </p:nvSpPr>
        <p:spPr>
          <a:xfrm rot="2472600">
            <a:off x="3308040" y="1890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Стрелка вправо 17"/>
          <p:cNvSpPr/>
          <p:nvPr/>
        </p:nvSpPr>
        <p:spPr>
          <a:xfrm rot="16200000">
            <a:off x="4197240" y="251712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Стрелка вправо 18"/>
          <p:cNvSpPr/>
          <p:nvPr/>
        </p:nvSpPr>
        <p:spPr>
          <a:xfrm rot="5400000">
            <a:off x="4196520" y="42328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Крест 19"/>
          <p:cNvSpPr/>
          <p:nvPr/>
        </p:nvSpPr>
        <p:spPr>
          <a:xfrm rot="2472600">
            <a:off x="3308040" y="4748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Стрелка вправо 20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Крест 21"/>
          <p:cNvSpPr/>
          <p:nvPr/>
        </p:nvSpPr>
        <p:spPr>
          <a:xfrm rot="2472600">
            <a:off x="879120" y="253368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Стрелка вправо 22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Крест 23"/>
          <p:cNvSpPr/>
          <p:nvPr/>
        </p:nvSpPr>
        <p:spPr>
          <a:xfrm rot="2472600">
            <a:off x="950400" y="4176720"/>
            <a:ext cx="492120" cy="46656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Скругленный прямоугольник 24"/>
          <p:cNvSpPr/>
          <p:nvPr/>
        </p:nvSpPr>
        <p:spPr>
          <a:xfrm>
            <a:off x="6000840" y="221472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величить комиссию от партне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Стрелка вправо 25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Крест 26"/>
          <p:cNvSpPr/>
          <p:nvPr/>
        </p:nvSpPr>
        <p:spPr>
          <a:xfrm rot="2472600">
            <a:off x="7665840" y="2462040"/>
            <a:ext cx="492120" cy="466920"/>
          </a:xfrm>
          <a:prstGeom prst="plus">
            <a:avLst>
              <a:gd name="adj" fmla="val 38472"/>
            </a:avLst>
          </a:prstGeom>
          <a:solidFill>
            <a:srgbClr val="ff0000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Скругленный прямоугольник 29"/>
          <p:cNvSpPr/>
          <p:nvPr/>
        </p:nvSpPr>
        <p:spPr>
          <a:xfrm>
            <a:off x="6000840" y="3857760"/>
            <a:ext cx="1928880" cy="107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рать комиссию с клие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Стрелка вправо 30"/>
          <p:cNvSpPr/>
          <p:nvPr/>
        </p:nvSpPr>
        <p:spPr>
          <a:xfrm rot="1798200">
            <a:off x="5402160" y="3932280"/>
            <a:ext cx="67788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Трапеция 31"/>
          <p:cNvSpPr/>
          <p:nvPr/>
        </p:nvSpPr>
        <p:spPr>
          <a:xfrm rot="10800000">
            <a:off x="7715160" y="3786120"/>
            <a:ext cx="214560" cy="642960"/>
          </a:xfrm>
          <a:custGeom>
            <a:avLst/>
            <a:gdLst/>
            <a:ahLst/>
            <a:rect l="l" t="t" r="r" b="b"/>
            <a:pathLst>
              <a:path w="214313" h="642937">
                <a:moveTo>
                  <a:pt x="0" y="642937"/>
                </a:moveTo>
                <a:lnTo>
                  <a:pt x="53578" y="0"/>
                </a:lnTo>
                <a:lnTo>
                  <a:pt x="160735" y="0"/>
                </a:lnTo>
                <a:lnTo>
                  <a:pt x="214313" y="642937"/>
                </a:lnTo>
                <a:lnTo>
                  <a:pt x="0" y="642937"/>
                </a:lnTo>
                <a:close/>
              </a:path>
            </a:pathLst>
          </a:custGeom>
          <a:solidFill>
            <a:srgbClr val="339933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Овал 32"/>
          <p:cNvSpPr/>
          <p:nvPr/>
        </p:nvSpPr>
        <p:spPr>
          <a:xfrm>
            <a:off x="7715160" y="4572000"/>
            <a:ext cx="214560" cy="200160"/>
          </a:xfrm>
          <a:prstGeom prst="ellipse">
            <a:avLst/>
          </a:prstGeom>
          <a:solidFill>
            <a:srgbClr val="339933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/>
          <a:stretch/>
        </p:blipFill>
        <p:spPr>
          <a:xfrm>
            <a:off x="7929720" y="6186600"/>
            <a:ext cx="571320" cy="460440"/>
          </a:xfrm>
          <a:prstGeom prst="rect">
            <a:avLst/>
          </a:prstGeom>
          <a:ln w="0">
            <a:noFill/>
          </a:ln>
        </p:spPr>
      </p:pic>
      <p:sp>
        <p:nvSpPr>
          <p:cNvPr id="373" name="Скругленный прямоугольник 8"/>
          <p:cNvSpPr/>
          <p:nvPr/>
        </p:nvSpPr>
        <p:spPr>
          <a:xfrm>
            <a:off x="100008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роки реализ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Скругленный прямоугольник 9"/>
          <p:cNvSpPr/>
          <p:nvPr/>
        </p:nvSpPr>
        <p:spPr>
          <a:xfrm>
            <a:off x="34290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ис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Скругленный прямоугольник 10"/>
          <p:cNvSpPr/>
          <p:nvPr/>
        </p:nvSpPr>
        <p:spPr>
          <a:xfrm>
            <a:off x="5929200" y="135720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ребуем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Скругленный прямоугольник 11"/>
          <p:cNvSpPr/>
          <p:nvPr/>
        </p:nvSpPr>
        <p:spPr>
          <a:xfrm>
            <a:off x="34290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пектив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Скругленный прямоугольник 13"/>
          <p:cNvSpPr/>
          <p:nvPr/>
        </p:nvSpPr>
        <p:spPr>
          <a:xfrm>
            <a:off x="100008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инерг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Скругленный прямоугольник 14"/>
          <p:cNvSpPr/>
          <p:nvPr/>
        </p:nvSpPr>
        <p:spPr>
          <a:xfrm>
            <a:off x="1000080" y="3714840"/>
            <a:ext cx="35006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змож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асштабиров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Скругленный прямоугольник 15"/>
          <p:cNvSpPr/>
          <p:nvPr/>
        </p:nvSpPr>
        <p:spPr>
          <a:xfrm>
            <a:off x="100008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кор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«отдачи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Скругленный прямоугольник 16"/>
          <p:cNvSpPr/>
          <p:nvPr/>
        </p:nvSpPr>
        <p:spPr>
          <a:xfrm>
            <a:off x="4714920" y="3714840"/>
            <a:ext cx="350028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оответствие страте-гическим интерес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Скругленный прямоугольник 17"/>
          <p:cNvSpPr/>
          <p:nvPr/>
        </p:nvSpPr>
        <p:spPr>
          <a:xfrm>
            <a:off x="34290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доля в результа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Скругленный прямоугольник 18"/>
          <p:cNvSpPr/>
          <p:nvPr/>
        </p:nvSpPr>
        <p:spPr>
          <a:xfrm>
            <a:off x="5929200" y="214308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налич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пы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Скругленный прямоугольник 19"/>
          <p:cNvSpPr/>
          <p:nvPr/>
        </p:nvSpPr>
        <p:spPr>
          <a:xfrm>
            <a:off x="5929200" y="292896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овлечен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ерсон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оугольник 20"/>
          <p:cNvSpPr/>
          <p:nvPr/>
        </p:nvSpPr>
        <p:spPr>
          <a:xfrm>
            <a:off x="785880" y="4500720"/>
            <a:ext cx="7929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исят о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нтабельности и оборачиваемости бизнес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запущенности» ситу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арактера угроз (конкуренты, экономическое окружение и т.д.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дач, стоящих перед менеджментом и бизнесом в цел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3749760" cy="2506680"/>
          </a:xfrm>
          <a:prstGeom prst="rect">
            <a:avLst/>
          </a:prstGeom>
          <a:ln w="0">
            <a:noFill/>
          </a:ln>
        </p:spPr>
      </p:pic>
      <p:sp>
        <p:nvSpPr>
          <p:cNvPr id="387" name="Скругленный прямоугольник 19"/>
          <p:cNvSpPr/>
          <p:nvPr/>
        </p:nvSpPr>
        <p:spPr>
          <a:xfrm>
            <a:off x="571680" y="164304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4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10"/>
          <p:cNvSpPr/>
          <p:nvPr/>
        </p:nvSpPr>
        <p:spPr>
          <a:xfrm>
            <a:off x="785880" y="17859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ямая заинтересованность всего высшего менеджмен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Прямоугольник 11"/>
          <p:cNvSpPr/>
          <p:nvPr/>
        </p:nvSpPr>
        <p:spPr>
          <a:xfrm>
            <a:off x="785880" y="46432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ная вовлеченность персонала на всех стад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785880" y="4214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«шаг за шагом»: сначала - проекты с быстрой отдач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785880" y="507204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тивация персонала на «участие в успех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785880" y="3786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паганда «экономического мышления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785880" y="22147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тановка амбициозных задач владельц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785880" y="264312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ичие угрозы (конкуренты, рейдер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785880" y="307188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жесткость и готовность идти до конц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Скругленный прямоугольник 20"/>
          <p:cNvSpPr/>
          <p:nvPr/>
        </p:nvSpPr>
        <p:spPr>
          <a:xfrm>
            <a:off x="571680" y="3643200"/>
            <a:ext cx="8001000" cy="1928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8001000" y="6072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10"/>
          <p:cNvSpPr/>
          <p:nvPr/>
        </p:nvSpPr>
        <p:spPr>
          <a:xfrm>
            <a:off x="1571760" y="1571760"/>
            <a:ext cx="607212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чины возникновения неэффективных издерж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Скругленный прямоугольник 21"/>
          <p:cNvSpPr/>
          <p:nvPr/>
        </p:nvSpPr>
        <p:spPr>
          <a:xfrm>
            <a:off x="857160" y="2214720"/>
            <a:ext cx="2500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ловеческий факто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Скругленный прямоугольник 22"/>
          <p:cNvSpPr/>
          <p:nvPr/>
        </p:nvSpPr>
        <p:spPr>
          <a:xfrm>
            <a:off x="3429000" y="2214720"/>
            <a:ext cx="2500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изация 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07" name="Прямая со стрелкой 23"/>
          <p:cNvCxnSpPr/>
          <p:nvPr/>
        </p:nvCxnSpPr>
        <p:spPr>
          <a:xfrm flipH="1">
            <a:off x="2285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8" name="Прямая со стрелкой 24"/>
          <p:cNvCxnSpPr/>
          <p:nvPr/>
        </p:nvCxnSpPr>
        <p:spPr>
          <a:xfrm flipH="1">
            <a:off x="457164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9" name="Прямая со стрелкой 25"/>
          <p:cNvCxnSpPr/>
          <p:nvPr/>
        </p:nvCxnSpPr>
        <p:spPr>
          <a:xfrm flipH="1">
            <a:off x="7000560" y="1928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0" name="Скругленный прямоугольник 26"/>
          <p:cNvSpPr/>
          <p:nvPr/>
        </p:nvSpPr>
        <p:spPr>
          <a:xfrm>
            <a:off x="6072120" y="2214720"/>
            <a:ext cx="18576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Скругленный прямоугольник 27"/>
          <p:cNvSpPr/>
          <p:nvPr/>
        </p:nvSpPr>
        <p:spPr>
          <a:xfrm>
            <a:off x="357120" y="2928960"/>
            <a:ext cx="19288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епреднамерен-ный (нехватка квалификации, инертность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Скругленный прямоугольник 28"/>
          <p:cNvSpPr/>
          <p:nvPr/>
        </p:nvSpPr>
        <p:spPr>
          <a:xfrm>
            <a:off x="2357280" y="2928960"/>
            <a:ext cx="171468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реднаме-ренный (мо-шенничество, саботаж и т.п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3" name="Прямая со стрелкой 29"/>
          <p:cNvCxnSpPr/>
          <p:nvPr/>
        </p:nvCxnSpPr>
        <p:spPr>
          <a:xfrm flipH="1">
            <a:off x="149940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4" name="Прямая со стрелкой 30"/>
          <p:cNvCxnSpPr/>
          <p:nvPr/>
        </p:nvCxnSpPr>
        <p:spPr>
          <a:xfrm flipH="1">
            <a:off x="2999520" y="2643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5" name="Прямая со стрелкой 31"/>
          <p:cNvCxnSpPr/>
          <p:nvPr/>
        </p:nvCxnSpPr>
        <p:spPr>
          <a:xfrm flipH="1">
            <a:off x="149940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6" name="Прямая со стрелкой 32"/>
          <p:cNvCxnSpPr/>
          <p:nvPr/>
        </p:nvCxnSpPr>
        <p:spPr>
          <a:xfrm flipH="1">
            <a:off x="2999520" y="378612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7" name="Прямая со стрелкой 33"/>
          <p:cNvCxnSpPr/>
          <p:nvPr/>
        </p:nvCxnSpPr>
        <p:spPr>
          <a:xfrm flipH="1">
            <a:off x="5214600" y="264312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8" name="Скругленный прямоугольник 34"/>
          <p:cNvSpPr/>
          <p:nvPr/>
        </p:nvSpPr>
        <p:spPr>
          <a:xfrm>
            <a:off x="4286160" y="2928960"/>
            <a:ext cx="18576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solidFill>
              <a:srgbClr val="26697a"/>
            </a:solidFill>
            <a:prstDash val="sysDash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Скругленный прямоугольник 35"/>
          <p:cNvSpPr/>
          <p:nvPr/>
        </p:nvSpPr>
        <p:spPr>
          <a:xfrm>
            <a:off x="357120" y="4071960"/>
            <a:ext cx="20001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переобучение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замена и мотивация персона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Скругленный прямоугольник 36"/>
          <p:cNvSpPr/>
          <p:nvPr/>
        </p:nvSpPr>
        <p:spPr>
          <a:xfrm>
            <a:off x="2428920" y="4071960"/>
            <a:ext cx="17143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вольнение с привлечением СБ и т.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Правая фигурная скобка 37"/>
          <p:cNvSpPr/>
          <p:nvPr/>
        </p:nvSpPr>
        <p:spPr>
          <a:xfrm rot="5400000">
            <a:off x="4321440" y="1035720"/>
            <a:ext cx="357120" cy="8286840"/>
          </a:xfrm>
          <a:custGeom>
            <a:avLst/>
            <a:gdLst>
              <a:gd name="textAreaLeft" fmla="*/ 0 w 357120"/>
              <a:gd name="textAreaRight" fmla="*/ 128880 w 357120"/>
              <a:gd name="textAreaTop" fmla="*/ 46800 h 8286840"/>
              <a:gd name="textAreaBottom" fmla="*/ 8240040 h 828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5"/>
                  <a:pt x="10800" y="390"/>
                </a:cubicBezTo>
                <a:lnTo>
                  <a:pt x="10800" y="10381"/>
                </a:lnTo>
                <a:cubicBezTo>
                  <a:pt x="10800" y="10576"/>
                  <a:pt x="16200" y="10771"/>
                  <a:pt x="21600" y="10771"/>
                </a:cubicBezTo>
                <a:cubicBezTo>
                  <a:pt x="16200" y="10771"/>
                  <a:pt x="10800" y="10966"/>
                  <a:pt x="10800" y="11161"/>
                </a:cubicBezTo>
                <a:lnTo>
                  <a:pt x="10800" y="21210"/>
                </a:lnTo>
                <a:cubicBezTo>
                  <a:pt x="10800" y="2140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Прямоугольник 38"/>
          <p:cNvSpPr/>
          <p:nvPr/>
        </p:nvSpPr>
        <p:spPr>
          <a:xfrm>
            <a:off x="428760" y="5357880"/>
            <a:ext cx="80722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мониторинг, организация превентивных мер и профилакти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sp>
        <p:nvSpPr>
          <p:cNvPr id="427" name="Скругленный прямоугольник 5"/>
          <p:cNvSpPr/>
          <p:nvPr/>
        </p:nvSpPr>
        <p:spPr>
          <a:xfrm>
            <a:off x="3571920" y="3000240"/>
            <a:ext cx="1928880" cy="107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ЛОЖНОСТИ ПРИ РЕАЛИЗАЦИИ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Скругленный прямоугольник 7"/>
          <p:cNvSpPr/>
          <p:nvPr/>
        </p:nvSpPr>
        <p:spPr>
          <a:xfrm>
            <a:off x="357192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хн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Скругленный прямоугольник 8"/>
          <p:cNvSpPr/>
          <p:nvPr/>
        </p:nvSpPr>
        <p:spPr>
          <a:xfrm>
            <a:off x="1000080" y="2143080"/>
            <a:ext cx="20718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инансов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Скругленный прямоугольник 9"/>
          <p:cNvSpPr/>
          <p:nvPr/>
        </p:nvSpPr>
        <p:spPr>
          <a:xfrm>
            <a:off x="35719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т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Скругленный прямоугольник 10"/>
          <p:cNvSpPr/>
          <p:nvPr/>
        </p:nvSpPr>
        <p:spPr>
          <a:xfrm>
            <a:off x="1071720" y="4429080"/>
            <a:ext cx="20714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сихолог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Стрелка вправо 13"/>
          <p:cNvSpPr/>
          <p:nvPr/>
        </p:nvSpPr>
        <p:spPr>
          <a:xfrm rot="16200000">
            <a:off x="4340160" y="2660040"/>
            <a:ext cx="3920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Стрелка вправо 14"/>
          <p:cNvSpPr/>
          <p:nvPr/>
        </p:nvSpPr>
        <p:spPr>
          <a:xfrm rot="5400000">
            <a:off x="4321800" y="410760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Стрелка вправо 16"/>
          <p:cNvSpPr/>
          <p:nvPr/>
        </p:nvSpPr>
        <p:spPr>
          <a:xfrm rot="12883200">
            <a:off x="2970000" y="273348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Стрелка вправо 18"/>
          <p:cNvSpPr/>
          <p:nvPr/>
        </p:nvSpPr>
        <p:spPr>
          <a:xfrm rot="8661000">
            <a:off x="3023640" y="4047840"/>
            <a:ext cx="67932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Скругленный прямоугольник 20"/>
          <p:cNvSpPr/>
          <p:nvPr/>
        </p:nvSpPr>
        <p:spPr>
          <a:xfrm>
            <a:off x="6000840" y="2143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юридическ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Стрелка вправо 21"/>
          <p:cNvSpPr/>
          <p:nvPr/>
        </p:nvSpPr>
        <p:spPr>
          <a:xfrm rot="19574400">
            <a:off x="5398920" y="2730240"/>
            <a:ext cx="679680" cy="3571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Скругленный прямоугольник 23"/>
          <p:cNvSpPr/>
          <p:nvPr/>
        </p:nvSpPr>
        <p:spPr>
          <a:xfrm>
            <a:off x="6072120" y="4429080"/>
            <a:ext cx="1928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Стрелка вправо 24"/>
          <p:cNvSpPr/>
          <p:nvPr/>
        </p:nvSpPr>
        <p:spPr>
          <a:xfrm rot="2340000">
            <a:off x="5387760" y="4051440"/>
            <a:ext cx="739800" cy="35712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Скругленный прямоугольник 47"/>
          <p:cNvSpPr/>
          <p:nvPr/>
        </p:nvSpPr>
        <p:spPr>
          <a:xfrm>
            <a:off x="1000080" y="1428840"/>
            <a:ext cx="6929640" cy="428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sh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Скругленный прямоугольник 48"/>
          <p:cNvSpPr/>
          <p:nvPr/>
        </p:nvSpPr>
        <p:spPr>
          <a:xfrm>
            <a:off x="1071720" y="5286240"/>
            <a:ext cx="6929280" cy="4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ull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ак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2" name="Прямая со стрелкой 49"/>
          <p:cNvCxnSpPr/>
          <p:nvPr/>
        </p:nvCxnSpPr>
        <p:spPr>
          <a:xfrm flipH="1">
            <a:off x="1999440" y="5000400"/>
            <a:ext cx="252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3" name="Прямая со стрелкой 51"/>
          <p:cNvCxnSpPr/>
          <p:nvPr/>
        </p:nvCxnSpPr>
        <p:spPr>
          <a:xfrm flipH="1">
            <a:off x="45003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4" name="Прямая со стрелкой 52"/>
          <p:cNvCxnSpPr/>
          <p:nvPr/>
        </p:nvCxnSpPr>
        <p:spPr>
          <a:xfrm flipH="1">
            <a:off x="7000560" y="5000400"/>
            <a:ext cx="2160" cy="2862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5" name="Прямая со стрелкой 53"/>
          <p:cNvCxnSpPr/>
          <p:nvPr/>
        </p:nvCxnSpPr>
        <p:spPr>
          <a:xfrm flipH="1" flipV="1">
            <a:off x="207144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6" name="Прямая со стрелкой 57"/>
          <p:cNvCxnSpPr/>
          <p:nvPr/>
        </p:nvCxnSpPr>
        <p:spPr>
          <a:xfrm flipH="1" flipV="1">
            <a:off x="4500360" y="1856880"/>
            <a:ext cx="216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7" name="Прямая со стрелкой 59"/>
          <p:cNvCxnSpPr/>
          <p:nvPr/>
        </p:nvCxnSpPr>
        <p:spPr>
          <a:xfrm flipH="1" flipV="1">
            <a:off x="6928560" y="1856880"/>
            <a:ext cx="252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4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"/>
          <p:cNvPicPr/>
          <p:nvPr/>
        </p:nvPicPr>
        <p:blipFill>
          <a:blip r:embed="rId3"/>
          <a:stretch/>
        </p:blipFill>
        <p:spPr>
          <a:xfrm>
            <a:off x="7786800" y="6216480"/>
            <a:ext cx="928440" cy="479520"/>
          </a:xfrm>
          <a:prstGeom prst="rect">
            <a:avLst/>
          </a:prstGeom>
          <a:ln w="0">
            <a:noFill/>
          </a:ln>
        </p:spPr>
      </p:pic>
      <p:pic>
        <p:nvPicPr>
          <p:cNvPr id="452" name="Схема 26" descr=""/>
          <p:cNvPicPr/>
          <p:nvPr/>
        </p:nvPicPr>
        <p:blipFill>
          <a:blip r:embed="rId4"/>
          <a:stretch/>
        </p:blipFill>
        <p:spPr>
          <a:xfrm>
            <a:off x="493560" y="1285920"/>
            <a:ext cx="8339400" cy="462132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45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456" name="Заголовок 1"/>
          <p:cNvSpPr/>
          <p:nvPr/>
        </p:nvSpPr>
        <p:spPr>
          <a:xfrm>
            <a:off x="714240" y="1285920"/>
            <a:ext cx="7929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Эффективные программы по снижению затрат – результат жесткого руководства, четкого планирования, вовлеченности всего персонала и постоянного мониторинга обратной связ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роме экономических, у каждого проекта по снижению затрат есть и другие последствия, в том числе социальные. Каждое из таких последствий должно быть просчитано до принятия решений. Стоимость реализации программы и нивелирования ее негативных последствий не должна превышать полезного эффек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Любой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опыт и практические наработки успешных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 неуспешных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программ должны передаваться на другие проекты. Для этого управление проектами должно осуществляться специальными группами с включением менеджеров, имеющих успешную практи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Будьте готовы к медленной отдаче от усилий. И тем более – к неудачам при реализации проек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йте выводы из неудач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е внимание необходимо уделять случаям преднамеренного завышения затра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мните про затраты, приносящие доход. Зарабатывайте на расходах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58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357640" cy="207180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461" name="Заголовок 1" descr=""/>
          <p:cNvPicPr/>
          <p:nvPr/>
        </p:nvPicPr>
        <p:blipFill>
          <a:blip r:embed="rId3"/>
          <a:stretch/>
        </p:blipFill>
        <p:spPr>
          <a:xfrm>
            <a:off x="1920960" y="1249200"/>
            <a:ext cx="5821200" cy="3621240"/>
          </a:xfrm>
          <a:prstGeom prst="rect">
            <a:avLst/>
          </a:prstGeom>
          <a:ln w="0">
            <a:noFill/>
          </a:ln>
        </p:spPr>
      </p:pic>
      <p:sp>
        <p:nvSpPr>
          <p:cNvPr id="462" name="Заголовок 1"/>
          <p:cNvSpPr/>
          <p:nvPr/>
        </p:nvSpPr>
        <p:spPr>
          <a:xfrm>
            <a:off x="642960" y="471492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Если что-то вспомните позже, не постесняйтесь написать на </a:t>
            </a:r>
            <a:r>
              <a:rPr b="0" i="1" lang="en-US" sz="1200" spc="-1" strike="noStrike">
                <a:solidFill>
                  <a:srgbClr val="000000"/>
                </a:solidFill>
                <a:latin typeface="Lucida Sans Unicode"/>
              </a:rPr>
              <a:t>chadin@maxus.r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35" descr=""/>
          <p:cNvPicPr/>
          <p:nvPr/>
        </p:nvPicPr>
        <p:blipFill>
          <a:blip r:embed="rId4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464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sp>
        <p:nvSpPr>
          <p:cNvPr id="227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ключев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помогательные 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2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аз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здающие продукт (диктуются отраслевыми стандартами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пециаль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елающие продукт уникальным (собственные решения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5" name="Прямоугольник 17"/>
          <p:cNvSpPr/>
          <p:nvPr/>
        </p:nvSpPr>
        <p:spPr>
          <a:xfrm>
            <a:off x="464328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бслуживающие бизнес (не создающие продукт непо-средственно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оугольник 18"/>
          <p:cNvSpPr/>
          <p:nvPr/>
        </p:nvSpPr>
        <p:spPr>
          <a:xfrm>
            <a:off x="685800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етипов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–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грузка на бизнес (социальные программы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7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38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39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все 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0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41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2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 каких процессах «лежит» стратегия развития бизнеса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 каких процессов можно отказаться, а от каких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процессы можно передать на субподряд, а какие нельз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7"/>
          <p:cNvSpPr/>
          <p:nvPr/>
        </p:nvSpPr>
        <p:spPr>
          <a:xfrm>
            <a:off x="50004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4643280" y="2071800"/>
            <a:ext cx="40006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истема информационного обме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8" name="Прямая со стрелкой 9"/>
          <p:cNvCxnSpPr/>
          <p:nvPr/>
        </p:nvCxnSpPr>
        <p:spPr>
          <a:xfrm>
            <a:off x="157068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49" name="Прямоугольник 11"/>
          <p:cNvSpPr/>
          <p:nvPr/>
        </p:nvSpPr>
        <p:spPr>
          <a:xfrm>
            <a:off x="5000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перационные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регулярных проце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оугольник 13"/>
          <p:cNvSpPr/>
          <p:nvPr/>
        </p:nvSpPr>
        <p:spPr>
          <a:xfrm>
            <a:off x="2571840" y="2714760"/>
            <a:ext cx="192888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ные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лючевые показатели эффективности управления проект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1" name="Прямая со стрелкой 16"/>
          <p:cNvCxnSpPr/>
          <p:nvPr/>
        </p:nvCxnSpPr>
        <p:spPr>
          <a:xfrm>
            <a:off x="34279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2" name="Прямоугольник 17"/>
          <p:cNvSpPr/>
          <p:nvPr/>
        </p:nvSpPr>
        <p:spPr>
          <a:xfrm>
            <a:off x="4643280" y="2714760"/>
            <a:ext cx="178596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бщедоступная информация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(Интернет, гос.статистика, отраслевые СМИ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18"/>
          <p:cNvSpPr/>
          <p:nvPr/>
        </p:nvSpPr>
        <p:spPr>
          <a:xfrm>
            <a:off x="6572160" y="2714760"/>
            <a:ext cx="2071800" cy="155412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никальная информация (данные кон-курентов, парт-неров, внутри-групповые и т.п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4" name="Прямая со стрелкой 19"/>
          <p:cNvCxnSpPr/>
          <p:nvPr/>
        </p:nvCxnSpPr>
        <p:spPr>
          <a:xfrm>
            <a:off x="578520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5" name="Прямая со стрелкой 20"/>
          <p:cNvCxnSpPr/>
          <p:nvPr/>
        </p:nvCxnSpPr>
        <p:spPr>
          <a:xfrm>
            <a:off x="7785720" y="2428920"/>
            <a:ext cx="1080" cy="2865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6" name="Скругленный прямоугольник 21"/>
          <p:cNvSpPr/>
          <p:nvPr/>
        </p:nvSpPr>
        <p:spPr>
          <a:xfrm>
            <a:off x="3143160" y="1500120"/>
            <a:ext cx="285768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егулярный анализ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31"/>
          <p:cNvCxnSpPr/>
          <p:nvPr/>
        </p:nvCxnSpPr>
        <p:spPr>
          <a:xfrm flipH="1">
            <a:off x="36424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58" name="Прямая со стрелкой 36"/>
          <p:cNvCxnSpPr/>
          <p:nvPr/>
        </p:nvCxnSpPr>
        <p:spPr>
          <a:xfrm flipH="1">
            <a:off x="5500080" y="1857240"/>
            <a:ext cx="108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59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разработать систему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PI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и поддерживать ее актуальной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своевременно получать полную достоверную информацию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 научиться анализировать ПРОактивно, а не РЕактив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785880" y="4714920"/>
            <a:ext cx="7643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аиболее важные вопросы на этом этапе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критически влияют на эффективность бизнеса в целом, а влияние каких минимальн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Какие затраты нужно будет уменьшать своими силами, а какие можно снизить, передав на управление сторонним компания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23" descr=""/>
          <p:cNvPicPr/>
          <p:nvPr/>
        </p:nvPicPr>
        <p:blipFill>
          <a:blip r:embed="rId3"/>
          <a:stretch/>
        </p:blipFill>
        <p:spPr>
          <a:xfrm>
            <a:off x="7929720" y="6161040"/>
            <a:ext cx="714240" cy="536760"/>
          </a:xfrm>
          <a:prstGeom prst="rect">
            <a:avLst/>
          </a:prstGeom>
          <a:ln w="0">
            <a:noFill/>
          </a:ln>
        </p:spPr>
      </p:pic>
      <p:pic>
        <p:nvPicPr>
          <p:cNvPr id="266" name="Схема 23" descr=""/>
          <p:cNvPicPr/>
          <p:nvPr/>
        </p:nvPicPr>
        <p:blipFill>
          <a:blip r:embed="rId4"/>
          <a:stretch/>
        </p:blipFill>
        <p:spPr>
          <a:xfrm>
            <a:off x="2000160" y="1712880"/>
            <a:ext cx="4857840" cy="257328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24"/>
          <p:cNvSpPr/>
          <p:nvPr/>
        </p:nvSpPr>
        <p:spPr>
          <a:xfrm>
            <a:off x="85716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еречень статей затр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трелка углом 25"/>
          <p:cNvSpPr/>
          <p:nvPr/>
        </p:nvSpPr>
        <p:spPr>
          <a:xfrm rot="5400000">
            <a:off x="3585600" y="1057680"/>
            <a:ext cx="599760" cy="1913040"/>
          </a:xfrm>
          <a:custGeom>
            <a:avLst/>
            <a:gdLst/>
            <a:ahLst/>
            <a:rect l="l" t="t" r="r" b="b"/>
            <a:pathLst>
              <a:path w="600075" h="1912937">
                <a:moveTo>
                  <a:pt x="0" y="1912937"/>
                </a:moveTo>
                <a:lnTo>
                  <a:pt x="0" y="337542"/>
                </a:lnTo>
                <a:cubicBezTo>
                  <a:pt x="0" y="192549"/>
                  <a:pt x="117540" y="75009"/>
                  <a:pt x="262533" y="75009"/>
                </a:cubicBezTo>
                <a:lnTo>
                  <a:pt x="450056" y="75009"/>
                </a:lnTo>
                <a:lnTo>
                  <a:pt x="450056" y="0"/>
                </a:lnTo>
                <a:lnTo>
                  <a:pt x="600075" y="150019"/>
                </a:lnTo>
                <a:lnTo>
                  <a:pt x="450056" y="300038"/>
                </a:lnTo>
                <a:lnTo>
                  <a:pt x="450056" y="225028"/>
                </a:lnTo>
                <a:lnTo>
                  <a:pt x="262533" y="225028"/>
                </a:lnTo>
                <a:cubicBezTo>
                  <a:pt x="200393" y="225028"/>
                  <a:pt x="150019" y="275402"/>
                  <a:pt x="150019" y="337542"/>
                </a:cubicBezTo>
                <a:lnTo>
                  <a:pt x="150019" y="1912937"/>
                </a:lnTo>
                <a:lnTo>
                  <a:pt x="0" y="191293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Скругленный прямоугольник 26"/>
          <p:cNvSpPr/>
          <p:nvPr/>
        </p:nvSpPr>
        <p:spPr>
          <a:xfrm>
            <a:off x="857160" y="342900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 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Стрелка углом 27"/>
          <p:cNvSpPr/>
          <p:nvPr/>
        </p:nvSpPr>
        <p:spPr>
          <a:xfrm rot="10800000">
            <a:off x="2642760" y="3500280"/>
            <a:ext cx="1957320" cy="500400"/>
          </a:xfrm>
          <a:custGeom>
            <a:avLst/>
            <a:gdLst/>
            <a:ahLst/>
            <a:rect l="l" t="t" r="r" b="b"/>
            <a:pathLst>
              <a:path w="1957387" h="500062">
                <a:moveTo>
                  <a:pt x="0" y="500062"/>
                </a:moveTo>
                <a:lnTo>
                  <a:pt x="0" y="281285"/>
                </a:lnTo>
                <a:cubicBezTo>
                  <a:pt x="0" y="160458"/>
                  <a:pt x="97950" y="62508"/>
                  <a:pt x="218777" y="62508"/>
                </a:cubicBezTo>
                <a:lnTo>
                  <a:pt x="1832372" y="62508"/>
                </a:lnTo>
                <a:lnTo>
                  <a:pt x="1832372" y="0"/>
                </a:lnTo>
                <a:lnTo>
                  <a:pt x="1957387" y="125016"/>
                </a:lnTo>
                <a:lnTo>
                  <a:pt x="1832372" y="250031"/>
                </a:lnTo>
                <a:lnTo>
                  <a:pt x="1832372" y="187523"/>
                </a:lnTo>
                <a:lnTo>
                  <a:pt x="218777" y="187523"/>
                </a:lnTo>
                <a:cubicBezTo>
                  <a:pt x="166994" y="187523"/>
                  <a:pt x="125015" y="229502"/>
                  <a:pt x="125015" y="281285"/>
                </a:cubicBezTo>
                <a:cubicBezTo>
                  <a:pt x="125015" y="354211"/>
                  <a:pt x="125016" y="427136"/>
                  <a:pt x="125016" y="500062"/>
                </a:cubicBezTo>
                <a:lnTo>
                  <a:pt x="0" y="500062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трелка углом 28"/>
          <p:cNvSpPr/>
          <p:nvPr/>
        </p:nvSpPr>
        <p:spPr>
          <a:xfrm flipH="1" rot="10800000">
            <a:off x="4642200" y="3500280"/>
            <a:ext cx="2000520" cy="509760"/>
          </a:xfrm>
          <a:custGeom>
            <a:avLst/>
            <a:gdLst/>
            <a:ahLst/>
            <a:rect l="l" t="t" r="r" b="b"/>
            <a:pathLst>
              <a:path w="2000250" h="509587">
                <a:moveTo>
                  <a:pt x="0" y="509587"/>
                </a:moveTo>
                <a:lnTo>
                  <a:pt x="0" y="286643"/>
                </a:lnTo>
                <a:cubicBezTo>
                  <a:pt x="0" y="163514"/>
                  <a:pt x="99815" y="63699"/>
                  <a:pt x="222944" y="63699"/>
                </a:cubicBezTo>
                <a:lnTo>
                  <a:pt x="1872853" y="63698"/>
                </a:lnTo>
                <a:lnTo>
                  <a:pt x="1872853" y="0"/>
                </a:lnTo>
                <a:lnTo>
                  <a:pt x="2000250" y="127397"/>
                </a:lnTo>
                <a:lnTo>
                  <a:pt x="1872853" y="254794"/>
                </a:lnTo>
                <a:lnTo>
                  <a:pt x="1872853" y="191095"/>
                </a:lnTo>
                <a:lnTo>
                  <a:pt x="222944" y="191095"/>
                </a:lnTo>
                <a:cubicBezTo>
                  <a:pt x="170174" y="191095"/>
                  <a:pt x="127396" y="233873"/>
                  <a:pt x="127396" y="286643"/>
                </a:cubicBezTo>
                <a:cubicBezTo>
                  <a:pt x="127396" y="360958"/>
                  <a:pt x="127397" y="435272"/>
                  <a:pt x="127397" y="509587"/>
                </a:cubicBezTo>
                <a:lnTo>
                  <a:pt x="0" y="509587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Скругленный прямоугольник 30"/>
          <p:cNvSpPr/>
          <p:nvPr/>
        </p:nvSpPr>
        <p:spPr>
          <a:xfrm>
            <a:off x="6858000" y="350028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бующие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6858000" y="1643040"/>
            <a:ext cx="171468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йтинг затрат для измен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трелка вправо 33"/>
          <p:cNvSpPr/>
          <p:nvPr/>
        </p:nvSpPr>
        <p:spPr>
          <a:xfrm rot="16200000">
            <a:off x="7412040" y="2874600"/>
            <a:ext cx="677880" cy="35748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714240" y="1357200"/>
            <a:ext cx="76438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нимание того, с какими процессами необходимо «расстаться», какие – передать на сторону, а на каких сконцентрировать все усилия для достижения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озможно, уже обновленных по результатам этого этапа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Формализация «критериев успеха» - ключевых показателей эффективности процессов, - на основании которых можно отслеживать прогресс, планировать развитие и мотивировать персона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явление инфраструктуры информационного обеспечения анализа процессов: обмен данными с конкурентами и партнерами, подписка на платные и бесплатные статистические сборники и т.п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активный взгляд на вещи: решение заниматься тем, что получается лучше всего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[ vs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ктивный взгляд: решение заниматься тем, что сложилось исторически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.S.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чь может идти как об отдельных этапах, процессах и направлениях, так и о бизнесе в цел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5" descr=""/>
          <p:cNvPicPr/>
          <p:nvPr/>
        </p:nvPicPr>
        <p:blipFill>
          <a:blip r:embed="rId3"/>
          <a:stretch/>
        </p:blipFill>
        <p:spPr>
          <a:xfrm>
            <a:off x="7929720" y="6215040"/>
            <a:ext cx="1009440" cy="428760"/>
          </a:xfrm>
          <a:prstGeom prst="rect">
            <a:avLst/>
          </a:prstGeom>
          <a:ln w="0">
            <a:noFill/>
          </a:ln>
        </p:spPr>
      </p:pic>
      <p:sp>
        <p:nvSpPr>
          <p:cNvPr id="284" name="Скругленный прямоугольник 17"/>
          <p:cNvSpPr/>
          <p:nvPr/>
        </p:nvSpPr>
        <p:spPr>
          <a:xfrm>
            <a:off x="1357200" y="171468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Скругленный прямоугольник 18"/>
          <p:cNvSpPr/>
          <p:nvPr/>
        </p:nvSpPr>
        <p:spPr>
          <a:xfrm>
            <a:off x="4572000" y="171468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Скругленный прямоугольник 19"/>
          <p:cNvSpPr/>
          <p:nvPr/>
        </p:nvSpPr>
        <p:spPr>
          <a:xfrm>
            <a:off x="7143840" y="171468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20"/>
          <p:cNvSpPr/>
          <p:nvPr/>
        </p:nvSpPr>
        <p:spPr>
          <a:xfrm>
            <a:off x="1643040" y="242892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21"/>
          <p:cNvSpPr/>
          <p:nvPr/>
        </p:nvSpPr>
        <p:spPr>
          <a:xfrm>
            <a:off x="1643040" y="314316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оугольник 29"/>
          <p:cNvSpPr/>
          <p:nvPr/>
        </p:nvSpPr>
        <p:spPr>
          <a:xfrm>
            <a:off x="382320" y="25002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Скругленный прямоугольник 31"/>
          <p:cNvSpPr/>
          <p:nvPr/>
        </p:nvSpPr>
        <p:spPr>
          <a:xfrm>
            <a:off x="1357200" y="3857760"/>
            <a:ext cx="2071800" cy="1928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орговая точка (розниц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кругленный прямоугольник 35"/>
          <p:cNvSpPr/>
          <p:nvPr/>
        </p:nvSpPr>
        <p:spPr>
          <a:xfrm>
            <a:off x="7143840" y="3857760"/>
            <a:ext cx="1419120" cy="1928520"/>
          </a:xfrm>
          <a:custGeom>
            <a:avLst/>
            <a:gdLst>
              <a:gd name="textAreaLeft" fmla="*/ 69120 w 1419120"/>
              <a:gd name="textAreaRight" fmla="*/ 1350000 w 1419120"/>
              <a:gd name="textAreaTop" fmla="*/ 69120 h 1928520"/>
              <a:gd name="textAreaBottom" fmla="*/ 1859400 h 1928520"/>
            </a:gdLst>
            <a:ahLst/>
            <a:rect l="textAreaLeft" t="textAreaTop" r="textAreaRight" b="textAreaBottom"/>
            <a:pathLst>
              <a:path w="21600" h="29351">
                <a:moveTo>
                  <a:pt x="3600" y="0"/>
                </a:moveTo>
                <a:arcTo wR="3600" hR="3600" stAng="16200000" swAng="-5400000"/>
                <a:lnTo>
                  <a:pt x="0" y="25751"/>
                </a:lnTo>
                <a:arcTo wR="3600" hR="3600" stAng="10800000" swAng="-5400000"/>
                <a:lnTo>
                  <a:pt x="18000" y="293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ератор сотовой связ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Скругленный прямоугольник 36"/>
          <p:cNvSpPr/>
          <p:nvPr/>
        </p:nvSpPr>
        <p:spPr>
          <a:xfrm>
            <a:off x="1643040" y="457200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купател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Скругленный прямоугольник 37"/>
          <p:cNvSpPr/>
          <p:nvPr/>
        </p:nvSpPr>
        <p:spPr>
          <a:xfrm>
            <a:off x="1643040" y="5286240"/>
            <a:ext cx="142884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аве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оугольник 38"/>
          <p:cNvSpPr/>
          <p:nvPr/>
        </p:nvSpPr>
        <p:spPr>
          <a:xfrm>
            <a:off x="386280" y="4643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Л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Прямая со стрелкой 40"/>
          <p:cNvCxnSpPr>
            <a:stCxn id="287" idx="2"/>
          </p:cNvCxnSpPr>
          <p:nvPr/>
        </p:nvCxnSpPr>
        <p:spPr>
          <a:xfrm flipH="1">
            <a:off x="2355480" y="2803680"/>
            <a:ext cx="2160" cy="342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headEnd len="med" type="stealth" w="med"/>
            <a:tailEnd len="med" type="stealth" w="med"/>
          </a:ln>
        </p:spPr>
      </p:cxnSp>
      <p:sp>
        <p:nvSpPr>
          <p:cNvPr id="296" name="Стрелка вправо 45"/>
          <p:cNvSpPr/>
          <p:nvPr/>
        </p:nvSpPr>
        <p:spPr>
          <a:xfrm>
            <a:off x="3286080" y="2786040"/>
            <a:ext cx="1428840" cy="9288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Стрелка вправо 46"/>
          <p:cNvSpPr/>
          <p:nvPr/>
        </p:nvSpPr>
        <p:spPr>
          <a:xfrm>
            <a:off x="5786280" y="2857680"/>
            <a:ext cx="1500480" cy="9284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Стрелка вправо 47"/>
          <p:cNvSpPr/>
          <p:nvPr/>
        </p:nvSpPr>
        <p:spPr>
          <a:xfrm>
            <a:off x="3286080" y="4929120"/>
            <a:ext cx="4071960" cy="9288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d4ebf1"/>
          </a:solidFill>
          <a:ln w="11520">
            <a:solidFill>
              <a:srgbClr val="26697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анные и актив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Скругленный прямоугольник 22"/>
          <p:cNvSpPr/>
          <p:nvPr/>
        </p:nvSpPr>
        <p:spPr>
          <a:xfrm>
            <a:off x="4572000" y="3786120"/>
            <a:ext cx="1428840" cy="200016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2000160"/>
              <a:gd name="textAreaBottom" fmla="*/ 1930680 h 2000160"/>
            </a:gdLst>
            <a:ahLst/>
            <a:rect l="textAreaLeft" t="textAreaTop" r="textAreaRight" b="textAreaBottom"/>
            <a:pathLst>
              <a:path w="21600" h="30235">
                <a:moveTo>
                  <a:pt x="3600" y="0"/>
                </a:moveTo>
                <a:arcTo wR="3600" hR="3600" stAng="16200000" swAng="-5400000"/>
                <a:lnTo>
                  <a:pt x="0" y="26635"/>
                </a:lnTo>
                <a:arcTo wR="3600" hR="3600" stAng="10800000" swAng="-5400000"/>
                <a:lnTo>
                  <a:pt x="18000" y="30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дел активации (офис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ый прямоугольник 9"/>
          <p:cNvSpPr/>
          <p:nvPr/>
        </p:nvSpPr>
        <p:spPr>
          <a:xfrm>
            <a:off x="714240" y="1500120"/>
            <a:ext cx="7929720" cy="18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26697a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Пример ситуации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телефонный разговор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овый перевозчик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чем Вы возите этот груз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аботник транспортного отдела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По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00 за рей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НП: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Готов возить за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1100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ТО: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к, направление Ваше.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(кладет трубку) 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Отлично! Сэкономил </a:t>
            </a: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0" i="1" lang="ru-RU" sz="1600" spc="-1" strike="noStrike">
                <a:solidFill>
                  <a:srgbClr val="000000"/>
                </a:solidFill>
                <a:latin typeface="Lucida Sans Unicode"/>
              </a:rPr>
              <a:t>100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зже оказывается, что НП работает на «упрощенке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альный эффект от смены оператора =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$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оугольник 10"/>
          <p:cNvSpPr/>
          <p:nvPr/>
        </p:nvSpPr>
        <p:spPr>
          <a:xfrm>
            <a:off x="785880" y="3714840"/>
            <a:ext cx="7929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се работники компании должны быть вашими «агентами по снижению издержек на местах»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имать природу издержек, самостоятельно оценивать их эффективность, различать затраты и инвестиц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кономически обоснованно вести переговоры с партнер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ледить за своевременным отражением затрат в учете (оперативно передавать документы для учета и добиваться нулевой необоснованной дебиторской задолженности свыше 30 дней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4" descr=""/>
          <p:cNvPicPr/>
          <p:nvPr/>
        </p:nvPicPr>
        <p:blipFill>
          <a:blip r:embed="rId3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10" name="Скругленный прямоугольник 8"/>
          <p:cNvSpPr/>
          <p:nvPr/>
        </p:nvSpPr>
        <p:spPr>
          <a:xfrm>
            <a:off x="3071880" y="1428840"/>
            <a:ext cx="2857320" cy="37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бизнес-процесс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571680" y="214308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тказ от 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Прямая со стрелкой 14"/>
          <p:cNvCxnSpPr/>
          <p:nvPr/>
        </p:nvCxnSpPr>
        <p:spPr>
          <a:xfrm flipH="1">
            <a:off x="4498200" y="1785600"/>
            <a:ext cx="252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3" name="Прямоугольник 19"/>
          <p:cNvSpPr/>
          <p:nvPr/>
        </p:nvSpPr>
        <p:spPr>
          <a:xfrm>
            <a:off x="500040" y="200016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работ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сценари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4" name="Прямая со стрелкой 21"/>
          <p:cNvCxnSpPr/>
          <p:nvPr/>
        </p:nvCxnSpPr>
        <p:spPr>
          <a:xfrm flipH="1">
            <a:off x="4498200" y="3071880"/>
            <a:ext cx="2520" cy="2167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15" name="Прямоугольник 22"/>
          <p:cNvSpPr/>
          <p:nvPr/>
        </p:nvSpPr>
        <p:spPr>
          <a:xfrm>
            <a:off x="2928960" y="264312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аутсорс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4786200" y="214308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тендер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2928960" y="2143080"/>
            <a:ext cx="178596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инжинирин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571680" y="264312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охранение как ес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4786200" y="2643120"/>
            <a:ext cx="192888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вариан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оугольник 29"/>
          <p:cNvSpPr/>
          <p:nvPr/>
        </p:nvSpPr>
        <p:spPr>
          <a:xfrm>
            <a:off x="5716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теря гибк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Прямоугольник 30"/>
          <p:cNvSpPr/>
          <p:nvPr/>
        </p:nvSpPr>
        <p:spPr>
          <a:xfrm>
            <a:off x="500040" y="3286080"/>
            <a:ext cx="8001000" cy="106740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цен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р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оугольник 31"/>
          <p:cNvSpPr/>
          <p:nvPr/>
        </p:nvSpPr>
        <p:spPr>
          <a:xfrm>
            <a:off x="2928960" y="392904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ират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Прямоугольник 32"/>
          <p:cNvSpPr/>
          <p:nvPr/>
        </p:nvSpPr>
        <p:spPr>
          <a:xfrm>
            <a:off x="4429080" y="342900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ехватка персона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33"/>
          <p:cNvSpPr/>
          <p:nvPr/>
        </p:nvSpPr>
        <p:spPr>
          <a:xfrm>
            <a:off x="2928960" y="3429000"/>
            <a:ext cx="142884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ост затра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5716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нижение качест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Прямоугольник 35"/>
          <p:cNvSpPr/>
          <p:nvPr/>
        </p:nvSpPr>
        <p:spPr>
          <a:xfrm>
            <a:off x="4429080" y="3929040"/>
            <a:ext cx="2286000" cy="337320"/>
          </a:xfrm>
          <a:prstGeom prst="rect">
            <a:avLst/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другие р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27" name="Прямая со стрелкой 36"/>
          <p:cNvCxnSpPr/>
          <p:nvPr/>
        </p:nvCxnSpPr>
        <p:spPr>
          <a:xfrm flipH="1">
            <a:off x="4500360" y="435744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28" name="Прямоугольник 37"/>
          <p:cNvSpPr/>
          <p:nvPr/>
        </p:nvSpPr>
        <p:spPr>
          <a:xfrm>
            <a:off x="500040" y="4572000"/>
            <a:ext cx="8001000" cy="580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отбор наиболее приемлемых сценариев с описанием требуемых для реализации ресурсов и вероятности успех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Скругленный прямоугольник 38"/>
          <p:cNvSpPr/>
          <p:nvPr/>
        </p:nvSpPr>
        <p:spPr>
          <a:xfrm>
            <a:off x="2928960" y="5357880"/>
            <a:ext cx="3214800" cy="64332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 программы 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0" name="Прямая со стрелкой 42"/>
          <p:cNvCxnSpPr/>
          <p:nvPr/>
        </p:nvCxnSpPr>
        <p:spPr>
          <a:xfrm flipH="1">
            <a:off x="4500360" y="514332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31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хема 27" descr=""/>
          <p:cNvPicPr/>
          <p:nvPr/>
        </p:nvPicPr>
        <p:blipFill>
          <a:blip r:embed="rId1"/>
          <a:stretch/>
        </p:blipFill>
        <p:spPr>
          <a:xfrm>
            <a:off x="139680" y="1785960"/>
            <a:ext cx="8791560" cy="4071960"/>
          </a:xfrm>
          <a:prstGeom prst="rect">
            <a:avLst/>
          </a:prstGeom>
          <a:ln w="0">
            <a:noFill/>
          </a:ln>
        </p:spPr>
      </p:pic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229600" cy="1450800"/>
          </a:xfrm>
          <a:prstGeom prst="rect">
            <a:avLst/>
          </a:prstGeom>
          <a:ln w="0">
            <a:noFill/>
          </a:ln>
        </p:spPr>
      </p:pic>
      <p:pic>
        <p:nvPicPr>
          <p:cNvPr id="334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2011320" y="5657760"/>
            <a:ext cx="6559560" cy="152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4" descr=""/>
          <p:cNvPicPr/>
          <p:nvPr/>
        </p:nvPicPr>
        <p:blipFill>
          <a:blip r:embed="rId4"/>
          <a:stretch/>
        </p:blipFill>
        <p:spPr>
          <a:xfrm>
            <a:off x="8001000" y="6143760"/>
            <a:ext cx="504720" cy="534960"/>
          </a:xfrm>
          <a:prstGeom prst="rect">
            <a:avLst/>
          </a:prstGeom>
          <a:ln w="0">
            <a:noFill/>
          </a:ln>
        </p:spPr>
      </p:pic>
      <p:sp>
        <p:nvSpPr>
          <p:cNvPr id="336" name="Скругленный прямоугольник 38"/>
          <p:cNvSpPr/>
          <p:nvPr/>
        </p:nvSpPr>
        <p:spPr>
          <a:xfrm>
            <a:off x="571680" y="1643040"/>
            <a:ext cx="1714320" cy="91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ейств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Стрелка углом 28"/>
          <p:cNvSpPr/>
          <p:nvPr/>
        </p:nvSpPr>
        <p:spPr>
          <a:xfrm flipH="1" rot="10800000">
            <a:off x="1285920" y="2714400"/>
            <a:ext cx="1000080" cy="57132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Стрелка углом 39"/>
          <p:cNvSpPr/>
          <p:nvPr/>
        </p:nvSpPr>
        <p:spPr>
          <a:xfrm flipH="1" flipV="1" rot="10800000">
            <a:off x="5572080" y="2000160"/>
            <a:ext cx="1000080" cy="57168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571500"/>
                </a:moveTo>
                <a:lnTo>
                  <a:pt x="0" y="326912"/>
                </a:lnTo>
                <a:cubicBezTo>
                  <a:pt x="0" y="212871"/>
                  <a:pt x="92448" y="120423"/>
                  <a:pt x="206489" y="120423"/>
                </a:cubicBezTo>
                <a:lnTo>
                  <a:pt x="857250" y="120424"/>
                </a:lnTo>
                <a:lnTo>
                  <a:pt x="857250" y="0"/>
                </a:lnTo>
                <a:lnTo>
                  <a:pt x="1000125" y="224519"/>
                </a:lnTo>
                <a:lnTo>
                  <a:pt x="857250" y="449039"/>
                </a:lnTo>
                <a:lnTo>
                  <a:pt x="857250" y="328615"/>
                </a:lnTo>
                <a:lnTo>
                  <a:pt x="208192" y="328615"/>
                </a:lnTo>
                <a:lnTo>
                  <a:pt x="208192" y="328615"/>
                </a:lnTo>
                <a:lnTo>
                  <a:pt x="208192" y="571500"/>
                </a:lnTo>
                <a:lnTo>
                  <a:pt x="0" y="571500"/>
                </a:lnTo>
                <a:close/>
              </a:path>
            </a:pathLst>
          </a:custGeom>
          <a:solidFill>
            <a:srgbClr val="d4ebf1"/>
          </a:solidFill>
          <a:ln w="11520">
            <a:solidFill>
              <a:srgbClr val="26697a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Скругленный прямоугольник 40"/>
          <p:cNvSpPr/>
          <p:nvPr/>
        </p:nvSpPr>
        <p:spPr>
          <a:xfrm>
            <a:off x="6786720" y="1785960"/>
            <a:ext cx="1714320" cy="1182600"/>
          </a:xfrm>
          <a:prstGeom prst="roundRect">
            <a:avLst>
              <a:gd name="adj" fmla="val 16667"/>
            </a:avLst>
          </a:prstGeom>
          <a:solidFill>
            <a:srgbClr val="c6d7dd"/>
          </a:solidFill>
          <a:ln w="9360">
            <a:solidFill>
              <a:srgbClr val="3891a7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презент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ля принятия реше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Нижний колонтитул 9"/>
          <p:cNvSpPr/>
          <p:nvPr/>
        </p:nvSpPr>
        <p:spPr>
          <a:xfrm>
            <a:off x="3143160" y="6215040"/>
            <a:ext cx="4643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3:02Z</dcterms:created>
  <dc:creator>Sergey V. Chadin</dc:creator>
  <dc:description/>
  <dc:language>en-US</dc:language>
  <cp:lastModifiedBy>LEGION</cp:lastModifiedBy>
  <dcterms:modified xsi:type="dcterms:W3CDTF">2016-01-05T12:44:10Z</dcterms:modified>
  <cp:revision>637</cp:revision>
  <dc:subject>Оптимизация операционной деятельности</dc:subject>
  <dc:title>Где теряем деньги?</dc:title>
</cp:coreProperties>
</file>