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16E2-BB95-49AA-9D8E-CE36147760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7C1-2893-4491-9623-C432A011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A48-9DF2-4DCD-8214-483366A6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35F-2556-45D1-B2C9-925705AD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8EA-5460-4D59-9F1D-52DE7B9A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EFAE-C6A0-4054-9181-DC36640A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B6B-E6BB-4AEB-9553-BE372BCF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CCA5-B6A0-485F-B42C-E30A9380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E7F4-3B26-4EC9-A21D-2AE086F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1A0C-5E67-4761-B568-6212C6B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1C11-48CA-4921-8640-EEDB6BC7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25EA-BF73-49ED-9BD2-58306EA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B01-37CB-4F55-A2E6-7F3A96D3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900A-8F24-44F1-9D70-280143C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B513-F2E7-4F71-9FBD-A7A971CD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9D49-978C-489D-B845-E77E1CC1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C445-FE6B-4513-9895-FDB6AC6B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9D60-97A6-4C7B-890A-CAE07435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C22D-81AA-4950-AFC7-8446D042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EFD2-FCAA-48FA-B321-243B5205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25EC-35A6-4E03-B96D-57C0105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1586-6E8C-464E-83A6-6167AD4F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6399-2C26-435E-BB55-26AEEC1C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E25-7E48-4D81-B2EA-1EBDED22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7595-7CEE-43B6-9D3F-F7A4DCB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2AC9-D04E-499B-8BC7-B6A9A4C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1037-7915-4C2B-8A95-C7D8B16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B720-7047-4C71-B735-8C1DE24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8766-CBAD-4735-9A16-A2173985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92E8-3878-4EE2-9B8B-0F1389F8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EFE9-45D6-4B41-B210-C88BE77E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1A99-9701-4708-B329-67FEB679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8C48-364F-4A5A-AA1A-0DA5ED51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3A13-7E0D-48CB-986E-4A43D361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1C8-068E-46DB-828B-4894B63C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C2B0-C013-45D7-9DDC-866775CA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1490-347C-4545-AD27-DE0ED992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1DB4-8DB4-4F0F-984F-0248B4AF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F374-E614-48C8-91C0-78C7011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48FA-1BB1-45A9-B0BF-651ED24F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7ACC1-9132-409A-9EE7-85EA6C55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889A6-4693-4027-807C-1214A748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8CA9-D813-463A-B38E-12EEC89E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29DC4-374C-40E5-B99E-F4A779CF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1C7-30D9-41E8-BC33-42129CC3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5FD-1044-4221-86F5-447439CB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5E4-C3A4-4312-B81F-21C89E8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2EA-2DFB-4404-80B1-0C042F05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B16-A404-41FE-9D3C-E8889836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E77D-BCF3-43D5-B18A-4875BBF49612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ee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eef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A4E-072E-4D61-9127-81EBA6ED25A1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Нашивка 11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Нашивка 11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0849-AFC1-4787-BB30-AFCA245AF7A6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4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6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67" name="Нашивка 18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168" name="Нашивка 18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Нашивка 19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171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C4A0-452D-4FC3-9E26-506A9F690411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3143160" y="177480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712800" y="706320"/>
            <a:ext cx="7772400" cy="4280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785880" y="283680"/>
            <a:ext cx="82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тимизация операционной деятельности: оттачиваем бизнес-процес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634920" y="6196680"/>
            <a:ext cx="18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03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5" descr=""/>
          <p:cNvPicPr/>
          <p:nvPr/>
        </p:nvPicPr>
        <p:blipFill>
          <a:blip r:embed="rId3"/>
          <a:stretch/>
        </p:blipFill>
        <p:spPr>
          <a:xfrm>
            <a:off x="5357880" y="2273400"/>
            <a:ext cx="923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зработка и первичная оценка мероприятий охватывает и нестандартны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видимые/неочевидные для специалистов финансового управления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варианты сниж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постоянные попытки «латания дыр прошлого»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10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тежи принимаются на грани рентаб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кругленный прямоугольник 11"/>
          <p:cNvSpPr/>
          <p:nvPr/>
        </p:nvSpPr>
        <p:spPr>
          <a:xfrm>
            <a:off x="3571920" y="178596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аться от платеж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кругленный прямоугольник 13"/>
          <p:cNvSpPr/>
          <p:nvPr/>
        </p:nvSpPr>
        <p:spPr>
          <a:xfrm>
            <a:off x="114300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стоимость инкасс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Скругленный прямоугольник 14"/>
          <p:cNvSpPr/>
          <p:nvPr/>
        </p:nvSpPr>
        <p:spPr>
          <a:xfrm>
            <a:off x="3571920" y="471492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матизи-р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Скругленный прямоугольник 15"/>
          <p:cNvSpPr/>
          <p:nvPr/>
        </p:nvSpPr>
        <p:spPr>
          <a:xfrm>
            <a:off x="121428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чие издерж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Крест 16"/>
          <p:cNvSpPr/>
          <p:nvPr/>
        </p:nvSpPr>
        <p:spPr>
          <a:xfrm rot="2472600">
            <a:off x="3308040" y="1890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право 17"/>
          <p:cNvSpPr/>
          <p:nvPr/>
        </p:nvSpPr>
        <p:spPr>
          <a:xfrm rot="16200000">
            <a:off x="4197240" y="251712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8"/>
          <p:cNvSpPr/>
          <p:nvPr/>
        </p:nvSpPr>
        <p:spPr>
          <a:xfrm rot="5400000">
            <a:off x="4196520" y="42328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Крест 19"/>
          <p:cNvSpPr/>
          <p:nvPr/>
        </p:nvSpPr>
        <p:spPr>
          <a:xfrm rot="2472600">
            <a:off x="3308040" y="4748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право 20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Крест 21"/>
          <p:cNvSpPr/>
          <p:nvPr/>
        </p:nvSpPr>
        <p:spPr>
          <a:xfrm rot="2472600">
            <a:off x="879120" y="253368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Стрелка вправо 22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Крест 23"/>
          <p:cNvSpPr/>
          <p:nvPr/>
        </p:nvSpPr>
        <p:spPr>
          <a:xfrm rot="2472600">
            <a:off x="950400" y="4176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Скругленный прямоугольник 24"/>
          <p:cNvSpPr/>
          <p:nvPr/>
        </p:nvSpPr>
        <p:spPr>
          <a:xfrm>
            <a:off x="600084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величить комиссию от партне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Стрелка вправо 25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Крест 26"/>
          <p:cNvSpPr/>
          <p:nvPr/>
        </p:nvSpPr>
        <p:spPr>
          <a:xfrm rot="2472600">
            <a:off x="7665840" y="2462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кругленный прямоугольник 29"/>
          <p:cNvSpPr/>
          <p:nvPr/>
        </p:nvSpPr>
        <p:spPr>
          <a:xfrm>
            <a:off x="600084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рать комиссию с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Стрелка вправо 30"/>
          <p:cNvSpPr/>
          <p:nvPr/>
        </p:nvSpPr>
        <p:spPr>
          <a:xfrm rot="1798200">
            <a:off x="5402160" y="393228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Трапеция 31"/>
          <p:cNvSpPr/>
          <p:nvPr/>
        </p:nvSpPr>
        <p:spPr>
          <a:xfrm rot="10800000">
            <a:off x="7715160" y="3786120"/>
            <a:ext cx="214560" cy="642960"/>
          </a:xfrm>
          <a:custGeom>
            <a:avLst/>
            <a:gdLst/>
            <a:ahLst/>
            <a:rect l="l" t="t" r="r" b="b"/>
            <a:pathLst>
              <a:path w="214313" h="642937">
                <a:moveTo>
                  <a:pt x="0" y="642937"/>
                </a:moveTo>
                <a:lnTo>
                  <a:pt x="53578" y="0"/>
                </a:lnTo>
                <a:lnTo>
                  <a:pt x="160735" y="0"/>
                </a:lnTo>
                <a:lnTo>
                  <a:pt x="214313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339933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Овал 32"/>
          <p:cNvSpPr/>
          <p:nvPr/>
        </p:nvSpPr>
        <p:spPr>
          <a:xfrm>
            <a:off x="7715160" y="4572000"/>
            <a:ext cx="214560" cy="200160"/>
          </a:xfrm>
          <a:prstGeom prst="ellipse">
            <a:avLst/>
          </a:prstGeom>
          <a:solidFill>
            <a:srgbClr val="339933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7929720" y="6186600"/>
            <a:ext cx="571320" cy="460440"/>
          </a:xfrm>
          <a:prstGeom prst="rect">
            <a:avLst/>
          </a:prstGeom>
          <a:ln w="0">
            <a:noFill/>
          </a:ln>
        </p:spPr>
      </p:pic>
      <p:sp>
        <p:nvSpPr>
          <p:cNvPr id="373" name="Скругленный прямоугольник 8"/>
          <p:cNvSpPr/>
          <p:nvPr/>
        </p:nvSpPr>
        <p:spPr>
          <a:xfrm>
            <a:off x="100008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роки реал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Скругленный прямоугольник 9"/>
          <p:cNvSpPr/>
          <p:nvPr/>
        </p:nvSpPr>
        <p:spPr>
          <a:xfrm>
            <a:off x="34290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59292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ебуем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Скругленный прямоугольник 11"/>
          <p:cNvSpPr/>
          <p:nvPr/>
        </p:nvSpPr>
        <p:spPr>
          <a:xfrm>
            <a:off x="34290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пекти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кругленный прямоугольник 13"/>
          <p:cNvSpPr/>
          <p:nvPr/>
        </p:nvSpPr>
        <p:spPr>
          <a:xfrm>
            <a:off x="100008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ине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Скругленный прямоугольник 14"/>
          <p:cNvSpPr/>
          <p:nvPr/>
        </p:nvSpPr>
        <p:spPr>
          <a:xfrm>
            <a:off x="1000080" y="3714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асштаб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Скругленный прямоугольник 15"/>
          <p:cNvSpPr/>
          <p:nvPr/>
        </p:nvSpPr>
        <p:spPr>
          <a:xfrm>
            <a:off x="100008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отдач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Скругленный прямоугольник 16"/>
          <p:cNvSpPr/>
          <p:nvPr/>
        </p:nvSpPr>
        <p:spPr>
          <a:xfrm>
            <a:off x="4714920" y="371484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страте-гическим интерес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Скругленный прямоугольник 17"/>
          <p:cNvSpPr/>
          <p:nvPr/>
        </p:nvSpPr>
        <p:spPr>
          <a:xfrm>
            <a:off x="34290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ля в результа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Скругленный прямоугольник 18"/>
          <p:cNvSpPr/>
          <p:nvPr/>
        </p:nvSpPr>
        <p:spPr>
          <a:xfrm>
            <a:off x="59292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пы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Скругленный прямоугольник 19"/>
          <p:cNvSpPr/>
          <p:nvPr/>
        </p:nvSpPr>
        <p:spPr>
          <a:xfrm>
            <a:off x="59292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влеч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0"/>
          <p:cNvSpPr/>
          <p:nvPr/>
        </p:nvSpPr>
        <p:spPr>
          <a:xfrm>
            <a:off x="785880" y="4500720"/>
            <a:ext cx="7929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исят о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табельности и оборачиваемости бизнес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запущенности» ситу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а угроз (конкуренты, экономическое окружение и т.д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ач, стоящих перед менеджментом и бизнесом в цел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3749760" cy="25066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19"/>
          <p:cNvSpPr/>
          <p:nvPr/>
        </p:nvSpPr>
        <p:spPr>
          <a:xfrm>
            <a:off x="571680" y="164304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4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0"/>
          <p:cNvSpPr/>
          <p:nvPr/>
        </p:nvSpPr>
        <p:spPr>
          <a:xfrm>
            <a:off x="785880" y="17859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ямая заинтересованность всего высшего менедж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785880" y="46432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ная вовлеченность персонала на всех стад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785880" y="4214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«шаг за шагом»: сначала - проекты с быстрой отдач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785880" y="507204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тивация персонала на «участие в успех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785880" y="3786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паганда «экономического мыш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785880" y="22147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ановка амбициозных задач владельц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85880" y="2643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ичие угрозы (конкуренты, рейдер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785880" y="3071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жесткость и готовность идти до кон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Скругленный прямоугольник 20"/>
          <p:cNvSpPr/>
          <p:nvPr/>
        </p:nvSpPr>
        <p:spPr>
          <a:xfrm>
            <a:off x="571680" y="364320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0"/>
          <p:cNvSpPr/>
          <p:nvPr/>
        </p:nvSpPr>
        <p:spPr>
          <a:xfrm>
            <a:off x="1571760" y="15717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чины возникновения неэффективных издерж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кругленный прямоугольник 21"/>
          <p:cNvSpPr/>
          <p:nvPr/>
        </p:nvSpPr>
        <p:spPr>
          <a:xfrm>
            <a:off x="857160" y="2214720"/>
            <a:ext cx="2500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Скругленный прямоугольник 22"/>
          <p:cNvSpPr/>
          <p:nvPr/>
        </p:nvSpPr>
        <p:spPr>
          <a:xfrm>
            <a:off x="3429000" y="221472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изация 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Прямая со стрелкой 23"/>
          <p:cNvCxnSpPr/>
          <p:nvPr/>
        </p:nvCxnSpPr>
        <p:spPr>
          <a:xfrm flipH="1">
            <a:off x="2285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24"/>
          <p:cNvCxnSpPr/>
          <p:nvPr/>
        </p:nvCxnSpPr>
        <p:spPr>
          <a:xfrm flipH="1">
            <a:off x="4571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9" name="Прямая со стрелкой 25"/>
          <p:cNvCxnSpPr/>
          <p:nvPr/>
        </p:nvCxnSpPr>
        <p:spPr>
          <a:xfrm flipH="1">
            <a:off x="700056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0" name="Скругленный прямоугольник 26"/>
          <p:cNvSpPr/>
          <p:nvPr/>
        </p:nvSpPr>
        <p:spPr>
          <a:xfrm>
            <a:off x="6072120" y="2214720"/>
            <a:ext cx="18576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Скругленный прямоугольник 27"/>
          <p:cNvSpPr/>
          <p:nvPr/>
        </p:nvSpPr>
        <p:spPr>
          <a:xfrm>
            <a:off x="357120" y="29289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епреднамерен-ный (нехватка квалификации, инертность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Скругленный прямоугольник 28"/>
          <p:cNvSpPr/>
          <p:nvPr/>
        </p:nvSpPr>
        <p:spPr>
          <a:xfrm>
            <a:off x="2357280" y="292896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еднаме-ренный (мо-шенничество, саботаж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3" name="Прямая со стрелкой 29"/>
          <p:cNvCxnSpPr/>
          <p:nvPr/>
        </p:nvCxnSpPr>
        <p:spPr>
          <a:xfrm flipH="1">
            <a:off x="149940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4" name="Прямая со стрелкой 30"/>
          <p:cNvCxnSpPr/>
          <p:nvPr/>
        </p:nvCxnSpPr>
        <p:spPr>
          <a:xfrm flipH="1">
            <a:off x="299952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5" name="Прямая со стрелкой 31"/>
          <p:cNvCxnSpPr/>
          <p:nvPr/>
        </p:nvCxnSpPr>
        <p:spPr>
          <a:xfrm flipH="1">
            <a:off x="149940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6" name="Прямая со стрелкой 32"/>
          <p:cNvCxnSpPr/>
          <p:nvPr/>
        </p:nvCxnSpPr>
        <p:spPr>
          <a:xfrm flipH="1">
            <a:off x="299952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7" name="Прямая со стрелкой 33"/>
          <p:cNvCxnSpPr/>
          <p:nvPr/>
        </p:nvCxnSpPr>
        <p:spPr>
          <a:xfrm flipH="1">
            <a:off x="5214600" y="264312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8" name="Скругленный прямоугольник 34"/>
          <p:cNvSpPr/>
          <p:nvPr/>
        </p:nvSpPr>
        <p:spPr>
          <a:xfrm>
            <a:off x="4286160" y="292896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Скругленный прямоугольник 35"/>
          <p:cNvSpPr/>
          <p:nvPr/>
        </p:nvSpPr>
        <p:spPr>
          <a:xfrm>
            <a:off x="357120" y="4071960"/>
            <a:ext cx="20001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еобучение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мена и мотивация персон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36"/>
          <p:cNvSpPr/>
          <p:nvPr/>
        </p:nvSpPr>
        <p:spPr>
          <a:xfrm>
            <a:off x="2428920" y="4071960"/>
            <a:ext cx="17143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вольнение с привлечением СБ и т.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авая фигурная скобка 37"/>
          <p:cNvSpPr/>
          <p:nvPr/>
        </p:nvSpPr>
        <p:spPr>
          <a:xfrm rot="5400000">
            <a:off x="4321440" y="1035720"/>
            <a:ext cx="357120" cy="8286840"/>
          </a:xfrm>
          <a:custGeom>
            <a:avLst/>
            <a:gdLst>
              <a:gd name="textAreaLeft" fmla="*/ 0 w 357120"/>
              <a:gd name="textAreaRight" fmla="*/ 128880 w 357120"/>
              <a:gd name="textAreaTop" fmla="*/ 46800 h 8286840"/>
              <a:gd name="textAreaBottom" fmla="*/ 8240040 h 828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90"/>
                </a:cubicBezTo>
                <a:lnTo>
                  <a:pt x="10800" y="10381"/>
                </a:lnTo>
                <a:cubicBezTo>
                  <a:pt x="10800" y="10576"/>
                  <a:pt x="16200" y="10771"/>
                  <a:pt x="21600" y="10771"/>
                </a:cubicBezTo>
                <a:cubicBezTo>
                  <a:pt x="16200" y="10771"/>
                  <a:pt x="10800" y="10966"/>
                  <a:pt x="10800" y="11161"/>
                </a:cubicBezTo>
                <a:lnTo>
                  <a:pt x="10800" y="21210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38"/>
          <p:cNvSpPr/>
          <p:nvPr/>
        </p:nvSpPr>
        <p:spPr>
          <a:xfrm>
            <a:off x="428760" y="5357880"/>
            <a:ext cx="80722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ниторинг, организация превентивных мер и профилакт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5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ЛОЖНОСТИ ПРИ РЕАЛИЗАЦИИ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Скругленный прямоугольник 7"/>
          <p:cNvSpPr/>
          <p:nvPr/>
        </p:nvSpPr>
        <p:spPr>
          <a:xfrm>
            <a:off x="357192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хн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Скругленный прямоугольник 8"/>
          <p:cNvSpPr/>
          <p:nvPr/>
        </p:nvSpPr>
        <p:spPr>
          <a:xfrm>
            <a:off x="1000080" y="21430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инан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Скругленный прямоугольник 9"/>
          <p:cNvSpPr/>
          <p:nvPr/>
        </p:nvSpPr>
        <p:spPr>
          <a:xfrm>
            <a:off x="35719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071720" y="4429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сихолог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Стрелка вправо 13"/>
          <p:cNvSpPr/>
          <p:nvPr/>
        </p:nvSpPr>
        <p:spPr>
          <a:xfrm rot="16200000">
            <a:off x="4340160" y="2660040"/>
            <a:ext cx="3920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Стрелка вправо 14"/>
          <p:cNvSpPr/>
          <p:nvPr/>
        </p:nvSpPr>
        <p:spPr>
          <a:xfrm rot="5400000">
            <a:off x="4321800" y="410760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Стрелка вправо 18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600084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юрид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Стрелка вправо 21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Скругленный прямоугольник 23"/>
          <p:cNvSpPr/>
          <p:nvPr/>
        </p:nvSpPr>
        <p:spPr>
          <a:xfrm>
            <a:off x="60721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4"/>
          <p:cNvSpPr/>
          <p:nvPr/>
        </p:nvSpPr>
        <p:spPr>
          <a:xfrm rot="2340000">
            <a:off x="5387760" y="4051440"/>
            <a:ext cx="73980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кругленный прямоугольник 47"/>
          <p:cNvSpPr/>
          <p:nvPr/>
        </p:nvSpPr>
        <p:spPr>
          <a:xfrm>
            <a:off x="1000080" y="1428840"/>
            <a:ext cx="6929640" cy="428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1071720" y="5286240"/>
            <a:ext cx="69292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2" name="Прямая со стрелкой 49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3" name="Прямая со стрелкой 51"/>
          <p:cNvCxnSpPr/>
          <p:nvPr/>
        </p:nvCxnSpPr>
        <p:spPr>
          <a:xfrm flipH="1">
            <a:off x="45003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52"/>
          <p:cNvCxnSpPr/>
          <p:nvPr/>
        </p:nvCxnSpPr>
        <p:spPr>
          <a:xfrm flipH="1">
            <a:off x="70005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53"/>
          <p:cNvCxnSpPr/>
          <p:nvPr/>
        </p:nvCxnSpPr>
        <p:spPr>
          <a:xfrm flipH="1" flipV="1">
            <a:off x="207144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7"/>
          <p:cNvCxnSpPr/>
          <p:nvPr/>
        </p:nvCxnSpPr>
        <p:spPr>
          <a:xfrm flipH="1" flipV="1">
            <a:off x="450036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7" name="Прямая со стрелкой 59"/>
          <p:cNvCxnSpPr/>
          <p:nvPr/>
        </p:nvCxnSpPr>
        <p:spPr>
          <a:xfrm flipH="1" flipV="1">
            <a:off x="6928560" y="185688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26" descr=""/>
          <p:cNvPicPr/>
          <p:nvPr/>
        </p:nvPicPr>
        <p:blipFill>
          <a:blip r:embed="rId4"/>
          <a:stretch/>
        </p:blipFill>
        <p:spPr>
          <a:xfrm>
            <a:off x="493560" y="1285920"/>
            <a:ext cx="8339400" cy="462132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456" name="Заголовок 1"/>
          <p:cNvSpPr/>
          <p:nvPr/>
        </p:nvSpPr>
        <p:spPr>
          <a:xfrm>
            <a:off x="714240" y="128592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юбо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опыт и практические наработки успешных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 неуспешны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йте выводы из неудач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е внимание необходимо уделять случаям преднамеренного завыш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мните про затраты, приносящие доход. Зарабатывайте на расхода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357640" cy="20718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1920960" y="1249200"/>
            <a:ext cx="5821200" cy="3621240"/>
          </a:xfrm>
          <a:prstGeom prst="rect">
            <a:avLst/>
          </a:prstGeom>
          <a:ln w="0">
            <a:noFill/>
          </a:ln>
        </p:spPr>
      </p:pic>
      <p:sp>
        <p:nvSpPr>
          <p:cNvPr id="462" name="Заголовок 1"/>
          <p:cNvSpPr/>
          <p:nvPr/>
        </p:nvSpPr>
        <p:spPr>
          <a:xfrm>
            <a:off x="642960" y="471492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Если что-то вспомните позже, не постесняйтесь написать на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64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ключев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помогательн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2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аз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здающие продукт (диктуются отраслевыми стандарт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пециаль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ющие продукт уникальным (собственные реш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5" name="Прямоугольник 17"/>
          <p:cNvSpPr/>
          <p:nvPr/>
        </p:nvSpPr>
        <p:spPr>
          <a:xfrm>
            <a:off x="464328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служивающие бизнес (не создающие продукт непо-средственн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8"/>
          <p:cNvSpPr/>
          <p:nvPr/>
        </p:nvSpPr>
        <p:spPr>
          <a:xfrm>
            <a:off x="685800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е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грузка на бизнес (социальные программ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7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38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9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е 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1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2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аких процессах «лежит» стратегия развития бизнеса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каких процессов можно отказаться, а от каких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процессы можно передать на субподряд, а какие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информационного обме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9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перацион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регулярных проце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ные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управления проект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2" name="Прямоугольник 17"/>
          <p:cNvSpPr/>
          <p:nvPr/>
        </p:nvSpPr>
        <p:spPr>
          <a:xfrm>
            <a:off x="464328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бщедоступная информация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(Интернет, гос.статистика, отраслевые СМИ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8"/>
          <p:cNvSpPr/>
          <p:nvPr/>
        </p:nvSpPr>
        <p:spPr>
          <a:xfrm>
            <a:off x="657216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никальная информация (данные кон-курентов, парт-неров, внутри-групповые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4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6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егулярный анал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8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9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разработать систему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и поддерживать ее актуальной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своевременно получать полную достоверную информацию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научиться анализировать ПРОактивно, а не РЕактив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23" descr=""/>
          <p:cNvPicPr/>
          <p:nvPr/>
        </p:nvPicPr>
        <p:blipFill>
          <a:blip r:embed="rId4"/>
          <a:stretch/>
        </p:blipFill>
        <p:spPr>
          <a:xfrm>
            <a:off x="2000160" y="1712880"/>
            <a:ext cx="4857840" cy="257328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24"/>
          <p:cNvSpPr/>
          <p:nvPr/>
        </p:nvSpPr>
        <p:spPr>
          <a:xfrm>
            <a:off x="85716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чень статей зат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трелка углом 25"/>
          <p:cNvSpPr/>
          <p:nvPr/>
        </p:nvSpPr>
        <p:spPr>
          <a:xfrm rot="5400000">
            <a:off x="3585600" y="1057680"/>
            <a:ext cx="599760" cy="1913040"/>
          </a:xfrm>
          <a:custGeom>
            <a:avLst/>
            <a:gdLst/>
            <a:ahLst/>
            <a:rect l="l" t="t" r="r" b="b"/>
            <a:pathLst>
              <a:path w="600075" h="1912937">
                <a:moveTo>
                  <a:pt x="0" y="1912937"/>
                </a:moveTo>
                <a:lnTo>
                  <a:pt x="0" y="337542"/>
                </a:lnTo>
                <a:cubicBezTo>
                  <a:pt x="0" y="192549"/>
                  <a:pt x="117540" y="75009"/>
                  <a:pt x="262533" y="75009"/>
                </a:cubicBezTo>
                <a:lnTo>
                  <a:pt x="450056" y="75009"/>
                </a:lnTo>
                <a:lnTo>
                  <a:pt x="450056" y="0"/>
                </a:lnTo>
                <a:lnTo>
                  <a:pt x="600075" y="150019"/>
                </a:lnTo>
                <a:lnTo>
                  <a:pt x="450056" y="300038"/>
                </a:lnTo>
                <a:lnTo>
                  <a:pt x="450056" y="225028"/>
                </a:lnTo>
                <a:lnTo>
                  <a:pt x="262533" y="225028"/>
                </a:lnTo>
                <a:cubicBezTo>
                  <a:pt x="200393" y="225028"/>
                  <a:pt x="150019" y="275402"/>
                  <a:pt x="150019" y="337542"/>
                </a:cubicBezTo>
                <a:lnTo>
                  <a:pt x="150019" y="1912937"/>
                </a:lnTo>
                <a:lnTo>
                  <a:pt x="0" y="191293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26"/>
          <p:cNvSpPr/>
          <p:nvPr/>
        </p:nvSpPr>
        <p:spPr>
          <a:xfrm>
            <a:off x="857160" y="342900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 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трелка углом 27"/>
          <p:cNvSpPr/>
          <p:nvPr/>
        </p:nvSpPr>
        <p:spPr>
          <a:xfrm rot="10800000">
            <a:off x="2642760" y="3500280"/>
            <a:ext cx="1957320" cy="500400"/>
          </a:xfrm>
          <a:custGeom>
            <a:avLst/>
            <a:gdLst/>
            <a:ahLst/>
            <a:rect l="l" t="t" r="r" b="b"/>
            <a:pathLst>
              <a:path w="1957387" h="500062">
                <a:moveTo>
                  <a:pt x="0" y="5000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1832372" y="62508"/>
                </a:lnTo>
                <a:lnTo>
                  <a:pt x="1832372" y="0"/>
                </a:lnTo>
                <a:lnTo>
                  <a:pt x="1957387" y="125016"/>
                </a:lnTo>
                <a:lnTo>
                  <a:pt x="1832372" y="250031"/>
                </a:lnTo>
                <a:lnTo>
                  <a:pt x="1832372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354211"/>
                  <a:pt x="125016" y="427136"/>
                  <a:pt x="125016" y="500062"/>
                </a:cubicBezTo>
                <a:lnTo>
                  <a:pt x="0" y="500062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трелка углом 28"/>
          <p:cNvSpPr/>
          <p:nvPr/>
        </p:nvSpPr>
        <p:spPr>
          <a:xfrm flipH="1" rot="10800000">
            <a:off x="4642200" y="3500280"/>
            <a:ext cx="2000520" cy="509760"/>
          </a:xfrm>
          <a:custGeom>
            <a:avLst/>
            <a:gdLst/>
            <a:ahLst/>
            <a:rect l="l" t="t" r="r" b="b"/>
            <a:pathLst>
              <a:path w="2000250" h="509587">
                <a:moveTo>
                  <a:pt x="0" y="509587"/>
                </a:moveTo>
                <a:lnTo>
                  <a:pt x="0" y="286643"/>
                </a:lnTo>
                <a:cubicBezTo>
                  <a:pt x="0" y="163514"/>
                  <a:pt x="99815" y="63699"/>
                  <a:pt x="222944" y="63699"/>
                </a:cubicBezTo>
                <a:lnTo>
                  <a:pt x="1872853" y="63698"/>
                </a:lnTo>
                <a:lnTo>
                  <a:pt x="1872853" y="0"/>
                </a:lnTo>
                <a:lnTo>
                  <a:pt x="2000250" y="127397"/>
                </a:lnTo>
                <a:lnTo>
                  <a:pt x="1872853" y="254794"/>
                </a:lnTo>
                <a:lnTo>
                  <a:pt x="1872853" y="191095"/>
                </a:lnTo>
                <a:lnTo>
                  <a:pt x="222944" y="191095"/>
                </a:lnTo>
                <a:cubicBezTo>
                  <a:pt x="170174" y="191095"/>
                  <a:pt x="127396" y="233873"/>
                  <a:pt x="127396" y="286643"/>
                </a:cubicBezTo>
                <a:cubicBezTo>
                  <a:pt x="127396" y="360958"/>
                  <a:pt x="127397" y="435272"/>
                  <a:pt x="127397" y="509587"/>
                </a:cubicBezTo>
                <a:lnTo>
                  <a:pt x="0" y="50958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30"/>
          <p:cNvSpPr/>
          <p:nvPr/>
        </p:nvSpPr>
        <p:spPr>
          <a:xfrm>
            <a:off x="6858000" y="350028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685800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йтинг затрат для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трелка вправо 33"/>
          <p:cNvSpPr/>
          <p:nvPr/>
        </p:nvSpPr>
        <p:spPr>
          <a:xfrm rot="16200000">
            <a:off x="7412040" y="2874600"/>
            <a:ext cx="67788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озможно, уже обновленных по результатам этого этапа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решение заниматься тем, что получается лучше всего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 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решение заниматься тем, что сложилось историческ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17"/>
          <p:cNvSpPr/>
          <p:nvPr/>
        </p:nvSpPr>
        <p:spPr>
          <a:xfrm>
            <a:off x="1357200" y="171468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4572000" y="171468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143840" y="171468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1643040" y="242892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1643040" y="314316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82320" y="2500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31"/>
          <p:cNvSpPr/>
          <p:nvPr/>
        </p:nvSpPr>
        <p:spPr>
          <a:xfrm>
            <a:off x="1357200" y="385776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35"/>
          <p:cNvSpPr/>
          <p:nvPr/>
        </p:nvSpPr>
        <p:spPr>
          <a:xfrm>
            <a:off x="7143840" y="385776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36"/>
          <p:cNvSpPr/>
          <p:nvPr/>
        </p:nvSpPr>
        <p:spPr>
          <a:xfrm>
            <a:off x="1643040" y="457200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37"/>
          <p:cNvSpPr/>
          <p:nvPr/>
        </p:nvSpPr>
        <p:spPr>
          <a:xfrm>
            <a:off x="1643040" y="528624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38"/>
          <p:cNvSpPr/>
          <p:nvPr/>
        </p:nvSpPr>
        <p:spPr>
          <a:xfrm>
            <a:off x="386280" y="464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Прямая со стрелкой 40"/>
          <p:cNvCxnSpPr>
            <a:stCxn id="287" idx="2"/>
          </p:cNvCxnSpPr>
          <p:nvPr/>
        </p:nvCxnSpPr>
        <p:spPr>
          <a:xfrm flipH="1">
            <a:off x="2355480" y="2803680"/>
            <a:ext cx="2160" cy="34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6" name="Стрелка вправо 45"/>
          <p:cNvSpPr/>
          <p:nvPr/>
        </p:nvSpPr>
        <p:spPr>
          <a:xfrm>
            <a:off x="3286080" y="2786040"/>
            <a:ext cx="1428840" cy="928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Стрелка вправо 46"/>
          <p:cNvSpPr/>
          <p:nvPr/>
        </p:nvSpPr>
        <p:spPr>
          <a:xfrm>
            <a:off x="5786280" y="2857680"/>
            <a:ext cx="1500480" cy="9284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Стрелка вправо 47"/>
          <p:cNvSpPr/>
          <p:nvPr/>
        </p:nvSpPr>
        <p:spPr>
          <a:xfrm>
            <a:off x="3286080" y="4929120"/>
            <a:ext cx="407196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 и 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22"/>
          <p:cNvSpPr/>
          <p:nvPr/>
        </p:nvSpPr>
        <p:spPr>
          <a:xfrm>
            <a:off x="4572000" y="378612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9"/>
          <p:cNvSpPr/>
          <p:nvPr/>
        </p:nvSpPr>
        <p:spPr>
          <a:xfrm>
            <a:off x="714240" y="1500120"/>
            <a:ext cx="7929720" cy="18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мер ситуации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телефонный разговор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овый перевозчик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чем Вы возите этот груз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аботник транспортного отдела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00 за рей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П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Готов возить з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1100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ТО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к, направление Ваше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(кладет трубку)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тлично! Сэкономил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00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зже оказывается, что НП работает на «упрощенке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ьный эффект от смены оператора =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785880" y="3714840"/>
            <a:ext cx="7929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работники компании должны быть вашими «агентами по снижению издержек на местах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ономически обоснованно вести переговоры с партнер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10" name="Скругленный прямоугольник 8"/>
          <p:cNvSpPr/>
          <p:nvPr/>
        </p:nvSpPr>
        <p:spPr>
          <a:xfrm>
            <a:off x="3071880" y="1428840"/>
            <a:ext cx="285732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571680" y="214308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 от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Прямая со стрелкой 14"/>
          <p:cNvCxnSpPr/>
          <p:nvPr/>
        </p:nvCxnSpPr>
        <p:spPr>
          <a:xfrm flipH="1">
            <a:off x="4498200" y="1785600"/>
            <a:ext cx="252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3" name="Прямоугольник 19"/>
          <p:cNvSpPr/>
          <p:nvPr/>
        </p:nvSpPr>
        <p:spPr>
          <a:xfrm>
            <a:off x="500040" y="200016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рабо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ценари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4" name="Прямая со стрелкой 21"/>
          <p:cNvCxnSpPr/>
          <p:nvPr/>
        </p:nvCxnSpPr>
        <p:spPr>
          <a:xfrm flipH="1">
            <a:off x="4498200" y="3071880"/>
            <a:ext cx="2520" cy="216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5" name="Прямоугольник 22"/>
          <p:cNvSpPr/>
          <p:nvPr/>
        </p:nvSpPr>
        <p:spPr>
          <a:xfrm>
            <a:off x="2928960" y="264312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утсорс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4786200" y="214308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нде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2928960" y="214308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инжинир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571680" y="264312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хранение как е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4786200" y="264312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вариа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5716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теря гибк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30"/>
          <p:cNvSpPr/>
          <p:nvPr/>
        </p:nvSpPr>
        <p:spPr>
          <a:xfrm>
            <a:off x="500040" y="328608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1"/>
          <p:cNvSpPr/>
          <p:nvPr/>
        </p:nvSpPr>
        <p:spPr>
          <a:xfrm>
            <a:off x="2928960" y="392904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ират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44290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хватка персона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2928960" y="342900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ст зат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5716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жение каче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44290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р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7" name="Прямая со стрелкой 36"/>
          <p:cNvCxnSpPr/>
          <p:nvPr/>
        </p:nvCxnSpPr>
        <p:spPr>
          <a:xfrm flipH="1">
            <a:off x="4500360" y="435744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8" name="Прямоугольник 37"/>
          <p:cNvSpPr/>
          <p:nvPr/>
        </p:nvSpPr>
        <p:spPr>
          <a:xfrm>
            <a:off x="500040" y="4572000"/>
            <a:ext cx="8001000" cy="580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Скругленный прямоугольник 38"/>
          <p:cNvSpPr/>
          <p:nvPr/>
        </p:nvSpPr>
        <p:spPr>
          <a:xfrm>
            <a:off x="2928960" y="5357880"/>
            <a:ext cx="3214800" cy="64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 программы 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0" name="Прямая со стрелкой 42"/>
          <p:cNvCxnSpPr/>
          <p:nvPr/>
        </p:nvCxnSpPr>
        <p:spPr>
          <a:xfrm flipH="1">
            <a:off x="4500360" y="514332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хема 27" descr=""/>
          <p:cNvPicPr/>
          <p:nvPr/>
        </p:nvPicPr>
        <p:blipFill>
          <a:blip r:embed="rId1"/>
          <a:stretch/>
        </p:blipFill>
        <p:spPr>
          <a:xfrm>
            <a:off x="139680" y="1785960"/>
            <a:ext cx="8791560" cy="407196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"/>
          <p:cNvPicPr/>
          <p:nvPr/>
        </p:nvPicPr>
        <p:blipFill>
          <a:blip r:embed="rId4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38"/>
          <p:cNvSpPr/>
          <p:nvPr/>
        </p:nvSpPr>
        <p:spPr>
          <a:xfrm>
            <a:off x="571680" y="1643040"/>
            <a:ext cx="1714320" cy="91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Стрелка углом 28"/>
          <p:cNvSpPr/>
          <p:nvPr/>
        </p:nvSpPr>
        <p:spPr>
          <a:xfrm flipH="1" rot="10800000">
            <a:off x="1285920" y="271440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Стрелка углом 39"/>
          <p:cNvSpPr/>
          <p:nvPr/>
        </p:nvSpPr>
        <p:spPr>
          <a:xfrm flipH="1" flipV="1" rot="10800000">
            <a:off x="5572080" y="200016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кругленный прямоугольник 40"/>
          <p:cNvSpPr/>
          <p:nvPr/>
        </p:nvSpPr>
        <p:spPr>
          <a:xfrm>
            <a:off x="6786720" y="1785960"/>
            <a:ext cx="1714320" cy="118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ля принятия реш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3:02Z</dcterms:created>
  <dc:creator>Sergey V. Chadin</dc:creator>
  <dc:description/>
  <dc:language>en-US</dc:language>
  <cp:lastModifiedBy>LEGION</cp:lastModifiedBy>
  <dcterms:modified xsi:type="dcterms:W3CDTF">2016-01-05T12:44:10Z</dcterms:modified>
  <cp:revision>637</cp:revision>
  <dc:subject>Оптимизация операционной деятельности</dc:subject>
  <dc:title>Где теряем деньги?</dc:title>
</cp:coreProperties>
</file>