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C24C-ECEF-4EEA-A162-D4874B1008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 формы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к 8 класса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ёнов Григори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 формы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к 8 класса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сёнов Григорий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ые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успешности соединения в предпринимательстве его основных видов является деятельность итальянского семейства Меди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еще в 15 веке во Флоренции они организовали производство сукна, горное дело, широко развернули торговлю и операции с деньгами (предлагали людям среднего достатка дешевые креди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ст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ом успешности соединения в предпринимательстве его основных видов является деятельность итальянского семейства Меди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еще в 15 веке во Флоренции они организовали производство сукна, горное дело, широко развернули торговлю и операции с деньгами (предлагали людям среднего достатка дешевые креди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предпри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едприятие, которым владеет и управляет один человек (он единственный хозяин, но вправе нанимать других работни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предприниматель несет личную ответственность за успех или неудачу предприяти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окий воин в поле бизнеса – слабый воин. Поэтому многие предприниматели стремятся объединить свои средства и усил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ое пред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едприятие, которым владеет и управляет один человек (он единственный хозяин, но вправе нанимать других работник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предприниматель несет личную ответственность за успех или неудачу предприяти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окий воин в поле бизнеса – слабый воин. Поэтому многие предприниматели стремятся объединить свои средства и усилия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обровольное объединение двух или более человек для организации своего дела и совместн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объединяют свои деньги, способности и, управляя предприятием, несут коллективную ответственность за результаты его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и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добровольное объединение двух или более человек для организации своего дела и совместн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объединяют свои деньги, способности и, управляя предприятием, несут коллективную ответственность за результаты ег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едприятие, собственником которого выступают держатели а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оличеству участников и размерам объединенных денежных ресурсов это самое крупное предприя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о самое дорогое и сложное по организации, но имеет большие возможности для увеличения денежных средств и расширения сферы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едприятие, собственником которого выступают держатели а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оличеству участников и размерам объединенных денежных ресурсов это самое крупное предприят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самое дорогое и сложное по организации, но имеет большие возможности для увеличения денежных средств и расширения сферы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 (предпринимательство) – экономическая деятельность, направленная на получение прибы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 (предпринимательство) – экономическая деятельность, направленная на получение прибы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рмула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а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а предприним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, занимающегося бизнесом, отличает знание своего дела, смелость, инициативность, созидательная сила вместе со стремлением к прибыли и готовности рисковать, неся убы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оящего бизнесмена без своего дела не быв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а предприним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, занимающегося бизнесом, отличает знание своего дела, смелость, инициативность, созидательная сила вместе со стремлением к прибыли и готовности рисковать, неся убы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оящего бизнесмена без своего дела не быв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й вид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производственного предпринимательства составляет производство различных экономических продуктов, необходимых потребител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амый трудный вид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ю надо много знать и уметь для того, чтобы организовать эффективное произво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вид предпринимательства наиболее значим для экономики и обществ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й вид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у производственного предпринимательства составляет производство различных экономических продуктов, необходимых потребит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амый трудный вид бизне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елю надо много знать и уметь для того, чтобы организовать эффективное производ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вид предпринимательства наиболее значим для экономики и общества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ый  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ое правило торгового бизнеса: купил подешевле – продал подоро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йствительности этот бизнес требует много усилий, забот и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ый  бизн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лотое правило торгового бизнеса: купил подешевле – продал подоро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ействительности этот бизнес требует много усилий, забот и р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ирамида торгового бизнеса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амида торгового бизнеса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вид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собый вид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может служить предоставление предпринимателем денег в долг за определенное вознагра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вид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собый вид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ом может служить предоставление предпринимателем денег в долг за определенное вознагражд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3C4-28DE-4984-B0D1-B50A08A9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3029-7875-400C-91A7-254A6664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832-1B8F-4098-8AF0-CADC709A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ACF5-4851-4C6D-8DA1-718FA42E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D9AC-BA06-4CAD-A9F4-2B32525C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A520-FE74-4C7A-9503-AEF2D0B3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6EE9-CAD8-497B-AF40-D6DE53F2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9889-AA1B-4DEA-9609-C8510DA8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46A-09E0-4879-80F8-F7940B4D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2F1-C902-4888-9FA8-8C59D948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A0F4-7A0C-4943-8F37-CD3FED86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DED0-24ED-4461-A585-FC3D333A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551B-34B5-4C8F-93CF-037E21CE941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и формы бизне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4360" y="4723920"/>
            <a:ext cx="6400800" cy="175284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одготови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ченик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класса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Аксёнов Григорий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547640" y="2708280"/>
            <a:ext cx="75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вестные лич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ом успешности соединения в предпринимательстве его основных видов является деятельность итальянского семейства Меди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и еще в 15 веке во Флоренции они организовали производство сукна, горное дело, широко развернули торговлю и операции с деньгами (предлагали людям среднего достатка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ешевые креди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Organization Chart 6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102" name="_s4100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4101"/>
            <p:cNvCxnSpPr>
              <a:stCxn id="106" idx="0"/>
              <a:endCxn id="104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4102"/>
            <p:cNvCxnSpPr>
              <a:stCxn id="108" idx="0"/>
              <a:endCxn id="104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4103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Формы бизнес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4104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ндивидуаль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едприят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105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овариществ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4106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кционерно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бществ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дивидуальное предприят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предприятие, которым владеет и управляет один человек (он единственный хозяин, но вправе нанимать других работников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нако предприниматель несет личную ответственность за успех или неудачу предприятия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окий воин в поле бизнеса – слабый воин. Поэтому многие предприниматели стремятся объединить свои средства и усилия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варищ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добровольное объединение двух или более человек для организации своего дела и совместной рабо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стники объединяют свои деньги, способности и, управляя предприятием, несут коллективную ответственность за результаты его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предприятие, собственником которого выступают держатели ак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количеству участников и размерам объединенных денежных ресурсов это самое крупное предприят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о самое дорогое и сложное по организации, но имеет большие возможности для увеличения денежных средств и расширения сферы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57120" y="2214360"/>
            <a:ext cx="8429760" cy="15714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знес (предпринимательство) – экономическая деятельность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авленная на получени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был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ула бизне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Diagram 7"/>
          <p:cNvGrpSpPr/>
          <p:nvPr/>
        </p:nvGrpSpPr>
        <p:grpSpPr>
          <a:xfrm>
            <a:off x="2171160" y="1920960"/>
            <a:ext cx="4728600" cy="4095360"/>
            <a:chOff x="2171160" y="1920960"/>
            <a:chExt cx="4728600" cy="4095360"/>
          </a:xfrm>
        </p:grpSpPr>
        <p:sp>
          <p:nvSpPr>
            <p:cNvPr id="55" name="_s1028"/>
            <p:cNvSpPr/>
            <p:nvPr/>
          </p:nvSpPr>
          <p:spPr>
            <a:xfrm>
              <a:off x="3092400" y="1920960"/>
              <a:ext cx="2886120" cy="2884320"/>
            </a:xfrm>
            <a:custGeom>
              <a:avLst/>
              <a:gdLst>
                <a:gd name="textAreaLeft" fmla="*/ 0 w 2886120"/>
                <a:gd name="textAreaRight" fmla="*/ 2886480 w 2886120"/>
                <a:gd name="textAreaTop" fmla="*/ 0 h 2884320"/>
                <a:gd name="textAreaBottom" fmla="*/ 2884680 h 28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29"/>
            <p:cNvSpPr/>
            <p:nvPr/>
          </p:nvSpPr>
          <p:spPr>
            <a:xfrm rot="7200000">
              <a:off x="3486600" y="2602440"/>
              <a:ext cx="2884320" cy="288612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6120"/>
                <a:gd name="textAreaBottom" fmla="*/ 2886480 h 28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0"/>
            <p:cNvSpPr/>
            <p:nvPr/>
          </p:nvSpPr>
          <p:spPr>
            <a:xfrm rot="14400000">
              <a:off x="2699640" y="2602440"/>
              <a:ext cx="2884320" cy="288576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5760"/>
                <a:gd name="textAreaBottom" fmla="*/ 2885760 h 28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1"/>
            <p:cNvSpPr/>
            <p:nvPr/>
          </p:nvSpPr>
          <p:spPr>
            <a:xfrm>
              <a:off x="5326200" y="2448000"/>
              <a:ext cx="11570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) И по завершению дела В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лучаете свои деньги обратно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о уже с прибыль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2"/>
            <p:cNvSpPr/>
            <p:nvPr/>
          </p:nvSpPr>
          <p:spPr>
            <a:xfrm>
              <a:off x="3959280" y="482112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 каждый раз пункт 1 и 2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вторяются –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акова формула бизне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3"/>
            <p:cNvSpPr/>
            <p:nvPr/>
          </p:nvSpPr>
          <p:spPr>
            <a:xfrm>
              <a:off x="2585880" y="244944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) Вы вкладывает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еньги в дел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чества предпринимате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ка, занимающегося бизнесом, отличает знание своего дела, смелость, инициативность, созидательная сила вместе со стремлением к прибыли и готовности рисковать, неся убыт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стоящего бизнесмена без своего дела не быв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Organization Chart 7"/>
          <p:cNvGrpSpPr/>
          <p:nvPr/>
        </p:nvGrpSpPr>
        <p:grpSpPr>
          <a:xfrm>
            <a:off x="457200" y="274680"/>
            <a:ext cx="8229240" cy="5849280"/>
            <a:chOff x="457200" y="274680"/>
            <a:chExt cx="8229240" cy="5849280"/>
          </a:xfrm>
        </p:grpSpPr>
        <p:cxnSp>
          <p:nvCxnSpPr>
            <p:cNvPr id="66" name="_s2052"/>
            <p:cNvCxnSpPr>
              <a:stCxn id="67" idx="0"/>
              <a:endCxn id="68" idx="2"/>
            </p:cNvCxnSpPr>
            <p:nvPr/>
          </p:nvCxnSpPr>
          <p:spPr>
            <a:xfrm flipV="1" rot="16200000">
              <a:off x="5680440" y="1504080"/>
              <a:ext cx="1170360" cy="338904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2053"/>
            <p:cNvCxnSpPr>
              <a:stCxn id="70" idx="0"/>
              <a:endCxn id="68" idx="2"/>
            </p:cNvCxnSpPr>
            <p:nvPr/>
          </p:nvCxnSpPr>
          <p:spPr>
            <a:xfrm flipV="1" rot="16200000">
              <a:off x="4833360" y="2351160"/>
              <a:ext cx="1170360" cy="169488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2054"/>
            <p:cNvCxnSpPr>
              <a:stCxn id="72" idx="0"/>
              <a:endCxn id="68" idx="2"/>
            </p:cNvCxnSpPr>
            <p:nvPr/>
          </p:nvCxnSpPr>
          <p:spPr>
            <a:xfrm flipV="1">
              <a:off x="4571280" y="2613600"/>
              <a:ext cx="2520" cy="117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2055"/>
            <p:cNvCxnSpPr>
              <a:stCxn id="74" idx="0"/>
              <a:endCxn id="68" idx="2"/>
            </p:cNvCxnSpPr>
            <p:nvPr/>
          </p:nvCxnSpPr>
          <p:spPr>
            <a:xfrm flipH="1" flipV="1" rot="5400000">
              <a:off x="3139560" y="2351520"/>
              <a:ext cx="1170360" cy="169488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2056"/>
            <p:cNvCxnSpPr>
              <a:stCxn id="76" idx="0"/>
              <a:endCxn id="68" idx="2"/>
            </p:cNvCxnSpPr>
            <p:nvPr/>
          </p:nvCxnSpPr>
          <p:spPr>
            <a:xfrm flipH="1" flipV="1" rot="5400000">
              <a:off x="2293200" y="1505160"/>
              <a:ext cx="1170360" cy="338724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" name="_s2057"/>
            <p:cNvSpPr/>
            <p:nvPr/>
          </p:nvSpPr>
          <p:spPr>
            <a:xfrm>
              <a:off x="3845520" y="27468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Виды бизнес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8"/>
            <p:cNvSpPr/>
            <p:nvPr/>
          </p:nvSpPr>
          <p:spPr>
            <a:xfrm>
              <a:off x="45720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изводствен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9"/>
            <p:cNvSpPr/>
            <p:nvPr/>
          </p:nvSpPr>
          <p:spPr>
            <a:xfrm>
              <a:off x="215136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оргов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2060"/>
            <p:cNvSpPr/>
            <p:nvPr/>
          </p:nvSpPr>
          <p:spPr>
            <a:xfrm>
              <a:off x="384552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инансов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2061"/>
            <p:cNvSpPr/>
            <p:nvPr/>
          </p:nvSpPr>
          <p:spPr>
            <a:xfrm>
              <a:off x="554004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трахов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2062"/>
            <p:cNvSpPr/>
            <p:nvPr/>
          </p:nvSpPr>
          <p:spPr>
            <a:xfrm>
              <a:off x="723420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средническ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ственный вид бизне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у производственного предпринимательства составляет производство различных экономических продуктов, необходимых потребител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самый трудный вид бизне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ителю надо много знать и уметь для того, чтобы организовать эффективное производст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т вид предпринимательства наиболее значим для экономики и общества в цел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рговый  бизне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олотое правило торгового бизнес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упил подешевле – продал подорож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ействительности этот бизнес требует много усилий, забот и рис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рамида торгового бизнес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Diagram 6"/>
          <p:cNvGrpSpPr/>
          <p:nvPr/>
        </p:nvGrpSpPr>
        <p:grpSpPr>
          <a:xfrm>
            <a:off x="2308320" y="1903320"/>
            <a:ext cx="4527360" cy="3921120"/>
            <a:chOff x="2308320" y="1903320"/>
            <a:chExt cx="4527360" cy="3921120"/>
          </a:xfrm>
        </p:grpSpPr>
        <p:sp>
          <p:nvSpPr>
            <p:cNvPr id="86" name="_s3076"/>
            <p:cNvSpPr/>
            <p:nvPr/>
          </p:nvSpPr>
          <p:spPr>
            <a:xfrm flipV="1">
              <a:off x="4119480" y="1903320"/>
              <a:ext cx="905040" cy="784080"/>
            </a:xfrm>
            <a:custGeom>
              <a:avLst/>
              <a:gdLst>
                <a:gd name="textAreaLeft" fmla="*/ 324720 w 905040"/>
                <a:gd name="textAreaRight" fmla="*/ 580320 w 905040"/>
                <a:gd name="textAreaTop" fmla="*/ 281160 h 784080"/>
                <a:gd name="textAreaBottom" fmla="*/ 502920 h 78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емесленный бизнес порождал торговый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едь производимые товары надо было продавать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3077"/>
            <p:cNvSpPr/>
            <p:nvPr/>
          </p:nvSpPr>
          <p:spPr>
            <a:xfrm flipV="1">
              <a:off x="3666960" y="2686680"/>
              <a:ext cx="1810080" cy="784440"/>
            </a:xfrm>
            <a:custGeom>
              <a:avLst/>
              <a:gdLst>
                <a:gd name="textAreaLeft" fmla="*/ 397800 w 1810080"/>
                <a:gd name="textAreaRight" fmla="*/ 1412280 w 1810080"/>
                <a:gd name="textAreaTop" fmla="*/ 172440 h 784440"/>
                <a:gd name="textAreaBottom" fmla="*/ 612000 h 78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орговое предпринимательство тесно связано с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уплей-продажей товаров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078"/>
            <p:cNvSpPr/>
            <p:nvPr/>
          </p:nvSpPr>
          <p:spPr>
            <a:xfrm flipV="1">
              <a:off x="3213000" y="3471840"/>
              <a:ext cx="2718000" cy="784080"/>
            </a:xfrm>
            <a:custGeom>
              <a:avLst/>
              <a:gdLst>
                <a:gd name="textAreaLeft" fmla="*/ 471600 w 2718000"/>
                <a:gd name="textAreaRight" fmla="*/ 2246400 w 2718000"/>
                <a:gd name="textAreaTop" fmla="*/ 136080 h 784080"/>
                <a:gd name="textAreaBottom" fmla="*/ 648000 h 78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плата труда торговц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3079"/>
            <p:cNvSpPr/>
            <p:nvPr/>
          </p:nvSpPr>
          <p:spPr>
            <a:xfrm flipV="1">
              <a:off x="2760480" y="4255200"/>
              <a:ext cx="3622680" cy="784440"/>
            </a:xfrm>
            <a:custGeom>
              <a:avLst/>
              <a:gdLst>
                <a:gd name="textAreaLeft" fmla="*/ 545040 w 3622680"/>
                <a:gd name="textAreaRight" fmla="*/ 3077640 w 3622680"/>
                <a:gd name="textAreaTop" fmla="*/ 118080 h 784440"/>
                <a:gd name="textAreaBottom" fmla="*/ 666360 h 78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оставка и хранение товар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3080"/>
            <p:cNvSpPr/>
            <p:nvPr/>
          </p:nvSpPr>
          <p:spPr>
            <a:xfrm flipV="1">
              <a:off x="2308320" y="5040360"/>
              <a:ext cx="4527360" cy="784080"/>
            </a:xfrm>
            <a:custGeom>
              <a:avLst/>
              <a:gdLst>
                <a:gd name="textAreaLeft" fmla="*/ 618120 w 4527360"/>
                <a:gd name="textAreaRight" fmla="*/ 3909240 w 4527360"/>
                <a:gd name="textAreaTop" fmla="*/ 106920 h 784080"/>
                <a:gd name="textAreaBottom" fmla="*/ 677160 h 78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одержание торгового помещ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инансовый вид бизне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особый вид предприниматель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ом может служить предоставление предпринимателем денег в долг за определенное вознагражд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8:28:28Z</dcterms:created>
  <dc:creator>Саша</dc:creator>
  <dc:description/>
  <dc:language>en-US</dc:language>
  <cp:lastModifiedBy>LEGION</cp:lastModifiedBy>
  <dcterms:modified xsi:type="dcterms:W3CDTF">2016-01-05T12:43:54Z</dcterms:modified>
  <cp:revision>12</cp:revision>
  <dc:subject/>
  <dc:title>Виды и формы бизнеса</dc:title>
</cp:coreProperties>
</file>