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64F2-29EB-4A0A-A960-50A9015FF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еник 8 класса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сёнов Григорий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ые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дешевые кредит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предпри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вари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редприятие, собственником которого выступают держатели а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(предпринимательство) – экономическая деятельность, направленная на получение прибы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ула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а предпринима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оящего бизнесмена без своего дела не быва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енн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амый трудный вид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вид предпринимательства наиболее значим для экономики и общества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ый  бизн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лотое правило торгового бизнеса: купил подешевле – продал подоро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йствительности этот бизнес требует много усилий, забот и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торгового бизнес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вид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собый вид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5FD1-CD87-44EB-8CD3-06494D9B2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D21-5A8D-44E4-B04F-3928BBCF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F3DD-4193-45A6-A3AC-444BFDB5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140-8364-460B-BE34-96600724C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22C9-8E10-4670-9458-ECF8C1BD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6B55-A71D-432E-96C4-9C2231EA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576-07E0-419E-B119-7AFC4E13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8C6-96B7-4845-8D25-D76AED9E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44B-3FA4-4D72-BD01-1547DC41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B3F9-6075-4DBB-9A9C-B1A41359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889-7E52-41F2-A833-E76127ED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26B-A8FC-4127-998A-68087C6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F701-A9FB-49F9-8CE5-D3A1143B0CF6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иды и формы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84360" y="4723920"/>
            <a:ext cx="6400800" cy="175284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одготовил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еник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8</a:t>
            </a: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класса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Аксёнов Григорий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547640" y="2708280"/>
            <a:ext cx="75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естные лич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ром успешности соединения в предпринимательстве его основных видов является деятельность итальянского семейства Медич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и еще в 15 веке во Флоренции они организовали производство сукна, горное дело, широко развернули торговлю и операции с деньгами (предлагали людям среднего достатка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шевые кредит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Organization Chart 6"/>
          <p:cNvGrpSpPr/>
          <p:nvPr/>
        </p:nvGrpSpPr>
        <p:grpSpPr>
          <a:xfrm>
            <a:off x="431640" y="239760"/>
            <a:ext cx="8208360" cy="5830560"/>
            <a:chOff x="431640" y="239760"/>
            <a:chExt cx="8208360" cy="5830560"/>
          </a:xfrm>
        </p:grpSpPr>
        <p:cxnSp>
          <p:nvCxnSpPr>
            <p:cNvPr id="102" name="_s4100"/>
            <p:cNvCxnSpPr>
              <a:stCxn id="103" idx="0"/>
              <a:endCxn id="104" idx="2"/>
            </p:cNvCxnSpPr>
            <p:nvPr/>
          </p:nvCxnSpPr>
          <p:spPr>
            <a:xfrm flipV="1" rot="16200000">
              <a:off x="5388840" y="171756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5" name="_s4101"/>
            <p:cNvCxnSpPr>
              <a:stCxn id="106" idx="0"/>
              <a:endCxn id="104" idx="2"/>
            </p:cNvCxnSpPr>
            <p:nvPr/>
          </p:nvCxnSpPr>
          <p:spPr>
            <a:xfrm flipV="1">
              <a:off x="4536000" y="2571120"/>
              <a:ext cx="3600" cy="116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7" name="_s4102"/>
            <p:cNvCxnSpPr>
              <a:stCxn id="108" idx="0"/>
              <a:endCxn id="104" idx="2"/>
            </p:cNvCxnSpPr>
            <p:nvPr/>
          </p:nvCxnSpPr>
          <p:spPr>
            <a:xfrm flipH="1" flipV="1" rot="5400000">
              <a:off x="2516040" y="1717920"/>
              <a:ext cx="1166760" cy="287352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4" name="_s4103"/>
            <p:cNvSpPr/>
            <p:nvPr/>
          </p:nvSpPr>
          <p:spPr>
            <a:xfrm>
              <a:off x="3304440" y="23976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Формы бизнес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4104"/>
            <p:cNvSpPr/>
            <p:nvPr/>
          </p:nvSpPr>
          <p:spPr>
            <a:xfrm>
              <a:off x="4316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Индивидуально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4105"/>
            <p:cNvSpPr/>
            <p:nvPr/>
          </p:nvSpPr>
          <p:spPr>
            <a:xfrm>
              <a:off x="330444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Товари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4106"/>
            <p:cNvSpPr/>
            <p:nvPr/>
          </p:nvSpPr>
          <p:spPr>
            <a:xfrm>
              <a:off x="6177600" y="3738240"/>
              <a:ext cx="2462400" cy="23320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Акционерное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общество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дивидуальное предприят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которым владеет и управляет один человек (он единственный хозяин, но вправе нанимать других работников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нако предприниматель несет личную ответственность за успех или неудачу предприяти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окий воин в поле бизнеса – слабый воин. Поэтому многие предприниматели стремятся объединить свои средства и усилия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вари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добровольное объединение двух или более человек для организации своего дела и совместной рабо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и объединяют свои деньги, способности и, управляя предприятием, несут коллективную ответственность за результаты его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предприятие, собственником которого выступают держатели ак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 количеству участников и размерам объединенных денежных ресурсов это самое крупное предприят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о самое дорогое и сложное по организации, но имеет большие возможности для увеличения денежных средств и расширения сферы деятельност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7120" y="2214360"/>
            <a:ext cx="8429760" cy="15714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изнес (предпринимательство) – экономическая деятельность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авленная на получени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был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ула бизне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Diagram 7"/>
          <p:cNvGrpSpPr/>
          <p:nvPr/>
        </p:nvGrpSpPr>
        <p:grpSpPr>
          <a:xfrm>
            <a:off x="2171160" y="1920960"/>
            <a:ext cx="4728600" cy="4095360"/>
            <a:chOff x="2171160" y="1920960"/>
            <a:chExt cx="4728600" cy="4095360"/>
          </a:xfrm>
        </p:grpSpPr>
        <p:sp>
          <p:nvSpPr>
            <p:cNvPr id="55" name="_s1028"/>
            <p:cNvSpPr/>
            <p:nvPr/>
          </p:nvSpPr>
          <p:spPr>
            <a:xfrm>
              <a:off x="3092400" y="1920960"/>
              <a:ext cx="2886120" cy="2884320"/>
            </a:xfrm>
            <a:custGeom>
              <a:avLst/>
              <a:gdLst>
                <a:gd name="textAreaLeft" fmla="*/ 0 w 2886120"/>
                <a:gd name="textAreaRight" fmla="*/ 2886480 w 2886120"/>
                <a:gd name="textAreaTop" fmla="*/ 0 h 2884320"/>
                <a:gd name="textAreaBottom" fmla="*/ 2884680 h 288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1029"/>
            <p:cNvSpPr/>
            <p:nvPr/>
          </p:nvSpPr>
          <p:spPr>
            <a:xfrm rot="7200000">
              <a:off x="3486600" y="2602440"/>
              <a:ext cx="2884320" cy="288612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6120"/>
                <a:gd name="textAreaBottom" fmla="*/ 2886480 h 288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0"/>
            <p:cNvSpPr/>
            <p:nvPr/>
          </p:nvSpPr>
          <p:spPr>
            <a:xfrm rot="14400000">
              <a:off x="2699640" y="2602440"/>
              <a:ext cx="2884320" cy="2885760"/>
            </a:xfrm>
            <a:custGeom>
              <a:avLst/>
              <a:gdLst>
                <a:gd name="textAreaLeft" fmla="*/ 0 w 2884320"/>
                <a:gd name="textAreaRight" fmla="*/ 2884680 w 2884320"/>
                <a:gd name="textAreaTop" fmla="*/ 0 h 2885760"/>
                <a:gd name="textAreaBottom" fmla="*/ 2885760 h 28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1031"/>
            <p:cNvSpPr/>
            <p:nvPr/>
          </p:nvSpPr>
          <p:spPr>
            <a:xfrm>
              <a:off x="5326200" y="2448000"/>
              <a:ext cx="11570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) И по завершению дела Вы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лучаете свои деньги обратно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но уже с прибыль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2"/>
            <p:cNvSpPr/>
            <p:nvPr/>
          </p:nvSpPr>
          <p:spPr>
            <a:xfrm>
              <a:off x="3959280" y="482112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И каждый раз пункт 1 и 2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вторяются –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акова формула бизне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_s1033"/>
            <p:cNvSpPr/>
            <p:nvPr/>
          </p:nvSpPr>
          <p:spPr>
            <a:xfrm>
              <a:off x="2585880" y="2449440"/>
              <a:ext cx="11574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1) Вы вкладывает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еньги в дел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чества предпринимате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ловека, занимающегося бизнесом, отличает знание своего дела, смелость, инициативность, созидательная сила вместе со стремлением к прибыли и готовности рисковать, неся убыт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стоящего бизнесмена без своего дела не быва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Organization Chart 7"/>
          <p:cNvGrpSpPr/>
          <p:nvPr/>
        </p:nvGrpSpPr>
        <p:grpSpPr>
          <a:xfrm>
            <a:off x="457200" y="274680"/>
            <a:ext cx="8229240" cy="5849280"/>
            <a:chOff x="457200" y="274680"/>
            <a:chExt cx="8229240" cy="5849280"/>
          </a:xfrm>
        </p:grpSpPr>
        <p:cxnSp>
          <p:nvCxnSpPr>
            <p:cNvPr id="66" name="_s2052"/>
            <p:cNvCxnSpPr>
              <a:stCxn id="67" idx="0"/>
              <a:endCxn id="68" idx="2"/>
            </p:cNvCxnSpPr>
            <p:nvPr/>
          </p:nvCxnSpPr>
          <p:spPr>
            <a:xfrm flipV="1" rot="16200000">
              <a:off x="5680440" y="1504080"/>
              <a:ext cx="1170360" cy="33890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2053"/>
            <p:cNvCxnSpPr>
              <a:stCxn id="70" idx="0"/>
              <a:endCxn id="68" idx="2"/>
            </p:cNvCxnSpPr>
            <p:nvPr/>
          </p:nvCxnSpPr>
          <p:spPr>
            <a:xfrm flipV="1" rot="16200000">
              <a:off x="4833360" y="235116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2054"/>
            <p:cNvCxnSpPr>
              <a:stCxn id="72" idx="0"/>
              <a:endCxn id="68" idx="2"/>
            </p:cNvCxnSpPr>
            <p:nvPr/>
          </p:nvCxnSpPr>
          <p:spPr>
            <a:xfrm flipV="1">
              <a:off x="4571280" y="2613600"/>
              <a:ext cx="2520" cy="11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2055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3139560" y="2351520"/>
              <a:ext cx="1170360" cy="169488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2056"/>
            <p:cNvCxnSpPr>
              <a:stCxn id="76" idx="0"/>
              <a:endCxn id="68" idx="2"/>
            </p:cNvCxnSpPr>
            <p:nvPr/>
          </p:nvCxnSpPr>
          <p:spPr>
            <a:xfrm flipH="1" flipV="1" rot="5400000">
              <a:off x="2293200" y="1505160"/>
              <a:ext cx="1170360" cy="3387240"/>
            </a:xfrm>
            <a:prstGeom prst="bentConnector3">
              <a:avLst>
                <a:gd name="adj1" fmla="val 128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2057"/>
            <p:cNvSpPr/>
            <p:nvPr/>
          </p:nvSpPr>
          <p:spPr>
            <a:xfrm>
              <a:off x="3845520" y="27468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Виды бизне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8"/>
            <p:cNvSpPr/>
            <p:nvPr/>
          </p:nvSpPr>
          <p:spPr>
            <a:xfrm>
              <a:off x="457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оизводственн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9"/>
            <p:cNvSpPr/>
            <p:nvPr/>
          </p:nvSpPr>
          <p:spPr>
            <a:xfrm>
              <a:off x="215136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2060"/>
            <p:cNvSpPr/>
            <p:nvPr/>
          </p:nvSpPr>
          <p:spPr>
            <a:xfrm>
              <a:off x="384552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Финансовы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2061"/>
            <p:cNvSpPr/>
            <p:nvPr/>
          </p:nvSpPr>
          <p:spPr>
            <a:xfrm>
              <a:off x="554004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трахов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2062"/>
            <p:cNvSpPr/>
            <p:nvPr/>
          </p:nvSpPr>
          <p:spPr>
            <a:xfrm>
              <a:off x="7234200" y="3784320"/>
              <a:ext cx="1452240" cy="23396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2339640"/>
                <a:gd name="textAreaBottom" fmla="*/ 2269080 h 2339640"/>
              </a:gdLst>
              <a:ahLst/>
              <a:rect l="textAreaLeft" t="textAreaTop" r="textAreaRight" b="textAreaBottom"/>
              <a:pathLst>
                <a:path w="21600" h="34796">
                  <a:moveTo>
                    <a:pt x="3600" y="0"/>
                  </a:moveTo>
                  <a:arcTo wR="3600" hR="3600" stAng="16200000" swAng="-5400000"/>
                  <a:lnTo>
                    <a:pt x="0" y="31196"/>
                  </a:lnTo>
                  <a:arcTo wR="3600" hR="3600" stAng="10800000" swAng="-5400000"/>
                  <a:lnTo>
                    <a:pt x="18000" y="347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среднически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зводственн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у производственного предпринимательства составляет производство различных экономических продуктов, необходимых потребител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самый трудный вид бизне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водителю надо много знать и уметь для того, чтобы организовать эффективное производств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т вид предпринимательства наиболее значим для экономики и общества в цел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орговый  бизн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Золотое правило торгового бизнеса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упил подешевле – продал подорож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действительности этот бизнес требует много усилий, забот и рис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рамида торгового бизне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Diagram 6"/>
          <p:cNvGrpSpPr/>
          <p:nvPr/>
        </p:nvGrpSpPr>
        <p:grpSpPr>
          <a:xfrm>
            <a:off x="2308320" y="1903320"/>
            <a:ext cx="4527360" cy="3921120"/>
            <a:chOff x="2308320" y="1903320"/>
            <a:chExt cx="4527360" cy="3921120"/>
          </a:xfrm>
        </p:grpSpPr>
        <p:sp>
          <p:nvSpPr>
            <p:cNvPr id="86" name="_s3076"/>
            <p:cNvSpPr/>
            <p:nvPr/>
          </p:nvSpPr>
          <p:spPr>
            <a:xfrm flipV="1">
              <a:off x="4119480" y="1903320"/>
              <a:ext cx="905040" cy="784080"/>
            </a:xfrm>
            <a:custGeom>
              <a:avLst/>
              <a:gdLst>
                <a:gd name="textAreaLeft" fmla="*/ 324720 w 905040"/>
                <a:gd name="textAreaRight" fmla="*/ 580320 w 905040"/>
                <a:gd name="textAreaTop" fmla="*/ 281160 h 784080"/>
                <a:gd name="textAreaBottom" fmla="*/ 50292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емесленный бизнес порождал торговый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едь производимые товары надо было продавать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3077"/>
            <p:cNvSpPr/>
            <p:nvPr/>
          </p:nvSpPr>
          <p:spPr>
            <a:xfrm flipV="1">
              <a:off x="3666960" y="2686680"/>
              <a:ext cx="1810080" cy="784440"/>
            </a:xfrm>
            <a:custGeom>
              <a:avLst/>
              <a:gdLst>
                <a:gd name="textAreaLeft" fmla="*/ 397800 w 1810080"/>
                <a:gd name="textAreaRight" fmla="*/ 1412280 w 1810080"/>
                <a:gd name="textAreaTop" fmla="*/ 172440 h 784440"/>
                <a:gd name="textAreaBottom" fmla="*/ 61200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орговое предпринимательство тесно связано 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уплей-продажей товаров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3078"/>
            <p:cNvSpPr/>
            <p:nvPr/>
          </p:nvSpPr>
          <p:spPr>
            <a:xfrm flipV="1">
              <a:off x="3213000" y="3471840"/>
              <a:ext cx="2718000" cy="784080"/>
            </a:xfrm>
            <a:custGeom>
              <a:avLst/>
              <a:gdLst>
                <a:gd name="textAreaLeft" fmla="*/ 471600 w 2718000"/>
                <a:gd name="textAreaRight" fmla="*/ 2246400 w 2718000"/>
                <a:gd name="textAreaTop" fmla="*/ 136080 h 784080"/>
                <a:gd name="textAreaBottom" fmla="*/ 64800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плата труда торгов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3079"/>
            <p:cNvSpPr/>
            <p:nvPr/>
          </p:nvSpPr>
          <p:spPr>
            <a:xfrm flipV="1">
              <a:off x="2760480" y="4255200"/>
              <a:ext cx="3622680" cy="784440"/>
            </a:xfrm>
            <a:custGeom>
              <a:avLst/>
              <a:gdLst>
                <a:gd name="textAreaLeft" fmla="*/ 545040 w 3622680"/>
                <a:gd name="textAreaRight" fmla="*/ 3077640 w 3622680"/>
                <a:gd name="textAreaTop" fmla="*/ 118080 h 784440"/>
                <a:gd name="textAreaBottom" fmla="*/ 666360 h 78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оставка и хранение товаро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3080"/>
            <p:cNvSpPr/>
            <p:nvPr/>
          </p:nvSpPr>
          <p:spPr>
            <a:xfrm flipV="1">
              <a:off x="2308320" y="5040360"/>
              <a:ext cx="4527360" cy="784080"/>
            </a:xfrm>
            <a:custGeom>
              <a:avLst/>
              <a:gdLst>
                <a:gd name="textAreaLeft" fmla="*/ 618120 w 4527360"/>
                <a:gd name="textAreaRight" fmla="*/ 3909240 w 4527360"/>
                <a:gd name="textAreaTop" fmla="*/ 106920 h 784080"/>
                <a:gd name="textAreaBottom" fmla="*/ 677160 h 78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Содержание торгового помещ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нансовый вид бизнес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особый вид предпринимательст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мером может служить предоставление предпринимателем денег в долг за определенное вознагражд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28:28Z</dcterms:created>
  <dc:creator>Саша</dc:creator>
  <dc:description/>
  <dc:language>en-US</dc:language>
  <cp:lastModifiedBy>LEGION</cp:lastModifiedBy>
  <dcterms:modified xsi:type="dcterms:W3CDTF">2016-01-05T12:43:54Z</dcterms:modified>
  <cp:revision>12</cp:revision>
  <dc:subject/>
  <dc:title>Виды и формы бизнеса</dc:title>
</cp:coreProperties>
</file>