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CD16-3152-46F3-9FC9-B80BE23036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ВАТЕЛЬНЫЕ ПРОЦЕССЫ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Теплова Лидия Ивановна, доцент кафедры педагогики и психологии, ауд.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430-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б,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e-mail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 teplova@psu.kareli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DAF9-D5A5-4C61-8129-7A5F085FE5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чества вним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бъ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я – число поступающих сигналов или протекающих ассоциаций, которые могут сохраниться в центре ясного сознания, приобретая доминирующий харак-тер. Объем внимания равен 7–9 единиц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Устойчив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лительность, с которой выделенные элементы могут сохранять свой доминантный характ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центрац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я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осредоточенность субъекта на объекте, сила поглощенности его этим объек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Распреде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имания – возможность одновремен-ного выполнения нескольких видов действ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Переключаем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пособность намеренно переносить внимание с одного объекта на друг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0426-3624-4853-A71A-7C9BFC401F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ь, виды памят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амя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запечатление (запись), сохранение и воспроизведение следов прошл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иды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DB63-9704-4BED-B628-CEDC257A7D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редний объем механической кратковременной памяти – 5–7 элементов после первого ч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ъем памяти варьируется в зависимости от способа предъявления: люди с доминирующей слуховой памятью лучше запоминают материал озвученный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ачество запоминания зависит от того, какая была поставлена цель, устано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и многократном предъявлении одного и того же материала число удерживаемых элементов постепенно возраст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Чем длиннее ряд, тем меньше число удерживаемых в памяти элементов. Так, ряд из 4–5 единиц запоминается на 100 %, а ряд из 9–10 единиц на 40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При запоминании длинного ряда лучше всего по памяти воспроизводятся его начало и конец («эффект края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0382-BF24-45A0-B469-D9DA942E37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ри сохранении заученного материала может обнаружится явление ретроактивной интерференции. Оно является результатом взаимодействия таких переменных, как сходство между двумя заданиями и объем заучиваемого материала. Если активность субъекта между заучиванием и припоминанием низка, то мнемический материал сохраняется луч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ри высокой активности субъекта непроизвольное запоминание может быть более продуктивным, чем произвольное запоминание, если последнее осуществляется на базе менее активной интеллектуальной деятельности субъ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Явление реминисценции. Под ним понимают отсроченное воспроизведение мнемических ответов, которые раньше субъект не мог воспроизвести, при условии, что с момента заучивания субъект не занимался дополнительным упражнением в выполнении данно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Эффект Зейгарник» – особенность непроизвольног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апоминания, которая заключается в том, что прерван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запоминается лучше, чем законченная или монотонная, т. к. прерванное намерение сохраняет состояние напряжения нервн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212F-B993-419B-A3E6-951AAD5962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Мышление, виды мышления. Развитие 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ыш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осредствованное и обобщенное отражение действительности в ее существенных связях и отношен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1D70-3FF3-4217-B21E-214DE41043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11BE-81CA-4870-A961-14FA57B2E4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уб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тепени проникновения в сущность явления, процес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выделять все существенные признаки понятия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ть связь по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ается в умении увидеть новую проблему, поставить новый вопрос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решить задачи своими силами творческий характер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ярко выражается в его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изменять намеченный план действий, если этот план 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яет условиям, которые обнаруживаются в ходе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стр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пособности находить правильные, обоснованные решения и реализовывать их в условиях дефицит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щущение. Виды ощущ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осприятие, свойства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нимание. Виды внимания, и его основные св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амять, виды памяти. Закономерности памя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ышление, виды мышления. Развитие мыш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Воображение, виды вооб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38F3-EC8B-4CFD-8186-9E54687C2D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Основные мыслительные процессы и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Анали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ительный процесс расчленения сложного объекта на составляющие его части или характерис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инте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ительная операция, позволяющая соединять части в цел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равн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ановление сходства и различия между объек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лассифик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пределение предметов (понятий) на классы согласно наиболее существенным признакам, присущим одним предметам (понятиям) и отличающим их от других предметов (поняти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B55D-6E72-4B7B-92BA-7C4FA4FC0D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Основные мыслительные процессы и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Умозаключ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форма мышления, при которой на основе нескольких суждений дается определенный вывод. Различают индуктивное, дедуктивное суждение и суждение по ана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тр Петрович всегда пьет чай с Федор Федоровиче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едор Федорович пьет сейчас ча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ьет ли Петр Петрович сейчас чай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се металлы пропускают электрический то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Железо – метал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пускает ли оно ток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мпозитор: песня = архитектор: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бобщ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енное объединение предметов и явлений по их общим и существенным призна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D64D-1140-4FA0-B19C-46B68EFDFE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ловесно-логическое мыш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истик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ят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логической категор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онятия; объем; связи и отношения данного понятия с другими.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содержани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имают совокупность существенных свойств класса предметов. По содержанию понятия бывают простые и слож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Объ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ятия – это количество объектов, охватываемых данным понятием. Выделяют: единичные понятия (равные единице), общие (более 1), категории (понятия широкой степени общности, например: энергия, матер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Связи и отнош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ятия с другими: различают родовые (понятия, отражающие существенные общие признаки класса предметов и включающие другие понятия меньшей степени общности) и видовые (понятия, подчиненные родовы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06BD-E2BA-4FD3-B58E-A2E6E41B0B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3EE9-1806-47A3-AACC-C484C9706E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уб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тепени проникновения в сущность явления, процес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выделять все существенные признаки понятия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ть связь по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ается в умении увидеть новую проблему, поставить новый вопрос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решить задачи своими силами творческий характер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ярко выражается в его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изменять намеченный план действий, если этот план 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яет условиям, которые обнаруживаются в ходе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стр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пособности находить правильные, обоснованные решения и реализовывать их в условиях дефицит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деляют 4 уровня усвоения понятия (Н. А. Менчинск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иффузно-рассеянный. На этом уровне у субъекта существует представление о том, что обозначает понятие, но признаки, отличающие данное понятие от других, он назвать не мож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зываются признаки, без дифференциации их на существенные и второстепен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ваиваются существенные признаки, называ-ются вторичные, но все это связано с единичным образом, который служил опорой при формировании понятия, например: картинка, иллюстрация. Таким образом, понятие как будто усвоено, но признаки не обобщаю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ятие усвоено полно и точ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F680-F665-413A-BB50-3766657E07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ражение, виды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оображ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форма психического отражения, состоящая в создании образов на основе ранее сформированных представл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и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ообра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субъектности: произвольное и непроизволь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тношению к возможному будущему: мечты, фант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уникальности: репродуктивное, творчес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2FD6-2118-4099-97E1-38F918579A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сновные функции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едставление действительности в образах и составление возможности пользоваться ими, решая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егулирование эмоциональ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Формирование внутреннего плана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ланирование и программирование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извольная регуляция познавательных процессов и состояний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2DFA-2C99-4117-9492-975A67B099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Формы синтеза представлений в процессах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Агглютин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оединение несоединяемых в реальности качеств, свойств, частей предм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Гипербол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величение или уменьшение предмета, изменение качества его ча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остр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дчеркивание каких-либо призна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хемат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глаживание различий предметов и выявление черт сходства между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Тип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ыделение существенного, повторяющегося в однородных явлениях и воплощение его в конкретном образ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688B-98C3-4E23-A716-74B74AFA53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ъясните следующий факт: если человек впервые идет по незнакомой местности, самостоятельно разыскивая дорогу, то он без труда находит ее вторично; если же он идет вместе со спутником, которому дорога хорошо известна, человеку трудно будет самостоятельно проделать этот путь в следующий раз.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ерно ли выражение: «Восприятие – это сумма ощущений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ченику предложили найти обобщающее слово к двум следующим понятиям: километр – метр. Чтобы выполнить верно задание, какое мыслительное действие должен произвести учени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одумайте, чем отличается память животного от памяти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Ребенку подготовительной группы предложили решить задачу: «Мама съела 3 конфеты, а сын 2. Сколько они съели конфет?» Мальчик отказался решать задачу, мотивируя тем, что так не бывает. Объясните поведение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8F05-C4C6-4C0D-A2D5-E8C1FC714D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ыготский Л. С. Психология воображения / Л. С. Выготский. – М., 199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ыготский Л. С. Развитие высших психических функций / Л. С. Выгот-ский. – М., 19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Грановская Р. М. Элементы практической психологии / Р. М. Грановская. – СПб.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Грегори Р. Л. Глаз и мозг. Психология зрительного восприятия /Р. Л. Грегори. – М., 197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емидов В. Е. Как мы видим то, что видим / В. Е. Демидов. – М.,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Лурия А. Р. Маленькая книжка о большой памяти / А. Р. Лурия. – М., 19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Лурия А. Р. Ощущение и восприятие: материалы к курсу по общей психологии / А. Р. Лурия. – М., 19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293E-83D0-4977-ABD0-DF508B14A7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щу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ри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дме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онст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целос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с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ере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минисц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нтер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ш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ыслительные процессы и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AC87-0400-4707-9AFD-352A76BDF3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Лурия А. Р. Внимание. Память. Материалы к курсу по общей психологии / А. Р. Лурия. – М., 19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тухов В. В. Психология мышления: учебно-методическое пособие / В. В. Петухов. – М.,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Платонов К. К. Занимательная психология / К. К. Платонов. – М., 19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Познавательные процессы и способности в обучении / под ред. В. Д. Шадрикова. – М., 199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Психология ощущения и восприятия: хрестоматия: учебное пособие для вузов / под ред. Ю. Б. Гиппенрейтер, В. В. Любимова, М. Б. Михалевской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Психология памяти: хрестоматия / под ред. Ю. Б. Гиппенрейтер, В. Я. Романова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59B1-7191-4EE6-9640-04C1A6530E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щущение. Виды ощущений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ражение отдельных свойств предм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и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модальности) ощущений: обоняние, вкус, осязание, слух,  зр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а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щущ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5C56-BACF-4A9F-819A-6D077FAA30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риятие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ды и свойства вос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осприят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целостное отражение предметов в сознании человека при их непосредственном воздействии в данный момент на органы чувств. В акте восприятия присутствует определенное обоб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едущие свойства человеческого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Целос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бразы восприятия представляют собой целостные, законченные, предметно оформленные 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Предме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оспринимается не только комплекс свойств, а оценивается этот комплекс как определенный предмет: «стол», «дом»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EF87-550A-40EB-AE92-66F1286821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смысл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имание вещи одно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стан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збира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Структур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3820-87E1-40EC-A471-8E086CF7DB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FACB-B450-4456-B7BF-BD3D77806F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имание, виды и основные свойства внимани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ним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правленность и сосредоточенность человека на определенных объектах при одновременном отвлечении от друг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и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имания (основание: актив-ность личности) (Н. Ф. Добрын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D2C6-B64A-461A-98BA-80685F8E84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смысл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имание вещи одно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стан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збира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Структур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92D2-C3A7-4CDF-8816-953E39BB3C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F764-B673-4E53-9D31-E18A9D6B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0673-B41F-4FB9-8A97-FEB283C1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56EC-F492-4292-B788-87A83FC8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D17C-1C7A-43F4-9826-72E44CD3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EBCE-42E1-4FD7-913F-43A76317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A9E0-A231-4AB6-A51C-100FADF1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7EA0-67CC-4C5B-A60A-46551B4D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94B0-3234-44BF-A63C-92F57FD5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DCE4-9717-467D-A972-02F57224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F279-CC67-4B11-9E75-30D5E74F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0BD7-C526-4BEA-92DB-DECCD869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E6A3-AA43-45FE-8C8C-A938152F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E8B3-98D7-436D-A2D1-098AE8EC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95C5-7B7D-4BD7-A0A8-EAA37591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46A1-5F13-466D-BCAF-BC140576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A34C-6135-4D86-866D-C2971DD7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9E78-88FD-42F6-8F30-1C50AF52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EABB7-2899-4D44-99BB-9E2B615F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3BFFF-01CC-4217-B2C1-3F994693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8661A-0AF1-49C3-AF11-0C19462B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81558-E888-46F8-A254-D6BCD562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AAF65-8F6E-43F4-B5C4-7931AC84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C617-0C4C-46F2-BF71-B5F81369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C6DEB-A01C-4123-88AB-CD251B44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56476-DF31-4210-8020-295018B0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DA342-7AFA-408E-874F-39022BDA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75F54-0834-4A08-91AF-43F12B21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79DEB-90A5-4475-B609-55788F5C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D1E35-35ED-4C83-8804-0EDA70E7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1D924-5307-4F5A-97D6-C0892EB8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8CDDE-3394-4967-966F-EC579CD8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C96C9-F6A4-466E-883F-5262B556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E7FD6-8FB7-420A-B681-234F2953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59B4-5EC7-4585-9AB6-51245E3B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C50C3-EE95-4B55-A264-B6E1B973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BC203-26B1-41F4-98C6-87680B30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618D9-5B57-49DB-B82A-42941E99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E0FF4-6842-4E73-AD92-5B40C8E3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098AA-03C9-45EF-80A9-3AB04016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C22F3-2A5E-46C1-A7A4-E1B06043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1D696-A0A3-4B41-A7D4-6CA4EED7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1BA13-00F4-487A-8F13-6E745311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F7DB2-CDC3-4388-BD55-F5A20986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A9F2F-3A43-4F67-8E7D-B4B3AA9E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1772-C1B3-4D4D-AEC2-9A71A0A3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EA488-2914-4B95-9FAC-1B95CFE8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BB5A9-912B-4433-A164-F77965D7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68A65-4A12-42CD-A403-F306F26E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F7EEA-21A7-4A0F-BCE5-17F19856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5E8FC-2CAA-4671-83B8-A9F96972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7C97A-8981-438A-AB41-A6FE1023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88B9F-216C-4AF0-930F-56C1EFAE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E9EE5-17D4-40DF-B88B-7F5E22FF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38FAC-58FD-4DC6-8A64-0D3C7203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8C4CB-953A-4FF4-8AC9-A9CFCC5B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FA33-1031-4A3A-89DA-6C59DFE5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F6729-AFD7-440F-942E-B66A0E40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3776-6E76-4D9F-BB10-576FF5E2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5DA-4208-475F-8137-58480C6B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5CC7-0E4C-41D4-9C6F-077EC95A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713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0560" y="6453360"/>
            <a:ext cx="8893080" cy="404640"/>
          </a:xfrm>
          <a:prstGeom prst="rect">
            <a:avLst/>
          </a:prstGeom>
          <a:solidFill>
            <a:srgbClr val="f1ffd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3200" y="6453360"/>
            <a:ext cx="14508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3B1C-1BCC-424C-A563-FD8E5026E899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4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6" name="AutoShape 17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" name="AutoShape 1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solidFill>
              <a:srgbClr val="ffff0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" name="AutoShape 2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solidFill>
              <a:srgbClr val="ff00ff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9" name="Rectangle 22"/>
          <p:cNvSpPr/>
          <p:nvPr/>
        </p:nvSpPr>
        <p:spPr>
          <a:xfrm>
            <a:off x="2050920" y="1197000"/>
            <a:ext cx="7093080" cy="14292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Rectangle 23"/>
          <p:cNvSpPr/>
          <p:nvPr/>
        </p:nvSpPr>
        <p:spPr>
          <a:xfrm>
            <a:off x="0" y="3284640"/>
            <a:ext cx="250920" cy="3573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0" y="6165720"/>
            <a:ext cx="914400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0" y="6443280"/>
            <a:ext cx="9144000" cy="414360"/>
          </a:xfrm>
          <a:prstGeom prst="rect">
            <a:avLst/>
          </a:prstGeom>
          <a:solidFill>
            <a:srgbClr val="f1ffd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00720" y="6453000"/>
            <a:ext cx="1042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6746-F046-48C9-AF05-444AE1CA2997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53" name="AutoShape 8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" name="AutoShape 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solidFill>
              <a:srgbClr val="ffff0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" name="AutoShape 1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solidFill>
              <a:srgbClr val="ff00ff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1413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250560" y="1052640"/>
            <a:ext cx="8893080" cy="524664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713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50560" y="6308640"/>
            <a:ext cx="8893080" cy="549360"/>
          </a:xfrm>
          <a:prstGeom prst="rect">
            <a:avLst/>
          </a:prstGeom>
          <a:solidFill>
            <a:srgbClr val="b1e1d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693200" y="6373440"/>
            <a:ext cx="1450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E697-5988-4723-A95A-3D55E377F49F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0" y="3284640"/>
            <a:ext cx="250920" cy="3573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99" name="AutoShape 8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" name="AutoShape 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gradFill rotWithShape="0">
              <a:gsLst>
                <a:gs pos="0">
                  <a:srgbClr val="ffff00">
                    <a:alpha val="50196"/>
                  </a:srgbClr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" name="AutoShape 1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gradFill rotWithShape="0">
              <a:gsLst>
                <a:gs pos="0">
                  <a:srgbClr val="ff66ff">
                    <a:alpha val="39215"/>
                  </a:srgbClr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7FBF-3936-411F-A2EC-1CEC48B638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3"/>
          <p:cNvGrpSpPr/>
          <p:nvPr/>
        </p:nvGrpSpPr>
        <p:grpSpPr>
          <a:xfrm>
            <a:off x="0" y="0"/>
            <a:ext cx="2484360" cy="1773360"/>
            <a:chOff x="0" y="0"/>
            <a:chExt cx="2484360" cy="1773360"/>
          </a:xfrm>
        </p:grpSpPr>
        <p:sp>
          <p:nvSpPr>
            <p:cNvPr id="180" name="AutoShape 7"/>
            <p:cNvSpPr/>
            <p:nvPr/>
          </p:nvSpPr>
          <p:spPr>
            <a:xfrm>
              <a:off x="620640" y="0"/>
              <a:ext cx="1370160" cy="17733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1" name="AutoShape 8"/>
            <p:cNvSpPr/>
            <p:nvPr/>
          </p:nvSpPr>
          <p:spPr>
            <a:xfrm>
              <a:off x="1200240" y="358920"/>
              <a:ext cx="1284120" cy="1187280"/>
            </a:xfrm>
            <a:prstGeom prst="diamond">
              <a:avLst/>
            </a:prstGeom>
            <a:solidFill>
              <a:srgbClr val="ffff00">
                <a:alpha val="7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2" name="AutoShape 9"/>
            <p:cNvSpPr/>
            <p:nvPr/>
          </p:nvSpPr>
          <p:spPr>
            <a:xfrm>
              <a:off x="0" y="358920"/>
              <a:ext cx="1284120" cy="1187280"/>
            </a:xfrm>
            <a:prstGeom prst="diamond">
              <a:avLst/>
            </a:prstGeom>
            <a:solidFill>
              <a:srgbClr val="ff00ff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83" name="Group 360"/>
          <p:cNvGrpSpPr/>
          <p:nvPr/>
        </p:nvGrpSpPr>
        <p:grpSpPr>
          <a:xfrm>
            <a:off x="539640" y="2565360"/>
            <a:ext cx="7812000" cy="2158560"/>
            <a:chOff x="539640" y="2565360"/>
            <a:chExt cx="7812000" cy="2158560"/>
          </a:xfrm>
        </p:grpSpPr>
        <p:sp>
          <p:nvSpPr>
            <p:cNvPr id="184" name="AutoShape 10"/>
            <p:cNvSpPr/>
            <p:nvPr/>
          </p:nvSpPr>
          <p:spPr>
            <a:xfrm>
              <a:off x="539640" y="2565360"/>
              <a:ext cx="7812000" cy="2158560"/>
            </a:xfrm>
            <a:prstGeom prst="roundRect">
              <a:avLst>
                <a:gd name="adj" fmla="val 38352"/>
              </a:avLst>
            </a:prstGeom>
            <a:gradFill rotWithShape="0">
              <a:gsLst>
                <a:gs pos="0">
                  <a:srgbClr val="33cccc">
                    <a:alpha val="78039"/>
                  </a:srgbClr>
                </a:gs>
                <a:gs pos="100000">
                  <a:srgbClr val="ffff66">
                    <a:alpha val="54117"/>
                  </a:srgbClr>
                </a:gs>
              </a:gsLst>
              <a:lin ang="27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5" name="Oval 54"/>
            <p:cNvSpPr/>
            <p:nvPr/>
          </p:nvSpPr>
          <p:spPr>
            <a:xfrm>
              <a:off x="1582560" y="3644640"/>
              <a:ext cx="287280" cy="231120"/>
            </a:xfrm>
            <a:prstGeom prst="ellipse">
              <a:avLst/>
            </a:prstGeom>
            <a:gradFill rotWithShape="0">
              <a:gsLst>
                <a:gs pos="0">
                  <a:srgbClr val="ff33cc">
                    <a:alpha val="50196"/>
                  </a:srgbClr>
                </a:gs>
                <a:gs pos="100000">
                  <a:srgbClr val="7618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6" name="Oval 190"/>
            <p:cNvSpPr/>
            <p:nvPr/>
          </p:nvSpPr>
          <p:spPr>
            <a:xfrm>
              <a:off x="2879640" y="3644640"/>
              <a:ext cx="287280" cy="231120"/>
            </a:xfrm>
            <a:prstGeom prst="ellipse">
              <a:avLst/>
            </a:prstGeom>
            <a:solidFill>
              <a:srgbClr val="ff33cc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7" name="Oval 191"/>
            <p:cNvSpPr/>
            <p:nvPr/>
          </p:nvSpPr>
          <p:spPr>
            <a:xfrm>
              <a:off x="4174920" y="3644640"/>
              <a:ext cx="287280" cy="231120"/>
            </a:xfrm>
            <a:prstGeom prst="ellipse">
              <a:avLst/>
            </a:prstGeom>
            <a:solidFill>
              <a:srgbClr val="ff33cc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" name="Oval 192"/>
            <p:cNvSpPr/>
            <p:nvPr/>
          </p:nvSpPr>
          <p:spPr>
            <a:xfrm>
              <a:off x="5398920" y="3568320"/>
              <a:ext cx="287280" cy="229320"/>
            </a:xfrm>
            <a:prstGeom prst="ellipse">
              <a:avLst/>
            </a:prstGeom>
            <a:solidFill>
              <a:srgbClr val="ff33cc">
                <a:alpha val="6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" name="Oval 193"/>
            <p:cNvSpPr/>
            <p:nvPr/>
          </p:nvSpPr>
          <p:spPr>
            <a:xfrm>
              <a:off x="6840360" y="3568320"/>
              <a:ext cx="287280" cy="229320"/>
            </a:xfrm>
            <a:prstGeom prst="ellipse">
              <a:avLst/>
            </a:prstGeom>
            <a:solidFill>
              <a:srgbClr val="ff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90" name="Group 336"/>
            <p:cNvGrpSpPr/>
            <p:nvPr/>
          </p:nvGrpSpPr>
          <p:grpSpPr>
            <a:xfrm>
              <a:off x="539640" y="2719800"/>
              <a:ext cx="7692480" cy="796680"/>
              <a:chOff x="539640" y="2719800"/>
              <a:chExt cx="7692480" cy="796680"/>
            </a:xfrm>
          </p:grpSpPr>
          <p:sp>
            <p:nvSpPr>
              <p:cNvPr id="191" name="AutoShape 326"/>
              <p:cNvSpPr/>
              <p:nvPr/>
            </p:nvSpPr>
            <p:spPr>
              <a:xfrm>
                <a:off x="1294920" y="2719800"/>
                <a:ext cx="925200" cy="796680"/>
              </a:xfrm>
              <a:prstGeom prst="diamond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185e1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" name="AutoShape 327"/>
              <p:cNvSpPr/>
              <p:nvPr/>
            </p:nvSpPr>
            <p:spPr>
              <a:xfrm>
                <a:off x="2086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3300">
                      <a:alpha val="63137"/>
                    </a:srgbClr>
                  </a:gs>
                  <a:gs pos="100000">
                    <a:srgbClr val="0066ff">
                      <a:alpha val="60392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" name="AutoShape 328"/>
              <p:cNvSpPr/>
              <p:nvPr/>
            </p:nvSpPr>
            <p:spPr>
              <a:xfrm>
                <a:off x="280764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0000">
                      <a:alpha val="53333"/>
                    </a:srgbClr>
                  </a:gs>
                  <a:gs pos="100000">
                    <a:srgbClr val="cc3300">
                      <a:alpha val="53333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" name="AutoShape 329"/>
              <p:cNvSpPr/>
              <p:nvPr/>
            </p:nvSpPr>
            <p:spPr>
              <a:xfrm>
                <a:off x="3671280" y="2719800"/>
                <a:ext cx="960120" cy="796680"/>
              </a:xfrm>
              <a:prstGeom prst="diamond">
                <a:avLst/>
              </a:prstGeom>
              <a:solidFill>
                <a:srgbClr val="ffff00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" name="AutoShape 330"/>
              <p:cNvSpPr/>
              <p:nvPr/>
            </p:nvSpPr>
            <p:spPr>
              <a:xfrm>
                <a:off x="4534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cc3300">
                      <a:alpha val="68235"/>
                    </a:srgbClr>
                  </a:gs>
                  <a:gs pos="100000">
                    <a:srgbClr val="ff3300">
                      <a:alpha val="69019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" name="AutoShape 331"/>
              <p:cNvSpPr/>
              <p:nvPr/>
            </p:nvSpPr>
            <p:spPr>
              <a:xfrm>
                <a:off x="539640" y="2719800"/>
                <a:ext cx="888480" cy="769680"/>
              </a:xfrm>
              <a:prstGeom prst="diamond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" name="AutoShape 332"/>
              <p:cNvSpPr/>
              <p:nvPr/>
            </p:nvSpPr>
            <p:spPr>
              <a:xfrm>
                <a:off x="525564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3300">
                      <a:alpha val="69019"/>
                    </a:srgbClr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" name="AutoShape 333"/>
              <p:cNvSpPr/>
              <p:nvPr/>
            </p:nvSpPr>
            <p:spPr>
              <a:xfrm>
                <a:off x="5974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ff66">
                      <a:alpha val="72156"/>
                    </a:srgbClr>
                  </a:gs>
                  <a:gs pos="100000">
                    <a:srgbClr val="0000ff">
                      <a:alpha val="74117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" name="AutoShape 334"/>
              <p:cNvSpPr/>
              <p:nvPr/>
            </p:nvSpPr>
            <p:spPr>
              <a:xfrm>
                <a:off x="6624000" y="2719800"/>
                <a:ext cx="960120" cy="796680"/>
              </a:xfrm>
              <a:prstGeom prst="diamond">
                <a:avLst/>
              </a:prstGeom>
              <a:solidFill>
                <a:srgbClr val="33cc33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" name="AutoShape 335"/>
              <p:cNvSpPr/>
              <p:nvPr/>
            </p:nvSpPr>
            <p:spPr>
              <a:xfrm>
                <a:off x="727200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ff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01" name="Group 337"/>
            <p:cNvGrpSpPr/>
            <p:nvPr/>
          </p:nvGrpSpPr>
          <p:grpSpPr>
            <a:xfrm>
              <a:off x="539640" y="3877560"/>
              <a:ext cx="7692480" cy="796680"/>
              <a:chOff x="539640" y="3877560"/>
              <a:chExt cx="7692480" cy="796680"/>
            </a:xfrm>
          </p:grpSpPr>
          <p:sp>
            <p:nvSpPr>
              <p:cNvPr id="202" name="AutoShape 338"/>
              <p:cNvSpPr/>
              <p:nvPr/>
            </p:nvSpPr>
            <p:spPr>
              <a:xfrm>
                <a:off x="1294920" y="3877560"/>
                <a:ext cx="92520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3" name="AutoShape 339"/>
              <p:cNvSpPr/>
              <p:nvPr/>
            </p:nvSpPr>
            <p:spPr>
              <a:xfrm>
                <a:off x="2086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4" name="AutoShape 340"/>
              <p:cNvSpPr/>
              <p:nvPr/>
            </p:nvSpPr>
            <p:spPr>
              <a:xfrm>
                <a:off x="280764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" name="AutoShape 341"/>
              <p:cNvSpPr/>
              <p:nvPr/>
            </p:nvSpPr>
            <p:spPr>
              <a:xfrm>
                <a:off x="367128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" name="AutoShape 342"/>
              <p:cNvSpPr/>
              <p:nvPr/>
            </p:nvSpPr>
            <p:spPr>
              <a:xfrm>
                <a:off x="4534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" name="AutoShape 343"/>
              <p:cNvSpPr/>
              <p:nvPr/>
            </p:nvSpPr>
            <p:spPr>
              <a:xfrm>
                <a:off x="539640" y="3877560"/>
                <a:ext cx="888480" cy="769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" name="AutoShape 344"/>
              <p:cNvSpPr/>
              <p:nvPr/>
            </p:nvSpPr>
            <p:spPr>
              <a:xfrm>
                <a:off x="525564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" name="AutoShape 345"/>
              <p:cNvSpPr/>
              <p:nvPr/>
            </p:nvSpPr>
            <p:spPr>
              <a:xfrm>
                <a:off x="5974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" name="AutoShape 346"/>
              <p:cNvSpPr/>
              <p:nvPr/>
            </p:nvSpPr>
            <p:spPr>
              <a:xfrm>
                <a:off x="662400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" name="AutoShape 347"/>
              <p:cNvSpPr/>
              <p:nvPr/>
            </p:nvSpPr>
            <p:spPr>
              <a:xfrm>
                <a:off x="727200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212" name="AutoShape 349"/>
            <p:cNvSpPr/>
            <p:nvPr/>
          </p:nvSpPr>
          <p:spPr>
            <a:xfrm>
              <a:off x="1295280" y="3260520"/>
              <a:ext cx="92556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3" name="AutoShape 350"/>
            <p:cNvSpPr/>
            <p:nvPr/>
          </p:nvSpPr>
          <p:spPr>
            <a:xfrm>
              <a:off x="2087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4" name="AutoShape 351"/>
            <p:cNvSpPr/>
            <p:nvPr/>
          </p:nvSpPr>
          <p:spPr>
            <a:xfrm>
              <a:off x="2808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5" name="AutoShape 352"/>
            <p:cNvSpPr/>
            <p:nvPr/>
          </p:nvSpPr>
          <p:spPr>
            <a:xfrm>
              <a:off x="367164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6" name="AutoShape 353"/>
            <p:cNvSpPr/>
            <p:nvPr/>
          </p:nvSpPr>
          <p:spPr>
            <a:xfrm>
              <a:off x="4535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7" name="AutoShape 354"/>
            <p:cNvSpPr/>
            <p:nvPr/>
          </p:nvSpPr>
          <p:spPr>
            <a:xfrm>
              <a:off x="539640" y="3260520"/>
              <a:ext cx="888840" cy="76968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8" name="AutoShape 355"/>
            <p:cNvSpPr/>
            <p:nvPr/>
          </p:nvSpPr>
          <p:spPr>
            <a:xfrm>
              <a:off x="5256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9" name="AutoShape 356"/>
            <p:cNvSpPr/>
            <p:nvPr/>
          </p:nvSpPr>
          <p:spPr>
            <a:xfrm>
              <a:off x="5975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0" name="AutoShape 357"/>
            <p:cNvSpPr/>
            <p:nvPr/>
          </p:nvSpPr>
          <p:spPr>
            <a:xfrm>
              <a:off x="662436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1" name="AutoShape 358"/>
            <p:cNvSpPr/>
            <p:nvPr/>
          </p:nvSpPr>
          <p:spPr>
            <a:xfrm>
              <a:off x="7272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0" y="6308280"/>
            <a:ext cx="914400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b1e1d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E051-CC83-4B7A-B590-FD355E560257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640" y="1039320"/>
            <a:ext cx="7772400" cy="1878120"/>
          </a:xfrm>
          <a:prstGeom prst="rect">
            <a:avLst/>
          </a:prstGeom>
          <a:solidFill>
            <a:srgbClr val="d2fffb">
              <a:alpha val="33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ПОЗНАВАТЕЛЬНЫЕ ПРОЦЕССЫ ЧЕЛОВЕК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403280" y="4739760"/>
            <a:ext cx="6400800" cy="173196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Теплова Лидия Ивановна, доцент кафедры педагогики и психологии, ауд.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430-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б,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-mail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teplova@psu.karelia.r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Качества внима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бъем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нимания – число поступающих сигналов или протекающих ассоциаций, которые могут сохраниться в центре ясного сознания, приобретая доминирующий харак-тер. Объем внимания равен 7–9 единица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Устойчив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длительность, с которой выделенные элементы могут сохранять свой доминантный характер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центрация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нимания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– сосредоточенность субъекта на объекте, сила поглощенности его этим объекто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Распределен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внимания – возможность одновремен-ного выполнения нескольких видов действий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Переключаем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пособность намеренно переносить внимание с одного объекта на друго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740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Память, виды памяти.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Закономерности памяти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Память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запечатление (запись), сохранение и воспроизведение следов прошлого опыта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иды памяти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395280" y="3068640"/>
            <a:ext cx="8497800" cy="863640"/>
          </a:xfrm>
          <a:prstGeom prst="rect">
            <a:avLst/>
          </a:prstGeom>
          <a:gradFill rotWithShape="0">
            <a:gsLst>
              <a:gs pos="0">
                <a:srgbClr val="3366ff">
                  <a:alpha val="63137"/>
                </a:srgbClr>
              </a:gs>
              <a:gs pos="100000">
                <a:srgbClr val="ff33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характеру психической активност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обладающей в деятельност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Line 6"/>
          <p:cNvSpPr/>
          <p:nvPr/>
        </p:nvSpPr>
        <p:spPr>
          <a:xfrm flipH="1">
            <a:off x="611280" y="393372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Line 7"/>
          <p:cNvSpPr/>
          <p:nvPr/>
        </p:nvSpPr>
        <p:spPr>
          <a:xfrm>
            <a:off x="3059280" y="3933720"/>
            <a:ext cx="7272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7380360" y="3933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324000" y="4508640"/>
            <a:ext cx="237636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вига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2843280" y="4508640"/>
            <a:ext cx="230328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эмоциональ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3564000" y="5589720"/>
            <a:ext cx="223200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раз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5724360" y="4508640"/>
            <a:ext cx="313236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ловесно-логическ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5292720" y="393372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2627280" y="333360"/>
            <a:ext cx="5761080" cy="574560"/>
          </a:xfrm>
          <a:prstGeom prst="rect">
            <a:avLst/>
          </a:prstGeom>
          <a:gradFill rotWithShape="0">
            <a:gsLst>
              <a:gs pos="0">
                <a:srgbClr val="3366ff">
                  <a:alpha val="63137"/>
                </a:srgbClr>
              </a:gs>
              <a:gs pos="100000">
                <a:srgbClr val="ff33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характеру цел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Line 7"/>
          <p:cNvSpPr/>
          <p:nvPr/>
        </p:nvSpPr>
        <p:spPr>
          <a:xfrm flipH="1">
            <a:off x="2916360" y="98100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Line 8"/>
          <p:cNvSpPr/>
          <p:nvPr/>
        </p:nvSpPr>
        <p:spPr>
          <a:xfrm>
            <a:off x="6732720" y="90792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1187280" y="1413000"/>
            <a:ext cx="2592720" cy="503280"/>
          </a:xfrm>
          <a:prstGeom prst="rect">
            <a:avLst/>
          </a:prstGeom>
          <a:solidFill>
            <a:srgbClr val="e9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епроизвольн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Rectangle 12"/>
          <p:cNvSpPr/>
          <p:nvPr/>
        </p:nvSpPr>
        <p:spPr>
          <a:xfrm>
            <a:off x="5757840" y="1486080"/>
            <a:ext cx="259092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оизвольн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2625840" y="2421000"/>
            <a:ext cx="4680000" cy="576360"/>
          </a:xfrm>
          <a:prstGeom prst="rect">
            <a:avLst/>
          </a:prstGeom>
          <a:gradFill rotWithShape="0">
            <a:gsLst>
              <a:gs pos="0">
                <a:srgbClr val="ff33cc">
                  <a:alpha val="31372"/>
                </a:srgbClr>
              </a:gs>
              <a:gs pos="100000">
                <a:srgbClr val="3366ff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степени участия мышлени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Line 18"/>
          <p:cNvSpPr/>
          <p:nvPr/>
        </p:nvSpPr>
        <p:spPr>
          <a:xfrm flipH="1">
            <a:off x="2556000" y="299736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Line 19"/>
          <p:cNvSpPr/>
          <p:nvPr/>
        </p:nvSpPr>
        <p:spPr>
          <a:xfrm>
            <a:off x="6948360" y="2997360"/>
            <a:ext cx="28764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1187280" y="3429000"/>
            <a:ext cx="252108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мыслов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Rectangle 22"/>
          <p:cNvSpPr/>
          <p:nvPr/>
        </p:nvSpPr>
        <p:spPr>
          <a:xfrm>
            <a:off x="5651640" y="3500280"/>
            <a:ext cx="2592360" cy="50508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еханическ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Rectangle 26"/>
          <p:cNvSpPr/>
          <p:nvPr/>
        </p:nvSpPr>
        <p:spPr>
          <a:xfrm>
            <a:off x="2556000" y="4292640"/>
            <a:ext cx="4859280" cy="431640"/>
          </a:xfrm>
          <a:prstGeom prst="rect">
            <a:avLst/>
          </a:prstGeom>
          <a:gradFill rotWithShape="0">
            <a:gsLst>
              <a:gs pos="0">
                <a:srgbClr val="ff33cc">
                  <a:alpha val="49019"/>
                </a:srgbClr>
              </a:gs>
              <a:gs pos="100000">
                <a:srgbClr val="3366ff">
                  <a:alpha val="49019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времени сохранени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Line 30"/>
          <p:cNvSpPr/>
          <p:nvPr/>
        </p:nvSpPr>
        <p:spPr>
          <a:xfrm flipH="1">
            <a:off x="2268360" y="4724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Line 31"/>
          <p:cNvSpPr/>
          <p:nvPr/>
        </p:nvSpPr>
        <p:spPr>
          <a:xfrm>
            <a:off x="6372360" y="472428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Rectangle 32"/>
          <p:cNvSpPr/>
          <p:nvPr/>
        </p:nvSpPr>
        <p:spPr>
          <a:xfrm>
            <a:off x="826920" y="5013360"/>
            <a:ext cx="252108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ратковремен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Rectangle 33"/>
          <p:cNvSpPr/>
          <p:nvPr/>
        </p:nvSpPr>
        <p:spPr>
          <a:xfrm>
            <a:off x="5364000" y="5013360"/>
            <a:ext cx="288144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олговремен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501120" y="1891800"/>
            <a:ext cx="818676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46" name="Group 3"/>
          <p:cNvGrpSpPr/>
          <p:nvPr/>
        </p:nvGrpSpPr>
        <p:grpSpPr>
          <a:xfrm>
            <a:off x="826920" y="333360"/>
            <a:ext cx="7561440" cy="5184720"/>
            <a:chOff x="826920" y="333360"/>
            <a:chExt cx="7561440" cy="5184720"/>
          </a:xfrm>
        </p:grpSpPr>
        <p:sp>
          <p:nvSpPr>
            <p:cNvPr id="347" name="Rectangle 4"/>
            <p:cNvSpPr/>
            <p:nvPr/>
          </p:nvSpPr>
          <p:spPr>
            <a:xfrm>
              <a:off x="2627280" y="333360"/>
              <a:ext cx="5761080" cy="57456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3137"/>
                  </a:srgbClr>
                </a:gs>
                <a:gs pos="100000">
                  <a:srgbClr val="ffcc00">
                    <a:alpha val="6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характеру цели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8" name="Line 5"/>
            <p:cNvSpPr/>
            <p:nvPr/>
          </p:nvSpPr>
          <p:spPr>
            <a:xfrm flipH="1">
              <a:off x="2916360" y="981000"/>
              <a:ext cx="79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9" name="Line 6"/>
            <p:cNvSpPr/>
            <p:nvPr/>
          </p:nvSpPr>
          <p:spPr>
            <a:xfrm>
              <a:off x="6732720" y="907920"/>
              <a:ext cx="647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0" name="Rectangle 7"/>
            <p:cNvSpPr/>
            <p:nvPr/>
          </p:nvSpPr>
          <p:spPr>
            <a:xfrm>
              <a:off x="1187280" y="1413000"/>
              <a:ext cx="2592720" cy="503280"/>
            </a:xfrm>
            <a:prstGeom prst="rect">
              <a:avLst/>
            </a:prstGeom>
            <a:solidFill>
              <a:srgbClr val="e9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непроизвольн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1" name="Rectangle 8"/>
            <p:cNvSpPr/>
            <p:nvPr/>
          </p:nvSpPr>
          <p:spPr>
            <a:xfrm>
              <a:off x="5757840" y="1486080"/>
              <a:ext cx="259092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произвольн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2" name="Rectangle 9"/>
            <p:cNvSpPr/>
            <p:nvPr/>
          </p:nvSpPr>
          <p:spPr>
            <a:xfrm>
              <a:off x="2625840" y="2421000"/>
              <a:ext cx="4680000" cy="57636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4313"/>
                  </a:srgbClr>
                </a:gs>
                <a:gs pos="100000">
                  <a:srgbClr val="ffcc00">
                    <a:alpha val="6235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степени участия мышлени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3" name="Line 10"/>
            <p:cNvSpPr/>
            <p:nvPr/>
          </p:nvSpPr>
          <p:spPr>
            <a:xfrm flipH="1">
              <a:off x="2556000" y="2997360"/>
              <a:ext cx="287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4" name="Line 11"/>
            <p:cNvSpPr/>
            <p:nvPr/>
          </p:nvSpPr>
          <p:spPr>
            <a:xfrm>
              <a:off x="6948360" y="2997360"/>
              <a:ext cx="28764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5" name="Rectangle 12"/>
            <p:cNvSpPr/>
            <p:nvPr/>
          </p:nvSpPr>
          <p:spPr>
            <a:xfrm>
              <a:off x="1187280" y="3429000"/>
              <a:ext cx="252108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Смыслов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6" name="Rectangle 13"/>
            <p:cNvSpPr/>
            <p:nvPr/>
          </p:nvSpPr>
          <p:spPr>
            <a:xfrm>
              <a:off x="5651640" y="3500280"/>
              <a:ext cx="2592360" cy="50508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Механическ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7" name="Rectangle 14"/>
            <p:cNvSpPr/>
            <p:nvPr/>
          </p:nvSpPr>
          <p:spPr>
            <a:xfrm>
              <a:off x="2556000" y="4292640"/>
              <a:ext cx="4859280" cy="43164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3137"/>
                  </a:srgbClr>
                </a:gs>
                <a:gs pos="100000">
                  <a:srgbClr val="ffcc00">
                    <a:alpha val="6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времени сохранени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8" name="Line 15"/>
            <p:cNvSpPr/>
            <p:nvPr/>
          </p:nvSpPr>
          <p:spPr>
            <a:xfrm flipH="1">
              <a:off x="2268360" y="4724280"/>
              <a:ext cx="503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9" name="Line 16"/>
            <p:cNvSpPr/>
            <p:nvPr/>
          </p:nvSpPr>
          <p:spPr>
            <a:xfrm>
              <a:off x="6372360" y="4724280"/>
              <a:ext cx="360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0" name="Rectangle 17"/>
            <p:cNvSpPr/>
            <p:nvPr/>
          </p:nvSpPr>
          <p:spPr>
            <a:xfrm>
              <a:off x="826920" y="5013360"/>
              <a:ext cx="252108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кратковременна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1" name="Rectangle 18"/>
            <p:cNvSpPr/>
            <p:nvPr/>
          </p:nvSpPr>
          <p:spPr>
            <a:xfrm>
              <a:off x="5364000" y="5013360"/>
              <a:ext cx="288144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долговременна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Закономерности памяти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459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1. Средний объем механической кратковременной памяти – 5–7 элементов после первого чт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2. Объем памяти варьируется в зависимости от способа предъявления: люди с доминирующей слуховой памятью лучше запоминают материал озвученный и т.д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3. Качество запоминания зависит от того, какая была поставлена цель, установка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4. При многократном предъявлении одного и того же материала число удерживаемых элементов постепенно возрастает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5. Чем длиннее ряд, тем меньше число удерживаемых в памяти элементов. Так, ряд из 4–5 единиц запоминается на 100 %, а ряд из 9–10 единиц на 40 %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6. При запоминании длинного ряда лучше всего по памяти воспроизводятся его начало и конец («эффект края»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3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3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3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3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3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45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3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686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7. При сохранении заученного материала может обнаружится явление ретроактивной интерференции. Оно является результатом взаимодействия таких переменных, как сходство между двумя заданиями и объем заучиваемого материала. Если активность субъекта между заучиванием и припоминанием низка, то мнемический материал сохраняется лучше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8. При высокой активности субъекта непроизвольное запоминание может быть более продуктивным, чем произвольное запоминание, если последнее осуществляется на базе менее активной интеллектуальной деятельности субъекта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9. Явление реминисценции. Под ним понимают отсроченное воспроизведение мнемических ответов, которые раньше субъект не мог воспроизвести, при условии, что с момента заучивания субъект не занимался дополнительным упражнением в выполнении данного задания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0. Эффект Зейгарник» – особенность непроизвольного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запоминания, которая заключается в том, что прерванная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еятельность запоминается лучше, чем законченная или монотонная, т. к. прерванное намерение сохраняет состояние напряжения нервной системы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6008760" cy="609264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3"/>
          <p:cNvSpPr/>
          <p:nvPr/>
        </p:nvSpPr>
        <p:spPr>
          <a:xfrm>
            <a:off x="6372360" y="1936800"/>
            <a:ext cx="253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исунок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. Боринг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304680" y="3571920"/>
            <a:ext cx="276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дин и тот же элемент,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ключенный в разные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целостные структуры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оспринимается по-разному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 Narrow"/>
              </a:rPr>
              <a:t>Мышление, виды мышления. Развитие мышлен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459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Мышл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опосредствованное и обобщенное отражение действительности в ее существенных связях и отношениях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иды мышл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Oval 4"/>
          <p:cNvSpPr/>
          <p:nvPr/>
        </p:nvSpPr>
        <p:spPr>
          <a:xfrm>
            <a:off x="1042920" y="2852640"/>
            <a:ext cx="7345440" cy="720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Arial Narrow"/>
              </a:rPr>
              <a:t>По развитию в онтогенез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2556000" y="5589720"/>
            <a:ext cx="46083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аглядно-действен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2556000" y="4797360"/>
            <a:ext cx="460836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аглядно-образ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2556000" y="3933720"/>
            <a:ext cx="460836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Словесно-лог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AutoShape 8"/>
          <p:cNvSpPr/>
          <p:nvPr/>
        </p:nvSpPr>
        <p:spPr>
          <a:xfrm>
            <a:off x="1547640" y="3860640"/>
            <a:ext cx="486000" cy="2305080"/>
          </a:xfrm>
          <a:prstGeom prst="upArrow">
            <a:avLst>
              <a:gd name="adj1" fmla="val 50000"/>
              <a:gd name="adj2" fmla="val 118574"/>
            </a:avLst>
          </a:prstGeom>
          <a:solidFill>
            <a:srgbClr val="0099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284328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Line 10"/>
          <p:cNvSpPr/>
          <p:nvPr/>
        </p:nvSpPr>
        <p:spPr>
          <a:xfrm>
            <a:off x="673272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Oval 4"/>
          <p:cNvSpPr/>
          <p:nvPr/>
        </p:nvSpPr>
        <p:spPr>
          <a:xfrm>
            <a:off x="1332000" y="333360"/>
            <a:ext cx="7056360" cy="719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редствам действ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826920" y="1446120"/>
            <a:ext cx="288000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вербаль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4932360" y="144612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евербаль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2340000" y="98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6516720" y="10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1187280" y="2205000"/>
            <a:ext cx="6840720" cy="647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тепени рефлексии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826920" y="3249720"/>
            <a:ext cx="288000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флекс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Rectangle 11"/>
          <p:cNvSpPr/>
          <p:nvPr/>
        </p:nvSpPr>
        <p:spPr>
          <a:xfrm>
            <a:off x="5329080" y="3249720"/>
            <a:ext cx="28814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интуи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Line 12"/>
          <p:cNvSpPr/>
          <p:nvPr/>
        </p:nvSpPr>
        <p:spPr>
          <a:xfrm>
            <a:off x="234000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Line 13"/>
          <p:cNvSpPr/>
          <p:nvPr/>
        </p:nvSpPr>
        <p:spPr>
          <a:xfrm>
            <a:off x="644364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826920" y="3860640"/>
            <a:ext cx="7993080" cy="792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тепени новизны получаемого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родукта по отношению к знаниям субъект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Rectangle 15"/>
          <p:cNvSpPr/>
          <p:nvPr/>
        </p:nvSpPr>
        <p:spPr>
          <a:xfrm>
            <a:off x="1042920" y="5013360"/>
            <a:ext cx="3024360" cy="43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одук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5580000" y="5013360"/>
            <a:ext cx="30243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продук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2" name="Line 17"/>
          <p:cNvSpPr/>
          <p:nvPr/>
        </p:nvSpPr>
        <p:spPr>
          <a:xfrm>
            <a:off x="2484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Line 18"/>
          <p:cNvSpPr/>
          <p:nvPr/>
        </p:nvSpPr>
        <p:spPr>
          <a:xfrm>
            <a:off x="6948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2"/>
          <p:cNvSpPr/>
          <p:nvPr/>
        </p:nvSpPr>
        <p:spPr>
          <a:xfrm>
            <a:off x="5219640" y="2852640"/>
            <a:ext cx="1584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Oval 4"/>
          <p:cNvSpPr/>
          <p:nvPr/>
        </p:nvSpPr>
        <p:spPr>
          <a:xfrm>
            <a:off x="1116000" y="260280"/>
            <a:ext cx="7488360" cy="792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типу решаемых задач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971640" y="148428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акт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4932360" y="148608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теорет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Line 7"/>
          <p:cNvSpPr/>
          <p:nvPr/>
        </p:nvSpPr>
        <p:spPr>
          <a:xfrm>
            <a:off x="2484360" y="98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Line 8"/>
          <p:cNvSpPr/>
          <p:nvPr/>
        </p:nvSpPr>
        <p:spPr>
          <a:xfrm>
            <a:off x="6659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1763640" y="2349360"/>
            <a:ext cx="6480360" cy="503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Качества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мышлен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611280" y="4365720"/>
            <a:ext cx="2448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самостоятельн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3780000" y="4941720"/>
            <a:ext cx="21589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критичн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6659640" y="4508640"/>
            <a:ext cx="248436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быстрот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611280" y="3357720"/>
            <a:ext cx="2305080" cy="50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глубин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6119640" y="3429000"/>
            <a:ext cx="27003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гибк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Line 15"/>
          <p:cNvSpPr/>
          <p:nvPr/>
        </p:nvSpPr>
        <p:spPr>
          <a:xfrm flipH="1">
            <a:off x="2556000" y="2852640"/>
            <a:ext cx="1295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Line 16"/>
          <p:cNvSpPr/>
          <p:nvPr/>
        </p:nvSpPr>
        <p:spPr>
          <a:xfrm>
            <a:off x="219564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7308720" y="285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4500720" y="2852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Основные вопросы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467064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1. Ощущение. Виды ощущ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2. Восприятие, свойства восприяти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3. Внимание. Виды внимания, и его основные свойств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4. Память, виды памяти. Закономерности памят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5. Мышление, виды мышления. Развитие мышления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6. Воображение, виды воображения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74516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 Narrow"/>
              </a:rPr>
              <a:t>Основные мыслительные процессы и действ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Анализ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ительный процесс расчленения сложного объекта на составляющие его части или характеристики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Синтез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ительная операция, позволяющая соединять части в целое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Сравн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становление сходства и различия между объектами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Классифик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распределение предметов (понятий) на классы согласно наиболее существенным признакам, присущим одним предметам (понятиям) и отличающим их от других предметов (понятий)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 Narrow"/>
              </a:rPr>
              <a:t>Основные мыслительные процессы и действ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Умозаключ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форма мышления, при которой на основе нескольких суждений дается определенный вывод. Различают индуктивное, дедуктивное суждение и суждение по аналогии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етр Петрович всегда пьет чай с Федор Федоровичем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Федор Федорович пьет сейчас чай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ьет ли Петр Петрович сейчас чай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се металлы пропускают электрический ток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Железо – металл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опускает ли оно ток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омпозитор: песня = архитектор:7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Обобщ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енное объединение предметов и явлений по их общим и существенным признака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Словесно-логическое мышление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характеристики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нят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как логической категории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; объем; связи и отношения данного понятия с другими.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д </a:t>
            </a: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содержание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имают совокупность существенных свойств класса предметов. По содержанию понятия бывают простые и сложные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Объе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ятия – это количество объектов, охватываемых данным понятием. Выделяют: единичные понятия (равные единице), общие (более 1), категории (понятия широкой степени общности, например: энергия, материя)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Связи и 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ятия с другими: различают родовые (понятия, отражающие существенные общие признаки класса предметов и включающие другие понятия меньшей степени общности) и видовые (понятия, подчиненные родовым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2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20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Line 2"/>
          <p:cNvSpPr/>
          <p:nvPr/>
        </p:nvSpPr>
        <p:spPr>
          <a:xfrm>
            <a:off x="5076720" y="1411200"/>
            <a:ext cx="172728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1549440" y="907920"/>
            <a:ext cx="6480000" cy="503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ачества мышлен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Rectangle 10"/>
          <p:cNvSpPr/>
          <p:nvPr/>
        </p:nvSpPr>
        <p:spPr>
          <a:xfrm>
            <a:off x="468360" y="2924280"/>
            <a:ext cx="2160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самостоятельн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3637080" y="3500280"/>
            <a:ext cx="21589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критичн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Rectangle 12"/>
          <p:cNvSpPr/>
          <p:nvPr/>
        </p:nvSpPr>
        <p:spPr>
          <a:xfrm>
            <a:off x="6516720" y="3067200"/>
            <a:ext cx="248436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быстрот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468360" y="1916280"/>
            <a:ext cx="2305080" cy="50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глубин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5977080" y="1987560"/>
            <a:ext cx="27003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гибк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Line 15"/>
          <p:cNvSpPr/>
          <p:nvPr/>
        </p:nvSpPr>
        <p:spPr>
          <a:xfrm flipH="1">
            <a:off x="2413080" y="1411200"/>
            <a:ext cx="1295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Line 16"/>
          <p:cNvSpPr/>
          <p:nvPr/>
        </p:nvSpPr>
        <p:spPr>
          <a:xfrm>
            <a:off x="2052720" y="14112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Line 17"/>
          <p:cNvSpPr/>
          <p:nvPr/>
        </p:nvSpPr>
        <p:spPr>
          <a:xfrm>
            <a:off x="7165800" y="14112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Line 18"/>
          <p:cNvSpPr/>
          <p:nvPr/>
        </p:nvSpPr>
        <p:spPr>
          <a:xfrm>
            <a:off x="4356000" y="141300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ыделяют 4 уровня усвоения понятия (Н. А. Менчинская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1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диффузно-рассеянный. На этом уровне у субъекта существует представление о том, что обозначает понятие, но признаки, отличающие данное понятие от других, он назвать не может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2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называются признаки, без дифференциации их на существенные и второстепенны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3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сваиваются существенные признаки, называ-ются вторичные, но все это связано с единичным образом, который служил опорой при формировании понятия, например: картинка, иллюстрация. Таким образом, понятие как будто усвоено, но признаки не обобщаются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4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понятие усвоено полно и точно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Воображение, виды воображения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Воображен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форма психического отражения, состоящая в создании образов на основе ранее сформированных представл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Виды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оображения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степени субъектности: произвольное и непроизвольное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отношению к возможному будущему: мечты, фантази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степени уникальности: репродуктивное, творческое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Основные функции воображ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1. Представление действительности в образах и составление возможности пользоваться ими, решая задач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2. Регулирование эмоциональных отнош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3. Формирование внутреннего плана человек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4. Планирование и программирование деятельност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5. Произвольная регуляция познавательных процессов и состояний человек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Формы синтеза представлений в процессах воображения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Агглютин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соединение несоединяемых в реальности качеств, свойств, частей предмета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Гипербол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величение или уменьшение предмета, изменение качества его частей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Заостр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подчеркивание каких-либо признаков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Схемат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сглаживание различий предметов и выявление черт сходства между ними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Тип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выделение существенного, повторяющегося в однородных явлениях и воплощение его в конкретном образ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Вопросы для самостоятельной работы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96872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 Объясните следующий факт: если человек впервые идет по незнакомой местности, самостоятельно разыскивая дорогу, то он без труда находит ее вторично; если же он идет вместе со спутником, которому дорога хорошо известна, человеку трудно будет самостоятельно проделать этот путь в следующий раз. Почему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Верно ли выражение: «Восприятие – это сумма ощущений?»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3. Ученику предложили найти обобщающее слово к двум следующим понятиям: километр – метр. Чтобы выполнить верно задание, какое мыслительное действие должен произвести ученик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4. Подумайте, чем отличается память животного от памяти человека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5. Ребенку подготовительной группы предложили решить задачу: «Мама съела 3 конфеты, а сын 2. Сколько они съели конфет?» Мальчик отказался решать задачу, мотивируя тем, что так не бывает. Объясните поведение ребенка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2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2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2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2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Литератур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 Выготский Л. С. Психология воображения / Л. С. Выготский. – М., 199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Выготский Л. С. Развитие высших психических функций / Л. С. Выгот-ский. – М., 1960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3. Грановская Р. М. Элементы практической психологии / Р. М. Грановская. – СПб., 199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4. Грегори Р. Л. Глаз и мозг. Психология зрительного восприятия /Р. Л. Грегори. – М., 1979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5. Демидов В. Е. Как мы видим то, что видим / В. Е. Демидов. – М., 198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6. Лурия А. Р. Маленькая книжка о большой памяти / А. Р. Лурия. – М., 1968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7. Лурия А. Р. Ощущение и восприятие: материалы к курсу по общей психологии / А. Р. Лурия. – М., 1975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2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20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2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20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20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20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2000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Ключевые понятия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97320" cy="4599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щущ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осприят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дме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онст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целос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с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ере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32000" y="1628280"/>
            <a:ext cx="4211640" cy="4599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амят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минисц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нтер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оображ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ышл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ыслительные процессы и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Литератур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9036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8. Лурия А. Р. Внимание. Память. Материалы к курсу по общей психологии / А. Р. Лурия. – М., 1975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9. Петухов В. В. Психология мышления: учебно-методическое пособие / В. В. Петухов. – М., 198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0. Платонов К. К. Занимательная психология / К. К. Платонов. – М., 1964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1. Познавательные процессы и способности в обучении / под ред. В. Д. Шадрикова. – М., 1990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2. Психология ощущения и восприятия: хрестоматия: учебное пособие для вузов / под ред. Ю. Б. Гиппенрейтер, В. В. Любимова, М. Б. Михалевской. – М., 200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3. Психология памяти: хрестоматия / под ред. Ю. Б. Гиппенрейтер, В. Я. Романова. – М., 200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2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20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20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20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20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20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Ощущение. Виды ощущений</a:t>
            </a:r>
            <a:br>
              <a:rPr sz="3600"/>
            </a:b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Ощущ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отражение отдельных свойств предмет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Виды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модальности) ощущений: обоняние, вкус, осязание, слух,  зрение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истематическая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классификац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ощущений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0" y="3429000"/>
            <a:ext cx="3132000" cy="50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интро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0" y="3933720"/>
            <a:ext cx="49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упают от сигналов из внут-ренней среды организма: кишеч-ника, желудка, кровеносной систе-мы. Обеспечивают регуляцию элементарных влечений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5870520" y="3429000"/>
            <a:ext cx="3273480" cy="50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проприо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3059280" y="3860640"/>
            <a:ext cx="60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упают из глубоких мышц и суставных поверхностей. Обеспечивают информа-цию о положении тела в пространстве и о положении опорно-двигательного аппара-та, обеспечивают регуляцию движ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2916360" y="4149720"/>
            <a:ext cx="360036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экстра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611280" y="4724280"/>
            <a:ext cx="69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сязание, вкус, обоняние, слух, зрение. Обеспе-чивают получение сигналов из внешнего мира и создают основу для сознательного повед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6" dur="1" fill="hold"/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осприятие. 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иды и свойства восприятия</a:t>
            </a:r>
            <a:endParaRPr b="1" lang="en-US" sz="36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96872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осприят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целостное отражение предметов в сознании человека при их непосредственном воздействии в данный момент на органы чувств. В акте восприятия присутствует определенное обобщение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 Narrow"/>
              </a:rPr>
              <a:t>Ведущие свойства человеческого восприятия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Целос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бразы восприятия представляют собой целостные, законченные, предметно оформленные структуры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Предме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воспринимается не только комплекс свойств, а оценивается этот комплекс как определенный предмет: «стол», «дом» и т. д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смыслен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онимание вещи одно-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стан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Избиратель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Структур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4464000" cy="28083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599040" y="5203800"/>
            <a:ext cx="77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 Narrow"/>
              </a:rPr>
              <a:t>Целостное восприятие лица вопреки выпадению ряда элементов его контур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90" name="Group 4"/>
          <p:cNvGrpSpPr/>
          <p:nvPr/>
        </p:nvGrpSpPr>
        <p:grpSpPr>
          <a:xfrm>
            <a:off x="5292720" y="1123920"/>
            <a:ext cx="2752560" cy="2114640"/>
            <a:chOff x="5292720" y="1123920"/>
            <a:chExt cx="2752560" cy="2114640"/>
          </a:xfrm>
        </p:grpSpPr>
        <p:sp>
          <p:nvSpPr>
            <p:cNvPr id="291" name="Freeform 5"/>
            <p:cNvSpPr/>
            <p:nvPr/>
          </p:nvSpPr>
          <p:spPr>
            <a:xfrm>
              <a:off x="5443560" y="1390680"/>
              <a:ext cx="2309760" cy="1847880"/>
            </a:xfrm>
            <a:custGeom>
              <a:avLst/>
              <a:gdLst>
                <a:gd name="textAreaLeft" fmla="*/ 0 w 2309760"/>
                <a:gd name="textAreaRight" fmla="*/ 2310120 w 2309760"/>
                <a:gd name="textAreaTop" fmla="*/ 0 h 1847880"/>
                <a:gd name="textAreaBottom" fmla="*/ 1848240 h 1847880"/>
              </a:gdLst>
              <a:ahLst/>
              <a:rect l="textAreaLeft" t="textAreaTop" r="textAreaRight" b="textAreaBottom"/>
              <a:pathLst>
                <a:path w="1455" h="1164">
                  <a:moveTo>
                    <a:pt x="27" y="36"/>
                  </a:moveTo>
                  <a:cubicBezTo>
                    <a:pt x="34" y="200"/>
                    <a:pt x="0" y="592"/>
                    <a:pt x="87" y="708"/>
                  </a:cubicBezTo>
                  <a:cubicBezTo>
                    <a:pt x="106" y="764"/>
                    <a:pt x="98" y="796"/>
                    <a:pt x="159" y="816"/>
                  </a:cubicBezTo>
                  <a:cubicBezTo>
                    <a:pt x="183" y="876"/>
                    <a:pt x="177" y="883"/>
                    <a:pt x="231" y="924"/>
                  </a:cubicBezTo>
                  <a:cubicBezTo>
                    <a:pt x="245" y="935"/>
                    <a:pt x="265" y="937"/>
                    <a:pt x="279" y="948"/>
                  </a:cubicBezTo>
                  <a:cubicBezTo>
                    <a:pt x="297" y="962"/>
                    <a:pt x="308" y="983"/>
                    <a:pt x="327" y="996"/>
                  </a:cubicBezTo>
                  <a:cubicBezTo>
                    <a:pt x="380" y="1031"/>
                    <a:pt x="481" y="1064"/>
                    <a:pt x="543" y="1080"/>
                  </a:cubicBezTo>
                  <a:cubicBezTo>
                    <a:pt x="588" y="1147"/>
                    <a:pt x="540" y="1095"/>
                    <a:pt x="639" y="1128"/>
                  </a:cubicBezTo>
                  <a:cubicBezTo>
                    <a:pt x="653" y="1133"/>
                    <a:pt x="662" y="1146"/>
                    <a:pt x="675" y="1152"/>
                  </a:cubicBezTo>
                  <a:cubicBezTo>
                    <a:pt x="690" y="1158"/>
                    <a:pt x="707" y="1160"/>
                    <a:pt x="723" y="1164"/>
                  </a:cubicBezTo>
                  <a:cubicBezTo>
                    <a:pt x="760" y="1161"/>
                    <a:pt x="903" y="1156"/>
                    <a:pt x="963" y="1140"/>
                  </a:cubicBezTo>
                  <a:cubicBezTo>
                    <a:pt x="1022" y="1124"/>
                    <a:pt x="1065" y="1083"/>
                    <a:pt x="1119" y="1056"/>
                  </a:cubicBezTo>
                  <a:cubicBezTo>
                    <a:pt x="1174" y="974"/>
                    <a:pt x="1244" y="900"/>
                    <a:pt x="1323" y="840"/>
                  </a:cubicBezTo>
                  <a:cubicBezTo>
                    <a:pt x="1360" y="730"/>
                    <a:pt x="1298" y="901"/>
                    <a:pt x="1371" y="756"/>
                  </a:cubicBezTo>
                  <a:cubicBezTo>
                    <a:pt x="1405" y="689"/>
                    <a:pt x="1431" y="588"/>
                    <a:pt x="1455" y="516"/>
                  </a:cubicBezTo>
                  <a:cubicBezTo>
                    <a:pt x="1444" y="384"/>
                    <a:pt x="1449" y="401"/>
                    <a:pt x="1431" y="300"/>
                  </a:cubicBezTo>
                  <a:cubicBezTo>
                    <a:pt x="1423" y="256"/>
                    <a:pt x="1398" y="200"/>
                    <a:pt x="1395" y="156"/>
                  </a:cubicBezTo>
                  <a:cubicBezTo>
                    <a:pt x="1392" y="104"/>
                    <a:pt x="1395" y="52"/>
                    <a:pt x="139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2" name="Freeform 6"/>
            <p:cNvSpPr/>
            <p:nvPr/>
          </p:nvSpPr>
          <p:spPr>
            <a:xfrm>
              <a:off x="6915240" y="1371600"/>
              <a:ext cx="361800" cy="2728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28" h="172">
                  <a:moveTo>
                    <a:pt x="0" y="96"/>
                  </a:moveTo>
                  <a:cubicBezTo>
                    <a:pt x="56" y="12"/>
                    <a:pt x="24" y="40"/>
                    <a:pt x="84" y="0"/>
                  </a:cubicBezTo>
                  <a:cubicBezTo>
                    <a:pt x="133" y="49"/>
                    <a:pt x="159" y="97"/>
                    <a:pt x="228" y="120"/>
                  </a:cubicBezTo>
                  <a:cubicBezTo>
                    <a:pt x="184" y="135"/>
                    <a:pt x="147" y="142"/>
                    <a:pt x="108" y="168"/>
                  </a:cubicBezTo>
                  <a:cubicBezTo>
                    <a:pt x="23" y="151"/>
                    <a:pt x="61" y="172"/>
                    <a:pt x="0" y="9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3" name="Freeform 7"/>
            <p:cNvSpPr/>
            <p:nvPr/>
          </p:nvSpPr>
          <p:spPr>
            <a:xfrm>
              <a:off x="6991200" y="1481040"/>
              <a:ext cx="114480" cy="1890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72" h="119">
                  <a:moveTo>
                    <a:pt x="24" y="63"/>
                  </a:moveTo>
                  <a:cubicBezTo>
                    <a:pt x="36" y="51"/>
                    <a:pt x="60" y="44"/>
                    <a:pt x="60" y="27"/>
                  </a:cubicBezTo>
                  <a:cubicBezTo>
                    <a:pt x="60" y="13"/>
                    <a:pt x="38" y="0"/>
                    <a:pt x="24" y="3"/>
                  </a:cubicBezTo>
                  <a:cubicBezTo>
                    <a:pt x="10" y="6"/>
                    <a:pt x="8" y="27"/>
                    <a:pt x="0" y="39"/>
                  </a:cubicBezTo>
                  <a:cubicBezTo>
                    <a:pt x="5" y="48"/>
                    <a:pt x="30" y="119"/>
                    <a:pt x="60" y="111"/>
                  </a:cubicBezTo>
                  <a:cubicBezTo>
                    <a:pt x="72" y="108"/>
                    <a:pt x="68" y="87"/>
                    <a:pt x="72" y="75"/>
                  </a:cubicBezTo>
                  <a:cubicBezTo>
                    <a:pt x="55" y="25"/>
                    <a:pt x="71" y="32"/>
                    <a:pt x="24" y="6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4" name="Freeform 8"/>
            <p:cNvSpPr/>
            <p:nvPr/>
          </p:nvSpPr>
          <p:spPr>
            <a:xfrm>
              <a:off x="6354720" y="2487600"/>
              <a:ext cx="557280" cy="21744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351" h="137">
                  <a:moveTo>
                    <a:pt x="29" y="41"/>
                  </a:moveTo>
                  <a:cubicBezTo>
                    <a:pt x="61" y="45"/>
                    <a:pt x="93" y="50"/>
                    <a:pt x="125" y="53"/>
                  </a:cubicBezTo>
                  <a:cubicBezTo>
                    <a:pt x="340" y="70"/>
                    <a:pt x="351" y="0"/>
                    <a:pt x="317" y="101"/>
                  </a:cubicBezTo>
                  <a:cubicBezTo>
                    <a:pt x="0" y="83"/>
                    <a:pt x="187" y="106"/>
                    <a:pt x="29" y="53"/>
                  </a:cubicBezTo>
                  <a:cubicBezTo>
                    <a:pt x="25" y="64"/>
                    <a:pt x="1" y="114"/>
                    <a:pt x="29" y="125"/>
                  </a:cubicBezTo>
                  <a:cubicBezTo>
                    <a:pt x="44" y="131"/>
                    <a:pt x="61" y="117"/>
                    <a:pt x="77" y="113"/>
                  </a:cubicBezTo>
                  <a:cubicBezTo>
                    <a:pt x="89" y="105"/>
                    <a:pt x="100" y="95"/>
                    <a:pt x="113" y="89"/>
                  </a:cubicBezTo>
                  <a:cubicBezTo>
                    <a:pt x="128" y="83"/>
                    <a:pt x="147" y="85"/>
                    <a:pt x="161" y="77"/>
                  </a:cubicBezTo>
                  <a:cubicBezTo>
                    <a:pt x="183" y="65"/>
                    <a:pt x="201" y="45"/>
                    <a:pt x="221" y="29"/>
                  </a:cubicBezTo>
                  <a:cubicBezTo>
                    <a:pt x="225" y="41"/>
                    <a:pt x="223" y="57"/>
                    <a:pt x="233" y="65"/>
                  </a:cubicBezTo>
                  <a:cubicBezTo>
                    <a:pt x="246" y="75"/>
                    <a:pt x="297" y="82"/>
                    <a:pt x="281" y="77"/>
                  </a:cubicBezTo>
                  <a:cubicBezTo>
                    <a:pt x="245" y="65"/>
                    <a:pt x="209" y="53"/>
                    <a:pt x="173" y="41"/>
                  </a:cubicBezTo>
                  <a:cubicBezTo>
                    <a:pt x="161" y="37"/>
                    <a:pt x="149" y="33"/>
                    <a:pt x="137" y="29"/>
                  </a:cubicBezTo>
                  <a:cubicBezTo>
                    <a:pt x="125" y="25"/>
                    <a:pt x="101" y="17"/>
                    <a:pt x="101" y="17"/>
                  </a:cubicBezTo>
                  <a:cubicBezTo>
                    <a:pt x="36" y="60"/>
                    <a:pt x="36" y="94"/>
                    <a:pt x="101" y="137"/>
                  </a:cubicBezTo>
                  <a:cubicBezTo>
                    <a:pt x="150" y="118"/>
                    <a:pt x="196" y="93"/>
                    <a:pt x="245" y="77"/>
                  </a:cubicBezTo>
                  <a:cubicBezTo>
                    <a:pt x="289" y="92"/>
                    <a:pt x="275" y="100"/>
                    <a:pt x="293" y="6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5" name="Freeform 9"/>
            <p:cNvSpPr/>
            <p:nvPr/>
          </p:nvSpPr>
          <p:spPr>
            <a:xfrm>
              <a:off x="7667640" y="1773360"/>
              <a:ext cx="377640" cy="64296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642960"/>
                <a:gd name="textAreaBottom" fmla="*/ 643320 h 642960"/>
              </a:gdLst>
              <a:ahLst/>
              <a:rect l="textAreaLeft" t="textAreaTop" r="textAreaRight" b="textAreaBottom"/>
              <a:pathLst>
                <a:path w="238" h="405">
                  <a:moveTo>
                    <a:pt x="130" y="0"/>
                  </a:moveTo>
                  <a:cubicBezTo>
                    <a:pt x="224" y="94"/>
                    <a:pt x="192" y="51"/>
                    <a:pt x="238" y="120"/>
                  </a:cubicBezTo>
                  <a:cubicBezTo>
                    <a:pt x="220" y="174"/>
                    <a:pt x="206" y="175"/>
                    <a:pt x="154" y="192"/>
                  </a:cubicBezTo>
                  <a:cubicBezTo>
                    <a:pt x="142" y="204"/>
                    <a:pt x="122" y="212"/>
                    <a:pt x="118" y="228"/>
                  </a:cubicBezTo>
                  <a:cubicBezTo>
                    <a:pt x="105" y="279"/>
                    <a:pt x="134" y="340"/>
                    <a:pt x="106" y="384"/>
                  </a:cubicBezTo>
                  <a:cubicBezTo>
                    <a:pt x="92" y="405"/>
                    <a:pt x="34" y="360"/>
                    <a:pt x="34" y="360"/>
                  </a:cubicBezTo>
                  <a:cubicBezTo>
                    <a:pt x="4" y="315"/>
                    <a:pt x="0" y="334"/>
                    <a:pt x="34" y="3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6" name="Freeform 10"/>
            <p:cNvSpPr/>
            <p:nvPr/>
          </p:nvSpPr>
          <p:spPr>
            <a:xfrm>
              <a:off x="5292720" y="1413000"/>
              <a:ext cx="584280" cy="183960"/>
            </a:xfrm>
            <a:custGeom>
              <a:avLst/>
              <a:gdLst>
                <a:gd name="textAreaLeft" fmla="*/ 0 w 584280"/>
                <a:gd name="textAreaRight" fmla="*/ 584280 w 5842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68" h="116">
                  <a:moveTo>
                    <a:pt x="0" y="12"/>
                  </a:moveTo>
                  <a:cubicBezTo>
                    <a:pt x="88" y="16"/>
                    <a:pt x="179" y="0"/>
                    <a:pt x="264" y="24"/>
                  </a:cubicBezTo>
                  <a:cubicBezTo>
                    <a:pt x="368" y="54"/>
                    <a:pt x="224" y="93"/>
                    <a:pt x="216" y="96"/>
                  </a:cubicBezTo>
                  <a:cubicBezTo>
                    <a:pt x="212" y="95"/>
                    <a:pt x="58" y="77"/>
                    <a:pt x="48" y="72"/>
                  </a:cubicBezTo>
                  <a:cubicBezTo>
                    <a:pt x="37" y="66"/>
                    <a:pt x="40" y="48"/>
                    <a:pt x="36" y="36"/>
                  </a:cubicBezTo>
                  <a:cubicBezTo>
                    <a:pt x="76" y="23"/>
                    <a:pt x="116" y="13"/>
                    <a:pt x="156" y="0"/>
                  </a:cubicBezTo>
                  <a:cubicBezTo>
                    <a:pt x="172" y="24"/>
                    <a:pt x="188" y="48"/>
                    <a:pt x="204" y="72"/>
                  </a:cubicBezTo>
                  <a:cubicBezTo>
                    <a:pt x="212" y="84"/>
                    <a:pt x="180" y="36"/>
                    <a:pt x="180" y="36"/>
                  </a:cubicBezTo>
                  <a:cubicBezTo>
                    <a:pt x="152" y="40"/>
                    <a:pt x="116" y="28"/>
                    <a:pt x="96" y="48"/>
                  </a:cubicBezTo>
                  <a:cubicBezTo>
                    <a:pt x="82" y="62"/>
                    <a:pt x="91" y="97"/>
                    <a:pt x="108" y="108"/>
                  </a:cubicBezTo>
                  <a:cubicBezTo>
                    <a:pt x="120" y="116"/>
                    <a:pt x="122" y="82"/>
                    <a:pt x="132" y="72"/>
                  </a:cubicBezTo>
                  <a:cubicBezTo>
                    <a:pt x="138" y="66"/>
                    <a:pt x="148" y="64"/>
                    <a:pt x="156" y="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7" name="Freeform 11"/>
            <p:cNvSpPr/>
            <p:nvPr/>
          </p:nvSpPr>
          <p:spPr>
            <a:xfrm>
              <a:off x="5429160" y="1123920"/>
              <a:ext cx="609840" cy="11592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384" h="73">
                  <a:moveTo>
                    <a:pt x="0" y="60"/>
                  </a:moveTo>
                  <a:cubicBezTo>
                    <a:pt x="79" y="13"/>
                    <a:pt x="119" y="21"/>
                    <a:pt x="204" y="0"/>
                  </a:cubicBezTo>
                  <a:cubicBezTo>
                    <a:pt x="224" y="4"/>
                    <a:pt x="246" y="3"/>
                    <a:pt x="264" y="12"/>
                  </a:cubicBezTo>
                  <a:cubicBezTo>
                    <a:pt x="279" y="20"/>
                    <a:pt x="285" y="40"/>
                    <a:pt x="300" y="48"/>
                  </a:cubicBezTo>
                  <a:cubicBezTo>
                    <a:pt x="345" y="73"/>
                    <a:pt x="351" y="72"/>
                    <a:pt x="384" y="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8" name="Freeform 12"/>
            <p:cNvSpPr/>
            <p:nvPr/>
          </p:nvSpPr>
          <p:spPr>
            <a:xfrm>
              <a:off x="6553080" y="1133640"/>
              <a:ext cx="666720" cy="12852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20" h="81">
                  <a:moveTo>
                    <a:pt x="0" y="30"/>
                  </a:moveTo>
                  <a:cubicBezTo>
                    <a:pt x="90" y="0"/>
                    <a:pt x="136" y="9"/>
                    <a:pt x="240" y="18"/>
                  </a:cubicBezTo>
                  <a:cubicBezTo>
                    <a:pt x="252" y="30"/>
                    <a:pt x="262" y="45"/>
                    <a:pt x="276" y="54"/>
                  </a:cubicBezTo>
                  <a:cubicBezTo>
                    <a:pt x="317" y="81"/>
                    <a:pt x="345" y="43"/>
                    <a:pt x="384" y="30"/>
                  </a:cubicBezTo>
                  <a:cubicBezTo>
                    <a:pt x="396" y="34"/>
                    <a:pt x="420" y="42"/>
                    <a:pt x="420" y="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99" name="Text Box 13"/>
          <p:cNvSpPr/>
          <p:nvPr/>
        </p:nvSpPr>
        <p:spPr>
          <a:xfrm>
            <a:off x="5076720" y="357336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 Narrow"/>
              </a:rPr>
              <a:t>Несформированная целостность. Таким может быть рисунок ребенка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нимание, виды и основные свойства внимания</a:t>
            </a:r>
            <a:br>
              <a:rPr sz="3600"/>
            </a:br>
            <a:endParaRPr b="1" lang="en-US" sz="36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964720" cy="482436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ниман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направленность и сосредоточенность человека на определенных объектах при одновременном отвлечении от других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Классификация 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видов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внимания (основание: актив-ность личности) (Н. Ф. Добрынин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9000" y="4797360"/>
            <a:ext cx="30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НЕ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2995200" y="407664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 Narrow"/>
              </a:rPr>
              <a:t>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04" name="Group 18"/>
          <p:cNvGrpSpPr/>
          <p:nvPr/>
        </p:nvGrpSpPr>
        <p:grpSpPr>
          <a:xfrm>
            <a:off x="539640" y="3933360"/>
            <a:ext cx="8604360" cy="2089440"/>
            <a:chOff x="539640" y="3933360"/>
            <a:chExt cx="8604360" cy="2089440"/>
          </a:xfrm>
        </p:grpSpPr>
        <p:sp>
          <p:nvSpPr>
            <p:cNvPr id="305" name="Line 7"/>
            <p:cNvSpPr/>
            <p:nvPr/>
          </p:nvSpPr>
          <p:spPr>
            <a:xfrm flipV="1">
              <a:off x="539640" y="523080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6" name="Line 8"/>
            <p:cNvSpPr/>
            <p:nvPr/>
          </p:nvSpPr>
          <p:spPr>
            <a:xfrm>
              <a:off x="539640" y="523080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7" name="Line 10"/>
            <p:cNvSpPr/>
            <p:nvPr/>
          </p:nvSpPr>
          <p:spPr>
            <a:xfrm flipV="1">
              <a:off x="3132000" y="45100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8" name="Line 11"/>
            <p:cNvSpPr/>
            <p:nvPr/>
          </p:nvSpPr>
          <p:spPr>
            <a:xfrm>
              <a:off x="3132000" y="4510080"/>
              <a:ext cx="25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9" name="Line 14"/>
            <p:cNvSpPr/>
            <p:nvPr/>
          </p:nvSpPr>
          <p:spPr>
            <a:xfrm flipV="1">
              <a:off x="5580000" y="3933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0" name="Line 15"/>
            <p:cNvSpPr/>
            <p:nvPr/>
          </p:nvSpPr>
          <p:spPr>
            <a:xfrm>
              <a:off x="5580000" y="3933720"/>
              <a:ext cx="356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11" name="Text Box 16"/>
          <p:cNvSpPr/>
          <p:nvPr/>
        </p:nvSpPr>
        <p:spPr>
          <a:xfrm>
            <a:off x="5421960" y="3500280"/>
            <a:ext cx="37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 Narrow"/>
              </a:rPr>
              <a:t>ПОСЛЕ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592200" y="568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Rectangle 22"/>
          <p:cNvSpPr/>
          <p:nvPr/>
        </p:nvSpPr>
        <p:spPr>
          <a:xfrm>
            <a:off x="611280" y="5229360"/>
            <a:ext cx="727236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нимание человека непосредственно привлекается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либо сильным, либо новым, либо интересным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здражителем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Rectangle 24"/>
          <p:cNvSpPr/>
          <p:nvPr/>
        </p:nvSpPr>
        <p:spPr>
          <a:xfrm>
            <a:off x="1547640" y="4508640"/>
            <a:ext cx="7272360" cy="1800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войственно только человеку, относится к высшим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сихическим функциям. Процесс формирования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оизвольного внимания описал Л. С. Выготский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казательный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жест + слово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выделение предмет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з остальных, фиксаци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Rectangle 26"/>
          <p:cNvSpPr/>
          <p:nvPr/>
        </p:nvSpPr>
        <p:spPr>
          <a:xfrm>
            <a:off x="1116000" y="3933720"/>
            <a:ext cx="7812000" cy="187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войственно только человеку; возникает на основе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го произвольного внимания и интереса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 объекту, после чего внимание становится похожи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на непроизвольно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1" dur="1" fill="hold"/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смыслен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онимание вещи одно-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стан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Избиратель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Структур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11:36:44Z</dcterms:created>
  <dc:creator>Лидия</dc:creator>
  <dc:description/>
  <dc:language>en-US</dc:language>
  <cp:lastModifiedBy>LEGION</cp:lastModifiedBy>
  <dcterms:modified xsi:type="dcterms:W3CDTF">2014-11-12T07:31:13Z</dcterms:modified>
  <cp:revision>87</cp:revision>
  <dc:subject/>
  <dc:title>Слайд 1</dc:title>
</cp:coreProperties>
</file>