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840C-4FE1-431A-8587-A866CA8EB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ВАТЕЛЬНЫЕ ПРОЦЕССЫ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FB74-597C-458C-BD8D-F90E0F874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а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бъ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Устойчив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центр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средоточенность субъекта на объекте, сила поглощенности его этим объе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Распреде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– возможность одновремен-ного выполнения нескольких видов действ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ереключаем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пособность намеренно переносить внимание с одного объекта на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8147-C8D1-4254-AA85-EAEE84814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, виды памя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апечатление (запись), сохранение и воспроизведение следов прошл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9A0A-F319-46A8-AC1B-AA1D447DF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чество запоминания зависит от того, какая была поставлена цель, устан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0AFD-FCC7-4A0E-9099-41AE21C462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Эффект Зейгарник» – особенность непроизв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поминания, которая заключается в том, что прерван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1937-24BB-40A6-8A6E-BAD92FC75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Мышление, виды мышления. Развитие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ыш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осредствованное и обобщенное отражение действительности в ее существенных связях и отношен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664B-3AF1-4840-9391-48B65B141B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40BE-1D2D-40EB-A444-A1129D01C3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щущение. Виды ощу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осприятие, свойства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нимание. Виды внимания, и его основные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амять, виды памяти. Закономерности памя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ышление, виды мышления. Развитие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Воображение, виды во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89CD-D2FA-4390-8551-1FC56E6AF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нал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инте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ая операция, позволяющая соединять части в цел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ановление сходства и различия между объек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90AC-6086-47B3-B352-27D839880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тр Петрович всегда пьет чай с Федор Федорович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дор Федорович пьет сейчас ча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ьет ли Петр Петрович сейчас ча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 металлы пропускают электрический т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лезо – мета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пускает ли оно то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зитор: песня = архитектор: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общ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енное объединение предметов и явлений по их общим и существенным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13E1-9804-47A1-AED2-D2925BA7E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есно-логическое мыш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сти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логической категор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; объем; связи и отношения данного понятия с другими.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одерж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Объ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вязи и 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F8B6-E067-4696-9A31-759248FB3F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A3DA-B2AA-4883-87BB-09E613B83C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деляют 4 уровня усвоения понятия (Н. А. Менчин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зываются признаки, без дифференциации их на существенные и второстепе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ятие усвоено полно и точ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8C2F-50A1-418B-BE28-EE89C3929E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, виды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об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субъектности: произвольное и непроизволь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тношению к возможному будущему: мечты,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уникальности: репродуктивное, твор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4514-EAA3-4FC7-9689-1CD6BDEE3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сновные функции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егулирование эмоциональ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рмирование внутреннего плана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ланирование и программировани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извольная регуляция познавательных процессов и состоян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09EA-D079-48DD-A325-B2DB4C94B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рмы синтеза представлений в процессах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Агглютин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единение несоединяемых в реальности качеств, свойств, частей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Гипербол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величение или уменьшение предмета, изменение качества его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остр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черкивание каких-либо призна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хе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глаживание различий предметов и выявление черт сходства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ип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77AE-24AA-4D8C-B0EF-EF5AB2E61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ерно ли выражение: «Восприятие – это сумма ощущений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умайте, чем отличается память животного от памя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E98D-C587-443A-BB0C-BCAF32600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готский Л. С. Психология воображения / Л. С. Выготский. – М., 19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готский Л. С. Развитие высших психических функций / Л. С. Выгот-ский. – М., 19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рановская Р. М. Элементы практической психологии / Р. М. Грановская. – СПб.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регори Р. Л. Глаз и мозг. Психология зрительного восприятия /Р. Л. Грегори. – М., 19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мидов В. Е. Как мы видим то, что видим / В. Е. Демид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урия А. Р. Маленькая книжка о большой памяти / А. Р. Лурия. – М.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ED6E-7213-4EE6-BD5C-3894406710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3FCD-5684-4B3B-96F0-12541C876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тухов В. В. Психология мышления: учебно-методическое пособие / В. В. Петух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латонов К. К. Занимательная психология / К. К. Платонов. – М.,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ознавательные процессы и способности в обучении / под ред. В. Д. Шадрикова. – М., 19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сихология памяти: хрестоматия / под ред. Ю. Б. Гиппенрейтер, В. Я. Ром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D914-998D-478C-BB8E-70A78A105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. Виды ощущений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ажение отдельных свойств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одальности) ощущений: обоняние, вкус, осязание, слух,  з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DD9B-78D5-4976-8486-C8948E4CD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ияти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и свойств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дущие свойства человеческ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Целос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едме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90EB-D000-44BF-97EF-72F68EA13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6620-03FB-441C-A4EE-C3D582019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C1F4-36BA-4D2D-AC15-3D7FDE3AAB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, виды и основные свойства вним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и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(основание: актив-ность личности) (Н. Ф. Добрын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4FAF-6135-4807-AEA7-F33EAF2F7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19FB-B3C7-4CBA-BA65-B65264159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4CC-BF72-4A54-85CD-5AFD7127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179-8281-48FB-98A2-876D1BE3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BF6-CCCB-4F0E-B1D2-01EBD7B0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6BD-6CCD-4AD2-87B7-8644C131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927F-F40F-487F-8EF3-46A0F3BC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2CCA-B922-4020-BA11-F27DA332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8920-574E-4C86-A0EE-5B0218AF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7533-BFF0-42F4-BDB7-5E9B3EF0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1F00-D719-4432-A415-ED7D460C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3AA7-525D-40EA-BF68-5208017E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77EE-7058-4543-BCC6-A4D10D63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693-14D9-461A-A873-27B396F2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C886-0C81-4664-9D71-58BEF372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7914-270B-4E12-B21E-5B378274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F7A1-3583-4AF9-93C0-988C3069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B3E4-0C0E-462A-81EA-02A794DE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EC8C-0271-4A15-9742-3666AC6C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F087-389F-444E-B180-43E5E799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ECA9-9E5D-4C19-A3C9-0E938A5C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DE19-CAB3-47BC-BE1B-74210C73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0DA1-2AC4-42DE-8D34-C9CC8450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B7D3-3323-48B2-93ED-7B0E420A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CA7-A1CC-4C9A-A5DD-9DA719F8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3D63-BC90-4728-9CF3-F9E5FAA1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8A84-39F5-4C8C-BEF6-A6C9048A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06CE-BDE3-47FB-B8DF-3FD4BFE7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F58A-669B-49B3-A3BF-B5F4A417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713B6-CEE0-4715-95A7-56F6705C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49F81-972B-4524-83A3-31525CB3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7A09-A2BA-4BC7-959A-9E506678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3EBAD-CDDF-498C-9041-90D03F84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EB8C-7D19-4D70-82E9-68E2F782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B550-D4DD-4E4A-BA0C-6925E230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C54-93C7-4598-8C46-4313B2D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F51F-E626-4AE4-85B6-8D34EB8F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58832-84DC-49F6-9D43-B17757D6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597F-B7A8-4A9C-899C-E291D3FE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BCA65-8AC9-4DA9-8424-3BF3C58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4709-06AA-41AE-8BF3-C5288DAA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BE9A-E741-4E4A-B80B-CCAD7269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E5CCB-42DB-43B6-8AB7-E43D4DDF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2681-63D1-4DCE-80EC-2BE7ADAA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004FB-04D4-4DD9-9368-3095684C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14493-91B2-45D1-8E12-F95564D9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E4E-E4E4-496E-8672-2779749E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AB672-9F30-4382-A236-5B8393FA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9E61E-9956-4CFA-96A3-D02CBC87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91F88-5EC0-49C8-9644-ACE4D123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DDFB-807C-406D-A33A-8AE9E5E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27A6-8DDE-42A0-A2A8-3C912A27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F7AC2-06A0-4D81-B75A-F8C082B4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911DC-D6D5-427B-9CA3-878E52B6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84508-DC86-4BD7-8794-74BEC5A3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E419-D678-429A-8CDB-4A4C29A7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2CDFB-73D0-4E22-83D6-CC25B9F2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4F4-9F55-4C79-A020-4C004309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8985C-C981-404F-B2C1-F9282F4D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035-2078-4043-B39E-ECA7E03D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F02-7BD9-494A-BD4A-FAF8D82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DE4-B366-40D8-A958-E0FFAF68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453360"/>
            <a:ext cx="8893080" cy="40464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3200" y="6453360"/>
            <a:ext cx="1450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3571-0DA3-49F4-958E-A7F5CFFB7BE1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4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6" name="AutoShape 17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AutoShape 1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AutoShape 2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" name="Rectangle 22"/>
          <p:cNvSpPr/>
          <p:nvPr/>
        </p:nvSpPr>
        <p:spPr>
          <a:xfrm>
            <a:off x="2050920" y="1197000"/>
            <a:ext cx="7093080" cy="1429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Rectangle 23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0" y="6443280"/>
            <a:ext cx="9144000" cy="41436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00720" y="6453000"/>
            <a:ext cx="1042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3FDA-6FCB-4638-89AF-B29BD84D4051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53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50560" y="1052640"/>
            <a:ext cx="8893080" cy="5246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50560" y="6308640"/>
            <a:ext cx="8893080" cy="54936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93200" y="6373440"/>
            <a:ext cx="1450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B569-0ED0-4F49-908C-0429F54F7290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99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66ff">
                    <a:alpha val="39215"/>
                  </a:srgbClr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F048-633A-43B1-982C-8C2DA4B76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0" y="0"/>
            <a:ext cx="2484360" cy="1773360"/>
            <a:chOff x="0" y="0"/>
            <a:chExt cx="2484360" cy="1773360"/>
          </a:xfrm>
        </p:grpSpPr>
        <p:sp>
          <p:nvSpPr>
            <p:cNvPr id="180" name="AutoShape 7"/>
            <p:cNvSpPr/>
            <p:nvPr/>
          </p:nvSpPr>
          <p:spPr>
            <a:xfrm>
              <a:off x="620640" y="0"/>
              <a:ext cx="1370160" cy="17733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200240" y="358920"/>
              <a:ext cx="1284120" cy="1187280"/>
            </a:xfrm>
            <a:prstGeom prst="diamond">
              <a:avLst/>
            </a:prstGeom>
            <a:solidFill>
              <a:srgbClr val="ffff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0" y="358920"/>
              <a:ext cx="1284120" cy="1187280"/>
            </a:xfrm>
            <a:prstGeom prst="diamond">
              <a:avLst/>
            </a:prstGeom>
            <a:solidFill>
              <a:srgbClr val="ff00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3" name="Group 360"/>
          <p:cNvGrpSpPr/>
          <p:nvPr/>
        </p:nvGrpSpPr>
        <p:grpSpPr>
          <a:xfrm>
            <a:off x="539640" y="2565360"/>
            <a:ext cx="7812000" cy="2158560"/>
            <a:chOff x="539640" y="2565360"/>
            <a:chExt cx="7812000" cy="2158560"/>
          </a:xfrm>
        </p:grpSpPr>
        <p:sp>
          <p:nvSpPr>
            <p:cNvPr id="184" name="AutoShape 10"/>
            <p:cNvSpPr/>
            <p:nvPr/>
          </p:nvSpPr>
          <p:spPr>
            <a:xfrm>
              <a:off x="539640" y="2565360"/>
              <a:ext cx="7812000" cy="2158560"/>
            </a:xfrm>
            <a:prstGeom prst="roundRect">
              <a:avLst>
                <a:gd name="adj" fmla="val 38352"/>
              </a:avLst>
            </a:prstGeom>
            <a:gradFill rotWithShape="0">
              <a:gsLst>
                <a:gs pos="0">
                  <a:srgbClr val="33cccc">
                    <a:alpha val="78039"/>
                  </a:srgbClr>
                </a:gs>
                <a:gs pos="100000">
                  <a:srgbClr val="ffff66">
                    <a:alpha val="54117"/>
                  </a:srgbClr>
                </a:gs>
              </a:gsLst>
              <a:lin ang="27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Oval 54"/>
            <p:cNvSpPr/>
            <p:nvPr/>
          </p:nvSpPr>
          <p:spPr>
            <a:xfrm>
              <a:off x="1582560" y="3644640"/>
              <a:ext cx="287280" cy="23112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50196"/>
                  </a:srgbClr>
                </a:gs>
                <a:gs pos="100000">
                  <a:srgbClr val="76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Oval 190"/>
            <p:cNvSpPr/>
            <p:nvPr/>
          </p:nvSpPr>
          <p:spPr>
            <a:xfrm>
              <a:off x="2879640" y="3644640"/>
              <a:ext cx="287280" cy="231120"/>
            </a:xfrm>
            <a:prstGeom prst="ellipse">
              <a:avLst/>
            </a:prstGeom>
            <a:solidFill>
              <a:srgbClr val="ff33cc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4174920" y="3644640"/>
              <a:ext cx="287280" cy="231120"/>
            </a:xfrm>
            <a:prstGeom prst="ellipse">
              <a:avLst/>
            </a:prstGeom>
            <a:solidFill>
              <a:srgbClr val="ff33cc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Oval 192"/>
            <p:cNvSpPr/>
            <p:nvPr/>
          </p:nvSpPr>
          <p:spPr>
            <a:xfrm>
              <a:off x="5398920" y="3568320"/>
              <a:ext cx="287280" cy="229320"/>
            </a:xfrm>
            <a:prstGeom prst="ellipse">
              <a:avLst/>
            </a:prstGeom>
            <a:solidFill>
              <a:srgbClr val="ff33cc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Oval 193"/>
            <p:cNvSpPr/>
            <p:nvPr/>
          </p:nvSpPr>
          <p:spPr>
            <a:xfrm>
              <a:off x="6840360" y="3568320"/>
              <a:ext cx="287280" cy="229320"/>
            </a:xfrm>
            <a:prstGeom prst="ellipse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0" name="Group 336"/>
            <p:cNvGrpSpPr/>
            <p:nvPr/>
          </p:nvGrpSpPr>
          <p:grpSpPr>
            <a:xfrm>
              <a:off x="539640" y="2719800"/>
              <a:ext cx="7692480" cy="796680"/>
              <a:chOff x="539640" y="2719800"/>
              <a:chExt cx="7692480" cy="796680"/>
            </a:xfrm>
          </p:grpSpPr>
          <p:sp>
            <p:nvSpPr>
              <p:cNvPr id="191" name="AutoShape 326"/>
              <p:cNvSpPr/>
              <p:nvPr/>
            </p:nvSpPr>
            <p:spPr>
              <a:xfrm>
                <a:off x="1294920" y="271980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185e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AutoShape 327"/>
              <p:cNvSpPr/>
              <p:nvPr/>
            </p:nvSpPr>
            <p:spPr>
              <a:xfrm>
                <a:off x="2086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3137"/>
                    </a:srgbClr>
                  </a:gs>
                  <a:gs pos="100000">
                    <a:srgbClr val="0066ff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AutoShape 328"/>
              <p:cNvSpPr/>
              <p:nvPr/>
            </p:nvSpPr>
            <p:spPr>
              <a:xfrm>
                <a:off x="2807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0000">
                      <a:alpha val="53333"/>
                    </a:srgbClr>
                  </a:gs>
                  <a:gs pos="100000">
                    <a:srgbClr val="cc3300">
                      <a:alpha val="53333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AutoShape 329"/>
              <p:cNvSpPr/>
              <p:nvPr/>
            </p:nvSpPr>
            <p:spPr>
              <a:xfrm>
                <a:off x="3671280" y="2719800"/>
                <a:ext cx="960120" cy="796680"/>
              </a:xfrm>
              <a:prstGeom prst="diamond">
                <a:avLst/>
              </a:prstGeom>
              <a:solidFill>
                <a:srgbClr val="ffff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AutoShape 330"/>
              <p:cNvSpPr/>
              <p:nvPr/>
            </p:nvSpPr>
            <p:spPr>
              <a:xfrm>
                <a:off x="453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cc3300">
                      <a:alpha val="68235"/>
                    </a:srgbClr>
                  </a:gs>
                  <a:gs pos="100000">
                    <a:srgbClr val="ff3300">
                      <a:alpha val="69019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AutoShape 331"/>
              <p:cNvSpPr/>
              <p:nvPr/>
            </p:nvSpPr>
            <p:spPr>
              <a:xfrm>
                <a:off x="539640" y="271980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AutoShape 332"/>
              <p:cNvSpPr/>
              <p:nvPr/>
            </p:nvSpPr>
            <p:spPr>
              <a:xfrm>
                <a:off x="5255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9019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AutoShape 333"/>
              <p:cNvSpPr/>
              <p:nvPr/>
            </p:nvSpPr>
            <p:spPr>
              <a:xfrm>
                <a:off x="597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ff66">
                      <a:alpha val="72156"/>
                    </a:srgbClr>
                  </a:gs>
                  <a:gs pos="100000">
                    <a:srgbClr val="0000ff">
                      <a:alpha val="74117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AutoShape 334"/>
              <p:cNvSpPr/>
              <p:nvPr/>
            </p:nvSpPr>
            <p:spPr>
              <a:xfrm>
                <a:off x="6624000" y="2719800"/>
                <a:ext cx="960120" cy="796680"/>
              </a:xfrm>
              <a:prstGeom prst="diamond">
                <a:avLst/>
              </a:prstGeom>
              <a:solidFill>
                <a:srgbClr val="33cc33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AutoShape 335"/>
              <p:cNvSpPr/>
              <p:nvPr/>
            </p:nvSpPr>
            <p:spPr>
              <a:xfrm>
                <a:off x="727200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Group 337"/>
            <p:cNvGrpSpPr/>
            <p:nvPr/>
          </p:nvGrpSpPr>
          <p:grpSpPr>
            <a:xfrm>
              <a:off x="539640" y="3877560"/>
              <a:ext cx="7692480" cy="796680"/>
              <a:chOff x="539640" y="3877560"/>
              <a:chExt cx="7692480" cy="796680"/>
            </a:xfrm>
          </p:grpSpPr>
          <p:sp>
            <p:nvSpPr>
              <p:cNvPr id="202" name="AutoShape 338"/>
              <p:cNvSpPr/>
              <p:nvPr/>
            </p:nvSpPr>
            <p:spPr>
              <a:xfrm>
                <a:off x="1294920" y="387756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AutoShape 339"/>
              <p:cNvSpPr/>
              <p:nvPr/>
            </p:nvSpPr>
            <p:spPr>
              <a:xfrm>
                <a:off x="2086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AutoShape 340"/>
              <p:cNvSpPr/>
              <p:nvPr/>
            </p:nvSpPr>
            <p:spPr>
              <a:xfrm>
                <a:off x="2807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AutoShape 341"/>
              <p:cNvSpPr/>
              <p:nvPr/>
            </p:nvSpPr>
            <p:spPr>
              <a:xfrm>
                <a:off x="367128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AutoShape 342"/>
              <p:cNvSpPr/>
              <p:nvPr/>
            </p:nvSpPr>
            <p:spPr>
              <a:xfrm>
                <a:off x="453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AutoShape 343"/>
              <p:cNvSpPr/>
              <p:nvPr/>
            </p:nvSpPr>
            <p:spPr>
              <a:xfrm>
                <a:off x="539640" y="387756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AutoShape 344"/>
              <p:cNvSpPr/>
              <p:nvPr/>
            </p:nvSpPr>
            <p:spPr>
              <a:xfrm>
                <a:off x="5255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AutoShape 345"/>
              <p:cNvSpPr/>
              <p:nvPr/>
            </p:nvSpPr>
            <p:spPr>
              <a:xfrm>
                <a:off x="597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AutoShape 346"/>
              <p:cNvSpPr/>
              <p:nvPr/>
            </p:nvSpPr>
            <p:spPr>
              <a:xfrm>
                <a:off x="6624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AutoShape 347"/>
              <p:cNvSpPr/>
              <p:nvPr/>
            </p:nvSpPr>
            <p:spPr>
              <a:xfrm>
                <a:off x="7272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2" name="AutoShape 349"/>
            <p:cNvSpPr/>
            <p:nvPr/>
          </p:nvSpPr>
          <p:spPr>
            <a:xfrm>
              <a:off x="1295280" y="3260520"/>
              <a:ext cx="92556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AutoShape 350"/>
            <p:cNvSpPr/>
            <p:nvPr/>
          </p:nvSpPr>
          <p:spPr>
            <a:xfrm>
              <a:off x="2087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AutoShape 351"/>
            <p:cNvSpPr/>
            <p:nvPr/>
          </p:nvSpPr>
          <p:spPr>
            <a:xfrm>
              <a:off x="2808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AutoShape 352"/>
            <p:cNvSpPr/>
            <p:nvPr/>
          </p:nvSpPr>
          <p:spPr>
            <a:xfrm>
              <a:off x="367164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AutoShape 353"/>
            <p:cNvSpPr/>
            <p:nvPr/>
          </p:nvSpPr>
          <p:spPr>
            <a:xfrm>
              <a:off x="453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AutoShape 354"/>
            <p:cNvSpPr/>
            <p:nvPr/>
          </p:nvSpPr>
          <p:spPr>
            <a:xfrm>
              <a:off x="539640" y="3260520"/>
              <a:ext cx="888840" cy="76968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AutoShape 355"/>
            <p:cNvSpPr/>
            <p:nvPr/>
          </p:nvSpPr>
          <p:spPr>
            <a:xfrm>
              <a:off x="5256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AutoShape 356"/>
            <p:cNvSpPr/>
            <p:nvPr/>
          </p:nvSpPr>
          <p:spPr>
            <a:xfrm>
              <a:off x="597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AutoShape 357"/>
            <p:cNvSpPr/>
            <p:nvPr/>
          </p:nvSpPr>
          <p:spPr>
            <a:xfrm>
              <a:off x="662436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AutoShape 358"/>
            <p:cNvSpPr/>
            <p:nvPr/>
          </p:nvSpPr>
          <p:spPr>
            <a:xfrm>
              <a:off x="7272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0" y="630828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D27D-0745-4CFB-AD18-3C6BA6079E64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1039320"/>
            <a:ext cx="7772400" cy="1878120"/>
          </a:xfrm>
          <a:prstGeom prst="rect">
            <a:avLst/>
          </a:prstGeom>
          <a:solidFill>
            <a:srgbClr val="d2fffb">
              <a:alpha val="3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ОЗНАВАТЕЛЬНЫЕ ПРОЦЕССЫ ЧЕЛОВЕК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03280" y="4739760"/>
            <a:ext cx="6400800" cy="17319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Качества внима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бъем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Устойчив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центрация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– сосредоточенность субъекта на объекте, сила поглощенности его этим объекто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Рас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– возможность одновремен-ного выполнения нескольких видов действий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ереключаем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пособность намеренно переносить внимание с одного объекта на друго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амять, виды памяти.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Закономерности памяти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Памят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запечатление (запись), сохранение и воспроизведение следов прошлого опыта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иды памяти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95280" y="3068640"/>
            <a:ext cx="8497800" cy="86364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арактеру психической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обладающей в деятельност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611280" y="393372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3059280" y="3933720"/>
            <a:ext cx="7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7380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24000" y="4508640"/>
            <a:ext cx="2376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виг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843280" y="4508640"/>
            <a:ext cx="230328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моц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3564000" y="5589720"/>
            <a:ext cx="223200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з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24360" y="4508640"/>
            <a:ext cx="3132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ловесно-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29272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627280" y="333360"/>
            <a:ext cx="5761080" cy="57456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характеру цел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2916360" y="98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73272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87280" y="1413000"/>
            <a:ext cx="2592720" cy="503280"/>
          </a:xfrm>
          <a:prstGeom prst="rect">
            <a:avLst/>
          </a:prstGeom>
          <a:solidFill>
            <a:srgbClr val="e9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757840" y="1486080"/>
            <a:ext cx="259092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625840" y="2421000"/>
            <a:ext cx="4680000" cy="576360"/>
          </a:xfrm>
          <a:prstGeom prst="rect">
            <a:avLst/>
          </a:prstGeom>
          <a:gradFill rotWithShape="0">
            <a:gsLst>
              <a:gs pos="0">
                <a:srgbClr val="ff33cc">
                  <a:alpha val="31372"/>
                </a:srgbClr>
              </a:gs>
              <a:gs pos="100000">
                <a:srgbClr val="3366ff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степени участия мыш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2556000" y="2997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6948360" y="2997360"/>
            <a:ext cx="28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187280" y="342900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мыслов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5651640" y="3500280"/>
            <a:ext cx="2592360" cy="50508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2556000" y="4292640"/>
            <a:ext cx="4859280" cy="431640"/>
          </a:xfrm>
          <a:prstGeom prst="rect">
            <a:avLst/>
          </a:prstGeom>
          <a:gradFill rotWithShape="0">
            <a:gsLst>
              <a:gs pos="0">
                <a:srgbClr val="ff33cc">
                  <a:alpha val="49019"/>
                </a:srgbClr>
              </a:gs>
              <a:gs pos="100000">
                <a:srgbClr val="3366ff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времени сохран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Line 30"/>
          <p:cNvSpPr/>
          <p:nvPr/>
        </p:nvSpPr>
        <p:spPr>
          <a:xfrm flipH="1">
            <a:off x="226836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372360" y="4724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826920" y="501336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тк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5364000" y="5013360"/>
            <a:ext cx="288144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лг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01120" y="1891800"/>
            <a:ext cx="81867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826920" y="333360"/>
            <a:ext cx="7561440" cy="5184720"/>
            <a:chOff x="826920" y="333360"/>
            <a:chExt cx="7561440" cy="5184720"/>
          </a:xfrm>
        </p:grpSpPr>
        <p:sp>
          <p:nvSpPr>
            <p:cNvPr id="347" name="Rectangle 4"/>
            <p:cNvSpPr/>
            <p:nvPr/>
          </p:nvSpPr>
          <p:spPr>
            <a:xfrm>
              <a:off x="2627280" y="333360"/>
              <a:ext cx="5761080" cy="5745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характеру цел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 flipH="1">
              <a:off x="2916360" y="98100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6732720" y="90792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1187280" y="1413000"/>
              <a:ext cx="2592720" cy="503280"/>
            </a:xfrm>
            <a:prstGeom prst="rect">
              <a:avLst/>
            </a:prstGeom>
            <a:solidFill>
              <a:srgbClr val="e9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е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757840" y="1486080"/>
              <a:ext cx="259092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2625840" y="2421000"/>
              <a:ext cx="4680000" cy="5763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4313"/>
                  </a:srgbClr>
                </a:gs>
                <a:gs pos="100000">
                  <a:srgbClr val="ffcc00">
                    <a:alpha val="6235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степени участия мышл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 flipH="1">
              <a:off x="2556000" y="299736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6948360" y="2997360"/>
              <a:ext cx="287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187280" y="342900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мыслов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651640" y="3500280"/>
              <a:ext cx="2592360" cy="50508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Механическ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2556000" y="4292640"/>
              <a:ext cx="4859280" cy="43164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времени сохран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 flipH="1">
              <a:off x="2268360" y="4724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6372360" y="4724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826920" y="501336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кратк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5364000" y="5013360"/>
              <a:ext cx="288144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олг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Закономерности памят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Качество запоминания зависит от того, какая была поставлена цель, установ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3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3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Эффект Зейгарник» – особенность непроизвольного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запоминания, которая заключается в том, что прерванна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6008760" cy="6092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6372360" y="1936800"/>
            <a:ext cx="253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исунок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. Борин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304680" y="3571920"/>
            <a:ext cx="276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ин и тот же элемент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ключенный в разные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остные структур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ринимается по-разному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Narrow"/>
              </a:rPr>
              <a:t>Мышление, виды мышления. Развитие мышлен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опосредствованное и обобщенное отражение действительности в ее существенных связях и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1042920" y="2852640"/>
            <a:ext cx="7345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 Narrow"/>
              </a:rPr>
              <a:t>По развитию в онтогене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556000" y="5589720"/>
            <a:ext cx="4608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действен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556000" y="4797360"/>
            <a:ext cx="4608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образ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56000" y="3933720"/>
            <a:ext cx="46083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ловесно-лог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1547640" y="3860640"/>
            <a:ext cx="486000" cy="2305080"/>
          </a:xfrm>
          <a:prstGeom prst="upArrow">
            <a:avLst>
              <a:gd name="adj1" fmla="val 50000"/>
              <a:gd name="adj2" fmla="val 118574"/>
            </a:avLst>
          </a:prstGeom>
          <a:solidFill>
            <a:srgbClr val="0099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84328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67327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1332000" y="333360"/>
            <a:ext cx="705636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редствам 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826920" y="14461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932360" y="144612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234000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65167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1187280" y="2205000"/>
            <a:ext cx="6840720" cy="647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рефлекси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826920" y="32497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флекс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5329080" y="3249720"/>
            <a:ext cx="28814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нтуи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2340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64436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826920" y="3860640"/>
            <a:ext cx="799308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новизны получаемого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одукта по отношению к знаниям субъек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1042920" y="5013360"/>
            <a:ext cx="3024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694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5219640" y="2852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1116000" y="260280"/>
            <a:ext cx="748836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типу решаемых задач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971640" y="14842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ак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932360" y="14860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2484360" y="98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65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763640" y="2349360"/>
            <a:ext cx="648036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Качеств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ыш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611280" y="4365720"/>
            <a:ext cx="244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780000" y="494172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59640" y="450864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611280" y="335772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6119640" y="342900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Line 15"/>
          <p:cNvSpPr/>
          <p:nvPr/>
        </p:nvSpPr>
        <p:spPr>
          <a:xfrm flipH="1">
            <a:off x="2556000" y="285264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195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730872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450072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сновные вопрос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670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Ощущение. Виды ощущ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Восприятие, свойства восприяти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Внимание. Виды внимания, и его основные свойств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амять, виды памяти. Закономерности памя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Мышление, виды мышления. Развитие мышл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Воображение, виды во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инте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ая операция, позволяющая соединять части в цело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тановление сходства и различия между объект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лассифик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тр Петрович всегда пьет чай с Федор Федоровичем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едор Федорович пьет сейчас ча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ьет ли Петр Петрович сейчас чай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металлы пропускают электрический то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Железо – металл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пускает ли оно ток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мпозитор: песня = архитектор:7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енное объединение предметов и явлений по их общим и существенным признака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ловесно-логическое мышление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характеристики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как логической категории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; объем; связи и отношения данного понятия с другими.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д </a:t>
            </a: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одержани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вязи и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Line 2"/>
          <p:cNvSpPr/>
          <p:nvPr/>
        </p:nvSpPr>
        <p:spPr>
          <a:xfrm>
            <a:off x="5076720" y="1411200"/>
            <a:ext cx="17272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549440" y="907920"/>
            <a:ext cx="64800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чества мыш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68360" y="2924280"/>
            <a:ext cx="216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637080" y="350028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516720" y="306720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468360" y="191628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5977080" y="198756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Line 15"/>
          <p:cNvSpPr/>
          <p:nvPr/>
        </p:nvSpPr>
        <p:spPr>
          <a:xfrm flipH="1">
            <a:off x="2413080" y="141120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052720" y="1411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7165800" y="1411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4356000" y="1413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ыделяют 4 уровня усвоения понятия (Н. А. Менчинска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называются признаки, без дифференциации их на существенные и второстепенны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3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4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нятие усвоено полно и точно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ображение, виды воображен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оображе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субъектности: произвольное и непроизвольн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отношению к возможному будущему: мечты, фантаз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уникальности: репродуктивное, творческ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Основные функции воображ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Регулирование эмоциональных отнош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Формирование внутреннего плана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ланирование и программирование деятельн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Произвольная регуляция познавательных процессов и состояний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ормы синтеза представлений в процессах воображ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гглютин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оединение несоединяемых в реальности качеств, свойств, частей предмет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Гиперб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величение или уменьшение предмета, изменение качества его частей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Заостр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дчеркивание каких-либо признако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Схемат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глаживание различий предметов и выявление черт сходства между ним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просы для самостоятельной работ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ерно ли выражение: «Восприятие – это сумма ощущений?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Подумайте, чем отличается память животного от памяти человека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Выготский Л. С. Психология воображения / Л. С. Выготский. – М., 199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ыготский Л. С. Развитие высших психических функций / Л. С. Выгот-ский. – М., 196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Грановская Р. М. Элементы практической психологии / Р. М. Грановская. – СПб., 199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Грегори Р. Л. Глаз и мозг. Психология зрительного восприятия /Р. Л. Грегори. – М., 1979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Демидов В. Е. Как мы видим то, что видим / В. Е. Демид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Лурия А. Р. Маленькая книжка о большой памяти / А. Р. Лурия. – М., 1968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Ключевые понят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9732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Петухов В. В. Психология мышления: учебно-методическое пособие / В. В. Петух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Платонов К. К. Занимательная психология / К. К. Платонов. – М., 196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1. Познавательные процессы и способности в обучении / под ред. В. Д. Шадрикова. – М., 199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3. Психология памяти: хрестоматия / под ред. Ю. Б. Гиппенрейтер, В. Я. Романова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щущение. Виды ощущений</a:t>
            </a:r>
            <a:br>
              <a:rPr sz="3600"/>
            </a:b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Ощущ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отражение отдельных свойств предмет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модальности) ощущений: обоняние, вкус, осязание, слух,  зрени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стематическая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щущ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429000"/>
            <a:ext cx="313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интр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93372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от сигналов из внут-ренней среды организма: кишеч-ника, желудка, кровеносной систе-мы. Обеспечивают регуляцию элементарных влечени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870520" y="3429000"/>
            <a:ext cx="32734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опри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059280" y="3860640"/>
            <a:ext cx="60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из глубоких мышц и суставных поверхностей. Обеспечивают информа-цию о положении тела в пространстве и о положении опорно-двигательного аппара-та, обеспечивают регуляцию движ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916360" y="4149720"/>
            <a:ext cx="3600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кстра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1280" y="4724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язание, вкус, обоняние, слух, зрение. Обеспе-чивают получение сигналов из внешнего мира и создают основу для созн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осприятие.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иды и свойства восприятия</a:t>
            </a: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осприят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 Narrow"/>
              </a:rPr>
              <a:t>Ведущие свойства человеческого восприятия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Це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редме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464000" cy="2808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599040" y="520380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Narrow"/>
              </a:rPr>
              <a:t>Целостное восприятие лица вопреки выпадению ряда элементов его конту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292720" y="1123920"/>
            <a:ext cx="2752560" cy="2114640"/>
            <a:chOff x="5292720" y="1123920"/>
            <a:chExt cx="2752560" cy="2114640"/>
          </a:xfrm>
        </p:grpSpPr>
        <p:sp>
          <p:nvSpPr>
            <p:cNvPr id="291" name="Freeform 5"/>
            <p:cNvSpPr/>
            <p:nvPr/>
          </p:nvSpPr>
          <p:spPr>
            <a:xfrm>
              <a:off x="5443560" y="1390680"/>
              <a:ext cx="2309760" cy="18478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1455" h="1164">
                  <a:moveTo>
                    <a:pt x="27" y="36"/>
                  </a:moveTo>
                  <a:cubicBezTo>
                    <a:pt x="34" y="200"/>
                    <a:pt x="0" y="592"/>
                    <a:pt x="87" y="708"/>
                  </a:cubicBezTo>
                  <a:cubicBezTo>
                    <a:pt x="106" y="764"/>
                    <a:pt x="98" y="796"/>
                    <a:pt x="159" y="816"/>
                  </a:cubicBezTo>
                  <a:cubicBezTo>
                    <a:pt x="183" y="876"/>
                    <a:pt x="177" y="883"/>
                    <a:pt x="231" y="924"/>
                  </a:cubicBezTo>
                  <a:cubicBezTo>
                    <a:pt x="245" y="935"/>
                    <a:pt x="265" y="937"/>
                    <a:pt x="279" y="948"/>
                  </a:cubicBezTo>
                  <a:cubicBezTo>
                    <a:pt x="297" y="962"/>
                    <a:pt x="308" y="983"/>
                    <a:pt x="327" y="996"/>
                  </a:cubicBezTo>
                  <a:cubicBezTo>
                    <a:pt x="380" y="1031"/>
                    <a:pt x="481" y="1064"/>
                    <a:pt x="543" y="1080"/>
                  </a:cubicBezTo>
                  <a:cubicBezTo>
                    <a:pt x="588" y="1147"/>
                    <a:pt x="540" y="1095"/>
                    <a:pt x="639" y="1128"/>
                  </a:cubicBezTo>
                  <a:cubicBezTo>
                    <a:pt x="653" y="1133"/>
                    <a:pt x="662" y="1146"/>
                    <a:pt x="675" y="1152"/>
                  </a:cubicBezTo>
                  <a:cubicBezTo>
                    <a:pt x="690" y="1158"/>
                    <a:pt x="707" y="1160"/>
                    <a:pt x="723" y="1164"/>
                  </a:cubicBezTo>
                  <a:cubicBezTo>
                    <a:pt x="760" y="1161"/>
                    <a:pt x="903" y="1156"/>
                    <a:pt x="963" y="1140"/>
                  </a:cubicBezTo>
                  <a:cubicBezTo>
                    <a:pt x="1022" y="1124"/>
                    <a:pt x="1065" y="1083"/>
                    <a:pt x="1119" y="1056"/>
                  </a:cubicBezTo>
                  <a:cubicBezTo>
                    <a:pt x="1174" y="974"/>
                    <a:pt x="1244" y="900"/>
                    <a:pt x="1323" y="840"/>
                  </a:cubicBezTo>
                  <a:cubicBezTo>
                    <a:pt x="1360" y="730"/>
                    <a:pt x="1298" y="901"/>
                    <a:pt x="1371" y="756"/>
                  </a:cubicBezTo>
                  <a:cubicBezTo>
                    <a:pt x="1405" y="689"/>
                    <a:pt x="1431" y="588"/>
                    <a:pt x="1455" y="516"/>
                  </a:cubicBezTo>
                  <a:cubicBezTo>
                    <a:pt x="1444" y="384"/>
                    <a:pt x="1449" y="401"/>
                    <a:pt x="1431" y="300"/>
                  </a:cubicBezTo>
                  <a:cubicBezTo>
                    <a:pt x="1423" y="256"/>
                    <a:pt x="1398" y="200"/>
                    <a:pt x="1395" y="156"/>
                  </a:cubicBezTo>
                  <a:cubicBezTo>
                    <a:pt x="1392" y="104"/>
                    <a:pt x="1395" y="52"/>
                    <a:pt x="139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Freeform 6"/>
            <p:cNvSpPr/>
            <p:nvPr/>
          </p:nvSpPr>
          <p:spPr>
            <a:xfrm>
              <a:off x="6915240" y="1371600"/>
              <a:ext cx="361800" cy="272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28" h="172">
                  <a:moveTo>
                    <a:pt x="0" y="96"/>
                  </a:moveTo>
                  <a:cubicBezTo>
                    <a:pt x="56" y="12"/>
                    <a:pt x="24" y="40"/>
                    <a:pt x="84" y="0"/>
                  </a:cubicBezTo>
                  <a:cubicBezTo>
                    <a:pt x="133" y="49"/>
                    <a:pt x="159" y="97"/>
                    <a:pt x="228" y="120"/>
                  </a:cubicBezTo>
                  <a:cubicBezTo>
                    <a:pt x="184" y="135"/>
                    <a:pt x="147" y="142"/>
                    <a:pt x="108" y="168"/>
                  </a:cubicBezTo>
                  <a:cubicBezTo>
                    <a:pt x="23" y="151"/>
                    <a:pt x="61" y="172"/>
                    <a:pt x="0" y="9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991200" y="1481040"/>
              <a:ext cx="114480" cy="189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72" h="119">
                  <a:moveTo>
                    <a:pt x="24" y="63"/>
                  </a:moveTo>
                  <a:cubicBezTo>
                    <a:pt x="36" y="51"/>
                    <a:pt x="60" y="44"/>
                    <a:pt x="60" y="27"/>
                  </a:cubicBezTo>
                  <a:cubicBezTo>
                    <a:pt x="60" y="13"/>
                    <a:pt x="38" y="0"/>
                    <a:pt x="24" y="3"/>
                  </a:cubicBezTo>
                  <a:cubicBezTo>
                    <a:pt x="10" y="6"/>
                    <a:pt x="8" y="27"/>
                    <a:pt x="0" y="39"/>
                  </a:cubicBezTo>
                  <a:cubicBezTo>
                    <a:pt x="5" y="48"/>
                    <a:pt x="30" y="119"/>
                    <a:pt x="60" y="111"/>
                  </a:cubicBezTo>
                  <a:cubicBezTo>
                    <a:pt x="72" y="108"/>
                    <a:pt x="68" y="87"/>
                    <a:pt x="72" y="75"/>
                  </a:cubicBezTo>
                  <a:cubicBezTo>
                    <a:pt x="55" y="25"/>
                    <a:pt x="71" y="32"/>
                    <a:pt x="24" y="6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6354720" y="2487600"/>
              <a:ext cx="557280" cy="2174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51" h="137">
                  <a:moveTo>
                    <a:pt x="29" y="41"/>
                  </a:moveTo>
                  <a:cubicBezTo>
                    <a:pt x="61" y="45"/>
                    <a:pt x="93" y="50"/>
                    <a:pt x="125" y="53"/>
                  </a:cubicBezTo>
                  <a:cubicBezTo>
                    <a:pt x="340" y="70"/>
                    <a:pt x="351" y="0"/>
                    <a:pt x="317" y="101"/>
                  </a:cubicBezTo>
                  <a:cubicBezTo>
                    <a:pt x="0" y="83"/>
                    <a:pt x="187" y="106"/>
                    <a:pt x="29" y="53"/>
                  </a:cubicBezTo>
                  <a:cubicBezTo>
                    <a:pt x="25" y="64"/>
                    <a:pt x="1" y="114"/>
                    <a:pt x="29" y="125"/>
                  </a:cubicBezTo>
                  <a:cubicBezTo>
                    <a:pt x="44" y="131"/>
                    <a:pt x="61" y="117"/>
                    <a:pt x="77" y="113"/>
                  </a:cubicBezTo>
                  <a:cubicBezTo>
                    <a:pt x="89" y="105"/>
                    <a:pt x="100" y="95"/>
                    <a:pt x="113" y="89"/>
                  </a:cubicBezTo>
                  <a:cubicBezTo>
                    <a:pt x="128" y="83"/>
                    <a:pt x="147" y="85"/>
                    <a:pt x="161" y="77"/>
                  </a:cubicBezTo>
                  <a:cubicBezTo>
                    <a:pt x="183" y="65"/>
                    <a:pt x="201" y="45"/>
                    <a:pt x="221" y="29"/>
                  </a:cubicBezTo>
                  <a:cubicBezTo>
                    <a:pt x="225" y="41"/>
                    <a:pt x="223" y="57"/>
                    <a:pt x="233" y="65"/>
                  </a:cubicBezTo>
                  <a:cubicBezTo>
                    <a:pt x="246" y="75"/>
                    <a:pt x="297" y="82"/>
                    <a:pt x="281" y="77"/>
                  </a:cubicBezTo>
                  <a:cubicBezTo>
                    <a:pt x="245" y="65"/>
                    <a:pt x="209" y="53"/>
                    <a:pt x="173" y="41"/>
                  </a:cubicBezTo>
                  <a:cubicBezTo>
                    <a:pt x="161" y="37"/>
                    <a:pt x="149" y="33"/>
                    <a:pt x="137" y="29"/>
                  </a:cubicBezTo>
                  <a:cubicBezTo>
                    <a:pt x="125" y="25"/>
                    <a:pt x="101" y="17"/>
                    <a:pt x="101" y="17"/>
                  </a:cubicBezTo>
                  <a:cubicBezTo>
                    <a:pt x="36" y="60"/>
                    <a:pt x="36" y="94"/>
                    <a:pt x="101" y="137"/>
                  </a:cubicBezTo>
                  <a:cubicBezTo>
                    <a:pt x="150" y="118"/>
                    <a:pt x="196" y="93"/>
                    <a:pt x="245" y="77"/>
                  </a:cubicBezTo>
                  <a:cubicBezTo>
                    <a:pt x="289" y="92"/>
                    <a:pt x="275" y="100"/>
                    <a:pt x="293" y="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7667640" y="1773360"/>
              <a:ext cx="377640" cy="64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238" h="405">
                  <a:moveTo>
                    <a:pt x="130" y="0"/>
                  </a:moveTo>
                  <a:cubicBezTo>
                    <a:pt x="224" y="94"/>
                    <a:pt x="192" y="51"/>
                    <a:pt x="238" y="120"/>
                  </a:cubicBezTo>
                  <a:cubicBezTo>
                    <a:pt x="220" y="174"/>
                    <a:pt x="206" y="175"/>
                    <a:pt x="154" y="192"/>
                  </a:cubicBezTo>
                  <a:cubicBezTo>
                    <a:pt x="142" y="204"/>
                    <a:pt x="122" y="212"/>
                    <a:pt x="118" y="228"/>
                  </a:cubicBezTo>
                  <a:cubicBezTo>
                    <a:pt x="105" y="279"/>
                    <a:pt x="134" y="340"/>
                    <a:pt x="106" y="384"/>
                  </a:cubicBezTo>
                  <a:cubicBezTo>
                    <a:pt x="92" y="405"/>
                    <a:pt x="34" y="360"/>
                    <a:pt x="34" y="360"/>
                  </a:cubicBezTo>
                  <a:cubicBezTo>
                    <a:pt x="4" y="315"/>
                    <a:pt x="0" y="334"/>
                    <a:pt x="34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5292720" y="1413000"/>
              <a:ext cx="584280" cy="18396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8" h="116">
                  <a:moveTo>
                    <a:pt x="0" y="12"/>
                  </a:moveTo>
                  <a:cubicBezTo>
                    <a:pt x="88" y="16"/>
                    <a:pt x="179" y="0"/>
                    <a:pt x="264" y="24"/>
                  </a:cubicBezTo>
                  <a:cubicBezTo>
                    <a:pt x="368" y="54"/>
                    <a:pt x="224" y="93"/>
                    <a:pt x="216" y="96"/>
                  </a:cubicBezTo>
                  <a:cubicBezTo>
                    <a:pt x="212" y="95"/>
                    <a:pt x="58" y="77"/>
                    <a:pt x="48" y="72"/>
                  </a:cubicBezTo>
                  <a:cubicBezTo>
                    <a:pt x="37" y="66"/>
                    <a:pt x="40" y="48"/>
                    <a:pt x="36" y="36"/>
                  </a:cubicBezTo>
                  <a:cubicBezTo>
                    <a:pt x="76" y="23"/>
                    <a:pt x="116" y="13"/>
                    <a:pt x="156" y="0"/>
                  </a:cubicBezTo>
                  <a:cubicBezTo>
                    <a:pt x="172" y="24"/>
                    <a:pt x="188" y="48"/>
                    <a:pt x="204" y="72"/>
                  </a:cubicBezTo>
                  <a:cubicBezTo>
                    <a:pt x="212" y="84"/>
                    <a:pt x="180" y="36"/>
                    <a:pt x="180" y="36"/>
                  </a:cubicBezTo>
                  <a:cubicBezTo>
                    <a:pt x="152" y="40"/>
                    <a:pt x="116" y="28"/>
                    <a:pt x="96" y="48"/>
                  </a:cubicBezTo>
                  <a:cubicBezTo>
                    <a:pt x="82" y="62"/>
                    <a:pt x="91" y="97"/>
                    <a:pt x="108" y="108"/>
                  </a:cubicBezTo>
                  <a:cubicBezTo>
                    <a:pt x="120" y="116"/>
                    <a:pt x="122" y="82"/>
                    <a:pt x="132" y="72"/>
                  </a:cubicBezTo>
                  <a:cubicBezTo>
                    <a:pt x="138" y="66"/>
                    <a:pt x="148" y="64"/>
                    <a:pt x="156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5429160" y="1123920"/>
              <a:ext cx="609840" cy="1159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84" h="73">
                  <a:moveTo>
                    <a:pt x="0" y="60"/>
                  </a:moveTo>
                  <a:cubicBezTo>
                    <a:pt x="79" y="13"/>
                    <a:pt x="119" y="21"/>
                    <a:pt x="204" y="0"/>
                  </a:cubicBezTo>
                  <a:cubicBezTo>
                    <a:pt x="224" y="4"/>
                    <a:pt x="246" y="3"/>
                    <a:pt x="264" y="12"/>
                  </a:cubicBezTo>
                  <a:cubicBezTo>
                    <a:pt x="279" y="20"/>
                    <a:pt x="285" y="40"/>
                    <a:pt x="300" y="48"/>
                  </a:cubicBezTo>
                  <a:cubicBezTo>
                    <a:pt x="345" y="73"/>
                    <a:pt x="351" y="72"/>
                    <a:pt x="38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6553080" y="1133640"/>
              <a:ext cx="666720" cy="128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0" h="81">
                  <a:moveTo>
                    <a:pt x="0" y="30"/>
                  </a:moveTo>
                  <a:cubicBezTo>
                    <a:pt x="90" y="0"/>
                    <a:pt x="136" y="9"/>
                    <a:pt x="240" y="18"/>
                  </a:cubicBezTo>
                  <a:cubicBezTo>
                    <a:pt x="252" y="30"/>
                    <a:pt x="262" y="45"/>
                    <a:pt x="276" y="54"/>
                  </a:cubicBezTo>
                  <a:cubicBezTo>
                    <a:pt x="317" y="81"/>
                    <a:pt x="345" y="43"/>
                    <a:pt x="384" y="30"/>
                  </a:cubicBezTo>
                  <a:cubicBezTo>
                    <a:pt x="396" y="34"/>
                    <a:pt x="420" y="42"/>
                    <a:pt x="420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5076720" y="3573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 Narrow"/>
              </a:rPr>
              <a:t>Несформированная целостность. Таким может быть рисунок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нимание, виды и основные свойства внимания</a:t>
            </a: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8243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нима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Классификация 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видов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(основание: актив-ность личности) (Н. Ф. Добрынин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000" y="479736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995200" y="4076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4" name="Group 18"/>
          <p:cNvGrpSpPr/>
          <p:nvPr/>
        </p:nvGrpSpPr>
        <p:grpSpPr>
          <a:xfrm>
            <a:off x="539640" y="3933360"/>
            <a:ext cx="8604360" cy="2089440"/>
            <a:chOff x="539640" y="3933360"/>
            <a:chExt cx="8604360" cy="2089440"/>
          </a:xfrm>
        </p:grpSpPr>
        <p:sp>
          <p:nvSpPr>
            <p:cNvPr id="305" name="Line 7"/>
            <p:cNvSpPr/>
            <p:nvPr/>
          </p:nvSpPr>
          <p:spPr>
            <a:xfrm flipV="1">
              <a:off x="539640" y="52308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539640" y="52308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3132000" y="4510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3132000" y="451008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4"/>
            <p:cNvSpPr/>
            <p:nvPr/>
          </p:nvSpPr>
          <p:spPr>
            <a:xfrm flipV="1">
              <a:off x="5580000" y="3933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5"/>
            <p:cNvSpPr/>
            <p:nvPr/>
          </p:nvSpPr>
          <p:spPr>
            <a:xfrm>
              <a:off x="5580000" y="3933720"/>
              <a:ext cx="35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1" name="Text Box 16"/>
          <p:cNvSpPr/>
          <p:nvPr/>
        </p:nvSpPr>
        <p:spPr>
          <a:xfrm>
            <a:off x="5421960" y="350028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ПОСЛ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92200" y="568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611280" y="5229360"/>
            <a:ext cx="7272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нимание человека непосредственно привлекаетс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ибо сильным, либо новым, либо интересны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дражителе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1547640" y="4508640"/>
            <a:ext cx="7272360" cy="1800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, относится к высши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сихическим функциям. Процесс формировани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извольного внимания описал Л. С. Выготский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казательный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жест + слово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ыделение предме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остальных, фиксац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1116000" y="3933720"/>
            <a:ext cx="7812000" cy="187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; возникает на основе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го произвольного внимания и интерес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 объекту, после чего внимание становится похожи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непроизволь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1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1:36:44Z</dcterms:created>
  <dc:creator>Лидия</dc:creator>
  <dc:description/>
  <dc:language>en-US</dc:language>
  <cp:lastModifiedBy>LEGION</cp:lastModifiedBy>
  <dcterms:modified xsi:type="dcterms:W3CDTF">2014-11-12T07:31:13Z</dcterms:modified>
  <cp:revision>87</cp:revision>
  <dc:subject/>
  <dc:title>Слайд 1</dc:title>
</cp:coreProperties>
</file>