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C2B0-7523-4120-A3AA-4DEB4450AF3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я и предпринимательств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ю подготовила преподаватель «Омского государственного колледжа управления и профессиональных технологий» Лебедкова Наталья Василье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ятия и предпринимательств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зентацию подготовила преподаватель «Омского государственного колледжа управления и профессиональных технологий» Лебедкова Наталья Васильевн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е товари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е товарищество (общество с неограниченной ответственностью) представляет собой форму организации предприятия, основанную на личном участие партнеров (товарищей) в его делах. По российскому законодательству полное товарищество – объединение нескольких граждан и/или юридических лиц для совместной хозяйственной деятельности на основании договора между ними. Главная отличительная черта полного товарищества заключается в том, что все его участники несут как совместную (имуществом товарищества), так и раздельную (личным имуществом) Ответственность по обязательствам предприятия. Полное товарищество действует под фирменным наименованием, которое содержит имена товарищ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лное товари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лное товарищество (общество с неограниченной ответственностью) представляет собой форму организации предприятия, основанную на личном участие партнеров (товарищей) в его делах. По российскому законодательству полное товарищество – объединение нескольких граждан и/или юридических лиц для совместной хозяйственной деятельности на основании договора между ними. Главная отличительная черта полного товарищества заключается в том, что все его участники несут как совместную (имуществом товарищества), так и раздельную (личным имуществом) Ответственность по обязательствам предприятия. Полное товарищество действует под фирменным наименованием, которое содержит имена товарище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. Полное товарищество создается и действует на основании учредительного договора, который подписывается всеми его участниками. После подачи соответствующего заявления полное товарищество подлежит государственной регистр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. Как свидетельствует мировой опыт, полное товарищество является наиболее простой формой предприятия и больше всего подходит для организации мелких фирм. Полное товарищество мобильно, максимально свободно в решениях и действиях. Структура органов управления в рамках товарищества определяется самими партнерами. Большую роль играет личное доверие партнеров друг к друг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я. Полное товарищество создается и действует на основании учредительного договора, который подписывается всеми его участниками. После подачи соответствующего заявления полное товарищество подлежит государственной регистра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имущества. Как свидетельствует мировой опыт, полное товарищество является наиболее простой формой предприятия и больше всего подходит для организации мелких фирм. Полное товарищество мобильно, максимально свободно в решениях и действиях. Структура органов управления в рамках товарищества определяется самими партнерами. Большую роль играет личное доверие партнеров друг к другу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андитное товари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андитное товарищество (товарищество на вере) представляет собой форму организации предприятия, в которой личное участие партнеров в делах с участием капитальными средствами. Основная черта товарищества на вере – наличие двух типов участников: коммандитистов и полных товарищ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мандитное товари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мандитное товарищество (товарищество на вере) представляет собой форму организации предприятия, в которой личное участие партнеров в делах с участием капитальными средствами. Основная черта товарищества на вере – наличие двух типов участников: коммандитистов и полных товарище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. Товарищество на вере действует под фирменным наименованием, в котором указаны имена полных товарищей. Обычно в случае включения в наименование имени коммандитиста последний становится полным товарищем, неограниченно ответственным по обязательствам товари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андитное товарищество создается и действует на основании учредительного договора, который подписывается всеми полными товарищами. После проверке договора уполномоченными государственными органами товарищество на вере подлежит регистр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я. Товарищество на вере действует под фирменным наименованием, в котором указаны имена полных товарищей. Обычно в случае включения в наименование имени коммандитиста последний становится полным товарищем, неограниченно ответственным по обязательствам товариществ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мандитное товарищество создается и действует на основании учредительного договора, который подписывается всеми полными товарищами. После проверке договора уполномоченными государственными органами товарищество на вере подлежит регистра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. Выбор этой формы организации предприятия наиболее предпочтителен в тех случаях, когда перед учредителями возникает необходимость разделения финансового контроля над предприятием (осуществляемого коммандитистами) и управленческого контроля (осуществляемого полными товарищами).Появление новых интересов не изменяет формы товарищества на вере, что следует рассматривать как реальную возможность привлечения дополнительных финансовых средств для деятельности предприятия без дополнительных формаль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имущества. Выбор этой формы организации предприятия наиболее предпочтителен в тех случаях, когда перед учредителями возникает необходимость разделения финансового контроля над предприятием (осуществляемого коммандитистами) и управленческого контроля (осуществляемого полными товарищами).Появление новых интересов не изменяет формы товарищества на вере, что следует рассматривать как реальную возможность привлечения дополнительных финансовых средств для деятельности предприятия без дополнительных формальносте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 с ограниченной ответствен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 с ограниченной ответственностью (ООО) признается учрежденное одним или несколькими лицами общество, уставный капитал которого разделен на определенные доли. Предприятие в форме ООО полностью отвечает по своим обязательствам всем имуществом. Участники общества не отвечают по его обязательствам и несут риск убытков, связанных с деятельностью общества, только в пределах внесенных вклад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щество с ограниченной ответственностью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щество с ограниченной ответственностью (ООО) признается учрежденное одним или несколькими лицами общество, уставный капитал которого разделен на определенные доли. Предприятие в форме ООО полностью отвечает по своим обязательствам всем имуществом. Участники общества не отвечают по его обязательствам и несут риск убытков, связанных с деятельностью общества, только в пределах внесенных вкладо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. Общество с ограниченной ответственностью может быть учреждено одним или несколькими лицами. Число участников ООО не должно превышать предела, установленного законом; в противном случае общество с ограниченной ответственностью подлежит преобразованию в акционерное обще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. Выбор общества с ограниченной ответственностью в качестве формы организации предприятия позволяет ограничить риск участников величиной вклада в уставной капитал. Преимуществом следует считать и то, что для образования общества с ограниченной ответственностью обычно необходим меньший капитал, чем для организации акционерных обществ (кроме того, число участников общества с ограниченной ответственностью не может быть слишком большим). Следует отметить и более простую, чем для акционерных обществ, систему отчетности. Общество с ограниченной ответственностью – оптимальная форма организации предприятий средней величины, в том числе семейных объедин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я. Общество с ограниченной ответственностью может быть учреждено одним или несколькими лицами. Число участников ООО не должно превышать предела, установленного законом; в противном случае общество с ограниченной ответственностью подлежит преобразованию в акционерное общество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имущества. Выбор общества с ограниченной ответственностью в качестве формы организации предприятия позволяет ограничить риск участников величиной вклада в уставной капитал. Преимуществом следует считать и то, что для образования общества с ограниченной ответственностью обычно необходим меньший капитал, чем для организации акционерных обществ (кроме того, число участников общества с ограниченной ответственностью не может быть слишком большим). Следует отметить и более простую, чем для акционерных обществ, систему отчетности. Общество с ограниченной ответственностью – оптимальная форма организации предприятий средней величины, в том числе семейных объединени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онерное об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онерным обществом (АО) признается предприятие, уставный капитал которого разделен на определенное число акций – ценных бумаг, свидетельствующих о вложении определенной суммы средств в капитал АО и дающих права на получение части прибыли в виде дивиден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кционерное об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кционерным обществом (АО) признается предприятие, уставный капитал которого разделен на определенное число акций – ценных бумаг, свидетельствующих о вложении определенной суммы средств в капитал АО и дающих права на получение части прибыли в виде дивиденд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. Учредителями АО могут быть как юридические, так и физические лица. АО может быть создано одним лицом или состоять из одного лица в случае приобретения всех акций одним акционером общества. Учредители АО заключают между собой договор и утверждают устав АО. Содержание устава регламентируется национальным законодательств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имущества. Главные преимущества АО как формы предприятий известны:  это возможность привлечения дополнительных средств через выпуск акций и ограничение риска вкладчика в уставный капитал. Положительным моментом является и упрощенный порядок выхода из состава акционеров. Как показывает практика, АО является наиболее подходящей формой для крупных предприятий с долгосрочными ц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я. Учредителями АО могут быть как юридические, так и физические лица. АО может быть создано одним лицом или состоять из одного лица в случае приобретения всех акций одним акционером общества. Учредители АО заключают между собой договор и утверждают устав АО. Содержание устава регламентируется национальным законодательство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имущества. Главные преимущества АО как формы предприятий известны:  это возможность привлечения дополнительных средств через выпуск акций и ограничение риска вкладчика в уставный капитал. Положительным моментом является и упрощенный порядок выхода из состава акционеров. Как показывает практика, АО является наиболее подходящей формой для крупных предприятий с долгосрочными целям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предприятий по родам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диционно предприятия различаются по родам деятельности, которую, по определению К.Кларка, можно классифицировать по трем сектора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ичный сектор, включающий аграрное производство, рыболовство, сырьевую, энергетическую и лесную промышлен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торичный сектор, объединяющий все виды промышленн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тичный сектор, охватывающий сферу услу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лассификация предприятий по родам деятельност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радиционно предприятия различаются по родам деятельности, которую, по определению К.Кларка, можно классифицировать по трем секторам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вичный сектор, включающий аграрное производство, рыболовство, сырьевую, энергетическую и лесную промышленность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торичный сектор, объединяющий все виды промышленной деятельност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ретичный сектор, охватывающий сферу услуг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редители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ущественный комплекс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е формы пред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ределение предприя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лассификация предприя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редители предприя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мущественный комплекс предприя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онные формы предприят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нимательская деятельност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СК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самостоятельная, осуществляемая на свой риск деятельность, направленная на систематическое получение прибыли от пользования имуществом, продажи товаров, выполнения работ или оказания услуг лицами, зарегистрированными в установленном законом порядке"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. 1 ст. 2 ГК РФ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НИМАТЕЛЬСКАЯ ДЕЯТЕЛЬНОСТ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"самостоятельная, осуществляемая на свой риск деятельность, направленная на систематическое получение прибыли от пользования имуществом, продажи товаров, выполнения работ или оказания услуг лицами, зарегистрированными в установленном законом порядке"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п. 1 ст. 2 ГК РФ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ним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ыль     +     удовлетворения потребно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ниматель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быль     +     удовлетворения потребносте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ИЗВОД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ует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ИЗВОД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ИЗНЕС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е создается для производства необходимых обществу материальных благ, для  предоставления разнообразных услуг населению. Непосредственным стимулом для организации производства, основания предприятия является перспектива получить прибыль и употребить ее для удовлетворения соответствующих потребностей. Иначе говоря, заданием всех производственных, научно-исследовательских, коммерческих предприятий является удовлетворение общественных потребностей в продукции, работах, услугах и реализация на основе полученной прибыли социальных и экономических интересов членов трудового коллектива и собственника имущества предприя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опыта работы процветающих фирм в развитых странах приводит к выводу, что их стабильно высокие результаты определяются обеспечением взаимодействия технологических, организационных и социальных элементов производства, которое достигается благодаря реализации новой концепции развития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ятие создается для производства необходимых обществу материальных благ, для  предоставления разнообразных услуг населению. Непосредственным стимулом для организации производства, основания предприятия является перспектива получить прибыль и употребить ее для удовлетворения соответствующих потребностей. Иначе говоря, заданием всех производственных, научно-исследовательских, коммерческих предприятий является удовлетворение общественных потребностей в продукции, работах, услугах и реализация на основе полученной прибыли социальных и экономических интересов членов трудового коллектива и собственника имущества предприяти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ализ опыта работы процветающих фирм в развитых странах приводит к выводу, что их стабильно высокие результаты определяются обеспечением взаимодействия технологических, организационных и социальных элементов производства, которое достигается благодаря реализации новой концепции развития экономик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фронов Н.А.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и. – М., 2006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нет-источн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allbest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inventech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тератур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афронов Н.А. Экономика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и. – М., 2006 г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тернет-источники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allbest.r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inventech.r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е - это самостоятельный хозяйствующий субъект, созданный для производства продукции, выполнения работ и оказания услуг с целью удовлетворения общественных потребностей и получения прибы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ятие - это самостоятельный хозяйствующий субъект, созданный для производства продукции, выполнения работ и оказания услуг с целью удовлетворения общественных потребностей и получения прибыл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илу обособленности предприятия самостоятельн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изводственной деятельности (что и сколько производить, как производит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ммерческой деятельности (что и сколько продавать, покупать, распределят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спределении производственного продукта (что идет на собственные нужды, а сколько на обмен и накопление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силу обособленности предприятия самостоятельны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производственной деятельности (что и сколько производить, как производить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коммерческой деятельности (что и сколько продавать, покупать, распределять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распределении производственного продукта (что идет на собственные нужды, а сколько на обмен и накопление и т.д.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е представляет собой производственно-технологическое, организационное и экономическое единство. Организационно оно является производственной единицей. Как правило, это завод, фабрика, шахта, электростанция, предприятие транспорта, связи, капитальное строительство, совхоз, оно может включать и несколько заводов или фабрик (комбинат, производственное объединение, концерн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е имеет собственное название, фирменный знак (марку), самостоятельный баланс, расчетный счет в банке. Оно несет имущественную ответственность по своим обязательствам, т.е. является юридическим лицом. Часто в хозяйственной практике используется понятие "фирма". Как правило, фирма представляет собой объединение однородных или смешанных пред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ятие представляет собой производственно-технологическое, организационное и экономическое единство. Организационно оно является производственной единицей. Как правило, это завод, фабрика, шахта, электростанция, предприятие транспорта, связи, капитальное строительство, совхоз, оно может включать и несколько заводов или фабрик (комбинат, производственное объединение, концерн и т.д.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ятие имеет собственное название, фирменный знак (марку), самостоятельный баланс, расчетный счет в банке. Оно несет имущественную ответственность по своим обязательствам, т.е. является юридическим лицом. Часто в хозяйственной практике используется понятие "фирма". Как правило, фирма представляет собой объединение однородных или смешанных предприяти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и качественных параметров классификации предприятий можно назвать следующ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 собственности (частные или государственные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 и содержание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ссортимент выпускаемой продук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и методы ведения конкурентной борьб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 вхождения в различные союзы и объедин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о-правовые формы предприниматель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реди качественных параметров классификации предприятий можно назвать следующие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ип собственности (частные или государственные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арактер и содержание деятельност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ссортимент выпускаемой продукции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особы и методы ведения конкурентной борьбы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особ вхождения в различные союзы и объединения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онно-правовые формы предпринимательской деятельност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редители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риятие может создаваться одним или несколькими частными лицами, другими предприятиями или государств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редители должны осуществить предусмотренные законом действия по его организации, включая образование имущества предприятия, его государственную регистрацию, получение лицензии на осуществление избранной предпринимательск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начально имущество предприятия создается за счет имущества, переданного ему учредителями в виде вкладов (взносов, паев). Вкладываться могут денежные средства, материальные ценности и другие виды иму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чно имущество предприятия обособленно и существует независимо от имущества его учредителей и участников (лиц, не имеющих отношения к учреждению предприятия и только вносящих свою долю в его имущества) и работников, занятых на предприятии. По своим обязательствам предприятие несет ответственность своим имуществ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редители предприя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едприятие может создаваться одним или несколькими частными лицами, другими предприятиями или государством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чредители должны осуществить предусмотренные законом действия по его организации, включая образование имущества предприятия, его государственную регистрацию, получение лицензии на осуществление избранной предпринимательской деятельност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воначально имущество предприятия создается за счет имущества, переданного ему учредителями в виде вкладов (взносов, паев). Вкладываться могут денежные средства, материальные ценности и другие виды имущества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ычно имущество предприятия обособленно и существует независимо от имущества его учредителей и участников (лиц, не имеющих отношения к учреждению предприятия и только вносящих свою долю в его имущества) и работников, занятых на предприятии. По своим обязательствам предприятие несет ответственность своим имущество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ущественный комплекс предпри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ущественный комплекс предприятия включает все виды имущества, которые необходимы для осуществления предпринимательской деятельности. Наряду с привычными материально-вещественными элементами – зданиями, сооружениями, земельными участками, машинами, оборудованием, сырьем, полуфабрикатами, готовыми изделиями, наличными денежными средствами – в нем содержатся и нематериальные элементы, представленные совокупностью имущественных прав и обязанностей. Обычно в хозяйственной практике подобные элементы обозначаются как права промышленной, финансовой и коммерческой собственности. К финансовой собственности относят денежные бумаги (облигации, векселя, чеки и т.д.) и документы, выражающие право участия в разного рода обществах и компаниях (акции). К коммерческой собственности относятся товара распорядительные документы, выражающие права на получения товара (коносаменты, накладные, складские свидетельства и т.п.). К промышленной собственности относятся промышленные образцы, товарные знаки, знаки обслуживания, фирменное наименование и другие средства индивидуализации юридического лица, продукции, выпускаемых товаров или оказываемых услуг. К имуществу предприятия в современных условиях относят и особые не материально-вещественные элементы, такие как сложившаяся репутация предприятия, его деловые связ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мущественный комплекс предприят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мущественный комплекс предприятия включает все виды имущества, которые необходимы для осуществления предпринимательской деятельности. Наряду с привычными материально-вещественными элементами – зданиями, сооружениями, земельными участками, машинами, оборудованием, сырьем, полуфабрикатами, готовыми изделиями, наличными денежными средствами – в нем содержатся и нематериальные элементы, представленные совокупностью имущественных прав и обязанностей. Обычно в хозяйственной практике подобные элементы обозначаются как права промышленной, финансовой и коммерческой собственности. К финансовой собственности относят денежные бумаги (облигации, векселя, чеки и т.д.) и документы, выражающие право участия в разного рода обществах и компаниях (акции). К коммерческой собственности относятся товара распорядительные документы, выражающие права на получения товара (коносаменты, накладные, складские свидетельства и т.п.). К промышленной собственности относятся промышленные образцы, товарные знаки, знаки обслуживания, фирменное наименование и другие средства индивидуализации юридического лица, продукции, выпускаемых товаров или оказываемых услуг. К имуществу предприятия в современных условиях относят и особые не материально-вещественные элементы, такие как сложившаяся репутация предприятия, его деловые связ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е формы предприят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ное товари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андитное товари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 с ограниченной ответственность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онерное об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рганизационные формы предприятий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лное товари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мандитное товари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щество с ограниченной ответственностью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кционерное общество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D627-F1D4-4E1D-AC89-6FE857F35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5392-B8EF-4391-9417-95F67BB3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8AF2-2649-470A-9FE3-72F3A9F33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2151-37F4-4B1A-A55E-2739903B7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3C13-9465-42D2-9E37-51800D328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E964-A705-4B6E-9D65-B49CDC6D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994B-5986-4391-B511-77FA35131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731C7-BE5B-45B7-9F15-EA76100C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0F4C1-6F55-431C-A52B-038DE86D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E38F-300C-4C4B-9C4F-52792E4C7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9D28-110B-4BCC-AEF3-408D771DC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7758-4EBC-4042-AD0E-1235D5F2D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BF418-78C3-4999-AF20-F87C91F6E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BC6A3-A99E-4484-9387-ECF96DD5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FE48F-C2D2-45CB-80A4-D0E41C358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49DB5-9190-4A91-9774-9A6984A7C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49178-0204-4CC7-8C54-1DDDE57F3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4195-510E-45C4-808D-942FA88D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E333-3AB4-44B4-8F23-250704C3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B887-AD62-487E-B33F-1E952B1F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80C5-EB13-4DA8-B3BD-E12D5EB8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F374-0F4C-417A-BDEF-E460BF0A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B55A-4581-4522-971B-1724EA89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55CB-7A99-4941-8010-899D6429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AC862-C5D3-4F67-9C3D-EFC8486C196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5c4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c5c4d9"/>
                </a:gs>
                <a:gs pos="100000">
                  <a:srgbClr val="b8b7d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FC866-04D8-4A51-83E9-EEF1E288648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10920" y="2339640"/>
            <a:ext cx="8134200" cy="17305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Предприятия и предпринимательство</a:t>
            </a:r>
            <a:br>
              <a:rPr sz="48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3851280" y="4060440"/>
            <a:ext cx="4929120" cy="24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зентацию подготовила преподаватель «Омского государственного колледжа управления и профессиональных технологий» Лебедкова Наталья Васильев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Полное товарище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55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олное товарищество (общество с неограниченной ответственностью) представляет собой форму организации предприятия, основанную на личном участие партнеров (товарищей) в его делах. По российскому законодательству полное товарищество – объединение нескольких граждан и/или юридических лиц для совместной хозяйственной деятельности на основании договора между ними. Главная отличительная черта полного товарищества заключается в том, что все его участники несут как совместную (имуществом товарищества), так и раздельную (личным имуществом) Ответственность по обязательствам предприятия. Полное товарищество действует под фирменным наименованием, которое содержит имена товарищей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95280" y="105228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Организация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ное товарищество создается и действует на основании учредительного договора, который подписывается всеми его участниками. После подачи соответствующего заявления полное товарищество подлежит государственной регистраци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Преимуществ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Как свидетельствует мировой опыт, полное товарищество является наиболее простой формой предприятия и больше всего подходит для организации мелких фирм. Полное товарищество мобильно, максимально свободно в решениях и действиях. Структура органов управления в рамках товарищества определяется самими партнерами. Большую роль играет личное доверие партнеров друг к друг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Коммандитное товарищ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ммандитное товарищество (товарищество на вере) представляет собой форму организации предприятия, в которой личное участие партнеров в делах с участием капитальными средствами. Основная черта товарищества на вере – наличие двух типов участников: коммандитистов и полных товарищей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рганизация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Товарищество на вере действует под фирменным наименованием, в котором указаны имена полных товарищей. Обычно в случае включения в наименование имени коммандитиста последний становится полным товарищем, неограниченно ответственным по обязательствам товариществ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оммандитное товарищество создается и действует на основании учредительного договора, который подписывается всеми полными товарищами. После проверке договора уполномоченными государственными органами товарищество на вере подлежит регистраци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еимущества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ыбор этой формы организации предприятия наиболее предпочтителен в тех случаях, когда перед учредителями возникает необходимость разделения финансового контроля над предприятием (осуществляемого коммандитистами) и управленческого контроля (осуществляемого полными товарищами).Появление новых интересов не изменяет формы товарищества на вере, что следует рассматривать как реальную возможность привлечения дополнительных финансовых средств для деятельности предприятия без дополнительных формальносте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8472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Arial"/>
              </a:rPr>
              <a:t>Общество с ограниченной ответственность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щество с ограниченной ответственностью (ООО) признается учрежденное одним или несколькими лицами общество, уставный капитал которого разделен на определенные доли. Предприятие в форме ООО полностью отвечает по своим обязательствам всем имуществом. Участники общества не отвечают по его обязательствам и несут риск убытков, связанных с деятельностью общества, только в пределах внесенных вклад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785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рганизация.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щество с ограниченной ответственностью может быть учреждено одним или несколькими лицами. Число участников ООО не должно превышать предела, установленного законом; в противном случае общество с ограниченной ответственностью подлежит преобразованию в акционерное общество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еимущества.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ыбор общества с ограниченной ответственностью в качестве формы организации предприятия позволяет ограничить риск участников величиной вклада в уставной капитал. Преимуществом следует считать и то, что для образования общества с ограниченной ответственностью обычно необходим меньший капитал, чем для организации акционерных обществ (кроме того, число участников общества с ограниченной ответственностью не может быть слишком большим). Следует отметить и более простую, чем для акционерных обществ, систему отчетности. Общество с ограниченной ответственностью – оптимальная форма организации предприятий средней величины, в том числе семейных объединени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Акционерное обществ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кционерным обществом (АО) признается предприятие, уставный капитал которого разделен на определенное число акций – ценных бумаг, свидетельствующих о вложении определенной суммы средств в капитал АО и дающих права на получение части прибыли в виде дивиденд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рганизация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чредителями АО могут быть как юридические, так и физические лица. АО может быть создано одним лицом или состоять из одного лица в случае приобретения всех акций одним акционером общества. Учредители АО заключают между собой договор и утверждают устав АО. Содержание устава регламентируется национальным законодательство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еимущества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лавные преимущества АО как формы предприятий известны:  это возможность привлечения дополнительных средств через выпуск акций и ограничение риска вкладчика в уставный капитал. Положительным моментом является и упрощенный порядок выхода из состава акционеров. Как показывает практика, АО является наиболее подходящей формой для крупных предприятий с долгосрочными целя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Классификация предприятий по родам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радиционно предприятия различаются по родам деятельности, которую, по определению К.Кларка, можно классифицировать по трем секторам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рвичный сектор, включающий аграрное производство, рыболовство, сырьевую, энергетическую и лесную промышленность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торичный сектор, объединяющий все виды промышленной деятельности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ретичный сектор, охватывающий сферу услуг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ределение предприя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лассификация предприя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чредители предприя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ущественный комплекс предприят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рганизационные формы предприят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принимательская деятельност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лючен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РЕДПРИНИМАТЕЛЬСКАЯ ДЕЯТЕЛЬ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"самостоятельная, осуществляемая на свой риск деятельность, направленная на систематическое получение прибыли от пользования имуществом, продажи товаров, выполнения работ или оказания услуг лицами, зарегистрированными в установленном законом порядке"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п. 1 ст. 2 ГК РФ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редпринимател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4" name="Picture 3" descr="C:\Documents and Settings\Первый\Local Settings\Temporary Internet Files\Content.IE5\GTC6DXZP\MM900283568[1].gif"/>
          <p:cNvPicPr/>
          <p:nvPr/>
        </p:nvPicPr>
        <p:blipFill>
          <a:blip r:embed="rId1"/>
          <a:stretch/>
        </p:blipFill>
        <p:spPr>
          <a:xfrm>
            <a:off x="1258920" y="1989000"/>
            <a:ext cx="1227240" cy="1371600"/>
          </a:xfrm>
          <a:prstGeom prst="rect">
            <a:avLst/>
          </a:prstGeom>
          <a:ln w="0">
            <a:noFill/>
          </a:ln>
        </p:spPr>
      </p:pic>
      <p:sp>
        <p:nvSpPr>
          <p:cNvPr id="215" name="Содержимое 2"/>
          <p:cNvSpPr/>
          <p:nvPr/>
        </p:nvSpPr>
        <p:spPr>
          <a:xfrm>
            <a:off x="457200" y="1523880"/>
            <a:ext cx="82296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TextBox 12"/>
          <p:cNvSpPr/>
          <p:nvPr/>
        </p:nvSpPr>
        <p:spPr>
          <a:xfrm>
            <a:off x="539640" y="3860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d2d8a"/>
                </a:solidFill>
                <a:latin typeface="Arial"/>
              </a:rPr>
              <a:t>Прибыль     +     удовлетворения потребност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TextBox 9"/>
          <p:cNvSpPr/>
          <p:nvPr/>
        </p:nvSpPr>
        <p:spPr>
          <a:xfrm>
            <a:off x="4648320" y="2362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ИЗВОДСТВ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18" name="Прямая со стрелкой 6"/>
          <p:cNvCxnSpPr/>
          <p:nvPr/>
        </p:nvCxnSpPr>
        <p:spPr>
          <a:xfrm>
            <a:off x="2209680" y="2666520"/>
            <a:ext cx="1829520" cy="2520"/>
          </a:xfrm>
          <a:prstGeom prst="straightConnector1">
            <a:avLst/>
          </a:prstGeom>
          <a:ln w="38160">
            <a:solidFill>
              <a:srgbClr val="c1bcfc"/>
            </a:solidFill>
            <a:miter/>
            <a:tailEnd len="med" type="arrow" w="med"/>
          </a:ln>
        </p:spPr>
      </p:cxnSp>
      <p:sp>
        <p:nvSpPr>
          <p:cNvPr id="219" name="TextBox 7"/>
          <p:cNvSpPr/>
          <p:nvPr/>
        </p:nvSpPr>
        <p:spPr>
          <a:xfrm>
            <a:off x="2362320" y="21337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ует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0" name="Багетная рамка 8"/>
          <p:cNvGrpSpPr/>
          <p:nvPr/>
        </p:nvGrpSpPr>
        <p:grpSpPr>
          <a:xfrm>
            <a:off x="4145040" y="1994040"/>
            <a:ext cx="2700360" cy="1096920"/>
            <a:chOff x="4145040" y="1994040"/>
            <a:chExt cx="2700360" cy="1096920"/>
          </a:xfrm>
        </p:grpSpPr>
        <p:pic>
          <p:nvPicPr>
            <p:cNvPr id="221" name="Багетная рамка 8" descr=""/>
            <p:cNvPicPr/>
            <p:nvPr/>
          </p:nvPicPr>
          <p:blipFill>
            <a:blip r:embed="rId2"/>
            <a:stretch/>
          </p:blipFill>
          <p:spPr>
            <a:xfrm>
              <a:off x="4145040" y="1994040"/>
              <a:ext cx="270036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4321080" y="2146320"/>
              <a:ext cx="2343240" cy="7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3" name="TextBox 9"/>
          <p:cNvSpPr/>
          <p:nvPr/>
        </p:nvSpPr>
        <p:spPr>
          <a:xfrm>
            <a:off x="4427640" y="234936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ОИЗВОДСТВ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Выноска со стрелкой вправо 13"/>
          <p:cNvSpPr/>
          <p:nvPr/>
        </p:nvSpPr>
        <p:spPr>
          <a:xfrm rot="16200000">
            <a:off x="3714840" y="1942920"/>
            <a:ext cx="1523880" cy="8305560"/>
          </a:xfrm>
          <a:prstGeom prst="rightArrowCallout">
            <a:avLst>
              <a:gd name="adj1" fmla="val -21526"/>
              <a:gd name="adj2" fmla="val 25006"/>
              <a:gd name="adj3" fmla="val 25000"/>
              <a:gd name="adj4" fmla="val 64977"/>
            </a:avLst>
          </a:prstGeom>
          <a:solidFill>
            <a:srgbClr val="f1f0f4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TextBox 14"/>
          <p:cNvSpPr/>
          <p:nvPr/>
        </p:nvSpPr>
        <p:spPr>
          <a:xfrm>
            <a:off x="3352680" y="60199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d2d8a"/>
                </a:solidFill>
                <a:latin typeface="Arial"/>
              </a:rPr>
              <a:t>БИЗНЕС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Місце для нижнього колонтитула 2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248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дприятие создается для производства необходимых обществу материальных благ, для  предоставления разнообразных услуг населению. Непосредственным стимулом для организации производства, основания предприятия является перспектива получить прибыль и употребить ее для удовлетворения соответствующих потребностей. Иначе говоря, заданием всех производственных, научно-исследовательских, коммерческих предприятий является удовлетворение общественных потребностей в продукции, работах, услугах и реализация на основе полученной прибыли социальных и экономических интересов членов трудового коллектива и собственника имущества предприяти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нализ опыта работы процветающих фирм в развитых странах приводит к выводу, что их стабильно высокие результаты определяются обеспечением взаимодействия технологических, организационных и социальных элементов производства, которое достигается благодаря реализации новой концепции развития экономик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Литература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афронов Н.А. Экономи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рганизации. – М., 2006 г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нтернет-источники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ww.allbest.r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5454c6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www.inventech.r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приятие - это самостоятельный хозяйствующий субъект, созданный для производства продукции, выполнения работ и оказания услуг с целью удовлетворения общественных потребностей и получения прибыл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 силу обособленности предприятия самостоятель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производственной деятельности (что и сколько производить, как производить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коммерческой деятельности (что и сколько продавать, покупать, распределять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распределении производственного продукта (что идет на собственные нужды, а сколько на обмен и накопление и т.д.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6600ff"/>
                </a:solidFill>
                <a:latin typeface="Times New Roman"/>
              </a:rPr>
              <a:t>Предприятие представляет собо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оизводственно-технологическое, организационное и экономическое единство. Организационно оно является производственной единицей. Как правило, это завод, фабрика, шахта, электростанция, предприятие транспорта, связи, капитальное строительство, совхоз, оно может включать и несколько заводов или фабрик (комбинат, производственное объединение, концерн и т.д.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6600ff"/>
                </a:solidFill>
                <a:latin typeface="Times New Roman"/>
              </a:rPr>
              <a:t>Предприятие имее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обственное название, фирменный знак (марку), самостоятельный баланс, расчетный счет в банке. Оно несет имущественную ответственность по своим обязательствам, т.е. является юридическим лицом. Часто в хозяйственной практике используется понятие "фирма". Как правило, фирма представляет собой объединение однородных или смешанных предприят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Среди качественных параметров классификации предприятий можно назвать следующи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8229600" cy="384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п собственности (частные или государственные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арактер и содержание деятельност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ссортимент выпускаемой продукци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особы и методы ведения конкурентной борьб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особ вхождения в различные союзы и объедине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рганизационно-правовые формы предпринимательской деятельнос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Times New Roman"/>
              </a:rPr>
              <a:t>Учредители предприят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едприятие может создаваться одним или несколькими частными лицами, другими предприятиями или государство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чредители должны осуществить предусмотренные законом действия по его организации, включая образование имущества предприятия, его государственную регистрацию, получение лицензии на осуществление избранной предпринимательской деятельност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воначально имущество предприятия создается за счет имущества, переданного ему учредителями в виде вкладов (взносов, паев). Вкладываться могут денежные средства, материальные ценности и другие виды имуществ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бычно имущество предприятия обособленно и существует независимо от имущества его учредителей и участников (лиц, не имеющих отношения к учреждению предприятия и только вносящих свою долю в его имущества) и работников, занятых на предприятии. По своим обязательствам предприятие несет ответственность своим имуществом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Имущественный комплекс предприят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мущественный комплекс предприятия включает все виды имущества, которые необходимы для осуществления предпринимательской деятельности. Наряду с привычными материально-вещественными элементами – зданиями, сооружениями, земельными участками, машинами, оборудованием, сырьем, полуфабрикатами, готовыми изделиями, наличными денежными средствами – в нем содержатся и нематериальные элементы, представленные совокупностью имущественных прав и обязанностей. Обычно в хозяйственной практике подобные элементы обозначаются как права промышленной, финансовой и коммерческой собственности. К финансовой собственности относят денежные бумаги (облигации, векселя, чеки и т.д.) и документы, выражающие право участия в разного рода обществах и компаниях (акции). К коммерческой собственности относятся товара распорядительные документы, выражающие права на получения товара (коносаменты, накладные, складские свидетельства и т.п.). К промышленной собственности относятся промышленные образцы, товарные знаки, знаки обслуживания, фирменное наименование и другие средства индивидуализации юридического лица, продукции, выпускаемых товаров или оказываемых услуг. К имуществу предприятия в современных условиях относят и особые не материально-вещественные элементы, такие как сложившаяся репутация предприятия, его деловые связ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Times New Roman"/>
              </a:rPr>
              <a:t>Организационные формы предприятий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2208240"/>
            <a:ext cx="8229600" cy="392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ное товарищест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мандитное товарищест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ество с ограниченной ответственностью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кционерное обществ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9T09:58:16Z</dcterms:created>
  <dc:creator>света</dc:creator>
  <dc:description/>
  <dc:language>en-US</dc:language>
  <cp:lastModifiedBy>LEGION</cp:lastModifiedBy>
  <dcterms:modified xsi:type="dcterms:W3CDTF">2016-01-05T12:46:42Z</dcterms:modified>
  <cp:revision>23</cp:revision>
  <dc:subject/>
  <dc:title>Предприятия и предпринимательство</dc:title>
</cp:coreProperties>
</file>