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07F7-E2F1-4546-AB99-F1649E8CAAE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редпринимательства и политика в отношении предпринимательства в России (1990-2000-е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пуренко А.Ю., тезисы по материалам статьи, 19.03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предпринимательства и политика в отношении предпринимательства в России (1990-2000-е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пуренко А.Ю., тезисы по материалам статьи, 19.03.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ат макроэкономических антикризисных мер (1992-1995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ласный альянс 3 важнейших субъектов политики: радикальные реформаторы в правительстве, «красные директора» в реальной экономике и формирующийся частный финансовый капитал. В итоге – политика формально содействует формированию частной собственности, но малый бизнес «снизу» доступа к ней не полу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мат макроэкономических антикризисных мер (1992-1995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гласный альянс 3 важнейших субъектов политики: радикальные реформаторы в правительстве, «красные директора» в реальной экономике и формирующийся частный финансовый капитал. В итоге – политика формально содействует формированию частной собственности, но малый бизнес «снизу» доступа к ней не получае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тановление институтов и «формальной» государственной политики (1995-199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енное формирование рентоориентированных ИБГ и «политического предпринимательства» в правительстве и их смычка в 1995-1996 гг. приводит к тому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ервичные (законодательство) и вторичные (институты и механизмы) признаки госполитики в отношении предпринимательства (ФЗ, ГКАП, ФФПМП и др.) присутствуют, а «счастья нет» - аффективная поддержка предпринимательства на гос. уровне постепенно сменяется чисто инструмент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Становление институтов и «формальной» государственной политики (1995-1998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коренное формирование рентоориентированных ИБГ и «политического предпринимательства» в правительстве и их смычка в 1995-1996 гг. приводит к тому, чт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первичные (законодательство) и вторичные (институты и механизмы) признаки госполитики в отношении предпринимательства (ФЗ, ГКАП, ФФПМП и др.) присутствуют, а «счастья нет» - аффективная поддержка предпринимательства на гос. уровне постепенно сменяется чисто инструменталь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середины 1990-х гг. – первые попытки осмысления сложившейся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Концепция «выживания» или «естественного отбора» МС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ддерживается РСПП и блоком «хозяйственников» в правительств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онцепция МСП как «двигателя прогресса» - обсуждается лишь в экспертном со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середины 1990-х гг. – первые попытки осмысления сложившейся полити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Концепция «выживания» или «естественного отбора» МС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оддерживается РСПП и блоком «хозяйственников» в правительстве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онцепция МСП как «двигателя прогресса» - обсуждается лишь в экспертном сообще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изис и его преодоление (1998 г.-200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и механизмы гос. политики разваливаются на глаза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чевидная неэффективность в предшествующий период способствует возникновению паузы примерно в 3 года: старые институты существуют формально, но не работают, новых подходов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СП – нелюбимое дитя правительства и политических пар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ризис и его преодоление (1998 г.-2001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ы и механизмы гос. политики разваливаются на глазах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очевидная неэффективность в предшествующий период способствует возникновению паузы примерно в 3 года: старые институты существуют формально, но не работают, новых подходов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СП – нелюбимое дитя правительства и политических пар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ерегулирование (2002-200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неформальной нагрузки на МСП – хороший выход в условиях, когда нет ни средств, ни работоспособных институ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успехи гаснут к середине 2000-х гг. (мониторинг ЦЭФИР): бюрократия на местах быстро возводит новые адм.барьеры взамен разрушенных старых – значит, пора переходить к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онцепции МСП как «двигателя прогрес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Дерегулирование (2002-2004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неформальной нагрузки на МСП – хороший выход в условиях, когда нет ни средств, ни работоспособных институт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е успехи гаснут к середине 2000-х гг. (мониторинг ЦЭФИР): бюрократия на местах быстро возводит новые адм.барьеры взамен разрушенных старых – значит, пора переходить к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онцепции МСП как «двигателя прогресс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едомственная программа поддержки и развития МСП на 2005-2008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ы написали, как правиль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МЭРТ – сделало как над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управляющий орган не соз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МСП не проинформир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публичный мониторинг не вед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вопрос о критериях эффективности повис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Ведомственная программа поддержки и развития МСП на 2005-2008 г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рты написали, как правильно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МЭРТ – сделало как над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управляющий орган не созд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МСП не проинформиров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публичный мониторинг не ведет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вопрос о критериях эффективности повис в воздух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ризис (2008 г.-…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неясна, упор - на такт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к мер по поддержке МСП в рамках правительственной политики неотложных мер по противодействию кризису: «Деньги есть, ума не надо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Кризис (2008 г.-…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тегия неясна, упор - на такти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ок мер по поддержке МСП в рамках правительственной политики неотложных мер по противодействию кризису: «Деньги есть, ума не надо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дальш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как предшествующего развития, так и специфических условий постсоветского периода непроизводительное (ориентированное на максимизацию перераспределительных эффектов) и «деструктивное» (ориентированное на получение политической, статусной ренты или откровенно криминальных форм доходов) предпринимательство оказались доминирую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, стратегическая цель государственной политики - в поддержке производительного и ограничении возможностей для развития двух других типов предпринимательства. Но эта задача: (а) должна осознаваться, (б) предполагает глубокие, основополагающие изменения в системе прав собственности и всей структуре общественных отношений, ибо доминирование непроизводительного и «деструктивного» предпринимательства неотделимо от системы власти-собственности, которая мимикрировала под систему частой собственности, но не упразднена оконч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илу как предшествующего развития, так и специфических условий постсоветского периода непроизводительное (ориентированное на максимизацию перераспределительных эффектов) и «деструктивное» (ориентированное на получение политической, статусной ренты или откровенно криминальных форм доходов) предпринимательство оказались доминирующи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ответственно, стратегическая цель государственной политики - в поддержке производительного и ограничении возможностей для развития двух других типов предпринимательства. Но эта задача: (а) должна осознаваться, (б) предполагает глубокие, основополагающие изменения в системе прав собственности и всей структуре общественных отношений, ибо доминирование непроизводительного и «деструктивного» предпринимательства неотделимо от системы власти-собственности, которая мимикрировала под систему частой собственности, но не упразднена окончательн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ительное и «деструктивное» предпринимательство - по преимуществу в сегменте сверхкрупного и крупного бизнеса, существует на основе тесной личной унии с государственно-политической эли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тернатива - «свободное предпринимательство», по преимуществу - в сегменте МСП. Оно не свободно от оппортунистических практик поведения, но источники его дохода лежат в иной сфере – в сфере комбинирования рыночных ресурсов для производства новых бл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ких условиях макроструктурная политика поддержки предпринимательства (денежная, фискальная) не приводит к подрыву позиций непроизводительного и «деструктивного» предпринимательства: пользуются ей в полной м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отив, селективная поддержка МСП может способствовать усилению «свободного» предпринимательства – «газелей», МСП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роизводительное и «деструктивное» предпринимательство - по преимуществу в сегменте сверхкрупного и крупного бизнеса, существует на основе тесной личной унии с государственно-политической элит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льтернатива - «свободное предпринимательство», по преимуществу - в сегменте МСП. Оно не свободно от оппортунистических практик поведения, но источники его дохода лежат в иной сфере – в сфере комбинирования рыночных ресурсов для производства новых бла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таких условиях макроструктурная политика поддержки предпринимательства (денежная, фискальная) не приводит к подрыву позиций непроизводительного и «деструктивного» предпринимательства: пользуются ей в полной мер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отив, селективная поддержка МСП может способствовать усилению «свободного» предпринимательства – «газелей», МСП в цел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 понятно, почему политика поддержки МСП в России никогда не имела последовательного, глубокого и комплексного характера – это противоречило бы рентным интересам основных бенефициаров незавершенных российских реформ, и в обществе нет достаточно сильной коалиции в поддержку такой пол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для формирования такой коалиции могут сложиться в рамках контура: «свободное предпринимательство» - новые профессионалы (поскольку ценность знаний объективно девальвируется в условиях господства непроизводительного и деструктивного предпринимательства) – новые региональные руководители (потому что кроме растущего МСП у них нет др. потенциальных источников для обеспечения социально-экономического развития руководимых ими территорий) при молчаливом согласии высшего руководства страны (потому что выдвигаемые им амбициозные цели создания инновационной экономики нереализуемы на основе господства ныне доминирующих в России типов предпринимательств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сюда понятно, почему политика поддержки МСП в России никогда не имела последовательного, глубокого и комплексного характера – это противоречило бы рентным интересам основных бенефициаров незавершенных российских реформ, и в обществе нет достаточно сильной коалиции в поддержку такой полит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ы для формирования такой коалиции могут сложиться в рамках контура: «свободное предпринимательство» - новые профессионалы (поскольку ценность знаний объективно девальвируется в условиях господства непроизводительного и деструктивного предпринимательства) – новые региональные руководители (потому что кроме растущего МСП у них нет др. потенциальных источников для обеспечения социально-экономического развития руководимых ими территорий) при молчаливом согласии высшего руководства страны (потому что выдвигаемые им амбициозные цели создания инновационной экономики нереализуемы на основе господства ныне доминирующих в России типов предпринимательства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эта стат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эта стать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ынешний кризис окажется затяжным, а реализуемые федеральным центром меры по его купированию – неэффективными (пока все идет к этому), то могут сложиться благоприятные условия для изменения общественной модели, а соответственно – для развития производительного инновационного частн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нынешний кризис окажется затяжным, а реализуемые федеральным центром меры по его купированию – неэффективными (пока все идет к этому), то могут сложиться благоприятные условия для изменения общественной модели, а соответственно – для развития производительного инновационного частного предприниматель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эта статья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я написана для сборника в Edward Elgar – отсюда известная опис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зис побудил еще раз оценить тренды последних 2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оценка привела к неутешительным выводам и формулировке некоторых возможностей для развитии частного предпринимательства на основе новой формулировки стратегии государства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эта статья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тья написана для сборника в Edward Elgar – отсюда известная описатель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зис побудил еще раз оценить тренды последних 20 л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оценка привела к неутешительным выводам и формулировке некоторых возможностей для развитии частного предпринимательства на основе новой формулировки стратегии государства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лог: возникновение альтернативных субъектов экономики (конец 1980-х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здание кооперативов и малых предприятий как прообразов предпринимательски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никновение двухсекторной модели в рамках «экономики дефици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ервоначальное накопление: ползучая прив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ролог: возникновение альтернативных субъектов экономики (конец 1980-х гг.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оздание кооперативов и малых предприятий как прообразов предпринимательских фир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возникновение двухсекторной модели в рамках «экономики дефицит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ервоначальное накопление: ползучая приватиз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егализация частного сектора и доминирование непроизводительного предпринимательства в условиях структурного кризиса и спада в экономике (1992-1995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легализация предпринимательства, массовое «уличное предпринимательств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ватизация и формирование квазичастн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разование огромных ниш на рынках при низких барьерах в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эффективность крупного и среднего бизнеса в условиях низкого платежеспособного спроса населения и узких горизонтов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граниченные возможности внешнего финансирования из легальных источников, укрепление экономической власти и политического могущества крупных коммерческих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сформированность правовой среды для деятельности частн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лабость правовой защиты со стороны государства, криминальный рэк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Легализация частного сектора и доминирование непроизводительного предпринимательства в условиях структурного кризиса и спада в экономике (1992-1995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легализация предпринимательства, массовое «уличное предпринимательств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риватизация и формирование квазичастного предприниматель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бразование огромных ниш на рынках при низких барьерах вх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эффективность крупного и среднего бизнеса в условиях низкого платежеспособного спроса населения и узких горизонтов план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граниченные возможности внешнего финансирования из легальных источников, укрепление экономической власти и политического могущества крупных коммерческих бан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сформированность правовой среды для деятельности частного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лабость правовой защиты со стороны государства, криминальный рэк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исфункциональное развитие предпринимательства в условиях стагнации экономики (1996-199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лаживание хозяйственных связей в предпринимательском секто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ост спроса на потребительские товары вследствие роста доход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кращение бартера вследствие роста монетизаци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нижение интенсивности вывода активов в сегменте приватизированны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жесточение конкуренции в розничной торговле, выдавливание малого предпринимательства из наиболее прибыльных ниш потребительского рынка более крупными отечественными структу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ссовый уход предприятий от налогооб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епенное «умирание» части традиционных сфер индивидуального предпринимательства («челнок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вершение формирования интегрированных бизнес-групп и на их базе – олигарх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Дисфункциональное развитие предпринимательства в условиях стагнации экономики (1996-1998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алаживание хозяйственных связей в предпринимательском сектор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рост спроса на потребительские товары вследствие роста доходов насе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сокращение бартера вследствие роста монетизации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нижение интенсивности вывода активов в сегменте приватизированных предприя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ужесточение конкуренции в розничной торговле, выдавливание малого предпринимательства из наиболее прибыльных ниш потребительского рынка более крупными отечественными структур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массовый уход предприятий от налогооблож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степенное «умирание» части традиционных сфер индивидуального предпринимательства («челноки»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завершение формирования интегрированных бизнес-групп и на их базе – олигарха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Формирование модели частно-государственного партнерства в условиях высоких темпов роста экономики (1999-200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вышение эффективности сектора крупных предприятий под влиянием конъюнктуры мирового ры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силение вмешательства государства в экономику, создание государственных корпораций и постепенное оттеснение частного капитала на вторые роли в стратегических отраслях, государственно-частное партн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явление «длинных денег» в экономике, расширение набора инструментов и возможностей внешнего финансирования на легальных финансовых рын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становление малого предпринимательства и его устойчив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кспансия крупного бизнеса на потребительские рынки (отечественные и зарубежные торговые сети), вытеснение малого торгового бизнеса на перифер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явление и рост российских «газел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вышение эффективной нагрузки на МП вследствие более эффективного администрирования и издержек легализации, административных барье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овое качество коррупции влияет на бизнес-стратегии предприним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Формирование модели частно-государственного партнерства в условиях высоких темпов роста экономики (1999-2008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повышение эффективности сектора крупных предприятий под влиянием конъюнктуры мирового рын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усиление вмешательства государства в экономику, создание государственных корпораций и постепенное оттеснение частного капитала на вторые роли в стратегических отраслях, государственно-частное партнер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явление «длинных денег» в экономике, расширение набора инструментов и возможностей внешнего финансирования на легальных финансовых рынк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восстановление малого предпринимательства и его устойчивый ро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экспансия крупного бизнеса на потребительские рынки (отечественные и зарубежные торговые сети), вытеснение малого торгового бизнеса на перифер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явление и рост российских «газелей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вышение эффективной нагрузки на МП вследствие более эффективного администрирования и издержек легализации, административных барьер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овое качество коррупции влияет на бизнес-стратегии предпринимател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структивное, непроизводительное и производительное предпринимательство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структивное (прибыль - за счет проедания активов, либо за счет монопольного завышения рентных доходов) – большинство постприватизационных «частных» предприятий (модель с распыленной собственностью), большинство госкорпо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ительное (добавленная стоимость есть, но прибыли нет) – самозанятые, семейное микропредприним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е (добавленная стоимость включает прибыль) – все ост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структивное, непроизводительное и производительное предпринимательство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структивное (прибыль - за счет проедания активов, либо за счет монопольного завышения рентных доходов) – большинство постприватизационных «частных» предприятий (модель с распыленной собственностью), большинство госкорпор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роизводительное (добавленная стоимость есть, но прибыли нет) – самозанятые, семейное микропредприниматель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ительное (добавленная стоимость включает прибыль) – все оста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витии российского предпринимательства невозможно обнаружить ни одного этапа, когда бы наблюдалось доминирование производительного предпринимательства над «непроизводительным», либо просто «деструктивным» (William Baumol, 1990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йдя из лона государственной модели экономики, на пороге своего 20-летия российское предпринимательство оказалось опять либо под жестким неформальным контролем (административные барьеры), либо прямо встроенным в схемы государственно-частного партнер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зюм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развитии российского предпринимательства невозможно обнаружить ни одного этапа, когда бы наблюдалось доминирование производительного предпринимательства над «непроизводительным», либо просто «деструктивным» (William Baumol, 1990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йдя из лона государственной модели экономики, на пороге своего 20-летия российское предпринимательство оказалось опять либо под жестким неформальным контролем (административные барьеры), либо прямо встроенным в схемы государственно-частного партнер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C99E-20EE-4BC2-9765-7C49EEA8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F916-31E9-41D0-8832-DCFEDDE9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4D0D-DDC6-4ED0-9756-5D380A7C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DAD4-C17A-4A1E-A39B-1B0C80A4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85C0-BCB0-4E04-AD2E-5AB5FBCB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FB51-F81A-4055-879B-FD3B15A1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C3C2-54E5-4B08-89EF-F9EAAAF7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0CD3-0477-4F0E-AA2F-803C0B17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6F23-9092-40E2-A61E-6A5E2E5C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ECEA-00E5-42B6-84E0-55E3D0DC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1476-0186-4761-93F1-15DF3592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7C03-E01F-4454-96A5-3BF99339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D08E-5FD5-4F38-98F6-D048FAED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820F-0581-47B7-A69C-0235B816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BF93-188D-43CB-AE1E-095E9EED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21DC-F44B-42CC-A3B5-6FD07BDB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2AA3-C8BD-4CB1-AE27-65F82710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3CBF-C54E-46E0-9D70-0621170F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99A2-9EA8-43E7-8915-DF759F32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BFBE-230F-46B4-B64F-C61B3AA2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8ACA-DFB2-437B-A446-C39E85D3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18F0-7BD9-4905-8898-B58BE4DE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4D8E-C60F-4384-B419-96AA14D4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EFBE-7EB2-4412-A0CF-6A2CCC89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AC78-A164-4D84-A7B5-E9649D0C24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810C-F2BA-4D0F-AE05-243F21DA6AF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918560" cy="2547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Развитие предпринимательства и политика в отношении предпринимательства в России (1990-2000-е гг.)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пуренко А.Ю., тезисы по материалам статьи, 19.03.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ат макроэкономических антикризисных мер (1992-1995 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гласный альянс 3 важнейших субъектов политики: радикальные реформаторы в правительстве, «красные директора» в реальной экономике и формирующийся частный финансовый капитал. В итоге – политика формально содействует формированию частной собственности, но малый бизнес «снизу» доступа к ней не получ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Становление институтов и «формальной» государственной политики (1995-1998 г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коренное формирование рентоориентированных ИБГ и «политического предпринимательства» в правительстве и их смычка в 1995-1996 гг. приводит к тому, ч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первичные (законодательство) и вторичные (институты и механизмы) признаки госполитики в отношении предпринимательства (ФЗ, ГКАП, ФФПМП и др.) присутствуют, а «счастья нет» - аффективная поддержка предпринимательства на гос. уровне постепенно сменяется чисто инструмента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середины 1990-х гг. – первые попытки осмысления сложившейся полити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 Концепция «выживания» или «естественного отбора» МС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поддерживается РСПП и блоком «хозяйственников» в правительств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. Концепция МСП как «двигателя прогресса»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обсуждается лишь в экспертном сообщест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Кризис и его преодоление (1998 г.-2001 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ституты и механизмы гос. политики разваливаются на глазах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х очевидная неэффективность в предшествующий период способствует возникновению паузы примерно в 3 года: старые институты существуют формально, но не работают, новых подходов 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СП – нелюбимое дитя правительства и политических пар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Дерегулирование (2002-2004 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жение неформальной нагрузки на МСП – хороший выход в условиях, когда нет ни средств, ни работоспособных институт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е успехи гаснут к середине 2000-х гг. (мониторинг ЦЭФИР): бюрократия на местах быстро возводит новые адм.барьеры взамен разрушенных старых – значит, пора переходить к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. Концепции МСП как «двигателя прогресс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Ведомственная программа поддержки и развития МСП на 2005-2008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рты написали, как правильн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МЭРТ – сделало как над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управляющий орган не созд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МСП не проинформиров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публичный мониторинг не вед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вопрос о критериях эффективности повис в воздух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6. Кризис (2008 г.-…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тегия неясна, упор - на такти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ок мер по поддержке МСП в рамках правительственной политики неотложных мер по противодействию кризису: «Деньги есть, ума не надо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даль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илу как предшествующего развития, так и специфических условий постсоветского периода непроизводительное (ориентированное на максимизацию перераспределительных эффектов) и «деструктивное» (ориентированное на получение политической, статусной ренты или откровенно криминальных форм доходов) предпринимательство оказались доминирующи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ответственно, стратегическая цель государственной политики - в поддержке производительного и ограничении возможностей для развития двух других типов предпринимательства. Но эта задача: (а) должна осознаваться, (б) предполагает глубокие, основополагающие изменения в системе прав собственности и всей структуре общественных отношений, ибо доминирование непроизводительного и «деструктивного» предпринимательства неотделимо от системы власти-собственности, которая мимикрировала под систему частой собственности, но не упразднена окончатель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роизводительное и «деструктивное» предпринимательство - по преимуществу в сегменте сверхкрупного и крупного бизнеса, существует на основе тесной личной унии с государственно-политической элит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ьтернатива - «свободное предпринимательство», по преимуществу - в сегменте МСП. Оно не свободно от оппортунистических практик поведения, но источники его дохода лежат в иной сфере – в сфере комбинирования рыночных ресурсов для производства новых бл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аких условия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акроструктурная политика поддержки предпринимательства (денежная, фискальная) не приводит к подрыву позиций непроизводительного и «деструктивного» предпринимательства: пользуются ей в полной ме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отив, селективная поддержка МСП может способствовать усилению «свободного» предпринимательства – «газелей», МСП в цел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сюда понятно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чему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литика поддержки МСП в России никогда не имела последовательного, глубокого и комплексного характера – это противоречило бы рентным интересам основных бенефициаров незавершенных российских реформ, и в обществе нет достаточно сильной коалиции в поддержку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ак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лит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ы для формирования такой коалиции могут сложиться в рамках контура: «свободное предпринимательство» - новые профессионалы (поскольку ценность знаний объективно девальвируется в условиях господства непроизводительного и деструктивного предпринимательства) – новые региональные руководители (потому что кроме растущего МСП у них нет др. потенциальных источников для обеспечения социально-экономического развития руководимых ими территорий) при молчаливом согласии высшего руководства страны (потому что выдвигаемые им амбициозные цели создания инновационной экономик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ереализуем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 основе господства ныне доминирующих в России типов предпринимательства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Структура презентац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чем эта стать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нынешний кризис окажется затяжным, а реализуемые федеральным центром меры по его купированию – неэффективными (пока все идет к этому), то могут сложиться благоприятные условия для изменения общественной модели, а соответственно – для развития производительного инновационного частного предпринимательс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Зачем эта статья?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тья написана для сборника 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ward Elgar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сюда известная описа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зис побудил еще раз оценить тренды последних 20 л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 оценка привела к неутешительным выводам и формулировке некоторых возможностей для развитии частного предпринимательства на основе новой формулировки стратегии государства в отношении предпринима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Пролог: возникновение альтернативных субъектов экономики (конец 1980-х гг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оздание кооперативов и малых предприятий как прообразов предпринимательских фир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озникновение двухсекторной модели в рамках «экономики дефицит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ервоначальное накопление: ползучая приватиз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Легализация частного сектора и доминирование непроизводительного предпринимательства в условиях структурного кризиса и спада в экономике (1992-1995 г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легализация предпринимательства, массовое «уличное предпринимательств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иватизация и формирование квазичастного предпринимательст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бразование огромных ниш на рынках при низких барьерах вх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еэффективность крупного и среднего бизнеса в условиях низкого платежеспособного спроса населения и узких горизонтов план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граниченные возможности внешнего финансирования из легальных источников, укрепление экономической власти и политического могущества крупных коммерческих бан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есформированность правовой среды для деятельности частного предприниматель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лабость правовой защиты со стороны государства, криминальный рэк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Дисфункциональное развитие предпринимательства в условиях стагнации экономики (1996-1998 г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лаживание хозяйственных связей в предпринимательском секто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ост спроса на потребительские товары вследствие роста доходов нас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сокращение бартера вследствие роста монетизации эконом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нижение интенсивности вывода активов в сегменте приватизированных предприя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жесточение конкуренции в розничной торговле, выдавливание малого предпринимательства из наиболее прибыльных ниш потребительского рынка более крупными отечественными структур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ассовый уход предприятий от налогооблож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степенное «умирание» части традиционных сфер индивидуального предпринимательства («челноки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завершение формирования интегрированных бизнес-групп и на их базе – олигарх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 Формирование модели частно-государственного партнерства в условиях высоких темпов роста экономики (1999-2008 г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овышение эффективности сектора крупных предприятий под влиянием конъюнктуры мирового ры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силение вмешательства государства в экономику, создание государственных корпораций и постепенное оттеснение частного капитала на вторые роли в стратегических отраслях, государственно-частное партнер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явление «длинных денег» в экономике, расширение набора инструментов и возможностей внешнего финансирования на легальных финансовых рын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осстановление малого предпринимательства и его устойчивый р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кспансия крупного бизнеса на потребительские рынки (отечественные и зарубежные торговые сети), вытеснение малого торгового бизнеса на перифер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явление и рост российских «газелей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вышение эффективной нагрузки на МП вследствие более эффективного администрирования и издержек легализации, административных барье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овое качество коррупции влияет на бизнес-стратегии предпринима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Деструктивное, непроизводительное и производительное предпринимательство в России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структивное (прибыль - за счет проедания активов, либо за счет монопольного завышения рентных доходов) – большинство постприватизационных «частных» предприятий (модель с распыленной собственностью), большинство госкорпор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производительное (добавленная стоимость есть, но прибыли нет) – самозанятые, семейное микропредприниматель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изводительное (добавленная стоимость включает прибыль) – </a:t>
            </a:r>
            <a:r>
              <a:rPr b="0" i="1" lang="ru-RU" sz="2800" spc="-1" strike="noStrike">
                <a:solidFill>
                  <a:srgbClr val="dfdef6"/>
                </a:solidFill>
                <a:latin typeface="Arial"/>
              </a:rPr>
              <a:t>все оста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Резюм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азвитии российского предпринимательства невозможно обнаружить ни одного этапа, когда бы наблюдалось доминирование производительного предпринимательства над «непроизводительным», либо просто «деструктивным»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illiam Baumol, 1990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йдя из лона государственной модели экономики, на пороге своего 20-летия российское предпринимательство оказалось опять либо под жестким неформальным контролем (административные барьеры), либо прямо встроенным в схемы государственно-частного партнер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4" descr="pic"/>
          <p:cNvPicPr/>
          <p:nvPr/>
        </p:nvPicPr>
        <p:blipFill>
          <a:blip r:embed="rId3"/>
          <a:stretch/>
        </p:blipFill>
        <p:spPr>
          <a:xfrm>
            <a:off x="7524720" y="189000"/>
            <a:ext cx="1438200" cy="1557360"/>
          </a:xfrm>
          <a:prstGeom prst="rect">
            <a:avLst/>
          </a:prstGeom>
          <a:ln w="0">
            <a:noFill/>
          </a:ln>
        </p:spPr>
      </p:pic>
      <p:sp>
        <p:nvSpPr>
          <p:cNvPr id="5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5:47:29Z</dcterms:created>
  <dc:creator>пользователь</dc:creator>
  <dc:description/>
  <dc:language>en-US</dc:language>
  <cp:lastModifiedBy>LEGION</cp:lastModifiedBy>
  <dcterms:modified xsi:type="dcterms:W3CDTF">2016-01-05T12:46:51Z</dcterms:modified>
  <cp:revision>9</cp:revision>
  <dc:subject/>
  <dc:title>Развитие предпринимательства и политика в отношении предпринимательства в России (1990-2000-е гг</dc:title>
</cp:coreProperties>
</file>