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A4C7-D0D4-40B2-B212-5D968A599B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регулирование (2002-20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 написали, как правиль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ЭРТ – сделало как над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управляющий орган не соз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МСП не проинформ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публичный мониторинг не вед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зис (2008 г.-…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неясна, упор - на так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юм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5838-13B0-4A21-8B2F-361475AB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5787-52CB-4DE1-93A6-043DE0C2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0ACB-6EC2-44C4-AB82-626D80CF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F2F2-565F-40F8-9616-5FA525DB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95F0-8FE3-4C16-B3B3-B233C7E6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3B44-B596-4B4B-B09B-8C34E574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9D61-FF72-4F12-9D7B-BA9AFBED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C2F1-3F04-41FB-8B91-5508E176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92FF-0279-4320-B19A-707087D9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1B7D-0653-41D4-9E21-929A29BA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6935-EC3E-4D9F-B0CF-398FAC26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2B41-4E05-4D5C-896D-6F03900B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536C-F836-4540-939B-89F60BF1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2EA5-EECA-41E3-BE7F-3E4CC1F1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C325-75D3-4861-BB1F-A52452DD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05FC-76CF-4B8A-BA8D-3DAA19E8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6001-5A57-4DFB-BC40-A9BBA497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4B17-979C-40B1-97F9-6ED9C877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9FE4-AE56-4954-AE03-8640CE87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0BA9-CBDA-4664-842F-CB222C5D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71FC-5EE4-48D8-BA2D-EDAF16CE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F4CB-E8E8-4238-9E45-5FAF7AB8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6FCC-6697-45F3-9FA8-0F9B3FF4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BA9F-A71C-4D30-BB4F-77125689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96E8-EE80-4EB0-8774-EB4C36725F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9046-FB3F-4D47-8F92-FFC9CE99DB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18560" cy="254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суждается лишь в экспертном сообще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аки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юда понятно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реализуе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основе господства ныне доминирующих в России типов предпринимательств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труктура презент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чем эта статья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Elgar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сюда известная опис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</a:t>
            </a:r>
            <a:r>
              <a:rPr b="0" i="1" lang="ru-RU" sz="2800" spc="-1" strike="noStrike">
                <a:solidFill>
                  <a:srgbClr val="dfdef6"/>
                </a:solidFill>
                <a:latin typeface="Arial"/>
              </a:rPr>
              <a:t>все оста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зюм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illiam Baumol, 199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pic"/>
          <p:cNvPicPr/>
          <p:nvPr/>
        </p:nvPicPr>
        <p:blipFill>
          <a:blip r:embed="rId3"/>
          <a:stretch/>
        </p:blipFill>
        <p:spPr>
          <a:xfrm>
            <a:off x="7524720" y="189000"/>
            <a:ext cx="1438200" cy="1557360"/>
          </a:xfrm>
          <a:prstGeom prst="rect">
            <a:avLst/>
          </a:prstGeom>
          <a:ln w="0">
            <a:noFill/>
          </a:ln>
        </p:spPr>
      </p:pic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7:29Z</dcterms:created>
  <dc:creator>пользователь</dc:creator>
  <dc:description/>
  <dc:language>en-US</dc:language>
  <cp:lastModifiedBy>LEGION</cp:lastModifiedBy>
  <dcterms:modified xsi:type="dcterms:W3CDTF">2016-01-05T12:46:51Z</dcterms:modified>
  <cp:revision>9</cp:revision>
  <dc:subject/>
  <dc:title>Развитие предпринимательства и политика в отношении предпринимательства в России (1990-2000-е гг</dc:title>
</cp:coreProperties>
</file>