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4626-9666-41F9-9325-28CACEF6D7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регулирование (2002-20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 написали, как правиль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ЭРТ – сделало как над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управляющий орган не соз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МСП не проинформ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публичный мониторинг не вед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зис (2008 г.-…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неясна, упор - на так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юм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2210-6FA0-4475-BD4E-A5E2E74B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B01E-FCB3-4F07-986B-FE7060F9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8D21-2DBA-43B6-8983-75A89EE0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F683-7113-4F12-B44A-0C25FE06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54EE-D944-4574-AA4C-EF5BDF7E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81EE-55F1-487B-8616-E2314329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394A-738A-491E-BF8C-80BBD973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76A6-32BE-4AC7-B81F-8778961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C2F6-957B-42C3-94ED-917F34F0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F55A-BCB4-44EE-8F37-3A90AD69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5899-6EC0-43A5-A259-B975456C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F0A4-B919-4EF9-9940-A40219AD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D5FA-9330-4A8E-8E40-3BFFB2DE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09C1-D0F2-440B-9DBB-502A2548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5C1C-E3AD-4310-9EC4-4C13E4D5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DCBC-2103-4C44-9F11-43D74DF3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1D60-33FA-4EFE-A02D-18011D08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B6A4-9A36-447B-8F75-D0EA11AC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6314-32BA-4B19-8BDF-DB268568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770B-AB78-4271-8E82-EB4F4714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8E69-5660-465A-9DBD-F73BBCB0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CBD9-D40B-4555-BD83-E3AA32A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02A9-4B91-4F97-A12A-45F917E7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F9FD-3F07-421B-8F2C-3E1CE876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6425-782E-48FF-B781-4893C9A4C8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000A-DDFA-40B5-B712-47E7671CCC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18560" cy="254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суждается лишь в экспертном сообще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аки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юда понятно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реализуе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основе господства ныне доминирующих в России типов предпринимательств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труктура презент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чем эта статья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Elgar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сюда известная опис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</a:t>
            </a:r>
            <a:r>
              <a:rPr b="0" i="1" lang="ru-RU" sz="2800" spc="-1" strike="noStrike">
                <a:solidFill>
                  <a:srgbClr val="dfdef6"/>
                </a:solidFill>
                <a:latin typeface="Arial"/>
              </a:rPr>
              <a:t>все оста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зюм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illiam Baumol, 199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pic"/>
          <p:cNvPicPr/>
          <p:nvPr/>
        </p:nvPicPr>
        <p:blipFill>
          <a:blip r:embed="rId3"/>
          <a:stretch/>
        </p:blipFill>
        <p:spPr>
          <a:xfrm>
            <a:off x="7524720" y="189000"/>
            <a:ext cx="1438200" cy="1557360"/>
          </a:xfrm>
          <a:prstGeom prst="rect">
            <a:avLst/>
          </a:prstGeom>
          <a:ln w="0">
            <a:noFill/>
          </a:ln>
        </p:spPr>
      </p:pic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7:29Z</dcterms:created>
  <dc:creator>пользователь</dc:creator>
  <dc:description/>
  <dc:language>en-US</dc:language>
  <cp:lastModifiedBy>LEGION</cp:lastModifiedBy>
  <dcterms:modified xsi:type="dcterms:W3CDTF">2016-01-05T12:46:51Z</dcterms:modified>
  <cp:revision>9</cp:revision>
  <dc:subject/>
  <dc:title>Развитие предпринимательства и политика в отношении предпринимательства в России (1990-2000-е гг</dc:title>
</cp:coreProperties>
</file>