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3318-2F27-4353-A207-DA2F990A8D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- обсуждается лишь в экспертном сообще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регулирование (2002-20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ты написали, как правиль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ЭРТ – сделало как над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управляющий орган не соз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МСП не проинформиров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публичный мониторинг не вед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ризис (2008 г.-…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неясна, упор - на так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аких условиях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юда понятно, почему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такой полит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нереализуемы на основе господства ныне доминирующих в России типов предпринимательства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Edward Elgar – отсюда известная описатель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все оста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зюм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(William Baumol, 1990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9811A-150F-48C7-B94B-5455DCC5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496C-A11D-4A1B-8237-115C822B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327E-825E-48A9-90BD-0AAA7090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DB86-B755-439C-82BF-0828E8DD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EC94-4288-46A2-9EB8-DE2FE22E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C476-5758-486D-9F16-506F2AF0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C251-1923-4DD0-8D1A-F86469E4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3756-1E4A-4FE9-B7EB-63D4705F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B17E-27C2-4073-AFDE-30786CD2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0A2B-4B67-4F08-B115-6BDE986F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4A90-9F5A-467E-8486-F5C991D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04E6-8799-41E1-9109-2DBD314A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D492-1060-40F2-A9CF-D6908FD5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F75C-E09C-4240-8C93-2A37F54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2A02-B4BF-4519-A88C-78427147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0B29-FFB8-4F47-B0F3-F2882AC3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889E-F619-4F1C-91B0-7A081A10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94F05-63A0-4F79-88A1-7A4FBE3F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D095-28E5-48A0-B433-BCCAA678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0123-DE3F-4A3F-BCAD-CFE36F4C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7553-FC6C-42F1-81C4-8DFF284B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5C8D-98A5-42F2-8452-3E8F22B0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9B13-D23C-4837-BA1B-9D7B636E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53E8-E7BC-4223-AC55-75B693A3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B295-1750-421E-833C-EB93DD80DC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8669-CF08-42A0-A446-A4CE91D1EE6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18560" cy="2547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Развитие предпринимательства и политика в отношении предпринимательства в России (1990-2000-е гг.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пуренко А.Ю., тезисы по материалам статьи, 19.03.20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ат макроэкономических антикризисных мер (1992-1995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гласный альянс 3 важнейших субъектов политики: радикальные реформаторы в правительстве, «красные директора» в реальной экономике и формирующийся частный финансовый капитал. В итоге – политика формально содействует формированию частной собственности, но малый бизнес «снизу» доступа к ней не получ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Становление институтов и «формальной» государственной политики (1995-1998 гг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енное формирование рентоориентированных ИБГ и «политического предпринимательства» в правительстве и их смычка в 1995-1996 гг. приводит к тому, ч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 первичные (законодательство) и вторичные (институты и механизмы) признаки госполитики в отношении предпринимательства (ФЗ, ГКАП, ФФПМП и др.) присутствуют, а «счастья нет» - аффективная поддержка предпринимательства на гос. уровне постепенно сменяется чисто инструмента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середины 1990-х гг. – первые попытки осмысления сложившейся полит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. Концепция «выживания» или «естественного отбора» М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поддерживается РСПП и блоком «хозяйственников» в правительств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. Концепция МСП как «двигателя прогресса»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бсуждается лишь в экспертном сообщест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ризис и его преодоление (1998 г.-2001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итуты и механизмы гос. политики разваливаются на глазах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х очевидная неэффективность в предшествующий период способствует возникновению паузы примерно в 3 года: старые институты существуют формально, но не работают, новых подходов 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СП – нелюбимое дитя правительства и политических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 Дерегулирование (2002-2004 г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жение неформальной нагрузки на МСП – хороший выход в условиях, когда нет ни средств, ни работоспособных институ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вые успехи гаснут к середине 2000-х гг. (мониторинг ЦЭФИР): бюрократия на местах быстро возводит новые адм.барьеры взамен разрушенных старых – значит, пора переходить к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. Концепции МСП как «двигателя прогресс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 Ведомственная программа поддержки и развития МСП на 2005-2008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рты написали, как правильн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МЭРТ – сделало как над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управляющий орган не созд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МСП не проинформиров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публичный мониторинг не вед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- вопрос о критериях эффективности повис в воздух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Кризис (2008 г.-…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атегия неясна, упор - на такти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лок мер по поддержке МСП в рамках правительственной политики неотложных мер по противодействию кризису: «Деньги есть, ума не надо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илу как предшествующего развития, так и специфических условий постсоветского периода непроизводительное (ориентированное на максимизацию перераспределительных эффектов) и «деструктивное» (ориентированное на получение политической, статусной ренты или откровенно криминальных форм доходов) предпринимательство оказались доминирующ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енно, стратегическая цель государственной политики - в поддержке производительного и ограничении возможностей для развития двух других типов предпринимательства. Но эта задача: (а) должна осознаваться, (б) предполагает глубокие, основополагающие изменения в системе прав собственности и всей структуре общественных отношений, ибо доминирование непроизводительного и «деструктивного» предпринимательства неотделимо от системы власти-собственности, которая мимикрировала под систему частой собственности, но не упразднена окончатель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производительное и «деструктивное» предпринимательство - по преимуществу в сегменте сверхкрупного и крупного бизнеса, существует на основе тесной личной унии с государственно-политической элит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тернатива - «свободное предпринимательство», по преимуществу - в сегменте МСП. Оно не свободно от оппортунистических практик поведения, но источники его дохода лежат в иной сфере – в сфере комбинирования рыночных ресурсов для производства новых бл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аких условия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акроструктурная политика поддержки предпринимательства (денежная, фискальная) не приводит к подрыву позиций непроизводительного и «деструктивного» предпринимательства: пользуются ей в полной мер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отив, селективная поддержка МСП может способствовать усилению «свободного» предпринимательства – «газелей», МСП в цел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сюда понятно,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чему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а поддержки МСП в России никогда не имела последовательного, глубокого и комплексного характера – это противоречило бы рентным интересам основных бенефициаров незавершенных российских реформ, и в обществе нет достаточно сильной коалиции в поддержку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ако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лит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для формирования такой коалиции могут сложиться в рамках контура: «свободное предпринимательство» - новые профессионалы (поскольку ценность знаний объективно девальвируется в условиях господства непроизводительного и деструктивного предпринимательства) – новые региональные руководители (потому что кроме растущего МСП у них нет др. потенциальных источников для обеспечения социально-экономического развития руководимых ими территорий) при молчаливом согласии высшего руководства страны (потому что выдвигаемые им амбициозные цели создания инновационной экономики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реализуе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основе господства ныне доминирующих в России типов предпринимательства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Структура презент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чем эта стать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этапы и качество политики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нынешний кризис окажется затяжным, а реализуемые федеральным центром меры по его купированию – неэффективными (пока все идет к этому), то могут сложиться благоприятные условия для изменения общественной модели, а соответственно – для развития производительного инновационного частного предпринимательст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Зачем эта статья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ья написана для сборника в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ward Elgar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сюда известная описа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зис побудил еще раз оценить тренды последних 20 л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а оценка привела к неутешительным выводам и формулировке некоторых возможностей для развитии частного предпринимательства на основе новой формулировки стратегии государства в отношении предприниматель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Пролог: возникновение альтернативных субъектов экономики (конец 1980-х гг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создание кооперативов и малых предприятий как прообразов предпринимательских фир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возникновение двухсекторной модели в рамках «экономики дефицит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ервоначальное накопление: ползучая приватиза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Легализация частного сектора и доминирование непроизводительного предпринимательства в условиях структурного кризиса и спада в экономике (1992-1995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егализация предпринимательства, массовое «уличное предпринимательство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ватизация и формирование квазичастного предпринимательст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разование огромных ниш на рынках при низких барьерах вх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эффективность крупного и среднего бизнеса в условиях низкого платежеспособного спроса населения и узких горизонтов план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граниченные возможности внешнего финансирования из легальных источников, укрепление экономической власти и политического могущества крупных коммерческих бан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сформированность правовой среды для деятельности частного предприниматель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лабость правовой защиты со стороны государства, криминальный рэк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Дисфункциональное развитие предпринимательства в условиях стагнации экономики (1996-1998 гг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алаживание хозяйственных связей в предпринимательском секто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ост спроса на потребительские товары вследствие роста доходов нас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кращение бартера вследствие роста монетизации эконом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нижение интенсивности вывода активов в сегменте приватизированных предприя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ужесточение конкуренции в розничной торговле, выдавливание малого предпринимательства из наиболее прибыльных ниш потребительского рынка более крупными отечественными структу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ассовый уход предприятий от налогооблож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степенное «умирание» части традиционных сфер индивидуального предпринимательства («челноки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завершение формирования интегрированных бизнес-групп и на их базе – олигарх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Основные этапы развития и «качество» предпринимательства в России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 Формирование модели частно-государственного партнерства в условиях высоких темпов роста экономики (1999-2008 г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повышение эффективности сектора крупных предприятий под влиянием конъюнктуры мирового рын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силение вмешательства государства в экономику, создание государственных корпораций и постепенное оттеснение частного капитала на вторые роли в стратегических отраслях, государственно-частное партнер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«длинных денег» в экономике, расширение набора инструментов и возможностей внешнего финансирования на легальных финансовых рын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восстановление малого предпринимательства и его устойчивый р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спансия крупного бизнеса на потребительские рынки (отечественные и зарубежные торговые сети), вытеснение малого торгового бизнеса на перифер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явление и рост российских «газелей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повышение эффективной нагрузки на МП вследствие более эффективного администрирования и издержек легализации, административных барьер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овое качество коррупции влияет на бизнес-стратегии предпринима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Деструктивное, непроизводительное и производительное предпринимательство в России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структивное (прибыль - за счет проедания активов, либо за счет монопольного завышения рентных доходов) – большинство постприватизационных «частных» предприятий (модель с распыленной собственностью), большинство госкорпор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производительное (добавленная стоимость есть, но прибыли нет) – самозанятые, семейное микропредприниматель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изводительное (добавленная стоимость включает прибыль) – </a:t>
            </a:r>
            <a:r>
              <a:rPr b="0" i="1" lang="ru-RU" sz="2800" spc="-1" strike="noStrike">
                <a:solidFill>
                  <a:srgbClr val="dfdef6"/>
                </a:solidFill>
                <a:latin typeface="Arial"/>
              </a:rPr>
              <a:t>все остально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Резюм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развитии российского предпринимательства невозможно обнаружить ни одного этапа, когда бы наблюдалось доминирование производительного предпринимательства над «непроизводительным», либо просто «деструктивным»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William Baumol, 1990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йдя из лона государственной модели экономики, на пороге своего 20-летия российское предпринимательство оказалось опять либо под жестким неформальным контролем (административные барьеры), либо прямо встроенным в схемы государственно-частного партнер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4" descr="pic"/>
          <p:cNvPicPr/>
          <p:nvPr/>
        </p:nvPicPr>
        <p:blipFill>
          <a:blip r:embed="rId3"/>
          <a:stretch/>
        </p:blipFill>
        <p:spPr>
          <a:xfrm>
            <a:off x="7524720" y="189000"/>
            <a:ext cx="1438200" cy="1557360"/>
          </a:xfrm>
          <a:prstGeom prst="rect">
            <a:avLst/>
          </a:prstGeom>
          <a:ln w="0">
            <a:noFill/>
          </a:ln>
        </p:spPr>
      </p:pic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47:29Z</dcterms:created>
  <dc:creator>пользователь</dc:creator>
  <dc:description/>
  <dc:language>en-US</dc:language>
  <cp:lastModifiedBy>LEGION</cp:lastModifiedBy>
  <dcterms:modified xsi:type="dcterms:W3CDTF">2016-01-05T12:46:51Z</dcterms:modified>
  <cp:revision>9</cp:revision>
  <dc:subject/>
  <dc:title>Развитие предпринимательства и политика в отношении предпринимательства в России (1990-2000-е гг</dc:title>
</cp:coreProperties>
</file>