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6D3A-A8B9-470C-80DE-BB15328ACF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гра в Голь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Игра в Голь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лон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Эталон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ставни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ставни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лавная задача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примером для сотруд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чиненные долж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исполнять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,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а, товари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для подра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ока, прови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го среди рав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й девиз Вам бли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за мн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те, что я вам веле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прежде вс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ы к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делайте как 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 вот так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Главная задача руководител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Что самое важное в работе коллекти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Подчиненные должн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Вы хотите, чтобы подчиненные видели в Вас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Какой девиз Вам ближ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йте несколькими стилям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владейте несколькими стилями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и управления и 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ите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л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стилей управления – 6  путей к ц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имат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и климат в орган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ритет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ритет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течески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Отечески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мократичный ст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емократичный сти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A67-BB69-4BEC-8721-70E3D891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CEB-DBBB-4B79-A3BA-33513348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2B3-0F98-45E8-BC85-D97B8DF0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732-5C81-44CF-B386-60FB7F3E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ADDF-4E7F-4FF9-9B0A-AF5A348F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D600B-958B-475B-98DA-1A36A07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B778-108B-4303-9A7D-D4F753B4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F996-F474-4096-B157-0F58CC0A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88A0-1048-4797-9F96-8224819C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E0A5-44B7-4574-9240-1538EDFB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0A96-0E83-43CC-BD1C-C003AEFD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9F8-8857-4D28-B7E7-2198AAEF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0623-CDF9-4F0D-8CE1-AC4220F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F252-88A1-43DC-AFE1-FCDAB67A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8A0-6372-4E67-98CC-82B8DF2B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9C1-22F5-4F07-9E96-A89FB254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4384-97D3-481B-9F18-A1740BCA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703-C9B7-44A4-A9AD-5ECC6634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6127-2105-4562-8D40-0BA577C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6FC-798A-4491-A997-C9DA0D9A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A6F-48B0-490B-96EF-D131F44D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C71-6BFB-42F1-A62D-1A1F200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B83-26EF-40EE-926D-D5DDA93C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540-780D-4036-A800-1DC2A41B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8228-92B0-48FB-B05F-26C94584C46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E71-7620-4BA3-996C-AA4DFE902C0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888.html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ltones.ru/logo/831904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lltones.ru/logo/831904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852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Игра в Гольф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55600"/>
            <a:ext cx="6400800" cy="17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Гольф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16200"/>
            <a:ext cx="4000320" cy="274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je3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616200"/>
            <a:ext cx="378612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Эталон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от людей высоких дости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, ориентация на результат, инициатив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быстро добиться успеха при наличии квалифицированной коман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Наставни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готовит подчиненных к будущим свершения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пробуй та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мощь другим, сопереживание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обходимость помочь людям повысить эффективность рабо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ах 1-4 проранжируйте ответы (цифрами 1,2,3...) по степени их значимости для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1. Главная задача руководителя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правлять сотрудников, указывать путь развития и цели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ддерживать хороший климат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Быть примером для сотрудников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тдавать четкие и ясные приказы, следить за их исполнение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Обеспечивать профессиональный рост своих подчинен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ражать общее мнение коллектива и находить компромиссные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2. Что самое важное в работе коллектив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ледование высоким стандартам, установленным руководством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исциплина, точность исполнения указаний руковод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верженность общей цели, четкое видение целей и задач организации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Хорошая сплоченность команды,  дружеские отношения в коллектив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огласованность решений с коллективом, общая ответственность за результа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имулирование развития подчиненных за счет выявления сильных и слабых сторон.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3. Подчиненные должны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Точно исполнять указ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Участвовать в формировании реше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ходиться в комфортной дружеской атмосфере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Развивать свои сильные стороны, расти профессионально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идеть конечную цель и смысл выполняемой работы, ощущать свою сопричастность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Старательно работать, ориентируясь на руководителя как на пример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4. Вы хотите, чтобы подчиненные видели в Вас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ставника, учител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Друга, товарищ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Начальник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мер для подражания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орока, провидца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ервого среди равных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В вопросе 5 выберите наиболее близкий Вам вариант ответа: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cc66"/>
                </a:solidFill>
                <a:latin typeface="Arial"/>
              </a:rPr>
              <a:t>5. Какой девиз Вам ближ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се за мной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Выполняйте, что я вам велел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Люди прежде всего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вы как думаете?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А теперь делайте как я!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опробуйте вот такой вариант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Овладейте несколькими стилями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увствуйте реакцию окружающих, достигайте наилучших результатов, гибко, интуитивно приспосабливайте свой стиль к тем или иным обстоятельст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за днем оттачивайте свое ремесло, чтобы подобно профессиональному гольфисту, в нужный момент извлечь на свет нужную клюшку – стиль – и мастерски его применить. Результаты не заставят себя жд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je3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404640"/>
            <a:ext cx="453708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и управления и климат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ые опытные и талантливые руководители интуитивно чувствуют, что в зависимости от ситуации людьми управлять нужно по-разно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6 стилей управления – 6  путей к цел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уждающий или диктатор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ите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крат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ло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авниче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лимат организа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бк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ственность сотрудников по отношению к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внутрикорпоративный стандар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щущение людей, что их работа справедливо оценивается и вознагражд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сное понимание сотрудниками стоящих перед компанией задач и ее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анность общим целям организ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тиль управления и климат в организации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1773360"/>
          <a:ext cx="8229600" cy="4444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и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нужда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ритет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е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мократич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л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ставниче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б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ствен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ндар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агра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и и цен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нуждающий или диктаторский сти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700280"/>
          <a:ext cx="8229600" cy="5395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требует беспрекословного повинов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ай, как я сказал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иентация на достижения, инициатива, самоконтро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ис, необходимость реорганизации, работа с трудными подчиненны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рица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вторитет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мобилизует подчиненных на достижение цел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ди за мной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веренность в себе, сопереживание, инновацион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форма, требующая нового подхода, необходимость задать четкое направл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льнейшее 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Отечески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создает атмосферу мира и соглас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авное- люди!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переживание, выстраивание  связей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лаживание трений в команде, мотивация людей в моменты стрес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Демократичный сти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57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идер вовлекает всех в работу и добивается консенсу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ви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 ваше мн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бенности эмоционального интеллек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трудничество, командная работа, коммуник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ходящие ситуа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лечение людей к участию в проекте, достижение консенсуса, мотивация звез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ее влияние на кли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ожительн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5:13:29Z</dcterms:created>
  <dc:creator>anzhela</dc:creator>
  <dc:description/>
  <dc:language>en-US</dc:language>
  <cp:lastModifiedBy>LEGION</cp:lastModifiedBy>
  <dcterms:modified xsi:type="dcterms:W3CDTF">2016-01-11T10:04:26Z</dcterms:modified>
  <cp:revision>5</cp:revision>
  <dc:subject/>
  <dc:title>Слайд 1</dc:title>
</cp:coreProperties>
</file>