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A597-F2D9-4099-9912-5265E3ABB5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гра в Голь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гра в Голь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лон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лон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ставни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ставни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лавная задача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примером для сотруд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чиненные долж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исполнять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,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, товари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для подра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ока, прови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среди рав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й девиз Вам бли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 мн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те, что я вам веле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режде вс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ы к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делайте как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вот так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лавная задача руковод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дчиненные долж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ой девиз Вам ближ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йте несколькими стиля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владейте несколькими стилями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ите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л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ритет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ритет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те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Оте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мократич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емократич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AA8-8B0D-4790-87F7-92A36AC6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3F1-4729-4A26-AFAD-324E8333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196-30EC-4991-A533-30676EF4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F88-6C21-4B18-A865-A7E7CBE5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28F4-900E-4658-9070-5AD0E248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D3C6-4D6D-401B-B9A9-6289EF1C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3917-41C2-40E6-B25B-5A97A4C6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BDC3-8589-4E98-ADCA-78310090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911E-7B68-431C-95E2-64969284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56A9-3B3C-49D4-A584-00CD299D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78A8-2BF2-4AE1-8C8C-8154C69E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BED-A176-4AFE-9842-2A601AE8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68B9-7117-4449-B202-7957D41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C75A-05BA-4574-979A-53721E8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243E-7ECF-4609-84C0-D2A71DB0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AD5E-D639-45B7-8D64-96DA4C0D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4A7-B7FC-4829-9069-BF637CBA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680-59B9-4D78-933E-811348F4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D49-8C64-4981-A110-68573CC9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981-4260-4AA7-93CC-4807B509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634-DF9C-45B0-862E-C2D5764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9E7-B349-41F1-B752-C59CCBB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B32-8C7B-4A62-A997-B325E87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5DE-3FCF-42F4-8BB5-0867467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734A-ECBC-47FA-98E2-221626C761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2EE2-4110-4DA8-81C0-71DF227139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888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ltones.ru/logo/831904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90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8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Игра в Гольф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Голь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16200"/>
            <a:ext cx="4000320" cy="274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e3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16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алон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от людей высоких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, ориентация на результат, инициа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быстро добиться успеха при наличии квалифицированной коман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Наставни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готовит подчиненных к будущим сверш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робуй т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другим, сопереживание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омочь людям повысить эффективность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1. Главная задача руководителя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2. Что самое важное в работе коллектив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3. Подчиненные должны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4. Вы хотите, чтобы подчиненные видели в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5. Какой девиз Вам ближ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владейте несколькими стилями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e3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4640"/>
            <a:ext cx="453708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и управления и климат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6 стилей управления – 6  путей к ц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лимат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ь управления и климат в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73360"/>
          <a:ext cx="8229600" cy="4444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ужда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ит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крат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л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да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агра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 и 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нуждающий или диктаторский сти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00280"/>
          <a:ext cx="8229600" cy="53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беспрекословного повинов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 сказал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достижения, инициатива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ис, необходимость реорганизации, работа с трудными подчине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итет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мобилизует подчиненных на достижение ц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 за мной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ренность в себе, сопереживание, инновацио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а, требующая нового подхода, необходимость задать четкое на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ейшее 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е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создает атмосферу мира и согл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е- люди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ереживание, выстраивание  связей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аживание трений в команде, мотивация людей в моменты стр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емократич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57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вовлекает всех в работу и добивается консенсу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 ваше м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удничество, командная работа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людей к участию в проекте, достижение консенсуса, мотивация зве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13:29Z</dcterms:created>
  <dc:creator>anzhela</dc:creator>
  <dc:description/>
  <dc:language>en-US</dc:language>
  <cp:lastModifiedBy>LEGION</cp:lastModifiedBy>
  <dcterms:modified xsi:type="dcterms:W3CDTF">2016-01-11T10:04:26Z</dcterms:modified>
  <cp:revision>5</cp:revision>
  <dc:subject/>
  <dc:title>Слайд 1</dc:title>
</cp:coreProperties>
</file>