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E86F-A95D-4E5F-8B61-6A8B31BB78F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гра в Голь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Игра в Голь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талонны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Эталонны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аставнически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Наставнически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опросах 1-4 проранжируйте ответы (цифрами 1,2,3...) по степени их значимости для Ва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Главная задача руководите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ять сотрудников, указывать путь развития и цели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ивать хороший климат в коллекти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ь примером для сотруд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авать четкие и ясные приказы, следить за их исполн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ть профессиональный рост своих подчинен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жать общее мнение коллектива и находить компромиссные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Что самое важное в работе коллекти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ние высоким стандартам, установленным руковод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, точность исполнения указаний руковод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рженность общей цели, четкое видение целей и задач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ая сплоченность команды,  дружеские отношения в коллекти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ность решений с коллективом, общая ответственность за результ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ование развития подчиненных за счет выявления сильных и слабых сторо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одчиненные долж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 исполнять у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овать в формировании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иться в комфортной дружеской атмосфе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свои сильные стороны, расти профессиона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еть конечную цель и смысл выполняемой работы, ощущать свою сопричас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ательно работать, ориентируясь на руководителя как на при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ы хотите, чтобы подчиненные видели в Ва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авника, уч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а, товарищ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для подраж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рока, провид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го среди рав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опросе 5 выберите наиболее близкий Вам вариант отве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акой девиз Вам ближ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за мно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йте, что я вам велел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и прежде всег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ы как дум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еперь делайте как 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йте вот такой вариа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вопросах 1-4 проранжируйте ответы (цифрами 1,2,3...) по степени их значимости для Вас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Главная задача руководител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равлять сотрудников, указывать путь развития и цели организа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держивать хороший климат в коллектив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ть примером для сотрудник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давать четкие и ясные приказы, следить за их исполнение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ивать профессиональный рост своих подчиненны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ражать общее мнение коллектива и находить компромиссные реш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Что самое важное в работе коллектив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едование высоким стандартам, установленным руководств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циплина, точность исполнения указаний руководител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верженность общей цели, четкое видение целей и задач организа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Хорошая сплоченность команды,  дружеские отношения в коллектив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гласованность решений с коллективом, общая ответственность за результа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имулирование развития подчиненных за счет выявления сильных и слабых сторон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Подчиненные должн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чно исполнять указа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вовать в формировании реш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ходиться в комфортной дружеской атмосфер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вать свои сильные стороны, расти профессиональн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еть конечную цель и смысл выполняемой работы, ощущать свою сопричастнос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рательно работать, ориентируясь на руководителя как на пример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Вы хотите, чтобы подчиненные видели в Вас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ставника, учител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руга, товарищ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чальник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мер для подража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рока, провидц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ого среди равны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вопросе 5 выберите наиболее близкий Вам вариант ответ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Какой девиз Вам ближ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 за мной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полняйте, что я вам велел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юди прежде всего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 вы как думает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 теперь делайте как я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пробуйте вот такой вариан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йте несколькими стилям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увствуйте реакцию окружающих, достигайте наилучших результатов, гибко, интуитивно приспосабливайте свой стиль к тем или иным обстоятельст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владейте несколькими стилями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чувствуйте реакцию окружающих, достигайте наилучших результатов, гибко, интуитивно приспосабливайте свой стиль к тем или иным обстоятельства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 за днем оттачивайте свое ремесло, чтобы подобно профессиональному гольфисту, в нужный момент извлечь на свет нужную клюшку – стиль – и мастерски его применить. Результаты не заставят себя жда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нь за днем оттачивайте свое ремесло, чтобы подобно профессиональному гольфисту, в нужный момент извлечь на свет нужную клюшку – стиль – и мастерски его применить. Результаты не заставят себя ждать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и управления и климат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опытные и талантливые руководители интуитивно чувствуют, что в зависимости от ситуации людьми управлять нужно по-разн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или управления и климат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амые опытные и талантливые руководители интуитивно чувствуют, что в зависимости от ситуации людьми управлять нужно по-разном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стилей управления – 6  путей к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уждающий или диктатор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итет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ло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авн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 стилей управления – 6  путей к ц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уждающий или диктатор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вторитет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ече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мократиче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лон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ставниче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сотрудников по отношению к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внутрикорпоративный стандар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щущение людей, что их работа справедливо оценивается и вознагражд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ное понимание сотрудниками стоящих перед компанией задач и ее цен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анность общим целям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лимат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ибк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ственность сотрудников по отношению к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ень внутрикорпоративный стандарт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щущение людей, что их работа справедливо оценивается и вознаграждаетс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сное понимание сотрудниками стоящих перед компанией задач и ее ценност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анность общим целям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ь управления и климат в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иль управления и климат в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нуждающий или диктаторски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Принуждающий или диктаторски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вторитетны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Авторитетны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течески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Отечески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емократичны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Демократичны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80DF-B83F-46AF-816E-C38A470E8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504A-3F96-4C63-8B40-8799D8BC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B02F-18B3-4948-AD21-4650E323A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52F9-98A4-4C0F-B02E-D8F257027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3804-8C87-49F0-8143-09320961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3B7D-99B0-4D02-ADCE-7FCC37DA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A11B-0D81-4234-B50F-42331346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1FC0-0756-44B1-ACA6-2DEF3030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E9C1-D70D-4427-BCD0-9C63A748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CFFB-D8F6-440A-A064-1BBC4860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8E4B-19AF-4447-85F3-EECBB7C8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1FC6-A7FA-4101-B671-BF3309AF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2D75-FDF7-4297-B19C-7246045C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BBE6-5630-44FB-B468-91A4320E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812D-1C1D-4731-BCFA-B62E9C96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7E64-B1F1-439A-A3F6-4A0F2577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7427-DDAE-41F9-8B73-87E1877B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D48B-BE47-48F2-879B-4C63F6E3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49CC-8A81-4504-8335-348FBEAD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2353-A061-4162-968E-BEAD28C6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0DA1-9D1F-49E4-814C-E116FD6F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DB07-2633-4D46-80E7-1B4D72EA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5C01-638D-44A0-8BEA-0E4B20A0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1D8D-7459-4604-A59F-4C8DE76D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34ED-DB37-4DB8-B343-19E3135B4E4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BD0F-6AEE-4791-A4BB-438B7B98E0D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lltones.ru/logo/831888.html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alltones.ru/logo/831904.html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lltones.ru/logo/831904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852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Игра в Гольф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55600"/>
            <a:ext cx="6400800" cy="17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Гольф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616200"/>
            <a:ext cx="4000320" cy="274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je3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3616200"/>
            <a:ext cx="3786120" cy="28576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Эталонный сти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600200"/>
          <a:ext cx="8229600" cy="5303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требует от людей высоких достиж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лай, как я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ственность, ориентация на результат, инициатив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обходимость быстро добиться успеха при наличии квалифицированной коман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рица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Наставнический сти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60020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готовит подчиненных к будущим свершения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пробуй та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мощь другим, сопереживание, самоконтро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обходимость помочь людям повысить эффективность рабо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ожи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В вопросах 1-4 проранжируйте ответы (цифрами 1,2,3...) по степени их значимости для Вас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cc66"/>
                </a:solidFill>
                <a:latin typeface="Arial"/>
              </a:rPr>
              <a:t>1. Главная задача руководителя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Направлять сотрудников, указывать путь развития и цели организации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оддерживать хороший климат в коллективе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Быть примером для сотрудников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Отдавать четкие и ясные приказы, следить за их исполнением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Обеспечивать профессиональный рост своих подчиненных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Выражать общее мнение коллектива и находить компромиссные решени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cc66"/>
                </a:solidFill>
                <a:latin typeface="Arial"/>
              </a:rPr>
              <a:t>2. Что самое важное в работе коллектива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Следование высоким стандартам, установленным руководством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исциплина, точность исполнения указаний руководител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риверженность общей цели, четкое видение целей и задач организации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Хорошая сплоченность команды,  дружеские отношения в коллективе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Согласованность решений с коллективом, общая ответственность за результат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Стимулирование развития подчиненных за счет выявления сильных и слабых сторон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cc66"/>
                </a:solidFill>
                <a:latin typeface="Arial"/>
              </a:rPr>
              <a:t>3. Подчиненные должны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Точно исполнять указани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Участвовать в формировании решени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Находиться в комфортной дружеской атмосфере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Развивать свои сильные стороны, расти профессионально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Видеть конечную цель и смысл выполняемой работы, ощущать свою сопричастность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Старательно работать, ориентируясь на руководителя как на пример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cc66"/>
                </a:solidFill>
                <a:latin typeface="Arial"/>
              </a:rPr>
              <a:t>4. Вы хотите, чтобы подчиненные видели в Вас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Наставника, учител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руга, товарища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Начальника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ример для подражани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ророка, провидца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ервого среди равных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В вопросе 5 выберите наиболее близкий Вам вариант ответа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cc66"/>
                </a:solidFill>
                <a:latin typeface="Arial"/>
              </a:rPr>
              <a:t>5. Какой девиз Вам ближе?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Все за мной!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Выполняйте, что я вам велел!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Люди прежде всего!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А вы как думаете?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А теперь делайте как я!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опробуйте вот такой вариант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Овладейте несколькими стилями!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чувствуйте реакцию окружающих, достигайте наилучших результатов, гибко, интуитивно приспосабливайте свой стиль к тем или иным обстоятельств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4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нь за днем оттачивайте свое ремесло, чтобы подобно профессиональному гольфисту, в нужный момент извлечь на свет нужную клюшку – стиль – и мастерски его применить. Результаты не заставят себя ждат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je3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404640"/>
            <a:ext cx="4537080" cy="21607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Стили управления и климат организаци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ые опытные и талантливые руководители интуитивно чувствуют, что в зависимости от ситуации людьми управлять нужно по-разно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6 стилей управления – 6  путей к цел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уждающий или диктатор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итет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е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мократи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алон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тавни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Климат организаци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бк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ветственность сотрудников по отношению к организ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овень внутрикорпоративный стандар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щущение людей, что их работа справедливо оценивается и вознагражда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сное понимание сотрудниками стоящих перед компанией задач и ее ценно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анность общим целям организ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Стиль управления и климат в организаци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773360"/>
          <a:ext cx="8229600" cy="444492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и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нуждающ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вторитет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е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мократич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алон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ставни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ибк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ствен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ндар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награжд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с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и и це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Принуждающий или диктаторский стиль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700280"/>
          <a:ext cx="8229600" cy="5395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требует беспрекословного повинов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лай, как я сказал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иентация на достижения, инициатива, самоконтро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зис, необходимость реорганизации, работа с трудными подчиненны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рица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Авторитетный сти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1600200"/>
          <a:ext cx="8229600" cy="5303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мобилизует подчиненных на достижение це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и за мной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веренность в себе, сопереживание, инновацион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форма, требующая нового подхода, необходимость задать четкое направл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льнейшее положи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теческий сти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600200"/>
          <a:ext cx="8229600" cy="5303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создает атмосферу мира и соглас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авное- люди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переживание, выстраивание  связей, коммуник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лаживание трений в команде, мотивация людей в моменты стрес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ожи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Демократичный сти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600200"/>
          <a:ext cx="8229600" cy="5730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вовлекает всех в работу и добивается консенсу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чу узнать ваше мн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трудничество, командная работа, коммуник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влечение людей к участию в проекте, достижение консенсуса, мотивация звез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ожи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5:13:29Z</dcterms:created>
  <dc:creator>anzhela</dc:creator>
  <dc:description/>
  <dc:language>en-US</dc:language>
  <cp:lastModifiedBy>LEGION</cp:lastModifiedBy>
  <dcterms:modified xsi:type="dcterms:W3CDTF">2016-01-11T10:04:26Z</dcterms:modified>
  <cp:revision>5</cp:revision>
  <dc:subject/>
  <dc:title>Слайд 1</dc:title>
</cp:coreProperties>
</file>