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70DA72-8ED0-483D-921D-3A970DA66199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A47-40DD-45E6-9A35-06A9C033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812-865F-49F2-BF1A-98B01A0C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7C0-267F-426A-8EC1-5D646273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DB8-E825-4570-A9CA-F3614D70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BEAF-1E3B-4EE4-8104-CA97A4A1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A202-1A44-4BA8-BD00-BD8B8A2B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7608-DD70-4BEB-BACD-EAB6E79C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019A-E7A8-4C9F-905E-5D5F72A9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35C8-00B1-4C38-9450-2B371D24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39E8-588F-41A8-8366-CE8EEA01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BD4A-8A2E-4236-BD24-D28FF23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5DD-2488-4B80-B164-B4CA4110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D179-ECA0-4742-A540-786E544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2DCC-56EB-414F-99FB-BE921FD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5539-98B7-4BAE-AFF8-993C7CB1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2C73-7233-4577-84C0-12512BB0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9A73-0AB3-4229-BB7E-8130A5F2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E12-7171-439B-B26A-08DE84D1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53B-1EDD-4B9B-A587-ECC61B72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279-6B40-4715-A786-E1A5FE7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4F2-EFF4-4B31-871A-4BEF0EEF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387-7059-4342-B510-BB786F3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29B-D855-4D32-8C16-8567B684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FA9-9E03-4AE6-A018-B04B050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8f8f8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3B12-7D5C-453A-95D2-E32FB126E68B}" type="slidenum">
              <a:rPr b="0" lang="ru-RU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f8f8f8"/>
                </a:solidFill>
                <a:latin typeface="Tahoma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9" descr=""/>
          <p:cNvPicPr/>
          <p:nvPr/>
        </p:nvPicPr>
        <p:blipFill>
          <a:blip r:embed="rId2"/>
          <a:stretch/>
        </p:blipFill>
        <p:spPr>
          <a:xfrm>
            <a:off x="0" y="-4680"/>
            <a:ext cx="108576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FEAA-419F-4ED8-8949-CB9D69E9E7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Лекция </a:t>
            </a:r>
            <a:r>
              <a:rPr b="0" lang="en-US" sz="2500" spc="-1" strike="noStrike">
                <a:solidFill>
                  <a:srgbClr val="4d4d4d"/>
                </a:solidFill>
                <a:latin typeface="Tahoma"/>
              </a:rPr>
              <a:t>6</a:t>
            </a: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4d4d4d"/>
                </a:solidFill>
                <a:latin typeface="Tahoma"/>
              </a:rPr>
              <a:t>Цель как объективная системная категория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70000" y="2641680"/>
            <a:ext cx="777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одержание лек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содержания категории «це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сообразность и поведение сист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рение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ы исследования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ерархия целей хозяйственной систе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548080" y="6119640"/>
            <a:ext cx="38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4. Методы исследования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0" name="Содержимое 5" descr=""/>
          <p:cNvPicPr/>
          <p:nvPr/>
        </p:nvPicPr>
        <p:blipFill>
          <a:blip r:embed="rId1"/>
          <a:stretch/>
        </p:blipFill>
        <p:spPr>
          <a:xfrm>
            <a:off x="633240" y="1944720"/>
            <a:ext cx="78822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984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5. Иерархия целей хозяйственной системы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3" name="Содержимое 4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9064800" cy="52610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684360" y="1592280"/>
            <a:ext cx="485928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. Сущност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684360" y="2852640"/>
            <a:ext cx="802800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Реализация (воплощение) сущностного уров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108000" y="4041720"/>
            <a:ext cx="889308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икладно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108000" y="5265720"/>
            <a:ext cx="817236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Поверхностный (внешний)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2556000" y="649296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олкова В.Н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Денисов А.А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Теория систем и системный анализ. М.: Юрайт, 20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ветлов Н.М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116000" y="1486080"/>
            <a:ext cx="6114960" cy="47145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16200000">
            <a:off x="-2579040" y="276768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58920" y="169920"/>
            <a:ext cx="6114960" cy="6688080"/>
          </a:xfrm>
          <a:prstGeom prst="rect">
            <a:avLst/>
          </a:prstGeom>
          <a:ln w="0">
            <a:noFill/>
          </a:ln>
        </p:spPr>
      </p:pic>
      <p:sp>
        <p:nvSpPr>
          <p:cNvPr id="133" name="Нижний колонтитул 4"/>
          <p:cNvSpPr/>
          <p:nvPr/>
        </p:nvSpPr>
        <p:spPr>
          <a:xfrm rot="16200000">
            <a:off x="6856560" y="402444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34920" y="2060640"/>
            <a:ext cx="7439040" cy="411300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24000" y="1882800"/>
            <a:ext cx="6912000" cy="43466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8648" t="0" r="0" b="0"/>
          <a:stretch/>
        </p:blipFill>
        <p:spPr>
          <a:xfrm>
            <a:off x="1368360" y="1989000"/>
            <a:ext cx="7056360" cy="40086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4920" y="1916280"/>
            <a:ext cx="7861320" cy="4249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3. Измерение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0" r="0" b="6323"/>
          <a:stretch/>
        </p:blipFill>
        <p:spPr>
          <a:xfrm>
            <a:off x="1079640" y="1736640"/>
            <a:ext cx="7524720" cy="451476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11T10:08:48Z</dcterms:modified>
  <cp:revision>248</cp:revision>
  <dc:subject/>
  <dc:title>Цель как объективная системная категория</dc:title>
</cp:coreProperties>
</file>