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5188631-ECB7-46A5-989E-1E0B85CCA6C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337-E9E4-486E-8173-831888E8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1AF-5940-497B-AE19-00D954F5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E71-50AE-49E2-80FC-CB079115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115-A94E-4B23-A63B-09872177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7862-DFDA-49BF-83AC-378CF08D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607E-DC5C-4B99-B4F7-65AAC8FC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B607-CA0D-48FD-BFEA-F37CAE8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8F16-66BB-4800-964B-DAC0EBF7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F731-F371-4C32-AABF-9CD2152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DE83-B765-4BD4-AD80-A16B0A50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B3F9-FE9F-4298-9CEE-B8CA740B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835-7E66-412D-B2F8-46E7E05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060D-4B4F-4DC8-8AB1-F5DDD2A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60BD-F76B-4D3A-B74D-2C132905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45E2-6171-41C9-8BE1-F699CB61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7028-D0EA-4EAE-B1A8-6539B3A1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AC9-677F-4396-A133-6ABA0B07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697-3879-470A-BBB8-6F92543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D8B-40CA-4828-BB16-C412C429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F6C-DC38-44B1-8936-E5949BBC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A1A-01B3-4F38-94D8-5ECFE8E2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936-96D1-4556-812B-F58DCE1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6BE-3BF8-42F0-8081-0CC6C1E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DF5-265B-4775-BB80-969C853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8f8f8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E251-6E72-4194-987D-43C545A9463C}" type="slidenum">
              <a:rPr b="0" lang="ru-RU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f8f8f8"/>
                </a:solidFill>
                <a:latin typeface="Tahoma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9" descr=""/>
          <p:cNvPicPr/>
          <p:nvPr/>
        </p:nvPicPr>
        <p:blipFill>
          <a:blip r:embed="rId2"/>
          <a:stretch/>
        </p:blipFill>
        <p:spPr>
          <a:xfrm>
            <a:off x="0" y="-4680"/>
            <a:ext cx="10857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E4BF-A2B7-478A-B65E-1926C56446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Лекция </a:t>
            </a:r>
            <a:r>
              <a:rPr b="0" lang="en-US" sz="2500" spc="-1" strike="noStrike">
                <a:solidFill>
                  <a:srgbClr val="4d4d4d"/>
                </a:solidFill>
                <a:latin typeface="Tahoma"/>
              </a:rPr>
              <a:t>6</a:t>
            </a: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4d4d4d"/>
                </a:solidFill>
                <a:latin typeface="Tahoma"/>
              </a:rPr>
              <a:t>Цель как объективная системная категория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70000" y="2641680"/>
            <a:ext cx="777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одержание л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содержания категории «ц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сообразность и поведение сист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ение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ы исследования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ерархия целей хозяйственной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548080" y="6119640"/>
            <a:ext cx="38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4. Методы исследования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0" name="Содержимое 5" descr=""/>
          <p:cNvPicPr/>
          <p:nvPr/>
        </p:nvPicPr>
        <p:blipFill>
          <a:blip r:embed="rId1"/>
          <a:stretch/>
        </p:blipFill>
        <p:spPr>
          <a:xfrm>
            <a:off x="633240" y="1944720"/>
            <a:ext cx="7882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984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5. Иерархия целей хозяйственной системы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064800" cy="5261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84360" y="1592280"/>
            <a:ext cx="485928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. Сущно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84360" y="2852640"/>
            <a:ext cx="802800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еализация (воплощение) сущност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08000" y="4041720"/>
            <a:ext cx="889308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икладно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8000" y="5265720"/>
            <a:ext cx="817236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верхностный (внешний)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556000" y="649296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лкова В.Н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Денисов А.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Теория систем и системный анализ. М.: Юрайт, 20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етлов Н.М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114960" cy="47145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6200000">
            <a:off x="-2579040" y="27676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58920" y="169920"/>
            <a:ext cx="6114960" cy="6688080"/>
          </a:xfrm>
          <a:prstGeom prst="rect">
            <a:avLst/>
          </a:prstGeom>
          <a:ln w="0">
            <a:noFill/>
          </a:ln>
        </p:spPr>
      </p:pic>
      <p:sp>
        <p:nvSpPr>
          <p:cNvPr id="133" name="Нижний колонтитул 4"/>
          <p:cNvSpPr/>
          <p:nvPr/>
        </p:nvSpPr>
        <p:spPr>
          <a:xfrm rot="16200000">
            <a:off x="6856560" y="402444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4920" y="2060640"/>
            <a:ext cx="7439040" cy="411300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24000" y="188280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8648" t="0" r="0" b="0"/>
          <a:stretch/>
        </p:blipFill>
        <p:spPr>
          <a:xfrm>
            <a:off x="1368360" y="1989000"/>
            <a:ext cx="7056360" cy="40086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4920" y="1916280"/>
            <a:ext cx="7861320" cy="4249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3. Измерение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0" r="0" b="6323"/>
          <a:stretch/>
        </p:blipFill>
        <p:spPr>
          <a:xfrm>
            <a:off x="1079640" y="1736640"/>
            <a:ext cx="7524720" cy="451476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11T10:08:48Z</dcterms:modified>
  <cp:revision>248</cp:revision>
  <dc:subject/>
  <dc:title>Цель как объективная системная категория</dc:title>
</cp:coreProperties>
</file>