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015-B840-4D6C-A0E4-9D32E20668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B23-0FAC-444F-A577-7F7AF8E3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017-0830-442C-AC07-5DF9EEFF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40C-33B7-44F7-9965-CFF9ED83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EC9-6455-4CE2-9234-0438ACD8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95A2-DBE1-4BA9-ACF9-B737BA24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9CC1-9D7D-4C28-BBB9-7EED3562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1F01-4830-472F-88CC-CF162128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C7E6-B2C3-47D2-B43F-83E0E73D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95EA-06A7-43D5-ACC6-03DE248E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790E-B776-48A2-A49E-C6E4741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B435-AAB5-4B75-92C5-5DC04BFC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F1D-676E-4B5D-90FD-2578883F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B8F1-8828-4C11-AB6A-87AF4E81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389A-C08E-4B21-A3F0-83A2CDCB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2D12-B308-455F-9339-E8B75807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A864-8A73-4744-ACA3-5C80DDE5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0E6E-242D-42D0-BE02-A110F516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8C2-7B8C-47E9-BC02-CFC4D71E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5E3-F529-4B70-91C0-AB8E8A25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CCD-2EED-4299-BE4F-57599766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61C-8ED3-40A8-892C-63D58DE5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4DD-6D66-4E6D-9DD4-1EA4416A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B99-5944-4E23-A8B8-27E8796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DFD-12E5-47A7-979B-1DC9A36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7294-A5C2-4167-968D-81676B1A28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F03E-CCC7-44AA-8EF4-C2784380E8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Экономическое развитие. Экономическая деятельность и условия её эффективности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ункци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Руковод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онтро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Организация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иды организационной структуры фир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стая (линей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вы условия применения данн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716360" y="2276640"/>
            <a:ext cx="1656000" cy="914400"/>
          </a:xfrm>
          <a:prstGeom prst="hexagon">
            <a:avLst>
              <a:gd name="adj" fmla="val 45276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3563640" y="2781360"/>
            <a:ext cx="1152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4571640" y="3213000"/>
            <a:ext cx="576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5940360" y="3213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6372360" y="2781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580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2771640" y="3933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067280" y="4508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084720" y="45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7308720" y="3860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5076720" y="364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40000" y="475920"/>
            <a:ext cx="66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ожная (линейно –штаб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27640" y="1341360"/>
            <a:ext cx="2136600" cy="935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3924000" y="2276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364000" y="22766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940360" y="2276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3132000" y="2852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4859280" y="3141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516720" y="27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19564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349236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478800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630072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752472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4211640" y="558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5580000" y="551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2700360" y="3500280"/>
            <a:ext cx="504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3924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4140360" y="3357720"/>
            <a:ext cx="57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3357720"/>
            <a:ext cx="93636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536400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5651640" y="4076640"/>
            <a:ext cx="43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>
            <a:off x="5940360" y="364500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6877080" y="3716280"/>
            <a:ext cx="71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7164360" y="371628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c0039"/>
                </a:solidFill>
                <a:uFillTx/>
                <a:latin typeface="Arial"/>
              </a:rPr>
              <a:t>Планирование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 – постановка целей деятельности и определение путей их достижен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08360" y="1989000"/>
            <a:ext cx="35276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3357720"/>
            <a:ext cx="208764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тк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732720" y="3357720"/>
            <a:ext cx="208908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е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4653000"/>
            <a:ext cx="17780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г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-2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227640" y="4653000"/>
            <a:ext cx="194472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ер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есяц, ква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3348000" y="2924280"/>
            <a:ext cx="1511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6084720" y="2924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4427280" y="2924280"/>
            <a:ext cx="865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651640" y="2924280"/>
            <a:ext cx="14414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Руководство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– создание условий для деятельности по реализации планов, принятие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Ситуа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Контроль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ркетинг (анг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rket –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ынок; продавать, с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деятельность по  изучению, формированию и удовлетворению потребительского спроса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олог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экономист – социолог; специалист по изучению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инципы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Главный принцип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изводить то, что можно пр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руг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здействие на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Этапы изуче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егментация – основной метод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е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м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Задание:</a:t>
            </a:r>
            <a:br>
              <a:rPr sz="3600"/>
            </a:b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38280" y="1600200"/>
          <a:ext cx="6400800" cy="37288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438280" y="1600200"/>
          <a:ext cx="6400800" cy="42609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7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имат мес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отность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личие г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мер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ровень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од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тиль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ндивидуальное отношение к тов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нова-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ыкновен-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нсервато-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консер-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етоды про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влекательность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а – денежное выражение стоимости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лупое следование за конкур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ятие сли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никнов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ый (расчет издерж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о - маркетинг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Times New Roman"/>
              </a:rPr>
              <a:t>Основные принципы менеджмента. Основы маркетинга.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ек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вышение качества прод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ыпуск новых товаров,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ижение цен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м важен для вас данный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делайте выводы по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остигли ли мы ц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, зад. 1-3 стр. 78 устно, запис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-5, подготовиться к провероч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изнес – это наука или искус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ожно ли научиться бизнес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 англ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management – 1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едование, упр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) правление, дирекция, админис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– 1) наука и искусство управл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ер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наемный специалист по у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ровн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0920" y="1197000"/>
            <a:ext cx="6427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3"/>
          <p:cNvSpPr/>
          <p:nvPr/>
        </p:nvSpPr>
        <p:spPr>
          <a:xfrm>
            <a:off x="3276720" y="1628640"/>
            <a:ext cx="4680000" cy="914400"/>
          </a:xfrm>
          <a:prstGeom prst="downArrowCallout">
            <a:avLst>
              <a:gd name="adj1" fmla="val 127965"/>
              <a:gd name="adj2" fmla="val 127953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п – менеджеры крупных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4"/>
          <p:cNvSpPr/>
          <p:nvPr/>
        </p:nvSpPr>
        <p:spPr>
          <a:xfrm>
            <a:off x="3203640" y="2852640"/>
            <a:ext cx="5111640" cy="86544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74481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высше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руководители организ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5"/>
          <p:cNvSpPr/>
          <p:nvPr/>
        </p:nvSpPr>
        <p:spPr>
          <a:xfrm>
            <a:off x="3203640" y="4005360"/>
            <a:ext cx="5184720" cy="1224000"/>
          </a:xfrm>
          <a:prstGeom prst="downArrowCallout">
            <a:avLst>
              <a:gd name="adj1" fmla="val 105907"/>
              <a:gd name="adj2" fmla="val 105897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среднего зв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местители руководителя, началь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разделений и производ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6"/>
          <p:cNvSpPr/>
          <p:nvPr/>
        </p:nvSpPr>
        <p:spPr>
          <a:xfrm>
            <a:off x="2987640" y="5445000"/>
            <a:ext cx="5472000" cy="914400"/>
          </a:xfrm>
          <a:prstGeom prst="downArrowCallout">
            <a:avLst>
              <a:gd name="adj1" fmla="val 149620"/>
              <a:gd name="adj2" fmla="val 149606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астера, бригади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8:03Z</dcterms:created>
  <dc:creator>User</dc:creator>
  <dc:description/>
  <dc:language>en-US</dc:language>
  <cp:lastModifiedBy>LEGION</cp:lastModifiedBy>
  <dcterms:modified xsi:type="dcterms:W3CDTF">2016-01-11T10:03:31Z</dcterms:modified>
  <cp:revision>11</cp:revision>
  <dc:subject/>
  <dc:title>Экономическое развитие</dc:title>
</cp:coreProperties>
</file>