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96E-A919-47F1-98A0-35986ED947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21B-9941-4C5B-80C8-7A1CE49F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493-D13E-4680-93A4-0246B2DC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002-0687-4EFC-8E32-4463F62B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C65-6D97-47D0-9BE1-CA985B59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793A-1FB3-4364-9F1F-DA963779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D243-04B2-4203-AC77-ABC60EF2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0A65-DF6D-418B-B33B-09F9AA6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5DC9-7AD5-4BD6-A120-3321CBBE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6C05-5309-4491-81C9-FE6266B5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1C43-F646-4C80-8005-4D4C04D4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3203-74D3-48AD-B894-11550F71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D8F-80AF-4747-8D5F-9EB51F3C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B98F-3E0C-40F9-A636-1F26561E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B2BA-2F5F-4E1D-BB62-A72AF69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7D5D-491F-4F99-A692-617EA708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6394-E32E-4869-BB27-1674BF9D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3340-75DF-41F9-A51C-2696C1B1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B91C-CD4C-4A63-9D9C-A0F479CB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98E9-D7D6-451F-AE4C-328FEC60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A421-3B03-4A4B-8296-758EA3A7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9C66-66AC-43D3-9A6F-83E6D80E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C3D80-DD66-4E52-97B1-CEBB45D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7B3-37A1-4DDE-83E0-5AC9A882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7902-0255-423F-9F50-D424FF30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7702-0B7C-42BF-B53A-0D263D62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D9C9-7237-41BB-B029-F5D5B370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F95F-C5E9-43F2-AAC9-825DA558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C443-62AD-4B57-A304-23C5FD0C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B3FC-57A9-4079-A6A0-64FB4B5F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A874-E37E-45D8-BB19-ABA62700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E976-C2A3-402D-8E94-249EDF96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7C77-D971-44D6-9331-6FC349FC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B0A4-8E5B-432F-BE5D-DA16D040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6B5-1685-4ECB-A815-588BDDB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62485-EA0F-461B-909B-21904D4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8D16-651F-44B7-A8B5-8358F62F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399A-48B3-408C-847B-8A76769F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186F-6F5C-45B3-9571-D0177D40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EE9C-1169-41C5-B087-B1F94C1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4041-C601-4D28-84F0-0612459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EB2F-6FB2-4B0A-ABF1-AF8269B6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8D52-821D-4A05-961B-53008808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6823-5C07-45D5-A07D-ED9A718C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3D5-B78C-48F3-BB4C-FF445EAD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B6C-5E65-4FED-9370-828858A7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472-89F8-40FF-A873-95397B8F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802-8AB5-4AA8-A4C4-FDE99B1E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6C4-0294-4263-A1DF-507C3941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9FB9-2F3F-4A55-88CA-BA12753C78D1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4AA9-DCFD-4A67-9B5D-6A02C36F28D8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18B-DE7F-451E-BF1B-2A9AE5360899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5942-C45D-414B-B1BD-20C674EBFF11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74;&#1085;&#1077;&#1096;&#1085;&#1080;&#1077;%20&#1091;&#1089;&#1083;&#1086;&#1074;&#1080;&#1103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92;&#1086;&#1088;&#1084;.%20&#1080;%20&#1085;&#1077;&#1092;&#1086;&#1088;&#1084;.%20&#1086;&#1088;&#1075;-&#1080;&#1080;.doc" TargetMode="External"/><Relationship Id="rId2" Type="http://schemas.openxmlformats.org/officeDocument/2006/relationships/hyperlink" Target="file:///&#1092;&#1086;&#1088;&#1084;.%20&#1080;%20&#1085;&#1077;&#1092;&#1086;&#1088;&#1084;.%20&#1086;&#1088;&#1075;-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95;&#1080;&#1085;&#1099;%20&#1074;&#1089;&#1090;&#1091;&#1087;&#1083;&#1077;&#1085;&#1080;&#1103;%20&#1074;%20&#1085;&#1077;&#1092;&#1086;&#1088;&#1084;.&#1075;&#1088;&#1091;&#1087;&#1087;&#109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93;&#1072;&#1088;-&#1082;&#1080;%20&#1085;&#1077;&#1092;&#1086;&#1088;&#1084;.&#1086;&#1088;&#1075;-&#1080;&#108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est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9;&#1090;&#1072;&#1076;&#1080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66600" y="1657440"/>
            <a:ext cx="925344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структур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группы, членство в группе, коммуникации в группе и организаци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независим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изическое расположение группы, взаимосвязь с другими группа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перемен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арактер задачи, стоящей перед группой; степень сложности задачи; условия решения задач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мотиваци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тивации членов группы; групповая мотивация; состояние окружающей группу среды (атмосфера в коллективе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)промежуточ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4840200"/>
            <a:ext cx="9131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36" name="Прямоугольник 4"/>
          <p:cNvGrpSpPr/>
          <p:nvPr/>
        </p:nvGrpSpPr>
        <p:grpSpPr>
          <a:xfrm>
            <a:off x="-133200" y="890640"/>
            <a:ext cx="2766960" cy="1146240"/>
            <a:chOff x="-133200" y="890640"/>
            <a:chExt cx="2766960" cy="1146240"/>
          </a:xfrm>
        </p:grpSpPr>
        <p:pic>
          <p:nvPicPr>
            <p:cNvPr id="23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3200" y="890640"/>
              <a:ext cx="2766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928800"/>
              <a:ext cx="25002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ковод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Прямоугольник 5"/>
          <p:cNvGrpSpPr/>
          <p:nvPr/>
        </p:nvGrpSpPr>
        <p:grpSpPr>
          <a:xfrm>
            <a:off x="5321160" y="2535120"/>
            <a:ext cx="3640320" cy="1951200"/>
            <a:chOff x="5321160" y="2535120"/>
            <a:chExt cx="3640320" cy="1951200"/>
          </a:xfrm>
        </p:grpSpPr>
        <p:pic>
          <p:nvPicPr>
            <p:cNvPr id="240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321160" y="2535120"/>
              <a:ext cx="364032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429160" y="2571840"/>
              <a:ext cx="33577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эффективности  труда и удовлетворение работ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решение 7"/>
          <p:cNvGrpSpPr/>
          <p:nvPr/>
        </p:nvGrpSpPr>
        <p:grpSpPr>
          <a:xfrm>
            <a:off x="4071960" y="1036800"/>
            <a:ext cx="1212840" cy="1017360"/>
            <a:chOff x="4071960" y="1036800"/>
            <a:chExt cx="1212840" cy="1017360"/>
          </a:xfrm>
        </p:grpSpPr>
        <p:pic>
          <p:nvPicPr>
            <p:cNvPr id="243" name="Блок-схема: решение 7" descr=""/>
            <p:cNvPicPr/>
            <p:nvPr/>
          </p:nvPicPr>
          <p:blipFill>
            <a:blip r:embed="rId4"/>
            <a:stretch/>
          </p:blipFill>
          <p:spPr>
            <a:xfrm>
              <a:off x="4071960" y="103680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41180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решение 8"/>
          <p:cNvGrpSpPr/>
          <p:nvPr/>
        </p:nvGrpSpPr>
        <p:grpSpPr>
          <a:xfrm>
            <a:off x="5499000" y="1036800"/>
            <a:ext cx="1219320" cy="1017360"/>
            <a:chOff x="5499000" y="1036800"/>
            <a:chExt cx="1219320" cy="1017360"/>
          </a:xfrm>
        </p:grpSpPr>
        <p:pic>
          <p:nvPicPr>
            <p:cNvPr id="246" name="Блок-схема: решение 8" descr=""/>
            <p:cNvPicPr/>
            <p:nvPr/>
          </p:nvPicPr>
          <p:blipFill>
            <a:blip r:embed="rId5"/>
            <a:stretch/>
          </p:blipFill>
          <p:spPr>
            <a:xfrm>
              <a:off x="549900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4028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решение 9"/>
          <p:cNvGrpSpPr/>
          <p:nvPr/>
        </p:nvGrpSpPr>
        <p:grpSpPr>
          <a:xfrm>
            <a:off x="4071960" y="2322360"/>
            <a:ext cx="1212840" cy="1017720"/>
            <a:chOff x="4071960" y="2322360"/>
            <a:chExt cx="1212840" cy="1017720"/>
          </a:xfrm>
        </p:grpSpPr>
        <p:pic>
          <p:nvPicPr>
            <p:cNvPr id="249" name="Блок-схема: решение 9" descr=""/>
            <p:cNvPicPr/>
            <p:nvPr/>
          </p:nvPicPr>
          <p:blipFill>
            <a:blip r:embed="rId6"/>
            <a:stretch/>
          </p:blipFill>
          <p:spPr>
            <a:xfrm>
              <a:off x="4071960" y="2322360"/>
              <a:ext cx="12128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411800" y="2554200"/>
              <a:ext cx="5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решение 10"/>
          <p:cNvGrpSpPr/>
          <p:nvPr/>
        </p:nvGrpSpPr>
        <p:grpSpPr>
          <a:xfrm>
            <a:off x="4071960" y="3822840"/>
            <a:ext cx="1212840" cy="1017360"/>
            <a:chOff x="4071960" y="3822840"/>
            <a:chExt cx="1212840" cy="1017360"/>
          </a:xfrm>
        </p:grpSpPr>
        <p:pic>
          <p:nvPicPr>
            <p:cNvPr id="252" name="Блок-схема: решение 10" descr=""/>
            <p:cNvPicPr/>
            <p:nvPr/>
          </p:nvPicPr>
          <p:blipFill>
            <a:blip r:embed="rId7"/>
            <a:stretch/>
          </p:blipFill>
          <p:spPr>
            <a:xfrm>
              <a:off x="4071960" y="382284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411800" y="405432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Блок-схема: решение 12"/>
          <p:cNvGrpSpPr/>
          <p:nvPr/>
        </p:nvGrpSpPr>
        <p:grpSpPr>
          <a:xfrm>
            <a:off x="2712960" y="1036800"/>
            <a:ext cx="1219320" cy="1017360"/>
            <a:chOff x="2712960" y="1036800"/>
            <a:chExt cx="1219320" cy="1017360"/>
          </a:xfrm>
        </p:grpSpPr>
        <p:pic>
          <p:nvPicPr>
            <p:cNvPr id="255" name="Блок-схема: решение 12" descr=""/>
            <p:cNvPicPr/>
            <p:nvPr/>
          </p:nvPicPr>
          <p:blipFill>
            <a:blip r:embed="rId8"/>
            <a:stretch/>
          </p:blipFill>
          <p:spPr>
            <a:xfrm>
              <a:off x="271296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05424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Стрелка вправо 17"/>
          <p:cNvSpPr/>
          <p:nvPr/>
        </p:nvSpPr>
        <p:spPr>
          <a:xfrm>
            <a:off x="5143680" y="1357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трелка вниз 19"/>
          <p:cNvSpPr/>
          <p:nvPr/>
        </p:nvSpPr>
        <p:spPr>
          <a:xfrm>
            <a:off x="4572000" y="185724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право 20"/>
          <p:cNvSpPr/>
          <p:nvPr/>
        </p:nvSpPr>
        <p:spPr>
          <a:xfrm>
            <a:off x="3786120" y="135720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вправо 21"/>
          <p:cNvSpPr/>
          <p:nvPr/>
        </p:nvSpPr>
        <p:spPr>
          <a:xfrm>
            <a:off x="2500200" y="1357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трелка вниз 22"/>
          <p:cNvSpPr/>
          <p:nvPr/>
        </p:nvSpPr>
        <p:spPr>
          <a:xfrm>
            <a:off x="4143240" y="2786040"/>
            <a:ext cx="14292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верх 23"/>
          <p:cNvSpPr/>
          <p:nvPr/>
        </p:nvSpPr>
        <p:spPr>
          <a:xfrm>
            <a:off x="5000760" y="2857680"/>
            <a:ext cx="142920" cy="1285560"/>
          </a:xfrm>
          <a:prstGeom prst="upArrow">
            <a:avLst>
              <a:gd name="adj1" fmla="val 50000"/>
              <a:gd name="adj2" fmla="val 49972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право 24"/>
          <p:cNvSpPr/>
          <p:nvPr/>
        </p:nvSpPr>
        <p:spPr>
          <a:xfrm>
            <a:off x="5072040" y="33577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Фигура, имеющая форму буквы L 27"/>
          <p:cNvSpPr/>
          <p:nvPr/>
        </p:nvSpPr>
        <p:spPr>
          <a:xfrm>
            <a:off x="1071720" y="1928880"/>
            <a:ext cx="285480" cy="2428920"/>
          </a:xfrm>
          <a:custGeom>
            <a:avLst/>
            <a:gdLst/>
            <a:ahLst/>
            <a:rect l="l" t="t" r="r" b="b"/>
            <a:pathLst>
              <a:path w="285750" h="2428875">
                <a:moveTo>
                  <a:pt x="0" y="0"/>
                </a:moveTo>
                <a:lnTo>
                  <a:pt x="142875" y="0"/>
                </a:lnTo>
                <a:lnTo>
                  <a:pt x="142875" y="2286000"/>
                </a:lnTo>
                <a:lnTo>
                  <a:pt x="285750" y="2286000"/>
                </a:lnTo>
                <a:lnTo>
                  <a:pt x="285750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право 28"/>
          <p:cNvSpPr/>
          <p:nvPr/>
        </p:nvSpPr>
        <p:spPr>
          <a:xfrm>
            <a:off x="1357200" y="41432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>
            <a:off x="1214280" y="25718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33"/>
          <p:cNvSpPr/>
          <p:nvPr/>
        </p:nvSpPr>
        <p:spPr>
          <a:xfrm>
            <a:off x="2590920" y="1044720"/>
            <a:ext cx="161640" cy="261720"/>
          </a:xfrm>
          <a:custGeom>
            <a:avLst/>
            <a:gdLst/>
            <a:ahLst/>
            <a:rect l="l" t="t" r="r" b="b"/>
            <a:pathLst>
              <a:path w="162301" h="262258">
                <a:moveTo>
                  <a:pt x="0" y="153401"/>
                </a:moveTo>
                <a:cubicBezTo>
                  <a:pt x="43026" y="139059"/>
                  <a:pt x="99935" y="126453"/>
                  <a:pt x="130629" y="88086"/>
                </a:cubicBezTo>
                <a:cubicBezTo>
                  <a:pt x="144965" y="70166"/>
                  <a:pt x="149554" y="0"/>
                  <a:pt x="152400" y="22772"/>
                </a:cubicBezTo>
                <a:cubicBezTo>
                  <a:pt x="162301" y="101984"/>
                  <a:pt x="152400" y="182429"/>
                  <a:pt x="152400" y="262258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5"/>
          <p:cNvSpPr/>
          <p:nvPr/>
        </p:nvSpPr>
        <p:spPr>
          <a:xfrm>
            <a:off x="2625840" y="2249640"/>
            <a:ext cx="226800" cy="368280"/>
          </a:xfrm>
          <a:custGeom>
            <a:avLst/>
            <a:gdLst/>
            <a:ahLst/>
            <a:rect l="l" t="t" r="r" b="b"/>
            <a:pathLst>
              <a:path w="226237" h="367401">
                <a:moveTo>
                  <a:pt x="30294" y="145036"/>
                </a:moveTo>
                <a:cubicBezTo>
                  <a:pt x="23037" y="123265"/>
                  <a:pt x="0" y="101030"/>
                  <a:pt x="8523" y="79722"/>
                </a:cubicBezTo>
                <a:cubicBezTo>
                  <a:pt x="40412" y="0"/>
                  <a:pt x="166383" y="51603"/>
                  <a:pt x="204466" y="57950"/>
                </a:cubicBezTo>
                <a:cubicBezTo>
                  <a:pt x="197209" y="101493"/>
                  <a:pt x="202436" y="149096"/>
                  <a:pt x="182694" y="188579"/>
                </a:cubicBezTo>
                <a:cubicBezTo>
                  <a:pt x="165812" y="222343"/>
                  <a:pt x="82979" y="243589"/>
                  <a:pt x="52066" y="253893"/>
                </a:cubicBezTo>
                <a:cubicBezTo>
                  <a:pt x="89901" y="367401"/>
                  <a:pt x="50888" y="319208"/>
                  <a:pt x="226237" y="31920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36"/>
          <p:cNvSpPr/>
          <p:nvPr/>
        </p:nvSpPr>
        <p:spPr>
          <a:xfrm>
            <a:off x="2700360" y="3778200"/>
            <a:ext cx="237960" cy="314280"/>
          </a:xfrm>
          <a:custGeom>
            <a:avLst/>
            <a:gdLst/>
            <a:ahLst/>
            <a:rect l="l" t="t" r="r" b="b"/>
            <a:pathLst>
              <a:path w="239486" h="315341">
                <a:moveTo>
                  <a:pt x="0" y="75855"/>
                </a:moveTo>
                <a:cubicBezTo>
                  <a:pt x="43299" y="46988"/>
                  <a:pt x="76546" y="0"/>
                  <a:pt x="130629" y="54083"/>
                </a:cubicBezTo>
                <a:cubicBezTo>
                  <a:pt x="146857" y="70311"/>
                  <a:pt x="145143" y="97626"/>
                  <a:pt x="152400" y="119398"/>
                </a:cubicBezTo>
                <a:cubicBezTo>
                  <a:pt x="130629" y="133912"/>
                  <a:pt x="87086" y="136775"/>
                  <a:pt x="87086" y="162941"/>
                </a:cubicBezTo>
                <a:cubicBezTo>
                  <a:pt x="87086" y="185890"/>
                  <a:pt x="130334" y="178408"/>
                  <a:pt x="152400" y="184712"/>
                </a:cubicBezTo>
                <a:cubicBezTo>
                  <a:pt x="181171" y="192932"/>
                  <a:pt x="210457" y="199226"/>
                  <a:pt x="239486" y="206483"/>
                </a:cubicBezTo>
                <a:cubicBezTo>
                  <a:pt x="222329" y="275108"/>
                  <a:pt x="238292" y="315341"/>
                  <a:pt x="152400" y="315341"/>
                </a:cubicBezTo>
                <a:cubicBezTo>
                  <a:pt x="101084" y="315341"/>
                  <a:pt x="0" y="293569"/>
                  <a:pt x="0" y="293569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лилиния 39"/>
          <p:cNvSpPr/>
          <p:nvPr/>
        </p:nvSpPr>
        <p:spPr>
          <a:xfrm>
            <a:off x="414324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 45"/>
          <p:cNvSpPr/>
          <p:nvPr/>
        </p:nvSpPr>
        <p:spPr>
          <a:xfrm>
            <a:off x="457200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 49"/>
          <p:cNvSpPr/>
          <p:nvPr/>
        </p:nvSpPr>
        <p:spPr>
          <a:xfrm>
            <a:off x="4357800" y="3214800"/>
            <a:ext cx="233280" cy="347400"/>
          </a:xfrm>
          <a:custGeom>
            <a:avLst/>
            <a:gdLst/>
            <a:ahLst/>
            <a:rect l="l" t="t" r="r" b="b"/>
            <a:pathLst>
              <a:path w="233806" h="346991">
                <a:moveTo>
                  <a:pt x="14876" y="346991"/>
                </a:moveTo>
                <a:cubicBezTo>
                  <a:pt x="29390" y="245391"/>
                  <a:pt x="0" y="126574"/>
                  <a:pt x="58419" y="42191"/>
                </a:cubicBezTo>
                <a:cubicBezTo>
                  <a:pt x="87628" y="0"/>
                  <a:pt x="171397" y="31111"/>
                  <a:pt x="210819" y="63962"/>
                </a:cubicBezTo>
                <a:cubicBezTo>
                  <a:pt x="233806" y="83118"/>
                  <a:pt x="205646" y="126151"/>
                  <a:pt x="189048" y="151048"/>
                </a:cubicBezTo>
                <a:cubicBezTo>
                  <a:pt x="146601" y="214719"/>
                  <a:pt x="76320" y="194591"/>
                  <a:pt x="14876" y="1945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 50"/>
          <p:cNvSpPr/>
          <p:nvPr/>
        </p:nvSpPr>
        <p:spPr>
          <a:xfrm>
            <a:off x="4786200" y="3286080"/>
            <a:ext cx="311400" cy="262080"/>
          </a:xfrm>
          <a:custGeom>
            <a:avLst/>
            <a:gdLst/>
            <a:ahLst/>
            <a:rect l="l" t="t" r="r" b="b"/>
            <a:pathLst>
              <a:path w="310444" h="261257">
                <a:moveTo>
                  <a:pt x="21771" y="21772"/>
                </a:moveTo>
                <a:cubicBezTo>
                  <a:pt x="43542" y="14515"/>
                  <a:pt x="64136" y="0"/>
                  <a:pt x="87085" y="0"/>
                </a:cubicBezTo>
                <a:cubicBezTo>
                  <a:pt x="163902" y="0"/>
                  <a:pt x="241472" y="2960"/>
                  <a:pt x="174171" y="87086"/>
                </a:cubicBezTo>
                <a:cubicBezTo>
                  <a:pt x="157825" y="107518"/>
                  <a:pt x="130628" y="116115"/>
                  <a:pt x="108857" y="130629"/>
                </a:cubicBezTo>
                <a:cubicBezTo>
                  <a:pt x="137886" y="137886"/>
                  <a:pt x="167172" y="144180"/>
                  <a:pt x="195943" y="152400"/>
                </a:cubicBezTo>
                <a:cubicBezTo>
                  <a:pt x="241099" y="165302"/>
                  <a:pt x="310444" y="168528"/>
                  <a:pt x="239485" y="239486"/>
                </a:cubicBezTo>
                <a:cubicBezTo>
                  <a:pt x="223258" y="255713"/>
                  <a:pt x="195942" y="254000"/>
                  <a:pt x="174171" y="261257"/>
                </a:cubicBezTo>
                <a:cubicBezTo>
                  <a:pt x="137885" y="254000"/>
                  <a:pt x="99962" y="252479"/>
                  <a:pt x="65314" y="239486"/>
                </a:cubicBezTo>
                <a:cubicBezTo>
                  <a:pt x="40814" y="230299"/>
                  <a:pt x="0" y="195943"/>
                  <a:pt x="0" y="19594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олилиния 51"/>
          <p:cNvSpPr/>
          <p:nvPr/>
        </p:nvSpPr>
        <p:spPr>
          <a:xfrm>
            <a:off x="3929040" y="3214800"/>
            <a:ext cx="181080" cy="347400"/>
          </a:xfrm>
          <a:custGeom>
            <a:avLst/>
            <a:gdLst/>
            <a:ahLst/>
            <a:rect l="l" t="t" r="r" b="b"/>
            <a:pathLst>
              <a:path w="180671" h="348343">
                <a:moveTo>
                  <a:pt x="7617" y="0"/>
                </a:moveTo>
                <a:cubicBezTo>
                  <a:pt x="14874" y="65314"/>
                  <a:pt x="0" y="137165"/>
                  <a:pt x="29389" y="195943"/>
                </a:cubicBezTo>
                <a:cubicBezTo>
                  <a:pt x="42770" y="222706"/>
                  <a:pt x="88088" y="227176"/>
                  <a:pt x="116474" y="217714"/>
                </a:cubicBezTo>
                <a:cubicBezTo>
                  <a:pt x="141297" y="209440"/>
                  <a:pt x="151743" y="127577"/>
                  <a:pt x="160017" y="152400"/>
                </a:cubicBezTo>
                <a:cubicBezTo>
                  <a:pt x="180671" y="214363"/>
                  <a:pt x="160017" y="283029"/>
                  <a:pt x="160017" y="34834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9150120" cy="66452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0" y="500040"/>
            <a:ext cx="9131400" cy="628488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15" descr=""/>
          <p:cNvPicPr/>
          <p:nvPr/>
        </p:nvPicPr>
        <p:blipFill>
          <a:blip r:embed="rId1"/>
          <a:stretch/>
        </p:blipFill>
        <p:spPr>
          <a:xfrm>
            <a:off x="950760" y="426960"/>
            <a:ext cx="7010640" cy="1639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85840" y="1714680"/>
            <a:ext cx="85723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рмальные группы динамически взаимодействуют с формальными. В этой модели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д видами деятельности понимаются задачи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олняемые людьми. В процессе выполнения этих задач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люди вступают во взаимодействие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торое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пособствует появлению эмоц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носка-облако 9"/>
          <p:cNvSpPr/>
          <p:nvPr/>
        </p:nvSpPr>
        <p:spPr>
          <a:xfrm>
            <a:off x="0" y="0"/>
            <a:ext cx="435780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Выноска-облако 10"/>
          <p:cNvSpPr/>
          <p:nvPr/>
        </p:nvSpPr>
        <p:spPr>
          <a:xfrm>
            <a:off x="3214800" y="2428920"/>
            <a:ext cx="321444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Выноска-облако 11"/>
          <p:cNvSpPr/>
          <p:nvPr/>
        </p:nvSpPr>
        <p:spPr>
          <a:xfrm>
            <a:off x="5643720" y="4786200"/>
            <a:ext cx="2786040" cy="1643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13"/>
          <p:cNvCxnSpPr/>
          <p:nvPr/>
        </p:nvCxnSpPr>
        <p:spPr>
          <a:xfrm>
            <a:off x="3500280" y="2356920"/>
            <a:ext cx="286560" cy="3582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7" name="Прямая со стрелкой 15"/>
          <p:cNvCxnSpPr/>
          <p:nvPr/>
        </p:nvCxnSpPr>
        <p:spPr>
          <a:xfrm>
            <a:off x="5786280" y="4428720"/>
            <a:ext cx="501120" cy="500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казывающие влияние на группу со стороны внешней среды (по Д. Хомансу)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221436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ритория, география, клима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дание, оборудование, стан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н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нности, цели, традиц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840" y="535752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нализ влияния оплаты труда на групповое повед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666720"/>
            <a:ext cx="4572000" cy="447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в опла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7360" y="0"/>
            <a:ext cx="550044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действий членов груп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57720" y="1143000"/>
          <a:ext cx="5500440" cy="4548240"/>
        </p:xfrm>
        <a:graphic>
          <a:graphicData uri="http://schemas.openxmlformats.org/drawingml/2006/table">
            <a:tbl>
              <a:tblPr/>
              <a:tblGrid>
                <a:gridCol w="2857320"/>
                <a:gridCol w="2643120"/>
              </a:tblGrid>
              <a:tr h="201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</a:tr>
            </a:tbl>
          </a:graphicData>
        </a:graphic>
      </p:graphicFrame>
      <p:sp>
        <p:nvSpPr>
          <p:cNvPr id="29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85680" y="781200"/>
            <a:ext cx="9210600" cy="628956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нешние условия, определяющие                   эффективность работы человека и группы.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071440"/>
            <a:ext cx="86868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ратегия развит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структур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ально установленные в организации нормы и правила функциониров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сурсы, имеющиеся в распоряжении организации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стема отбора и расстановки персонал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работанная в организации система оценки и мотивация работ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культура.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ржание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нятие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ричины объединения людей 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Стадии развития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Внешние условия, определяющие эффективность работы человека и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Возможности члено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Структура группы и характеристика её компонен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0" y="487440"/>
            <a:ext cx="9051840" cy="68706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0" y="-73080"/>
            <a:ext cx="9320040" cy="7143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686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зможности членов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Пятно 2 16"/>
          <p:cNvSpPr/>
          <p:nvPr/>
        </p:nvSpPr>
        <p:spPr>
          <a:xfrm>
            <a:off x="0" y="714240"/>
            <a:ext cx="5286240" cy="471492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но 2 17"/>
          <p:cNvSpPr/>
          <p:nvPr/>
        </p:nvSpPr>
        <p:spPr>
          <a:xfrm>
            <a:off x="3214800" y="2428920"/>
            <a:ext cx="5929200" cy="442908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114300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фессиональные способ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ективность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тольк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ммой возможностей каждого из ее членов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пособностям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из входящих в не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о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этого, важно получать удовлетворение от работы и чувствовать понимание со стороны руковод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6640" y="1213920"/>
            <a:ext cx="44370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группы также имеют непосредственное отношение к ее эффектив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бельность, независимость и самостоятельность сотрудни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, безусловн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ют эффективность групп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19" descr=""/>
          <p:cNvPicPr/>
          <p:nvPr/>
        </p:nvPicPr>
        <p:blipFill>
          <a:blip r:embed="rId1"/>
          <a:stretch/>
        </p:blipFill>
        <p:spPr>
          <a:xfrm>
            <a:off x="249120" y="0"/>
            <a:ext cx="8907480" cy="1566720"/>
          </a:xfrm>
          <a:prstGeom prst="rect">
            <a:avLst/>
          </a:prstGeom>
          <a:ln w="0">
            <a:noFill/>
          </a:ln>
        </p:spPr>
      </p:pic>
      <p:sp>
        <p:nvSpPr>
          <p:cNvPr id="314" name="32-конечная звезда 11"/>
          <p:cNvSpPr/>
          <p:nvPr/>
        </p:nvSpPr>
        <p:spPr>
          <a:xfrm>
            <a:off x="0" y="121428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2-конечная звезда 12"/>
          <p:cNvSpPr/>
          <p:nvPr/>
        </p:nvSpPr>
        <p:spPr>
          <a:xfrm>
            <a:off x="0" y="378612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2-конечная звезда 13"/>
          <p:cNvSpPr/>
          <p:nvPr/>
        </p:nvSpPr>
        <p:spPr>
          <a:xfrm>
            <a:off x="6500880" y="135720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32-конечная звезда 14"/>
          <p:cNvSpPr/>
          <p:nvPr/>
        </p:nvSpPr>
        <p:spPr>
          <a:xfrm>
            <a:off x="3214800" y="450072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32-конечная звезда 15"/>
          <p:cNvSpPr/>
          <p:nvPr/>
        </p:nvSpPr>
        <p:spPr>
          <a:xfrm>
            <a:off x="2500200" y="1928880"/>
            <a:ext cx="4143600" cy="2357280"/>
          </a:xfrm>
          <a:custGeom>
            <a:avLst/>
            <a:gdLst>
              <a:gd name="textAreaLeft" fmla="*/ 945720 w 4143600"/>
              <a:gd name="textAreaRight" fmla="*/ 3197880 w 414360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ФОРМАЛЬНОЕ ЛИД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2-конечная звезда 16"/>
          <p:cNvSpPr/>
          <p:nvPr/>
        </p:nvSpPr>
        <p:spPr>
          <a:xfrm>
            <a:off x="6500880" y="385776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4" descr=""/>
          <p:cNvPicPr/>
          <p:nvPr/>
        </p:nvPicPr>
        <p:blipFill>
          <a:blip r:embed="rId1"/>
          <a:stretch/>
        </p:blipFill>
        <p:spPr>
          <a:xfrm>
            <a:off x="36360" y="-60480"/>
            <a:ext cx="9259920" cy="72043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4" descr=""/>
          <p:cNvPicPr/>
          <p:nvPr/>
        </p:nvPicPr>
        <p:blipFill>
          <a:blip r:embed="rId1"/>
          <a:stretch/>
        </p:blipFill>
        <p:spPr>
          <a:xfrm>
            <a:off x="-19080" y="493560"/>
            <a:ext cx="9163080" cy="65962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152280" y="463680"/>
            <a:ext cx="8626680" cy="64497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альные и неформальные организации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1571760"/>
            <a:ext cx="8991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льные .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здаются на основании действующего законод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ешению собственников, а внутренние отношения регулируются нормативными документам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нтанно образовавшаяся группа людей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вступают в регулярное взаимодействие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достижения определенной цел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r>
              <a:rPr b="0" lang="ru-RU" sz="36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858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чины вступления в неформальную организацию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1472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надлежност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щит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е общение и симпат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ь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131320" cy="1925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285840" y="1857240"/>
            <a:ext cx="885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тносительно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бособленное объединение небольшого количества люд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бычно не более 10), находящихся в достаточно устойчивом взаимодействии и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существляющих совместные действ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течение достаточно долгого промежутка време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Характеристики неформальных организаций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50004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ый контроль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ановление</a:t>
            </a:r>
            <a:r>
              <a:rPr b="0" lang="ru-RU" sz="32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репление норм –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упповых эталон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лемого и неприемлемого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противление переменам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нденция к сопротивлению переменам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лидеры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еформального лидера – признание его группой. Неформальный лидер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могает группе в достижении её целей, поддерживает и укрепляет её существование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88581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блемы, связанные с неформальными организациями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4285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эффективности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ложных слухов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опротивляться переменам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0" y="360360"/>
            <a:ext cx="8686800" cy="1639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13840" y="17856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реданность организаци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дух коллективизм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1428480"/>
            <a:ext cx="8991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Виханский О.С., Наумов А.И. Менеджмент : учебник. 3-е изд. М. : Гардарики, 200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Герчикова И.Н. Менеджмент : учебник. 3-е изд., перераб. И доп. М. : Банки и биржи, ЮНИТИ, 1997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Мескон М.Х., Альберт М., Хедоури Ф. Основы менеджмента.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Дело,1992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Словарь-справочник менеджера / Под ред. М.Г.Лапусты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ИНФРА-М, 1996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5" descr=""/>
          <p:cNvPicPr/>
          <p:nvPr/>
        </p:nvPicPr>
        <p:blipFill>
          <a:blip r:embed="rId1"/>
          <a:stretch/>
        </p:blipFill>
        <p:spPr>
          <a:xfrm>
            <a:off x="1139760" y="1212840"/>
            <a:ext cx="6791400" cy="4711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/>
          <p:cNvSpPr/>
          <p:nvPr/>
        </p:nvSpPr>
        <p:spPr>
          <a:xfrm>
            <a:off x="3000240" y="285840"/>
            <a:ext cx="3000600" cy="192888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414"/>
                </a:solidFill>
                <a:latin typeface="Constantia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7"/>
          <p:cNvSpPr/>
          <p:nvPr/>
        </p:nvSpPr>
        <p:spPr>
          <a:xfrm>
            <a:off x="857160" y="2428920"/>
            <a:ext cx="342900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8"/>
          <p:cNvSpPr/>
          <p:nvPr/>
        </p:nvSpPr>
        <p:spPr>
          <a:xfrm>
            <a:off x="4786200" y="2500200"/>
            <a:ext cx="407196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не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4000680" y="4786200"/>
            <a:ext cx="321444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0" y="4643280"/>
            <a:ext cx="3643200" cy="178596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ункционирующие на постоянно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38"/>
          <p:cNvCxnSpPr>
            <a:stCxn id="210" idx="3"/>
          </p:cNvCxnSpPr>
          <p:nvPr/>
        </p:nvCxnSpPr>
        <p:spPr>
          <a:xfrm flipH="1">
            <a:off x="2785320" y="1931760"/>
            <a:ext cx="654840" cy="4258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40"/>
          <p:cNvCxnSpPr>
            <a:stCxn id="210" idx="5"/>
          </p:cNvCxnSpPr>
          <p:nvPr/>
        </p:nvCxnSpPr>
        <p:spPr>
          <a:xfrm>
            <a:off x="5559840" y="1932120"/>
            <a:ext cx="654840" cy="4975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Прямая со стрелкой 42"/>
          <p:cNvCxnSpPr/>
          <p:nvPr/>
        </p:nvCxnSpPr>
        <p:spPr>
          <a:xfrm flipH="1">
            <a:off x="1571040" y="4000320"/>
            <a:ext cx="286200" cy="57204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Прямая со стрелкой 44"/>
          <p:cNvCxnSpPr>
            <a:stCxn id="211" idx="5"/>
          </p:cNvCxnSpPr>
          <p:nvPr/>
        </p:nvCxnSpPr>
        <p:spPr>
          <a:xfrm>
            <a:off x="3783600" y="3830760"/>
            <a:ext cx="1073520" cy="9561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815680" cy="67975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92160" y="-360360"/>
            <a:ext cx="9236160" cy="2152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78912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е конкретных целе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е вла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безопасно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прав и социальных гаранти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важ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определенного статус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тадии развития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714320"/>
            <a:ext cx="8410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альная стадия формирова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нутригрупповой конфлик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еспечение сплоченности членов групп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тадия наивысшей работоспособности и производитель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ключительная стадия (для временных групп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12" descr=""/>
          <p:cNvPicPr/>
          <p:nvPr/>
        </p:nvPicPr>
        <p:blipFill>
          <a:blip r:embed="rId1"/>
          <a:stretch/>
        </p:blipFill>
        <p:spPr>
          <a:xfrm>
            <a:off x="-60480" y="109440"/>
            <a:ext cx="9412560" cy="7108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6480" y="785880"/>
            <a:ext cx="9137520" cy="59799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1:26:59Z</dcterms:created>
  <dc:creator>Dasha</dc:creator>
  <dc:description/>
  <dc:language>en-US</dc:language>
  <cp:lastModifiedBy>LEGION</cp:lastModifiedBy>
  <dcterms:modified xsi:type="dcterms:W3CDTF">2016-01-11T10:07:58Z</dcterms:modified>
  <cp:revision>80</cp:revision>
  <dc:subject/>
  <dc:title>Управление человеком и управление группой</dc:title>
</cp:coreProperties>
</file>