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6224-E0B8-4126-B3AC-3A85E5EEF2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структурные – величина группы, членство в группе, коммуникации в группе и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независимые – физическое расположение группы, взаимосвязь с другими групп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переменные – характер задачи, стоящей перед группой; степень сложности задачи; условия решения задач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мотивационные – мотивации членов группы; групповая мотивация; состояние окружающей группу среды (атмосфера в коллектив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промежуточные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процесса эффективного управления группой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непосредственное изменение структурных фактор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дополнительное воздействие на мотивирующие факторы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использование промежуточных фактор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эффективности  труда и удовлетворение рабо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модели процесса эффективного управления группой факторы групп а – г через факторы-инструменты группы д влияют на эффективность работы группы (оптимальное решение поставленных задач с высокой производительностью труда) и её существование (удовлетворенность членов группы) при соблюдении ряда усло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У группы должны быть четко сформулированные цели, сбалансированные с целями членов группы и организации в цел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Балансирование целей осуществляется руководителем в ходе открытого коллективного обсуждения проблемы или задач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обходимость определенной ответственности за результаты следует из коллективного способа принятия ре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и взаимодействии с группой руководитель должен всячески избегать соперничества между её членами, так же как и соперничества между группами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руководитель может изменить группы факторов а – в для того, чтобы изменить факторы группы г, что приведет к желаемому результату через использование факторов группы д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 может непосредственно изменить (1) структурные факторы (а) и переменные условия задачи (в). Это повлечет за собой на следующем этапе адекватные изменения в области мотивирующих факторов (г). При дополнительном воздействии (2) руководителя на мотивирующие факторы в целях их усиления через использование(3) промежуточных факторов (д) с необходимыми изменениями руководитель получит требуемый результ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Д.Хоман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динамически взаимодействуют с формальными. В этой модели под видами деятельности понимаются задачи, выполняемые людьми. В процессе выполнения этих задач люди вступают во взаимодействие, которое способствует появлению эмоций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казывающие влияние на группу со стороны внешней среды (по Д. Хомансу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 – территория, география, клима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ческие – здание, оборудование, стан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льтурные – ценности, цели, тради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влияния оплаты труда на групповое по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ция в опла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висимость действий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кая                                                       Высо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ы 4 комбинации этих факторов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низкая взаимозависимость – низ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низкая взаимозависимость – высокая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высокая взаимозависимость – низкая  дифференциация в оплат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высокая взаимозависимость - высокая дифференциация в оплат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ледовательно, 1 и 4 случаи порождают проблемы во взаимоотношениях между членами группы. Напротив, 2 и 3 случаи способствуют успешному функционированию группы и развитию благоприятных отношений между ее член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е условия, определяющие                  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в организации нормы и правила функционир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имеющиеся в распоряжении организации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анная в организации система оценки и мотивация работ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Понятие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ичины объединения людей 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Стадии развития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Внешние условия, определяющие эффективность работы человека и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Возмож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Структура группы и характеристика её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я развития организации определяет ее цели, задачи развития и средства их достижения. Среди них могут быть такие как увеличение выручки и прибыли за счет повышения качества и расширения спектра выпускаемой продукции (товаров и услуг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структура предприятия определяет, кто и на каком уровне принимает решения, реализует и контролирует их выполн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 установленные нормы и правила функционирования. Чем четче они будут сформулированы, тем больше стабильности и предсказуемости будет в поведении работник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ющиеся в распоряжении организации ресурсы (материальные, финансовые, людские и т.д.) Степень их ограниченности оказывает существенное влияние на специфику работы ее подразделений и групп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тбора и расстановки персонала. Она во многом определяет качество групп в организации и ориентирована на долгосрочные цели развития, позволяя группе достигнуть серьезных результат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оценки и мотивации работников. Если у каждого сотрудника будет расписана реальная перспектива карьерного роста, а его личное материальное поощрение будет увязано с успехами всей ее группы, то и эффективность деятельности организации будет возраст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ая культура – определенный путеводитель, демонстрирующий как добиться успеха в организации и как избегать неприятностей, где допустимая норма эмоциональности в работе, какой стиль одежды соответствует культуре данной организации и т.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можности членов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ессиональные способности. Эффективность работы группы определяется не только суммой возможностей каждого из ее членов, но и способностями каждого из входящих в нее индивидов. Помимо этого, важно получать удовлетворение от работы и чувствовать понимание со стороны руко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е морально-этические качества членов группы также имеют непосредственное отношение к ее эффективности. Коммуникабельность, независимость и самостоятельность сотрудников в работе, безусловно, повышают эффективность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группы и характеристика ее компон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тус. Та или иная личность в организации или группе, имеющая  свой статус, который определяется рядом факторов, включая старшинство должностной иерархии, название должности, расположение кабинета, образование, социальные таланты, информированность и накопленный опы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мер. Определяет эффективность ее работы, которая зависит от количества человек в групп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. Предопределяется характером выполняемых работ, требующих различных знаний, умений, навыков и личностных качеств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. Чтобы группа функционировала эффективно, ее члены должны вести себя таким образом, чтобы способствовать достижению ее целей и социальному взаимодействи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ое лидерство (роль руководителя, начальника, председателя, президента и т.д.). От формальных лидеров зависит моральный климат и характер взаимоотношений в коллектив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ы. Призваны подсказать членам группы, какое поведение и какая работа ожидаются от них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ая эффективная группа — это та, чей размер соответствует ее задачам, в составе которой находятся люди с непохожими чертами характера, чьи нормы способствуют достижению целей организации и созданию духа коллективизма, где здоровый уровень конфликтности, хорошее выполнение как целевых, так и поддерживающих ролей и где имеющие высокий статус члены группы не доминирую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.Создаются на основании действующего законодательства по решению собственников, а внутренние отношения регулируются нормативными документ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. Это спонтанно образовавшаяся группа людей, которые вступают в регулярное взаимодействие для достижения определенной це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вступления в неформальную организа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увство принадлеж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помощ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заимозащи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ное общение и симпат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– это относительно обособленное объединение небольшого количества людей (обычно не более 10), находящихся в достаточно устойчивом взаимодействии и осуществляющих совместные действия в течение достаточно долгого промежутка врем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истики неформальных организ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контроль. Установление и укрепление норм – групповых эталонов приемлемого и неприемлем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тивление переменам. Наблюдается тенденция к сопротивлению переменам, 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лидеры. Опора неформального лидера – признание его группой. Неформальный лидер помогает группе в достижении её целей, поддерживает и укрепляет её существование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, связанные с неформальными организ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эффе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остранение ложных слух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нденция сопротивляться перемен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выг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преданность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окий дух коллективизм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Виханский О.С., Наумов А.И. Менеджмент : учебник. 3-е изд. М. : Гардарики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Герчикова И.Н. Менеджмент : учебник. 3-е изд., перераб. И доп. М. : Банки и биржи, ЮНИТИ, 199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Мескон М.Х., Альберт М., Хедоури Ф. Основы менеджмента.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Дело,1992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Словарь-справочник менеджера / Под ред. М.Г.Лапусты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.:ИНФРА-М, 1996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или студентки 2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латова Дар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на Кс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онирующие на постоян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группы – это те, которые предусмотрены в структуре организации для решения конкретных задач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формальные группы создаются членами организации в соответствии с их взаимными симпатиями, общими интересами, одинаковыми увлечениями, привычками и т.п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объединения люд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жение конкретных ц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иление вла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безопас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и социальных гарант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уваж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ение определенного стату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и развития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Начальная стадия форм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Внутригрупповой конфли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Обеспечение сплоченности членов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Стадия наивысшей работоспособности и производ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Заключительная стадия (для временных групп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сыл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альная стадия формирования. Характеризуется неопределенностью относительно целей группы и её структур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игрупповой конфликт.  Характеризуется борьбой за лидерство и распределением ролей между членами групп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ение сплоченности членов группы. Отношения между членами группы становятся более тесными и  появляется ясность  относительно неформальных норм поведения и распределения ролей в групп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дия наивысшей работоспособности и производительности. Группа полностью функциональна, энергия её членов направлена на обеспечение эффективной работы и достижение высоких результатов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ительная стадия. Для временных групп, созданных на время выполнения конкретных задач, связана с периодом выполнения этих самых задач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C370-F2FF-4C5F-A9AA-5FBD65682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C3D4-B086-4604-AFAF-F22F79C5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B8D5-8B71-4569-A887-EA312E0D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E9A9-2E04-4248-B962-AD7739E8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B276-153C-4CA5-8C21-1B39D5A36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46D3F-4216-4EF5-8F83-8C60EAD9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1422-F3D7-496C-BE26-08E6206CC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8657-C5EA-4842-8117-CA528A127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2C77-8881-424F-9AC2-1C1FA3E8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F2892-2FFE-49AC-8D23-9223BFF5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1446-EEE3-4B74-84AA-6D0A20AC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F0C8-4DED-4ADD-830E-A59560DD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522D-183F-4E7D-8D4A-A6E877FD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69B4C-5B9C-4B5B-AC18-53649E3B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FF7C-7CB6-434C-B7DF-172BCB8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32F3-B2C7-477F-8A9B-2AA19DCA6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4ED-4C80-4EA9-9939-82A58C13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29B8-3C13-400E-B8CC-1ACCA945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4352B-C3EA-4B1E-92C9-DFB67E68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B34ED-0993-4069-8979-8742343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36019-ADF0-4B2A-A272-9A40EF7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C3622-7EB4-45BB-8B91-F2B4D24D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5B7-B881-40D2-8170-A6C78711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4C127-3F4F-42AB-8289-C7B1FE8E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0C4F3-3EA2-4F5C-8DA6-A306AC8C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5C3A8-9CF4-4049-9F53-0FCBE15D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84F034-8034-4E29-A2E6-FE9767F2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57A49-BE3F-438B-8CD7-19DBE56E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2297B-25E8-43FD-A1FB-FD7F2AA1D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417B1-151B-444F-A63E-CE324C241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FFC13-0B3E-4AA1-B69F-D59C498C5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CC94-AE71-4924-851B-25DEC09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29D85-0F71-41D7-B321-6CA0FF090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796-7D63-468E-B0C2-0F464A0B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8764B-B828-422B-B53D-21343055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57DA-9F63-46DD-8A07-5070149C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A83C1-84D6-4E78-9BEC-7B806F1C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F369-C515-49C5-86DC-DF4642E0B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EAA5-F6DC-418C-A674-FBBF6648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0161C-F16C-4A30-9D75-A140E24E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5EC6B-A152-4677-8B87-975DE20F9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EA004-9236-4777-AD2C-37808BDA2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A61B1-1F87-4F9A-AB5F-007A0E2C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F7EC-9720-4655-A6D9-BF966857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B474-AAAC-4C5A-88A0-F028D819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C87-ADB6-42D4-B753-02A9457B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7730-1908-4442-B1EF-052945F6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09F-FF4F-4327-89F5-67843101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26B1-FE66-47A3-8A8B-ED4A1FACCCD7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0F923-822B-4F00-9645-14D1377A8974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05F2-24FD-4960-B2B4-B6BD83CC58E1}" type="slidenum">
              <a:rPr b="0" lang="ru-RU" sz="1200" spc="-1" strike="noStrike">
                <a:solidFill>
                  <a:srgbClr val="caca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FD0B-34B2-4285-BFD6-73009EC15033}" type="slidenum">
              <a:rPr b="0" lang="ru-RU" sz="1200" spc="-1" strike="noStrike">
                <a:solidFill>
                  <a:srgbClr val="565e7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&#1074;&#1085;&#1077;&#1096;&#1085;&#1080;&#1077;%20&#1091;&#1089;&#1083;&#1086;&#1074;&#1080;&#1103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&#1092;&#1086;&#1088;&#1084;.%20&#1080;%20&#1085;&#1077;&#1092;&#1086;&#1088;&#1084;.%20&#1086;&#1088;&#1075;-&#1080;&#1080;.doc" TargetMode="External"/><Relationship Id="rId2" Type="http://schemas.openxmlformats.org/officeDocument/2006/relationships/hyperlink" Target="file:///&#1092;&#1086;&#1088;&#1084;.%20&#1080;%20&#1085;&#1077;&#1092;&#1086;&#1088;&#1084;.%20&#1086;&#1088;&#1075;-&#1080;&#1080;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&#1087;&#1088;&#1080;&#1095;&#1080;&#1085;&#1099;%20&#1074;&#1089;&#1090;&#1091;&#1087;&#1083;&#1077;&#1085;&#1080;&#1103;%20&#1074;%20&#1085;&#1077;&#1092;&#1086;&#1088;&#1084;.&#1075;&#1088;&#1091;&#1087;&#1087;&#109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&#1093;&#1072;&#1088;-&#1082;&#1080;%20&#1085;&#1077;&#1092;&#1086;&#1088;&#1084;.&#1086;&#1088;&#1075;-&#1080;&#1081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hyperlink" Target="file:///test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1089;&#1090;&#1072;&#1076;&#1080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-66600" y="1657440"/>
            <a:ext cx="9253440" cy="25178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пределяющие качественную сторону взаимодействия группы и организации в лице руководителя:</a:t>
            </a:r>
            <a:endParaRPr b="0" lang="en-US" sz="32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0" y="1499760"/>
            <a:ext cx="88581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)структур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еличина группы, членство в группе, коммуникации в группе и организаци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)независим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изическое расположение группы, взаимосвязь с другими группам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)переменны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характер задачи, стоящей перед группой; степень сложности задачи; условия решения задачи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)мотивацион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тивации членов группы; групповая мотивация; состояние окружающей группу среды (атмосфера в коллективе)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)промежуточны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иль руководства; взаимоотношения между членами группы, а также всеми работниками организации и группой; распределение ролей и обязанностей; организационный климат; процесс принятия решений в организ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6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36360" y="4840200"/>
            <a:ext cx="9131400" cy="2017800"/>
          </a:xfrm>
          <a:prstGeom prst="rect">
            <a:avLst/>
          </a:prstGeom>
          <a:ln w="0">
            <a:noFill/>
          </a:ln>
        </p:spPr>
      </p:pic>
      <p:grpSp>
        <p:nvGrpSpPr>
          <p:cNvPr id="236" name="Прямоугольник 4"/>
          <p:cNvGrpSpPr/>
          <p:nvPr/>
        </p:nvGrpSpPr>
        <p:grpSpPr>
          <a:xfrm>
            <a:off x="-133200" y="890640"/>
            <a:ext cx="2766960" cy="1146240"/>
            <a:chOff x="-133200" y="890640"/>
            <a:chExt cx="2766960" cy="1146240"/>
          </a:xfrm>
        </p:grpSpPr>
        <p:pic>
          <p:nvPicPr>
            <p:cNvPr id="237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33200" y="890640"/>
              <a:ext cx="276696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0" y="928800"/>
              <a:ext cx="250020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уководител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Прямоугольник 5"/>
          <p:cNvGrpSpPr/>
          <p:nvPr/>
        </p:nvGrpSpPr>
        <p:grpSpPr>
          <a:xfrm>
            <a:off x="5321160" y="2535120"/>
            <a:ext cx="3640320" cy="1951200"/>
            <a:chOff x="5321160" y="2535120"/>
            <a:chExt cx="3640320" cy="1951200"/>
          </a:xfrm>
        </p:grpSpPr>
        <p:pic>
          <p:nvPicPr>
            <p:cNvPr id="240" name="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5321160" y="2535120"/>
              <a:ext cx="3640320" cy="19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429160" y="2571840"/>
              <a:ext cx="3357720" cy="17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ышение эффективности  труда и удовлетворение работо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Блок-схема: решение 7"/>
          <p:cNvGrpSpPr/>
          <p:nvPr/>
        </p:nvGrpSpPr>
        <p:grpSpPr>
          <a:xfrm>
            <a:off x="4071960" y="1036800"/>
            <a:ext cx="1212840" cy="1017360"/>
            <a:chOff x="4071960" y="1036800"/>
            <a:chExt cx="1212840" cy="1017360"/>
          </a:xfrm>
        </p:grpSpPr>
        <p:pic>
          <p:nvPicPr>
            <p:cNvPr id="243" name="Блок-схема: решение 7" descr=""/>
            <p:cNvPicPr/>
            <p:nvPr/>
          </p:nvPicPr>
          <p:blipFill>
            <a:blip r:embed="rId4"/>
            <a:stretch/>
          </p:blipFill>
          <p:spPr>
            <a:xfrm>
              <a:off x="4071960" y="103680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41180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Блок-схема: решение 8"/>
          <p:cNvGrpSpPr/>
          <p:nvPr/>
        </p:nvGrpSpPr>
        <p:grpSpPr>
          <a:xfrm>
            <a:off x="5499000" y="1036800"/>
            <a:ext cx="1219320" cy="1017360"/>
            <a:chOff x="5499000" y="1036800"/>
            <a:chExt cx="1219320" cy="1017360"/>
          </a:xfrm>
        </p:grpSpPr>
        <p:pic>
          <p:nvPicPr>
            <p:cNvPr id="246" name="Блок-схема: решение 8" descr=""/>
            <p:cNvPicPr/>
            <p:nvPr/>
          </p:nvPicPr>
          <p:blipFill>
            <a:blip r:embed="rId5"/>
            <a:stretch/>
          </p:blipFill>
          <p:spPr>
            <a:xfrm>
              <a:off x="549900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584028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Блок-схема: решение 9"/>
          <p:cNvGrpSpPr/>
          <p:nvPr/>
        </p:nvGrpSpPr>
        <p:grpSpPr>
          <a:xfrm>
            <a:off x="4071960" y="2322360"/>
            <a:ext cx="1212840" cy="1017720"/>
            <a:chOff x="4071960" y="2322360"/>
            <a:chExt cx="1212840" cy="1017720"/>
          </a:xfrm>
        </p:grpSpPr>
        <p:pic>
          <p:nvPicPr>
            <p:cNvPr id="249" name="Блок-схема: решение 9" descr=""/>
            <p:cNvPicPr/>
            <p:nvPr/>
          </p:nvPicPr>
          <p:blipFill>
            <a:blip r:embed="rId6"/>
            <a:stretch/>
          </p:blipFill>
          <p:spPr>
            <a:xfrm>
              <a:off x="4071960" y="2322360"/>
              <a:ext cx="121284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411800" y="2554200"/>
              <a:ext cx="53496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Блок-схема: решение 10"/>
          <p:cNvGrpSpPr/>
          <p:nvPr/>
        </p:nvGrpSpPr>
        <p:grpSpPr>
          <a:xfrm>
            <a:off x="4071960" y="3822840"/>
            <a:ext cx="1212840" cy="1017360"/>
            <a:chOff x="4071960" y="3822840"/>
            <a:chExt cx="1212840" cy="1017360"/>
          </a:xfrm>
        </p:grpSpPr>
        <p:pic>
          <p:nvPicPr>
            <p:cNvPr id="252" name="Блок-схема: решение 10" descr=""/>
            <p:cNvPicPr/>
            <p:nvPr/>
          </p:nvPicPr>
          <p:blipFill>
            <a:blip r:embed="rId7"/>
            <a:stretch/>
          </p:blipFill>
          <p:spPr>
            <a:xfrm>
              <a:off x="4071960" y="3822840"/>
              <a:ext cx="121284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411800" y="405432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Блок-схема: решение 12"/>
          <p:cNvGrpSpPr/>
          <p:nvPr/>
        </p:nvGrpSpPr>
        <p:grpSpPr>
          <a:xfrm>
            <a:off x="2712960" y="1036800"/>
            <a:ext cx="1219320" cy="1017360"/>
            <a:chOff x="2712960" y="1036800"/>
            <a:chExt cx="1219320" cy="1017360"/>
          </a:xfrm>
        </p:grpSpPr>
        <p:pic>
          <p:nvPicPr>
            <p:cNvPr id="255" name="Блок-схема: решение 12" descr=""/>
            <p:cNvPicPr/>
            <p:nvPr/>
          </p:nvPicPr>
          <p:blipFill>
            <a:blip r:embed="rId8"/>
            <a:stretch/>
          </p:blipFill>
          <p:spPr>
            <a:xfrm>
              <a:off x="2712960" y="1036800"/>
              <a:ext cx="1219320" cy="101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054240" y="1268280"/>
              <a:ext cx="53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Стрелка вправо 17"/>
          <p:cNvSpPr/>
          <p:nvPr/>
        </p:nvSpPr>
        <p:spPr>
          <a:xfrm>
            <a:off x="5143680" y="1357200"/>
            <a:ext cx="500040" cy="14292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Стрелка вниз 19"/>
          <p:cNvSpPr/>
          <p:nvPr/>
        </p:nvSpPr>
        <p:spPr>
          <a:xfrm>
            <a:off x="4572000" y="1857240"/>
            <a:ext cx="142920" cy="50004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Стрелка вправо 20"/>
          <p:cNvSpPr/>
          <p:nvPr/>
        </p:nvSpPr>
        <p:spPr>
          <a:xfrm>
            <a:off x="3786120" y="1357200"/>
            <a:ext cx="357120" cy="14292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Стрелка вправо 21"/>
          <p:cNvSpPr/>
          <p:nvPr/>
        </p:nvSpPr>
        <p:spPr>
          <a:xfrm>
            <a:off x="2500200" y="1357200"/>
            <a:ext cx="285840" cy="142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Стрелка вниз 22"/>
          <p:cNvSpPr/>
          <p:nvPr/>
        </p:nvSpPr>
        <p:spPr>
          <a:xfrm>
            <a:off x="4143240" y="2786040"/>
            <a:ext cx="142920" cy="135720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Стрелка вверх 23"/>
          <p:cNvSpPr/>
          <p:nvPr/>
        </p:nvSpPr>
        <p:spPr>
          <a:xfrm>
            <a:off x="5000760" y="2857680"/>
            <a:ext cx="142920" cy="1285560"/>
          </a:xfrm>
          <a:prstGeom prst="upArrow">
            <a:avLst>
              <a:gd name="adj1" fmla="val 50000"/>
              <a:gd name="adj2" fmla="val 49972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Стрелка вправо 24"/>
          <p:cNvSpPr/>
          <p:nvPr/>
        </p:nvSpPr>
        <p:spPr>
          <a:xfrm>
            <a:off x="5072040" y="335772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Фигура, имеющая форму буквы L 27"/>
          <p:cNvSpPr/>
          <p:nvPr/>
        </p:nvSpPr>
        <p:spPr>
          <a:xfrm>
            <a:off x="1071720" y="1928880"/>
            <a:ext cx="285480" cy="2428920"/>
          </a:xfrm>
          <a:custGeom>
            <a:avLst/>
            <a:gdLst/>
            <a:ahLst/>
            <a:rect l="l" t="t" r="r" b="b"/>
            <a:pathLst>
              <a:path w="285750" h="2428875">
                <a:moveTo>
                  <a:pt x="0" y="0"/>
                </a:moveTo>
                <a:lnTo>
                  <a:pt x="142875" y="0"/>
                </a:lnTo>
                <a:lnTo>
                  <a:pt x="142875" y="2286000"/>
                </a:lnTo>
                <a:lnTo>
                  <a:pt x="285750" y="2286000"/>
                </a:lnTo>
                <a:lnTo>
                  <a:pt x="285750" y="2428875"/>
                </a:lnTo>
                <a:lnTo>
                  <a:pt x="0" y="2428875"/>
                </a:lnTo>
                <a:lnTo>
                  <a:pt x="0" y="0"/>
                </a:lnTo>
                <a:close/>
              </a:path>
            </a:pathLst>
          </a:custGeom>
          <a:solidFill>
            <a:srgbClr val="f0ad00"/>
          </a:solidFill>
          <a:ln w="25560">
            <a:solidFill>
              <a:srgbClr val="b07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Стрелка вправо 28"/>
          <p:cNvSpPr/>
          <p:nvPr/>
        </p:nvSpPr>
        <p:spPr>
          <a:xfrm>
            <a:off x="1357200" y="41432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Стрелка вправо 29"/>
          <p:cNvSpPr/>
          <p:nvPr/>
        </p:nvSpPr>
        <p:spPr>
          <a:xfrm>
            <a:off x="1214280" y="2571840"/>
            <a:ext cx="2928960" cy="28584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олилиния 33"/>
          <p:cNvSpPr/>
          <p:nvPr/>
        </p:nvSpPr>
        <p:spPr>
          <a:xfrm>
            <a:off x="2590920" y="1044720"/>
            <a:ext cx="161640" cy="261720"/>
          </a:xfrm>
          <a:custGeom>
            <a:avLst/>
            <a:gdLst/>
            <a:ahLst/>
            <a:rect l="l" t="t" r="r" b="b"/>
            <a:pathLst>
              <a:path w="162301" h="262258">
                <a:moveTo>
                  <a:pt x="0" y="153401"/>
                </a:moveTo>
                <a:cubicBezTo>
                  <a:pt x="43026" y="139059"/>
                  <a:pt x="99935" y="126453"/>
                  <a:pt x="130629" y="88086"/>
                </a:cubicBezTo>
                <a:cubicBezTo>
                  <a:pt x="144965" y="70166"/>
                  <a:pt x="149554" y="0"/>
                  <a:pt x="152400" y="22772"/>
                </a:cubicBezTo>
                <a:cubicBezTo>
                  <a:pt x="162301" y="101984"/>
                  <a:pt x="152400" y="182429"/>
                  <a:pt x="152400" y="262258"/>
                </a:cubicBezTo>
              </a:path>
            </a:pathLst>
          </a:custGeom>
          <a:noFill/>
          <a:ln w="158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олилиния 35"/>
          <p:cNvSpPr/>
          <p:nvPr/>
        </p:nvSpPr>
        <p:spPr>
          <a:xfrm>
            <a:off x="2625840" y="2249640"/>
            <a:ext cx="226800" cy="368280"/>
          </a:xfrm>
          <a:custGeom>
            <a:avLst/>
            <a:gdLst/>
            <a:ahLst/>
            <a:rect l="l" t="t" r="r" b="b"/>
            <a:pathLst>
              <a:path w="226237" h="367401">
                <a:moveTo>
                  <a:pt x="30294" y="145036"/>
                </a:moveTo>
                <a:cubicBezTo>
                  <a:pt x="23037" y="123265"/>
                  <a:pt x="0" y="101030"/>
                  <a:pt x="8523" y="79722"/>
                </a:cubicBezTo>
                <a:cubicBezTo>
                  <a:pt x="40412" y="0"/>
                  <a:pt x="166383" y="51603"/>
                  <a:pt x="204466" y="57950"/>
                </a:cubicBezTo>
                <a:cubicBezTo>
                  <a:pt x="197209" y="101493"/>
                  <a:pt x="202436" y="149096"/>
                  <a:pt x="182694" y="188579"/>
                </a:cubicBezTo>
                <a:cubicBezTo>
                  <a:pt x="165812" y="222343"/>
                  <a:pt x="82979" y="243589"/>
                  <a:pt x="52066" y="253893"/>
                </a:cubicBezTo>
                <a:cubicBezTo>
                  <a:pt x="89901" y="367401"/>
                  <a:pt x="50888" y="319208"/>
                  <a:pt x="226237" y="319208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олилиния 36"/>
          <p:cNvSpPr/>
          <p:nvPr/>
        </p:nvSpPr>
        <p:spPr>
          <a:xfrm>
            <a:off x="2700360" y="3778200"/>
            <a:ext cx="237960" cy="314280"/>
          </a:xfrm>
          <a:custGeom>
            <a:avLst/>
            <a:gdLst/>
            <a:ahLst/>
            <a:rect l="l" t="t" r="r" b="b"/>
            <a:pathLst>
              <a:path w="239486" h="315341">
                <a:moveTo>
                  <a:pt x="0" y="75855"/>
                </a:moveTo>
                <a:cubicBezTo>
                  <a:pt x="43299" y="46988"/>
                  <a:pt x="76546" y="0"/>
                  <a:pt x="130629" y="54083"/>
                </a:cubicBezTo>
                <a:cubicBezTo>
                  <a:pt x="146857" y="70311"/>
                  <a:pt x="145143" y="97626"/>
                  <a:pt x="152400" y="119398"/>
                </a:cubicBezTo>
                <a:cubicBezTo>
                  <a:pt x="130629" y="133912"/>
                  <a:pt x="87086" y="136775"/>
                  <a:pt x="87086" y="162941"/>
                </a:cubicBezTo>
                <a:cubicBezTo>
                  <a:pt x="87086" y="185890"/>
                  <a:pt x="130334" y="178408"/>
                  <a:pt x="152400" y="184712"/>
                </a:cubicBezTo>
                <a:cubicBezTo>
                  <a:pt x="181171" y="192932"/>
                  <a:pt x="210457" y="199226"/>
                  <a:pt x="239486" y="206483"/>
                </a:cubicBezTo>
                <a:cubicBezTo>
                  <a:pt x="222329" y="275108"/>
                  <a:pt x="238292" y="315341"/>
                  <a:pt x="152400" y="315341"/>
                </a:cubicBezTo>
                <a:cubicBezTo>
                  <a:pt x="101084" y="315341"/>
                  <a:pt x="0" y="293569"/>
                  <a:pt x="0" y="293569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олилиния 39"/>
          <p:cNvSpPr/>
          <p:nvPr/>
        </p:nvSpPr>
        <p:spPr>
          <a:xfrm>
            <a:off x="414324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 45"/>
          <p:cNvSpPr/>
          <p:nvPr/>
        </p:nvSpPr>
        <p:spPr>
          <a:xfrm>
            <a:off x="4572000" y="3286080"/>
            <a:ext cx="223920" cy="262080"/>
          </a:xfrm>
          <a:custGeom>
            <a:avLst/>
            <a:gdLst/>
            <a:ahLst/>
            <a:rect l="l" t="t" r="r" b="b"/>
            <a:pathLst>
              <a:path w="224404" h="261257">
                <a:moveTo>
                  <a:pt x="37541" y="152400"/>
                </a:moveTo>
                <a:cubicBezTo>
                  <a:pt x="81084" y="145143"/>
                  <a:pt x="136956" y="161842"/>
                  <a:pt x="168170" y="130628"/>
                </a:cubicBezTo>
                <a:cubicBezTo>
                  <a:pt x="224404" y="74394"/>
                  <a:pt x="97530" y="10964"/>
                  <a:pt x="81084" y="0"/>
                </a:cubicBezTo>
                <a:cubicBezTo>
                  <a:pt x="35432" y="91303"/>
                  <a:pt x="0" y="120858"/>
                  <a:pt x="59313" y="239485"/>
                </a:cubicBezTo>
                <a:cubicBezTo>
                  <a:pt x="69576" y="260011"/>
                  <a:pt x="102856" y="254000"/>
                  <a:pt x="124627" y="261257"/>
                </a:cubicBezTo>
                <a:lnTo>
                  <a:pt x="211713" y="239485"/>
                </a:ln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 49"/>
          <p:cNvSpPr/>
          <p:nvPr/>
        </p:nvSpPr>
        <p:spPr>
          <a:xfrm>
            <a:off x="4357800" y="3214800"/>
            <a:ext cx="233280" cy="347400"/>
          </a:xfrm>
          <a:custGeom>
            <a:avLst/>
            <a:gdLst/>
            <a:ahLst/>
            <a:rect l="l" t="t" r="r" b="b"/>
            <a:pathLst>
              <a:path w="233806" h="346991">
                <a:moveTo>
                  <a:pt x="14876" y="346991"/>
                </a:moveTo>
                <a:cubicBezTo>
                  <a:pt x="29390" y="245391"/>
                  <a:pt x="0" y="126574"/>
                  <a:pt x="58419" y="42191"/>
                </a:cubicBezTo>
                <a:cubicBezTo>
                  <a:pt x="87628" y="0"/>
                  <a:pt x="171397" y="31111"/>
                  <a:pt x="210819" y="63962"/>
                </a:cubicBezTo>
                <a:cubicBezTo>
                  <a:pt x="233806" y="83118"/>
                  <a:pt x="205646" y="126151"/>
                  <a:pt x="189048" y="151048"/>
                </a:cubicBezTo>
                <a:cubicBezTo>
                  <a:pt x="146601" y="214719"/>
                  <a:pt x="76320" y="194591"/>
                  <a:pt x="14876" y="194591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 50"/>
          <p:cNvSpPr/>
          <p:nvPr/>
        </p:nvSpPr>
        <p:spPr>
          <a:xfrm>
            <a:off x="4786200" y="3286080"/>
            <a:ext cx="311400" cy="262080"/>
          </a:xfrm>
          <a:custGeom>
            <a:avLst/>
            <a:gdLst/>
            <a:ahLst/>
            <a:rect l="l" t="t" r="r" b="b"/>
            <a:pathLst>
              <a:path w="310444" h="261257">
                <a:moveTo>
                  <a:pt x="21771" y="21772"/>
                </a:moveTo>
                <a:cubicBezTo>
                  <a:pt x="43542" y="14515"/>
                  <a:pt x="64136" y="0"/>
                  <a:pt x="87085" y="0"/>
                </a:cubicBezTo>
                <a:cubicBezTo>
                  <a:pt x="163902" y="0"/>
                  <a:pt x="241472" y="2960"/>
                  <a:pt x="174171" y="87086"/>
                </a:cubicBezTo>
                <a:cubicBezTo>
                  <a:pt x="157825" y="107518"/>
                  <a:pt x="130628" y="116115"/>
                  <a:pt x="108857" y="130629"/>
                </a:cubicBezTo>
                <a:cubicBezTo>
                  <a:pt x="137886" y="137886"/>
                  <a:pt x="167172" y="144180"/>
                  <a:pt x="195943" y="152400"/>
                </a:cubicBezTo>
                <a:cubicBezTo>
                  <a:pt x="241099" y="165302"/>
                  <a:pt x="310444" y="168528"/>
                  <a:pt x="239485" y="239486"/>
                </a:cubicBezTo>
                <a:cubicBezTo>
                  <a:pt x="223258" y="255713"/>
                  <a:pt x="195942" y="254000"/>
                  <a:pt x="174171" y="261257"/>
                </a:cubicBezTo>
                <a:cubicBezTo>
                  <a:pt x="137885" y="254000"/>
                  <a:pt x="99962" y="252479"/>
                  <a:pt x="65314" y="239486"/>
                </a:cubicBezTo>
                <a:cubicBezTo>
                  <a:pt x="40814" y="230299"/>
                  <a:pt x="0" y="195943"/>
                  <a:pt x="0" y="195943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олилиния 51"/>
          <p:cNvSpPr/>
          <p:nvPr/>
        </p:nvSpPr>
        <p:spPr>
          <a:xfrm>
            <a:off x="3929040" y="3214800"/>
            <a:ext cx="181080" cy="347400"/>
          </a:xfrm>
          <a:custGeom>
            <a:avLst/>
            <a:gdLst/>
            <a:ahLst/>
            <a:rect l="l" t="t" r="r" b="b"/>
            <a:pathLst>
              <a:path w="180671" h="348343">
                <a:moveTo>
                  <a:pt x="7617" y="0"/>
                </a:moveTo>
                <a:cubicBezTo>
                  <a:pt x="14874" y="65314"/>
                  <a:pt x="0" y="137165"/>
                  <a:pt x="29389" y="195943"/>
                </a:cubicBezTo>
                <a:cubicBezTo>
                  <a:pt x="42770" y="222706"/>
                  <a:pt x="88088" y="227176"/>
                  <a:pt x="116474" y="217714"/>
                </a:cubicBezTo>
                <a:cubicBezTo>
                  <a:pt x="141297" y="209440"/>
                  <a:pt x="151743" y="127577"/>
                  <a:pt x="160017" y="152400"/>
                </a:cubicBezTo>
                <a:cubicBezTo>
                  <a:pt x="180671" y="214363"/>
                  <a:pt x="160017" y="283029"/>
                  <a:pt x="160017" y="348343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30240" y="212760"/>
            <a:ext cx="9150120" cy="664524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0" y="500040"/>
            <a:ext cx="9131400" cy="628488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Rectangle 15" descr=""/>
          <p:cNvPicPr/>
          <p:nvPr/>
        </p:nvPicPr>
        <p:blipFill>
          <a:blip r:embed="rId1"/>
          <a:stretch/>
        </p:blipFill>
        <p:spPr>
          <a:xfrm>
            <a:off x="950760" y="426960"/>
            <a:ext cx="7010640" cy="163980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285840" y="1714680"/>
            <a:ext cx="8572320" cy="43574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ормальные группы динамически взаимодействуют с формальными. В этой модели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под видами деятельности понимаются задачи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ыполняемые людьми. В процессе выполнения этих задач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люди вступают во взаимодействие,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которое </a:t>
            </a:r>
            <a:r>
              <a:rPr b="0" lang="ru-RU" sz="32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способствует появлению эмоций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отношении друг друга и начальства. Эти эмоции влияют на то, как люди будут осуществлять свою деятельность и взаимодействовать в будущем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Выноска-облако 9"/>
          <p:cNvSpPr/>
          <p:nvPr/>
        </p:nvSpPr>
        <p:spPr>
          <a:xfrm>
            <a:off x="0" y="0"/>
            <a:ext cx="4357800" cy="27147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Выноска-облако 10"/>
          <p:cNvSpPr/>
          <p:nvPr/>
        </p:nvSpPr>
        <p:spPr>
          <a:xfrm>
            <a:off x="3214800" y="2428920"/>
            <a:ext cx="3214440" cy="228600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мо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Выноска-облако 11"/>
          <p:cNvSpPr/>
          <p:nvPr/>
        </p:nvSpPr>
        <p:spPr>
          <a:xfrm>
            <a:off x="5643720" y="4786200"/>
            <a:ext cx="2786040" cy="164304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Прямая со стрелкой 13"/>
          <p:cNvCxnSpPr/>
          <p:nvPr/>
        </p:nvCxnSpPr>
        <p:spPr>
          <a:xfrm>
            <a:off x="3500280" y="2356920"/>
            <a:ext cx="286560" cy="3582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287" name="Прямая со стрелкой 15"/>
          <p:cNvCxnSpPr/>
          <p:nvPr/>
        </p:nvCxnSpPr>
        <p:spPr>
          <a:xfrm>
            <a:off x="5786280" y="4428720"/>
            <a:ext cx="501120" cy="5007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8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85480" y="1000080"/>
            <a:ext cx="864396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Факторы, оказывающие влияние на группу со стороны внешней среды (по Д. Хомансу):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0" y="2214360"/>
            <a:ext cx="91440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территория, география, клима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и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дание, оборудование, станк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ные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ценности, цели, традиции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13840" y="5357520"/>
            <a:ext cx="86439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Анализ влияния оплаты труда на групповое поведение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0" y="666720"/>
            <a:ext cx="4572000" cy="447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фференциация в опла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357360" y="0"/>
            <a:ext cx="5500440" cy="1000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висимость действий членов групп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ка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а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357720" y="1143000"/>
          <a:ext cx="5500440" cy="4548240"/>
        </p:xfrm>
        <a:graphic>
          <a:graphicData uri="http://schemas.openxmlformats.org/drawingml/2006/table">
            <a:tbl>
              <a:tblPr/>
              <a:tblGrid>
                <a:gridCol w="2857320"/>
                <a:gridCol w="2643120"/>
              </a:tblGrid>
              <a:tr h="201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bede9"/>
                    </a:solidFill>
                  </a:tcPr>
                </a:tc>
              </a:tr>
              <a:tr h="253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рождает много проблем в отношениях между членами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ствует данному функционированию группы и развитию благоприятных отношений между члена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e88651"/>
                      </a:solidFill>
                    </a:lnL>
                    <a:lnR w="5760">
                      <a:solidFill>
                        <a:srgbClr val="e88651"/>
                      </a:solidFill>
                    </a:lnR>
                    <a:lnT w="5760">
                      <a:solidFill>
                        <a:srgbClr val="e88651"/>
                      </a:solidFill>
                    </a:lnT>
                    <a:lnB w="5760">
                      <a:solidFill>
                        <a:srgbClr val="e88651"/>
                      </a:solidFill>
                    </a:lnB>
                    <a:solidFill>
                      <a:srgbClr val="f6d9d0"/>
                    </a:solidFill>
                  </a:tcPr>
                </a:tc>
              </a:tr>
            </a:tbl>
          </a:graphicData>
        </a:graphic>
      </p:graphicFrame>
      <p:sp>
        <p:nvSpPr>
          <p:cNvPr id="29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Заголовок 1" descr=""/>
          <p:cNvPicPr/>
          <p:nvPr/>
        </p:nvPicPr>
        <p:blipFill>
          <a:blip r:embed="rId1"/>
          <a:stretch/>
        </p:blipFill>
        <p:spPr>
          <a:xfrm>
            <a:off x="85680" y="781200"/>
            <a:ext cx="9210600" cy="628956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нешние условия, определяющие                   эффективность работы человека и группы.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2071440"/>
            <a:ext cx="8686800" cy="45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70000"/>
              </a:lnSpc>
              <a:spcBef>
                <a:spcPts val="64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ратегия развит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структур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Формально установленные в организации нормы и правила функционирования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сурсы, имеющиеся в распоряжении организации 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истема отбора и расстановки персонала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работанная в организации система оценки и мотивация работников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70000"/>
              </a:lnSpc>
              <a:spcBef>
                <a:spcPts val="799"/>
              </a:spcBef>
              <a:buClr>
                <a:srgbClr val="c00000"/>
              </a:buClr>
              <a:buSzPct val="9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рганизационная культура.</a:t>
            </a:r>
            <a:r>
              <a:rPr b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одержание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13840" y="1643040"/>
            <a:ext cx="8929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Понятие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Причины объединения людей 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Стадии развития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Внешние условия, определяющие эффективность работы человека и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Возможности членов групп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Структура группы и характеристика её компонент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Формальные и неформальные организации: социальный контроль, сопротивление переменам, неформальные лидер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Заголовок 1" descr=""/>
          <p:cNvPicPr/>
          <p:nvPr/>
        </p:nvPicPr>
        <p:blipFill>
          <a:blip r:embed="rId1"/>
          <a:stretch/>
        </p:blipFill>
        <p:spPr>
          <a:xfrm>
            <a:off x="0" y="487440"/>
            <a:ext cx="9051840" cy="6870600"/>
          </a:xfrm>
          <a:prstGeom prst="rect">
            <a:avLst/>
          </a:prstGeom>
          <a:ln w="0">
            <a:noFill/>
          </a:ln>
        </p:spPr>
      </p:pic>
      <p:sp>
        <p:nvSpPr>
          <p:cNvPr id="303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Заголовок 1" descr=""/>
          <p:cNvPicPr/>
          <p:nvPr/>
        </p:nvPicPr>
        <p:blipFill>
          <a:blip r:embed="rId1"/>
          <a:stretch/>
        </p:blipFill>
        <p:spPr>
          <a:xfrm>
            <a:off x="0" y="-73080"/>
            <a:ext cx="9320040" cy="714384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-286200"/>
            <a:ext cx="8686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Возможности членов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07" name="Пятно 2 16"/>
          <p:cNvSpPr/>
          <p:nvPr/>
        </p:nvSpPr>
        <p:spPr>
          <a:xfrm>
            <a:off x="0" y="714240"/>
            <a:ext cx="5286240" cy="471492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способ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ятно 2 17"/>
          <p:cNvSpPr/>
          <p:nvPr/>
        </p:nvSpPr>
        <p:spPr>
          <a:xfrm>
            <a:off x="3214800" y="2428920"/>
            <a:ext cx="5929200" cy="4429080"/>
          </a:xfrm>
          <a:prstGeom prst="irregularSeal2">
            <a:avLst/>
          </a:pr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0" y="1143000"/>
            <a:ext cx="4572000" cy="5286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фессиональные способ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ффективность работ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ы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ределяетс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тольк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уммой возможностей каждого из ее членов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 способностями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го из входящих в нее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дивидов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имо этого, важно получать удовлетворение от работы и чувствовать понимание со стороны руководств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706640" y="1213920"/>
            <a:ext cx="4437000" cy="4929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Личностные морально-этические качества</a:t>
            </a:r>
            <a:r>
              <a:rPr b="1" i="1" lang="ru-RU" sz="32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ленов группы также имеют непосредственное отношение к ее эффективности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муникабельность, независимость и самостоятельность сотрудников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, безусловно,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ют эффективность группы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19" descr=""/>
          <p:cNvPicPr/>
          <p:nvPr/>
        </p:nvPicPr>
        <p:blipFill>
          <a:blip r:embed="rId1"/>
          <a:stretch/>
        </p:blipFill>
        <p:spPr>
          <a:xfrm>
            <a:off x="249120" y="0"/>
            <a:ext cx="8907480" cy="1566720"/>
          </a:xfrm>
          <a:prstGeom prst="rect">
            <a:avLst/>
          </a:prstGeom>
          <a:ln w="0">
            <a:noFill/>
          </a:ln>
        </p:spPr>
      </p:pic>
      <p:sp>
        <p:nvSpPr>
          <p:cNvPr id="314" name="32-конечная звезда 11"/>
          <p:cNvSpPr/>
          <p:nvPr/>
        </p:nvSpPr>
        <p:spPr>
          <a:xfrm>
            <a:off x="0" y="121428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ТАТ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32-конечная звезда 12"/>
          <p:cNvSpPr/>
          <p:nvPr/>
        </p:nvSpPr>
        <p:spPr>
          <a:xfrm>
            <a:off x="0" y="378612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32-конечная звезда 13"/>
          <p:cNvSpPr/>
          <p:nvPr/>
        </p:nvSpPr>
        <p:spPr>
          <a:xfrm>
            <a:off x="6500880" y="1357200"/>
            <a:ext cx="2643120" cy="235764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640"/>
              <a:gd name="textAreaBottom" fmla="*/ 1819440 h 235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АЗ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32-конечная звезда 14"/>
          <p:cNvSpPr/>
          <p:nvPr/>
        </p:nvSpPr>
        <p:spPr>
          <a:xfrm>
            <a:off x="3214800" y="450072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Р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32-конечная звезда 15"/>
          <p:cNvSpPr/>
          <p:nvPr/>
        </p:nvSpPr>
        <p:spPr>
          <a:xfrm>
            <a:off x="2500200" y="1928880"/>
            <a:ext cx="4143600" cy="2357280"/>
          </a:xfrm>
          <a:custGeom>
            <a:avLst/>
            <a:gdLst>
              <a:gd name="textAreaLeft" fmla="*/ 945720 w 4143600"/>
              <a:gd name="textAreaRight" fmla="*/ 3197880 w 414360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ФОРМАЛЬНОЕ ЛИДЕР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32-конечная звезда 16"/>
          <p:cNvSpPr/>
          <p:nvPr/>
        </p:nvSpPr>
        <p:spPr>
          <a:xfrm>
            <a:off x="6500880" y="3857760"/>
            <a:ext cx="2643120" cy="2357280"/>
          </a:xfrm>
          <a:custGeom>
            <a:avLst/>
            <a:gdLst>
              <a:gd name="textAreaLeft" fmla="*/ 603360 w 2643120"/>
              <a:gd name="textAreaRight" fmla="*/ 2039760 w 2643120"/>
              <a:gd name="textAreaTop" fmla="*/ 538200 h 2357280"/>
              <a:gd name="textAreaBottom" fmla="*/ 181908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40e5f6"/>
          </a:solidFill>
          <a:ln w="25560">
            <a:solidFill>
              <a:srgbClr val="40e5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a0000"/>
                </a:solidFill>
                <a:latin typeface="Times New Roman"/>
                <a:ea typeface="Times New Roman"/>
              </a:rPr>
              <a:t>НО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Rectangle 4" descr=""/>
          <p:cNvPicPr/>
          <p:nvPr/>
        </p:nvPicPr>
        <p:blipFill>
          <a:blip r:embed="rId1"/>
          <a:stretch/>
        </p:blipFill>
        <p:spPr>
          <a:xfrm>
            <a:off x="36360" y="-60480"/>
            <a:ext cx="9259920" cy="7204320"/>
          </a:xfrm>
          <a:prstGeom prst="rect">
            <a:avLst/>
          </a:prstGeom>
          <a:ln w="0">
            <a:noFill/>
          </a:ln>
        </p:spPr>
      </p:pic>
      <p:sp>
        <p:nvSpPr>
          <p:cNvPr id="32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4" descr=""/>
          <p:cNvPicPr/>
          <p:nvPr/>
        </p:nvPicPr>
        <p:blipFill>
          <a:blip r:embed="rId1"/>
          <a:stretch/>
        </p:blipFill>
        <p:spPr>
          <a:xfrm>
            <a:off x="-19080" y="493560"/>
            <a:ext cx="9163080" cy="659628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4" descr=""/>
          <p:cNvPicPr/>
          <p:nvPr/>
        </p:nvPicPr>
        <p:blipFill>
          <a:blip r:embed="rId1"/>
          <a:stretch/>
        </p:blipFill>
        <p:spPr>
          <a:xfrm>
            <a:off x="152280" y="463680"/>
            <a:ext cx="8626680" cy="6449760"/>
          </a:xfrm>
          <a:prstGeom prst="rect">
            <a:avLst/>
          </a:prstGeom>
          <a:ln w="0">
            <a:noFill/>
          </a:ln>
        </p:spPr>
      </p:pic>
      <p:sp>
        <p:nvSpPr>
          <p:cNvPr id="32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715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ормальные и неформальные организации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1571760"/>
            <a:ext cx="899172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альные .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оздаются на основании действующего законодательства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 решению собственников, а внутренние отношения регулируются нормативными документам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онтанно образовавшаяся группа людей,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е вступают в регулярное взаимодействие </a:t>
            </a:r>
            <a:r>
              <a:rPr b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для достижения определенной цели.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1" i="1" lang="ru-RU" sz="32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r>
              <a:rPr b="0" lang="ru-RU" sz="36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571680"/>
            <a:ext cx="885816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ичины вступления в неформальную организацию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14720"/>
            <a:ext cx="8686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о принадлежност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помощь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защит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ное общение и симпатия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интересованность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2" descr=""/>
          <p:cNvPicPr/>
          <p:nvPr/>
        </p:nvPicPr>
        <p:blipFill>
          <a:blip r:embed="rId1"/>
          <a:stretch/>
        </p:blipFill>
        <p:spPr>
          <a:xfrm>
            <a:off x="426960" y="0"/>
            <a:ext cx="8131320" cy="192564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285840" y="1857240"/>
            <a:ext cx="8858160" cy="42148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а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это относительно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бособленное объединение небольшого количества людей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обычно не более 10), находящихся в достаточно устойчивом взаимодействии и </a:t>
            </a:r>
            <a:r>
              <a:rPr b="0" lang="ru-RU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осуществляющих совместные действ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течение достаточно долгого промежутка времени.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Характеристики неформальных организаций</a:t>
            </a:r>
            <a:endParaRPr b="0" lang="en-US" sz="36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500040" y="1357200"/>
            <a:ext cx="91440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циальный контроль.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Установление</a:t>
            </a:r>
            <a:r>
              <a:rPr b="0" lang="ru-RU" sz="3200" spc="-1" strike="noStrike">
                <a:solidFill>
                  <a:srgbClr val="343437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укрепление норм –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групповых эталонов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емлемого и неприемлемого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веде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противление переменам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ается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тенденция к сопротивлению переменам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объясняется тем, что перемены могут нести в себе угрозу дальнейшему существованию неформальной организации.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формальные лидеры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ора неформального лидера – признание его группой. Неформальный лидер 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могает группе в достижении её целей, поддерживает и укрепляет её существование.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536040" indent="-5360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0" y="856800"/>
            <a:ext cx="8858160" cy="1266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Проблемы, связанные с неформальными организациями</a:t>
            </a:r>
            <a:endParaRPr b="0" lang="en-US" sz="44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428560"/>
            <a:ext cx="8686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эффективности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ие ложных слухов;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100"/>
              </a:spcBef>
              <a:buClr>
                <a:srgbClr val="6600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нденция сопротивляться переменам. 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Rectangle 7" descr=""/>
          <p:cNvPicPr/>
          <p:nvPr/>
        </p:nvPicPr>
        <p:blipFill>
          <a:blip r:embed="rId1"/>
          <a:stretch/>
        </p:blipFill>
        <p:spPr>
          <a:xfrm>
            <a:off x="0" y="360360"/>
            <a:ext cx="8686800" cy="16398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13840" y="1785600"/>
            <a:ext cx="89298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преданность организации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дух коллективизма;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001"/>
              </a:spcBef>
              <a:buClr>
                <a:srgbClr val="7030a0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высокая производительность труда, наблюдается в тех случаях, когда групповые нормы превосходят официально установленные.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2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писок литератур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1428480"/>
            <a:ext cx="89917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Основы менеджмента: учебное пособие / Л.В. Плахова, Т.М. Анурина, С.А. Легостаева и др. – М. : КНОРУС, 2007. – 496 с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Виханский О.С., Наумов А.И. Менеджмент : учебник. 3-е изд. М. : Гардарики, 2001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Герчикова И.Н. Менеджмент : учебник. 3-е изд., перераб. И доп. М. : Банки и биржи, ЮНИТИ, 1997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Мескон М.Х., Альберт М., Хедоури Ф. Основы менеджмента.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Дело,1992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Словарь-справочник менеджера / Под ред. М.Г.Лапусты –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:ИНФРА-М, 1996г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Менеджмент организации : учебник / А.В.Тебекин, Б.С. Касаев. – 2-е изд., перераб. Идоп. – М. : КНОРУС, 2007. – 416 с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)Менеджмент: учеб. Пособие / Под ред. Э.М. Короткова. – М.: ИНФРА-М, 2006. – 220 с. – (Вопрос – ответ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5" descr=""/>
          <p:cNvPicPr/>
          <p:nvPr/>
        </p:nvPicPr>
        <p:blipFill>
          <a:blip r:embed="rId1"/>
          <a:stretch/>
        </p:blipFill>
        <p:spPr>
          <a:xfrm>
            <a:off x="1139760" y="1212840"/>
            <a:ext cx="6791400" cy="4711680"/>
          </a:xfrm>
          <a:prstGeom prst="rect">
            <a:avLst/>
          </a:prstGeom>
          <a:ln w="0">
            <a:noFill/>
          </a:ln>
        </p:spPr>
      </p:pic>
      <p:sp>
        <p:nvSpPr>
          <p:cNvPr id="346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Овал 6"/>
          <p:cNvSpPr/>
          <p:nvPr/>
        </p:nvSpPr>
        <p:spPr>
          <a:xfrm>
            <a:off x="3000240" y="285840"/>
            <a:ext cx="3000600" cy="192888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0414"/>
                </a:solidFill>
                <a:latin typeface="Constantia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7"/>
          <p:cNvSpPr/>
          <p:nvPr/>
        </p:nvSpPr>
        <p:spPr>
          <a:xfrm>
            <a:off x="857160" y="2428920"/>
            <a:ext cx="342900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8"/>
          <p:cNvSpPr/>
          <p:nvPr/>
        </p:nvSpPr>
        <p:spPr>
          <a:xfrm>
            <a:off x="4786200" y="2500200"/>
            <a:ext cx="407196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неформ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9"/>
          <p:cNvSpPr/>
          <p:nvPr/>
        </p:nvSpPr>
        <p:spPr>
          <a:xfrm>
            <a:off x="4000680" y="4786200"/>
            <a:ext cx="3214440" cy="164304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рем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Овал 10"/>
          <p:cNvSpPr/>
          <p:nvPr/>
        </p:nvSpPr>
        <p:spPr>
          <a:xfrm>
            <a:off x="0" y="4643280"/>
            <a:ext cx="3643200" cy="1785960"/>
          </a:xfrm>
          <a:prstGeom prst="ellipse">
            <a:avLst/>
          </a:prstGeom>
          <a:solidFill>
            <a:srgbClr val="f0ad00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onstantia"/>
              </a:rPr>
              <a:t>функционирующие на постоян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Прямая со стрелкой 38"/>
          <p:cNvCxnSpPr>
            <a:stCxn id="210" idx="3"/>
          </p:cNvCxnSpPr>
          <p:nvPr/>
        </p:nvCxnSpPr>
        <p:spPr>
          <a:xfrm flipH="1">
            <a:off x="2785320" y="1931760"/>
            <a:ext cx="654840" cy="4258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40"/>
          <p:cNvCxnSpPr>
            <a:stCxn id="210" idx="5"/>
          </p:cNvCxnSpPr>
          <p:nvPr/>
        </p:nvCxnSpPr>
        <p:spPr>
          <a:xfrm>
            <a:off x="5559840" y="1932120"/>
            <a:ext cx="654840" cy="49752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7" name="Прямая со стрелкой 42"/>
          <p:cNvCxnSpPr/>
          <p:nvPr/>
        </p:nvCxnSpPr>
        <p:spPr>
          <a:xfrm flipH="1">
            <a:off x="1571040" y="4000320"/>
            <a:ext cx="286200" cy="57204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8" name="Прямая со стрелкой 44"/>
          <p:cNvCxnSpPr>
            <a:stCxn id="211" idx="5"/>
          </p:cNvCxnSpPr>
          <p:nvPr/>
        </p:nvCxnSpPr>
        <p:spPr>
          <a:xfrm>
            <a:off x="3783600" y="3830760"/>
            <a:ext cx="1073520" cy="95616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4" descr=""/>
          <p:cNvPicPr/>
          <p:nvPr/>
        </p:nvPicPr>
        <p:blipFill>
          <a:blip r:embed="rId1"/>
          <a:stretch/>
        </p:blipFill>
        <p:spPr>
          <a:xfrm>
            <a:off x="152280" y="0"/>
            <a:ext cx="8815680" cy="679752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Rectangle 2" descr=""/>
          <p:cNvPicPr/>
          <p:nvPr/>
        </p:nvPicPr>
        <p:blipFill>
          <a:blip r:embed="rId1"/>
          <a:stretch/>
        </p:blipFill>
        <p:spPr>
          <a:xfrm>
            <a:off x="-92160" y="-360360"/>
            <a:ext cx="9236160" cy="21528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28760" y="1642680"/>
            <a:ext cx="78912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ение конкретных целе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иление вла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еспечение безопасности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щита прав и социальных гарантий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уважение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определенного статуса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buClr>
                <a:srgbClr val="e66c7d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cacacc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429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Стадии развития групп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714320"/>
            <a:ext cx="841032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чальная стадия формирования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Внутригрупповой конфликт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Обеспечение сплоченности членов групп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Стадия наивысшей работоспособности и производительности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Заключительная стадия (для временных групп)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"/>
              </a:rPr>
              <a:t>ссылк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12" descr=""/>
          <p:cNvPicPr/>
          <p:nvPr/>
        </p:nvPicPr>
        <p:blipFill>
          <a:blip r:embed="rId1"/>
          <a:stretch/>
        </p:blipFill>
        <p:spPr>
          <a:xfrm>
            <a:off x="-60480" y="109440"/>
            <a:ext cx="9412560" cy="71089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6480" y="785880"/>
            <a:ext cx="9137520" cy="597996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2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565e72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1:26:59Z</dcterms:created>
  <dc:creator>Dasha</dc:creator>
  <dc:description/>
  <dc:language>en-US</dc:language>
  <cp:lastModifiedBy>LEGION</cp:lastModifiedBy>
  <dcterms:modified xsi:type="dcterms:W3CDTF">2016-01-11T10:07:58Z</dcterms:modified>
  <cp:revision>80</cp:revision>
  <dc:subject/>
  <dc:title>Управление человеком и управление группой</dc:title>
</cp:coreProperties>
</file>