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82255-7EE2-438B-B7B7-2E30EE50A8F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исследовательский</a:t>
            </a:r>
            <a:br>
              <a:rPr sz="1200"/>
            </a:br>
            <a:r>
              <a:rPr b="0" lang="ru-RU" sz="1200" spc="-1" strike="noStrike">
                <a:solidFill>
                  <a:srgbClr val="000000"/>
                </a:solidFill>
                <a:latin typeface="Calibri"/>
              </a:rPr>
              <a:t>Томский политехнический университет</a:t>
            </a:r>
            <a:br>
              <a:rPr sz="1200"/>
            </a:br>
            <a:r>
              <a:rPr b="0" lang="ru-RU" sz="1200" spc="-1" strike="noStrike">
                <a:solidFill>
                  <a:srgbClr val="000000"/>
                </a:solidFill>
                <a:latin typeface="Calibri"/>
              </a:rPr>
              <a:t>Институт инженерного предпринимательства</a:t>
            </a:r>
            <a:br>
              <a:rPr sz="1200"/>
            </a:br>
            <a:br>
              <a:rPr sz="1200"/>
            </a:br>
            <a:r>
              <a:rPr b="0" lang="ru-RU" sz="1200" spc="-1" strike="noStrike">
                <a:solidFill>
                  <a:srgbClr val="000000"/>
                </a:solidFill>
                <a:latin typeface="Calibri"/>
              </a:rPr>
              <a:t>Управление персоналом и организационное поведение</a:t>
            </a:r>
            <a:br>
              <a:rPr sz="1200"/>
            </a:br>
            <a:r>
              <a:rPr b="0" lang="ru-RU" sz="1200" spc="-1" strike="noStrike">
                <a:solidFill>
                  <a:srgbClr val="000000"/>
                </a:solidFill>
                <a:latin typeface="Calibri"/>
              </a:rPr>
              <a:t>5. Взаимодействие работников организаци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Проф. Дульзон А.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ый исследовательский</a:t>
            </a:r>
            <a:br>
              <a:rPr sz="1200"/>
            </a:br>
            <a:r>
              <a:rPr b="0" lang="ru-RU" sz="1200" spc="-1" strike="noStrike">
                <a:solidFill>
                  <a:srgbClr val="000000"/>
                </a:solidFill>
                <a:latin typeface="Arial"/>
              </a:rPr>
              <a:t>Томский политехнический университет</a:t>
            </a:r>
            <a:br>
              <a:rPr sz="1200"/>
            </a:br>
            <a:r>
              <a:rPr b="0" lang="ru-RU" sz="1200" spc="-1" strike="noStrike">
                <a:solidFill>
                  <a:srgbClr val="000000"/>
                </a:solidFill>
                <a:latin typeface="Arial"/>
              </a:rPr>
              <a:t>Институт инженерного предпринимательства</a:t>
            </a:r>
            <a:br>
              <a:rPr sz="1200"/>
            </a:br>
            <a:br>
              <a:rPr sz="1200"/>
            </a:br>
            <a:r>
              <a:rPr b="0" lang="ru-RU" sz="1200" spc="-1" strike="noStrike">
                <a:solidFill>
                  <a:srgbClr val="000000"/>
                </a:solidFill>
                <a:latin typeface="Arial"/>
              </a:rPr>
              <a:t>Управление персоналом и организационное поведение</a:t>
            </a:r>
            <a:br>
              <a:rPr sz="1200"/>
            </a:br>
            <a:r>
              <a:rPr b="0" lang="ru-RU" sz="1200" spc="-1" strike="noStrike">
                <a:solidFill>
                  <a:srgbClr val="000000"/>
                </a:solidFill>
                <a:latin typeface="Arial"/>
              </a:rPr>
              <a:t>5. Взаимодействие работников организации</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Проф. Дульзон А.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ы власти и влия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основанная на принужд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основанная на вознагражд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спертная власть (влияние через разумную вер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лонная власть (власть прим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ная власть. Законную власть очень часто называют традиционной властью. Традиция - привлекательный инструмент как для организации, так и для руководителя. Она обладает огромным преимуществом - безличностью. Исполнитель реагирует не на человека, а на должность. Это обстоятельство повышает стабильность, так как организация не зависит от жизни или способностей какой-то одной лич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власти и влия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основанная на принужден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основанная на вознагражден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ертная власть (влияние через разумную веру).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лонная власть (власть приме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онная власть. Законную власть очень часто называют традиционной властью. Традиция - привлекательный инструмент как для организации, так и для руководителя. Она обладает огромным преимуществом - безличностью. Исполнитель реагирует не на человека, а на должность. Это обстоятельство повышает стабильность, так как организация не зависит от жизни или способностей какой-то одной лич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егирование, ответственность и полномоч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легирование означает передачу задач и полномочий лицу, которое принимает на себя ответственность за их выполнение. Оно представляет собой средство, при помощи которого руководство распределяет среди сотрудников бесчисленные задачи, которые должны быть выполнены для достижения целей всей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ветственность представляет собой обязательство выполнять имеющиеся задачи и отвечать за их удовлетворительное разрешение. Индивид заключает контракт с организацией на выполнение задач определенной должности в обмен на получение соответствующего вознаграж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тя лицо, на которое возложена ответственность за решение какой-либо задачи, не обязано выполнять её лично, оно остается ответственным за удовлетворительное завершение рабо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номочия представляют собой ограниченное право использовать ресурсы организации и направлять усилия некоторых её сотрудников на выполнение определенных задач. Полномочия делегируются  должности, а не индивиду, который занимает её в данный момент. Когда индивид меняет работу, он теряет полномочия старой должности и получает полномочия нов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легирование, ответственность и полномоч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легирование означает передачу задач и полномочий лицу, которое принимает на себя ответственность за их выполнение. Оно представляет собой средство, при помощи которого руководство распределяет среди сотрудников бесчисленные задачи, которые должны быть выполнены для достижения целей всей организ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ветственность представляет собой обязательство выполнять имеющиеся задачи и отвечать за их удовлетворительное разрешение. Индивид заключает контракт с организацией на выполнение задач определенной должности в обмен на получение соответствующего вознагражд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я лицо, на которое возложена ответственность за решение какой-либо задачи, не обязано выполнять её лично, оно остается ответственным за удовлетворительное завершение рабо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номочия представляют собой ограниченное право использовать ресурсы организации и направлять усилия некоторых её сотрудников на выполнение определенных задач. Полномочия делегируются  должности, а не индивиду, который занимает её в данный момент. Когда индивид меняет работу, он теряет полномочия старой должности и получает полномочия ново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 управля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 управляемости определяется как количество работников, которые непосредственно подчиняются данному руководителю, и устанавливается посредством делегирования линейных полномоч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шком большая норма управляемости может вызвать возникновение сложных проблем. Одним из первых, научившихся этому, был Моисей. Когда он выводил израильтян из Египта, он пытался вначале все управление осуществлять сам. Поскольку, кроме Моисея, никто не имел полномочий решать проблемы, он буквально утонул в пустяках: «   сел Моисей судить народ, и стоял народ перед Моисеем с утра до вечера» (Исх.18:13). «И послушал Моисей слов тестя своего, и сделал всё, что он говорил. И выбрал Моисей из всего Израиля способных людей, и поставил их начальниками народа, тысячаначальниками, стоначальниками, пятидесятиначальниками и десятиначальниками. И судили они народ во всякое время; о делах важных доносили Моисею, а все малые дела судили сами» (Исх.18:24-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 управляем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 управляемости определяется как количество работников, которые непосредственно подчиняются данному руководителю, и устанавливается посредством делегирования линейных полномоч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ишком большая норма управляемости может вызвать возникновение сложных проблем. Одним из первых, научившихся этому, был Моисей. Когда он выводил израильтян из Египта, он пытался вначале все управление осуществлять сам. Поскольку, кроме Моисея, никто не имел полномочий решать проблемы, он буквально утонул в пустяках: «   сел Моисей судить народ, и стоял народ перед Моисеем с утра до вечера» (Исх.18:13). «И послушал Моисей слов тестя своего, и сделал всё, что он говорил. И выбрал Моисей из всего Израиля способных людей, и поставил их начальниками народа, тысячаначальниками, стоначальниками, пятидесятиначальниками и десятиначальниками. И судили они народ во всякое время; о делах важных доносили Моисею, а все малые дела судили сами» (Исх.18:24-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организованное руководство евреев при исходе из Егип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организованное руководство евреев при исходе из Егип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 управля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яд авторов считает наилучшей норму управляемости от 7 до 10 подчиненных. Однако современные исследования показывают, что величина нормы широко варьируется. Уровень управления, характер выполняемых задач, характеристики подчиненных и относительные способности руководителя - всё это играет роль в определении количества людей, непосредственно и эффективно контролируемых руководителе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 управляем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яд авторов считает наилучшей норму управляемости от 7 до 10 подчиненных. Однако современные исследования показывают, что величина нормы широко варьируется. Уровень управления, характер выполняемых задач, характеристики подчиненных и относительные способности руководителя - всё это играет роль в определении количества людей, непосредственно и эффективно контролируемых руководителе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пятствия к эффективному делегированию со стороны руководителя</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луждение "Я это сделаю лучше". Даже если это правда, трата времени на задание, которое мог бы выполнить подчиненный, означает, что руководитель не сможет так же хорошо выполнять другие обязан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способности руковод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доверия к подчиненным. В этом случае и подчиненные будут работать соответствующим образо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язнь риска. Поскольку руководители отвечают за работу подчиненного, они могут испытывать опасения, что делегирование задания может породить проблемы, за которые им придется отвеч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выборочного контроля для предупреждения руководства о возможной опасности. Если механизмы контроля неэффективны, у руководства будут основательные причины для беспокой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ятствия к эффективному делегированию со стороны руководителя</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луждение "Я это сделаю лучше". Даже если это правда, трата времени на задание, которое мог бы выполнить подчиненный, означает, что руководитель не сможет так же хорошо выполнять другие обязан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ие способности руководить.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ие доверия к подчиненным. В этом случае и подчиненные будут работать соответствующим образо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язнь риска. Поскольку руководители отвечают за работу подчиненного, они могут испытывать опасения, что делегирование задания может породить проблемы, за которые им придется отвеча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ие выборочного контроля для предупреждения руководства о возможной опасности. Если механизмы контроля неэффективны, у руководства будут основательные причины для беспокой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пятствия к эффективному делегированию со стороны подчиненных</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ые избегают ответственности и блокируют процес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егирования также по целому ряду прич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ый считает удобнее спросить руководителя, что делать, чем самому решить пробл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ый боится критики за совершенные ошибки. Поскольку большая ответственность увеличивает возможность совершения ошибки, подчиненный уклоняется от неё.</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подчиненного отсутствуют информация и ресурсы, необходимые для успешного выполнения зад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подчиненного уже больше работы, чем он может сделать, или же он считает, что это так на самом де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подчиненного отсутствует уверенность в себ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ому не предлагается каких-либо положительных стимулов дополнительной ответств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ятствия к эффективному делегированию со стороны подчиненных</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ые избегают ответственности и блокируют процес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легирования также по целому ряду причи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ый считает удобнее спросить руководителя, что делать, чем самому решить проблем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ый боится критики за совершенные ошибки. Поскольку большая ответственность увеличивает возможность совершения ошибки, подчиненный уклоняется от неё.</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дчиненного отсутствуют информация и ресурсы, необходимые для успешного выполнения зад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дчиненного уже больше работы, чем он может сделать, или же он считает, что это так на самом де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дчиненного отсутствует уверенность в себ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ому не предлагается каких-либо положительных стимулов дополнительной ответствен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управленческих ре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прос об участии персонала в принятии решений противоречив, прежде всего, потому, что любое решение предполагает принятие на себя определенной доли ответствен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работников в управлении получило широкую законодательную поддержку в странах Западной Европ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ми формами участия работников в управлении в США и Японии являются бригады результативности, кружки качества, автономные брига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и работы автономным бригадам задаются руководством, но при этом менеджмент делегирует им ряд функций в планировании, контроле, оплате тру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члены бригады совместно планируют методы работы, устанавливают ее темп и ритм, перерывы на отдых, осуществляют разделение труда на основе взаимозаменяемости исполнителей, контроли­руют качество продук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лены бригады сами выполняют также ряд функций, которые обычно осуществляются другими подразделениями или вспомогательными рабочими по наладке, обслуживанию оборудования и уборке производственного участ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управленческих ре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 об участии персонала в принятии решений противоречив, прежде всего, потому, что любое решение предполагает принятие на себя определенной доли ответствен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работников в управлении получило широкую законодательную поддержку в странах Западной Европ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ми формами участия работников в управлении в США и Японии являются бригады результативности, кружки качества, автономные бригад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работы автономным бригадам задаются руководством, но при этом менеджмент делегирует им ряд функций в планировании, контроле, оплате труд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члены бригады совместно планируют методы работы, устанавливают ее темп и ритм, перерывы на отдых, осуществляют разделение труда на основе взаимозаменяемости исполнителей, контроли­руют качество продук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лены бригады сами выполняют также ряд функций, которые обычно осуществляются другими подразделениями или вспомогательными рабочими по наладке, обслуживанию оборудования и уборке производственного участ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управленческих ре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ожительные мо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повышению мотивации персон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профессиональному росту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ьшает сопротивление новациям в деятельности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ышает активность по рационализации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отвращает конфликты между администрацией и работн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удовлетворенности работников трудом и т. 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требует серьезной организации, что связано с издерж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еобходимость учебы представителей групп, делегируемых в органы управления и оплаты пропущенного рабочего време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результаты участия могут противоречить интересам администрации и собствен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велика опасность проявления «пролетарской» психологии (ориентация при распределении дохода не на инвестиции, а на увеличение зарплаты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опротивление среднего звена управления, которое видит в работе бригад или кружков качества угрозу своему руководящему положе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ложности в связи с типичными проблемами групповой дина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управленческих ре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ожительные момен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ствует повышению мотивации персона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ствует профессиональному росту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ьшает сопротивление новациям в деятельности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ает активность по рационализации тру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твращает конфликты между администрацией и работник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ствует удовлетворенности работников трудом и т. п.</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требует серьезной организации, что связано с издержк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обходимость учебы представителей групп, делегируемых в органы управления и оплаты пропущенного рабочего времен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результаты участия могут противоречить интересам администрации и собствен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велика опасность проявления «пролетарской» психологии (ориентация при распределении дохода не на инвестиции, а на увеличение зарплаты и д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сопротивление среднего звена управления, которое видит в работе бригад или кружков качества угрозу своему руководящему положени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сложности в связи с типичными проблемами групповой дина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управленческих ре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принятии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уется в случаях, ког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сам не располагает достаточной информацией или достаточной компетенц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 и структура проблемы не яс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т особой ср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разделяют цели руковод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способны оценивать ситуацию и имеют высокую потребность в самоопредел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о признание решения работн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шение затрагивает интересы работников в длительной перспекти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управленческих ре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принятии реш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мендуется в случаях, ког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сам не располагает достаточной информацией или достаточной компетенци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 и структура проблемы не яс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особой сроч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разделяют цели руководи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способны оценивать ситуацию и имеют высокую потребность в самоопределен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о признание решения работник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ение затрагивает интересы работников в длительной перспекти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ед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ческие принципы взаимодействия людей в человеческом общест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едение индивидуумов, групп и организ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 персон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действие работников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еспечение организации трудовыми ресурс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казателями труда и вознагражде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ед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ческие принципы взаимодействия людей в человеческом общест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ведение индивидуумов, групп и организа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 персона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действие работников организ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организации трудовыми ресурс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казателями труда и вознагражде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и исторических типа власти в общест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лократия (от греч. ohlos – толп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кратия означает неограниченную власть в обществе одного лица (от греч. athor – авто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модификации автократии с наиболее ярки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дставител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тирания (Нерон, Калигула, Иван Гроз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диктатура (Робеспьер, Гитлер, Сталин, Франк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монархия (Петр I, Карл Великий, Наполеон, Екатерина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мократия (от греч. demos – народ) предусматривает «власть народа» на основе общественного самоуправ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 исторических типа власти в общест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хлократия (от греч. ohlos – толп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тократия означает неограниченную власть в обществе одного лица (от греч. athor – авто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модификации автократии с наиболее ярки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едставител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тирания (Нерон, Калигула, Иван Грозны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диктатура (Робеспьер, Гитлер, Сталин, Франк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монархия (Петр I, Карл Великий, Наполеон, Екатерина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мократия (от греч. demos – народ) предусматривает «власть народа» на основе общественного самоуправле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типы власти в обществе сформировали 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итарный сти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 принятии решений всегда ориентируется на собственные цели, критерии и интересы, практически не советуется с коллективом, в лучшем случае ограничиваясь узким кругом единомышленник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 проведении решений занимает жесткие позиции, активно используя методы административного и психологического воздействия на людей. Оппозицию не принимает, может уволить неугодных сотруд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сегда уверен в личной правоте, основывается на собственных знаниях и умениях, обширных внешних связях в государственных органах и предпринимательской среде. Руководитель такого типа может привести свою фирму к большому успеху, но также и к полному крах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типы власти в обществе сформировали 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торитарный сти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 принятии решений всегда ориентируется на собственные цели, критерии и интересы, практически не советуется с коллективом, в лучшем случае ограничиваясь узким кругом единомышленник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 проведении решений занимает жесткие позиции, активно используя методы административного и психологического воздействия на людей. Оппозицию не принимает, может уволить неугодных сотруд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сегда уверен в личной правоте, основывается на собственных знаниях и умениях, обширных внешних связях в государственных органах и предпринимательской среде. Руководитель такого типа может привести свою фирму к большому успеху, но также и к полному крах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мократический сти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ан на сочетании принципа единоначалия и общественного самоупра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такого типа обычно избирается на собрании трудового коллектива или собственников и должен выражать интересы большин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правило, он может удачно выявить, принять и реализовать стратегические цели развития организации, сочетая групповые и личные интере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должен быть хорошим политиком, дипломатом, просчитывающим варианты на много шагов вперед и сочетающим методы убеждения и принуж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должен быть доброжелательным и открытым человеком, не поддающимся соблазнам (деньги, женщины, власть), т.к. они крайне раздражают завистников и способствуют росту оппози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 своей работе постоянно опирается на группу единомышленников в лице дирекции, правления, президиума, сов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мократический сти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ан на сочетании принципа единоначалия и общественного самоуправл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такого типа обычно избирается на собрании трудового коллектива или собственников и должен выражать интересы большин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равило, он может удачно выявить, принять и реализовать стратегические цели развития организации, сочетая групповые и личные интерес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должен быть хорошим политиком, дипломатом, просчитывающим варианты на много шагов вперед и сочетающим методы убеждения и принужд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должен быть доброжелательным и открытым человеком, не поддающимся соблазнам (деньги, женщины, власть), т.к. они крайне раздражают завистников и способствуют росту оппози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 своей работе постоянно опирается на группу единомышленников в лице дирекции, правления, президиума, сове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беральный стиль заключается в том, что руководитель в принятии решений ориентируется на цели и интересы отдельных групп трудового коллектива, постоянно пытается маневрировать, чтобы соблюсти паритет интересов. Преимущество либерального стиля заключается в групповом принятии управленческих решений, однако часто либеральный руководитель не имеет сильной воли, четкой цели, глубоких знаний, слишком увлечен своим хобби или семьей. Это достаточно неустойчивый стиль руководства, корни которого идут от охлократ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шанный стиль предусматривает сочетание перечисленных выше типов. Либеральный, демократический и авторитарный стиль могут преобладать у того или иного руководителя, но никогда не достигают абсолю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беральный стиль заключается в том, что руководитель в принятии решений ориентируется на цели и интересы отдельных групп трудового коллектива, постоянно пытается маневрировать, чтобы соблюсти паритет интересов. Преимущество либерального стиля заключается в групповом принятии управленческих решений, однако часто либеральный руководитель не имеет сильной воли, четкой цели, глубоких знаний, слишком увлечен своим хобби или семьей. Это достаточно неустойчивый стиль руководства, корни которого идут от охлократ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шанный стиль предусматривает сочетание перечисленных выше типов. Либеральный, демократический и авторитарный стиль могут преобладать у того или иного руководителя, но никогда не достигают абсолю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бежд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беждение - это эффективная передача своей точки зр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имущество в использовании убеждения в организац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ение работы человеком, на которого влияют, не нужно будет проверя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 по всей вероятности, постарается выполнить больше, чем минимальные требов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ленное воздействие и неопределен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ияние путем убеждения имеет одноразовое действ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бежден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беждение - это эффективная передача своей точки зре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имущество в использовании убеждения в организац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работы человеком, на которого влияют, не нужно будет проверя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 по всей вероятности, постарается выполнить больше, чем минимальные требова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дленное воздействие и неопределен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путем убеждения имеет одноразовое действ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ы к пониманию сути лидер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личных каче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еденческий подхо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туационный под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идерство как феномен управления настолько важен и сложен, что вряд ли можно в ближайшие годы ожидать появления универсального подхода к лидерству, если таковой вообще возмож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ы к пониманию сути лидерств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личных качест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веденческий подход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туационный подход</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идерство как феномен управления настолько важен и сложен, что вряд ли можно в ближайшие годы ожидать появления универсального подхода к лидерству, если таковой вообще возмож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хема Танненбаума и Шмид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хема Танненбаума и Шмид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ема Танненбаума и Шмид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странство поведения менеджера и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рианты поведения расшифровываются следующим образ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 Менеджер способен принимать решения, которые работники приним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 Менеджер должен «продавать» свои решения, чтобы работники их приня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 Менеджер представляет решение, но должен отвечать на вопросы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 Менеджер представляет проект решения для изменений с учетом вклада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 Менеджер представляет проблему, получает вклад работников, затем принимает реш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 – Менеджер определяет пределы, в которых работники принимают реш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 – Менеджер и работники совместно принимают решение в пределах организационных огранич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хема Танненбаума и Шмид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странство поведения менеджера и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поведения расшифровываются следующим образ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Менеджер способен принимать решения, которые работники принимаю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 Менеджер должен «продавать» свои решения, чтобы работники их приня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Менеджер представляет решение, но должен отвечать на вопросы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 Менеджер представляет проект решения для изменений с учетом вклада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 Менеджер представляет проблему, получает вклад работников, затем принимает реш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 – Менеджер определяет пределы, в которых работники принимают реш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 – Менеджер и работники совместно принимают решение в пределах организационных огранич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2. Основополагающие доку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ие документы, регулирующие взаимоотношения людей в современном обществе  (основные религиозные писания, Всеобщая декларация прав человека и др. документы ОО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одательство конкретной страны (Конституция, Гражданский кодекс, Трудовой кодекс, Уголовный кодекс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окальные нормативные акты (Устав организации, Коллективный договор, Правила внутреннего трудового распорядка, Положения о структурных подразделениях, Положение об оплате труда, Положение о государственной и служебной тайне, Положение о премировании и т.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больших многопрофильных организациях со сложной структурой создаются сотни и тысячи локальных нормативных актов, регулирующих деятельность структурных подразделений организаций и их взаимодействие между собой. Поддержание этих документов в виде целостной, непротиворечивой системы, да еще в актуальном состоянии оказывается достаточно сложной задачей управ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ому менеджеру следует  внимательно ознакомиться с содержанием этих документов, что позволит ему избежать нечаянных грубых промахов  и может избавить его от неприятных неожиданнос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2. Основополагающие докумен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бщие документы, регулирующие взаимоотношения людей в современном обществе  (основные религиозные писания, Всеобщая декларация прав человека и др. документы ОО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онодательство конкретной страны (Конституция, Гражданский кодекс, Трудовой кодекс, Уголовный кодекс и д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окальные нормативные акты (Устав организации, Коллективный договор, Правила внутреннего трудового распорядка, Положения о структурных подразделениях, Положение об оплате труда, Положение о государственной и служебной тайне, Положение о премировании и т.п.).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больших многопрофильных организациях со сложной структурой создаются сотни и тысячи локальных нормативных актов, регулирующих деятельность структурных подразделений организаций и их взаимодействие между собой. Поддержание этих документов в виде целостной, непротиворечивой системы, да еще в актуальном состоянии оказывается достаточно сложной задачей управле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ому менеджеру следует  внимательно ознакомиться с содержанием этих документов, что позволит ему избежать нечаянных грубых промахов  и может избавить его от неприятных неожиданност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5. Взаимодействие работников организаци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лидерство, управл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доку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ая дисципл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 и контроллин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5. Взаимодействие работников организации</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лидерство, управл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ополагающие докумен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ая дисципли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 и контроллинг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жностные преступления, подлежащие мерам уголовной ответств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жностные преступления, подлежащие мерам уголовной ответствен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окальные нормативные 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ила внутреннего трудового распорядка регламентируют порядок приема и увольнения работников, время труда и отдыха, основные обязанности сотрудников и администрации, меры поощрения и взыск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ллективный договор представляет собой соглашение между администрацией и трудовым коллективом, представляемым профсоюзным комитетом, которое регулирует трудовые и социальные отношения. Порядок заключения договора определен законом РФ «О коллективных договорах и согла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руктурные подразделения крупных организаций обычно действуют на основе положений об этих подразделениях, в которых отражены их функции, права, ответственность и обязанности их работников, вопросы взаимодействия с другими подразделени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лжностные инструкции должны, как правило, составляться на каждую должность, и при поступлении сотрудника на работу его следует ознакомить под роспись с соответствующей инструкци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кальные нормативные 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авила внутреннего трудового распорядка регламентируют порядок приема и увольнения работников, время труда и отдыха, основные обязанности сотрудников и администрации, меры поощрения и взыска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ллективный договор представляет собой соглашение между администрацией и трудовым коллективом, представляемым профсоюзным комитетом, которое регулирует трудовые и социальные отношения. Порядок заключения договора определен законом РФ «О коллективных договорах и согла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труктурные подразделения крупных организаций обычно действуют на основе положений об этих подразделениях, в которых отражены их функции, права, ответственность и обязанности их работников, вопросы взаимодействия с другими подразделени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олжностные инструкции должны, как правило, составляться на каждую должность, и при поступлении сотрудника на работу его следует ознакомить под роспись с соответствующей инструкци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окальные нормативные 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ла и другие локальные нормативные акты должны время от времени пересматриваться, чтобы они не устаревали и соответствовали реальным услов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сообразно привлекать подчиненных к пересмотру прав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 по себе факт обсуждения установленных правил и порядков на производстве напоминает работникам о том, что правила существуют и должны неукоснительно соблюдать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кальные нормативные 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ила и другие локальные нормативные акты должны время от времени пересматриваться, чтобы они не устаревали и соответствовали реальным условия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сообразно привлекать подчиненных к пересмотру правил.</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 по себе факт обсуждения установленных правил и порядков на производстве напоминает работникам о том, что правила существуют и должны неукоснительно соблюдатьс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3. Производственная дисципл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ая дисциплина является результатом человеческой активности, призванной направлять сотрудников организации на достижение контролируемых и эффективных результ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дисциплины простирается от внешнего контроля со стороны охраны до самоконтроля со стороны работников, чтобы их собственные внутренние таланты и ресурсы были полностью задействованы на работе, и от угрозы увольнения и осуществления этой угрозы со стороны руководства предприятия до искусства внушения каких-либо принципов и представлений подчинен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3. Производственная дисципли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ая дисциплина является результатом человеческой активности, призванной направлять сотрудников организации на достижение контролируемых и эффективных результа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дисциплины простирается от внешнего контроля со стороны охраны до самоконтроля со стороны работников, чтобы их собственные внутренние таланты и ресурсы были полностью задействованы на работе, и от угрозы увольнения и осуществления этой угрозы со стороны руководства предприятия до искусства внушения каких-либо принципов и представлений подчиненны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 Контроль/контролл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 - это процесс обеспечения достижения организацией своих ц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контроля включа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ановление стандартов, т.е. точное определение целей, которые должны быть достигнуты за заданный отрезок време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мерение фактически достигнутых результатов и сравнение достигнутого с ожидаемыми результатами. Если обе эти фазы выполнены правильно, то руководство организации не только знает о том, что в организации существует проблема, но и знает источник этой пробл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дения корректировок в том случае, если достигнутые результаты существенно отличаются от установленных стандартов. Одно из возможных действий - пересмотр целей, чтобы они стали более реалистичными и соответствовали ситу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4. Контроль/контроллин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 - это процесс обеспечения достижения организацией своих цел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контроля включае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новление стандартов, т.е. точное определение целей, которые должны быть достигнуты за заданный отрезок времен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рение фактически достигнутых результатов и сравнение достигнутого с ожидаемыми результатами. Если обе эти фазы выполнены правильно, то руководство организации не только знает о том, что в организации существует проблема, но и знает источник этой пробле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ведения корректировок в том случае, если достигнутые результаты существенно отличаются от установленных стандартов. Одно из возможных действий - пересмотр целей, чтобы они стали более реалистичными и соответствовали ситу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л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контроллинг» происходит от английского «to control», что означает управлять, распоряжаться, контролировать, регулировать, проверять, настраивать, обусловливать, нормирова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адачи контроллинга явно выходят за пределы чистого контро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нтроллинг должен обеспечить достижение ц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лин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онтроллинг» происходит от английского «to control», что означает управлять, распоряжаться, контролировать, регулировать, проверять, настраивать, обусловливать, нормировать.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дачи контроллинга явно выходят за пределы чистого контро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нтроллинг должен обеспечить достижение цел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онтролл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Контроллин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5.1. Власть, лидерство, управл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1. Власть, лидерство, управлен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можно определить как умственный и физический процесс, который приводит к тому, что подчиненные выполняют предписанные им официальные поручения и решают определенные за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ласть обычно определяется как способность и возможность оказывать определяющее воздействие на деятельность, поведение людей с помощью каких-либо средств – воли, авторитета, права, наси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номочия определяются как власть или права, предоставленные кому-нибудь, например, предоставленные должностному лицу или учреждению органами вла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ияние - это любое поведение одного индивида, которое вносит изменения в поведение, отношения, ощущения и т.п. другого индивида. Конкретные средства, с помощью которых одно лицо может влиять на другое, могут быть самыми разнообразными: от просьбы, высказанной шепотом на ухо, до приставленного к горлу ножа. Один человек может также влиять на другого с помощью одних лишь ид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дерство является процессом, с помощью которого одно лицо оказывает влияние на другое. Лидерство - это способность оказывать влияние на отдельные личности и группы, направляя их усилия на достижение целей орган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можно определить как умственный и физический процесс, который приводит к тому, что подчиненные выполняют предписанные им официальные поручения и решают определенные за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ласть обычно определяется как способность и возможность оказывать определяющее воздействие на деятельность, поведение людей с помощью каких-либо средств – воли, авторитета, права, насил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номочия определяются как власть или права, предоставленные кому-нибудь, например, предоставленные должностному лицу или учреждению органами вла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 это любое поведение одного индивида, которое вносит изменения в поведение, отношения, ощущения и т.п. другого индивида. Конкретные средства, с помощью которых одно лицо может влиять на другое, могут быть самыми разнообразными: от просьбы, высказанной шепотом на ухо, до приставленного к горлу ножа. Один человек может также влиять на другого с помощью одних лишь ид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дерство является процессом, с помощью которого одно лицо оказывает влияние на другое. Лидерство - это способность оказывать влияние на отдельные личности и группы, направляя их усилия на достижение целей орган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и полномоч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представляет собой реальную способность действовать или возможность влиять на ситуацию. Можно иметь власть, не имея полномочий. Например, управляющий финансами корпорации имеет право и полномочия подписывать чеки и обладает властью или способностью переводить деньги фирмы на свой собственный банковский счет. Однако его полномочия ограничены законными операци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омочия, другими словами, определяют, что лицо, занимающее какую-то должность, имеет право делать. Власть определяет, что он действительно может дел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чные секретари руководителей высшего ранга часто в состоянии достичь такой власти, которая значительно превышает их формальные полномоч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и полномоч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представляет собой реальную способность действовать или возможность влиять на ситуацию. Можно иметь власть, не имея полномочий. Например, управляющий финансами корпорации имеет право и полномочия подписывать чеки и обладает властью или способностью переводить деньги фирмы на свой собственный банковский счет. Однако его полномочия ограничены законными операци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омочия, другими словами, определяют, что лицо, занимающее какую-то должность, имеет право делать. Власть определяет, что он действительно может дела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чные секретари руководителей высшего ранга часто в состоянии достичь такой власти, которая значительно превышает их формальные полномоч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омочия и обяза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омочия, даваемые законом, представляют менеджерам, как представителям работодателя, права применения власти, которой работодатель обладает как одна из сторон контракта о найме. На работодателя возлагается целый ряд обязанностей, из которых основная – своевременная и в полном соответствии с договором о найме оплата труда. Работодатель обязан также проявлять заботу о здоровье работников и их производственной безопасности, а также проявлять готовность к сотрудничеству с трудовым коллектив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 своей стороны работник должен выполнять законные требования работодателя и не препятствовать осуществлению его коммерческих операций. Требования и ограничения необходимы всегда, а особенно, когда имеются проблемы с идентификацией целей индивидуумов и организации. Требования и ограничения предпочтительно доводить до работника не указывая, что надо сделать, а предупреждая, чего делать нельзя. В этом случае можно ожидать от него творческого подхода, но в ясно очерченных предел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омочия и обязан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омочия, даваемые законом, представляют менеджерам, как представителям работодателя, права применения власти, которой работодатель обладает как одна из сторон контракта о найме. На работодателя возлагается целый ряд обязанностей, из которых основная – своевременная и в полном соответствии с договором о найме оплата труда. Работодатель обязан также проявлять заботу о здоровье работников и их производственной безопасности, а также проявлять готовность к сотрудничеству с трудовым коллектив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 своей стороны работник должен выполнять законные требования работодателя и не препятствовать осуществлению его коммерческих операций. Требования и ограничения необходимы всегда, а особенно, когда имеются проблемы с идентификацией целей индивидуумов и организации. Требования и ограничения предпочтительно доводить до работника не указывая, что надо сделать, а предупреждая, чего делать нельзя. В этом случае можно ожидать от него творческого подхода, но в ясно очерченных предел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яющий и лид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идер (от англ. leader – ведущий, руководитель) обычно определяется как глава, руководитель политической партии, общества, организации и др. На русском языке смысл, вкладываемый в менеджменте в понятие «лидер», очень близок к понятию «вожд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яющий становится во главе организации в результате намеренного действия формальной организации - делегирования полномочий. Лидерами же становятся не по воле организации. Очень часто руководитель является лидером совершенно без всякой привязки к его формальной должности в иерарх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яющий и лиде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идер (от англ. leader – ведущий, руководитель) обычно определяется как глава, руководитель политической партии, общества, организации и др. На русском языке смысл, вкладываемый в менеджменте в понятие «лидер», очень близок к понятию «вожд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правляющий становится во главе организации в результате намеренного действия формальной организации - делегирования полномочий. Лидерами же становятся не по воле организации. Очень часто руководитель является лидером совершенно без всякой привязки к его формальной должности в иерарх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и личное влия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является необходимым условием успешной деятельности орган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олько власти имеет тот или  иной человек в данной ситуации определяется не уровнем его формальных полномочий, а степенью зависимости от другого лица. Чем больше зависимость от другого лица, тем больше власть последнег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екоторых ситуациях подчиненные имеют власть над руководител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ивный руководитель старается поддерживать разумный баланс власти: достаточной для обеспечения достижения целей, но не вызывающий у подчиненных чувства обездоленности и отсюда - непокор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и личное влиян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является необходимым условием успешной деятельности орган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лько власти имеет тот или  иной человек в данной ситуации определяется не уровнем его формальных полномочий, а степенью зависимости от другого лица. Чем больше зависимость от другого лица, тем больше власть последнег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екоторых ситуациях подчиненные имеют власть над руководител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ффективный руководитель старается поддерживать разумный баланс власти: достаточной для обеспечения достижения целей, но не вызывающий у подчиненных чувства обездоленности и отсюда - непокор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17D5F-5ADA-433B-9AED-8F226DB06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D4A34-CC3B-4937-B69E-F50D7C37E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874B3-4AC4-4F4A-A2EB-E985FB747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20446-ACB3-4627-8324-1452DEE32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8086F-DC48-4457-989F-D236D6E0F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A6B3F-50A8-4E09-8517-F6D75636F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D8465-0FE3-46D3-AA20-59684ECB2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9CD04-2A84-4A77-8B84-D7A2A132B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CAE3D-F685-4A6F-BAE4-59D2852E1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6E0B5-C83C-410C-9ED9-45EBA3D9A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D9013-4C29-433F-8A20-D7A74668C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87066-34B5-4A56-B1BB-F77D0505E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74BEA-166E-43CD-BB35-00F9DD14005F}" type="datetime">
              <a:rPr b="0" lang="ru-RU"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27CE1-4D41-40B8-AA15-D58E361BEC2E}"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99640" y="692280"/>
            <a:ext cx="7993080" cy="345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циональный исследовательский</a:t>
            </a:r>
            <a:br>
              <a:rPr sz="2000"/>
            </a:br>
            <a:r>
              <a:rPr b="1" lang="ru-RU" sz="2000" spc="-1" strike="noStrike">
                <a:solidFill>
                  <a:srgbClr val="000000"/>
                </a:solidFill>
                <a:latin typeface="Arial"/>
              </a:rPr>
              <a:t>Томский политехнический университет</a:t>
            </a:r>
            <a:br>
              <a:rPr sz="2000"/>
            </a:br>
            <a:r>
              <a:rPr b="1" lang="ru-RU" sz="1800" spc="-1" strike="noStrike">
                <a:solidFill>
                  <a:srgbClr val="000000"/>
                </a:solidFill>
                <a:latin typeface="Calibri"/>
              </a:rPr>
              <a:t>Институт инженерного предпринимательства</a:t>
            </a:r>
            <a:br>
              <a:rPr sz="4100"/>
            </a:br>
            <a:br>
              <a:rPr sz="4100"/>
            </a:br>
            <a:r>
              <a:rPr b="0" lang="ru-RU" sz="4100" spc="-1" strike="noStrike">
                <a:solidFill>
                  <a:srgbClr val="000000"/>
                </a:solidFill>
                <a:latin typeface="Calibri"/>
              </a:rPr>
              <a:t>Управление персоналом и организационное поведение</a:t>
            </a:r>
            <a:br>
              <a:rPr sz="4100"/>
            </a:br>
            <a:r>
              <a:rPr b="0" lang="ru-RU" sz="2400" spc="-1" strike="noStrike">
                <a:solidFill>
                  <a:srgbClr val="000000"/>
                </a:solidFill>
                <a:latin typeface="Calibri"/>
              </a:rPr>
              <a:t>5. Взаимодействие работников организации</a:t>
            </a:r>
            <a:br>
              <a:rPr sz="2400"/>
            </a:br>
            <a:r>
              <a:rPr b="0" lang="ru-RU" sz="2400" spc="-1" strike="noStrike">
                <a:solidFill>
                  <a:srgbClr val="000000"/>
                </a:solidFill>
                <a:latin typeface="Calibri"/>
              </a:rPr>
              <a:t> </a:t>
            </a:r>
            <a:endParaRPr b="0" lang="en-US" sz="2400" spc="-1" strike="noStrike">
              <a:solidFill>
                <a:srgbClr val="000000"/>
              </a:solidFill>
              <a:latin typeface="Calibri"/>
            </a:endParaRPr>
          </a:p>
        </p:txBody>
      </p:sp>
      <p:sp>
        <p:nvSpPr>
          <p:cNvPr id="49" name="PlaceHolder 2"/>
          <p:cNvSpPr>
            <a:spLocks noGrp="1"/>
          </p:cNvSpPr>
          <p:nvPr>
            <p:ph type="subTitle"/>
          </p:nvPr>
        </p:nvSpPr>
        <p:spPr>
          <a:xfrm>
            <a:off x="1476000" y="4797360"/>
            <a:ext cx="6553080" cy="139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98989"/>
                </a:solidFill>
                <a:latin typeface="Calibri"/>
              </a:rPr>
              <a:t>	</a:t>
            </a:r>
            <a:r>
              <a:rPr b="0" lang="ru-RU" sz="2200" spc="-1" strike="noStrike">
                <a:solidFill>
                  <a:srgbClr val="898989"/>
                </a:solidFill>
                <a:latin typeface="Calibri"/>
              </a:rPr>
              <a:t>	</a:t>
            </a:r>
            <a:r>
              <a:rPr b="1" lang="ru-RU" sz="2200" spc="-1" strike="noStrike">
                <a:solidFill>
                  <a:srgbClr val="898989"/>
                </a:solidFill>
                <a:latin typeface="Calibri"/>
              </a:rPr>
              <a:t>Проф. Дульзон А.А.</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98989"/>
                </a:solidFill>
                <a:latin typeface="Calibri"/>
              </a:rPr>
              <a:t>2010</a:t>
            </a:r>
            <a:endParaRPr b="0" lang="en-US" sz="2200" spc="-1" strike="noStrike">
              <a:solidFill>
                <a:srgbClr val="000000"/>
              </a:solidFill>
              <a:latin typeface="Calibri"/>
            </a:endParaRPr>
          </a:p>
        </p:txBody>
      </p:sp>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Формы власти и влиян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5" name="PlaceHolder 2"/>
          <p:cNvSpPr>
            <a:spLocks noGrp="1"/>
          </p:cNvSpPr>
          <p:nvPr>
            <p:ph/>
          </p:nvPr>
        </p:nvSpPr>
        <p:spPr>
          <a:xfrm>
            <a:off x="250560" y="1599840"/>
            <a:ext cx="8893080" cy="4530600"/>
          </a:xfrm>
          <a:prstGeom prst="rect">
            <a:avLst/>
          </a:prstGeom>
          <a:noFill/>
          <a:ln w="0">
            <a:noFill/>
          </a:ln>
        </p:spPr>
        <p:txBody>
          <a:bodyPr anchor="t">
            <a:normAutofit/>
          </a:bodyPr>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асть, основанная на принуждении</a:t>
            </a:r>
            <a:r>
              <a:rPr b="0" lang="ru-RU" sz="2100" spc="-1" strike="noStrike">
                <a:solidFill>
                  <a:srgbClr val="000000"/>
                </a:solidFill>
                <a:latin typeface="Calibri"/>
              </a:rPr>
              <a:t>.</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асть, основанная на вознаграждении.</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Экспертная власть (влияние через разумную веру).</a:t>
            </a:r>
            <a:r>
              <a:rPr b="0" lang="ru-RU" sz="2100" spc="-1" strike="noStrike">
                <a:solidFill>
                  <a:srgbClr val="000000"/>
                </a:solidFill>
                <a:latin typeface="Calibri"/>
              </a:rPr>
              <a:t> </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Эталонная власть (власть примера)</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Законная власть. </a:t>
            </a:r>
            <a:r>
              <a:rPr b="0" lang="ru-RU" sz="2100" spc="-1" strike="noStrike">
                <a:solidFill>
                  <a:srgbClr val="000000"/>
                </a:solidFill>
                <a:latin typeface="Calibri"/>
              </a:rPr>
              <a:t>Законную власть очень часто называют </a:t>
            </a:r>
            <a:r>
              <a:rPr b="1" i="1" lang="ru-RU" sz="2100" spc="-1" strike="noStrike">
                <a:solidFill>
                  <a:srgbClr val="000000"/>
                </a:solidFill>
                <a:latin typeface="Calibri"/>
              </a:rPr>
              <a:t>традиционной властью. </a:t>
            </a:r>
            <a:r>
              <a:rPr b="0" lang="ru-RU" sz="2100" spc="-1" strike="noStrike">
                <a:solidFill>
                  <a:srgbClr val="000000"/>
                </a:solidFill>
                <a:latin typeface="Calibri"/>
              </a:rPr>
              <a:t>Традиция - привлекательный инструмент как для организации, так и для руководителя. Она обладает огромным преимуществом - безличностью. Исполнитель реагирует не на человека, а на должность. Это обстоятельство повышает стабильность, так как организация не зависит от жизни или способностей какой-то одной личности. </a:t>
            </a:r>
            <a:endParaRPr b="0" lang="en-US" sz="2100" spc="-1" strike="noStrike">
              <a:solidFill>
                <a:srgbClr val="000000"/>
              </a:solidFill>
              <a:latin typeface="Calibri"/>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endParaRPr b="0" lang="en-US" sz="2100" spc="-1" strike="noStrike">
              <a:solidFill>
                <a:srgbClr val="000000"/>
              </a:solidFill>
              <a:latin typeface="Calibri"/>
            </a:endParaRPr>
          </a:p>
        </p:txBody>
      </p:sp>
      <p:sp>
        <p:nvSpPr>
          <p:cNvPr id="7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Times New Roman"/>
              </a:rPr>
              <a:t>Делегирование, ответственность и полномочия </a:t>
            </a:r>
            <a:endParaRPr b="0" lang="en-US" sz="3400" spc="-1" strike="noStrike">
              <a:solidFill>
                <a:srgbClr val="000000"/>
              </a:solidFill>
              <a:latin typeface="Calibri"/>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Делегирование</a:t>
            </a:r>
            <a:r>
              <a:rPr b="0" lang="ru-RU" sz="1700" spc="-1" strike="noStrike">
                <a:solidFill>
                  <a:srgbClr val="000000"/>
                </a:solidFill>
                <a:latin typeface="Calibri"/>
              </a:rPr>
              <a:t> означает передачу задач и полномочий лицу, которое принимает на себя ответственность за их выполнение. Оно представляет собой средство, при помощи которого руководство распределяет среди сотрудников бесчисленные задачи, которые должны быть выполнены для достижения целей всей организации.</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Ответственность </a:t>
            </a:r>
            <a:r>
              <a:rPr b="0" lang="ru-RU" sz="1700" spc="-1" strike="noStrike">
                <a:solidFill>
                  <a:srgbClr val="000000"/>
                </a:solidFill>
                <a:latin typeface="Calibri"/>
              </a:rPr>
              <a:t>представляет собой обязательство выполнять имеющиеся задачи и отвечать за их удовлетворительное разрешение. Индивид заключает контракт с организацией на выполнение задач определенной должности в обмен на получение соответствующего вознаграждения.</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Хотя лицо, на которое возложена ответственность за решение какой-либо задачи, не обязано выполнять её лично, оно остается ответственным за удовлетворительное завершение работы.</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Полномочия </a:t>
            </a:r>
            <a:r>
              <a:rPr b="0" lang="ru-RU" sz="1700" spc="-1" strike="noStrike">
                <a:solidFill>
                  <a:srgbClr val="000000"/>
                </a:solidFill>
                <a:latin typeface="Calibri"/>
              </a:rPr>
              <a:t>представляют собой ограниченное право использовать ресурсы организации и направлять усилия некоторых её сотрудников на выполнение определенных задач. Полномочия делегируются  должности, а не индивиду, который занимает её в данный момент. Когда индивид меняет работу, он теряет полномочия старой должности и получает полномочия новой.</a:t>
            </a:r>
            <a:endParaRPr b="0" lang="en-US" sz="17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imes New Roman"/>
              </a:rPr>
              <a:t>Норма управляемости</a:t>
            </a:r>
            <a:endParaRPr b="0" lang="en-US" sz="3800" spc="-1" strike="noStrike">
              <a:solidFill>
                <a:srgbClr val="000000"/>
              </a:solidFill>
              <a:latin typeface="Calibri"/>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Норма управляемости определяется как количество работников, которые непосредственно подчиняются данному руководителю, и устанавливается посредством делегирования линейных полномочий.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Слишком большая норма управляемости может вызвать возникновение сложных проблем. Одним из первых, научившихся этому, был Моисей. Когда он выводил израильтян из Египта, он пытался вначале все управление осуществлять сам. Поскольку, кроме Моисея, никто не имел полномочий решать проблемы, он буквально утонул в пустяках: «   сел Моисей судить народ, и стоял народ перед Моисеем с утра до вечера» (Исх.18:13). «И послушал Моисей слов тестя своего, и сделал всё, что он говорил. И выбрал Моисей из всего Израиля способных людей, и поставил их начальниками народа, тысячаначальниками, стоначальниками, пятидесятиначальниками и десятиначальниками. И судили они народ во всякое время; о делах важных доносили Моисею, а все малые дела судили сами» (Исх.18:24-26).</a:t>
            </a:r>
            <a:endParaRPr b="0" lang="en-US" sz="1900" spc="-1" strike="noStrike">
              <a:solidFill>
                <a:srgbClr val="000000"/>
              </a:solidFill>
              <a:latin typeface="Calibri"/>
            </a:endParaRPr>
          </a:p>
        </p:txBody>
      </p:sp>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
          <p:cNvGrpSpPr/>
          <p:nvPr/>
        </p:nvGrpSpPr>
        <p:grpSpPr>
          <a:xfrm>
            <a:off x="468360" y="404640"/>
            <a:ext cx="6408360" cy="6126480"/>
            <a:chOff x="468360" y="404640"/>
            <a:chExt cx="6408360" cy="6126480"/>
          </a:xfrm>
        </p:grpSpPr>
        <p:grpSp>
          <p:nvGrpSpPr>
            <p:cNvPr id="84" name="Group 3"/>
            <p:cNvGrpSpPr/>
            <p:nvPr/>
          </p:nvGrpSpPr>
          <p:grpSpPr>
            <a:xfrm>
              <a:off x="2379240" y="404640"/>
              <a:ext cx="1012320" cy="366120"/>
              <a:chOff x="2379240" y="404640"/>
              <a:chExt cx="1012320" cy="366120"/>
            </a:xfrm>
          </p:grpSpPr>
          <p:sp>
            <p:nvSpPr>
              <p:cNvPr id="85" name="Rectangle 4"/>
              <p:cNvSpPr/>
              <p:nvPr/>
            </p:nvSpPr>
            <p:spPr>
              <a:xfrm>
                <a:off x="2379240" y="404640"/>
                <a:ext cx="1012320" cy="183240"/>
              </a:xfrm>
              <a:prstGeom prst="rect">
                <a:avLst/>
              </a:prstGeom>
              <a:noFill/>
              <a:ln w="1908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ждь</a:t>
                </a:r>
                <a:endParaRPr b="0" lang="en-US" sz="1200" spc="-1" strike="noStrike">
                  <a:solidFill>
                    <a:srgbClr val="000000"/>
                  </a:solidFill>
                  <a:latin typeface="Arial"/>
                </a:endParaRPr>
              </a:p>
            </p:txBody>
          </p:sp>
          <p:sp>
            <p:nvSpPr>
              <p:cNvPr id="86" name="Rectangle 5"/>
              <p:cNvSpPr/>
              <p:nvPr/>
            </p:nvSpPr>
            <p:spPr>
              <a:xfrm>
                <a:off x="2379240" y="587520"/>
                <a:ext cx="1012320" cy="183240"/>
              </a:xfrm>
              <a:prstGeom prst="rect">
                <a:avLst/>
              </a:prstGeom>
              <a:noFill/>
              <a:ln w="1908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исей</a:t>
                </a:r>
                <a:endParaRPr b="0" lang="en-US" sz="1200" spc="-1" strike="noStrike">
                  <a:solidFill>
                    <a:srgbClr val="000000"/>
                  </a:solidFill>
                  <a:latin typeface="Arial"/>
                </a:endParaRPr>
              </a:p>
            </p:txBody>
          </p:sp>
        </p:grpSp>
        <p:grpSp>
          <p:nvGrpSpPr>
            <p:cNvPr id="87" name="Group 6"/>
            <p:cNvGrpSpPr/>
            <p:nvPr/>
          </p:nvGrpSpPr>
          <p:grpSpPr>
            <a:xfrm>
              <a:off x="468360" y="1135800"/>
              <a:ext cx="1574640" cy="822600"/>
              <a:chOff x="468360" y="1135800"/>
              <a:chExt cx="1574640" cy="822600"/>
            </a:xfrm>
          </p:grpSpPr>
          <p:sp>
            <p:nvSpPr>
              <p:cNvPr id="88" name="Rectangle 7"/>
              <p:cNvSpPr/>
              <p:nvPr/>
            </p:nvSpPr>
            <p:spPr>
              <a:xfrm>
                <a:off x="468360" y="1135800"/>
                <a:ext cx="157464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ант по организационным вопросам</a:t>
                </a:r>
                <a:endParaRPr b="0" lang="en-US" sz="1200" spc="-1" strike="noStrike">
                  <a:solidFill>
                    <a:srgbClr val="000000"/>
                  </a:solidFill>
                  <a:latin typeface="Arial"/>
                </a:endParaRPr>
              </a:p>
            </p:txBody>
          </p:sp>
          <p:sp>
            <p:nvSpPr>
              <p:cNvPr id="89" name="Rectangle 8"/>
              <p:cNvSpPr/>
              <p:nvPr/>
            </p:nvSpPr>
            <p:spPr>
              <a:xfrm>
                <a:off x="468360" y="1683720"/>
                <a:ext cx="1574640" cy="27468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офор</a:t>
                </a:r>
                <a:endParaRPr b="0" lang="en-US" sz="1200" spc="-1" strike="noStrike">
                  <a:solidFill>
                    <a:srgbClr val="000000"/>
                  </a:solidFill>
                  <a:latin typeface="Arial"/>
                </a:endParaRPr>
              </a:p>
            </p:txBody>
          </p:sp>
        </p:grpSp>
        <p:grpSp>
          <p:nvGrpSpPr>
            <p:cNvPr id="90" name="Group 9"/>
            <p:cNvGrpSpPr/>
            <p:nvPr/>
          </p:nvGrpSpPr>
          <p:grpSpPr>
            <a:xfrm>
              <a:off x="4178160" y="1044360"/>
              <a:ext cx="1574640" cy="915480"/>
              <a:chOff x="4178160" y="1044360"/>
              <a:chExt cx="1574640" cy="915480"/>
            </a:xfrm>
          </p:grpSpPr>
          <p:sp>
            <p:nvSpPr>
              <p:cNvPr id="91" name="Rectangle 10"/>
              <p:cNvSpPr/>
              <p:nvPr/>
            </p:nvSpPr>
            <p:spPr>
              <a:xfrm>
                <a:off x="4178160" y="1044360"/>
                <a:ext cx="1574640" cy="7315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административно-управленческого аппарата</a:t>
                </a:r>
                <a:endParaRPr b="0" lang="en-US" sz="1200" spc="-1" strike="noStrike">
                  <a:solidFill>
                    <a:srgbClr val="000000"/>
                  </a:solidFill>
                  <a:latin typeface="Arial"/>
                </a:endParaRPr>
              </a:p>
            </p:txBody>
          </p:sp>
          <p:sp>
            <p:nvSpPr>
              <p:cNvPr id="92" name="Rectangle 11"/>
              <p:cNvSpPr/>
              <p:nvPr/>
            </p:nvSpPr>
            <p:spPr>
              <a:xfrm>
                <a:off x="4178160" y="1776600"/>
                <a:ext cx="157464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ломон</a:t>
                </a:r>
                <a:endParaRPr b="0" lang="en-US" sz="1200" spc="-1" strike="noStrike">
                  <a:solidFill>
                    <a:srgbClr val="000000"/>
                  </a:solidFill>
                  <a:latin typeface="Arial"/>
                </a:endParaRPr>
              </a:p>
            </p:txBody>
          </p:sp>
        </p:grpSp>
        <p:grpSp>
          <p:nvGrpSpPr>
            <p:cNvPr id="93" name="Group 12"/>
            <p:cNvGrpSpPr/>
            <p:nvPr/>
          </p:nvGrpSpPr>
          <p:grpSpPr>
            <a:xfrm>
              <a:off x="3166200" y="2233080"/>
              <a:ext cx="1124640" cy="731160"/>
              <a:chOff x="3166200" y="2233080"/>
              <a:chExt cx="1124640" cy="731160"/>
            </a:xfrm>
          </p:grpSpPr>
          <p:sp>
            <p:nvSpPr>
              <p:cNvPr id="94" name="Rectangle 13"/>
              <p:cNvSpPr/>
              <p:nvPr/>
            </p:nvSpPr>
            <p:spPr>
              <a:xfrm>
                <a:off x="3166200" y="2233080"/>
                <a:ext cx="112464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ределе</a:t>
                </a:r>
                <a:r>
                  <a:rPr b="0" lang="en-US" sz="1200" spc="-1" strike="noStrike">
                    <a:solidFill>
                      <a:srgbClr val="000000"/>
                    </a:solidFill>
                    <a:latin typeface="Calibri"/>
                  </a:rPr>
                  <a:t>-</a:t>
                </a:r>
                <a:r>
                  <a:rPr b="0" lang="ru-RU" sz="1200" spc="-1" strike="noStrike">
                    <a:solidFill>
                      <a:srgbClr val="000000"/>
                    </a:solidFill>
                    <a:latin typeface="Calibri"/>
                  </a:rPr>
                  <a:t>ние трудовых ресурсов</a:t>
                </a:r>
                <a:endParaRPr b="0" lang="en-US" sz="1200" spc="-1" strike="noStrike">
                  <a:solidFill>
                    <a:srgbClr val="000000"/>
                  </a:solidFill>
                  <a:latin typeface="Arial"/>
                </a:endParaRPr>
              </a:p>
            </p:txBody>
          </p:sp>
          <p:sp>
            <p:nvSpPr>
              <p:cNvPr id="95" name="Rectangle 14"/>
              <p:cNvSpPr/>
              <p:nvPr/>
            </p:nvSpPr>
            <p:spPr>
              <a:xfrm>
                <a:off x="3166200" y="2781000"/>
                <a:ext cx="112464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осиф</a:t>
                </a:r>
                <a:endParaRPr b="0" lang="en-US" sz="1200" spc="-1" strike="noStrike">
                  <a:solidFill>
                    <a:srgbClr val="000000"/>
                  </a:solidFill>
                  <a:latin typeface="Arial"/>
                </a:endParaRPr>
              </a:p>
            </p:txBody>
          </p:sp>
        </p:grpSp>
        <p:grpSp>
          <p:nvGrpSpPr>
            <p:cNvPr id="96" name="Group 15"/>
            <p:cNvGrpSpPr/>
            <p:nvPr/>
          </p:nvGrpSpPr>
          <p:grpSpPr>
            <a:xfrm>
              <a:off x="4403160" y="2233080"/>
              <a:ext cx="1237320" cy="731160"/>
              <a:chOff x="4403160" y="2233080"/>
              <a:chExt cx="1237320" cy="731160"/>
            </a:xfrm>
          </p:grpSpPr>
          <p:sp>
            <p:nvSpPr>
              <p:cNvPr id="97" name="Rectangle 16"/>
              <p:cNvSpPr/>
              <p:nvPr/>
            </p:nvSpPr>
            <p:spPr>
              <a:xfrm>
                <a:off x="4403160" y="2233080"/>
                <a:ext cx="123732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защитных мер</a:t>
                </a:r>
                <a:endParaRPr b="0" lang="en-US" sz="1200" spc="-1" strike="noStrike">
                  <a:solidFill>
                    <a:srgbClr val="000000"/>
                  </a:solidFill>
                  <a:latin typeface="Arial"/>
                </a:endParaRPr>
              </a:p>
            </p:txBody>
          </p:sp>
          <p:sp>
            <p:nvSpPr>
              <p:cNvPr id="98" name="Rectangle 17"/>
              <p:cNvSpPr/>
              <p:nvPr/>
            </p:nvSpPr>
            <p:spPr>
              <a:xfrm>
                <a:off x="4403160" y="2781000"/>
                <a:ext cx="123732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исус</a:t>
                </a:r>
                <a:endParaRPr b="0" lang="en-US" sz="1200" spc="-1" strike="noStrike">
                  <a:solidFill>
                    <a:srgbClr val="000000"/>
                  </a:solidFill>
                  <a:latin typeface="Arial"/>
                </a:endParaRPr>
              </a:p>
            </p:txBody>
          </p:sp>
        </p:grpSp>
        <p:grpSp>
          <p:nvGrpSpPr>
            <p:cNvPr id="99" name="Group 18"/>
            <p:cNvGrpSpPr/>
            <p:nvPr/>
          </p:nvGrpSpPr>
          <p:grpSpPr>
            <a:xfrm>
              <a:off x="5752080" y="2233080"/>
              <a:ext cx="1124640" cy="731160"/>
              <a:chOff x="5752080" y="2233080"/>
              <a:chExt cx="1124640" cy="731160"/>
            </a:xfrm>
          </p:grpSpPr>
          <p:sp>
            <p:nvSpPr>
              <p:cNvPr id="100" name="Rectangle 19"/>
              <p:cNvSpPr/>
              <p:nvPr/>
            </p:nvSpPr>
            <p:spPr>
              <a:xfrm>
                <a:off x="5752080" y="2233080"/>
                <a:ext cx="112464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ношения между племенами</a:t>
                </a:r>
                <a:endParaRPr b="0" lang="en-US" sz="1200" spc="-1" strike="noStrike">
                  <a:solidFill>
                    <a:srgbClr val="000000"/>
                  </a:solidFill>
                  <a:latin typeface="Arial"/>
                </a:endParaRPr>
              </a:p>
            </p:txBody>
          </p:sp>
          <p:sp>
            <p:nvSpPr>
              <p:cNvPr id="101" name="Rectangle 20"/>
              <p:cNvSpPr/>
              <p:nvPr/>
            </p:nvSpPr>
            <p:spPr>
              <a:xfrm>
                <a:off x="5752080" y="2781000"/>
                <a:ext cx="112464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ниамин</a:t>
                </a:r>
                <a:endParaRPr b="0" lang="en-US" sz="1200" spc="-1" strike="noStrike">
                  <a:solidFill>
                    <a:srgbClr val="000000"/>
                  </a:solidFill>
                  <a:latin typeface="Arial"/>
                </a:endParaRPr>
              </a:p>
            </p:txBody>
          </p:sp>
        </p:grpSp>
        <p:grpSp>
          <p:nvGrpSpPr>
            <p:cNvPr id="102" name="Group 21"/>
            <p:cNvGrpSpPr/>
            <p:nvPr/>
          </p:nvGrpSpPr>
          <p:grpSpPr>
            <a:xfrm>
              <a:off x="2454120" y="3068280"/>
              <a:ext cx="1012680" cy="639720"/>
              <a:chOff x="2454120" y="3068280"/>
              <a:chExt cx="1012680" cy="639720"/>
            </a:xfrm>
          </p:grpSpPr>
          <p:sp>
            <p:nvSpPr>
              <p:cNvPr id="103" name="Rectangle 22"/>
              <p:cNvSpPr/>
              <p:nvPr/>
            </p:nvSpPr>
            <p:spPr>
              <a:xfrm>
                <a:off x="2454120" y="3068280"/>
                <a:ext cx="101268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ощник вождя</a:t>
                </a:r>
                <a:endParaRPr b="0" lang="en-US" sz="1200" spc="-1" strike="noStrike">
                  <a:solidFill>
                    <a:srgbClr val="000000"/>
                  </a:solidFill>
                  <a:latin typeface="Arial"/>
                </a:endParaRPr>
              </a:p>
            </p:txBody>
          </p:sp>
          <p:sp>
            <p:nvSpPr>
              <p:cNvPr id="104" name="Rectangle 23"/>
              <p:cNvSpPr/>
              <p:nvPr/>
            </p:nvSpPr>
            <p:spPr>
              <a:xfrm>
                <a:off x="2454120" y="3524760"/>
                <a:ext cx="101268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арон</a:t>
                </a:r>
                <a:endParaRPr b="0" lang="en-US" sz="1200" spc="-1" strike="noStrike">
                  <a:solidFill>
                    <a:srgbClr val="000000"/>
                  </a:solidFill>
                  <a:latin typeface="Arial"/>
                </a:endParaRPr>
              </a:p>
            </p:txBody>
          </p:sp>
        </p:grpSp>
        <p:sp>
          <p:nvSpPr>
            <p:cNvPr id="105" name="Rectangle 24"/>
            <p:cNvSpPr/>
            <p:nvPr/>
          </p:nvSpPr>
          <p:spPr>
            <a:xfrm>
              <a:off x="580680" y="397044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тысяч</a:t>
              </a:r>
              <a:endParaRPr b="0" lang="en-US" sz="1200" spc="-1" strike="noStrike">
                <a:solidFill>
                  <a:srgbClr val="000000"/>
                </a:solidFill>
                <a:latin typeface="Arial"/>
              </a:endParaRPr>
            </a:p>
          </p:txBody>
        </p:sp>
        <p:sp>
          <p:nvSpPr>
            <p:cNvPr id="106" name="Rectangle 25"/>
            <p:cNvSpPr/>
            <p:nvPr/>
          </p:nvSpPr>
          <p:spPr>
            <a:xfrm>
              <a:off x="5806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07" name="Rectangle 26"/>
            <p:cNvSpPr/>
            <p:nvPr/>
          </p:nvSpPr>
          <p:spPr>
            <a:xfrm>
              <a:off x="2154600" y="543348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полусотен</a:t>
              </a:r>
              <a:endParaRPr b="0" lang="en-US" sz="1200" spc="-1" strike="noStrike">
                <a:solidFill>
                  <a:srgbClr val="000000"/>
                </a:solidFill>
                <a:latin typeface="Arial"/>
              </a:endParaRPr>
            </a:p>
          </p:txBody>
        </p:sp>
        <p:sp>
          <p:nvSpPr>
            <p:cNvPr id="108" name="Rectangle 27"/>
            <p:cNvSpPr/>
            <p:nvPr/>
          </p:nvSpPr>
          <p:spPr>
            <a:xfrm>
              <a:off x="4683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09" name="Rectangle 28"/>
            <p:cNvSpPr/>
            <p:nvPr/>
          </p:nvSpPr>
          <p:spPr>
            <a:xfrm>
              <a:off x="2491920" y="397044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тысяч</a:t>
              </a:r>
              <a:endParaRPr b="0" lang="en-US" sz="1200" spc="-1" strike="noStrike">
                <a:solidFill>
                  <a:srgbClr val="000000"/>
                </a:solidFill>
                <a:latin typeface="Arial"/>
              </a:endParaRPr>
            </a:p>
          </p:txBody>
        </p:sp>
        <p:sp>
          <p:nvSpPr>
            <p:cNvPr id="110" name="Rectangle 29"/>
            <p:cNvSpPr/>
            <p:nvPr/>
          </p:nvSpPr>
          <p:spPr>
            <a:xfrm>
              <a:off x="4403160" y="397044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тысяч</a:t>
              </a:r>
              <a:endParaRPr b="0" lang="en-US" sz="1200" spc="-1" strike="noStrike">
                <a:solidFill>
                  <a:srgbClr val="000000"/>
                </a:solidFill>
                <a:latin typeface="Arial"/>
              </a:endParaRPr>
            </a:p>
          </p:txBody>
        </p:sp>
        <p:sp>
          <p:nvSpPr>
            <p:cNvPr id="111" name="Rectangle 30"/>
            <p:cNvSpPr/>
            <p:nvPr/>
          </p:nvSpPr>
          <p:spPr>
            <a:xfrm>
              <a:off x="18172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2" name="Rectangle 31"/>
            <p:cNvSpPr/>
            <p:nvPr/>
          </p:nvSpPr>
          <p:spPr>
            <a:xfrm>
              <a:off x="42904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3" name="Rectangle 32"/>
            <p:cNvSpPr/>
            <p:nvPr/>
          </p:nvSpPr>
          <p:spPr>
            <a:xfrm>
              <a:off x="30538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4" name="Rectangle 33"/>
            <p:cNvSpPr/>
            <p:nvPr/>
          </p:nvSpPr>
          <p:spPr>
            <a:xfrm>
              <a:off x="552744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5" name="Rectangle 34"/>
            <p:cNvSpPr/>
            <p:nvPr/>
          </p:nvSpPr>
          <p:spPr>
            <a:xfrm>
              <a:off x="4065840" y="543348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полусотен</a:t>
              </a:r>
              <a:endParaRPr b="0" lang="en-US" sz="1200" spc="-1" strike="noStrike">
                <a:solidFill>
                  <a:srgbClr val="000000"/>
                </a:solidFill>
                <a:latin typeface="Arial"/>
              </a:endParaRPr>
            </a:p>
          </p:txBody>
        </p:sp>
        <p:sp>
          <p:nvSpPr>
            <p:cNvPr id="116" name="Rectangle 35"/>
            <p:cNvSpPr/>
            <p:nvPr/>
          </p:nvSpPr>
          <p:spPr>
            <a:xfrm>
              <a:off x="41781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17" name="Rectangle 36"/>
            <p:cNvSpPr/>
            <p:nvPr/>
          </p:nvSpPr>
          <p:spPr>
            <a:xfrm>
              <a:off x="29415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18" name="Rectangle 37"/>
            <p:cNvSpPr/>
            <p:nvPr/>
          </p:nvSpPr>
          <p:spPr>
            <a:xfrm>
              <a:off x="17049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19" name="Rectangle 38"/>
            <p:cNvSpPr/>
            <p:nvPr/>
          </p:nvSpPr>
          <p:spPr>
            <a:xfrm>
              <a:off x="54147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20" name="Line 39"/>
            <p:cNvSpPr/>
            <p:nvPr/>
          </p:nvSpPr>
          <p:spPr>
            <a:xfrm>
              <a:off x="2941560" y="770040"/>
              <a:ext cx="0" cy="22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40"/>
            <p:cNvSpPr/>
            <p:nvPr/>
          </p:nvSpPr>
          <p:spPr>
            <a:xfrm>
              <a:off x="1255320" y="861480"/>
              <a:ext cx="370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41"/>
            <p:cNvSpPr/>
            <p:nvPr/>
          </p:nvSpPr>
          <p:spPr>
            <a:xfrm>
              <a:off x="1255320" y="861480"/>
              <a:ext cx="0" cy="27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2"/>
            <p:cNvSpPr/>
            <p:nvPr/>
          </p:nvSpPr>
          <p:spPr>
            <a:xfrm>
              <a:off x="4965120" y="8614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43"/>
            <p:cNvSpPr/>
            <p:nvPr/>
          </p:nvSpPr>
          <p:spPr>
            <a:xfrm>
              <a:off x="3728520" y="2050200"/>
              <a:ext cx="258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44"/>
            <p:cNvSpPr/>
            <p:nvPr/>
          </p:nvSpPr>
          <p:spPr>
            <a:xfrm>
              <a:off x="4965120" y="195876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26" name="Line 45"/>
            <p:cNvSpPr/>
            <p:nvPr/>
          </p:nvSpPr>
          <p:spPr>
            <a:xfrm>
              <a:off x="3728520" y="20502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46"/>
            <p:cNvSpPr/>
            <p:nvPr/>
          </p:nvSpPr>
          <p:spPr>
            <a:xfrm>
              <a:off x="4965120" y="20502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47"/>
            <p:cNvSpPr/>
            <p:nvPr/>
          </p:nvSpPr>
          <p:spPr>
            <a:xfrm>
              <a:off x="6314400" y="20502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48"/>
            <p:cNvSpPr/>
            <p:nvPr/>
          </p:nvSpPr>
          <p:spPr>
            <a:xfrm>
              <a:off x="1142640" y="3787560"/>
              <a:ext cx="370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49"/>
            <p:cNvSpPr/>
            <p:nvPr/>
          </p:nvSpPr>
          <p:spPr>
            <a:xfrm>
              <a:off x="2941560" y="369612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1" name="Line 50"/>
            <p:cNvSpPr/>
            <p:nvPr/>
          </p:nvSpPr>
          <p:spPr>
            <a:xfrm>
              <a:off x="1142640" y="378756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51"/>
            <p:cNvSpPr/>
            <p:nvPr/>
          </p:nvSpPr>
          <p:spPr>
            <a:xfrm>
              <a:off x="2941560" y="378756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52"/>
            <p:cNvSpPr/>
            <p:nvPr/>
          </p:nvSpPr>
          <p:spPr>
            <a:xfrm>
              <a:off x="4852800" y="378756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53"/>
            <p:cNvSpPr/>
            <p:nvPr/>
          </p:nvSpPr>
          <p:spPr>
            <a:xfrm>
              <a:off x="2941560" y="442764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5" name="Line 54"/>
            <p:cNvSpPr/>
            <p:nvPr/>
          </p:nvSpPr>
          <p:spPr>
            <a:xfrm>
              <a:off x="1142640" y="4519080"/>
              <a:ext cx="483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55"/>
            <p:cNvSpPr/>
            <p:nvPr/>
          </p:nvSpPr>
          <p:spPr>
            <a:xfrm>
              <a:off x="114264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56"/>
            <p:cNvSpPr/>
            <p:nvPr/>
          </p:nvSpPr>
          <p:spPr>
            <a:xfrm>
              <a:off x="237924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57"/>
            <p:cNvSpPr/>
            <p:nvPr/>
          </p:nvSpPr>
          <p:spPr>
            <a:xfrm>
              <a:off x="361620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58"/>
            <p:cNvSpPr/>
            <p:nvPr/>
          </p:nvSpPr>
          <p:spPr>
            <a:xfrm>
              <a:off x="474048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59"/>
            <p:cNvSpPr/>
            <p:nvPr/>
          </p:nvSpPr>
          <p:spPr>
            <a:xfrm>
              <a:off x="597708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0"/>
            <p:cNvSpPr/>
            <p:nvPr/>
          </p:nvSpPr>
          <p:spPr>
            <a:xfrm>
              <a:off x="2716560" y="5250600"/>
              <a:ext cx="179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61"/>
            <p:cNvSpPr/>
            <p:nvPr/>
          </p:nvSpPr>
          <p:spPr>
            <a:xfrm>
              <a:off x="3616200" y="515916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3" name="Line 62"/>
            <p:cNvSpPr/>
            <p:nvPr/>
          </p:nvSpPr>
          <p:spPr>
            <a:xfrm>
              <a:off x="2716560" y="52506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63"/>
            <p:cNvSpPr/>
            <p:nvPr/>
          </p:nvSpPr>
          <p:spPr>
            <a:xfrm>
              <a:off x="4515480" y="52506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64"/>
            <p:cNvSpPr/>
            <p:nvPr/>
          </p:nvSpPr>
          <p:spPr>
            <a:xfrm>
              <a:off x="918000" y="5982120"/>
              <a:ext cx="494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65"/>
            <p:cNvSpPr/>
            <p:nvPr/>
          </p:nvSpPr>
          <p:spPr>
            <a:xfrm>
              <a:off x="2716560" y="589068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7" name="Line 66"/>
            <p:cNvSpPr/>
            <p:nvPr/>
          </p:nvSpPr>
          <p:spPr>
            <a:xfrm>
              <a:off x="91800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67"/>
            <p:cNvSpPr/>
            <p:nvPr/>
          </p:nvSpPr>
          <p:spPr>
            <a:xfrm>
              <a:off x="226692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68"/>
            <p:cNvSpPr/>
            <p:nvPr/>
          </p:nvSpPr>
          <p:spPr>
            <a:xfrm>
              <a:off x="350352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69"/>
            <p:cNvSpPr/>
            <p:nvPr/>
          </p:nvSpPr>
          <p:spPr>
            <a:xfrm>
              <a:off x="462780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0"/>
            <p:cNvSpPr/>
            <p:nvPr/>
          </p:nvSpPr>
          <p:spPr>
            <a:xfrm>
              <a:off x="586440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Text Box 71"/>
          <p:cNvSpPr/>
          <p:nvPr/>
        </p:nvSpPr>
        <p:spPr>
          <a:xfrm>
            <a:off x="6588000" y="4508640"/>
            <a:ext cx="23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организованное руководство евреев при исходе из Египта </a:t>
            </a:r>
            <a:endParaRPr b="0" lang="en-US" sz="1800" spc="-1" strike="noStrike">
              <a:solidFill>
                <a:srgbClr val="000000"/>
              </a:solidFill>
              <a:latin typeface="Arial"/>
            </a:endParaRPr>
          </a:p>
        </p:txBody>
      </p:sp>
      <p:sp>
        <p:nvSpPr>
          <p:cNvPr id="1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орма управляемости</a:t>
            </a:r>
            <a:endParaRPr b="0" lang="en-US" sz="4400" spc="-1" strike="noStrike">
              <a:solidFill>
                <a:srgbClr val="000000"/>
              </a:solidFill>
              <a:latin typeface="Calibri"/>
            </a:endParaRPr>
          </a:p>
        </p:txBody>
      </p:sp>
      <p:sp>
        <p:nvSpPr>
          <p:cNvPr id="155" name="PlaceHolder 2"/>
          <p:cNvSpPr>
            <a:spLocks noGrp="1"/>
          </p:cNvSpPr>
          <p:nvPr>
            <p:ph/>
          </p:nvPr>
        </p:nvSpPr>
        <p:spPr>
          <a:xfrm>
            <a:off x="468360" y="1125000"/>
            <a:ext cx="8229600" cy="2549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яд авторов считает наилучшей норму управляемости от 7 до 10 подчиненных. Однако современные исследования показывают, что величина нормы широко варьируется. Уровень управления, характер выполняемых задач, характеристики подчиненных и относительные способности руководителя - всё это играет роль в определении количества людей, непосредственно и эффективно контролируемых руководителем.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56" name=""/>
          <p:cNvGraphicFramePr/>
          <p:nvPr/>
        </p:nvGraphicFramePr>
        <p:xfrm>
          <a:off x="1476360" y="3933720"/>
          <a:ext cx="6095880" cy="2185920"/>
        </p:xfrm>
        <a:graphic>
          <a:graphicData uri="http://schemas.openxmlformats.org/drawingml/2006/table">
            <a:tbl>
              <a:tblPr/>
              <a:tblGrid>
                <a:gridCol w="3048120"/>
                <a:gridCol w="3047760"/>
              </a:tblGrid>
              <a:tr h="76428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п совместимости функций управления</a:t>
                      </a:r>
                      <a:r>
                        <a:rPr b="0" lang="ru-RU" sz="2200" spc="-1" strike="noStrike">
                          <a:solidFill>
                            <a:srgbClr val="000000"/>
                          </a:solidFill>
                          <a:latin typeface="Arial"/>
                        </a:rPr>
                        <a:t>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личество подчиненных, чел</a:t>
                      </a:r>
                      <a:r>
                        <a:rPr b="0" lang="en-US" sz="1800" spc="-1" strike="noStrike">
                          <a:solidFill>
                            <a:srgbClr val="000000"/>
                          </a:solidFill>
                          <a:latin typeface="Arial"/>
                        </a:rPr>
                        <a:t>.</a:t>
                      </a:r>
                      <a:r>
                        <a:rPr b="0" lang="ru-RU"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21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инаковые функции </a:t>
                      </a:r>
                      <a:endParaRPr b="0" lang="en-US" sz="18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отипные функции</a:t>
                      </a:r>
                      <a:r>
                        <a:rPr b="0" lang="ru-RU" sz="2600" spc="-1" strike="noStrike">
                          <a:solidFill>
                            <a:srgbClr val="000000"/>
                          </a:solidFill>
                          <a:latin typeface="Arial"/>
                        </a:rPr>
                        <a:t> </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нотипные функции</a:t>
                      </a:r>
                      <a:r>
                        <a:rPr b="0" lang="ru-RU"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0-40 </a:t>
                      </a: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12 </a:t>
                      </a: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6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rPr>
              <a:t>Препятствия к эффективному делегированию со стороны руководителя</a:t>
            </a:r>
            <a:br>
              <a:rPr sz="3100"/>
            </a:br>
            <a:endParaRPr b="0" lang="en-US" sz="3100" spc="-1" strike="noStrike">
              <a:solidFill>
                <a:srgbClr val="000000"/>
              </a:solidFill>
              <a:latin typeface="Calibri"/>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Заблуждение "Я это сделаю лучше". Даже если это правда, трата времени на задание, которое мог бы выполнить подчиненный, означает, что руководитель не сможет так же хорошо выполнять другие обязанности. </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тсутствие способности руководить. </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тсутствие доверия к подчиненным. В этом случае и подчиненные будут работать соответствующим образом. </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Боязнь риска. Поскольку руководители отвечают за работу подчиненного, они могут испытывать опасения, что делегирование задания может породить проблемы, за которые им придется отвечать.</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тсутствие выборочного контроля для предупреждения руководства о возможной опасности. Если механизмы контроля неэффективны, у руководства будут основательные причины для беспокойства.</a:t>
            </a:r>
            <a:endParaRPr b="0" lang="en-US" sz="21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rPr>
              <a:t>Препятствия к эффективному делегированию со стороны подчиненных</a:t>
            </a:r>
            <a:br>
              <a:rPr sz="3100"/>
            </a:br>
            <a:endParaRPr b="0" lang="en-US" sz="3100" spc="-1" strike="noStrike">
              <a:solidFill>
                <a:srgbClr val="000000"/>
              </a:solidFill>
              <a:latin typeface="Calibri"/>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ые избегают ответственности и блокируют процесс</a:t>
            </a:r>
            <a:endParaRPr b="0" lang="en-US" sz="2100" spc="-1" strike="noStrike">
              <a:solidFill>
                <a:srgbClr val="000000"/>
              </a:solidFill>
              <a:latin typeface="Calibri"/>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делегирования также по целому ряду причин:</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ый считает удобнее спросить руководителя, что делать, чем самому решить проблему.</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ый боится критики за совершенные ошибки. Поскольку большая ответственность увеличивает возможность совершения ошибки, подчиненный уклоняется от неё.</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У подчиненного отсутствуют информация и ресурсы, необходимые для успешного выполнения задания.</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У подчиненного уже больше работы, чем он может сделать, или же он считает, что это так на самом деле.</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У подчиненного отсутствует уверенность в себе.</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ому не предлагается каких-либо положительных стимулов дополнительной ответственности.</a:t>
            </a:r>
            <a:endParaRPr b="0" lang="en-US" sz="2100" spc="-1" strike="noStrike">
              <a:solidFill>
                <a:srgbClr val="000000"/>
              </a:solidFill>
              <a:latin typeface="Calibri"/>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Calibri"/>
              </a:rPr>
              <a:t>Участие персонала в управленческих решениях</a:t>
            </a:r>
            <a:endParaRPr b="0" lang="en-US" sz="3400" spc="-1" strike="noStrike">
              <a:solidFill>
                <a:srgbClr val="000000"/>
              </a:solidFill>
              <a:latin typeface="Calibri"/>
            </a:endParaRPr>
          </a:p>
        </p:txBody>
      </p:sp>
      <p:sp>
        <p:nvSpPr>
          <p:cNvPr id="165"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опрос об участии персонала в принятии решений противоречив, прежде всего, потому, что любое решение предполагает принятие на себя определенной доли ответственности.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Участие работников в управлении получило широкую законодательную поддержку в странах Западной Европы.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Основными формами участия работников в управлении в США и Японии являются бригады результативности, кружки качества, автономные бригады.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Цели работы автономным бригадам задаются руководством, но при этом менеджмент делегирует им ряд функций в планировании, контроле, оплате труда.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се члены бригады совместно планируют методы работы, устанавливают ее темп и ритм, перерывы на отдых, осуществляют разделение труда на основе взаимозаменяемости исполнителей, контроли­руют качество продукции.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Члены бригады сами выполняют также ряд функций, которые обычно осуществляются другими подразделениями или вспомогательными рабочими по наладке, обслуживанию оборудования и уборке производственного участка.</a:t>
            </a:r>
            <a:endParaRPr b="0" lang="en-US" sz="1900" spc="-1" strike="noStrike">
              <a:solidFill>
                <a:srgbClr val="000000"/>
              </a:solidFill>
              <a:latin typeface="Calibri"/>
            </a:endParaRPr>
          </a:p>
        </p:txBody>
      </p:sp>
      <p:sp>
        <p:nvSpPr>
          <p:cNvPr id="16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Участие персонала в управленческих решениях</a:t>
            </a:r>
            <a:endParaRPr b="0" lang="en-US" sz="3000" spc="-1" strike="noStrike">
              <a:solidFill>
                <a:srgbClr val="000000"/>
              </a:solidFill>
              <a:latin typeface="Calibri"/>
            </a:endParaRPr>
          </a:p>
        </p:txBody>
      </p:sp>
      <p:sp>
        <p:nvSpPr>
          <p:cNvPr id="16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 </a:t>
            </a:r>
            <a:r>
              <a:rPr b="0" lang="ru-RU" sz="1900" spc="-1" strike="noStrike">
                <a:solidFill>
                  <a:srgbClr val="000000"/>
                </a:solidFill>
                <a:latin typeface="Calibri"/>
              </a:rPr>
              <a:t>Положительные моменты:</a:t>
            </a:r>
            <a:endParaRPr b="0" lang="en-US" sz="19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способствует повышению мотивации персонала;</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способствует профессиональному росту работников;</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уменьшает сопротивление новациям в деятельности фирмы;</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овышает активность по рационализации труда;</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редотвращает конфликты между администрацией и работниками;</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способствует удовлетворенности работников трудом и т. п.</a:t>
            </a:r>
            <a:endParaRPr b="0" lang="en-US" sz="17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Недостатки: </a:t>
            </a:r>
            <a:endParaRPr b="0" lang="en-US" sz="19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требует серьезной организации, что связано с издержками;</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необходимость учебы представителей групп, делегируемых в органы управления и оплаты пропущенного рабочего времени;</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результаты участия могут противоречить интересам администрации и собственников;</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велика опасность проявления «пролетарской» психологии (ориентация при распределении дохода не на инвестиции, а на увеличение зарплаты и др.); </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сопротивление среднего звена управления, которое видит в работе бригад или кружков качества угрозу своему руководящему положению;</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сложности в связи с типичными проблемами групповой динамики.</a:t>
            </a:r>
            <a:endParaRPr b="0" lang="en-US" sz="17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Участие персонала в управленческих решениях</a:t>
            </a:r>
            <a:endParaRPr b="0" lang="en-US" sz="30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Участие персонала в принятии решений</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рекомендуется в случаях, когда:</a:t>
            </a:r>
            <a:endParaRPr b="0" lang="en-US" sz="2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уководитель сам не располагает достаточной информацией или достаточной компетенцией;</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д и структура проблемы не ясны;</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т особой срочно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ботники разделяют цели руководител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ботники способны оценивать ситуацию и имеют высокую потребность в самоопределен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ажно признание решения работникам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ешение затрагивает интересы работников в длительной перспективе.</a:t>
            </a:r>
            <a:endParaRPr b="0" lang="en-US" sz="2000" spc="-1" strike="noStrike">
              <a:solidFill>
                <a:srgbClr val="000000"/>
              </a:solidFill>
              <a:latin typeface="Calibri"/>
            </a:endParaRPr>
          </a:p>
        </p:txBody>
      </p:sp>
      <p:sp>
        <p:nvSpPr>
          <p:cNvPr id="1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одержание курса</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ведение</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Этические принципы взаимодействия людей в человеческом обществе</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Поведение индивидуумов, групп и организаций</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Мотивация персонала</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заимодействие работников организации</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беспечение организации трудовыми ресурсами</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Управление показателями труда и вознаграждением</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000000"/>
                </a:solidFill>
                <a:latin typeface="Calibri"/>
              </a:rPr>
              <a:t>Три исторических типа власти в обществе</a:t>
            </a:r>
            <a:endParaRPr b="0" lang="en-US" sz="3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охлократия </a:t>
            </a:r>
            <a:r>
              <a:rPr b="0" lang="ru-RU" sz="2100" spc="-1" strike="noStrike">
                <a:solidFill>
                  <a:srgbClr val="000000"/>
                </a:solidFill>
                <a:latin typeface="Calibri"/>
              </a:rPr>
              <a:t>(от греч.</a:t>
            </a:r>
            <a:r>
              <a:rPr b="0" lang="en-US" sz="2100" spc="-1" strike="noStrike">
                <a:solidFill>
                  <a:srgbClr val="000000"/>
                </a:solidFill>
                <a:latin typeface="Calibri"/>
              </a:rPr>
              <a:t> </a:t>
            </a:r>
            <a:r>
              <a:rPr b="0" i="1" lang="en-US" sz="2100" spc="-1" strike="noStrike">
                <a:solidFill>
                  <a:srgbClr val="000000"/>
                </a:solidFill>
                <a:latin typeface="Calibri"/>
              </a:rPr>
              <a:t>ohlos </a:t>
            </a:r>
            <a:r>
              <a:rPr b="0" lang="ru-RU" sz="2100" spc="-1" strike="noStrike">
                <a:solidFill>
                  <a:srgbClr val="000000"/>
                </a:solidFill>
                <a:latin typeface="Calibri"/>
              </a:rPr>
              <a:t>– толпа);</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автократия</a:t>
            </a:r>
            <a:r>
              <a:rPr b="0" lang="ru-RU" sz="2100" spc="-1" strike="noStrike">
                <a:solidFill>
                  <a:srgbClr val="000000"/>
                </a:solidFill>
                <a:latin typeface="Calibri"/>
              </a:rPr>
              <a:t> означает неограниченную власть в обществе одного лица (от греч. </a:t>
            </a:r>
            <a:r>
              <a:rPr b="0" i="1" lang="en-US" sz="2100" spc="-1" strike="noStrike">
                <a:solidFill>
                  <a:srgbClr val="000000"/>
                </a:solidFill>
                <a:latin typeface="Calibri"/>
              </a:rPr>
              <a:t>athor</a:t>
            </a:r>
            <a:r>
              <a:rPr b="0" lang="ru-RU" sz="2100" spc="-1" strike="noStrike">
                <a:solidFill>
                  <a:srgbClr val="000000"/>
                </a:solidFill>
                <a:latin typeface="Calibri"/>
              </a:rPr>
              <a:t> – автор);</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модификации автократии с наиболее яркими   </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представителями:</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тирания (Нерон, Калигула, Иван Грозный);</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диктатура (Робеспьер, Гитлер, Сталин, Франко);</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монархия (Петр </a:t>
            </a:r>
            <a:r>
              <a:rPr b="0" lang="en-US" sz="2100" spc="-1" strike="noStrike">
                <a:solidFill>
                  <a:srgbClr val="000000"/>
                </a:solidFill>
                <a:latin typeface="Calibri"/>
              </a:rPr>
              <a:t>I</a:t>
            </a:r>
            <a:r>
              <a:rPr b="0" lang="ru-RU" sz="2100" spc="-1" strike="noStrike">
                <a:solidFill>
                  <a:srgbClr val="000000"/>
                </a:solidFill>
                <a:latin typeface="Calibri"/>
              </a:rPr>
              <a:t>, Карл Великий, Наполеон, Екатерина </a:t>
            </a:r>
            <a:r>
              <a:rPr b="0" lang="en-US" sz="2100" spc="-1" strike="noStrike">
                <a:solidFill>
                  <a:srgbClr val="000000"/>
                </a:solidFill>
                <a:latin typeface="Calibri"/>
              </a:rPr>
              <a:t>II</a:t>
            </a:r>
            <a:r>
              <a:rPr b="0" lang="ru-RU" sz="2100" spc="-1" strike="noStrike">
                <a:solidFill>
                  <a:srgbClr val="000000"/>
                </a:solidFill>
                <a:latin typeface="Calibri"/>
              </a:rPr>
              <a:t>);</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д</a:t>
            </a:r>
            <a:r>
              <a:rPr b="1" i="1" lang="ru-RU" sz="2100" spc="-1" strike="noStrike">
                <a:solidFill>
                  <a:srgbClr val="000000"/>
                </a:solidFill>
                <a:latin typeface="Calibri"/>
              </a:rPr>
              <a:t>емократия </a:t>
            </a:r>
            <a:r>
              <a:rPr b="0" lang="ru-RU" sz="2100" spc="-1" strike="noStrike">
                <a:solidFill>
                  <a:srgbClr val="000000"/>
                </a:solidFill>
                <a:latin typeface="Calibri"/>
              </a:rPr>
              <a:t>(от греч. </a:t>
            </a:r>
            <a:r>
              <a:rPr b="0" lang="en-US" sz="2100" spc="-1" strike="noStrike">
                <a:solidFill>
                  <a:srgbClr val="000000"/>
                </a:solidFill>
                <a:latin typeface="Calibri"/>
              </a:rPr>
              <a:t>demos – </a:t>
            </a:r>
            <a:r>
              <a:rPr b="0" lang="ru-RU" sz="2100" spc="-1" strike="noStrike">
                <a:solidFill>
                  <a:srgbClr val="000000"/>
                </a:solidFill>
                <a:latin typeface="Calibri"/>
              </a:rPr>
              <a:t>народ) предусматривает «власть народа» на основе общественного самоуправления; </a:t>
            </a:r>
            <a:endParaRPr b="0" lang="en-US" sz="2100" spc="-1" strike="noStrike">
              <a:solidFill>
                <a:srgbClr val="000000"/>
              </a:solidFill>
              <a:latin typeface="Calibri"/>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7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стили руководства</a:t>
            </a: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сновные типы власти в обществе сформировали основные стили руководства:</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Авторитарный стиль:</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уководитель в принятии решений всегда ориентируется на собственные цели, критерии и интересы, практически не советуется с коллективом, в лучшем случае ограничиваясь узким кругом единомышленников;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уководитель в проведении решений занимает жесткие позиции, активно используя методы административного и психологического воздействия на людей. Оппозицию не принимает, может уволить неугодных сотрудников;</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уководитель всегда уверен в личной правоте, основывается на собственных знаниях и умениях, обширных внешних связях в государственных органах и предпринимательской среде. Руководитель такого типа может привести свою фирму к большому успеху, но также и к полному краху.</a:t>
            </a:r>
            <a:endParaRPr b="0" lang="en-US" sz="2100" spc="-1" strike="noStrike">
              <a:solidFill>
                <a:srgbClr val="000000"/>
              </a:solidFill>
              <a:latin typeface="Calibri"/>
            </a:endParaRPr>
          </a:p>
        </p:txBody>
      </p:sp>
      <p:sp>
        <p:nvSpPr>
          <p:cNvPr id="17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стили руководства</a:t>
            </a: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 </a:t>
            </a:r>
            <a:r>
              <a:rPr b="1" i="1" lang="ru-RU" sz="1900" spc="-1" strike="noStrike">
                <a:solidFill>
                  <a:srgbClr val="000000"/>
                </a:solidFill>
                <a:latin typeface="Calibri"/>
              </a:rPr>
              <a:t>Демократический стиль:</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основан на сочетании принципа единоначалия и общественного самоуправления;</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такого типа обычно избирается на собрании трудового коллектива или собственников и должен выражать интересы большинства;</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как правило, он может удачно выявить, принять и реализовать стратегические цели развития организации, сочетая групповые и личные интересы;</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должен быть хорошим политиком, дипломатом, просчитывающим варианты на много шагов вперед и сочетающим методы убеждения и принуждения;</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должен быть доброжелательным и открытым человеком, не поддающимся соблазнам (деньги, женщины, власть), т.к. они крайне раздражают завистников и способствуют росту оппозици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в своей работе постоянно опирается на группу единомышленников в лице дирекции, правления, президиума, совета. </a:t>
            </a:r>
            <a:endParaRPr b="0" lang="en-US" sz="1900" spc="-1" strike="noStrike">
              <a:solidFill>
                <a:srgbClr val="000000"/>
              </a:solidFill>
              <a:latin typeface="Calibri"/>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стили руководства</a:t>
            </a: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Либеральный стиль</a:t>
            </a:r>
            <a:r>
              <a:rPr b="0" lang="ru-RU" sz="2100" spc="-1" strike="noStrike">
                <a:solidFill>
                  <a:srgbClr val="000000"/>
                </a:solidFill>
                <a:latin typeface="Calibri"/>
              </a:rPr>
              <a:t> заключается в том, что руководитель в принятии решений ориентируется на цели и интересы отдельных групп трудового коллектива, постоянно пытается маневрировать, чтобы соблюсти паритет интересов. Преимущество либерального стиля заключается в групповом принятии управленческих решений, однако часто либеральный руководитель не имеет сильной воли, четкой цели, глубоких знаний, слишком увлечен своим хобби или семьей. Это достаточно неустойчивый стиль руководства, корни которого идут от охлократии.</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Смешанный стиль</a:t>
            </a:r>
            <a:r>
              <a:rPr b="0" lang="ru-RU" sz="2100" spc="-1" strike="noStrike">
                <a:solidFill>
                  <a:srgbClr val="000000"/>
                </a:solidFill>
                <a:latin typeface="Calibri"/>
              </a:rPr>
              <a:t> предусматривает сочетание перечисленных выше типов. Либеральный, демократический и авторитарный стиль могут преобладать у того или иного руководителя, но никогда не достигают абсолюта. </a:t>
            </a:r>
            <a:endParaRPr b="0" lang="en-US" sz="2100" spc="-1" strike="noStrike">
              <a:solidFill>
                <a:srgbClr val="000000"/>
              </a:solidFill>
              <a:latin typeface="Calibri"/>
            </a:endParaRPr>
          </a:p>
        </p:txBody>
      </p:sp>
      <p:sp>
        <p:nvSpPr>
          <p:cNvPr id="1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Убеждение</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Убеждение - это эффективная передача своей точки зрения.</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Преимущество в использовании убеждения в организациях:</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ыполнение работы человеком, на которого влияют, не нужно будет проверять;</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работник по всей вероятности, постарается выполнить больше, чем минимальные требования;</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Недостатки: </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медленное воздействие и неопределенность;</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ияние путем убеждения имеет одноразовое действие.</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Calibri"/>
              </a:rPr>
              <a:t>Подходы к пониманию сути лидерства </a:t>
            </a:r>
            <a:endParaRPr b="0" lang="en-US" sz="3800" spc="-1" strike="noStrike">
              <a:solidFill>
                <a:srgbClr val="000000"/>
              </a:solidFill>
              <a:latin typeface="Calibri"/>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Подход с позиции личных качеств</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1" i="1" lang="ru-RU" sz="2600" spc="-1" strike="noStrike">
                <a:solidFill>
                  <a:srgbClr val="000000"/>
                </a:solidFill>
                <a:latin typeface="Calibri"/>
              </a:rPr>
              <a:t>Поведенческий подход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Ситуационный подход</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1" i="1" lang="ru-RU" sz="2600" spc="-1" strike="noStrike">
                <a:solidFill>
                  <a:srgbClr val="000000"/>
                </a:solidFill>
                <a:latin typeface="Calibri"/>
              </a:rPr>
              <a:t>Лидерство как феномен управления настолько важен и сложен, что вряд ли можно в ближайшие годы ожидать появления универсального подхода к лидерству, если таковой вообще возможен.</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хема Танненбаума и Шмидта</a:t>
            </a:r>
            <a:endParaRPr b="0" lang="en-US" sz="4400" spc="-1" strike="noStrike">
              <a:solidFill>
                <a:srgbClr val="000000"/>
              </a:solidFill>
              <a:latin typeface="Calibri"/>
            </a:endParaRPr>
          </a:p>
        </p:txBody>
      </p:sp>
      <p:grpSp>
        <p:nvGrpSpPr>
          <p:cNvPr id="192" name="Group 3"/>
          <p:cNvGrpSpPr/>
          <p:nvPr/>
        </p:nvGrpSpPr>
        <p:grpSpPr>
          <a:xfrm>
            <a:off x="179280" y="1052640"/>
            <a:ext cx="8064720" cy="5616360"/>
            <a:chOff x="179280" y="1052640"/>
            <a:chExt cx="8064720" cy="5616360"/>
          </a:xfrm>
        </p:grpSpPr>
        <p:sp>
          <p:nvSpPr>
            <p:cNvPr id="193" name="Oval 4"/>
            <p:cNvSpPr/>
            <p:nvPr/>
          </p:nvSpPr>
          <p:spPr>
            <a:xfrm>
              <a:off x="179280" y="1052640"/>
              <a:ext cx="8064720" cy="5616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5"/>
            <p:cNvSpPr/>
            <p:nvPr/>
          </p:nvSpPr>
          <p:spPr>
            <a:xfrm>
              <a:off x="427320" y="1260360"/>
              <a:ext cx="7568280" cy="520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
            <p:cNvSpPr/>
            <p:nvPr/>
          </p:nvSpPr>
          <p:spPr>
            <a:xfrm>
              <a:off x="1792080" y="1884600"/>
              <a:ext cx="248148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Власть и влияние менеджера</a:t>
              </a:r>
              <a:endParaRPr b="0" lang="en-US" sz="1000" spc="-1" strike="noStrike">
                <a:solidFill>
                  <a:srgbClr val="000000"/>
                </a:solidFill>
                <a:latin typeface="Arial"/>
              </a:endParaRPr>
            </a:p>
          </p:txBody>
        </p:sp>
        <p:sp>
          <p:nvSpPr>
            <p:cNvPr id="196" name="Text Box 7"/>
            <p:cNvSpPr/>
            <p:nvPr/>
          </p:nvSpPr>
          <p:spPr>
            <a:xfrm>
              <a:off x="4273560" y="1988640"/>
              <a:ext cx="260532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и влияние работника</a:t>
              </a:r>
              <a:endParaRPr b="0" lang="en-US" sz="1200" spc="-1" strike="noStrike">
                <a:solidFill>
                  <a:srgbClr val="000000"/>
                </a:solidFill>
                <a:latin typeface="Arial"/>
              </a:endParaRPr>
            </a:p>
          </p:txBody>
        </p:sp>
        <p:sp>
          <p:nvSpPr>
            <p:cNvPr id="197" name="Rectangle 8"/>
            <p:cNvSpPr/>
            <p:nvPr/>
          </p:nvSpPr>
          <p:spPr>
            <a:xfrm>
              <a:off x="1171800" y="2404440"/>
              <a:ext cx="6079680" cy="166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9"/>
            <p:cNvSpPr/>
            <p:nvPr/>
          </p:nvSpPr>
          <p:spPr>
            <a:xfrm flipV="1">
              <a:off x="1171800" y="2404440"/>
              <a:ext cx="6079680" cy="1663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Text Box 10"/>
            <p:cNvSpPr/>
            <p:nvPr/>
          </p:nvSpPr>
          <p:spPr>
            <a:xfrm>
              <a:off x="1792080" y="2716560"/>
              <a:ext cx="1364760" cy="415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она свободы менеджера</a:t>
              </a:r>
              <a:endParaRPr b="0" lang="en-US" sz="1200" spc="-1" strike="noStrike">
                <a:solidFill>
                  <a:srgbClr val="000000"/>
                </a:solidFill>
                <a:latin typeface="Arial"/>
              </a:endParaRPr>
            </a:p>
          </p:txBody>
        </p:sp>
        <p:sp>
          <p:nvSpPr>
            <p:cNvPr id="200" name="Text Box 11"/>
            <p:cNvSpPr/>
            <p:nvPr/>
          </p:nvSpPr>
          <p:spPr>
            <a:xfrm>
              <a:off x="5390280" y="3236760"/>
              <a:ext cx="148860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она свободы работника</a:t>
              </a:r>
              <a:endParaRPr b="0" lang="en-US" sz="1200" spc="-1" strike="noStrike">
                <a:solidFill>
                  <a:srgbClr val="000000"/>
                </a:solidFill>
                <a:latin typeface="Arial"/>
              </a:endParaRPr>
            </a:p>
          </p:txBody>
        </p:sp>
        <p:sp>
          <p:nvSpPr>
            <p:cNvPr id="201" name="Line 12"/>
            <p:cNvSpPr/>
            <p:nvPr/>
          </p:nvSpPr>
          <p:spPr>
            <a:xfrm flipH="1">
              <a:off x="3653280" y="2300760"/>
              <a:ext cx="347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3"/>
            <p:cNvSpPr/>
            <p:nvPr/>
          </p:nvSpPr>
          <p:spPr>
            <a:xfrm>
              <a:off x="1544040" y="2196720"/>
              <a:ext cx="248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4"/>
            <p:cNvSpPr/>
            <p:nvPr/>
          </p:nvSpPr>
          <p:spPr>
            <a:xfrm flipV="1">
              <a:off x="1544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5"/>
            <p:cNvSpPr/>
            <p:nvPr/>
          </p:nvSpPr>
          <p:spPr>
            <a:xfrm flipV="1">
              <a:off x="241236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6"/>
            <p:cNvSpPr/>
            <p:nvPr/>
          </p:nvSpPr>
          <p:spPr>
            <a:xfrm flipV="1">
              <a:off x="3281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7"/>
            <p:cNvSpPr/>
            <p:nvPr/>
          </p:nvSpPr>
          <p:spPr>
            <a:xfrm flipV="1">
              <a:off x="414936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8"/>
            <p:cNvSpPr/>
            <p:nvPr/>
          </p:nvSpPr>
          <p:spPr>
            <a:xfrm flipV="1">
              <a:off x="6755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9"/>
            <p:cNvSpPr/>
            <p:nvPr/>
          </p:nvSpPr>
          <p:spPr>
            <a:xfrm flipV="1">
              <a:off x="588672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0"/>
            <p:cNvSpPr/>
            <p:nvPr/>
          </p:nvSpPr>
          <p:spPr>
            <a:xfrm flipV="1">
              <a:off x="5018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21"/>
            <p:cNvSpPr/>
            <p:nvPr/>
          </p:nvSpPr>
          <p:spPr>
            <a:xfrm>
              <a:off x="1419840" y="4380840"/>
              <a:ext cx="558324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2                  3                  4                   5                  6                  7</a:t>
              </a:r>
              <a:endParaRPr b="0" lang="en-US" sz="1200" spc="-1" strike="noStrike">
                <a:solidFill>
                  <a:srgbClr val="000000"/>
                </a:solidFill>
                <a:latin typeface="Arial"/>
              </a:endParaRPr>
            </a:p>
          </p:txBody>
        </p:sp>
        <p:sp>
          <p:nvSpPr>
            <p:cNvPr id="211" name="Text Box 22"/>
            <p:cNvSpPr/>
            <p:nvPr/>
          </p:nvSpPr>
          <p:spPr>
            <a:xfrm>
              <a:off x="1419840" y="4797000"/>
              <a:ext cx="545904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арианты поведения менеджера и работников</a:t>
              </a:r>
              <a:endParaRPr b="0" lang="en-US" sz="1200" spc="-1" strike="noStrike">
                <a:solidFill>
                  <a:srgbClr val="000000"/>
                </a:solidFill>
                <a:latin typeface="Arial"/>
              </a:endParaRPr>
            </a:p>
          </p:txBody>
        </p:sp>
        <p:sp>
          <p:nvSpPr>
            <p:cNvPr id="212" name="Line 23"/>
            <p:cNvSpPr/>
            <p:nvPr/>
          </p:nvSpPr>
          <p:spPr>
            <a:xfrm>
              <a:off x="551160" y="3236760"/>
              <a:ext cx="3722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4"/>
            <p:cNvSpPr/>
            <p:nvPr/>
          </p:nvSpPr>
          <p:spPr>
            <a:xfrm>
              <a:off x="4273560" y="3236760"/>
              <a:ext cx="3846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25"/>
            <p:cNvSpPr/>
            <p:nvPr/>
          </p:nvSpPr>
          <p:spPr>
            <a:xfrm>
              <a:off x="2412360" y="5733000"/>
              <a:ext cx="186084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а организации</a:t>
              </a:r>
              <a:endParaRPr b="0" lang="en-US" sz="1200" spc="-1" strike="noStrike">
                <a:solidFill>
                  <a:srgbClr val="000000"/>
                </a:solidFill>
                <a:latin typeface="Arial"/>
              </a:endParaRPr>
            </a:p>
          </p:txBody>
        </p:sp>
        <p:sp>
          <p:nvSpPr>
            <p:cNvPr id="215" name="Line 26"/>
            <p:cNvSpPr/>
            <p:nvPr/>
          </p:nvSpPr>
          <p:spPr>
            <a:xfrm flipH="1">
              <a:off x="2784240" y="6045120"/>
              <a:ext cx="24804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 Box 27"/>
            <p:cNvSpPr/>
            <p:nvPr/>
          </p:nvSpPr>
          <p:spPr>
            <a:xfrm>
              <a:off x="551160" y="6148800"/>
              <a:ext cx="124056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а общества</a:t>
              </a:r>
              <a:endParaRPr b="0" lang="en-US" sz="1200" spc="-1" strike="noStrike">
                <a:solidFill>
                  <a:srgbClr val="000000"/>
                </a:solidFill>
                <a:latin typeface="Arial"/>
              </a:endParaRPr>
            </a:p>
          </p:txBody>
        </p:sp>
        <p:sp>
          <p:nvSpPr>
            <p:cNvPr id="217" name="Line 28"/>
            <p:cNvSpPr/>
            <p:nvPr/>
          </p:nvSpPr>
          <p:spPr>
            <a:xfrm flipV="1">
              <a:off x="1295640" y="6148440"/>
              <a:ext cx="49608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хема Танненбаума и Шмидта </a:t>
            </a: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 </a:t>
            </a:r>
            <a:r>
              <a:rPr b="1" i="1" lang="ru-RU" sz="1900" spc="-1" strike="noStrike">
                <a:solidFill>
                  <a:srgbClr val="000000"/>
                </a:solidFill>
                <a:latin typeface="Calibri"/>
              </a:rPr>
              <a:t>Пространство поведения менеджера и работников:</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Варианты поведения расшифровываются следующим образом:</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1 – Менеджер способен принимать решения, которые работники принимают.</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2 – Менеджер должен «продавать» свои решения, чтобы работники их принял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3 – Менеджер представляет решение, но должен отвечать на вопросы работников.</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4 – Менеджер представляет проект решения для изменений с учетом вклада работников.</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5 – Менеджер представляет проблему, получает вклад работников, затем принимает решение.</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6 – Менеджер определяет пределы, в которых работники принимают решение.</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7 – Менеджер и работники совместно принимают решение в пределах организационных ограничений.</a:t>
            </a:r>
            <a:endParaRPr b="0" lang="en-US" sz="1900" spc="-1" strike="noStrike">
              <a:solidFill>
                <a:srgbClr val="000000"/>
              </a:solidFill>
              <a:latin typeface="Calibri"/>
            </a:endParaRPr>
          </a:p>
        </p:txBody>
      </p:sp>
      <p:sp>
        <p:nvSpPr>
          <p:cNvPr id="22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0" y="333360"/>
            <a:ext cx="8964360" cy="6524640"/>
            <a:chOff x="0" y="333360"/>
            <a:chExt cx="8964360" cy="6524640"/>
          </a:xfrm>
        </p:grpSpPr>
        <p:grpSp>
          <p:nvGrpSpPr>
            <p:cNvPr id="223" name="Group 3"/>
            <p:cNvGrpSpPr/>
            <p:nvPr/>
          </p:nvGrpSpPr>
          <p:grpSpPr>
            <a:xfrm>
              <a:off x="1280520" y="436680"/>
              <a:ext cx="7683840" cy="5799600"/>
              <a:chOff x="1280520" y="436680"/>
              <a:chExt cx="7683840" cy="5799600"/>
            </a:xfrm>
          </p:grpSpPr>
          <p:sp>
            <p:nvSpPr>
              <p:cNvPr id="224" name="Line 4"/>
              <p:cNvSpPr/>
              <p:nvPr/>
            </p:nvSpPr>
            <p:spPr>
              <a:xfrm>
                <a:off x="128052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Group 5"/>
              <p:cNvGrpSpPr/>
              <p:nvPr/>
            </p:nvGrpSpPr>
            <p:grpSpPr>
              <a:xfrm>
                <a:off x="1280520" y="436680"/>
                <a:ext cx="7683840" cy="5799600"/>
                <a:chOff x="1280520" y="436680"/>
                <a:chExt cx="7683840" cy="5799600"/>
              </a:xfrm>
            </p:grpSpPr>
            <p:sp>
              <p:nvSpPr>
                <p:cNvPr id="226" name="Line 6"/>
                <p:cNvSpPr/>
                <p:nvPr/>
              </p:nvSpPr>
              <p:spPr>
                <a:xfrm>
                  <a:off x="1280520" y="4366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7"/>
                <p:cNvSpPr/>
                <p:nvPr/>
              </p:nvSpPr>
              <p:spPr>
                <a:xfrm>
                  <a:off x="213408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8"/>
                <p:cNvSpPr/>
                <p:nvPr/>
              </p:nvSpPr>
              <p:spPr>
                <a:xfrm>
                  <a:off x="298800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9"/>
                <p:cNvSpPr/>
                <p:nvPr/>
              </p:nvSpPr>
              <p:spPr>
                <a:xfrm>
                  <a:off x="384156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0"/>
                <p:cNvSpPr/>
                <p:nvPr/>
              </p:nvSpPr>
              <p:spPr>
                <a:xfrm>
                  <a:off x="469548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1"/>
                <p:cNvSpPr/>
                <p:nvPr/>
              </p:nvSpPr>
              <p:spPr>
                <a:xfrm>
                  <a:off x="554940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2"/>
                <p:cNvSpPr/>
                <p:nvPr/>
              </p:nvSpPr>
              <p:spPr>
                <a:xfrm>
                  <a:off x="640296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3"/>
                <p:cNvSpPr/>
                <p:nvPr/>
              </p:nvSpPr>
              <p:spPr>
                <a:xfrm>
                  <a:off x="725688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4"/>
                <p:cNvSpPr/>
                <p:nvPr/>
              </p:nvSpPr>
              <p:spPr>
                <a:xfrm>
                  <a:off x="811044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5"/>
                <p:cNvSpPr/>
                <p:nvPr/>
              </p:nvSpPr>
              <p:spPr>
                <a:xfrm>
                  <a:off x="896436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6"/>
                <p:cNvSpPr/>
                <p:nvPr/>
              </p:nvSpPr>
              <p:spPr>
                <a:xfrm>
                  <a:off x="1280520" y="10810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7"/>
                <p:cNvSpPr/>
                <p:nvPr/>
              </p:nvSpPr>
              <p:spPr>
                <a:xfrm>
                  <a:off x="1280520" y="17254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8"/>
                <p:cNvSpPr/>
                <p:nvPr/>
              </p:nvSpPr>
              <p:spPr>
                <a:xfrm>
                  <a:off x="1280520" y="36586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9"/>
                <p:cNvSpPr/>
                <p:nvPr/>
              </p:nvSpPr>
              <p:spPr>
                <a:xfrm>
                  <a:off x="1280520" y="43030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20"/>
                <p:cNvSpPr/>
                <p:nvPr/>
              </p:nvSpPr>
              <p:spPr>
                <a:xfrm>
                  <a:off x="1280520" y="23698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21"/>
                <p:cNvSpPr/>
                <p:nvPr/>
              </p:nvSpPr>
              <p:spPr>
                <a:xfrm>
                  <a:off x="1280520" y="30142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22"/>
                <p:cNvSpPr/>
                <p:nvPr/>
              </p:nvSpPr>
              <p:spPr>
                <a:xfrm>
                  <a:off x="1280520" y="55918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23"/>
                <p:cNvSpPr/>
                <p:nvPr/>
              </p:nvSpPr>
              <p:spPr>
                <a:xfrm>
                  <a:off x="1280520" y="49474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24"/>
                <p:cNvSpPr/>
                <p:nvPr/>
              </p:nvSpPr>
              <p:spPr>
                <a:xfrm>
                  <a:off x="1280520" y="62362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5" name="Text Box 25"/>
            <p:cNvSpPr/>
            <p:nvPr/>
          </p:nvSpPr>
          <p:spPr>
            <a:xfrm>
              <a:off x="1707480" y="540360"/>
              <a:ext cx="2845800" cy="165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правление в духе загородного клуб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крупулезное внимание к удовлетворению потребностей людей ведет к созданию комфортной и дружелюбной атмосферы и рабочему ритму в организации</a:t>
              </a:r>
              <a:endParaRPr b="0" lang="en-US" sz="1200" spc="-1" strike="noStrike">
                <a:solidFill>
                  <a:srgbClr val="000000"/>
                </a:solidFill>
                <a:latin typeface="Arial"/>
              </a:endParaRPr>
            </a:p>
          </p:txBody>
        </p:sp>
        <p:sp>
          <p:nvSpPr>
            <p:cNvPr id="246" name="Text Box 26"/>
            <p:cNvSpPr/>
            <p:nvPr/>
          </p:nvSpPr>
          <p:spPr>
            <a:xfrm>
              <a:off x="5122440" y="540360"/>
              <a:ext cx="3414960" cy="165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9,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рупповое управлени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Производственные успехи обус-ловлены преданными своей работе людьми; взаимозависимость через общие организационные цели ведет к созданию взаимоотношений основанных на доверии и уважении</a:t>
              </a:r>
              <a:endParaRPr b="0" lang="en-US" sz="1000" spc="-1" strike="noStrike">
                <a:solidFill>
                  <a:srgbClr val="000000"/>
                </a:solidFill>
                <a:latin typeface="Arial"/>
              </a:endParaRPr>
            </a:p>
          </p:txBody>
        </p:sp>
        <p:sp>
          <p:nvSpPr>
            <p:cNvPr id="247" name="Line 27"/>
            <p:cNvSpPr/>
            <p:nvPr/>
          </p:nvSpPr>
          <p:spPr>
            <a:xfrm flipH="1" flipV="1">
              <a:off x="1565280" y="747000"/>
              <a:ext cx="2844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28"/>
            <p:cNvSpPr/>
            <p:nvPr/>
          </p:nvSpPr>
          <p:spPr>
            <a:xfrm flipV="1">
              <a:off x="8253000" y="747000"/>
              <a:ext cx="2844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29"/>
            <p:cNvSpPr/>
            <p:nvPr/>
          </p:nvSpPr>
          <p:spPr>
            <a:xfrm>
              <a:off x="3272760" y="2611800"/>
              <a:ext cx="3699720" cy="1553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5,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рганизационное управл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ожно добиться хорошей организации управления путем балансирования необходимости в производственных результатах и поддержания на удовлетворительном уровне морального настроя людей</a:t>
              </a:r>
              <a:endParaRPr b="0" lang="en-US" sz="1200" spc="-1" strike="noStrike">
                <a:solidFill>
                  <a:srgbClr val="000000"/>
                </a:solidFill>
                <a:latin typeface="Arial"/>
              </a:endParaRPr>
            </a:p>
          </p:txBody>
        </p:sp>
        <p:sp>
          <p:nvSpPr>
            <p:cNvPr id="250" name="Text Box 30"/>
            <p:cNvSpPr/>
            <p:nvPr/>
          </p:nvSpPr>
          <p:spPr>
            <a:xfrm>
              <a:off x="1849680" y="4475880"/>
              <a:ext cx="2988000" cy="1553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бедненное управл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ложение минимальных усилий для достижения необходимых производственных результатов, достаточных для сохранения членства в организации</a:t>
              </a:r>
              <a:endParaRPr b="0" lang="en-US" sz="1200" spc="-1" strike="noStrike">
                <a:solidFill>
                  <a:srgbClr val="000000"/>
                </a:solidFill>
                <a:latin typeface="Arial"/>
              </a:endParaRPr>
            </a:p>
          </p:txBody>
        </p:sp>
        <p:sp>
          <p:nvSpPr>
            <p:cNvPr id="251" name="Text Box 31"/>
            <p:cNvSpPr/>
            <p:nvPr/>
          </p:nvSpPr>
          <p:spPr>
            <a:xfrm>
              <a:off x="5834160" y="4475880"/>
              <a:ext cx="2703600" cy="1553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9,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ласть-подчин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ффективность производства зависит от создания таких рабочих условий, где человеческие аспекты присутствуют в минимальной степени</a:t>
              </a:r>
              <a:endParaRPr b="0" lang="en-US" sz="1200" spc="-1" strike="noStrike">
                <a:solidFill>
                  <a:srgbClr val="000000"/>
                </a:solidFill>
                <a:latin typeface="Arial"/>
              </a:endParaRPr>
            </a:p>
          </p:txBody>
        </p:sp>
        <p:sp>
          <p:nvSpPr>
            <p:cNvPr id="252" name="Line 32"/>
            <p:cNvSpPr/>
            <p:nvPr/>
          </p:nvSpPr>
          <p:spPr>
            <a:xfrm flipH="1">
              <a:off x="1564920" y="5822280"/>
              <a:ext cx="426600" cy="20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33"/>
            <p:cNvSpPr/>
            <p:nvPr/>
          </p:nvSpPr>
          <p:spPr>
            <a:xfrm>
              <a:off x="8395560" y="5822280"/>
              <a:ext cx="284400" cy="20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Text Box 34"/>
            <p:cNvSpPr/>
            <p:nvPr/>
          </p:nvSpPr>
          <p:spPr>
            <a:xfrm>
              <a:off x="1280520" y="6340320"/>
              <a:ext cx="7683840" cy="517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a:solidFill>
                    <a:srgbClr val="000000"/>
                  </a:solidFill>
                  <a:latin typeface="Calibri"/>
                </a:rPr>
                <a:t>1              2               3               4                5               6               7                8              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изкая                         Степень учета интересов производства                       Высокая</a:t>
              </a:r>
              <a:endParaRPr b="0" lang="en-US" sz="1200" spc="-1" strike="noStrike">
                <a:solidFill>
                  <a:srgbClr val="000000"/>
                </a:solidFill>
                <a:latin typeface="Arial"/>
              </a:endParaRPr>
            </a:p>
          </p:txBody>
        </p:sp>
        <p:sp>
          <p:nvSpPr>
            <p:cNvPr id="255" name="Text Box 35"/>
            <p:cNvSpPr/>
            <p:nvPr/>
          </p:nvSpPr>
          <p:spPr>
            <a:xfrm>
              <a:off x="0" y="333360"/>
              <a:ext cx="1138320" cy="6006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Высока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1" lang="ru-RU" sz="1000" spc="-1" strike="noStrike">
                  <a:solidFill>
                    <a:srgbClr val="000000"/>
                  </a:solidFill>
                  <a:latin typeface="Calibri"/>
                </a:rPr>
                <a:t>9</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8</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7</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6</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5</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4</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3</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2  </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r>
                <a:rPr b="1" lang="ru-RU" sz="1000" spc="-1" strike="noStrike">
                  <a:solidFill>
                    <a:srgbClr val="000000"/>
                  </a:solidFill>
                  <a:latin typeface="Calibri"/>
                </a:rPr>
                <a:t>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Низкая</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Arial"/>
              </a:endParaRPr>
            </a:p>
          </p:txBody>
        </p:sp>
        <p:sp>
          <p:nvSpPr>
            <p:cNvPr id="256" name="Text Box 36"/>
            <p:cNvSpPr/>
            <p:nvPr/>
          </p:nvSpPr>
          <p:spPr>
            <a:xfrm>
              <a:off x="142200" y="2301120"/>
              <a:ext cx="569160" cy="2278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епень учета интересов людей</a:t>
              </a:r>
              <a:endParaRPr b="0" lang="en-US" sz="1200" spc="-1" strike="noStrike">
                <a:solidFill>
                  <a:srgbClr val="000000"/>
                </a:solidFill>
                <a:latin typeface="Arial"/>
              </a:endParaRPr>
            </a:p>
          </p:txBody>
        </p:sp>
      </p:grpSp>
      <p:sp>
        <p:nvSpPr>
          <p:cNvPr id="2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5.2. Основополагающие документы</a:t>
            </a:r>
            <a:endParaRPr b="0" lang="en-US" sz="3600" spc="-1" strike="noStrike">
              <a:solidFill>
                <a:srgbClr val="000000"/>
              </a:solidFill>
              <a:latin typeface="Calibri"/>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000000"/>
                </a:solidFill>
                <a:latin typeface="Calibri"/>
              </a:rPr>
              <a:t>Общие документы</a:t>
            </a:r>
            <a:r>
              <a:rPr b="0" lang="ru-RU" sz="1800" spc="-1" strike="noStrike">
                <a:solidFill>
                  <a:srgbClr val="000000"/>
                </a:solidFill>
                <a:latin typeface="Calibri"/>
              </a:rPr>
              <a:t>, регулирующие взаимоотношения людей в современном обществе  (основные религиозные писания, Всеобщая декларация прав человека и др. документы ООН).</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Законодательство</a:t>
            </a:r>
            <a:r>
              <a:rPr b="0" lang="ru-RU" sz="1800" spc="-1" strike="noStrike">
                <a:solidFill>
                  <a:srgbClr val="000000"/>
                </a:solidFill>
                <a:latin typeface="Calibri"/>
              </a:rPr>
              <a:t> конкретной страны (Конституция, Гражданский кодекс, Трудовой кодекс, Уголовный кодекс и др.).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Л</a:t>
            </a:r>
            <a:r>
              <a:rPr b="1" lang="ru-RU" sz="1800" spc="-1" strike="noStrike">
                <a:solidFill>
                  <a:srgbClr val="000000"/>
                </a:solidFill>
                <a:latin typeface="Calibri"/>
              </a:rPr>
              <a:t>окальные нормативные акты (</a:t>
            </a:r>
            <a:r>
              <a:rPr b="0" lang="ru-RU" sz="1800" spc="-1" strike="noStrike">
                <a:solidFill>
                  <a:srgbClr val="000000"/>
                </a:solidFill>
                <a:latin typeface="Calibri"/>
              </a:rPr>
              <a:t>Устав организации, Коллективный договор, Правила внутреннего трудового распорядка, Положения о структурных подразделениях, Положение об оплате труда, Положение о государственной и служебной тайне, Положение о премировании и т.п.).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больших многопрофильных организациях со сложной структурой создаются сотни и тысячи локальных нормативных актов, регулирующих деятельность структурных подразделений организаций и их взаимодействие между собой. Поддержание этих документов в виде целостной, непротиворечивой системы, да еще в актуальном состоянии оказывается достаточно сложной задачей управления.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аждому менеджеру следует  внимательно ознакомиться с содержанием этих документов, что позволит ему избежать нечаянных грубых промахов  и может избавить его от неприятных неожиданностей.</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0000"/>
                </a:solidFill>
                <a:latin typeface="Calibri"/>
              </a:rPr>
              <a:t>5. Взаимодействие работников организации</a:t>
            </a:r>
            <a:br>
              <a:rPr sz="4000"/>
            </a:br>
            <a:r>
              <a:rPr b="0" lang="ru-RU" sz="3600" spc="-1" strike="noStrike">
                <a:solidFill>
                  <a:srgbClr val="000000"/>
                </a:solidFill>
                <a:latin typeface="Calibri"/>
              </a:rPr>
              <a:t> </a:t>
            </a:r>
            <a:endParaRPr b="0" lang="en-US" sz="3600" spc="-1" strike="noStrike">
              <a:solidFill>
                <a:srgbClr val="000000"/>
              </a:solidFill>
              <a:latin typeface="Calibri"/>
            </a:endParaRPr>
          </a:p>
        </p:txBody>
      </p:sp>
      <p:sp>
        <p:nvSpPr>
          <p:cNvPr id="55" name="PlaceHolder 2"/>
          <p:cNvSpPr>
            <a:spLocks noGrp="1"/>
          </p:cNvSpPr>
          <p:nvPr>
            <p:ph/>
          </p:nvPr>
        </p:nvSpPr>
        <p:spPr>
          <a:xfrm>
            <a:off x="457200" y="2133720"/>
            <a:ext cx="8229600" cy="3992400"/>
          </a:xfrm>
          <a:prstGeom prst="rect">
            <a:avLst/>
          </a:prstGeom>
          <a:noFill/>
          <a:ln w="0">
            <a:noFill/>
          </a:ln>
        </p:spPr>
        <p:txBody>
          <a:bodyPr anchor="t">
            <a:normAutofit/>
          </a:bodyPr>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ласть, лидерство, управление</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сновополагающие документы</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оизводственная дисциплина</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онтроль и контроллинг </a:t>
            </a:r>
            <a:endParaRPr b="0" lang="en-US" sz="2800" spc="-1" strike="noStrike">
              <a:solidFill>
                <a:srgbClr val="000000"/>
              </a:solidFill>
              <a:latin typeface="Calibri"/>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Times New Roman"/>
              </a:rPr>
              <a:t>Должностные преступления, подлежащие мерам уголовной ответственности</a:t>
            </a:r>
            <a:endParaRPr b="0" lang="en-US" sz="3400" spc="-1" strike="noStrike">
              <a:solidFill>
                <a:srgbClr val="000000"/>
              </a:solidFill>
              <a:latin typeface="Calibri"/>
            </a:endParaRPr>
          </a:p>
        </p:txBody>
      </p:sp>
      <p:grpSp>
        <p:nvGrpSpPr>
          <p:cNvPr id="262" name="Group 3"/>
          <p:cNvGrpSpPr/>
          <p:nvPr/>
        </p:nvGrpSpPr>
        <p:grpSpPr>
          <a:xfrm>
            <a:off x="900000" y="1773360"/>
            <a:ext cx="7200720" cy="4176720"/>
            <a:chOff x="900000" y="1773360"/>
            <a:chExt cx="7200720" cy="4176720"/>
          </a:xfrm>
        </p:grpSpPr>
        <p:sp>
          <p:nvSpPr>
            <p:cNvPr id="263" name="Text Box 4"/>
            <p:cNvSpPr/>
            <p:nvPr/>
          </p:nvSpPr>
          <p:spPr>
            <a:xfrm>
              <a:off x="900000" y="17733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вышение власти или полномочий</a:t>
              </a:r>
              <a:endParaRPr b="0" lang="en-US" sz="1200" spc="-1" strike="noStrike">
                <a:solidFill>
                  <a:srgbClr val="000000"/>
                </a:solidFill>
                <a:latin typeface="Arial"/>
              </a:endParaRPr>
            </a:p>
          </p:txBody>
        </p:sp>
        <p:sp>
          <p:nvSpPr>
            <p:cNvPr id="264" name="Text Box 5"/>
            <p:cNvSpPr/>
            <p:nvPr/>
          </p:nvSpPr>
          <p:spPr>
            <a:xfrm>
              <a:off x="3387600" y="17733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оуправство</a:t>
              </a:r>
              <a:endParaRPr b="0" lang="en-US" sz="1200" spc="-1" strike="noStrike">
                <a:solidFill>
                  <a:srgbClr val="000000"/>
                </a:solidFill>
                <a:latin typeface="Arial"/>
              </a:endParaRPr>
            </a:p>
          </p:txBody>
        </p:sp>
        <p:sp>
          <p:nvSpPr>
            <p:cNvPr id="265" name="Text Box 6"/>
            <p:cNvSpPr/>
            <p:nvPr/>
          </p:nvSpPr>
          <p:spPr>
            <a:xfrm>
              <a:off x="5875200" y="17733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рушение законов о труде</a:t>
              </a:r>
              <a:endParaRPr b="0" lang="en-US" sz="1200" spc="-1" strike="noStrike">
                <a:solidFill>
                  <a:srgbClr val="000000"/>
                </a:solidFill>
                <a:latin typeface="Arial"/>
              </a:endParaRPr>
            </a:p>
          </p:txBody>
        </p:sp>
        <p:sp>
          <p:nvSpPr>
            <p:cNvPr id="266" name="Text Box 7"/>
            <p:cNvSpPr/>
            <p:nvPr/>
          </p:nvSpPr>
          <p:spPr>
            <a:xfrm>
              <a:off x="900000" y="2581560"/>
              <a:ext cx="222552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лкое хищение имущества</a:t>
              </a:r>
              <a:endParaRPr b="0" lang="en-US" sz="1200" spc="-1" strike="noStrike">
                <a:solidFill>
                  <a:srgbClr val="000000"/>
                </a:solidFill>
                <a:latin typeface="Arial"/>
              </a:endParaRPr>
            </a:p>
          </p:txBody>
        </p:sp>
        <p:sp>
          <p:nvSpPr>
            <p:cNvPr id="267" name="Text Box 8"/>
            <p:cNvSpPr/>
            <p:nvPr/>
          </p:nvSpPr>
          <p:spPr>
            <a:xfrm>
              <a:off x="3387600" y="2581560"/>
              <a:ext cx="222552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лоупотребление служебным положением</a:t>
              </a:r>
              <a:endParaRPr b="0" lang="en-US" sz="1200" spc="-1" strike="noStrike">
                <a:solidFill>
                  <a:srgbClr val="000000"/>
                </a:solidFill>
                <a:latin typeface="Arial"/>
              </a:endParaRPr>
            </a:p>
          </p:txBody>
        </p:sp>
        <p:sp>
          <p:nvSpPr>
            <p:cNvPr id="268" name="Text Box 9"/>
            <p:cNvSpPr/>
            <p:nvPr/>
          </p:nvSpPr>
          <p:spPr>
            <a:xfrm>
              <a:off x="5875200" y="2581560"/>
              <a:ext cx="222552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вольнение беременной или кормящей матери</a:t>
              </a:r>
              <a:endParaRPr b="0" lang="en-US" sz="1200" spc="-1" strike="noStrike">
                <a:solidFill>
                  <a:srgbClr val="000000"/>
                </a:solidFill>
                <a:latin typeface="Arial"/>
              </a:endParaRPr>
            </a:p>
          </p:txBody>
        </p:sp>
        <p:sp>
          <p:nvSpPr>
            <p:cNvPr id="269" name="Text Box 10"/>
            <p:cNvSpPr/>
            <p:nvPr/>
          </p:nvSpPr>
          <p:spPr>
            <a:xfrm>
              <a:off x="900000" y="365940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евета</a:t>
              </a:r>
              <a:endParaRPr b="0" lang="en-US" sz="1200" spc="-1" strike="noStrike">
                <a:solidFill>
                  <a:srgbClr val="000000"/>
                </a:solidFill>
                <a:latin typeface="Arial"/>
              </a:endParaRPr>
            </a:p>
          </p:txBody>
        </p:sp>
        <p:sp>
          <p:nvSpPr>
            <p:cNvPr id="270" name="Text Box 11"/>
            <p:cNvSpPr/>
            <p:nvPr/>
          </p:nvSpPr>
          <p:spPr>
            <a:xfrm>
              <a:off x="3387600" y="365940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латность</a:t>
              </a:r>
              <a:endParaRPr b="0" lang="en-US" sz="1200" spc="-1" strike="noStrike">
                <a:solidFill>
                  <a:srgbClr val="000000"/>
                </a:solidFill>
                <a:latin typeface="Arial"/>
              </a:endParaRPr>
            </a:p>
          </p:txBody>
        </p:sp>
        <p:sp>
          <p:nvSpPr>
            <p:cNvPr id="271" name="Text Box 12"/>
            <p:cNvSpPr/>
            <p:nvPr/>
          </p:nvSpPr>
          <p:spPr>
            <a:xfrm>
              <a:off x="5875200" y="365940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хищение документов</a:t>
              </a:r>
              <a:endParaRPr b="0" lang="en-US" sz="1200" spc="-1" strike="noStrike">
                <a:solidFill>
                  <a:srgbClr val="000000"/>
                </a:solidFill>
                <a:latin typeface="Arial"/>
              </a:endParaRPr>
            </a:p>
          </p:txBody>
        </p:sp>
        <p:sp>
          <p:nvSpPr>
            <p:cNvPr id="272" name="Text Box 13"/>
            <p:cNvSpPr/>
            <p:nvPr/>
          </p:nvSpPr>
          <p:spPr>
            <a:xfrm>
              <a:off x="900000" y="44679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корбление</a:t>
              </a:r>
              <a:endParaRPr b="0" lang="en-US" sz="1200" spc="-1" strike="noStrike">
                <a:solidFill>
                  <a:srgbClr val="000000"/>
                </a:solidFill>
                <a:latin typeface="Arial"/>
              </a:endParaRPr>
            </a:p>
          </p:txBody>
        </p:sp>
        <p:sp>
          <p:nvSpPr>
            <p:cNvPr id="273" name="Text Box 14"/>
            <p:cNvSpPr/>
            <p:nvPr/>
          </p:nvSpPr>
          <p:spPr>
            <a:xfrm>
              <a:off x="3387600" y="44679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учение или дача взятки</a:t>
              </a:r>
              <a:endParaRPr b="0" lang="en-US" sz="1200" spc="-1" strike="noStrike">
                <a:solidFill>
                  <a:srgbClr val="000000"/>
                </a:solidFill>
                <a:latin typeface="Arial"/>
              </a:endParaRPr>
            </a:p>
          </p:txBody>
        </p:sp>
        <p:sp>
          <p:nvSpPr>
            <p:cNvPr id="274" name="Text Box 15"/>
            <p:cNvSpPr/>
            <p:nvPr/>
          </p:nvSpPr>
          <p:spPr>
            <a:xfrm>
              <a:off x="5875200" y="44679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делка документов</a:t>
              </a:r>
              <a:endParaRPr b="0" lang="en-US" sz="1200" spc="-1" strike="noStrike">
                <a:solidFill>
                  <a:srgbClr val="000000"/>
                </a:solidFill>
                <a:latin typeface="Arial"/>
              </a:endParaRPr>
            </a:p>
          </p:txBody>
        </p:sp>
        <p:sp>
          <p:nvSpPr>
            <p:cNvPr id="275" name="Text Box 16"/>
            <p:cNvSpPr/>
            <p:nvPr/>
          </p:nvSpPr>
          <p:spPr>
            <a:xfrm>
              <a:off x="900000" y="527652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следование за критику</a:t>
              </a:r>
              <a:endParaRPr b="0" lang="en-US" sz="1200" spc="-1" strike="noStrike">
                <a:solidFill>
                  <a:srgbClr val="000000"/>
                </a:solidFill>
                <a:latin typeface="Arial"/>
              </a:endParaRPr>
            </a:p>
          </p:txBody>
        </p:sp>
        <p:sp>
          <p:nvSpPr>
            <p:cNvPr id="276" name="Text Box 17"/>
            <p:cNvSpPr/>
            <p:nvPr/>
          </p:nvSpPr>
          <p:spPr>
            <a:xfrm>
              <a:off x="3387600" y="527652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жностной подлог</a:t>
              </a:r>
              <a:endParaRPr b="0" lang="en-US" sz="1200" spc="-1" strike="noStrike">
                <a:solidFill>
                  <a:srgbClr val="000000"/>
                </a:solidFill>
                <a:latin typeface="Arial"/>
              </a:endParaRPr>
            </a:p>
          </p:txBody>
        </p:sp>
      </p:grpSp>
      <p:sp>
        <p:nvSpPr>
          <p:cNvPr id="2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Локальные нормативные акты</a:t>
            </a: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0000"/>
                </a:solidFill>
                <a:latin typeface="Calibri"/>
              </a:rPr>
              <a:t>Правила внутреннего трудового распорядка </a:t>
            </a:r>
            <a:r>
              <a:rPr b="0" lang="ru-RU" sz="2000" spc="-1" strike="noStrike">
                <a:solidFill>
                  <a:srgbClr val="000000"/>
                </a:solidFill>
                <a:latin typeface="Calibri"/>
              </a:rPr>
              <a:t>регламентируют порядок приема и увольнения работников, время труда и отдыха, основные обязанности сотрудников и администрации, меры поощрения и взыскания.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0000"/>
                </a:solidFill>
                <a:latin typeface="Calibri"/>
              </a:rPr>
              <a:t>Коллективный договор</a:t>
            </a:r>
            <a:r>
              <a:rPr b="0" lang="ru-RU" sz="2000" spc="-1" strike="noStrike">
                <a:solidFill>
                  <a:srgbClr val="000000"/>
                </a:solidFill>
                <a:latin typeface="Calibri"/>
              </a:rPr>
              <a:t> представляет собой соглашение между администрацией и трудовым коллективом, представляемым профсоюзным комитетом, которое регулирует трудовые и социальные отношения. Порядок заключения договора определен законом РФ «О коллективных договорах и соглашениях».</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труктурные подразделения крупных организаций обычно действуют на основе </a:t>
            </a:r>
            <a:r>
              <a:rPr b="1" i="1" lang="ru-RU" sz="2000" spc="-1" strike="noStrike">
                <a:solidFill>
                  <a:srgbClr val="000000"/>
                </a:solidFill>
                <a:latin typeface="Calibri"/>
              </a:rPr>
              <a:t>положений об этих подразделениях</a:t>
            </a:r>
            <a:r>
              <a:rPr b="0" lang="ru-RU" sz="2000" spc="-1" strike="noStrike">
                <a:solidFill>
                  <a:srgbClr val="000000"/>
                </a:solidFill>
                <a:latin typeface="Calibri"/>
              </a:rPr>
              <a:t>, в которых отражены их функции, права, ответственность и обязанности их работников, вопросы взаимодействия с другими подразделениям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0000"/>
                </a:solidFill>
                <a:latin typeface="Calibri"/>
              </a:rPr>
              <a:t>Должностные инструкции </a:t>
            </a:r>
            <a:r>
              <a:rPr b="0" lang="ru-RU" sz="2000" spc="-1" strike="noStrike">
                <a:solidFill>
                  <a:srgbClr val="000000"/>
                </a:solidFill>
                <a:latin typeface="Calibri"/>
              </a:rPr>
              <a:t>должны, как правило, составляться на каждую должность, и при поступлении сотрудника на работу его следует ознакомить под роспись с соответствующей инструкцией. </a:t>
            </a:r>
            <a:endParaRPr b="0" lang="en-US" sz="2000" spc="-1" strike="noStrike">
              <a:solidFill>
                <a:srgbClr val="000000"/>
              </a:solidFill>
              <a:latin typeface="Calibri"/>
            </a:endParaRPr>
          </a:p>
        </p:txBody>
      </p:sp>
      <p:sp>
        <p:nvSpPr>
          <p:cNvPr id="2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Локальные нормативные акты</a:t>
            </a: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Правила и другие локальные нормативные акты должны время от времени пересматриваться, чтобы они не устаревали и соответствовали реальным условиям.</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Целесообразно привлекать подчиненных к пересмотру правил.</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Сам по себе факт обсуждения установленных правил и порядков на производстве напоминает работникам о том, что правила существуют и должны неукоснительно соблюдаться.  </a:t>
            </a: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000000"/>
                </a:solidFill>
                <a:latin typeface="Times New Roman"/>
              </a:rPr>
              <a:t>5.3. Производственная дисциплина</a:t>
            </a:r>
            <a:endParaRPr b="0" lang="en-US" sz="41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роизводственная дисциплина является результатом человеческой активности, призванной направлять сотрудников организации на достижение контролируемых и эффективных результатов.</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нятие дисциплины простирается от внешнего контроля со стороны охраны до самоконтроля со стороны работников, чтобы их собственные внутренние таланты и ресурсы были полностью задействованы на работе, и от угрозы увольнения и осуществления этой угрозы со стороны руководства предприятия до искусства внушения каких-либо принципов и представлений подчиненным.</a:t>
            </a:r>
            <a:endParaRPr b="0" lang="en-US" sz="2100" spc="-1" strike="noStrike">
              <a:solidFill>
                <a:srgbClr val="000000"/>
              </a:solidFill>
              <a:latin typeface="Calibri"/>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8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5.4. Контроль/контроллинг</a:t>
            </a: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571680" indent="-57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онтроль - это процесс обеспечения достижения организацией своих целей. </a:t>
            </a:r>
            <a:endParaRPr b="0" lang="en-US" sz="2200" spc="-1" strike="noStrike">
              <a:solidFill>
                <a:srgbClr val="000000"/>
              </a:solidFill>
              <a:latin typeface="Calibri"/>
            </a:endParaRPr>
          </a:p>
          <a:p>
            <a:pPr marL="571680" indent="-57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роцесс контроля включает:</a:t>
            </a:r>
            <a:r>
              <a:rPr b="1" i="1" lang="ru-RU" sz="2200" spc="-1" strike="noStrike">
                <a:solidFill>
                  <a:srgbClr val="000000"/>
                </a:solidFill>
                <a:latin typeface="Calibri"/>
              </a:rPr>
              <a:t> </a:t>
            </a:r>
            <a:endParaRPr b="0" lang="en-US" sz="2200" spc="-1" strike="noStrike">
              <a:solidFill>
                <a:srgbClr val="000000"/>
              </a:solidFill>
              <a:latin typeface="Calibri"/>
            </a:endParaRPr>
          </a:p>
          <a:p>
            <a:pPr lvl="1" marL="839880" indent="-49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становление стандартов, т.е. точное определение целей, которые должны быть достигнуты за заданный отрезок времени;</a:t>
            </a:r>
            <a:endParaRPr b="0" lang="en-US" sz="1800" spc="-1" strike="noStrike">
              <a:solidFill>
                <a:srgbClr val="000000"/>
              </a:solidFill>
              <a:latin typeface="Calibri"/>
            </a:endParaRPr>
          </a:p>
          <a:p>
            <a:pPr lvl="1" marL="839880" indent="-49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змерение фактически достигнутых результатов и сравнение достигнутого с ожидаемыми результатами. Если обе эти фазы выполнены правильно, то руководство организации не только знает о том, что в организации существует проблема, но и знает источник этой проблемы;</a:t>
            </a:r>
            <a:endParaRPr b="0" lang="en-US" sz="1800" spc="-1" strike="noStrike">
              <a:solidFill>
                <a:srgbClr val="000000"/>
              </a:solidFill>
              <a:latin typeface="Calibri"/>
            </a:endParaRPr>
          </a:p>
          <a:p>
            <a:pPr lvl="1" marL="839880" indent="-49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ведения корректировок в том случае, если достигнутые результаты существенно отличаются от установленных стандартов. Одно из возможных действий - пересмотр целей, чтобы они стали более реалистичными и соответствовали ситуации.</a:t>
            </a:r>
            <a:endParaRPr b="0" lang="en-US" sz="1800" spc="-1" strike="noStrike">
              <a:solidFill>
                <a:srgbClr val="000000"/>
              </a:solidFill>
              <a:latin typeface="Calibri"/>
            </a:endParaRPr>
          </a:p>
        </p:txBody>
      </p:sp>
      <p:sp>
        <p:nvSpPr>
          <p:cNvPr id="28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Контроллинг</a:t>
            </a: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нятие «контроллинг» происходит от английского «</a:t>
            </a:r>
            <a:r>
              <a:rPr b="0" lang="en-US" sz="2800" spc="-1" strike="noStrike">
                <a:solidFill>
                  <a:srgbClr val="000000"/>
                </a:solidFill>
                <a:latin typeface="Calibri"/>
              </a:rPr>
              <a:t>to control</a:t>
            </a:r>
            <a:r>
              <a:rPr b="0" lang="ru-RU" sz="2800" spc="-1" strike="noStrike">
                <a:solidFill>
                  <a:srgbClr val="000000"/>
                </a:solidFill>
                <a:latin typeface="Calibri"/>
              </a:rPr>
              <a:t>», что означает управлять, распоряжаться, контролировать, регулировать, проверять, настраивать, обусловливать, нормировать.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Задачи контроллинга явно выходят за пределы чистого контроля.</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i="1" lang="ru-RU" sz="2800" spc="-1" strike="noStrike">
                <a:solidFill>
                  <a:srgbClr val="000000"/>
                </a:solidFill>
                <a:latin typeface="Calibri"/>
              </a:rPr>
              <a:t>Контроллинг должен обеспечить достижение целей.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Контроллинг</a:t>
            </a:r>
            <a:endParaRPr b="0" lang="en-US" sz="4400" spc="-1" strike="noStrike">
              <a:solidFill>
                <a:srgbClr val="000000"/>
              </a:solidFill>
              <a:latin typeface="Calibri"/>
            </a:endParaRPr>
          </a:p>
        </p:txBody>
      </p:sp>
      <p:grpSp>
        <p:nvGrpSpPr>
          <p:cNvPr id="294" name="Group 5"/>
          <p:cNvGrpSpPr/>
          <p:nvPr/>
        </p:nvGrpSpPr>
        <p:grpSpPr>
          <a:xfrm>
            <a:off x="1042920" y="1557360"/>
            <a:ext cx="7315200" cy="4876560"/>
            <a:chOff x="1042920" y="1557360"/>
            <a:chExt cx="7315200" cy="4876560"/>
          </a:xfrm>
        </p:grpSpPr>
        <p:sp>
          <p:nvSpPr>
            <p:cNvPr id="295" name="Text Box 6"/>
            <p:cNvSpPr/>
            <p:nvPr/>
          </p:nvSpPr>
          <p:spPr>
            <a:xfrm>
              <a:off x="6529320" y="3144960"/>
              <a:ext cx="1828800" cy="34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ероприятия</a:t>
              </a:r>
              <a:endParaRPr b="0" lang="en-US" sz="1600" spc="-1" strike="noStrike">
                <a:solidFill>
                  <a:srgbClr val="000000"/>
                </a:solidFill>
                <a:latin typeface="Arial"/>
              </a:endParaRPr>
            </a:p>
          </p:txBody>
        </p:sp>
        <p:grpSp>
          <p:nvGrpSpPr>
            <p:cNvPr id="296" name="Group 7"/>
            <p:cNvGrpSpPr/>
            <p:nvPr/>
          </p:nvGrpSpPr>
          <p:grpSpPr>
            <a:xfrm>
              <a:off x="1042920" y="1557360"/>
              <a:ext cx="7174080" cy="4876560"/>
              <a:chOff x="1042920" y="1557360"/>
              <a:chExt cx="7174080" cy="4876560"/>
            </a:xfrm>
          </p:grpSpPr>
          <p:sp>
            <p:nvSpPr>
              <p:cNvPr id="297" name="Text Box 8"/>
              <p:cNvSpPr/>
              <p:nvPr/>
            </p:nvSpPr>
            <p:spPr>
              <a:xfrm>
                <a:off x="1042920" y="4732920"/>
                <a:ext cx="182880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актические значения</a:t>
                </a:r>
                <a:endParaRPr b="0" lang="en-US" sz="1600" spc="-1" strike="noStrike">
                  <a:solidFill>
                    <a:srgbClr val="000000"/>
                  </a:solidFill>
                  <a:latin typeface="Arial"/>
                </a:endParaRPr>
              </a:p>
            </p:txBody>
          </p:sp>
          <p:sp>
            <p:nvSpPr>
              <p:cNvPr id="298" name="Text Box 9"/>
              <p:cNvSpPr/>
              <p:nvPr/>
            </p:nvSpPr>
            <p:spPr>
              <a:xfrm>
                <a:off x="3997080" y="1557360"/>
                <a:ext cx="2250720" cy="45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Цели  </a:t>
                </a:r>
                <a:endParaRPr b="0" lang="en-US" sz="1600" spc="-1" strike="noStrike">
                  <a:solidFill>
                    <a:srgbClr val="000000"/>
                  </a:solidFill>
                  <a:latin typeface="Arial"/>
                </a:endParaRPr>
              </a:p>
            </p:txBody>
          </p:sp>
          <p:sp>
            <p:nvSpPr>
              <p:cNvPr id="299" name="Text Box 10"/>
              <p:cNvSpPr/>
              <p:nvPr/>
            </p:nvSpPr>
            <p:spPr>
              <a:xfrm>
                <a:off x="4137480" y="2237760"/>
                <a:ext cx="1969200" cy="34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ланирование</a:t>
                </a:r>
                <a:endParaRPr b="0" lang="en-US" sz="1600" spc="-1" strike="noStrike">
                  <a:solidFill>
                    <a:srgbClr val="000000"/>
                  </a:solidFill>
                  <a:latin typeface="Arial"/>
                </a:endParaRPr>
              </a:p>
            </p:txBody>
          </p:sp>
          <p:sp>
            <p:nvSpPr>
              <p:cNvPr id="300" name="Text Box 11"/>
              <p:cNvSpPr/>
              <p:nvPr/>
            </p:nvSpPr>
            <p:spPr>
              <a:xfrm>
                <a:off x="4278240" y="4732920"/>
                <a:ext cx="1969200" cy="34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ыполнение</a:t>
                </a:r>
                <a:endParaRPr b="0" lang="en-US" sz="1600" spc="-1" strike="noStrike">
                  <a:solidFill>
                    <a:srgbClr val="000000"/>
                  </a:solidFill>
                  <a:latin typeface="Arial"/>
                </a:endParaRPr>
              </a:p>
            </p:txBody>
          </p:sp>
          <p:sp>
            <p:nvSpPr>
              <p:cNvPr id="301" name="AutoShape 12"/>
              <p:cNvSpPr/>
              <p:nvPr/>
            </p:nvSpPr>
            <p:spPr>
              <a:xfrm>
                <a:off x="2449440" y="2237760"/>
                <a:ext cx="1688040" cy="793800"/>
              </a:xfrm>
              <a:custGeom>
                <a:avLst/>
                <a:gdLst>
                  <a:gd name="textAreaLeft" fmla="*/ 970920 w 1688040"/>
                  <a:gd name="textAreaRight" fmla="*/ 1424520 w 1688040"/>
                  <a:gd name="textAreaTop" fmla="*/ 106920 h 793800"/>
                  <a:gd name="textAreaBottom" fmla="*/ 339480 h 7938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AutoShape 13"/>
              <p:cNvSpPr/>
              <p:nvPr/>
            </p:nvSpPr>
            <p:spPr>
              <a:xfrm rot="5562600">
                <a:off x="6553800" y="1914840"/>
                <a:ext cx="793800" cy="1686240"/>
              </a:xfrm>
              <a:custGeom>
                <a:avLst/>
                <a:gdLst>
                  <a:gd name="textAreaLeft" fmla="*/ 456840 w 793800"/>
                  <a:gd name="textAreaRight" fmla="*/ 670320 w 793800"/>
                  <a:gd name="textAreaTop" fmla="*/ 227520 h 1686240"/>
                  <a:gd name="textAreaBottom" fmla="*/ 721800 h 16862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AutoShape 14"/>
              <p:cNvSpPr/>
              <p:nvPr/>
            </p:nvSpPr>
            <p:spPr>
              <a:xfrm rot="10929000">
                <a:off x="6246360" y="3484440"/>
                <a:ext cx="1406520" cy="2041560"/>
              </a:xfrm>
              <a:custGeom>
                <a:avLst/>
                <a:gdLst>
                  <a:gd name="textAreaLeft" fmla="*/ 808920 w 1406520"/>
                  <a:gd name="textAreaRight" fmla="*/ 1186920 w 1406520"/>
                  <a:gd name="textAreaTop" fmla="*/ 274680 h 2041560"/>
                  <a:gd name="textAreaBottom" fmla="*/ 874080 h 20415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AutoShape 15"/>
              <p:cNvSpPr/>
              <p:nvPr/>
            </p:nvSpPr>
            <p:spPr>
              <a:xfrm rot="16192200">
                <a:off x="2641680" y="3323880"/>
                <a:ext cx="1020600" cy="2249640"/>
              </a:xfrm>
              <a:custGeom>
                <a:avLst/>
                <a:gdLst>
                  <a:gd name="textAreaLeft" fmla="*/ 587520 w 1020600"/>
                  <a:gd name="textAreaRight" fmla="*/ 861480 w 1020600"/>
                  <a:gd name="textAreaTop" fmla="*/ 302760 h 2249640"/>
                  <a:gd name="textAreaBottom" fmla="*/ 963000 h 22496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AutoShape 16"/>
              <p:cNvSpPr/>
              <p:nvPr/>
            </p:nvSpPr>
            <p:spPr>
              <a:xfrm>
                <a:off x="4981680" y="2577960"/>
                <a:ext cx="421920" cy="2118600"/>
              </a:xfrm>
              <a:prstGeom prst="downArrow">
                <a:avLst>
                  <a:gd name="adj1" fmla="val 50000"/>
                  <a:gd name="adj2" fmla="val 125533"/>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7"/>
              <p:cNvSpPr/>
              <p:nvPr/>
            </p:nvSpPr>
            <p:spPr>
              <a:xfrm>
                <a:off x="6669720" y="1897560"/>
                <a:ext cx="154728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лановые значения</a:t>
                </a:r>
                <a:endParaRPr b="0" lang="en-US" sz="1600" spc="-1" strike="noStrike">
                  <a:solidFill>
                    <a:srgbClr val="000000"/>
                  </a:solidFill>
                  <a:latin typeface="Arial"/>
                </a:endParaRPr>
              </a:p>
            </p:txBody>
          </p:sp>
          <p:sp>
            <p:nvSpPr>
              <p:cNvPr id="307" name="Text Box 18"/>
              <p:cNvSpPr/>
              <p:nvPr/>
            </p:nvSpPr>
            <p:spPr>
              <a:xfrm>
                <a:off x="1324080" y="2010960"/>
                <a:ext cx="168804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ратная связь</a:t>
                </a:r>
                <a:endParaRPr b="0" lang="en-US" sz="1600" spc="-1" strike="noStrike">
                  <a:solidFill>
                    <a:srgbClr val="000000"/>
                  </a:solidFill>
                  <a:latin typeface="Arial"/>
                </a:endParaRPr>
              </a:p>
            </p:txBody>
          </p:sp>
          <p:sp>
            <p:nvSpPr>
              <p:cNvPr id="308" name="Line 19"/>
              <p:cNvSpPr/>
              <p:nvPr/>
            </p:nvSpPr>
            <p:spPr>
              <a:xfrm>
                <a:off x="4840920" y="2010960"/>
                <a:ext cx="0" cy="22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0"/>
              <p:cNvSpPr/>
              <p:nvPr/>
            </p:nvSpPr>
            <p:spPr>
              <a:xfrm flipV="1">
                <a:off x="5403600" y="2010960"/>
                <a:ext cx="0" cy="22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21"/>
              <p:cNvSpPr/>
              <p:nvPr/>
            </p:nvSpPr>
            <p:spPr>
              <a:xfrm>
                <a:off x="4278240" y="2804760"/>
                <a:ext cx="225072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ешния о корректировках</a:t>
                </a:r>
                <a:endParaRPr b="0" lang="en-US" sz="1600" spc="-1" strike="noStrike">
                  <a:solidFill>
                    <a:srgbClr val="000000"/>
                  </a:solidFill>
                  <a:latin typeface="Arial"/>
                </a:endParaRPr>
              </a:p>
            </p:txBody>
          </p:sp>
          <p:sp>
            <p:nvSpPr>
              <p:cNvPr id="311" name="AutoShape 22"/>
              <p:cNvSpPr/>
              <p:nvPr/>
            </p:nvSpPr>
            <p:spPr>
              <a:xfrm rot="16200000">
                <a:off x="4793400" y="5120640"/>
                <a:ext cx="1360800" cy="1265760"/>
              </a:xfrm>
              <a:custGeom>
                <a:avLst/>
                <a:gdLst>
                  <a:gd name="textAreaLeft" fmla="*/ 782640 w 1360800"/>
                  <a:gd name="textAreaRight" fmla="*/ 1148400 w 1360800"/>
                  <a:gd name="textAreaTop" fmla="*/ 170640 h 1265760"/>
                  <a:gd name="textAreaBottom" fmla="*/ 542160 h 12657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23"/>
              <p:cNvSpPr/>
              <p:nvPr/>
            </p:nvSpPr>
            <p:spPr>
              <a:xfrm>
                <a:off x="5685120" y="5753880"/>
                <a:ext cx="239148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нутренние и внешние помехи</a:t>
                </a:r>
                <a:endParaRPr b="0" lang="en-US" sz="1600" spc="-1" strike="noStrike">
                  <a:solidFill>
                    <a:srgbClr val="000000"/>
                  </a:solidFill>
                  <a:latin typeface="Arial"/>
                </a:endParaRPr>
              </a:p>
            </p:txBody>
          </p:sp>
          <p:sp>
            <p:nvSpPr>
              <p:cNvPr id="313" name="Text Box 24"/>
              <p:cNvSpPr/>
              <p:nvPr/>
            </p:nvSpPr>
            <p:spPr>
              <a:xfrm>
                <a:off x="1042920" y="3031560"/>
                <a:ext cx="3235320" cy="90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нтроллинг </a:t>
                </a:r>
                <a:endParaRPr b="0" lang="en-US" sz="1600" spc="-1" strike="noStrike">
                  <a:solidFill>
                    <a:srgbClr val="000000"/>
                  </a:solidFill>
                  <a:latin typeface="Arial"/>
                </a:endParaRPr>
              </a:p>
              <a:p>
                <a:pPr algn="ctr">
                  <a:lnSpc>
                    <a:spcPct val="100000"/>
                  </a:lnSpc>
                  <a:buClr>
                    <a:srgbClr val="eeece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равнение плана и факта</a:t>
                </a:r>
                <a:endParaRPr b="0" lang="en-US" sz="1600" spc="-1" strike="noStrike">
                  <a:solidFill>
                    <a:srgbClr val="000000"/>
                  </a:solidFill>
                  <a:latin typeface="Arial"/>
                </a:endParaRPr>
              </a:p>
              <a:p>
                <a:pPr algn="ctr">
                  <a:lnSpc>
                    <a:spcPct val="100000"/>
                  </a:lnSpc>
                  <a:buClr>
                    <a:srgbClr val="eeece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нализ отклонений</a:t>
                </a:r>
                <a:endParaRPr b="0" lang="en-US" sz="1600" spc="-1" strike="noStrike">
                  <a:solidFill>
                    <a:srgbClr val="000000"/>
                  </a:solidFill>
                  <a:latin typeface="Arial"/>
                </a:endParaRPr>
              </a:p>
            </p:txBody>
          </p:sp>
        </p:grpSp>
      </p:grpSp>
      <p:sp>
        <p:nvSpPr>
          <p:cNvPr id="3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22050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5.1. Власть, лидерство, управление</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5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понятия</a:t>
            </a: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Управление</a:t>
            </a:r>
            <a:r>
              <a:rPr b="0" lang="ru-RU" sz="1700" spc="-1" strike="noStrike">
                <a:solidFill>
                  <a:srgbClr val="000000"/>
                </a:solidFill>
                <a:latin typeface="Calibri"/>
              </a:rPr>
              <a:t> можно определить как умственный и физический процесс, который приводит к тому, что подчиненные выполняют предписанные им официальные поручения и решают определенные задачи. </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Власть</a:t>
            </a:r>
            <a:r>
              <a:rPr b="0" lang="ru-RU" sz="1700" spc="-1" strike="noStrike">
                <a:solidFill>
                  <a:srgbClr val="000000"/>
                </a:solidFill>
                <a:latin typeface="Calibri"/>
              </a:rPr>
              <a:t> обычно определяется как способность и возможность оказывать определяющее воздействие на деятельность, поведение людей с помощью каких-либо средств – воли, авторитета, права, насилия.</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Полномочия</a:t>
            </a:r>
            <a:r>
              <a:rPr b="0" lang="ru-RU" sz="1700" spc="-1" strike="noStrike">
                <a:solidFill>
                  <a:srgbClr val="000000"/>
                </a:solidFill>
                <a:latin typeface="Calibri"/>
              </a:rPr>
              <a:t> определяются как власть или права, предоставленные кому-нибудь, например, предоставленные должностному лицу или учреждению органами власти.</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Влияние</a:t>
            </a:r>
            <a:r>
              <a:rPr b="0" lang="ru-RU" sz="1700" spc="-1" strike="noStrike">
                <a:solidFill>
                  <a:srgbClr val="000000"/>
                </a:solidFill>
                <a:latin typeface="Calibri"/>
              </a:rPr>
              <a:t> - это любое поведение одного индивида, которое вносит изменения в поведение, отношения, ощущения и т.п. другого индивида. Конкретные средства, с помощью которых одно лицо может влиять на другое, могут быть самыми разнообразными: от просьбы, высказанной шепотом на ухо, до приставленного к горлу ножа. Один человек может также влиять на другого с помощью одних лишь идей. </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Лидерство</a:t>
            </a:r>
            <a:r>
              <a:rPr b="0" lang="ru-RU" sz="1700" spc="-1" strike="noStrike">
                <a:solidFill>
                  <a:srgbClr val="000000"/>
                </a:solidFill>
                <a:latin typeface="Calibri"/>
              </a:rPr>
              <a:t> является процессом, с помощью которого одно лицо оказывает влияние на другое. Лидерство - это способность оказывать влияние на отдельные личности и группы, направляя их усилия на достижение целей организации.   </a:t>
            </a:r>
            <a:endParaRPr b="0" lang="en-US" sz="1700" spc="-1" strike="noStrike">
              <a:solidFill>
                <a:srgbClr val="000000"/>
              </a:solidFill>
              <a:latin typeface="Calibri"/>
            </a:endParaRPr>
          </a:p>
        </p:txBody>
      </p:sp>
      <p:sp>
        <p:nvSpPr>
          <p:cNvPr id="6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Власть и полномочия</a:t>
            </a: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ласть представляет собой реальную способность действовать или возможность влиять на ситуацию. Можно иметь власть, не имея полномочий. Например, управляющий финансами корпорации имеет право и полномочия подписывать чеки и обладает властью или способностью переводить деньги фирмы на свой собственный банковский счет. Однако его полномочия ограничены законными операциями.</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лномочия, другими словами, определяют, что лицо, занимающее какую-то должность, имеет право делать. Власть определяет, что он действительно может делать.</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ичные секретари руководителей высшего ранга часто в состоянии достичь такой власти, которая значительно превышает их формальные полномочия.</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олномочия и обязанности</a:t>
            </a: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лномочия, даваемые законом, представляют менеджерам, как представителям работодателя, права применения власти, которой работодатель обладает как одна из сторон контракта о найме. На работодателя возлагается целый ряд обязанностей, из которых основная – своевременная и в полном соответствии с договором о найме оплата труда. Работодатель обязан также проявлять заботу о здоровье работников и их производственной безопасности, а также проявлять готовность к сотрудничеству с трудовым коллективом.</a:t>
            </a:r>
            <a:endParaRPr b="0" lang="en-US" sz="18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о своей стороны работник должен выполнять законные требования работодателя и не препятствовать осуществлению его коммерческих операций. </a:t>
            </a:r>
            <a:r>
              <a:rPr b="0" lang="ru-RU" sz="1900" spc="-1" strike="noStrike">
                <a:solidFill>
                  <a:srgbClr val="000000"/>
                </a:solidFill>
                <a:latin typeface="Calibri"/>
              </a:rPr>
              <a:t>Требования и ограничения необходимы всегда, а особенно, когда имеются проблемы с идентификацией целей индивидуумов и организации. Требования и ограничения предпочтительно доводить до работника не указывая, что надо сделать, а предупреждая, чего делать нельзя. В этом случае можно ожидать от него творческого подхода, но в ясно очерченных пределах. </a:t>
            </a:r>
            <a:endParaRPr b="0" lang="en-US" sz="1900" spc="-1" strike="noStrike">
              <a:solidFill>
                <a:srgbClr val="000000"/>
              </a:solidFill>
              <a:latin typeface="Calibri"/>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Управляющий и лидер</a:t>
            </a: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1" i="1" lang="ru-RU" sz="2100" spc="-1" strike="noStrike">
                <a:solidFill>
                  <a:srgbClr val="000000"/>
                </a:solidFill>
                <a:latin typeface="Calibri"/>
              </a:rPr>
              <a:t>Лидер</a:t>
            </a:r>
            <a:r>
              <a:rPr b="0" lang="ru-RU" sz="2100" spc="-1" strike="noStrike">
                <a:solidFill>
                  <a:srgbClr val="000000"/>
                </a:solidFill>
                <a:latin typeface="Calibri"/>
              </a:rPr>
              <a:t> (от англ.</a:t>
            </a:r>
            <a:r>
              <a:rPr b="0" lang="en-US" sz="2100" spc="-1" strike="noStrike">
                <a:solidFill>
                  <a:srgbClr val="000000"/>
                </a:solidFill>
                <a:latin typeface="Calibri"/>
              </a:rPr>
              <a:t> leader </a:t>
            </a:r>
            <a:r>
              <a:rPr b="0" lang="ru-RU" sz="2100" spc="-1" strike="noStrike">
                <a:solidFill>
                  <a:srgbClr val="000000"/>
                </a:solidFill>
                <a:latin typeface="Calibri"/>
              </a:rPr>
              <a:t>– ведущий, руководитель) обычно определяется как глава, руководитель политической партии, общества, организации и др. На русском языке смысл, вкладываемый в менеджменте в понятие «лидер», очень близок к понятию «вождь».</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Управляющий становится во главе организации в результате намеренного действия формальной организации - </a:t>
            </a:r>
            <a:r>
              <a:rPr b="1" i="1" lang="ru-RU" sz="2100" spc="-1" strike="noStrike">
                <a:solidFill>
                  <a:srgbClr val="000000"/>
                </a:solidFill>
                <a:latin typeface="Calibri"/>
              </a:rPr>
              <a:t>делегирования полномочий.</a:t>
            </a:r>
            <a:r>
              <a:rPr b="0" lang="ru-RU" sz="2100" spc="-1" strike="noStrike">
                <a:solidFill>
                  <a:srgbClr val="000000"/>
                </a:solidFill>
                <a:latin typeface="Calibri"/>
              </a:rPr>
              <a:t> Лидерами же становятся не по воле организации. Очень часто руководитель является лидером совершенно без всякой привязки к его формальной должности в иерархии. </a:t>
            </a:r>
            <a:endParaRPr b="0" lang="en-US" sz="2100" spc="-1" strike="noStrike">
              <a:solidFill>
                <a:srgbClr val="000000"/>
              </a:solidFill>
              <a:latin typeface="Calibri"/>
            </a:endParaRPr>
          </a:p>
        </p:txBody>
      </p:sp>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Власть и личное влияние</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асть является необходимым условием успешной деятельности организации.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Сколько власти имеет тот или  иной человек в данной ситуации определяется не уровнем его формальных полномочий, а степенью зависимости от другого лица. Чем больше зависимость от другого лица, тем больше власть последнего.</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В</a:t>
            </a:r>
            <a:r>
              <a:rPr b="1" i="1" lang="ru-RU" sz="2100" spc="-1" strike="noStrike">
                <a:solidFill>
                  <a:srgbClr val="000000"/>
                </a:solidFill>
                <a:latin typeface="Calibri"/>
              </a:rPr>
              <a:t> некоторых ситуациях подчиненные имеют власть над руководителем.</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Эффективный руководитель старается поддерживать разумный баланс власти:</a:t>
            </a:r>
            <a:r>
              <a:rPr b="0" lang="ru-RU" sz="2100" spc="-1" strike="noStrike">
                <a:solidFill>
                  <a:srgbClr val="000000"/>
                </a:solidFill>
                <a:latin typeface="Calibri"/>
              </a:rPr>
              <a:t> достаточной для обеспечения достижения целей, но не вызывающий у подчиненных чувства обездоленности и отсюда - непокорности. </a:t>
            </a:r>
            <a:endParaRPr b="0" lang="en-US" sz="2100" spc="-1" strike="noStrike">
              <a:solidFill>
                <a:srgbClr val="000000"/>
              </a:solidFill>
              <a:latin typeface="Calibri"/>
            </a:endParaRPr>
          </a:p>
        </p:txBody>
      </p:sp>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7T05:23:43Z</dcterms:created>
  <dc:creator>dulzon</dc:creator>
  <dc:description/>
  <dc:language>en-US</dc:language>
  <cp:lastModifiedBy>LEGION</cp:lastModifiedBy>
  <dcterms:modified xsi:type="dcterms:W3CDTF">2016-01-11T10:07:46Z</dcterms:modified>
  <cp:revision>7</cp:revision>
  <dc:subject/>
  <dc:title>Национальный исследовательский Томский политехнический университет Институт инженерного предпринимательства  Управление персоналом и организационное поведение 5. Взаимодействие работников организации 6. Обеспечение организации трудовыми ресурсами</dc:title>
</cp:coreProperties>
</file>