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бный курс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организационными изменения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кция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 и школы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кции чита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подаватель Высшей Школы Бизнес-Информа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чикин Арсен Николае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к слушателя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можно противопоставить изменениям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«сейчас», а не «прежде»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Школы управ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чное управл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ическая (административная) школ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Школа человеческих отношени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ка управления, или количественный мето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Школы управл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аучное управл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Классическая (административная) шко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Школа человеческих отнош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аука управления, или количественный мет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Вве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колы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чное управ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ссическая (административная) шко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кола человеческих отнош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ка управления, или количественный мет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чное управл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Использование научного анализа для определения лучших способов выполнения задания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еобходимость отбора работников, лучше всего подходящих для выполнения задач и обеспечения их обучения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ажность обеспечения работников ресурсами. Необходимыми для эффективного выполнения их задач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ажность и правильное использование материального стимулирования для повышения производительности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деление планирования и обдумывания от самой работ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аучное управл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Использование научного анализа для определения лучших способов выполнения зада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еобходимость отбора работников, лучше всего подходящих для выполнения задач и обеспечения их обуч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Важность обеспечения работников ресурсами. Необходимыми для эффективного выполнения их задач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Важность и правильное использование материального стимулирования для повышения производительност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азделение планирования и обдумывания от самой рабо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Вве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чное управлени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Использование научного анализа для определения лучших способов выполнения задания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еобходимость отбора работников, лучше всего подходящих для выполнения задач и обеспечения их обучения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ажность обеспечения работников ресурсами. Необходимыми для эффективного выполнения их задач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ажность и правильное использование материального стимулирования для повышения производительности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деление планирования и обдумывания от самой работы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ическая (административная) школ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витие принципов управления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писание функций управления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истематизация подхода к управлению всей организацией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Классическая (административная) шко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азвитие принципов управл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писание функций управл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Систематизация подхода к управлению всей организаци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Вве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ическая (административная) шко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витие принципов управл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писание функций управл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истематизация подхода к управлению всей орга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Школа человеческих отношени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менение приемов межличностными отношениями для повышения степени удовлетворенности работников и производительности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менение выводов наук о человеческом поведении к управлению и формированию организации таким образом, что бы каждый работник мог быть полностью использован в соответствии с его потенциало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Школа человеческих отнош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применение приемов межличностными отношениями для повышения степени удовлетворенности работников и производительност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Применение выводов наук о человеческом поведении к управлению и формированию организации таким образом, что бы каждый работник мог быть полностью использован в соответствии с его потенциал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Вве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Школа человеческих отнош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менение приемов межличностными отношениями для повышения степени удовлетворенности работников и производитель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менение выводов наук о человеческом поведении к управлению и формированию организации таким образом, что бы каждый работник мог быть полностью использован в соответствии с его потенциал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ка управления, или количественный мето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глубление понимания сложны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ческих проблем благодар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работке и применению моделей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витие количественных методов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нятия решений в сложных ситуациях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аука управления, или количественный мет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глубление понимания сложных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ческих проблем благодар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азработке и применению моделе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азвитие количественных методов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принятия решений в сложных ситуация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Вве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ка управления, или количественный мето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глубление понимания сложных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ческих проблем благодаря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работке и применению моделей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витие количественных методов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нятия решений в сложных ситуациях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ческий и эмоциональный факторы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и кита управления изменениям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рта и этапы теории изменен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Боязнь перемен – нич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равнению с ощущение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ой никчемности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нерал Эрик Шинсе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а объединенного комитета начальников штабов ВС СШ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умать и действовать инач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моции (род информации или ...)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Человеческий и эмоциональный факторы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те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дежная система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рощения монст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Три кита управления изменениям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Увидеть – прочувствовать-изменит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роанализировать – продумать – изменит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етоды изменения повед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амма кур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рта и этапы теории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альные и неформальные признаки сист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ы и фазы Soft System Methodology (SSM)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тегии изменен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лософия 6 сиг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инжиниринг бизне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арта теории изменен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ральный дух и уверен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подавлена или чрезмерно акти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ятие решения о начале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ажда перемен достигает критической ма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жини Даниэль Дак, Монстр перемен,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деры начинают разрабатывать план и механизмы обмена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аз от продолжения программы перем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ен результ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Что-то идет не так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фликты, разногласия, промахи и маленькие успех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ение перспектив, стратегия и план находят понимание в коллектив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ст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верка на прочн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стижение ц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жини Даниэль Да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арта теории изменен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ушение людям ощущения необходимости перем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команды реформато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ение перспектив и определение страте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паганда новой концепции будуще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условий для широкого участия сотрудников в преобразован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ение скорых результа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репление достигнутых успехов и углубленных перем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оренение изменений в корпоративной культур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8 этапов процесса изменений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жон П.Котт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терии оценки за кур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7 баллов – активное участие в обсуждении, заданы интересные вопросы. Посещаемость – 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4 баллов – участие в обсуждении, заданы вопросы. Посещаемость – 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 баллов – внимательное прослушивание, без участия в обсуждении, вопросы не заданы. Посещаемость – 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посещаемости &lt; 100% , но &gt; 50% сумма баллов снижается на 3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к слушателя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организации изменяютс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йствительно ли руководители сталкиваются с проблемами новых трансформаций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подразумевается под изменениям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ше мнение о формулировке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Изменения - такая большая проблем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Если внешний мир меняется быстрее вас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 крах вашего бизнеса уже на горизонт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жек Вэл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орость означает укороченный цикл для программ обучения, реструктуризации компаний, разработки и внедрения новых товаров и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орость стимулирует переход к стилю мышления, основанному на инновациях и рис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Экономические и социальные силы, вызывающие кардинальные перемены в организац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обализация рынков и конкурентной борьб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я в технолог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ая экономическая интег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е рынков в передовых стран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шение коммунистических режи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Экономические и социальные силы, вызывающие кардинальные перемены в организац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обализация рынков и конкурентной борьб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е опас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стрение конкурен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растание темпов деловой жиз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е перспекти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рупнение рын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кращение числа барь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9956-E136-418E-82FA-FBEA2AE3B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6D3F-AF90-4463-A0D4-7D4A4918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7D0C-9912-4AFC-BFCF-BF4567385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5F9F-C776-4B06-9E56-A4B1933F7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DF1E-AA29-48CD-868D-50B3C86C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B2CB-094B-4923-902C-E8F3398B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6F3F-BC7E-4630-A7A1-9B755598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C368-7C8F-4740-8DCF-ADE62272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25FA-B362-44D5-8B67-4360481B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C5F2-1E06-4E83-88FE-95CFC87D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0EB7-756E-4732-B512-CF7BF99D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80FE-F536-4BAA-BA6F-B333231D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0693699-9CF6-4845-8545-484704FD33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838080" y="1066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 Unicode MS"/>
              </a:rPr>
              <a:t>Учебный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 Unicode MS"/>
              </a:rPr>
              <a:t>курс</a:t>
            </a:r>
            <a:br>
              <a:rPr sz="2700"/>
            </a:br>
            <a:br>
              <a:rPr sz="2700"/>
            </a:br>
            <a:r>
              <a:rPr b="1" lang="en-GB" sz="3500" spc="-1" strike="noStrike">
                <a:solidFill>
                  <a:srgbClr val="000000"/>
                </a:solidFill>
                <a:latin typeface="Times New Roman"/>
              </a:rPr>
              <a:t>Управление организационными изменениями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371600" y="25909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</a:rPr>
              <a:t>Лекц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Управление изменениями и школы управления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екции читает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реподаватель Высшей Школы Бизнес-Информатики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Чичикин Арсен Николаевич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"/>
          <p:cNvSpPr/>
          <p:nvPr/>
        </p:nvSpPr>
        <p:spPr>
          <a:xfrm>
            <a:off x="571680" y="428760"/>
            <a:ext cx="8157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849240" y="1722600"/>
            <a:ext cx="7543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Вопросы к слушателям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Что можно противопоставить изменениям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Почему «сейчас», а не «прежде»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"/>
          <p:cNvSpPr/>
          <p:nvPr/>
        </p:nvSpPr>
        <p:spPr>
          <a:xfrm>
            <a:off x="785880" y="1801800"/>
            <a:ext cx="7839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Школы управл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учное управл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Классическая (административная) шко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Школа человеческих отноше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ука управления, или количественный мето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571680" y="428760"/>
            <a:ext cx="8157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179280" y="1484280"/>
            <a:ext cx="8713800" cy="49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учное управл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ой вклад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Использование научного анализа для определения лучших способов выполнения задания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Необходимость отбора работников, лучше всего подходящих для выполнения задач и обеспечения их обучения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Важность обеспечения работников ресурсами. Необходимыми для эффективного выполнения их задач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Важность и правильное использование материального стимулирования для повышения производительности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Разделение планирования и обдумывания от самой работы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00040" y="428760"/>
            <a:ext cx="8158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642960" y="1801800"/>
            <a:ext cx="7981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Классическая (административная) шко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ой вклад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Развитие принципов управлен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Описание функций управлен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Систематизация подхода к управлению всей организаци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39640" y="549360"/>
            <a:ext cx="8158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"/>
          <p:cNvSpPr/>
          <p:nvPr/>
        </p:nvSpPr>
        <p:spPr>
          <a:xfrm>
            <a:off x="428760" y="1571760"/>
            <a:ext cx="84294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Школа человеческих отноше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ой вкла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применение приемов межличностными отношениями для повышения степени удовлетворенности работников и производительност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Применение выводов наук о человеческом поведении к управлению и формированию организации таким образом, что бы каждый работник мог быть полностью использован в соответствии с его потенциал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539640" y="549360"/>
            <a:ext cx="8158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"/>
          <p:cNvSpPr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ука управления, или количественный мето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ой вклад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Углубление понимания сложных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управленческих проблем благодаря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разработке и применению моделе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Развитие количественных методов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ринятия решений в сложных ситуация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539640" y="549360"/>
            <a:ext cx="8158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539640" y="692280"/>
            <a:ext cx="80852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95280" y="2017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Человеческий и эмоциональный факторы измене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Три кита управления изменениям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Карта и этапы теории изменени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«Боязнь перемен – ничт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по сравнению с ощущение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собственной никчемности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Генерал Эрик Шинсек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Глава объединенного комитета начальников штабов ВС СШ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Думать и действовать инач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Эмоции (род информации или ...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57200" y="27468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Человеческий и эмоциональный факторы измен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"/>
          <p:cNvSpPr/>
          <p:nvPr/>
        </p:nvSpPr>
        <p:spPr>
          <a:xfrm>
            <a:off x="1154160" y="1730520"/>
            <a:ext cx="7238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Стратег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дежная система управл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Укрощения монст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468360" y="404640"/>
            <a:ext cx="82296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2800"/>
            </a:br>
            <a:r>
              <a:rPr b="0" lang="en-GB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Три кита управления изменениями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/>
          <p:cNvSpPr/>
          <p:nvPr/>
        </p:nvSpPr>
        <p:spPr>
          <a:xfrm>
            <a:off x="1154160" y="1730520"/>
            <a:ext cx="7238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«Увидеть – прочувствовать-изменить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«Проанализировать – продумать – изменить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468360" y="404640"/>
            <a:ext cx="82296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2800"/>
            </a:br>
            <a:r>
              <a:rPr b="0" lang="en-GB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Методы изменения поведения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468360" y="4762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рограмма кур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911160" y="1268280"/>
            <a:ext cx="72723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Карта и этапы теории изменен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Формальные и неформальные признаки систе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ринципы и фазы Soft System Methodology (SSM)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Стратегии изменени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Философия 6 сиг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Реинжиниринг бизне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457200" y="27468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Карта теории изменений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3"/>
          <p:cNvSpPr/>
          <p:nvPr/>
        </p:nvSpPr>
        <p:spPr>
          <a:xfrm>
            <a:off x="457200" y="5867280"/>
            <a:ext cx="822960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4"/>
          <p:cNvSpPr/>
          <p:nvPr/>
        </p:nvSpPr>
        <p:spPr>
          <a:xfrm flipV="1">
            <a:off x="457200" y="1674360"/>
            <a:ext cx="1440" cy="419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 rot="16200000">
            <a:off x="-1644480" y="3549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Моральный дух и уверен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886200" y="5867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457200" y="4800600"/>
            <a:ext cx="137160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8"/>
          <p:cNvSpPr/>
          <p:nvPr/>
        </p:nvSpPr>
        <p:spPr>
          <a:xfrm flipV="1">
            <a:off x="1828800" y="4493880"/>
            <a:ext cx="990720" cy="3078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2819520" y="4495680"/>
            <a:ext cx="761760" cy="6098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0"/>
          <p:cNvSpPr/>
          <p:nvPr/>
        </p:nvSpPr>
        <p:spPr>
          <a:xfrm flipV="1">
            <a:off x="3581280" y="4113360"/>
            <a:ext cx="1143000" cy="993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4724280" y="4114800"/>
            <a:ext cx="22860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12"/>
          <p:cNvSpPr/>
          <p:nvPr/>
        </p:nvSpPr>
        <p:spPr>
          <a:xfrm flipV="1">
            <a:off x="4952880" y="3656160"/>
            <a:ext cx="533520" cy="4600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5486400" y="3657600"/>
            <a:ext cx="22860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14"/>
          <p:cNvSpPr/>
          <p:nvPr/>
        </p:nvSpPr>
        <p:spPr>
          <a:xfrm flipV="1">
            <a:off x="5715000" y="3274560"/>
            <a:ext cx="380880" cy="3841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15"/>
          <p:cNvSpPr/>
          <p:nvPr/>
        </p:nvSpPr>
        <p:spPr>
          <a:xfrm>
            <a:off x="6095880" y="3276720"/>
            <a:ext cx="38124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16"/>
          <p:cNvSpPr/>
          <p:nvPr/>
        </p:nvSpPr>
        <p:spPr>
          <a:xfrm>
            <a:off x="6477120" y="3657600"/>
            <a:ext cx="15228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6629400" y="3657600"/>
            <a:ext cx="45720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18"/>
          <p:cNvSpPr/>
          <p:nvPr/>
        </p:nvSpPr>
        <p:spPr>
          <a:xfrm>
            <a:off x="7086600" y="4191120"/>
            <a:ext cx="15228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19"/>
          <p:cNvSpPr/>
          <p:nvPr/>
        </p:nvSpPr>
        <p:spPr>
          <a:xfrm flipV="1">
            <a:off x="7238880" y="3656160"/>
            <a:ext cx="762120" cy="5364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20"/>
          <p:cNvSpPr/>
          <p:nvPr/>
        </p:nvSpPr>
        <p:spPr>
          <a:xfrm flipV="1">
            <a:off x="8001000" y="2055600"/>
            <a:ext cx="609480" cy="16030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7238880" y="4191120"/>
            <a:ext cx="685800" cy="1295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533520" y="1905120"/>
            <a:ext cx="1447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Организация подавлена или чрезмерно активн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23"/>
          <p:cNvSpPr/>
          <p:nvPr/>
        </p:nvSpPr>
        <p:spPr>
          <a:xfrm>
            <a:off x="1752480" y="2971800"/>
            <a:ext cx="13114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Принятие решения о начале изменени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24"/>
          <p:cNvSpPr/>
          <p:nvPr/>
        </p:nvSpPr>
        <p:spPr>
          <a:xfrm>
            <a:off x="1752480" y="3962520"/>
            <a:ext cx="1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25"/>
          <p:cNvSpPr/>
          <p:nvPr/>
        </p:nvSpPr>
        <p:spPr>
          <a:xfrm>
            <a:off x="2666880" y="1447920"/>
            <a:ext cx="1828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Жажда перемен достигает критической масс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26"/>
          <p:cNvSpPr/>
          <p:nvPr/>
        </p:nvSpPr>
        <p:spPr>
          <a:xfrm>
            <a:off x="2971800" y="28195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Line 27"/>
          <p:cNvSpPr/>
          <p:nvPr/>
        </p:nvSpPr>
        <p:spPr>
          <a:xfrm>
            <a:off x="3581280" y="2819520"/>
            <a:ext cx="180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Line 28"/>
          <p:cNvSpPr/>
          <p:nvPr/>
        </p:nvSpPr>
        <p:spPr>
          <a:xfrm>
            <a:off x="685800" y="3200400"/>
            <a:ext cx="990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29"/>
          <p:cNvSpPr/>
          <p:nvPr/>
        </p:nvSpPr>
        <p:spPr>
          <a:xfrm>
            <a:off x="6260400" y="5943600"/>
            <a:ext cx="232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Джини Даниэль Дак, Монстр перемен, 200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1600200" y="5105520"/>
            <a:ext cx="396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Лидеры начинают разрабатывать план и механизмы обмена информацие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7620120" y="4495680"/>
            <a:ext cx="1523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Отказ от продолжения программы перемен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7308720" y="2057400"/>
            <a:ext cx="130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Получен результ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6095880" y="31240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«Что-то идет не так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5410080" y="3657600"/>
            <a:ext cx="1524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Конфликты, разногласия, промахи и маленькие успех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4267080" y="1905120"/>
            <a:ext cx="245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Видение перспектив, стратегия и план находят понимание в коллектив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36"/>
          <p:cNvSpPr/>
          <p:nvPr/>
        </p:nvSpPr>
        <p:spPr>
          <a:xfrm>
            <a:off x="4191120" y="2971800"/>
            <a:ext cx="2590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37"/>
          <p:cNvSpPr/>
          <p:nvPr/>
        </p:nvSpPr>
        <p:spPr>
          <a:xfrm>
            <a:off x="5105520" y="2971800"/>
            <a:ext cx="144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1154160" y="1801800"/>
            <a:ext cx="7543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Засто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Подготовк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Реализац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Проверка на прочность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Достижение цел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Джини Даниэль Да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468360" y="47628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Карта теории изменений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2"/>
          <p:cNvSpPr/>
          <p:nvPr/>
        </p:nvSpPr>
        <p:spPr>
          <a:xfrm>
            <a:off x="407880" y="17305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Внушение людям ощущения необходимости переме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Создание команды реформатор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Видение перспектив и определение стратег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Пропаганда новой концепции будущег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Создание условий для широкого участия сотрудников в преобразования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Times New Roman"/>
              </a:rPr>
              <a:t>Получение скорых результа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996633"/>
                </a:solidFill>
                <a:latin typeface="Times New Roman"/>
              </a:rPr>
              <a:t>Закрепление достигнутых успехов и углубленных переме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Укоренение изменений в корпоративной культур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79280" y="404640"/>
            <a:ext cx="845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8 этапов процесса изменений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6786720" y="576900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Джон П.Котте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5"/>
          <p:cNvSpPr/>
          <p:nvPr/>
        </p:nvSpPr>
        <p:spPr>
          <a:xfrm>
            <a:off x="560520" y="4092480"/>
            <a:ext cx="8153280" cy="180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560520" y="4473720"/>
            <a:ext cx="8153280" cy="144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7"/>
          <p:cNvSpPr/>
          <p:nvPr/>
        </p:nvSpPr>
        <p:spPr>
          <a:xfrm>
            <a:off x="560520" y="5159520"/>
            <a:ext cx="8153280" cy="144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250920" y="404640"/>
            <a:ext cx="86868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Критерии оценки за кур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479520" y="17305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17 баллов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активное участие в обсуждении, заданы интересные вопросы. Посещаемость – 10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14 баллов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участие в обсуждении, заданы вопросы. Посещаемость – 10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11 баллов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внимательное прослушивание, без участия в обсуждении, вопросы не заданы. Посещаемость – 10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ри посещаемости &lt; 100% , но &gt; 50% сумма баллов снижается на 3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395280" y="47628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95280" y="1801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Вопросы к слушателям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Почему организации изменяются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Действительно ли руководители сталкиваются с проблемами новых трансформаций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"/>
          <p:cNvSpPr/>
          <p:nvPr/>
        </p:nvSpPr>
        <p:spPr>
          <a:xfrm>
            <a:off x="395280" y="549360"/>
            <a:ext cx="8302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154160" y="1874880"/>
            <a:ext cx="7086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Что подразумевается под изменениями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"/>
          <p:cNvSpPr/>
          <p:nvPr/>
        </p:nvSpPr>
        <p:spPr>
          <a:xfrm>
            <a:off x="395280" y="620640"/>
            <a:ext cx="8302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468360" y="1946160"/>
            <a:ext cx="82296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Ваше мнение о формулировке: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Изменения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такая большая проблема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395280" y="620640"/>
            <a:ext cx="81583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24000" y="1641600"/>
            <a:ext cx="85341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«Если внешний мир меняется быстрее вас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то крах вашего бизнеса уже на горизонте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Джек Вэл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Скорость означает укороченный цикл для программ обучения, реструктуризации компаний, разработки и внедрения новых товаров и услу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Скорость стимулирует переход к стилю мышления, основанному на инновациях и риск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250920" y="476280"/>
            <a:ext cx="837396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4000"/>
            </a:b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Экономические и социальные силы, вызывающие кардинальные перемены в организация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95280" y="2030400"/>
            <a:ext cx="853452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Глобализация рынков и конкурентной борьб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зменения в технология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Международная экономическая интеграц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Развитие рынков в передовых страна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Крушение коммунистических режим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395280" y="404640"/>
            <a:ext cx="830268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4000"/>
            </a:b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Экономические и социальные силы, вызывающие кардинальные перемены в организация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68360" y="2103480"/>
            <a:ext cx="853452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Глобализация рынков и конкурентной борьб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Новые опас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Обострение конкурен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арастание темпов деловой жизн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Новые перспектив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крупнение рын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Сокращение числа барьер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uprov</dc:creator>
  <dc:description/>
  <dc:language>en-US</dc:language>
  <cp:lastModifiedBy>LEGION</cp:lastModifiedBy>
  <dcterms:modified xsi:type="dcterms:W3CDTF">2016-01-11T10:04:41Z</dcterms:modified>
  <cp:revision>6</cp:revision>
  <dc:subject/>
  <dc:title>Учебный курс Управление организационными изменениями</dc:title>
</cp:coreProperties>
</file>