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-360" y="6948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чебный курс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организационными изменения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екция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 и школы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екции чита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подаватель Высшей Школы Бизнес-Информат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ичикин Арсен Николаеви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ы к слушателя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можно противопоставить изменениям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чему «сейчас», а не «прежде»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Школы управл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Научное управле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лассическая (административная) школ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Школа человеческих отношени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Наука управления, или количественный метод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Введе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Школы управл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Научное управл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Классическая (административная) школ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Школа человеческих отношен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Наука управления, или количественный мето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Введ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колы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учное управл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ассическая (административная) шко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кола человеческих отнош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ука управления, или количественный мет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Научное управле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Использование научного анализа для определения лучших способов выполнения задания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Необходимость отбора работников, лучше всего подходящих для выполнения задач и обеспечения их обучения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ажность обеспечения работников ресурсами. Необходимыми для эффективного выполнения их задач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ажность и правильное использование материального стимулирования для повышения производительности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азделение планирования и обдумывания от самой работы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Введе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Научное управл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Использование научного анализа для определения лучших способов выполнения задани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Необходимость отбора работников, лучше всего подходящих для выполнения задач и обеспечения их обучени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Важность обеспечения работников ресурсами. Необходимыми для эффективного выполнения их задач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Важность и правильное использование материального стимулирования для повышения производительност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Разделение планирования и обдумывания от самой работ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Введ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Научное управлени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Использование научного анализа для определения лучших способов выполнения задания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Необходимость отбора работников, лучше всего подходящих для выполнения задач и обеспечения их обучения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ажность обеспечения работников ресурсами. Необходимыми для эффективного выполнения их задач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ажность и правильное использование материального стимулирования для повышения производительности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азделение планирования и обдумывания от самой работы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Введени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лассическая (административная) школ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азвитие принципов управления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писание функций управления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Систематизация подхода к управлению всей организацией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Введе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Классическая (административная) школ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Развитие принципов управлени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Описание функций управлени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Систематизация подхода к управлению всей организацие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Введ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лассическая (административная) шко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азвитие принципов управле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писание функций управле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Систематизация подхода к управлению всей организаци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В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Школа человеческих отношени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рименение приемов межличностными отношениями для повышения степени удовлетворенности работников и производительности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рименение выводов наук о человеческом поведении к управлению и формированию организации таким образом, что бы каждый работник мог быть полностью использован в соответствии с его потенциало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Введе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Школа человеческих отношен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применение приемов межличностными отношениями для повышения степени удовлетворенности работников и производительност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Применение выводов наук о человеческом поведении к управлению и формированию организации таким образом, что бы каждый работник мог быть полностью использован в соответствии с его потенциало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Введ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Школа человеческих отнош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рименение приемов межличностными отношениями для повышения степени удовлетворенности работников и производительност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рименение выводов наук о человеческом поведении к управлению и формированию организации таким образом, что бы каждый работник мог быть полностью использован в соответствии с его потенциал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В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Наука управления, или количественный метод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глубление понимания сложных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правленческих проблем благодаря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азработке и применению моделей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азвитие количественных методов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ринятия решений в сложных ситуациях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Введе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Наука управления, или количественный мето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-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Углубление понимания сложных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управленческих проблем благодаря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разработке и применению моделей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-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Развитие количественных методов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принятия решений в сложных ситуациях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Введ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Наука управления, или количественный мето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сновной вклад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глубление понимания сложных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правленческих проблем благодаря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азработке и применению моделей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азвитие количественных методов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ринятия решений в сложных ситуациях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правление изменениями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Введени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ловеческий и эмоциональный факторы измен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и кита управления изменениям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рта и этапы теории изменени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Боязнь перемен – ничт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сравнению с ощущение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бственной никчемности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нерал Эрик Шинсек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ава объединенного комитета начальников штабов ВС СШ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умать и действовать инач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моции (род информации или ...)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Человеческий и эмоциональный факторы измен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атег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дежная система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крощения монст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Три кита управления изменениям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Увидеть – прочувствовать-изменить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Проанализировать – продумать – изменить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Методы изменения поведе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грамма кур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рта и этапы теории измен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альные и неформальные признаки систе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ципы и фазы Soft System Methodology (SSM)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атегии изменени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лософия 6 сиг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инжиниринг бизне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арта теории изменени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ральный дух и уверен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рем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ганизация подавлена или чрезмерно актив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ятие решения о начале измен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ажда перемен достигает критической ма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жини Даниэль Дак, Монстр перемен,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деры начинают разрабатывать план и механизмы обмена информа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каз от продолжения программы перем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учен результа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Что-то идет не так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фликты, разногласия, промахи и маленькие успех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ение перспектив, стратегия и план находят понимание в коллектив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ст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ализ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верка на прочност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стижение ц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жини Даниэль Да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арта теории изменени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ушение людям ощущения необходимости перем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дание команды реформато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ение перспектив и определение стратег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паганда новой концепции будущег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дание условий для широкого участия сотрудников в преобразования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учение скорых результа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репление достигнутых успехов и углубленных перем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коренение изменений в корпоративной культур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8 этапов процесса изменений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жон П.Котте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итерии оценки за кур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7 баллов – активное участие в обсуждении, заданы интересные вопросы. Посещаемость – 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4 баллов – участие в обсуждении, заданы вопросы. Посещаемость – 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1 баллов – внимательное прослушивание, без участия в обсуждении, вопросы не заданы. Посещаемость – 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посещаемости &lt; 100% , но &gt; 50% сумма баллов снижается на 3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ы к слушателя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чему организации изменяются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йствительно ли руководители сталкиваются с проблемами новых трансформаций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подразумевается под изменениям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ше мнение о формулировке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Изменения - такая большая проблем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Если внешний мир меняется быстрее вас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 крах вашего бизнеса уже на горизонте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жек Вэл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корость означает укороченный цикл для программ обучения, реструктуризации компаний, разработки и внедрения новых товаров и услу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корость стимулирует переход к стилю мышления, основанному на инновациях и рис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Экономические и социальные силы, вызывающие кардинальные перемены в организация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обализация рынков и конкурентной борьб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ия в технология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ждународная экономическая интегр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витие рынков в передовых стран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шение коммунистических режим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зменения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Экономические и социальные силы, вызывающие кардинальные перемены в организация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обализация рынков и конкурентной борьб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вые опас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стрение конкурен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растание темпов деловой жизн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вые перспектив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крупнение рын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кращение числа барье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6C2E-67B8-48E5-855C-8DC452064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F510-7519-4CB1-9E9E-9AAC7CD03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4B4D-00C3-4BB2-A72E-EA8D7E5B0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D4EC-6E00-4CD0-8A5C-72C407641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8781-C8A7-4E7E-832E-C02C4A6D0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8F44-9838-4D57-85E0-61CE28B30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9EB7-8F01-4154-9191-90418DA43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1C5E-D632-420C-87D3-D5679177E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3EF8-14EC-4FDC-9B02-7F9317DA3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6000-EE46-4229-A65D-5895D02B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8243-AF6F-421B-9AF8-FEC7C6304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0613-8C85-4F68-A1F9-AC011A0FC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CFF2838-A56F-4C9D-835D-906FBB5A36E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5"/>
          <p:cNvSpPr/>
          <p:nvPr/>
        </p:nvSpPr>
        <p:spPr>
          <a:xfrm>
            <a:off x="838080" y="1066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 Unicode MS"/>
              </a:rPr>
              <a:t>Учебный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 Unicode MS"/>
              </a:rPr>
              <a:t>курс</a:t>
            </a:r>
            <a:br>
              <a:rPr sz="2700"/>
            </a:br>
            <a:br>
              <a:rPr sz="2700"/>
            </a:br>
            <a:r>
              <a:rPr b="1" lang="en-GB" sz="3500" spc="-1" strike="noStrike">
                <a:solidFill>
                  <a:srgbClr val="000000"/>
                </a:solidFill>
                <a:latin typeface="Times New Roman"/>
              </a:rPr>
              <a:t>Управление организационными изменениями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1371600" y="2590920"/>
            <a:ext cx="64008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Unicode MS"/>
              </a:rPr>
              <a:t>Лекция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Управление изменениями и школы управления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Лекции читает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Преподаватель Высшей Школы Бизнес-Информатики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Чичикин Арсен Николаевич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2"/>
          <p:cNvSpPr/>
          <p:nvPr/>
        </p:nvSpPr>
        <p:spPr>
          <a:xfrm>
            <a:off x="571680" y="428760"/>
            <a:ext cx="81579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849240" y="1722600"/>
            <a:ext cx="75438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Вопросы к слушателям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Что можно противопоставить изменениям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Почему «сейчас», а не «прежде»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2"/>
          <p:cNvSpPr/>
          <p:nvPr/>
        </p:nvSpPr>
        <p:spPr>
          <a:xfrm>
            <a:off x="785880" y="1801800"/>
            <a:ext cx="7839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Школы управл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Научное управле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Классическая (административная) школ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Школа человеческих отношен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Наука управления, или количественный мето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571680" y="428760"/>
            <a:ext cx="81579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2"/>
          <p:cNvSpPr/>
          <p:nvPr/>
        </p:nvSpPr>
        <p:spPr>
          <a:xfrm>
            <a:off x="179280" y="1484280"/>
            <a:ext cx="8713800" cy="49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Научное управле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Times New Roman"/>
              </a:rPr>
              <a:t>Основной вклад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Использование научного анализа для определения лучших способов выполнения задания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Необходимость отбора работников, лучше всего подходящих для выполнения задач и обеспечения их обучения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Важность обеспечения работников ресурсами. Необходимыми для эффективного выполнения их задач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Важность и правильное использование материального стимулирования для повышения производительности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Разделение планирования и обдумывания от самой работы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500040" y="428760"/>
            <a:ext cx="8158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"/>
          <p:cNvSpPr/>
          <p:nvPr/>
        </p:nvSpPr>
        <p:spPr>
          <a:xfrm>
            <a:off x="642960" y="1801800"/>
            <a:ext cx="79819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Классическая (административная) школ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сновной вклад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Развитие принципов управления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Описание функций управления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Систематизация подхода к управлению всей организацие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539640" y="549360"/>
            <a:ext cx="8158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2"/>
          <p:cNvSpPr/>
          <p:nvPr/>
        </p:nvSpPr>
        <p:spPr>
          <a:xfrm>
            <a:off x="428760" y="1571760"/>
            <a:ext cx="842940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Школа человеческих отношен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сновной вклад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применение приемов межличностными отношениями для повышения степени удовлетворенности работников и производительност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Применение выводов наук о человеческом поведении к управлению и формированию организации таким образом, что бы каждый работник мог быть полностью использован в соответствии с его потенциало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539640" y="549360"/>
            <a:ext cx="8158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"/>
          <p:cNvSpPr/>
          <p:nvPr/>
        </p:nvSpPr>
        <p:spPr>
          <a:xfrm>
            <a:off x="4287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Наука управления, или количественный мето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сновной вклад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Углубление понимания сложных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управленческих проблем благодаря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разработке и применению моделей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Развитие количественных методов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принятия решений в сложных ситуация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539640" y="549360"/>
            <a:ext cx="8158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2"/>
          <p:cNvSpPr/>
          <p:nvPr/>
        </p:nvSpPr>
        <p:spPr>
          <a:xfrm>
            <a:off x="539640" y="692280"/>
            <a:ext cx="80852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395280" y="2017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Человеческий и эмоциональный факторы изменен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Три кита управления изменениям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Карта и этапы теории изменений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«Боязнь перемен – ничт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по сравнению с ощущением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собственной никчемности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Генерал Эрик Шинсеки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Глава объединенного комитета начальников штабов ВС СШ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Думать и действовать инач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Эмоции (род информации или ...)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457200" y="274680"/>
            <a:ext cx="822960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Человеческий и эмоциональный факторы изменен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2"/>
          <p:cNvSpPr/>
          <p:nvPr/>
        </p:nvSpPr>
        <p:spPr>
          <a:xfrm>
            <a:off x="1154160" y="1730520"/>
            <a:ext cx="7238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Стратег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Надежная система управл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Укрощения монстр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468360" y="404640"/>
            <a:ext cx="82296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2800"/>
            </a:br>
            <a:r>
              <a:rPr b="0" lang="en-GB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Три кита управления изменениями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2"/>
          <p:cNvSpPr/>
          <p:nvPr/>
        </p:nvSpPr>
        <p:spPr>
          <a:xfrm>
            <a:off x="1154160" y="1730520"/>
            <a:ext cx="7238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«Увидеть – прочувствовать-изменить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«Проанализировать – продумать – изменить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468360" y="404640"/>
            <a:ext cx="82296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2800"/>
            </a:br>
            <a:r>
              <a:rPr b="0" lang="en-GB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Методы изменения поведения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468360" y="4762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Программа курс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911160" y="1268280"/>
            <a:ext cx="727236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Карта и этапы теории изменени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Формальные и неформальные признаки систем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Принципы и фазы Soft System Methodology (SSM)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Стратегии изменений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Философия 6 сиг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Реинжиниринг бизнес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Заключ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2"/>
          <p:cNvSpPr/>
          <p:nvPr/>
        </p:nvSpPr>
        <p:spPr>
          <a:xfrm>
            <a:off x="457200" y="274680"/>
            <a:ext cx="822960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200"/>
            </a:br>
            <a:r>
              <a:rPr b="0" lang="en-GB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Карта теории изменений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Line 3"/>
          <p:cNvSpPr/>
          <p:nvPr/>
        </p:nvSpPr>
        <p:spPr>
          <a:xfrm>
            <a:off x="457200" y="5867280"/>
            <a:ext cx="822960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Line 4"/>
          <p:cNvSpPr/>
          <p:nvPr/>
        </p:nvSpPr>
        <p:spPr>
          <a:xfrm flipV="1">
            <a:off x="457200" y="1674360"/>
            <a:ext cx="1440" cy="419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5"/>
          <p:cNvSpPr/>
          <p:nvPr/>
        </p:nvSpPr>
        <p:spPr>
          <a:xfrm rot="16200000">
            <a:off x="-1644480" y="35496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Моральный дух и уверенно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3886200" y="58672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Врем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Line 7"/>
          <p:cNvSpPr/>
          <p:nvPr/>
        </p:nvSpPr>
        <p:spPr>
          <a:xfrm>
            <a:off x="457200" y="4800600"/>
            <a:ext cx="1371600" cy="14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Line 8"/>
          <p:cNvSpPr/>
          <p:nvPr/>
        </p:nvSpPr>
        <p:spPr>
          <a:xfrm flipV="1">
            <a:off x="1828800" y="4493880"/>
            <a:ext cx="990720" cy="3078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Line 9"/>
          <p:cNvSpPr/>
          <p:nvPr/>
        </p:nvSpPr>
        <p:spPr>
          <a:xfrm>
            <a:off x="2819520" y="4495680"/>
            <a:ext cx="761760" cy="6098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Line 10"/>
          <p:cNvSpPr/>
          <p:nvPr/>
        </p:nvSpPr>
        <p:spPr>
          <a:xfrm flipV="1">
            <a:off x="3581280" y="4113360"/>
            <a:ext cx="1143000" cy="993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Line 11"/>
          <p:cNvSpPr/>
          <p:nvPr/>
        </p:nvSpPr>
        <p:spPr>
          <a:xfrm>
            <a:off x="4724280" y="4114800"/>
            <a:ext cx="228600" cy="14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Line 12"/>
          <p:cNvSpPr/>
          <p:nvPr/>
        </p:nvSpPr>
        <p:spPr>
          <a:xfrm flipV="1">
            <a:off x="4952880" y="3656160"/>
            <a:ext cx="533520" cy="4600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Line 13"/>
          <p:cNvSpPr/>
          <p:nvPr/>
        </p:nvSpPr>
        <p:spPr>
          <a:xfrm>
            <a:off x="5486400" y="3657600"/>
            <a:ext cx="228600" cy="14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Line 14"/>
          <p:cNvSpPr/>
          <p:nvPr/>
        </p:nvSpPr>
        <p:spPr>
          <a:xfrm flipV="1">
            <a:off x="5715000" y="3274560"/>
            <a:ext cx="380880" cy="3841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Line 15"/>
          <p:cNvSpPr/>
          <p:nvPr/>
        </p:nvSpPr>
        <p:spPr>
          <a:xfrm>
            <a:off x="6095880" y="3276720"/>
            <a:ext cx="38124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Line 16"/>
          <p:cNvSpPr/>
          <p:nvPr/>
        </p:nvSpPr>
        <p:spPr>
          <a:xfrm>
            <a:off x="6477120" y="3657600"/>
            <a:ext cx="152280" cy="14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Line 17"/>
          <p:cNvSpPr/>
          <p:nvPr/>
        </p:nvSpPr>
        <p:spPr>
          <a:xfrm>
            <a:off x="6629400" y="3657600"/>
            <a:ext cx="457200" cy="5335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Line 18"/>
          <p:cNvSpPr/>
          <p:nvPr/>
        </p:nvSpPr>
        <p:spPr>
          <a:xfrm>
            <a:off x="7086600" y="4191120"/>
            <a:ext cx="152280" cy="14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Line 19"/>
          <p:cNvSpPr/>
          <p:nvPr/>
        </p:nvSpPr>
        <p:spPr>
          <a:xfrm flipV="1">
            <a:off x="7238880" y="3656160"/>
            <a:ext cx="762120" cy="5364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Line 20"/>
          <p:cNvSpPr/>
          <p:nvPr/>
        </p:nvSpPr>
        <p:spPr>
          <a:xfrm flipV="1">
            <a:off x="8001000" y="2055600"/>
            <a:ext cx="609480" cy="16030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Line 21"/>
          <p:cNvSpPr/>
          <p:nvPr/>
        </p:nvSpPr>
        <p:spPr>
          <a:xfrm>
            <a:off x="7238880" y="4191120"/>
            <a:ext cx="685800" cy="12952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22"/>
          <p:cNvSpPr/>
          <p:nvPr/>
        </p:nvSpPr>
        <p:spPr>
          <a:xfrm>
            <a:off x="533520" y="1905120"/>
            <a:ext cx="1447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Организация подавлена или чрезмерно активн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23"/>
          <p:cNvSpPr/>
          <p:nvPr/>
        </p:nvSpPr>
        <p:spPr>
          <a:xfrm>
            <a:off x="1752480" y="2971800"/>
            <a:ext cx="131148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Принятие решения о начале изменений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Line 24"/>
          <p:cNvSpPr/>
          <p:nvPr/>
        </p:nvSpPr>
        <p:spPr>
          <a:xfrm>
            <a:off x="1752480" y="3962520"/>
            <a:ext cx="18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25"/>
          <p:cNvSpPr/>
          <p:nvPr/>
        </p:nvSpPr>
        <p:spPr>
          <a:xfrm>
            <a:off x="2666880" y="1447920"/>
            <a:ext cx="1828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Жажда перемен достигает критической массы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Line 26"/>
          <p:cNvSpPr/>
          <p:nvPr/>
        </p:nvSpPr>
        <p:spPr>
          <a:xfrm>
            <a:off x="2971800" y="281952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Line 27"/>
          <p:cNvSpPr/>
          <p:nvPr/>
        </p:nvSpPr>
        <p:spPr>
          <a:xfrm>
            <a:off x="3581280" y="2819520"/>
            <a:ext cx="180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Line 28"/>
          <p:cNvSpPr/>
          <p:nvPr/>
        </p:nvSpPr>
        <p:spPr>
          <a:xfrm>
            <a:off x="685800" y="3200400"/>
            <a:ext cx="990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29"/>
          <p:cNvSpPr/>
          <p:nvPr/>
        </p:nvSpPr>
        <p:spPr>
          <a:xfrm>
            <a:off x="6260400" y="5943600"/>
            <a:ext cx="232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Джини Даниэль Дак, Монстр перемен, 2001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30"/>
          <p:cNvSpPr/>
          <p:nvPr/>
        </p:nvSpPr>
        <p:spPr>
          <a:xfrm>
            <a:off x="1600200" y="5105520"/>
            <a:ext cx="396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Лидеры начинают разрабатывать план и механизмы обмена информацией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31"/>
          <p:cNvSpPr/>
          <p:nvPr/>
        </p:nvSpPr>
        <p:spPr>
          <a:xfrm>
            <a:off x="7620120" y="4495680"/>
            <a:ext cx="1523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Отказ от продолжения программы перемен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32"/>
          <p:cNvSpPr/>
          <p:nvPr/>
        </p:nvSpPr>
        <p:spPr>
          <a:xfrm>
            <a:off x="7308720" y="2057400"/>
            <a:ext cx="1301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Получен результа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33"/>
          <p:cNvSpPr/>
          <p:nvPr/>
        </p:nvSpPr>
        <p:spPr>
          <a:xfrm>
            <a:off x="6095880" y="312408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«Что-то идет не так»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34"/>
          <p:cNvSpPr/>
          <p:nvPr/>
        </p:nvSpPr>
        <p:spPr>
          <a:xfrm>
            <a:off x="5410080" y="3657600"/>
            <a:ext cx="15242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Конфликты, разногласия, промахи и маленькие успех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35"/>
          <p:cNvSpPr/>
          <p:nvPr/>
        </p:nvSpPr>
        <p:spPr>
          <a:xfrm>
            <a:off x="4267080" y="1905120"/>
            <a:ext cx="245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Видение перспектив, стратегия и план находят понимание в коллективе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Line 36"/>
          <p:cNvSpPr/>
          <p:nvPr/>
        </p:nvSpPr>
        <p:spPr>
          <a:xfrm>
            <a:off x="4191120" y="2971800"/>
            <a:ext cx="2590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Line 37"/>
          <p:cNvSpPr/>
          <p:nvPr/>
        </p:nvSpPr>
        <p:spPr>
          <a:xfrm>
            <a:off x="5105520" y="2971800"/>
            <a:ext cx="144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2"/>
          <p:cNvSpPr/>
          <p:nvPr/>
        </p:nvSpPr>
        <p:spPr>
          <a:xfrm>
            <a:off x="1154160" y="1801800"/>
            <a:ext cx="75438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Засто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Подготовк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Реализаци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Проверка на прочность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Достижение цел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r">
              <a:lnSpc>
                <a:spcPct val="100000"/>
              </a:lnSpc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Джини Даниэль Да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468360" y="476280"/>
            <a:ext cx="822960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200"/>
            </a:br>
            <a:r>
              <a:rPr b="0" lang="en-GB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Карта теории изменений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2"/>
          <p:cNvSpPr/>
          <p:nvPr/>
        </p:nvSpPr>
        <p:spPr>
          <a:xfrm>
            <a:off x="407880" y="17305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imes New Roman"/>
              </a:rPr>
              <a:t>Внушение людям ощущения необходимости переме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imes New Roman"/>
              </a:rPr>
              <a:t>Создание команды реформатор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imes New Roman"/>
              </a:rPr>
              <a:t>Видение перспектив и определение стратег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imes New Roman"/>
              </a:rPr>
              <a:t>Пропаганда новой концепции будущего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imes New Roman"/>
              </a:rPr>
              <a:t>Создание условий для широкого участия сотрудников в преобразования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Times New Roman"/>
              </a:rPr>
              <a:t>Получение скорых результат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GB" sz="2400" spc="-1" strike="noStrike">
                <a:solidFill>
                  <a:srgbClr val="996633"/>
                </a:solidFill>
                <a:latin typeface="Times New Roman"/>
              </a:rPr>
              <a:t>Закрепление достигнутых успехов и углубленных переме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Укоренение изменений в корпоративной культур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179280" y="404640"/>
            <a:ext cx="84582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200"/>
            </a:br>
            <a:r>
              <a:rPr b="0" lang="en-GB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8 этапов процесса изменений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6786720" y="5769000"/>
            <a:ext cx="19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Джон П.Котте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Line 5"/>
          <p:cNvSpPr/>
          <p:nvPr/>
        </p:nvSpPr>
        <p:spPr>
          <a:xfrm>
            <a:off x="560520" y="4092480"/>
            <a:ext cx="8153280" cy="180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Line 6"/>
          <p:cNvSpPr/>
          <p:nvPr/>
        </p:nvSpPr>
        <p:spPr>
          <a:xfrm>
            <a:off x="560520" y="4473720"/>
            <a:ext cx="8153280" cy="144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Line 7"/>
          <p:cNvSpPr/>
          <p:nvPr/>
        </p:nvSpPr>
        <p:spPr>
          <a:xfrm>
            <a:off x="560520" y="5159520"/>
            <a:ext cx="8153280" cy="144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2"/>
          <p:cNvSpPr/>
          <p:nvPr/>
        </p:nvSpPr>
        <p:spPr>
          <a:xfrm>
            <a:off x="250920" y="404640"/>
            <a:ext cx="868680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Критерии оценки за кур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479520" y="17305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17 баллов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– активное участие в обсуждении, заданы интересные вопросы. Посещаемость – 100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14 баллов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– участие в обсуждении, заданы вопросы. Посещаемость – 100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11 баллов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– внимательное прослушивание, без участия в обсуждении, вопросы не заданы. Посещаемость – 100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При посещаемости &lt; 100% , но &gt; 50% сумма баллов снижается на 3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2"/>
          <p:cNvSpPr/>
          <p:nvPr/>
        </p:nvSpPr>
        <p:spPr>
          <a:xfrm>
            <a:off x="395280" y="476280"/>
            <a:ext cx="82296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395280" y="1801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Вопросы к слушателям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Почему организации изменяются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Действительно ли руководители сталкиваются с проблемами новых трансформаций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2"/>
          <p:cNvSpPr/>
          <p:nvPr/>
        </p:nvSpPr>
        <p:spPr>
          <a:xfrm>
            <a:off x="395280" y="549360"/>
            <a:ext cx="83026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1154160" y="1874880"/>
            <a:ext cx="7086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Что подразумевается под изменениями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2"/>
          <p:cNvSpPr/>
          <p:nvPr/>
        </p:nvSpPr>
        <p:spPr>
          <a:xfrm>
            <a:off x="395280" y="620640"/>
            <a:ext cx="83026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468360" y="1946160"/>
            <a:ext cx="82296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Ваше мнение о формулировке: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Изменения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такая большая проблема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2"/>
          <p:cNvSpPr/>
          <p:nvPr/>
        </p:nvSpPr>
        <p:spPr>
          <a:xfrm>
            <a:off x="395280" y="620640"/>
            <a:ext cx="81583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3600"/>
            </a:b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324000" y="1641600"/>
            <a:ext cx="8534160" cy="48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«Если внешний мир меняется быстрее вас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то крах вашего бизнеса уже на горизонте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Джек Вэл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Скорость означает укороченный цикл для программ обучения, реструктуризации компаний, разработки и внедрения новых товаров и услуг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Скорость стимулирует переход к стилю мышления, основанному на инновациях и риск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2"/>
          <p:cNvSpPr/>
          <p:nvPr/>
        </p:nvSpPr>
        <p:spPr>
          <a:xfrm>
            <a:off x="250920" y="476280"/>
            <a:ext cx="837396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4000"/>
            </a:br>
            <a:r>
              <a:rPr b="0" lang="en-GB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Экономические и социальные силы, вызывающие кардинальные перемены в организация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395280" y="2030400"/>
            <a:ext cx="8534520" cy="42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Глобализация рынков и конкурентной борьб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Изменения в технология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Международная экономическая интеграц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Развитие рынков в передовых страна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Крушение коммунистических режим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2"/>
          <p:cNvSpPr/>
          <p:nvPr/>
        </p:nvSpPr>
        <p:spPr>
          <a:xfrm>
            <a:off x="395280" y="404640"/>
            <a:ext cx="830268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Times New Roman"/>
              </a:rPr>
              <a:t>Управление изменениями</a:t>
            </a:r>
            <a:br>
              <a:rPr sz="4000"/>
            </a:br>
            <a:r>
              <a:rPr b="0" lang="en-GB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Экономические и социальные силы, вызывающие кардинальные перемены в организация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68360" y="2103480"/>
            <a:ext cx="8534520" cy="42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8040" indent="-608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Глобализация рынков и конкурентной борьб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Новые опасност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Обострение конкуренц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Нарастание темпов деловой жизн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Новые перспектив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Укрупнение рынк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Сокращение числа барьер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uprov</dc:creator>
  <dc:description/>
  <dc:language>en-US</dc:language>
  <cp:lastModifiedBy>LEGION</cp:lastModifiedBy>
  <dcterms:modified xsi:type="dcterms:W3CDTF">2016-01-11T10:04:41Z</dcterms:modified>
  <cp:revision>6</cp:revision>
  <dc:subject/>
  <dc:title>Учебный курс Управление организационными изменениями</dc:title>
</cp:coreProperties>
</file>