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FC56-90C2-4A5C-B128-939323DE90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08E3-28AC-47A5-AC5D-BCD9F3B0EA2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5757-39A5-420F-A83E-E20101B15C1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188D-A113-4BEB-ADF8-C104C43CF11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FCC3-41A6-494C-9306-29D11950FBA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2034-307A-4C18-BAE4-BE8BC7FEDDB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494D-2898-4D7C-AF3F-46886BD2054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DC47-50D2-469A-A546-FCC787F4920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2BD1-E080-443B-ADB2-512FC5DCF32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0A38-859D-4D18-8EBF-9190A3A98DE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8411-EB2F-494D-B00B-1C51FA4BB46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6381-75D2-48B0-9F83-8470349E482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3246-C2A4-45BA-9F84-B0E402ACE5C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AD97-7FDC-4352-8154-BE214A215AE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2C6B-C2FB-4566-A71C-13B5C4B34DA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A1D9-9809-4097-9B05-AD4C0C5E85A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C7DB-5955-45CD-B2AA-40D33D317FA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A744-554D-4EE6-8A18-D16386D3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951-4462-4388-8DF2-1695E335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212-F057-4BC1-B5AD-B1FEE614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36C-A8DD-4F47-9B01-D1189082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C02F-35D4-4124-8B3E-5CF6CCFA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7540-FFB7-4876-A667-7421D33F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BAD5-FDC1-470B-96BB-B390B98E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036B-2616-4267-96FE-77AC48DF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96A3-319D-4AAF-9D42-80D3EBAA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1A74-F5F0-45D3-8DC6-ACAFE6A7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880C-6369-4BB0-9B01-0A0CCB72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BEA-480D-48D6-BC6A-D238F463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02AF-5489-480B-B266-B96AA2A4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3C49-E515-475E-9EB4-34C7FEA4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493-0B27-47AC-B507-08D6D6F6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F4B6-5A7F-46BA-B494-DC7AD422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94CA-125C-4B71-9811-337049A8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D14-42C5-4A48-BE02-E11622D4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89D-8D7C-4E75-B906-59F1095E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818-F70F-4DC1-A250-09069381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B4E-4E5E-44B3-B933-771602B5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ED0-7693-437E-A3A6-C1C73FDC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97D-A430-416D-B956-DF95793D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9CC1-ABD3-45D8-A4C0-1E67516E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DB2-0EFA-4FE8-8591-C7AFC20153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F036-94C6-46E0-AC94-ECD2F65538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16360" y="1827360"/>
            <a:ext cx="396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360" y="1827000"/>
            <a:ext cx="41828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7" descr="Психология и пед"/>
          <p:cNvPicPr/>
          <p:nvPr/>
        </p:nvPicPr>
        <p:blipFill>
          <a:blip r:embed="rId1"/>
          <a:stretch/>
        </p:blipFill>
        <p:spPr>
          <a:xfrm>
            <a:off x="1187280" y="1827360"/>
            <a:ext cx="280836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Псих"/>
          <p:cNvPicPr/>
          <p:nvPr/>
        </p:nvPicPr>
        <p:blipFill>
          <a:blip r:embed="rId1"/>
          <a:stretch/>
        </p:blipFill>
        <p:spPr>
          <a:xfrm>
            <a:off x="1187280" y="1827360"/>
            <a:ext cx="295308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7" descr="психолого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Физика цв"/>
          <p:cNvPicPr/>
          <p:nvPr/>
        </p:nvPicPr>
        <p:blipFill>
          <a:blip r:embed="rId1"/>
          <a:stretch/>
        </p:blipFill>
        <p:spPr>
          <a:xfrm>
            <a:off x="111600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7640" y="1827000"/>
            <a:ext cx="42559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Теория и мет"/>
          <p:cNvPicPr/>
          <p:nvPr/>
        </p:nvPicPr>
        <p:blipFill>
          <a:blip r:embed="rId1"/>
          <a:stretch/>
        </p:blipFill>
        <p:spPr>
          <a:xfrm>
            <a:off x="1042920" y="1844640"/>
            <a:ext cx="286380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82736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История психологии"/>
          <p:cNvPicPr/>
          <p:nvPr/>
        </p:nvPicPr>
        <p:blipFill>
          <a:blip r:embed="rId1"/>
          <a:stretch/>
        </p:blipFill>
        <p:spPr>
          <a:xfrm>
            <a:off x="1187280" y="1827360"/>
            <a:ext cx="324036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00360" y="1827360"/>
            <a:ext cx="418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Практ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01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40360" y="1773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Психол"/>
          <p:cNvPicPr/>
          <p:nvPr/>
        </p:nvPicPr>
        <p:blipFill>
          <a:blip r:embed="rId1"/>
          <a:stretch/>
        </p:blipFill>
        <p:spPr>
          <a:xfrm>
            <a:off x="971640" y="1773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87640" y="1827000"/>
            <a:ext cx="38955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7" descr="Психология деят"/>
          <p:cNvPicPr/>
          <p:nvPr/>
        </p:nvPicPr>
        <p:blipFill>
          <a:blip r:embed="rId1"/>
          <a:stretch/>
        </p:blipFill>
        <p:spPr>
          <a:xfrm>
            <a:off x="1258920" y="182736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7" descr="Психология род"/>
          <p:cNvPicPr/>
          <p:nvPr/>
        </p:nvPicPr>
        <p:blipFill>
          <a:blip r:embed="rId1"/>
          <a:stretch/>
        </p:blipFill>
        <p:spPr>
          <a:xfrm>
            <a:off x="1116000" y="1827360"/>
            <a:ext cx="2951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8920" y="1827360"/>
            <a:ext cx="38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Психология"/>
          <p:cNvPicPr/>
          <p:nvPr/>
        </p:nvPicPr>
        <p:blipFill>
          <a:blip r:embed="rId1"/>
          <a:stretch/>
        </p:blipFill>
        <p:spPr>
          <a:xfrm>
            <a:off x="1332000" y="1827360"/>
            <a:ext cx="287964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Тренииг личностного роста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Основные формы страха"/>
          <p:cNvPicPr/>
          <p:nvPr/>
        </p:nvPicPr>
        <p:blipFill>
          <a:blip r:embed="rId1"/>
          <a:stretch/>
        </p:blipFill>
        <p:spPr>
          <a:xfrm>
            <a:off x="118728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3:42:00Z</dcterms:created>
  <dc:creator>student</dc:creator>
  <dc:description/>
  <dc:language>en-US</dc:language>
  <cp:lastModifiedBy>LEGION</cp:lastModifiedBy>
  <dcterms:modified xsi:type="dcterms:W3CDTF">2014-11-12T08:33:12Z</dcterms:modified>
  <cp:revision>15</cp:revision>
  <dc:subject/>
  <dc:title>Психология</dc:title>
</cp:coreProperties>
</file>