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E0B-15FA-4B5F-AAD4-0002A76F7A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AAB5-DB1E-4880-B94D-A6131C5B437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D36F-CD1D-46C0-9F90-ADE1B71A34F9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BC80-4DF8-4B4E-A3DD-6E0FEB5C0C5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B33-B75E-4DD9-ABC4-701F00D5ECA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AAE1-DBD3-47B0-A2F3-B874158772D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6A51-EFB3-4ACD-9768-70B2861E168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0F6A-F4E6-4BF8-88C2-83CE19EC4B4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FF8B-F697-4293-9D52-4A3F0D80BFD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330C-79C8-44F7-B178-2B5CBFB1DE6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442E-35BB-4A04-A297-3A57D60CB61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16E5-699E-45B8-8FF8-6C0017E956F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85D2-827B-49DA-A6E6-C2DE9B4977C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C1E-BAE5-4C91-BD34-0312BEAF56D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F754-415A-4D32-B27B-892B648C492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90E8-5C10-4A9D-ABEB-53923652F1D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A1CF-E825-44F9-A03B-E231C1FFBA2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EBC-9D53-4EBE-BE1A-A74643C0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A423-ABAA-40BB-9D90-351983BC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2D8-485A-4344-9521-1F34ED98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2CCA-2653-4367-9E31-B1BD48FA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F31F-69CA-4D2B-925E-F6063F14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6AC-D2FC-483F-A24B-DCD302F4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C1AB-77FC-4D52-9C25-D08B24A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9C4DE-C337-4093-A76B-6AFD40F4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8FA-F496-404A-BF6A-837D5D03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4045-1819-4F47-A727-C23EAB54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1D99-5282-4FD9-9EE8-B84C3E5B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FC2-3658-4C0B-9CDC-5633B03D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0B06-C171-426C-B085-24819BE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D4FE-CB8C-49BD-B933-418F6DF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AD17-99C3-4248-970B-3352FC41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7F39-1506-49DB-98E5-5AD33B5B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39C7-02C1-4047-997F-326A73FC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5ED-2A1B-49C0-B664-547924D6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1FA9-AC78-44C3-8F19-24E2A5D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FF5-B369-4A9F-9249-4684DA14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AC9E-B6A1-4E1C-8349-EC09CB7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54B-24BB-415C-82BC-5C68178B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A6AE-F84C-4045-8251-8EE0CF8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ADF-E589-438B-A4FF-6B0C39C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C29A-C4F3-4E67-A34B-AD500FBF1C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3E80-C16A-4251-B776-2AEC4947B0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16360" y="1827360"/>
            <a:ext cx="3967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абунская В. А. и др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затрудненного общения: Теория. Методы. Диагностика. Коррекция: Учеб. пособие для студ. высш. учеб. заведений / В. А. Лабунская, Ю. А. Менджерицкая, Е. Д. Бре-ус. — М.: Издательский центр «Академия», 2001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0694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о затрудненное общение в координатах различных отраслей современной психологии (в плане культурно-психологическом, социально-педагогическом и психофизическом). Проанализированы факторы затрудненного общения, феномен субъекта затрудненного общения. Особое внимание уделено рассмотрению причин затрудненного профессионального общ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может быть полезна практическим, психологам, научным работникам, интересующимся этими проблемами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. 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ий практикум: учеб. пособие для студ. высш. учеб. заведений / Д. М. Рамендик, О. В. Одинцова. — М.: Изда­тельский центр «Академия», 2008. — 192 с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258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представлены материалы социально-психологической экспресс-диагностики поведения специалиста сферы социально-культурного сервиса и туризма в процессе взаимодействия с партнерами по общению, его функционально-эмоционального состояния и профессионально-важных качеств. Подробно освещаются вопросы делового общения и этикета. Особое внимание уделяется индивидуальным особенностям поведения человека в конфликтной ситуации, методам разрешения подобны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узов, обучающихся по специальности «Социально-культурный сервис и туризм», преподавателей, психологов, менеджеров, специалистов индустрии сервиса и гостеприимств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Психол"/>
          <p:cNvPicPr/>
          <p:nvPr/>
        </p:nvPicPr>
        <p:blipFill>
          <a:blip r:embed="rId1"/>
          <a:stretch/>
        </p:blipFill>
        <p:spPr>
          <a:xfrm>
            <a:off x="1187280" y="182736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и педагогик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360" y="1827000"/>
            <a:ext cx="4182840" cy="43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астенин В. 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и педагогика : учеб. пособие для студ. высш. учеб. заведений / В. А. Сластенин, В. П. Каширин. — 7-е изд., стер. — М. : Издательский центр «Академия», 2008. — 48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044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ебное пособие знакомит студентов непедагогических специальностей с современной отечественной и зарубежной психологией и педагогикой; рассматриваются, в частности, такие вопросы, как психология личности, малых групп общения, конфликтных отношений, психологические проблемы адаптации специалиста, теоретико-методологические основы педагогики, воспитание и обучение в педагогическом процессе, поддержание психического здоровья, регулирование межличностных отношений; особое внимание уделяется педагогике и психологии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пециалистам разных отраслей, прежде всего тем, кому предстоит работать с людьм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7" descr="Психология и пед"/>
          <p:cNvPicPr/>
          <p:nvPr/>
        </p:nvPicPr>
        <p:blipFill>
          <a:blip r:embed="rId1"/>
          <a:stretch/>
        </p:blipFill>
        <p:spPr>
          <a:xfrm>
            <a:off x="1187280" y="1827360"/>
            <a:ext cx="280836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8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55640" y="1827360"/>
            <a:ext cx="4327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заретян А. П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стихийного массового поведения: Толпа, слухи, политические и рекламные кампании: Учеб. пособие для студ. высш. учеб. заведений. — 2-е изд., перераб. / Акоп Погосович Назаретян. — М.: Издательский центр «Акаде­мия», 2005. - 16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2120-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раскрыты феноменология и закономерности стихийного массового поведения: реакции толпы, массовая паника, распространение слухов, механизмы формирования общественного мнения. Рассмотрены способы управления этими явлениями, в частности технологии ведения рекламных кампаний. Материал представлен в лекционной форме, доступной для широкого круга читате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психологам, политологам, сотрудникам охранных агентств, офицерам МЧС, МВД и ФСБ, специалистам по связям с общественность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Псих"/>
          <p:cNvPicPr/>
          <p:nvPr/>
        </p:nvPicPr>
        <p:blipFill>
          <a:blip r:embed="rId1"/>
          <a:stretch/>
        </p:blipFill>
        <p:spPr>
          <a:xfrm>
            <a:off x="1187280" y="1827360"/>
            <a:ext cx="2953080" cy="411480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: учеб. пособие для студ. высш. учеб. заведений / [Л.С.Подымова, Л.И.Духова, Е.А. Ларина, О.А.Шиян] ; под ред. В.А.Сластёнина. — 4-е изд., стер. — М. : Издательский центр «Академия», 2008. — 22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62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сихолого-педагогический практикум содержит разнообразные психологические и педагогические материалы, позволяющие постичь особенности профессиональной деятельности педагога, познать себя. Для анализа и иллюстрации предлагаются педагогические ситуации, этюды, художественные и научно-популярные тексты, детские сочинения, тесты, иг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ен педагогам-практика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психолого"/>
          <p:cNvPicPr/>
          <p:nvPr/>
        </p:nvPicPr>
        <p:blipFill>
          <a:blip r:embed="rId1"/>
          <a:stretch/>
        </p:blipFill>
        <p:spPr>
          <a:xfrm>
            <a:off x="1187280" y="1827360"/>
            <a:ext cx="309744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итан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лиева Н.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изика цвета и психология зрительного восприятия: учеб. пособие для студ. высш. учеб. заведений / Н.З.Алиева. — М.: Издательский центр «Академия», 2008. — 208 с, [8] с. цв. ил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2772-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ссмотрены вопросы физической природы света, преобразования его в цвет, физиология цветового зрения, основы колориметрии и систематики цветов. Освещены современные научные представления о зрительном восприятии образов, цвета, движения, пространства, а также законы зрительного восприятия, его неоднозначности, неопределенности, парадоксы, иллюзии, использование законов и иллюзий зрительного восприятия в моделировании, дизайне, художественном проектировании, рекламе, брендинг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«Технология и конструирование изделий легкой промышленности». Может быть рекомендовано студентам направлений «Художественное проектирование изделий текстильной и легкой промышленности», «Дизайн»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Физика цв"/>
          <p:cNvPicPr/>
          <p:nvPr/>
        </p:nvPicPr>
        <p:blipFill>
          <a:blip r:embed="rId1"/>
          <a:stretch/>
        </p:blipFill>
        <p:spPr>
          <a:xfrm>
            <a:off x="111600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86920" y="301320"/>
            <a:ext cx="7496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социальный подход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7640" y="1827000"/>
            <a:ext cx="42559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риценко Л. 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ория и методика воспитания : личностно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циальный подход : учеб. пособие для студ. высш. учеб. заведений / Л.И.Гриценко. — 2-е изд., стер. — М. : Издательский центр «Академия», 2008. — 240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786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пособии изложены основы личностно-социальной концепции воспитания, в которой приоритетными являются идеи и традиции отечественной педагогики, рассматриваемые через призму современных научных теорий; воспитание трактуется как целостный процесс, объединяющий социализацию личности и развитие ее индивидуальности в гуманном организованном сообществе (коллективе). Представлены технологические решения реализации идей и принципов данной концеп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педагогических учебных заведений. Может быть полезно школьным педагогам, преподавателям вузов, научным работникам и всем интересующимся вопросами воспит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Теория и мет"/>
          <p:cNvPicPr/>
          <p:nvPr/>
        </p:nvPicPr>
        <p:blipFill>
          <a:blip r:embed="rId1"/>
          <a:stretch/>
        </p:blipFill>
        <p:spPr>
          <a:xfrm>
            <a:off x="1042920" y="1844640"/>
            <a:ext cx="286380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Times New Roman"/>
              </a:rPr>
              <a:t>История психологии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827360"/>
            <a:ext cx="404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арцинковская Т.Д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рия психологии : учебник для студ. высш. учеб. заведений / Т. Д. Марцинковская. - 8-е изд., испр. и доп. - М. : Издательский центр «Академия», 2008. - 544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30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ике раскрываются общие закономерности и характеризуются этапы формирования предмета психологической науки, показаны динамика и логика развития психологических концепций, дана панорама различных взглядов на законы, управляющие поведением человека и процессом познания им внешнего мира, законы становления его личности. История психологической науки раскрывается в контексте общей истории культуры. Впервые предлагается обзор состояния отечественной психологии в конц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I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начале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X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ен всем читателям, интересующимся проблемами психологии и истории наук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7" descr="История психологии"/>
          <p:cNvPicPr/>
          <p:nvPr/>
        </p:nvPicPr>
        <p:blipFill>
          <a:blip r:embed="rId1"/>
          <a:stretch/>
        </p:blipFill>
        <p:spPr>
          <a:xfrm>
            <a:off x="1187280" y="1827360"/>
            <a:ext cx="324036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актикум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о общей психологи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00360" y="1827360"/>
            <a:ext cx="418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зиев В. Б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ктикум по общей психологии : учеб. пособие для студ. высш. учеб. заведений / В. Б.Хозиев. — 4-е изд., стер. — М. : Издательский центр «Академия», 2008. — 27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08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е пособие включены экспериментальные задания, выполнение которых требует творческого осмысления проблемных ситуаций, видоизменения методик, средств представления результатов, процедур обработки данных и т.д. Внелабораторный характер предлагаемых заданий, их приближение к актуальным проблемам бытия, культуры, образования должны способствовать, по замыслу автора, формированию у будущих специалистов зрелой профессиональной пози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направлению и специальностям психолог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7" descr="Практ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3013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40360" y="1773360"/>
            <a:ext cx="4471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ухова Н. Г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ческая помощь в трудных и экстремальных ситуациях : учеб. пособие для студ. высш. учеб. заведений / Н.Г.Осухова. — 3-е изд., стер. — М. : Издательский центр «Академия», 2008. — 28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854-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обие посвящено одной из наиболее актуальных проблем нашего времени — восстановлению и поддержке психического здоровья людей, перенесших глубокую душевную травму. Его особенность — психотерапевтическая направленность. Рассмотрены закономерности переживания кризиса, «спровоцированного» трудными и экстремальными ситуациями, и основные подходы к оказанию психологической помощи человеку в этот период. Представлена авторская модель психологического сопровождения в кризисной ситуации, а также конкретные психотехники для различных этапов оказания помощ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психолого-педагогических вузов. Будет полезна практическим работникам помогающих профессий: психологам, социальным работникам, педагогам, сотрудникам служб социально-психологической помощи населению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Психол"/>
          <p:cNvPicPr/>
          <p:nvPr/>
        </p:nvPicPr>
        <p:blipFill>
          <a:blip r:embed="rId1"/>
          <a:stretch/>
        </p:blipFill>
        <p:spPr>
          <a:xfrm>
            <a:off x="971640" y="1773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87640" y="1827000"/>
            <a:ext cx="38955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деятельности в экстремальных условиях : учеб. пособие для студ. высш. учеб. заведений / [В. Н. Непопалов, В. Ф. Сопов, А. В. Родионов и др.; под ред. А. Н. Блеера]. — М.: Издательский центр «Академия», 2008. — 256 с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I8ВN 978-5-7695-3869-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систематизированы результаты научных исследований и обобщен практический опыт, связанный с психофизиологическими особенностями поведения человека в экстремальных условиях деятельности, в том числе при выполнении специфических задач сотрудниками различных подразделений силовых ведомств России. Показано, как практика спорта высших достижений, трансформированная в стройную систему многолетней подготовки высококвалифицированных спортсменов, может быть с успехом адаптирована к конкретным условиям профессиональной деятельности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учреждений высшего профессионального образования. Будет полезно всем, чья деятельность проходит в экстремальных условия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7" descr="Психология деят"/>
          <p:cNvPicPr/>
          <p:nvPr/>
        </p:nvPicPr>
        <p:blipFill>
          <a:blip r:embed="rId1"/>
          <a:stretch/>
        </p:blipFill>
        <p:spPr>
          <a:xfrm>
            <a:off x="1258920" y="1827360"/>
            <a:ext cx="316872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 родительств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7640" y="1827360"/>
            <a:ext cx="425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вчарова Р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родительства: Учеб. пособие для студ. высш. учеб. заведений. — М.: Издательский центр «Академия», 2005. — 368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5-7695-1916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учебном пособии изложены теоретические основы психологии родительства, описаны факторы, определяющие формирование родительской позиции, и возможные уровни ее развития. В частности, обсуждаются проблемы готовности к материнству и отцовству, пути подготовки молодых родителей к рождению ребенка. Анализируются типы семейного воспитания, особенности воспитания в полных и неполных семьях, тендерные различия родительских стилей воспитания. Рассмотрены технологии пси­хологического сопровождения родительства, его диагностика и коррекц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. Может быть полезно семейным консультантам, детским психологам, социальным работникам, социальным педагогам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7" descr="Психология род"/>
          <p:cNvPicPr/>
          <p:nvPr/>
        </p:nvPicPr>
        <p:blipFill>
          <a:blip r:embed="rId1"/>
          <a:stretch/>
        </p:blipFill>
        <p:spPr>
          <a:xfrm>
            <a:off x="1116000" y="1827360"/>
            <a:ext cx="2951280" cy="41148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сихолог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8920" y="1827360"/>
            <a:ext cx="38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ский А. 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сихология : учебник для студ. высш. учеб. заведений / А.В.Петровский, М.Г.Ярошевский. - 8-е изд., стер. - М. : Издательский центр «Академия», 2008. - 51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5149-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стоящий учебник является продолжением цикла учебников для вузов, вышедших под редакцией А.В.Петровского, - «Общая психология» (1970, 1976, 1977, 1986) и «Введение в психологию» (1995, 1996, 1997), удостоенных в 1997 г. премии Правительства Российской Федерации в области образования. В книге раскрываются предмет, методы, исторический путь развития, а также категории психологии, психические процессы и индивидуально-психологические особенности личност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студентов высших учебных заведений, обучающихся по педагогическим специальностям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7" descr="Психология"/>
          <p:cNvPicPr/>
          <p:nvPr/>
        </p:nvPicPr>
        <p:blipFill>
          <a:blip r:embed="rId1"/>
          <a:stretch/>
        </p:blipFill>
        <p:spPr>
          <a:xfrm>
            <a:off x="1332000" y="1827360"/>
            <a:ext cx="2879640" cy="4114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мендик Д .М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 личностного роста: Учебное пособие. - М.: ФОРУМ: ИНФРА-М, 2008. -176 с. - (Профессиональное образование)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91134-072-8 (Издательство «ФОРУМ»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16-002900-9 (ИНФРА-М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посвящена тренингу личностного роста, включенному в учебный процесс в качестве одного из специальных предметов. В ней кратко изложены теоретические основы тренинга, его этические и организационные принципы, описаны отличия тренинга личностного роста от других форм группового психологического воздействия. Отдельная глава посвящена методам диагностики и развития памяти, приемам саморегуляции и расслабления. Книга может быть использована как учащимися, в программу обучения которых входит тренинг личностного роста, так и всеми, кого интересуют вопросы психологического развития взрослых люд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7" descr="Тренииг личностного роста"/>
          <p:cNvPicPr/>
          <p:nvPr/>
        </p:nvPicPr>
        <p:blipFill>
          <a:blip r:embed="rId1"/>
          <a:stretch/>
        </p:blipFill>
        <p:spPr>
          <a:xfrm>
            <a:off x="1258920" y="1827360"/>
            <a:ext cx="295272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Основные формы страха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1640" y="1827360"/>
            <a:ext cx="411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иман Ф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формы страха : исследование в области глубинной психологии : учеб. пособие для студ. высш. учеб. заве­дений / пер. с нем. Э. Л. Гушанского. — 2-е изд., стер. — М.: Издательский центр «Академия», 2007. — 192 с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SBN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78-5-7695-4137-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нига известного немецкого психолога и психотерапевта Фрица Римана (1902—1979) выдержала 36 изданий в Германии. В ней рассказано о страхах в человеческом существовании, их проявлении у разных людей, в том числе у шизоидных, депрессивных, истерических личностей и лич­ностей с навязчивостями. Материал для книги дала богатая психоаналитическая практика авто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клинических психологов и психотерапевтов, психиатров, а также для всех интересующихся проблемами личностного самосовершенствования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Основные формы страха"/>
          <p:cNvPicPr/>
          <p:nvPr/>
        </p:nvPicPr>
        <p:blipFill>
          <a:blip r:embed="rId1"/>
          <a:stretch/>
        </p:blipFill>
        <p:spPr>
          <a:xfrm>
            <a:off x="1187280" y="1827360"/>
            <a:ext cx="302436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3:42:00Z</dcterms:created>
  <dc:creator>student</dc:creator>
  <dc:description/>
  <dc:language>en-US</dc:language>
  <cp:lastModifiedBy>LEGION</cp:lastModifiedBy>
  <dcterms:modified xsi:type="dcterms:W3CDTF">2014-11-12T08:33:12Z</dcterms:modified>
  <cp:revision>15</cp:revision>
  <dc:subject/>
  <dc:title>Психология</dc:title>
</cp:coreProperties>
</file>