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png" ContentType="image/png"/>
  <Override PartName="/ppt/media/image23.png" ContentType="image/png"/>
  <Override PartName="/ppt/media/image18.gif" ContentType="image/gif"/>
  <Override PartName="/ppt/media/image22.png" ContentType="image/png"/>
  <Override PartName="/ppt/media/image17.gif" ContentType="image/gif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gif" ContentType="image/gif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move the slide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3BB3-0E91-43CE-8A6F-48C1ECE032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реш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реш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индуктивный синтез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мпирический синтез основывается на практической деятельности и, прежде всего, эксперимент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Сотрудники будут формулировать личные интересы, конгруэнтные целям организации, если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диалект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рицание отриц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ереход количества в ка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Диалектический синтез основывается на поиске новой точки зрения, прежде всего нового уровня агрегирования зн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ерменевтический синтез направлен на предложение максимально широкой объясняющей конструкции, учитывающей все возможные интерес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ма 2. 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ee the world in a grain of s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eaven in a wild flower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d Infinity in the palm of your hand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Eternity in an hou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l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Тема 2. 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фор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афор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ческий 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ческий синтез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ин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ы синтез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имер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зис: Сотрудники действуют исходя из личных интересов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нтитезис: Люди в значительной мере подчиняются нормам группы, которой они принадлежат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интез: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: проблема уже есть, цель – решить её как можно скоре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зучать групп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зучать групп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нау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тео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н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 дире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, СЕ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стители п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ение, общая стратегия, SMA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ы и бюджеты, т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и 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, новый взгл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ы (диаграмм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ы (в числ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мент – наука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по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ные теор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тод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актические зн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онсультант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вет дирек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бственник, СЕ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аместители по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енеджеры среднего и низового звен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идение, общая стратегия, SMARTER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зоры (диаграммы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четы (в числах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блюде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отников Михаил Вячеслав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,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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лотников Михаил Вячеславови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сква, 2005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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ще немного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ще немного проблем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открыт суггест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общества и програм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ормирование и дестру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Значе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взаимо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сть и иерарх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х и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дилем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ношение части и цел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уровня агрег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ого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 (мышле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атив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категор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действ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Ест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Хочу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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организовы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поним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стер Барн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Честер Барнард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аймон и Д. Мар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рганизм и координ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Г. Саймон и Д. Марч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ложный биологический организм со специфической структурой и централизованной системой координации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Блау и У. Ско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ормализованная структур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. Блау и У. Скотт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группа людей, обладающих специфической формализованной структурой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Этцио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. Этцион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в соц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е определение организ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Организация в социологи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аше определение организации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аши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Century Gothic"/>
              </a:rPr>
              <a:t>Ваши вопрос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устранении противоречия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1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ход №2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!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я (образ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целях и средствах их достижения: чего конкретно я хочу и как этого достичь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дея (образ)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Цель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редства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тернатив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жел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претации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Альтернатив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Жизненные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состояния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желаний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     цели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ж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о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деньги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свой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$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формулирова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УСЛОВИЯ и ЦЕЛЬ: Надо $10000, а есть только 5 рублей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ВОПРОС: Что делать? Кто виноват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ИНСТРУКЦИЮ: Надо продать машину… Что потом?..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АЛЬТЕРНАТИВУ:  Или $10000 или уговорить кредиторов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дождать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ОБЪЕКТИВНОЕ ПРОТИВОРЕЧИЕ субъективных позиций сторон: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редитор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Мы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Интересы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лучить деньги?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Развивать свой бизнес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озиции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$10000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Нет денег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	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Как формулировать проблемы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: как и зач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: как и зачем?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8962-57C3-488B-B4FE-44C7AF91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0C8-29AD-4F18-BF63-0647FF5F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638-5912-4685-9DAA-6C9B2C5F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66EC-CD98-43AD-8FEC-6C95BF9A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F2D8-CB3D-456C-924D-C0EC68EA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1EF56-642D-432C-B30D-6CE529FD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5E8E-CF51-4D52-B9EE-769FE166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2C45-1FE4-464E-9046-BBFA6D16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15B3-4D8E-4690-9C56-50C3EF74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D62C-CED4-4A83-A7E6-E9C242DA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8590-8283-4393-9A4A-A87CA489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D1D-F0D8-4913-AB60-E7BD2227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0EEC7-DEC0-43CE-A028-FC499F84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2623-8EE6-49F3-8249-CCEC23AA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E5D-1597-455A-BB4D-8B4E2B24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30D1-C0B9-4E74-B0D2-B8ABD1825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1EFC-DB5E-4227-8F6E-F1807E2A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73E-732C-4E67-AF8D-1308A34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AC03-4852-4444-9BF6-B2441F04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DBFF-4275-45A5-B536-126AB9E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E760-D7F0-4D23-A09E-4657A66C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82D-03D3-45D2-B8BF-26DD2DF6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8B6-FF66-4A47-B902-BE886D2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169-F647-4CFA-98C1-579F9BE0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entury Gothic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23DF-D84C-4707-8997-CF480FB1B56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Text Box 14"/>
          <p:cNvSpPr/>
          <p:nvPr/>
        </p:nvSpPr>
        <p:spPr>
          <a:xfrm>
            <a:off x="5883840" y="0"/>
            <a:ext cx="33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2005 </a:t>
            </a:r>
            <a:r>
              <a:rPr b="1" lang="ru-RU" sz="1800" spc="-1" strike="noStrike">
                <a:solidFill>
                  <a:srgbClr val="666699"/>
                </a:solidFill>
                <a:latin typeface="Symbol"/>
                <a:ea typeface="Symbol"/>
              </a:rPr>
              <a:t></a:t>
            </a:r>
            <a:r>
              <a:rPr b="1" lang="ru-RU" sz="1800" spc="-1" strike="noStrike">
                <a:solidFill>
                  <a:srgbClr val="666699"/>
                </a:solidFill>
                <a:latin typeface="Century Gothic"/>
              </a:rPr>
              <a:t> Плотников Михаил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5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5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cc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9F3E-0CBD-41F5-8946-07363D9BDF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и попытке решить проблему следует прежде всего обеспечить максимально широкий взгляд на ситуацию – на влияющие силы и факторы, а также их взаимосвяз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5" name="Picture 4" descr="dino_anim"/>
          <p:cNvPicPr/>
          <p:nvPr/>
        </p:nvPicPr>
        <p:blipFill>
          <a:blip r:embed="rId1"/>
          <a:stretch/>
        </p:blipFill>
        <p:spPr>
          <a:xfrm flipH="1">
            <a:off x="6862320" y="4929120"/>
            <a:ext cx="2073240" cy="19288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Трудно понять, что делать, если не знаешь почему и зачем? Правильно поставленная, т.е. системно описанная, проблема дает ответа на оба этих вопроса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Однако не следует забывать задаваться и другими вопросами: а почему именно так? Как иначе? И Зачем мне решать эту проблему?..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92" name="Picture 4" descr="bottle"/>
          <p:cNvPicPr/>
          <p:nvPr/>
        </p:nvPicPr>
        <p:blipFill>
          <a:blip r:embed="rId1"/>
          <a:stretch/>
        </p:blipFill>
        <p:spPr>
          <a:xfrm>
            <a:off x="4083120" y="5253120"/>
            <a:ext cx="1218960" cy="11142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b23"/>
          <p:cNvPicPr/>
          <p:nvPr/>
        </p:nvPicPr>
        <p:blipFill>
          <a:blip r:embed="rId1"/>
          <a:stretch/>
        </p:blipFill>
        <p:spPr>
          <a:xfrm>
            <a:off x="5786280" y="2381400"/>
            <a:ext cx="3532320" cy="390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Как решать проблемы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78988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дним из наиболее действенных способов решения проблем является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индуктивны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снову синтеза составляет попытка преодолеть объективное логическое противоречие проблемы за счет предложения новой формулировки, в которой противоборствующие стороны становятся конгруэнтны (т.е. не противоречащими друг другу)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99" name="Picture 3" descr="679"/>
          <p:cNvPicPr/>
          <p:nvPr/>
        </p:nvPicPr>
        <p:blipFill>
          <a:blip r:embed="rId1"/>
          <a:stretch/>
        </p:blipFill>
        <p:spPr>
          <a:xfrm>
            <a:off x="5286240" y="2421000"/>
            <a:ext cx="4073760" cy="3641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уществует несколько принципиально различных подходов к устранению логического противоречия в процессе синтеза: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мпи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диалек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ерменев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етафор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итическ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047"/>
          <p:cNvPicPr/>
          <p:nvPr/>
        </p:nvPicPr>
        <p:blipFill>
          <a:blip r:embed="rId1"/>
          <a:stretch/>
        </p:blipFill>
        <p:spPr>
          <a:xfrm>
            <a:off x="6027840" y="2357280"/>
            <a:ext cx="3116160" cy="3386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Эмпир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основывается на практической деятельности и, прежде всего, эксперимент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утем проб и ошибок мы ищем такой вариант практики, который как минимум не противоречит обоим положениям теори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ак правило, это достигается за счет поиска и более точного описания необходим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082"/>
          <p:cNvPicPr/>
          <p:nvPr/>
        </p:nvPicPr>
        <p:blipFill>
          <a:blip r:embed="rId1"/>
          <a:stretch/>
        </p:blipFill>
        <p:spPr>
          <a:xfrm>
            <a:off x="5796000" y="3054240"/>
            <a:ext cx="3400560" cy="352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Сотрудники будут формулировать личные интересы, конгруэнтные целям организации, </a:t>
            </a:r>
            <a:r>
              <a:rPr b="0" i="1" lang="ru-RU" sz="1700" spc="-1" strike="noStrike">
                <a:solidFill>
                  <a:srgbClr val="003366"/>
                </a:solidFill>
                <a:latin typeface="Century Gothic"/>
              </a:rPr>
              <a:t>если</a:t>
            </a:r>
            <a:r>
              <a:rPr b="0" lang="ru-RU" sz="1700" spc="-1" strike="noStrike">
                <a:solidFill>
                  <a:srgbClr val="003366"/>
                </a:solidFill>
                <a:latin typeface="Century Gothic"/>
              </a:rPr>
              <a:t> они понимают, принимают и разделяют эти цели (повышаем значимость «роли сотрудника»: пробуем провести широкую пропаганду видения и целей организации, выражаем признание за достижение даже незначительных результатов, подчеркиваем значимость общности и дисциплины, критикуем и наказываем отступников, вовлекаем в организационную жизнь друзей и родственников – а потом выдвигаем организационные требования, которые рассматриваются как личностно значимые)</a:t>
            </a:r>
            <a:endParaRPr b="0" lang="en-US" sz="17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733"/>
          <p:cNvPicPr/>
          <p:nvPr/>
        </p:nvPicPr>
        <p:blipFill>
          <a:blip r:embed="rId1"/>
          <a:stretch/>
        </p:blipFill>
        <p:spPr>
          <a:xfrm>
            <a:off x="5997600" y="2529000"/>
            <a:ext cx="3146400" cy="2765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Диалектический синтез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основывается на поиске новой точки зрения, прежде всего нового уровня агрегирования зн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Частные теории верны для частных случаев, а значит и противоречие их также ситуационно обусловлено. Следовательно, для снятия противоречия необходимо сформулировать теорию для более общего класса явл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Законы диалектики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1. Единство и борьба противоположносте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2. Отрицание отрицания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3. Переход количества в качество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определяется множеством различных нередко разнонаправленных сил (единство и борьба). Нормы групп, в которых человек не чувствует собственной причастности имеют второстепенное значение по отношению к личным интересам (отрицание отрицания). Если сотрудник достаточно долго будет демонстрировать одну линию поведения (подкрепляемую удовлетворением личных интересов), то в итоге поведение станет разделяемой нормой, а значит личное вознаграждение станет менее значимым в сравнении со стремлением сохранять традиции организации (переход количества в качество)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Герменевтический синтез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направлен на предложение максимально широкой объясняющей конструкции, учитывающей все возможные интерес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Главная задача герменевтики – поместить противоречие в объяснимые рамки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19" name="Picture 4" descr="b73"/>
          <p:cNvPicPr/>
          <p:nvPr/>
        </p:nvPicPr>
        <p:blipFill>
          <a:blip r:embed="rId1"/>
          <a:stretch/>
        </p:blipFill>
        <p:spPr>
          <a:xfrm>
            <a:off x="5505480" y="2465280"/>
            <a:ext cx="3638520" cy="28958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</a:t>
            </a:r>
            <a:r>
              <a:rPr b="1" lang="en-US" sz="2400" spc="-1" strike="noStrike">
                <a:solidFill>
                  <a:srgbClr val="003366"/>
                </a:solidFill>
                <a:latin typeface="Century Gothic"/>
              </a:rPr>
              <a:t>2</a:t>
            </a: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. 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30240" y="2570040"/>
            <a:ext cx="76280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To see the world in a grain of s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Heaven in a wild flower –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Hold Infinity in the palm of your hand,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entury Gothic"/>
              </a:rPr>
              <a:t>And Eternity in an hour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entury Gothic"/>
              </a:rPr>
              <a:t>William Blake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092"/>
          <p:cNvPicPr/>
          <p:nvPr/>
        </p:nvPicPr>
        <p:blipFill>
          <a:blip r:embed="rId1"/>
          <a:stretch/>
        </p:blipFill>
        <p:spPr>
          <a:xfrm>
            <a:off x="5862600" y="2492280"/>
            <a:ext cx="3281400" cy="37972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Мотивы поведения сотрудников организации различны: они определяются как личными интересами, так и групповыми нормами. Следовательно, хорошая мотивационная программа должна сочетать в себе индивидуальные вознаграждения и подкрепление ( в первую очередь нематериальное – через социальное одобрение) неформальных групповых взаимоотношений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016"/>
          <p:cNvPicPr/>
          <p:nvPr/>
        </p:nvPicPr>
        <p:blipFill>
          <a:blip r:embed="rId1"/>
          <a:stretch/>
        </p:blipFill>
        <p:spPr>
          <a:xfrm>
            <a:off x="5437080" y="2519280"/>
            <a:ext cx="3706920" cy="38908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11488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Метафор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едполагает выбор образа ситуации – метафоры – и попытку решить противоречие на метафоре, а затем перенести его в реаль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ри этом мы можем не получать синтеза на теоретическом уровне, но при этом довольно четко представлять себе что дела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007"/>
          <p:cNvPicPr/>
          <p:nvPr/>
        </p:nvPicPr>
        <p:blipFill>
          <a:blip r:embed="rId1"/>
          <a:stretch/>
        </p:blipFill>
        <p:spPr>
          <a:xfrm>
            <a:off x="6046920" y="2359080"/>
            <a:ext cx="3286080" cy="24382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 Поведение сотрудников в организации похоже на поведение детей в детском саду. Если мы хотим лучше управлять группой маленьких детей, мы должны научиться привлекать их внимание, следить за тем, чтобы они были сытые, здоровые и чтобы у каждого было чем заняться. Следовательно в организации мы должны понять какие групповые нормы лично привлекают сотрудников, обеспечивать удовлетворенность гигиенических факторов и достаточную (но не чрезмерную) рабочую нагрузку. 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428"/>
          <p:cNvPicPr/>
          <p:nvPr/>
        </p:nvPicPr>
        <p:blipFill>
          <a:blip r:embed="rId1"/>
          <a:stretch/>
        </p:blipFill>
        <p:spPr>
          <a:xfrm>
            <a:off x="6146640" y="2338560"/>
            <a:ext cx="3102120" cy="35607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8579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Критический синтез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базируется на попытке поиска принципиально новой точки зрения, исходя из которой противоречие становится малозначимым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от метод исходит из того, что существует множество социальных, а не логических решений проблемы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152"/>
          <p:cNvPicPr/>
          <p:nvPr/>
        </p:nvPicPr>
        <p:blipFill>
          <a:blip r:embed="rId1"/>
          <a:stretch/>
        </p:blipFill>
        <p:spPr>
          <a:xfrm>
            <a:off x="5829480" y="2411280"/>
            <a:ext cx="3314520" cy="33148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Методы синтез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616720" cy="41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имер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Сотрудники действуют исходя из личных интересов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Антитезис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Люди в значительной мере подчиняются нормам группы, которой они принадлежат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Century Gothic"/>
              </a:rPr>
              <a:t>Синтез:</a:t>
            </a: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 Установить с людьми (или аутсорсинг-партнерами) контрактные отношения, предусматривающие сдельную оплату и меру ответственности за выполнение или невыполнение работы. В этом случае нас вообще не интересуют мотивы исполнителей – мы ориентируемся на расценки рынка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Исследование имеет смысл только при наличии проблемы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опрос: какие следствия практики противопоставлять друг другу?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твет: Только те, которые уже противоречат друг другу – «не умножайте сущностей»…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а уже есть, цель – решить её как можно скорее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Проактивное исследование: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проблемы еще нет, но велика вероятность того, что она возникнет. Цель – найти наиболее эффективный способ или наибольше количество способов решения, чтобы реализовать его при необходимости, с учетом возможных условий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активное исследование требует в основном мыслительной работы: попробуйте применить несколько методов синтеза, а затем вторично синтезировать полученные решения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49" name="Picture 4" descr="750"/>
          <p:cNvPicPr/>
          <p:nvPr/>
        </p:nvPicPr>
        <p:blipFill>
          <a:blip r:embed="rId1"/>
          <a:stretch/>
        </p:blipFill>
        <p:spPr>
          <a:xfrm>
            <a:off x="5943600" y="2313000"/>
            <a:ext cx="3200400" cy="33051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Как изучать группы?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503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Проактивное исследование предполагает поиск дополнительной информации – во внешних источниках или за счет экспериментального моделирования ситуации. Например, если вы хотите понять как управлять сотрудником в случае его повышения – попробуйте создать подобную ситуацию – дайте ему соответствующее задание и поместите в соответствующее окружение. Пронаблюдайте следствия, а затем попробуйте синтезировать их с его поведением на предыдущей должности.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53" name="Picture 4" descr="109"/>
          <p:cNvPicPr/>
          <p:nvPr/>
        </p:nvPicPr>
        <p:blipFill>
          <a:blip r:embed="rId1"/>
          <a:stretch/>
        </p:blipFill>
        <p:spPr>
          <a:xfrm>
            <a:off x="5586480" y="2565360"/>
            <a:ext cx="3557520" cy="285120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56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Менеджмент – наука?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7720" y="2441520"/>
            <a:ext cx="2406600" cy="765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Теория по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Уровни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835200" y="3424320"/>
            <a:ext cx="244944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Научные теор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835200" y="4440240"/>
            <a:ext cx="2477880" cy="7650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Метод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865080" y="5405400"/>
            <a:ext cx="2449800" cy="10479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99"/>
                </a:solidFill>
                <a:latin typeface="Century Gothic"/>
              </a:rPr>
              <a:t>Практические зн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811760" y="2428920"/>
            <a:ext cx="3892680" cy="722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Консультант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вет директоров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4808520" y="3611520"/>
            <a:ext cx="3906720" cy="4366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Собственник, СЕО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4808520" y="4613400"/>
            <a:ext cx="3921120" cy="4507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Заместители по…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4838760" y="5635800"/>
            <a:ext cx="3906720" cy="704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Менеджеры среднего и низового звен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6429240" y="4043520"/>
            <a:ext cx="0" cy="5713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3840120" y="4000680"/>
            <a:ext cx="24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Видение, общая стратегия, </a:t>
            </a:r>
            <a:r>
              <a:rPr b="0" lang="en-US" sz="1800" spc="-1" strike="noStrike">
                <a:solidFill>
                  <a:srgbClr val="003366"/>
                </a:solidFill>
                <a:latin typeface="Century Gothic"/>
              </a:rPr>
              <a:t>SMARTER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4" name="Line 14"/>
          <p:cNvSpPr/>
          <p:nvPr/>
        </p:nvSpPr>
        <p:spPr>
          <a:xfrm>
            <a:off x="6416640" y="5073480"/>
            <a:ext cx="0" cy="57168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3244680" y="5087880"/>
            <a:ext cx="35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Планы и бюджеты, тактика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62320" y="5835600"/>
            <a:ext cx="162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Стандарты и нор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7" name="Line 17"/>
          <p:cNvSpPr/>
          <p:nvPr/>
        </p:nvSpPr>
        <p:spPr>
          <a:xfrm>
            <a:off x="6404040" y="6357960"/>
            <a:ext cx="0" cy="48564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6415200" y="3200400"/>
            <a:ext cx="0" cy="41436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3745080" y="3144960"/>
            <a:ext cx="27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Критика, новый взгляд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0" name="Line 20"/>
          <p:cNvSpPr/>
          <p:nvPr/>
        </p:nvSpPr>
        <p:spPr>
          <a:xfrm flipV="1">
            <a:off x="6558120" y="404316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6519960" y="41194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бзоры (диаграммы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6564240" y="51213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Отчеты (в числах)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3" name="Line 23"/>
          <p:cNvSpPr/>
          <p:nvPr/>
        </p:nvSpPr>
        <p:spPr>
          <a:xfrm flipV="1">
            <a:off x="6545160" y="5059080"/>
            <a:ext cx="0" cy="571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4" name="Line 24"/>
          <p:cNvSpPr/>
          <p:nvPr/>
        </p:nvSpPr>
        <p:spPr>
          <a:xfrm flipH="1" flipV="1">
            <a:off x="6573600" y="6343560"/>
            <a:ext cx="14040" cy="48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5" name="Line 25"/>
          <p:cNvSpPr/>
          <p:nvPr/>
        </p:nvSpPr>
        <p:spPr>
          <a:xfrm flipV="1">
            <a:off x="6545160" y="314496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608880" y="6408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Наблюдения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6595920" y="319572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Проблем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8" name="Line 28"/>
          <p:cNvSpPr/>
          <p:nvPr/>
        </p:nvSpPr>
        <p:spPr>
          <a:xfrm flipV="1">
            <a:off x="4451400" y="6297120"/>
            <a:ext cx="396720" cy="18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39" name="Text Box 29"/>
          <p:cNvSpPr/>
          <p:nvPr/>
        </p:nvSpPr>
        <p:spPr>
          <a:xfrm>
            <a:off x="4861080" y="6438960"/>
            <a:ext cx="153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Century Gothic"/>
              </a:rPr>
              <a:t>Результаты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Century Gothic"/>
              </a:rPr>
              <a:t>ТЕОРИЯ ОРГАНИЗАЦ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9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cc"/>
                </a:solidFill>
                <a:latin typeface="Century Gothic"/>
              </a:rPr>
              <a:t>Использование научного знания в менеджменте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3635280" y="4724280"/>
            <a:ext cx="511344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Symbol"/>
                <a:ea typeface="Symbol"/>
              </a:rPr>
              <a:t>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Плотников Михаил Вячеславович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66cc"/>
                </a:solidFill>
                <a:latin typeface="Century Gothic"/>
              </a:rPr>
              <a:t>Москва, 2005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3492360" y="4221000"/>
            <a:ext cx="136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7000"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0066cc"/>
                </a:solidFill>
                <a:latin typeface="Animals 1"/>
                <a:ea typeface="Animals 1"/>
              </a:rPr>
              <a:t></a:t>
            </a:r>
            <a:endParaRPr b="0" lang="en-US" sz="1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Еще немного проблем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3. Философия и теория организации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03160" y="2575080"/>
            <a:ext cx="8105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основные философские проблемы, связанные с организациям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Значение организаций в жизни человека и обще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тика взаимоотношен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Исследование организаций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Значе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аждый из нас состоит членом какой-либо организац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как личность всецело является продуктом обществ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человек открыт суггестии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 общества и программ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личность, идентичность и индивидуальность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формирование и деструкция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Этика взаимоотношен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«Мы в ответе за тех, кого приручили…»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Власть и иерарх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х и зависимость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бман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Манипуляция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Этические дилеммы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4120" y="1060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Исследование организаций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оотношение части и целого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блема уровня агрегиро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организационное научение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278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95280" y="1911240"/>
            <a:ext cx="91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Century Gothic"/>
              </a:rPr>
              <a:t>Тема 4. Организация в фокусе научного исследован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941400" y="2611440"/>
            <a:ext cx="708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803160" y="2575080"/>
            <a:ext cx="8105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Три фундаментальные науки, изучающ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ци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сихолог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276120" indent="-276120">
              <a:buClr>
                <a:srgbClr val="003366"/>
              </a:buClr>
              <a:buSzPct val="75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Экономик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Экономика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озда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аспределе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ерераспределение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бщественного благ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87" name="Picture 6" descr="138"/>
          <p:cNvPicPr/>
          <p:nvPr/>
        </p:nvPicPr>
        <p:blipFill>
          <a:blip r:embed="rId1"/>
          <a:stretch/>
        </p:blipFill>
        <p:spPr>
          <a:xfrm>
            <a:off x="5302080" y="3057480"/>
            <a:ext cx="3841920" cy="333684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Псих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537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вед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мотив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научение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ы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флексия (мышление);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креативность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291" name="Picture 17" descr="046"/>
          <p:cNvPicPr/>
          <p:nvPr/>
        </p:nvPicPr>
        <p:blipFill>
          <a:blip r:embed="rId1"/>
          <a:stretch/>
        </p:blipFill>
        <p:spPr>
          <a:xfrm>
            <a:off x="6257880" y="2863800"/>
            <a:ext cx="2379600" cy="39942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Социология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сновные категор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структура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заимодейств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отношения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лияние,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последствия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grpSp>
        <p:nvGrpSpPr>
          <p:cNvPr id="295" name="Diagram 6"/>
          <p:cNvGrpSpPr/>
          <p:nvPr/>
        </p:nvGrpSpPr>
        <p:grpSpPr>
          <a:xfrm>
            <a:off x="4886640" y="2494800"/>
            <a:ext cx="3138120" cy="2703600"/>
            <a:chOff x="4886640" y="2494800"/>
            <a:chExt cx="3138120" cy="2703600"/>
          </a:xfrm>
        </p:grpSpPr>
        <p:sp>
          <p:nvSpPr>
            <p:cNvPr id="296" name="_s1028"/>
            <p:cNvSpPr/>
            <p:nvPr/>
          </p:nvSpPr>
          <p:spPr>
            <a:xfrm>
              <a:off x="4886640" y="3251520"/>
              <a:ext cx="1947600" cy="1946880"/>
            </a:xfrm>
            <a:prstGeom prst="donut">
              <a:avLst>
                <a:gd name="adj" fmla="val 16666"/>
              </a:avLst>
            </a:prstGeom>
            <a:solidFill>
              <a:srgbClr val="0066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7" name="_s1029"/>
            <p:cNvSpPr/>
            <p:nvPr/>
          </p:nvSpPr>
          <p:spPr>
            <a:xfrm>
              <a:off x="7505640" y="3359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бщество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8" name="_s1030"/>
            <p:cNvSpPr/>
            <p:nvPr/>
          </p:nvSpPr>
          <p:spPr>
            <a:xfrm>
              <a:off x="5211000" y="3575880"/>
              <a:ext cx="1298160" cy="1297800"/>
            </a:xfrm>
            <a:prstGeom prst="donut">
              <a:avLst>
                <a:gd name="adj" fmla="val 25000"/>
              </a:avLst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299" name="_s1031"/>
            <p:cNvSpPr/>
            <p:nvPr/>
          </p:nvSpPr>
          <p:spPr>
            <a:xfrm>
              <a:off x="7505640" y="292716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Организация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0" name="_s1032"/>
            <p:cNvSpPr/>
            <p:nvPr/>
          </p:nvSpPr>
          <p:spPr>
            <a:xfrm>
              <a:off x="5535720" y="3900600"/>
              <a:ext cx="649080" cy="648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1" name="_s1033"/>
            <p:cNvSpPr/>
            <p:nvPr/>
          </p:nvSpPr>
          <p:spPr>
            <a:xfrm>
              <a:off x="7505640" y="2494800"/>
              <a:ext cx="519120" cy="432000"/>
            </a:xfrm>
            <a:noFill/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Century Gothic"/>
                </a:rPr>
                <a:t>Человек</a:t>
              </a: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3763800" y="4762440"/>
            <a:ext cx="1724040" cy="1743120"/>
            <a:chOff x="3763800" y="4762440"/>
            <a:chExt cx="1724040" cy="1743120"/>
          </a:xfrm>
        </p:grpSpPr>
        <p:sp>
          <p:nvSpPr>
            <p:cNvPr id="303" name="Oval 14"/>
            <p:cNvSpPr/>
            <p:nvPr/>
          </p:nvSpPr>
          <p:spPr>
            <a:xfrm>
              <a:off x="3763800" y="4762440"/>
              <a:ext cx="1724040" cy="1743120"/>
            </a:xfrm>
            <a:prstGeom prst="ellipse">
              <a:avLst/>
            </a:prstGeom>
            <a:solidFill>
              <a:srgbClr val="0066cc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4124160" y="5141880"/>
              <a:ext cx="984240" cy="966960"/>
            </a:xfrm>
            <a:prstGeom prst="ellipse">
              <a:avLst/>
            </a:prstGeom>
            <a:solidFill>
              <a:srgbClr val="ffcc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4400280" y="5433840"/>
              <a:ext cx="466920" cy="432000"/>
            </a:xfrm>
            <a:prstGeom prst="ellipse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entury Gothic"/>
              </a:endParaRPr>
            </a:p>
          </p:txBody>
        </p:sp>
      </p:grpSp>
      <p:sp>
        <p:nvSpPr>
          <p:cNvPr id="306" name="Місце для нижнього колонтитула 2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48E-006 L 0.10677 -0.18772 E">
                                      <p:cBhvr>
                                        <p:cTn id="329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959"/>
          <p:cNvPicPr/>
          <p:nvPr/>
        </p:nvPicPr>
        <p:blipFill>
          <a:blip r:embed="rId1"/>
          <a:stretch/>
        </p:blipFill>
        <p:spPr>
          <a:xfrm>
            <a:off x="5848200" y="3421080"/>
            <a:ext cx="3295800" cy="28987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143" name="Picture 4" descr="055"/>
          <p:cNvPicPr/>
          <p:nvPr/>
        </p:nvPicPr>
        <p:blipFill>
          <a:blip r:embed="rId2"/>
          <a:stretch/>
        </p:blipFill>
        <p:spPr>
          <a:xfrm>
            <a:off x="747720" y="3751200"/>
            <a:ext cx="2543040" cy="26672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74800" y="2362320"/>
            <a:ext cx="765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Проблема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– объективное логическое противоречие – несоответствие действительного и желаемого (субъективно мнимого) состояния объекта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Есть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Хочу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45" name="WordArt 6"/>
          <p:cNvSpPr txBox="1"/>
          <p:nvPr/>
        </p:nvSpPr>
        <p:spPr>
          <a:xfrm>
            <a:off x="3876840" y="4245120"/>
            <a:ext cx="1699920" cy="146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entury Gothic"/>
              </a:rPr>
              <a:t>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entury Gothic"/>
              <a:ea typeface="Century Gothic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Организация – это: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Группа людей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Процесс организовывания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Результат – организованное состояние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096720" y="2361960"/>
            <a:ext cx="5434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Century Gothic"/>
              </a:rPr>
              <a:t>Уровни понимания </a:t>
            </a: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ук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Культура;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Стратег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924200"/>
                <a:gridCol w="1922400"/>
                <a:gridCol w="1924200"/>
                <a:gridCol w="1922400"/>
              </a:tblGrid>
              <a:tr h="931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Организац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ук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Культура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ратег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Группа люде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ав и </a:t>
                      </a: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background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нност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Цел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Процесс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Тактика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тиль управлен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Школа стратег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Состояние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Иерархия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Нормы и традиции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66"/>
                          </a:solidFill>
                          <a:latin typeface="Century Gothic"/>
                        </a:rPr>
                        <a:t>Change management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Честер Барнард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вместные действия и коопер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такой вид кооперации людей, который отличается от других социальных групп сознательностью, предсказуемостью и целенаправленностью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1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Г. Саймон и Д. Марч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организм и координация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ложный биологический организм со специфической структурой и централизованной системой координации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П. Блау и У. Скотт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формализованная структура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группа людей, обладающих специфической формализованной структурой.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А. Этциони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(сознательное членство и действие)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Century Gothic"/>
              </a:rPr>
              <a:t>организация</a:t>
            </a: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 - это социальные объединения (или человеческие группы), сознательно конструируемые и реконструируемые для достижения специфических целей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4120" y="10785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Century Gothic"/>
              </a:rPr>
              <a:t>Организация в социологии</a:t>
            </a:r>
            <a:endParaRPr b="0" lang="en-US" sz="48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38080" y="2552760"/>
            <a:ext cx="76932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ше определение организации: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Century Gothic"/>
              </a:rPr>
              <a:t>…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33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cc"/>
                </a:solidFill>
                <a:latin typeface="Century Gothic"/>
              </a:rPr>
              <a:t>Ваши вопросы</a:t>
            </a:r>
            <a:endParaRPr b="0" lang="en-US" sz="5400" spc="-1" strike="noStrike">
              <a:solidFill>
                <a:srgbClr val="0066cc"/>
              </a:solidFill>
              <a:latin typeface="Century Gothic"/>
            </a:endParaRPr>
          </a:p>
        </p:txBody>
      </p:sp>
      <p:pic>
        <p:nvPicPr>
          <p:cNvPr id="332" name="Picture 3" descr="160"/>
          <p:cNvPicPr/>
          <p:nvPr/>
        </p:nvPicPr>
        <p:blipFill>
          <a:blip r:embed="rId1"/>
          <a:stretch/>
        </p:blipFill>
        <p:spPr>
          <a:xfrm>
            <a:off x="2216160" y="2338560"/>
            <a:ext cx="4513320" cy="43383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49"/>
          <p:cNvPicPr/>
          <p:nvPr/>
        </p:nvPicPr>
        <p:blipFill>
          <a:blip r:embed="rId1"/>
          <a:stretch/>
        </p:blipFill>
        <p:spPr>
          <a:xfrm>
            <a:off x="861840" y="3660840"/>
            <a:ext cx="1946520" cy="3021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051"/>
          <p:cNvPicPr/>
          <p:nvPr/>
        </p:nvPicPr>
        <p:blipFill>
          <a:blip r:embed="rId2"/>
          <a:stretch/>
        </p:blipFill>
        <p:spPr>
          <a:xfrm>
            <a:off x="6330960" y="3240000"/>
            <a:ext cx="2352600" cy="3314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76320" y="2362320"/>
            <a:ext cx="75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Решение проблемы состоит в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устранении противоречия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, которое может заключаться как в достижении желаемого состояния, так и в переосмыслении оценки действительного.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1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одход №2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51" name="WordArt 6"/>
          <p:cNvSpPr txBox="1"/>
          <p:nvPr/>
        </p:nvSpPr>
        <p:spPr>
          <a:xfrm>
            <a:off x="4429080" y="4503600"/>
            <a:ext cx="457200" cy="146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49"/>
          <p:cNvPicPr/>
          <p:nvPr/>
        </p:nvPicPr>
        <p:blipFill>
          <a:blip r:embed="rId1"/>
          <a:stretch/>
        </p:blipFill>
        <p:spPr>
          <a:xfrm>
            <a:off x="7867800" y="330120"/>
            <a:ext cx="1012680" cy="15717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94800" cy="42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В первом случае ключевыми становятся вопросы о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целя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 </a:t>
            </a:r>
            <a:r>
              <a:rPr b="1" i="1" lang="ru-RU" sz="2400" spc="-1" strike="noStrike">
                <a:solidFill>
                  <a:srgbClr val="003366"/>
                </a:solidFill>
                <a:latin typeface="Century Gothic"/>
              </a:rPr>
              <a:t>средствах</a:t>
            </a:r>
            <a:r>
              <a:rPr b="0" lang="ru-RU" sz="2400" spc="-1" strike="noStrike">
                <a:solidFill>
                  <a:srgbClr val="003366"/>
                </a:solidFill>
                <a:latin typeface="Century Gothic"/>
              </a:rPr>
              <a:t> их достижения: чего конкретно я хочу и как этого достичь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Идея (образ)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Цель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2400" spc="-1" strike="noStrike">
                <a:solidFill>
                  <a:srgbClr val="0066cc"/>
                </a:solidFill>
                <a:latin typeface="Century Gothic"/>
              </a:rPr>
              <a:t>Средства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56" name="Picture 5" descr="433"/>
          <p:cNvPicPr/>
          <p:nvPr/>
        </p:nvPicPr>
        <p:blipFill>
          <a:blip r:embed="rId2"/>
          <a:stretch/>
        </p:blipFill>
        <p:spPr>
          <a:xfrm>
            <a:off x="3591000" y="3863880"/>
            <a:ext cx="261936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809"/>
          <p:cNvPicPr/>
          <p:nvPr/>
        </p:nvPicPr>
        <p:blipFill>
          <a:blip r:embed="rId3"/>
          <a:stretch/>
        </p:blipFill>
        <p:spPr>
          <a:xfrm>
            <a:off x="5965920" y="4060800"/>
            <a:ext cx="2098440" cy="22557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58" name="Picture 7" descr="959"/>
          <p:cNvPicPr/>
          <p:nvPr/>
        </p:nvPicPr>
        <p:blipFill>
          <a:blip r:embed="rId4"/>
          <a:stretch/>
        </p:blipFill>
        <p:spPr>
          <a:xfrm>
            <a:off x="750960" y="3719520"/>
            <a:ext cx="2778120" cy="2444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526"/>
          <p:cNvPicPr/>
          <p:nvPr/>
        </p:nvPicPr>
        <p:blipFill>
          <a:blip r:embed="rId5"/>
          <a:stretch/>
        </p:blipFill>
        <p:spPr>
          <a:xfrm>
            <a:off x="6053040" y="3517920"/>
            <a:ext cx="2498760" cy="255744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pic>
        <p:nvPicPr>
          <p:cNvPr id="160" name="Picture 9" descr="b15"/>
          <p:cNvPicPr/>
          <p:nvPr/>
        </p:nvPicPr>
        <p:blipFill>
          <a:blip r:embed="rId6"/>
          <a:stretch/>
        </p:blipFill>
        <p:spPr>
          <a:xfrm>
            <a:off x="5823000" y="3457440"/>
            <a:ext cx="3321000" cy="1955880"/>
          </a:xfrm>
          <a:prstGeom prst="rect">
            <a:avLst/>
          </a:prstGeom>
          <a:ln w="3240">
            <a:solidFill>
              <a:srgbClr val="cc99ff"/>
            </a:solidFill>
            <a:miter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051"/>
          <p:cNvPicPr/>
          <p:nvPr/>
        </p:nvPicPr>
        <p:blipFill>
          <a:blip r:embed="rId1"/>
          <a:stretch/>
        </p:blipFill>
        <p:spPr>
          <a:xfrm>
            <a:off x="7780320" y="297000"/>
            <a:ext cx="1468440" cy="206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Century Gothic"/>
              </a:rPr>
              <a:t>Во втором случае вопрос более личный – а зачем вообще мне это (желаемое состояние) надо? Какие есть альтернативы? Как это сделает меня счастливее? 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Интерпретации 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Альтернативы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Жизненные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состояния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желаний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	</a:t>
            </a:r>
            <a:r>
              <a:rPr b="1" lang="ru-RU" sz="1800" spc="-1" strike="noStrike">
                <a:solidFill>
                  <a:srgbClr val="0066cc"/>
                </a:solidFill>
                <a:latin typeface="Century Gothic"/>
              </a:rPr>
              <a:t>      цели</a:t>
            </a:r>
            <a:endParaRPr b="0" lang="en-US" sz="1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65" name="Picture 5" descr="055"/>
          <p:cNvPicPr/>
          <p:nvPr/>
        </p:nvPicPr>
        <p:blipFill>
          <a:blip r:embed="rId2"/>
          <a:stretch/>
        </p:blipFill>
        <p:spPr>
          <a:xfrm>
            <a:off x="785880" y="3316320"/>
            <a:ext cx="1504800" cy="157968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6" name="Picture 6" descr="227"/>
          <p:cNvPicPr/>
          <p:nvPr/>
        </p:nvPicPr>
        <p:blipFill>
          <a:blip r:embed="rId3"/>
          <a:stretch/>
        </p:blipFill>
        <p:spPr>
          <a:xfrm>
            <a:off x="1185840" y="3697200"/>
            <a:ext cx="1522440" cy="19083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7" name="Picture 7" descr="146"/>
          <p:cNvPicPr/>
          <p:nvPr/>
        </p:nvPicPr>
        <p:blipFill>
          <a:blip r:embed="rId4"/>
          <a:stretch/>
        </p:blipFill>
        <p:spPr>
          <a:xfrm>
            <a:off x="1503360" y="3875040"/>
            <a:ext cx="1311120" cy="2104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8" name="Picture 8" descr="959"/>
          <p:cNvPicPr/>
          <p:nvPr/>
        </p:nvPicPr>
        <p:blipFill>
          <a:blip r:embed="rId5"/>
          <a:stretch/>
        </p:blipFill>
        <p:spPr>
          <a:xfrm>
            <a:off x="3665520" y="3352680"/>
            <a:ext cx="1743120" cy="15336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69" name="Picture 9" descr="972"/>
          <p:cNvPicPr/>
          <p:nvPr/>
        </p:nvPicPr>
        <p:blipFill>
          <a:blip r:embed="rId6"/>
          <a:stretch/>
        </p:blipFill>
        <p:spPr>
          <a:xfrm>
            <a:off x="3537000" y="3479760"/>
            <a:ext cx="2124000" cy="2040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0" name="Picture 10" descr="610"/>
          <p:cNvPicPr/>
          <p:nvPr/>
        </p:nvPicPr>
        <p:blipFill>
          <a:blip r:embed="rId7"/>
          <a:stretch/>
        </p:blipFill>
        <p:spPr>
          <a:xfrm>
            <a:off x="3298680" y="3686040"/>
            <a:ext cx="2443320" cy="2286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1" name="Picture 11" descr="015"/>
          <p:cNvPicPr/>
          <p:nvPr/>
        </p:nvPicPr>
        <p:blipFill>
          <a:blip r:embed="rId8"/>
          <a:stretch/>
        </p:blipFill>
        <p:spPr>
          <a:xfrm>
            <a:off x="5800680" y="3305160"/>
            <a:ext cx="3308400" cy="20732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2" name="Picture 12" descr="011"/>
          <p:cNvPicPr/>
          <p:nvPr/>
        </p:nvPicPr>
        <p:blipFill>
          <a:blip r:embed="rId9"/>
          <a:stretch/>
        </p:blipFill>
        <p:spPr>
          <a:xfrm>
            <a:off x="5999040" y="3340080"/>
            <a:ext cx="2800440" cy="26049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173" name="Picture 13" descr="a27"/>
          <p:cNvPicPr/>
          <p:nvPr/>
        </p:nvPicPr>
        <p:blipFill>
          <a:blip r:embed="rId10"/>
          <a:stretch/>
        </p:blipFill>
        <p:spPr>
          <a:xfrm>
            <a:off x="5921280" y="3543480"/>
            <a:ext cx="3029040" cy="242856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72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УСЛОВИ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а есть только 5 рублей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ВОПРОС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Что делать? Кто виноват?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СТРУКЦИЮ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Надо продать машину… Что потом?..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АЛЬТЕРНАТИВУ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  Или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или уговорить кредиторов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ождать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Как 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ОБЪЕКТИВНОЕ ПРОТИВОРЕЧИЕ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субъективных позиций сторон: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Кредиторы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ы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Интересы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cc99ff"/>
                </a:solidFill>
                <a:latin typeface="Century Gothic"/>
              </a:rPr>
              <a:t>Получить деньги?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Развивать свой бизнес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cc"/>
                </a:solidFill>
                <a:latin typeface="Century Gothic"/>
              </a:rPr>
              <a:t>ПРОБЛЕМА: УДОВЛЕТВОРЕНИЕ ИНТЕРЕСОВ КРЕДИТОРОВ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Позиции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$10000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Нет денег</a:t>
            </a:r>
            <a:endParaRPr b="0" lang="en-US" sz="2000" spc="-1" strike="noStrike">
              <a:solidFill>
                <a:srgbClr val="003366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6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95280" y="19112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Как формулировать проблемы?</a:t>
            </a:r>
            <a:endParaRPr b="0" lang="en-US" sz="2400" spc="-1" strike="noStrike">
              <a:solidFill>
                <a:srgbClr val="003366"/>
              </a:solidFill>
              <a:latin typeface="Century Gothic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66cc"/>
                </a:solidFill>
                <a:latin typeface="Century Gothic"/>
              </a:rPr>
              <a:t>Проблемы: как и зачем?</a:t>
            </a:r>
            <a:endParaRPr b="0" lang="en-US" sz="4700" spc="-1" strike="noStrike">
              <a:solidFill>
                <a:srgbClr val="0066cc"/>
              </a:solidFill>
              <a:latin typeface="Century Gothic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08992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блемы не существуют изолированно от контекста. Наоборот, всякая проблема включает множество исходных условий и возможных следствий. Решение проблемы во многом зависит от её формулировки. </a:t>
            </a:r>
            <a:endParaRPr b="0" lang="en-US" sz="2800" spc="-1" strike="noStrike">
              <a:solidFill>
                <a:srgbClr val="003366"/>
              </a:solidFill>
              <a:latin typeface="Century Gothic"/>
            </a:endParaRPr>
          </a:p>
        </p:txBody>
      </p:sp>
      <p:pic>
        <p:nvPicPr>
          <p:cNvPr id="181" name="Picture 4" descr="BDOGRUN"/>
          <p:cNvPicPr/>
          <p:nvPr/>
        </p:nvPicPr>
        <p:blipFill>
          <a:blip r:embed="rId1"/>
          <a:stretch/>
        </p:blipFill>
        <p:spPr>
          <a:xfrm flipH="1">
            <a:off x="6279840" y="5783400"/>
            <a:ext cx="3406680" cy="59688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Century Gothic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0:14:55Z</dcterms:created>
  <dc:creator>Plotnikov</dc:creator>
  <dc:description/>
  <dc:language>en-US</dc:language>
  <cp:lastModifiedBy>LEGION</cp:lastModifiedBy>
  <dcterms:modified xsi:type="dcterms:W3CDTF">2016-01-11T10:03:47Z</dcterms:modified>
  <cp:revision>74</cp:revision>
  <dc:subject/>
  <dc:title></dc:title>
</cp:coreProperties>
</file>