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C59EC-6C12-49F0-8D84-0859D616194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ность и содержание теории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Категориальный аппарат теории управ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Цели теории управ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Эволюция управленческой мыс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ущность и содержание теории управ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Категориальный аппарат теории управл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Цели теории управл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 Эволюция управленческой мысл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тегориальный аппарат теории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ология управления – это логическая схема управленческой деятельности, предполагающая взаимосвязанное понимание целей, ориентиров, а также средств и способов их достижения.  Это еще и умение видеть, распознавать, понимать, оценивать и учитывать зависимости, которые и раскрывают содержание проблем, и подсказывают пути их реш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оненты, характеризующие содержание методологии управления: подходы, парадигмы, проблемы, приоритеты, ориентиры, критерии, альтернативы, процедуры выбора, средства и методы управления, а также огранич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тегориальный аппарат теории управ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тодология управления – это логическая схема управленческой деятельности, предполагающая взаимосвязанное понимание целей, ориентиров, а также средств и способов их достижения.  Это еще и умение видеть, распознавать, понимать, оценивать и учитывать зависимости, которые и раскрывают содержание проблем, и подсказывают пути их реш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мпоненты, характеризующие содержание методологии управления: подходы, парадигмы, проблемы, приоритеты, ориентиры, критерии, альтернативы, процедуры выбора, средства и методы управления, а также ограничения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тегориальный аппарат теории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радигма (греч. Paradeigma – пример, образец) – исходная концептуальная схема, система понятий, отражающая осмысление существенных черт действительности, модель постановки проблем и их решения, выбора соответствующих методов, господствующая в научном сообществе в течение определенного исторического периода и знаменующая собой определенный этап в развитии теории. . 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енческий рационализм Ф. Тейлора Функциональная дифференциация А. Файоля М. Вебера и др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овременной парадигме управления превалирует роль человеческой личности с учетом процессов глобализации и с акцентом на управление знаниями, на сетевые, партнерские принципы взаимодейств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тегориальный аппарат теории управ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арадигма (греч. Paradeigma – пример, образец) – исходная концептуальная схема, система понятий, отражающая осмысление существенных черт действительности, модель постановки проблем и их решения, выбора соответствующих методов, господствующая в научном сообществе в течение определенного исторического периода и знаменующая собой определенный этап в развитии теории. . 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вленческий рационализм Ф. Тейлора Функциональная дифференциация А. Файоля М. Вебера и др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современной парадигме управления превалирует роль человеческой личности с учетом процессов глобализации и с акцентом на управление знаниями, на сетевые, партнерские принципы взаимодейств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тегориальный аппарат теории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 управл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ение наиболее важных аспектов управленческих отношений, возникающих в рамках управленческих взаимодейств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явление основных тенденций развития социальных процесс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гнозирование развития управленческих отношений в социальных общностях и организация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аботка рекомендаций по совершенствованию методов управ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тегориальный аппарат теории управ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ли управлени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учение наиболее важных аспектов управленческих отношений, возникающих в рамках управленческих взаимодействий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явление основных тенденций развития социальных процессов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гнозирование развития управленческих отношений в социальных общностях и организациях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работка рекомендаций по совершенствованию методов управл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тегориальный аппарат теории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и управл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наватель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оч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клад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гностическ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зователь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 управления – это совокупность управленческих действий, предпринимаемых руководителями при выполнении управленческих функций в организации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тегориальный аппарат теории управ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ункции управлени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знавательна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ценочна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кладна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гностическа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разовательна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цесс управления – это совокупность управленческих действий, предпринимаемых руководителями при выполнении управленческих функций в организации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тегориальный аппарат теории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управления – это способы выполнения перечисленных выше функций.  Они различаются по содержанию: административные, (организационно-распорядительные), экономические и социально-психологические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тко разграничить каждый метод не представляется возможным: они взаимно проникают друг в друга и имеют немало общих черт.  В то же время присущие им различия в способах воздействия на объекты управления позволяют рассматривать их в отд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тегориальный аппарат теории управ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тоды управления – это способы выполнения перечисленных выше функций.  Они различаются по содержанию: административные, (организационно-распорядительные), экономические и социально-психологические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етко разграничить каждый метод не представляется возможным: они взаимно проникают друг в друга и имеют немало общих черт.  В то же время присущие им различия в способах воздействия на объекты управления позволяют рассматривать их в отдельност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Модели управления организаци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Модели управления организаци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ность теории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ение есть одновременно элемент и функция организованных систем различной природы (биологических, социальных, технических и др.).  Управление присуще любому обществу или его отдельному элементу (организации, коллективу, подразделению, городу, региону).  Необходимость управления вытекает из системной природы объек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ие закономерности выявлены кибернетикой, наукой об общих принципах и методах управления сложными системами в природе, технике и обществ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ные критерии управления – рациональность и целесообраз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ущенко Е.В. и др. Теория управления.  М., 1997.  С. 6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ущность теории управ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вление есть одновременно элемент и функция организованных систем различной природы (биологических, социальных, технических и др.).  Управление присуще любому обществу или его отдельному элементу (организации, коллективу, подразделению, городу, региону).  Необходимость управления вытекает из системной природы объект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ие закономерности выявлены кибернетикой, наукой об общих принципах и методах управления сложными системами в природе, технике и обществ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лавные критерии управления – рациональность и целесообразность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лущенко Е.В. и др. Теория управления.  М., 1997.  С. 6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ность теории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ение - это внутреннее свойство общественной системы, основанное на разделении труда, которое является результатом удовлетворения потребности  обмена продуктами материальной и духовной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ркс К. // Маркс К., Энгельс Ф.  Соч. 2-е изд.  Т.23.  1960. С.  90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ение - функция организованных систем различной природы (биологических, социальных, технических), обеспечивающая сохранение их определенной структуры, поддержание режима активности, реализацию программы, цели деятельности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ущенко Е.В., Захарова Е.В., Тихонравов Ю.В.  Теория управления: Учебный курс.  М., 1997. С. 1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ущность теории управ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вление - это внутреннее свойство общественной системы, основанное на разделении труда, которое является результатом удовлетворения потребности  обмена продуктами материальной и духовной деятельност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ркс К. // Маркс К., Энгельс Ф.  Соч. 2-е изд.  Т.23.  1960. С.  907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вление - функция организованных систем различной природы (биологических, социальных, технических), обеспечивающая сохранение их определенной структуры, поддержание режима активности, реализацию программы, цели деятельности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лущенко Е.В., Захарова Е.В., Тихонравов Ю.В.  Теория управления: Учебный курс.  М., 1997. С. 1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ность теории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неджмент – это наука об эффективном управлении предприятием; она включает в себя учение о принципах организации предприятия (юридическая часть), о стратегии его развития (идеологическая часть), о подборе персонала (социологическая часть) и способах оптимизации его работы (психологическая часть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неджмент - процесс руководства (управления) отдельным работником, рабочей группой, рабочим коллективом для достижения целей организ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ущность теории управ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неджмент – это наука об эффективном управлении предприятием; она включает в себя учение о принципах организации предприятия (юридическая часть), о стратегии его развития (идеологическая часть), о подборе персонала (социологическая часть) и способах оптимизации его работы (психологическая часть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неджмент - процесс руководства (управления) отдельным работником, рабочей группой, рабочим коллективом для достижения целей организац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ность теории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ка управления создает, систематизирует, и распространяет знания о том,  как осуществлять управленческую деятельность.  Это пограничная наука; она сочетает в себе элементы экономики, социологии, психологии, кибернетики, информатики и п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метом науки управления являются управленческие отношения, в которых проявляются одновременно экономические, политические и социальные отношения и интересы.  Они выражаются в воздействии на общество или на его отдельные элементы с целью их упорядочения., сохранения качественной специфики, совершенствования и развит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ия управления.  Учебник / Под общ. редакцией А.Л. Гапоненко, А.П. Панкрух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ущность теории управ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ука управления создает, систематизирует, и распространяет знания о том,  как осуществлять управленческую деятельность.  Это пограничная наука; она сочетает в себе элементы экономики, социологии, психологии, кибернетики, информатики и пр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метом науки управления являются управленческие отношения, в которых проявляются одновременно экономические, политические и социальные отношения и интересы.  Они выражаются в воздействии на общество или на его отдельные элементы с целью их упорядочения., сохранения качественной специфики, совершенствования и развит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ория управления.  Учебник / Под общ. редакцией А.Л. Гапоненко, А.П. Панкрухи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ность теории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ия управления – это наука о наиболее общих принципах и методах управления социальными общностями, содержании и форме управленческих отношений, закономерностях их развит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ом ТУ являются системы управленческих взаимодейств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метом ТУ являются управленческие отношения, возникающие между субъектом и объектом управления в рамках управленческих взаимодейств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ущность теории управ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ория управления – это наука о наиболее общих принципах и методах управления социальными общностями, содержании и форме управленческих отношений, закономерностях их развит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ъектом ТУ являются системы управленческих взаимодействи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метом ТУ являются управленческие отношения, возникающие между субъектом и объектом управления в рамках управленческих взаимодействи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тегориальный аппарат теории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ение социальное – один из основных видов управления, функция которого заключается в обеспечении реализации потребностей прогрессивного развития общества и его подсистем.  (Лагуста, с. 542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и вида СУ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ое управ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неджме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оорганиз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бъект управления – управляющая подсистема (орган управления, руководитель), оказывающий воздействие на объект управ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 управления - управляемая подсистема  (общественные отношения, социальные организации, люди), воспринимающая воздействие со стороны субъекта управ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язь между субъектом и объектом управления осуществляется с помощью информ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жет ли субъект управления на другом уровне рассматриваться как объект управле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тегориальный аппарат теории управ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вление социальное – один из основных видов управления, функция которого заключается в обеспечении реализации потребностей прогрессивного развития общества и его подсистем.  (Лагуста, с. 542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и вида СУ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енное управл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неджмен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амоорганиз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убъект управления – управляющая подсистема (орган управления, руководитель), оказывающий воздействие на объект управл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ъект управления - управляемая подсистема  (общественные отношения, социальные организации, люди), воспринимающая воздействие со стороны субъекта управл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вязь между субъектом и объектом управления осуществляется с помощью информац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жет ли субъект управления на другом уровне рассматриваться как объект управления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тегориальный аппарат теории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– совокупность или группа элементов, организованная для определенной цели, в которой изменение одного затрагивает другие или все остальные элемен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а – упорядочение элементов в определенную относительно постоянную модель или взаимосвязь социальных элемен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 управления – желаемое состояние системы, которое должно быть получено в результате управленческого воздейств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ая организация группа людей, деятельность которых направлена на достижение общей цели.  Организация, имеющая набор взаимосвязанных целей называется сложн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тегориальный аппарат теории управ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стема – совокупность или группа элементов, организованная для определенной цели, в которой изменение одного затрагивает другие или все остальные элемент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руктура – упорядочение элементов в определенную относительно постоянную модель или взаимосвязь социальных элемент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ль управления – желаемое состояние системы, которое должно быть получено в результате управленческого воздейств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циальная организация группа людей, деятельность которых направлена на достижение общей цели.  Организация, имеющая набор взаимосвязанных целей называется сложно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свойства сист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 Целостность - все части системы объединены, составляя в результате единое целое благодаря наличию ряда признаков: общности цели создания и функционирования (целевой), расположения (территориальный) или управления (организационный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 Важным свойством любой системы является бесконечность, под которой понимается невозможность ее полного познания и всестороннего представления конечным  множеством описаний, то есть конечным числом качественных и количественных характеристи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взаимозависимость структуры и среды (система формирует и проявляет свои свойства в процессе взаимодействия со средой, являясь при этом ведущим активным компонентом взаимодействия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иерархичность (каждый компонент системы в свою очередь может рассматриваться как система, а исследуемая в конкретном случае система представляет собой один из компонентов более широкой, глобальной системы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множественность описания каждой системы (в силу принципиальной сложности каждой системы ее адекватное познание требует построения множества различных моделей, каждая из которых описывает лишь определенный аспект системы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непрерыв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онирования и развит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 стремление к состоянию равновесия и устойчив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. стремление к дифференциации и моби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е свойства систе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 Целостность - все части системы объединены, составляя в результате единое целое благодаря наличию ряда признаков: общности цели создания и функционирования (целевой), расположения (территориальный) или управления (организационный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 Важным свойством любой системы является бесконечность, под которой понимается невозможность ее полного познания и всестороннего представления конечным  множеством описаний, то есть конечным числом качественных и количественных характеристик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взаимозависимость структуры и среды (система формирует и проявляет свои свойства в процессе взаимодействия со средой, являясь при этом ведущим активным компонентом взаимодействия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. иерархичность (каждый компонент системы в свою очередь может рассматриваться как система, а исследуемая в конкретном случае система представляет собой один из компонентов более широкой, глобальной системы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.множественность описания каждой системы (в силу принципиальной сложности каждой системы ее адекватное познание требует построения множества различных моделей, каждая из которых описывает лишь определенный аспект системы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. непрерывн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ункционирования и развит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7. стремление к состоянию равновесия и устойчивост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8. стремление к дифференциации и мобильност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60E5-4E9E-4421-BE32-77F8BCEE0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4AF2-F4CA-4538-8067-AFA4CDC29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C4A2-814A-4A5A-98BE-15ED3C918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FB20-16A4-4BBF-848E-1BF5AB67F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7B635-68AC-4264-BEF0-A47B46BF5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B25E3-A55C-4695-B340-A9AFE6376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6E628-2069-474B-9450-D7D8B6924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9AF00-4CAF-44B1-9329-E14A9CD42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0FDF1-5254-4DE5-A634-0088024BB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CFCFC-34F5-463A-BA2C-555AB0954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545A2-3AF8-4C76-8B8C-2F7ACF39D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FA40-3043-4294-9EB1-7499C45DE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93667-5AB4-4830-B9D7-5304B1C5F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33BA4-37CF-4D2C-ADCD-44B0B8166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4FBB2-90C0-47DF-A2AC-9B45C9BD0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191E0-BE5D-4756-B6D4-9A2E24284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9A603-3FC3-4322-BB9E-0E08E5D38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A149A9-1EAC-4486-9372-A6EAF18A0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A47B6E-1823-474D-90D0-B6D91F70B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DEF2B8-C636-47F0-A27F-D3B3C4AE0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5FE59F-E8A7-43E1-BAFC-846C13CFE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B8C6D4-B150-44A8-B610-B1849F456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4F24-E790-4503-8720-1287C97D1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ABC880-A4BB-4C81-9991-A6F270294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2033B9-F6C0-4005-AEEE-D9FE04187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8E3CA8-DE6D-4615-ABCF-9AC19D7AE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8AD47E-41F7-4BE3-AB29-5362E8C24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AA837A-D3C2-4B82-8347-B827F43DE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E5E867-1297-4546-9AB1-7F9492DC1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316FB7-56D6-4BD5-AA77-F594AB1E3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036051-E70B-485B-91BF-5A0A3E5D0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C5F963-CEB5-4DE0-A92B-48696658B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CEFDD0-5B50-40FC-A74D-A44142D7B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0427-638F-4609-89C3-9980A40D3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A591D7-1F5A-45C5-B604-A622511E8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DD891E-AD85-4E45-8300-F805E1C11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35B3B4-0509-4C1F-B83A-0DD5ED19F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B1F3A5-BBA9-4E40-894E-4C3A17425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15E72B-0773-4C09-BCF1-9696696A1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8233EF-EB6B-4865-BEC3-13D0B8DDC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49B470-001B-4014-80E6-121112787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7898A7-512A-4444-96FD-5F0177523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2E4457-7F96-42BF-BE4D-AE53E3BF8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C14F33-CC1B-4B41-A3C5-A65FFF197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CB76-62A8-47AA-96CE-3FC981CE2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615C76-DA41-442A-B813-12E6616AA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4D1427-5B63-4541-BD3F-CB7E3B219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629D4C-DF39-4B43-83E9-48283F1F4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77D0F9-CF62-4505-A237-A1B2F454A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496014-7B4F-46F7-80D3-D36B3B60C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056C36-7987-4F06-B449-11C0BA3EB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D83CC0-A4FF-404E-9BA4-0E55C30A3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BDDD61-E996-4477-B313-305210EBC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9867A8-8D55-42E6-995A-8A4AF8EA4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C87AE1-1322-4E12-8B23-74FB8EB96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AA34-8762-4901-A1A0-50A1E39CD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53960B-7FB4-4E6C-947B-1F903DE88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F61B-10FD-4E94-B957-C2FB9FCD3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BD93-773F-4D41-A88B-6D99ECE56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352D-70A0-4E79-BD1C-B39096E68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D710B-5786-4680-9D6A-BB499C74C068}" type="datetime">
              <a:rPr b="0" lang="ru-RU" sz="1000" spc="-1" strike="noStrike">
                <a:solidFill>
                  <a:srgbClr val="a7a399"/>
                </a:solidFill>
                <a:latin typeface="Verdana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19935-8EC6-4465-9C44-337B15E4F7FE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7DBDE-62E5-4CD5-AA58-039F890CE7AA}" type="datetime">
              <a:rPr b="0" lang="ru-RU" sz="1000" spc="-1" strike="noStrike">
                <a:solidFill>
                  <a:srgbClr val="a7a399"/>
                </a:solidFill>
                <a:latin typeface="Verdana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A69BF-A079-4764-A476-DAA732DDE718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8664F-151B-4F45-ABD1-6CC7831F3FFF}" type="datetime">
              <a:rPr b="0" lang="ru-RU" sz="1000" spc="-1" strike="noStrike">
                <a:solidFill>
                  <a:srgbClr val="a7a399"/>
                </a:solidFill>
                <a:latin typeface="Verdana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83844-E886-453D-8C8D-C3052B8C658E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54BB3-C024-4085-8F4B-FD016D3CC8C7}" type="datetime">
              <a:rPr b="0" lang="ru-RU" sz="1000" spc="-1" strike="noStrike">
                <a:solidFill>
                  <a:srgbClr val="a7a399"/>
                </a:solidFill>
                <a:latin typeface="Verdana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E527C-B8CF-4519-B1F3-5E95BD0958DE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cubicBezTo>
                  <a:pt x="2295506" y="0"/>
                  <a:pt x="2324100" y="28594"/>
                  <a:pt x="2324100" y="63866"/>
                </a:cubicBezTo>
                <a:lnTo>
                  <a:pt x="2324100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515D4-A767-44C3-B99E-E1EEDB231730}" type="datetime">
              <a:rPr b="0" lang="ru-RU" sz="1000" spc="-1" strike="noStrike">
                <a:solidFill>
                  <a:srgbClr val="a7a399"/>
                </a:solidFill>
                <a:latin typeface="Verdana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5B7A9-0488-4C95-964D-812ECD8FBBB4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ff8d3e"/>
                </a:solidFill>
                <a:latin typeface="Verdana"/>
              </a:rPr>
              <a:t>Сущность и содержание теории управления</a:t>
            </a:r>
            <a:endParaRPr b="1" lang="en-US" sz="41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684360" y="429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Категориальный аппарат теории управления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2. Цели теории управления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Эволюция управленческой мысли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Місце для нижнього колонтитула 2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6" descr=""/>
          <p:cNvPicPr/>
          <p:nvPr/>
        </p:nvPicPr>
        <p:blipFill>
          <a:blip r:embed="rId1"/>
          <a:stretch/>
        </p:blipFill>
        <p:spPr>
          <a:xfrm>
            <a:off x="3851280" y="3573360"/>
            <a:ext cx="2879640" cy="2317680"/>
          </a:xfrm>
          <a:prstGeom prst="rect">
            <a:avLst/>
          </a:prstGeom>
          <a:ln w="0">
            <a:noFill/>
          </a:ln>
        </p:spPr>
      </p:pic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68360" y="5805360"/>
            <a:ext cx="818352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d3e"/>
                </a:solidFill>
                <a:latin typeface="Verdana"/>
              </a:rPr>
              <a:t>Категориальный аппарат теории управления</a:t>
            </a:r>
            <a:endParaRPr b="1" lang="en-US" sz="2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14080" y="530280"/>
            <a:ext cx="3932280" cy="51307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Методология управления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– это логическая схема управленческой деятельности, предполагающая взаимосвязанное понимание целей, ориентиров, а также средств и способов их достижения.  Это еще и умение видеть, распознавать, понимать, оценивать и учитывать зависимости, которые и раскрывают содержание проблем, и подсказывают пути их решения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788000" y="549000"/>
            <a:ext cx="3930480" cy="38163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мпоненты, характеризующие содержание методологии управления: подходы, парадигмы, проблемы, приоритеты, ориентиры, критерии, альтернативы, процедуры выбора, средства и методы управления, а также ограничения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Місце для нижнього колонтитула 4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11280" y="5805000"/>
            <a:ext cx="8183520" cy="6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Категориальный аппарат теории управления</a:t>
            </a: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514080" y="530280"/>
            <a:ext cx="3932280" cy="51307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Парадигма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(греч.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radeigma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– пример, образец) – исходная концептуальная схема, система понятий, отражающая осмысление существенных черт действительности, модель постановки проблем и их решения, выбора соответствующих методов, господствующая в научном сообществе в течение определенного исторического периода и знаменующая собой определенный этап в развитии теории. . 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756320" y="530280"/>
            <a:ext cx="3930480" cy="31860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правленческий рационализм Ф. Тейлора Функциональная дифференциация А. Файоля М. Вебера и др.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современной парадигме управления превалирует роль человеческой личности с учетом процессов глобализации и с акцентом на управление знаниями, на сетевые, партнерские принципы взаимодействи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3" name="Picture 6" descr=""/>
          <p:cNvPicPr/>
          <p:nvPr/>
        </p:nvPicPr>
        <p:blipFill>
          <a:blip r:embed="rId1"/>
          <a:stretch/>
        </p:blipFill>
        <p:spPr>
          <a:xfrm>
            <a:off x="5364000" y="3645000"/>
            <a:ext cx="2376720" cy="2093760"/>
          </a:xfrm>
          <a:prstGeom prst="rect">
            <a:avLst/>
          </a:prstGeom>
          <a:ln w="0">
            <a:noFill/>
          </a:ln>
        </p:spPr>
      </p:pic>
      <p:sp>
        <p:nvSpPr>
          <p:cNvPr id="274" name="Місце для нижнього колонтитула 2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3280" y="5589360"/>
            <a:ext cx="818352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Категориальный аппарат теории управления</a:t>
            </a: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514080" y="530280"/>
            <a:ext cx="3932280" cy="50594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Цели управления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зучение наиболее важных аспектов управленческих отношений, возникающих в рамках управленческих взаимодействий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явление основных тенденций развития социальных процессов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756320" y="530280"/>
            <a:ext cx="3930480" cy="50594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гнозирование развития управленческих отношений в социальных общностях и организациях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работка рекомендаций по совершенствованию методов управлени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Місце для нижнього колонтитула 4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11280" y="5805000"/>
            <a:ext cx="8183520" cy="6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Категориальный аппарат теории управления</a:t>
            </a: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514080" y="530280"/>
            <a:ext cx="3932280" cy="50594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Функции управления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ознавательная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Оценочная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рикладная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рогностическая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Образовательная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756320" y="530280"/>
            <a:ext cx="3930480" cy="51307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роцесс управления – это совокупность управленческих действий, предпринимаемых руководителями при выполнении управленческих функций в организации.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Місце для нижнього колонтитула 2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2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209080" cy="5761080"/>
          </a:xfrm>
          <a:prstGeom prst="rect">
            <a:avLst/>
          </a:prstGeom>
          <a:ln w="0">
            <a:noFill/>
          </a:ln>
        </p:spPr>
      </p:pic>
      <p:sp>
        <p:nvSpPr>
          <p:cNvPr id="284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11280" y="5950080"/>
            <a:ext cx="818352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Категориальный аппарат теории управления</a:t>
            </a: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14080" y="529920"/>
            <a:ext cx="3932280" cy="52023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етоды управления – это способы выполнения перечисленных выше функций.  Они различаются по содержанию: административные, (организационно-распорядительные), экономические и социально-психологические.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756320" y="529920"/>
            <a:ext cx="3930480" cy="52023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етко разграничить каждый метод не представляется возможным: они взаимно проникают друг в друга и имеют немало общих черт.  В то же время присущие им различия в способах воздействия на объекты управления позволяют рассматривать их в отдельност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Місце для нижнього колонтитула 4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03280" y="5516640"/>
            <a:ext cx="8183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Модели управления организацией</a:t>
            </a: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611280" y="549360"/>
          <a:ext cx="7993080" cy="4647960"/>
        </p:xfrm>
        <a:graphic>
          <a:graphicData uri="http://schemas.openxmlformats.org/drawingml/2006/table">
            <a:tbl>
              <a:tblPr/>
              <a:tblGrid>
                <a:gridCol w="2663640"/>
                <a:gridCol w="2665440"/>
                <a:gridCol w="2664000"/>
              </a:tblGrid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Автократическ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Экономическ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Нов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</a:tr>
              <a:tr h="82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ла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Экономическое принужд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ворческое участ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82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Авторит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иректи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атериальное поощр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ллективизм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оральные стимул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82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ерсональная зависим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отив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ивержен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82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ейлориз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Экономические стимул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Экономические и моральные стимул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82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сполнитель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нициати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отальное творчест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</a:tbl>
          </a:graphicData>
        </a:graphic>
      </p:graphicFrame>
      <p:sp>
        <p:nvSpPr>
          <p:cNvPr id="291" name="Місце для нижнього колонтитула 3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Сущность теории управления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196640"/>
            <a:ext cx="4038480" cy="53276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Управление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есть одновременно элемент и функция организованных систем различной природы (биологических, социальных, технических и др.).  Управление присуще любому обществу или его отдельному элементу (организации, коллективу, подразделению, городу, региону).  Необходимость управления вытекает из системной природы объект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716000" y="1196640"/>
            <a:ext cx="3932280" cy="43894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Общие закономерности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ыявлены кибернетикой, наукой об общих принципах и методах управления сложными системами в природе, технике и обществ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Главные критерии управления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– рациональность и целесообразность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Глущенко Е.В. и др. Теория управления.  М., 1997.  С. 60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Місце для нижнього колонтитула 4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Сущность теории управления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196640"/>
            <a:ext cx="4038480" cy="53276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Управление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- это внутреннее свойство общественной системы, основанное на разделении труда, которое является результатом удовлетворения потребности  обмена продуктами материальной и духовной деятельност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Маркс К. // Маркс К., Энгельс Ф.  Соч. 2-е изд.  Т.23.  1960. С.  907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648320" y="1196640"/>
            <a:ext cx="4038480" cy="52563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Управление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 функция организованных систем различной природы (биологических, социальных, технических), обеспечивающая сохранение их определенной структуры, поддержание режима активности, реализацию программы, цели деятельности»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Глущенко Е.В., Захарова Е.В., Тихонравов Ю.В.  Теория управления: Учебный курс.  М., 1997. С. 13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7" name="Picture 6" descr="MC900090563[1]"/>
          <p:cNvPicPr/>
          <p:nvPr/>
        </p:nvPicPr>
        <p:blipFill>
          <a:blip r:embed="rId1"/>
          <a:stretch/>
        </p:blipFill>
        <p:spPr>
          <a:xfrm>
            <a:off x="1403280" y="4365720"/>
            <a:ext cx="2664000" cy="1949400"/>
          </a:xfrm>
          <a:prstGeom prst="rect">
            <a:avLst/>
          </a:prstGeom>
          <a:ln w="0">
            <a:noFill/>
          </a:ln>
        </p:spPr>
      </p:pic>
      <p:sp>
        <p:nvSpPr>
          <p:cNvPr id="238" name="Місце для нижнього колонтитула 4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Сущность теории управления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68360" y="1557360"/>
            <a:ext cx="3930480" cy="43876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Менеджмент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– это наука об эффективном управлении предприятием; она включает в себя учение о принципах организации предприятия (юридическая часть), о стратегии его развития (идеологическая часть), о подборе персонала (социологическая часть) и способах оптимизации его работы (психологическая часть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716000" y="1557360"/>
            <a:ext cx="3932280" cy="43876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Менеджмент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- процесс руководства (управления) отдельным работником, рабочей группой, рабочим коллективом для достижения целей организаци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2" name="Picture 6" descr="MC900237494[1]"/>
          <p:cNvPicPr/>
          <p:nvPr/>
        </p:nvPicPr>
        <p:blipFill>
          <a:blip r:embed="rId1"/>
          <a:stretch/>
        </p:blipFill>
        <p:spPr>
          <a:xfrm>
            <a:off x="5580000" y="3645000"/>
            <a:ext cx="2573280" cy="2735280"/>
          </a:xfrm>
          <a:prstGeom prst="rect">
            <a:avLst/>
          </a:prstGeom>
          <a:ln w="0">
            <a:noFill/>
          </a:ln>
        </p:spPr>
      </p:pic>
      <p:sp>
        <p:nvSpPr>
          <p:cNvPr id="243" name="Місце для нижнього колонтитула 4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Сущность теории управления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989000"/>
            <a:ext cx="4038480" cy="29527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Наука управления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оздает, систематизирует, и распространяет знания о том,  как осуществлять управленческую деятельность.  Это пограничная наука; она сочетает в себе элементы экономики, социологии, психологии, кибернетики, информатики и пр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648320" y="981000"/>
            <a:ext cx="4038480" cy="54007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Предметом науки управления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являются управленческие отношения, в которых проявляются одновременно экономические, политические и социальные отношения и интересы.  Они выражаются в воздействии на общество или на его отдельные элементы с целью их упорядочения., сохранения качественной специфики, совершенствования и развити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Теория управления.  Учебник / Под общ. редакцией А.Л. Гапоненко, А.П. Панкрухин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Місце для нижнього колонтитула 4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Сущность теории управления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Теория управления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– это наука о наиболее общих принципах и методах управления социальными общностями, содержании и форме управленческих отношений, закономерностях их развития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Объектом ТУ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являются системы управленческих взаимодействий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Предметом ТУ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являются управленческие отношения, возникающие между субъектом и объектом управления в рамках управленческих взаимодействий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Місце для нижнього колонтитула 3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3280" y="5932080"/>
            <a:ext cx="818352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8d3e"/>
                </a:solidFill>
                <a:latin typeface="Verdana"/>
              </a:rPr>
              <a:t>Категориальный аппарат теории управления</a:t>
            </a:r>
            <a:endParaRPr b="1" lang="en-US" sz="1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514080" y="529920"/>
            <a:ext cx="3932280" cy="49863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Управление социальное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– один из основных видов управления, функция которого заключается в обеспечении реализации потребностей прогрессивного развития общества и его подсистем.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 (</a:t>
            </a:r>
            <a:r>
              <a:rPr b="0" lang="ru-RU" sz="1300" spc="-1" strike="noStrike">
                <a:solidFill>
                  <a:srgbClr val="000000"/>
                </a:solidFill>
                <a:latin typeface="Verdana"/>
              </a:rPr>
              <a:t>Лагуста, с. 542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Три вида СУ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государственное управлени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менеджмент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самоорганизаци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убъект управления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– управляющая подсистема (орган управления, руководитель), оказывающий воздействие на объект управлени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756320" y="529920"/>
            <a:ext cx="3930480" cy="43894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бъект управления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- управляемая подсистема  (общественные отношения, социальные организации, люди), воспринимающая воздействие со стороны субъекта управлени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вязь между субъектом и объектом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управления осуществляется с помощью информаци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Может ли субъект управления на другом уровне рассматриваться как объект управления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4" name="Picture 6" descr=""/>
          <p:cNvPicPr/>
          <p:nvPr/>
        </p:nvPicPr>
        <p:blipFill>
          <a:blip r:embed="rId1"/>
          <a:stretch/>
        </p:blipFill>
        <p:spPr>
          <a:xfrm>
            <a:off x="5580000" y="4508640"/>
            <a:ext cx="2232000" cy="1454040"/>
          </a:xfrm>
          <a:prstGeom prst="rect">
            <a:avLst/>
          </a:prstGeom>
          <a:ln w="0">
            <a:noFill/>
          </a:ln>
        </p:spPr>
      </p:pic>
      <p:sp>
        <p:nvSpPr>
          <p:cNvPr id="255" name="Місце для нижнього колонтитула 2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6" descr=""/>
          <p:cNvPicPr/>
          <p:nvPr/>
        </p:nvPicPr>
        <p:blipFill>
          <a:blip r:embed="rId1"/>
          <a:stretch/>
        </p:blipFill>
        <p:spPr>
          <a:xfrm>
            <a:off x="2700360" y="1916280"/>
            <a:ext cx="3024000" cy="331128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3280" y="5516640"/>
            <a:ext cx="8183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d3e"/>
                </a:solidFill>
                <a:latin typeface="Verdana"/>
              </a:rPr>
              <a:t>Категориальный аппарат теории управления</a:t>
            </a:r>
            <a:endParaRPr b="1" lang="en-US" sz="2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514080" y="530280"/>
            <a:ext cx="3336840" cy="50594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истема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– совокупность или группа элементов, организованная для определенной цели, в которой изменение одного затрагивает другие или все остальные элементы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труктура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– упорядочение элементов в определенную относительно постоянную модель или взаимосвязь социальных элементо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076720" y="530280"/>
            <a:ext cx="3610080" cy="51307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Цель управления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– желаемое состояние системы, которое должно быть получено в результате управленческого воздействи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оциальная организация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группа людей, деятельность которых направлена на достижение общей цели.  Организация, имеющая набор взаимосвязанных целей называется сложной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Місце для нижнього колонтитула 4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68360" y="5976720"/>
            <a:ext cx="818352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Основные свойства систем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514080" y="529920"/>
            <a:ext cx="3932280" cy="52750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7000"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остность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части системы объединены, составляя в результате единое целое благодаря наличию ряда признаков: общности цели создания и функционирования (целевой), расположения (территориальный) или управления (организационный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 Важным свойством любой системы является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сконечность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 которой понимается невозможность ее полного познания и всестороннего представления конечным  множеством описаний, то есть конечным числом качественных и количественных характеристик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аимозависимость структуры и среды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система формирует и проявляет свои свойства в процессе взаимодействия со средой, являясь при этом ведущим активным компонентом взаимодействия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756320" y="529920"/>
            <a:ext cx="3930480" cy="52750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6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ерархичность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каждый компонент системы в свою очередь может рассматриваться как система, а исследуемая в конкретном случае система представляет собой один из компонентов более широкой, глобальной системы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6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6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жественность описания каждой системы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 силу принципиальной сложности каждой системы ее адекватное познание требует построения множества различных моделей, каждая из которых описывает лишь определенный аспект системы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6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6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рерывность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6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кционирования и развити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6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6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емление к состоянию равновесия и устойчивост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6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6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емление к дифференциации и мобильност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Місце для нижнього колонтитула 4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7T19:02:21Z</dcterms:created>
  <dc:creator>Хозяин</dc:creator>
  <dc:description/>
  <dc:language>en-US</dc:language>
  <cp:lastModifiedBy>LEGION</cp:lastModifiedBy>
  <dcterms:modified xsi:type="dcterms:W3CDTF">2016-01-11T10:04:33Z</dcterms:modified>
  <cp:revision>19</cp:revision>
  <dc:subject/>
  <dc:title>Сущность и содержание теории управления</dc:title>
</cp:coreProperties>
</file>