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B15C-EB73-4102-AE30-F5D190296A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E49-1E71-4856-901D-A66F8C40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52E-A3AB-4CE1-B0B3-3B606F19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04D-41D9-4FBA-8B0A-218EAE4B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4DD-CA7F-4A07-AE61-7B61BDA1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E1D7-6EF7-49BF-BE50-9A608014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A0E8-5E2C-4FDC-A64B-805ED9A4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6864-E938-4481-A6ED-C6D7FD68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4846-44CD-45C1-A757-0C68EB3C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6765-FC00-4D34-9378-1E369D9E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F83C-57C5-43C4-848C-ED15C574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681E-3745-4A16-9793-C3A05E0E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45B-8154-4B00-A32D-39A4A731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8ACF-1EEC-4311-ACF0-8E1D4A8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3EEF-9954-4F80-B4CD-5218CBCA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C760-DB50-42A4-B7BD-1171D94B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7EDF-F259-4DF3-B99A-A4904022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AADD-D077-41CF-B295-258F49CD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E3A7-898E-4E2C-8505-02632EAD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322FC-4D53-476E-A662-4F6E8AA5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8FC2-801E-420F-8A9B-47CC9AF6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318A-CFBD-44B3-B7A1-EB619324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7C8B-F150-4DFE-BB5D-56BABED2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F70-2AAB-47FD-96E7-1F41E306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3003-E1E1-4D75-A861-96A52D5E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D20C-060E-437A-8D4E-5DF5A190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2ECC-4C2A-48A9-A9B7-7400960D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A18A-6A5E-4B59-A676-53285813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7463-F5FF-4648-8BFE-5B7AC00D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4D23-D032-4A93-8E80-B0B10177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819A-879D-4518-93DC-9F5BD9CC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9689-851A-4E41-9BB7-545CCD2B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1BCF-3364-46DA-93FC-E43AD047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8D11-976C-48D7-AEFB-E6454F3E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545-2E82-4B13-9B82-37C175D6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A0DE-08AC-4F1F-B39A-EFF3835D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11BA-CCF1-4B32-BDEF-2C94B0EE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1D29-6C84-4DDF-A38E-8EE6B670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83F91-3660-446B-BDA9-8CEC8961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1CBB-E51A-4DD6-9F3D-E0E06C5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810B-9042-400F-928D-83C59F77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19DA-FF6B-415F-A4AD-2DA08D68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33CF-E112-43C3-98D3-2C10DA39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0A83-159A-4E9D-9CBE-6075FB01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70152-598C-4983-A97A-78F5BDA7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600-B92B-4921-8F9E-B8789F49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F87FD-2088-48B7-8D4B-AAEECE3D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496D4-0270-45D2-8726-1B002BBE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FF616-E754-4850-A17B-116CF6F7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2099-D4F4-467E-92B2-080AB55D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D8F10-C1FC-4589-9B13-A3779CE9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A7F81-99CE-44A7-B341-82B7B568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AA4E0-FC9C-498E-9734-BD248A9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7A8E8-2388-4D67-ABB9-D9D6B2A6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D3619-4192-4E93-87AA-F6AB02A5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D83A8-9C70-47BE-812D-A336A77C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182-1511-4EFA-A5BA-AF4FDDAD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0B232-7920-4ED5-8A2D-33F67257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216-50B0-43B0-80DF-C8C1F96A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17F-D839-45D9-9C7C-75739C6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D80-E0E6-4763-8BBE-83F5029B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C220-0938-4F83-91AA-B749E0EB446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5EE4-672F-464B-94F1-2917549B098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DD2D-1D6E-410C-A531-AC5C2F22687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18F9-075B-4785-948C-9BB2C8ACC77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88DF-1627-4444-81FE-17E2914458D3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C8BA-1582-41AF-BE7B-516FDC68F98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C8E7-6211-4786-82C7-911DF6B6EA4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DCC9-3CA7-43BA-9351-F0C56E298A2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5468-732B-47D6-9D70-4D11189CA213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87CD-6181-4FB4-93F9-F3369793D00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Сущность и содержание теории управления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4360" y="429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тегориальный аппарат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Цели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Эволюция управленческой мысл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3851280" y="3573360"/>
            <a:ext cx="2879640" cy="2317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183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етодология управл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88000" y="549000"/>
            <a:ext cx="3930480" cy="381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радиг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греч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deigm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756320" y="530280"/>
            <a:ext cx="3930480" cy="318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376720" cy="20937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558936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и упра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основных тенденций развития социальных процесс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56320" y="530280"/>
            <a:ext cx="39304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рекомендаций по совершенствованию методов управ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и управлен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зна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оч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клад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гностическ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зо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756320" y="530280"/>
            <a:ext cx="39304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761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1835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14080" y="529920"/>
            <a:ext cx="39322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756320" y="529920"/>
            <a:ext cx="39304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Модели управления организацией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11280" y="549360"/>
          <a:ext cx="7993080" cy="464796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тократ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оно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ое прину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ворческое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р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р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риальное поощ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из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сональная завис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ер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йло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и 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н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ициа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таль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91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716000" y="119664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ие закономернос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вные критерии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рациональность и целесообраз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ущенко Е.В. и др. Теория управления.  М., 1997.  С. 6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аркс К. // Маркс К., Энгельс Ф.  Соч. 2-е изд.  Т.23.  1960. С.  907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MC900090563[1]"/>
          <p:cNvPicPr/>
          <p:nvPr/>
        </p:nvPicPr>
        <p:blipFill>
          <a:blip r:embed="rId1"/>
          <a:stretch/>
        </p:blipFill>
        <p:spPr>
          <a:xfrm>
            <a:off x="1403280" y="4365720"/>
            <a:ext cx="2664000" cy="19494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557360"/>
            <a:ext cx="39304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16000" y="1557360"/>
            <a:ext cx="39322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MC900237494[1]"/>
          <p:cNvPicPr/>
          <p:nvPr/>
        </p:nvPicPr>
        <p:blipFill>
          <a:blip r:embed="rId1"/>
          <a:stretch/>
        </p:blipFill>
        <p:spPr>
          <a:xfrm>
            <a:off x="5580000" y="3645000"/>
            <a:ext cx="2573280" cy="27352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98900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ука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едметом науки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ория управления.  Учебник / Под общ. редакцией А.Л. Гапоненко, А.П. Панкрух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еория управления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ъек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системы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дме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932080"/>
            <a:ext cx="81835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4080" y="529920"/>
            <a:ext cx="3932280" cy="498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правление социаль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Лагуста, с. 542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и вида С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государственное упр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мо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равляющая подсистема (орган управления, руководитель), оказывающий воздействие на объект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зь между субъектом и объекто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вления осуществляется с помощью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ет ли субъект управления на другом уровне рассматриваться как объект управлени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232000" cy="145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024000" cy="3311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4080" y="530280"/>
            <a:ext cx="333684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руктур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76720" y="530280"/>
            <a:ext cx="36100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желаемое состояние системы, которое должно быть получено в результате управленческого воздейст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ая орган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5976720"/>
            <a:ext cx="8183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сновные свойства систе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4080" y="529920"/>
            <a:ext cx="39322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Важным свойством любой системы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оне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структуры и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56320" y="529920"/>
            <a:ext cx="39304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ость описания кажд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я и развит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стоянию равновесия и устойчив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дифференциации и моби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02:21Z</dcterms:created>
  <dc:creator>Хозяин</dc:creator>
  <dc:description/>
  <dc:language>en-US</dc:language>
  <cp:lastModifiedBy>LEGION</cp:lastModifiedBy>
  <dcterms:modified xsi:type="dcterms:W3CDTF">2016-01-11T10:04:33Z</dcterms:modified>
  <cp:revision>19</cp:revision>
  <dc:subject/>
  <dc:title>Сущность и содержание теории управления</dc:title>
</cp:coreProperties>
</file>