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836F-67A5-42DA-B9F0-AEBE56C87ED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содержание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тегориальный аппарат теори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ли теори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волюция управленческой мы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и содержание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атегориальный аппарат теории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Цели теории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Эволюция управленческой мы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управления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ология управления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дигма (греч. Paradeigma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адигма (греч. Paradeigma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основных тенденций развития социальны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рекомендаций по совершенствованию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основных тенденций развития социальных процес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рекомендаций по совершенствованию методов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о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ст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управ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нават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оч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лад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ст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т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одели управления организ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одели управления организ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закономерности 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критерии управления – рациональн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щенко Е.В. и др. Теория управления.  М., 1997.  С. 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закономерности 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ые критерии управления – рациональн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ущенко Е.В. и др. Теория управления.  М., 1997.  С. 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 К. // Маркс К., Энгельс Ф.  Соч. 2-е изд.  Т.23.  1960. С.  9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ркс К. // Маркс К., Энгельс Ф.  Соч. 2-е изд.  Т.23.  1960. С.  9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 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управления 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науки управления 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.  Учебник / Под общ. редакцией А.Л. Гапоненко, А.П. Панкрух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управления 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ом науки управления 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управления.  Учебник / Под общ. редакцией А.Л. Гапоненко, А.П. Панкрух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 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ом ТУ являются системы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ТУ 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управления 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ом ТУ являются системы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ом ТУ 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социальное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  (Лагуста, с. 54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С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управления – управляющая подсистема (орган управления, руководитель), оказывающий воздействие на объек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управления 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 между субъектом и объектом управления осуществляется с помощью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ли субъект управления на другом уровне рассматриваться как объект упра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социальное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  (Лагуста, с. 54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вида С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упр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орган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бъект управления – управляющая подсистема (орган управления, руководитель), оказывающий воздействие на объект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 управления 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язь между субъектом и объектом управления осуществляется с помощью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ли субъект управления на другом уровне рассматриваться как объект управл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правления – желаемое состояние системы, которое должно быть получено в результате управленческ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рганизация 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управления – желаемое состояние системы, которое должно быть получено в результате управленческого воздейств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организация 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ойства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Целостность - 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Важным свойством любой системы является бесконечность, 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взаимозависимость структуры и среды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ерархичность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множественность описания каждой системы 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непреры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ования и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стремление к состоянию равновесия и устойчив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тремление к дифференциации и моби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свойства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 Целостность - 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 Важным свойством любой системы является бесконечность, 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взаимозависимость структуры и среды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иерархичность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множественность описания каждой системы 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непрерыв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ирования и разви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стремление к состоянию равновесия и устойчив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стремление к дифференциации и моби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541-D4C1-4903-9B0F-F98E3FAE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CB1-EEFA-41AD-B832-C51B0F8B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41B9-A564-44A7-AD38-97E877A9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598-A52C-413E-BC49-200711F7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65DD-94B6-46B5-BC61-CC9D84F6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DAEF-E486-4BED-8DF2-F1A017F6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3748-3C79-49B1-9662-6306A94F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0D86-78BD-48D6-964D-F885CE3A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D6F6-4EF2-4833-8DF0-3A16086F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3E09-2EE3-400D-8119-8E80F78C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B588-1D28-4F2C-865D-A278A35E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5B30-FD34-4184-B260-A9FBA4BA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6D8F-72FC-4097-8137-57C0312D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4FD8-EB2D-4312-B6E7-4A26BD13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FC4D-CCC1-4ABA-B574-B81F36B7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E9AA-9889-47C8-BBCD-4B111C6D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907D-3813-48D3-A63C-8A31883F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8675D-F3D8-4086-A899-EC8178AE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48D23-3D38-4A6A-9F77-D691246F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3AB4A-4FFD-479E-87A1-722BA1BA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51097-C354-4EF4-A513-6CDA95D5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4F03C-F391-49B0-AAAB-1FCC635F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40F-60B6-4A67-8131-052E99BD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53C5B-195B-4BA3-9614-27718C3B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5DDB0-65CD-46F4-8C4D-0544900C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2584D-B7C6-4FC2-8516-AAEC192C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E32EF-CCAB-404C-BA11-3186D019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CBD1B-4907-434E-9AB0-70F1EEE7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494A6-9B25-4673-AEB9-A500B1EB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38B31-6B00-464C-93C7-F26CE3B8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10188-E859-4A88-8E5C-2FE05AD1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FB463-5118-4C7C-ABFC-01181716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CCF35-3A20-4BE0-BFEB-35DB25A8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33E-8BC6-4902-A9F8-7676A196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E01ED-31B6-49FC-A543-5B787CDE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B6729-85E2-46C5-A01B-C2E24862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C0C5F-69DF-48AC-A1FC-9D2DDC2F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7CAEA-B30E-4030-8BD3-8400BEB8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05C60-F28E-45E0-A6EA-92363EDC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3392A-CC17-4668-94B0-04168FFB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64198-6F77-4C01-927F-577C0DEA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959C0-7BC5-4306-A3A7-26BEFC32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C847E-992A-42D2-A7D8-EAB2FB46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1F7D9-8A28-4536-A780-7AB2CDE9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64F-EB35-4495-B270-A0DCE4A2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7454F-13CA-41F5-AA0F-C7D98D01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D46EB-8EB0-4E22-B596-51EA3F91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22ED2-A6A9-44F7-8F07-C8082DB6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080A3-9445-4D3C-A4A2-953C3BDC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E4CC7-E2F2-4686-9C58-8881713D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3DE4A-E28D-4468-9943-DF9B0546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4842C-855D-454D-94C6-157A3E51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26200-C6FA-4966-AB3F-58107363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CE13E-5F6A-4414-B627-3FD5D80E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4ED3C-01B8-4E75-9B1C-4E330BE8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4AF-D776-4F69-94A6-7DEA5194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A8D7E-A735-4E80-8F77-FA6743B8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9B86-ED02-408F-9856-8638886F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6E2-ADB9-4521-86F1-F73B91C8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518-BCA3-4EDF-A64C-76DAE7F7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B177-F49B-4B8A-93ED-7967C039DF4B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1B37-498C-47F7-8BB0-79D2DC6B8C5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7AFC-29B4-44BE-9802-BC24EA4472FC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CC1D-1021-468B-B98A-80EBBDFD389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2DA2-CE14-47D0-83D3-38B319011093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BBF6-8AE9-4DB1-88AD-0A670EE6E02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0B92-67FD-4C0B-9448-3B5D735FB7A0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FBAE-C81F-4FF6-ACCA-BB6D967283A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BBF5-8E1C-4AF8-A86E-3D1F9614D75E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16B7-3D4C-40C0-AD81-84EC08CAD04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Сущность и содержание теории управления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4360" y="429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атегориальный аппарат теории управл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2. Цели теории управл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Эволюция управленческой мысл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3851280" y="3573360"/>
            <a:ext cx="2879640" cy="23176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5805360"/>
            <a:ext cx="8183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14080" y="530280"/>
            <a:ext cx="39322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етодология управлен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788000" y="549000"/>
            <a:ext cx="3930480" cy="381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5805000"/>
            <a:ext cx="818352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14080" y="530280"/>
            <a:ext cx="39322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арадигм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греч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deigm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756320" y="530280"/>
            <a:ext cx="3930480" cy="318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tretch/>
        </p:blipFill>
        <p:spPr>
          <a:xfrm>
            <a:off x="5364000" y="3645000"/>
            <a:ext cx="2376720" cy="20937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5589360"/>
            <a:ext cx="8183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14080" y="530280"/>
            <a:ext cx="39322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и управ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явление основных тенденций развития социальных процесс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56320" y="530280"/>
            <a:ext cx="39304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рекомендаций по совершенствованию методов управ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5805000"/>
            <a:ext cx="818352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14080" y="530280"/>
            <a:ext cx="39322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ункции управлени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знаватель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ценоч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клад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гностическ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разователь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756320" y="530280"/>
            <a:ext cx="39304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76108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1835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14080" y="529920"/>
            <a:ext cx="3932280" cy="520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756320" y="529920"/>
            <a:ext cx="3930480" cy="520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5516640"/>
            <a:ext cx="8183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Модели управления организацией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11280" y="549360"/>
          <a:ext cx="7993080" cy="464796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втократ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Эконом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ое прину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ворческое учас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торит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рек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териальное поощ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тивиз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ральны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сональная завис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тив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верж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йлор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и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ие и моральны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полн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ициа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тальное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91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716000" y="119664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щие закономерност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лавные критерии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рациональность и целесообраз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лущенко Е.В. и др. Теория управления.  М., 1997.  С. 6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аркс К. // Маркс К., Энгельс Ф.  Соч. 2-е изд.  Т.23.  1960. С.  907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6" descr="MC900090563[1]"/>
          <p:cNvPicPr/>
          <p:nvPr/>
        </p:nvPicPr>
        <p:blipFill>
          <a:blip r:embed="rId1"/>
          <a:stretch/>
        </p:blipFill>
        <p:spPr>
          <a:xfrm>
            <a:off x="1403280" y="4365720"/>
            <a:ext cx="2664000" cy="194940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8360" y="1557360"/>
            <a:ext cx="3930480" cy="438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неджмент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716000" y="1557360"/>
            <a:ext cx="3932280" cy="438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неджмен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6" descr="MC900237494[1]"/>
          <p:cNvPicPr/>
          <p:nvPr/>
        </p:nvPicPr>
        <p:blipFill>
          <a:blip r:embed="rId1"/>
          <a:stretch/>
        </p:blipFill>
        <p:spPr>
          <a:xfrm>
            <a:off x="5580000" y="3645000"/>
            <a:ext cx="2573280" cy="273528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989000"/>
            <a:ext cx="4038480" cy="295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аука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редметом науки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еория управления.  Учебник / Под общ. редакцией А.Л. Гапоненко, А.П. Панкрухи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Теория управления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бъектом Т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ются системы управленческих взаимодействи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редметом Т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5932080"/>
            <a:ext cx="81835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14080" y="529920"/>
            <a:ext cx="3932280" cy="498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правление социально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(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Лагуста, с. 542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и вида С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государственное управл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менеджмен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амоорганиз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убъект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управляющая подсистема (орган управления, руководитель), оказывающий воздействие на объект управ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ъект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язь между субъектом и объекто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авления осуществляется с помощью информ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жет ли субъект управления на другом уровне рассматриваться как объект управления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1"/>
          <a:stretch/>
        </p:blipFill>
        <p:spPr>
          <a:xfrm>
            <a:off x="5580000" y="4508640"/>
            <a:ext cx="2232000" cy="145404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024000" cy="33112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5516640"/>
            <a:ext cx="8183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14080" y="530280"/>
            <a:ext cx="333684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истем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руктур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076720" y="530280"/>
            <a:ext cx="36100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ель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желаемое состояние системы, которое должно быть получено в результате управленческого воздейст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ая организац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5976720"/>
            <a:ext cx="81835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сновные свойства систем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14080" y="529920"/>
            <a:ext cx="3932280" cy="527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Важным свойством любой системы явля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конеч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висимость структуры и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756320" y="529920"/>
            <a:ext cx="3930480" cy="527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рархич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енность описания каждой систе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ирования и развит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состоянию равновесия и устойчиво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дифференциации и моби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9:02:21Z</dcterms:created>
  <dc:creator>Хозяин</dc:creator>
  <dc:description/>
  <dc:language>en-US</dc:language>
  <cp:lastModifiedBy>LEGION</cp:lastModifiedBy>
  <dcterms:modified xsi:type="dcterms:W3CDTF">2016-01-11T10:04:33Z</dcterms:modified>
  <cp:revision>19</cp:revision>
  <dc:subject/>
  <dc:title>Сущность и содержание теории управления</dc:title>
</cp:coreProperties>
</file>