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9.jpeg" ContentType="image/jpeg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12.gif" ContentType="image/gif"/>
  <Override PartName="/ppt/media/image3.jpeg" ContentType="image/jpeg"/>
  <Override PartName="/ppt/media/image7.gif" ContentType="image/gif"/>
  <Override PartName="/ppt/media/image11.gif" ContentType="image/gif"/>
  <Override PartName="/ppt/media/image21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5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png" ContentType="image/png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E11E-ED62-4E97-AC7E-7CA9D5BBDB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СИХОТЕХНОЛОГИИ В БИЗНЕ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кладная психолог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СИХОТЕХНОЛОГИИ В БИЗНЕ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кладная психолог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сихологические основы эффективности проведения совещ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лементы эффективного планирования совещ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ипичные ошибки, допускаемые при проведении совещания и негативно влияющие на психологическое состояние и внимание участ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Разработать программу совещания с учетом специфики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сихологические основы эффективности проведения совещ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лементы эффективного планирования совещ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ипичные ошибки, допускаемые при проведении совещания и негативно влияющие на психологическое состояние и внимание участ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Разработать программу совещания с учетом специфики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эмоций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дходы к управлению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способа управлять собственными эмоциями (реакциями): сознательное распределение эмоций как фактор чрезмерной концентрации переживаний человека; увеличение объема получаемой информации и расширение круга контактов; концентрация и сосредоточение эмо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переноса переживаний с эмоциогенных ситуаций на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лексия эмо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облемы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эмоций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дходы к управлению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способа управлять собственными эмоциями (реакциями): сознательное распределение эмоций как фактор чрезмерной концентрации переживаний человека; увеличение объема получаемой информации и расширение круга контактов; концентрация и сосредоточение эмо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переноса переживаний с эмоциогенных ситуаций на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лексия эмо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облемы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Отработка навыков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ибкости в управлении психоэмоциональными состояниями и их использовании в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сихофизиологических техник релаксации и саморегуля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трен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тодик: Самооценка тревожности, фрустрированности, агрессивности и ригидности, Дифференциальные шкалы эмоций (по К.Изар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сочинение на тему: «Понимание себя - рефлексия эмоций. Управление собой - менеджмент эмоц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йти методики: Опросник структуры темперамента В.М. Русалова (ОСТ), Шкала реактивной (ситуативной) и личностной тревожности Ч.Д.Спилбергера – Ю.Л.Хан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Отработка навыков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ибкости в управлении психоэмоциональными состояниями и их использовании в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сихофизиологических техник релаксации и саморегуля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трен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тодик: Самооценка тревожности, фрустрированности, агрессивности и ригидности, Дифференциальные шкалы эмоций (по К.Изар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сочинение на тему: «Понимание себя - рефлексия эмоций. Управление собой - менеджмент эмоц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йти методики: Опросник структуры темперамента В.М. Русалова (ОСТ), Шкала реактивной (ситуативной) и личностной тревожности Ч.Д.Спилбергера – Ю.Л.Хан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техники словесного убежден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беждение как ведущий  метод организаторского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е приемы и способы аргумен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эффективного воздейст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техники словесного убежден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беждение как ведущий  метод организаторского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е приемы и способы аргумен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эффективного воздейст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роведение диску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таблицу способов аргументации и их краткую характерист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роведение диску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таблицу способов аргументации и их краткую характерист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и причины аферы и мошенничество в современном российск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ая оценка делового партнера при осуществлении рыночной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недобросовестного сотрудничества в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анипуляции и в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блуждени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и причины аферы и мошенничество в современном российск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ая оценка делового партнера при осуществлении рыночной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недобросовестного сотрудничества в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анипуляции и в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блуждени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приемы контроля за манипулятивными играми в бизнес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и приемы работы с проблем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увеличение или преуменьшение возможностей, то есть создание "ложного имиджа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заманчивых условий сотруднич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Игра на конъюнктуре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тасовка информации для убеждения в эффективности коммерческого предлож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в сделку путем завоевания доверия на первом этапе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приемы контроля за манипулятивными играми в бизнес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и приемы работы с проблем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увеличение или преуменьшение возможностей, то есть создание "ложного имиджа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заманчивых условий сотруднич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Игра на конъюнктуре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тасовка информации для убеждения в эффективности коммерческого предлож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в сделку путем завоевания доверия на первом этапе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ЧИ В ИСПОЛЬЗОВАНИИ СОВРЕМЕННЫХ ПСИХОТЕХНОЛОГИЙ В БИЗНЕС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ЧИ В ИСПОЛЬЗОВАНИИ СОВРЕМЕННЫХ ПСИХОТЕХНОЛОГИЙ В БИЗНЕС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сихологического цикл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сихологического цикл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технологии управления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«Идеальная» система тайм-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 планах и органайзе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выки тайм-менеджмента: полезные и бесполез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оррекция план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Тотальный контро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оцессы управления времен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авила тайм-менеджмента, позволяющие повысить личную эффектив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Инструменты для реализации техник управления време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технологии управления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«Идеальная» система тайм-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 планах и органайзе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выки тайм-менеджмента: полезные и бесполез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оррекция план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Тотальный контро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оцессы управления времен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авила тайм-менеджмента, позволяющие повысить личную эффектив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Инструменты для реализации техник управления време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рактическое руководство по планированию работ (Техники Т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план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 разработки планинга и работы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егории проектов: планы на день, учет финансовых расходов, расписание дня, телефонный справочник, расписание занятий, составление меню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Составить планинг значим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еб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рактическое руководство по планированию работ (Техники Т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план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 разработки планинга и работы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егории проектов: планы на день, учет финансовых расходов, расписание дня, телефонный справочник, расписание занятий, составление меню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Составить планинг значим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еб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области самомотивации: стремление к достижениям, инициатива и оптимизм, реш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области самомотивации: стремление к достижениям, инициатива и оптимизм, реш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Техник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преумень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выполнения сложной и неинтересн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личной 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выполнить методики по мотивации к учебной деятельности и учению, мотивации достижения успеха и избегания неу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Техник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преумень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выполнения сложной и неинтересн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личной 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выполнить методики по мотивации к учебной деятельности и учению, мотивации достижения успеха и избегания неу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: общение,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характеристики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структур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онно-целев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ая сторона общения: коммуникативные барьеры, информация, коммуникации.Вербальная, невербальная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цеп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особенности управленческ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ведения сп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: общение,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характеристики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структур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онно-целев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ая сторона общения: коммуникативные барьеры, информация, коммуникации.Вербальная, невербальная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цеп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особенности управленческ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ведения сп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инструменты повышения эффективности коммуник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муникативные свойства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ременные средства коммуникации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правленческ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лияние информационных технологий на организацию рабочих мес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игр и упражнений на понимание вербальной и невербаль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ьте логическую схему на тему: «Ролевые игры и упражнения, направленные на развитие навыков калибровки партнёра по взаимодействию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кроссворд по теме: «Сенсорная острота и обратная связь. Информационные фильтры. Каналы восприят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инструменты повышения эффективности коммуник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муникативные свойства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ременные средства коммуникации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правленческ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лияние информационных технологий на организацию рабочих мес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игр и упражнений на понимание вербальной и невербаль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ьте логическую схему на тему: «Ролевые игры и упражнения, направленные на развитие навыков калибровки партнёра по взаимодействию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кроссворд по теме: «Сенсорная острота и обратная связь. Информационные фильтры. Каналы восприят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логического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тимулы, побуждающие к эфф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ферические стимулы, отвлекающие вним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вним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референтные пережива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логического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тимулы, побуждающие к эфф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ферические стимулы, отвлекающие вним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вним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референтные пережива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C1D4-2C44-4B86-9780-CAB57AD3B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EBED-22B7-455C-A252-3C4E866C9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ADE1-5C57-4162-B2F5-6E46EB1B9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2971-4160-48A8-B2A4-043FA216BB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6F457-2FD2-4FFD-8491-C10ADB48CC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242C0-BFF2-4D51-8163-B92D8B6186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C9612-A462-49CB-8B98-E45165E7B8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E5F28-507A-4871-B98D-1914483869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AA4E9-5474-4DE7-A8F6-9B7A2C37DB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1ADD5-2849-4058-902C-3C2BA76727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A56C6-AA30-463B-869E-DDEC84D4A0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FFC8-D356-4A29-833F-080E67610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267EA-CAC9-409A-85B0-4D64945CC8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19EA5-E8A2-4AF0-9FCB-6CB834FCDF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D32C7-40DD-42E1-804F-8C1D2CD068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6BBD6-9183-478F-982E-3CC30718DF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B8780-A1D3-46D4-A644-112DB0A9C2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9A2-6A68-4217-8F61-540FF3CC21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F35A-918F-40C3-B1E7-2A4CDECEAC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C3F-E22F-4C2B-8FD4-74F891D1E5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24F4-C957-42F0-A567-4123511F4C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7519-F1AB-44F4-A1C3-42EEE01BC4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6169-C5C8-4310-B138-26E1E19838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21D-7016-435B-A640-1C20B13603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2847-8EC3-4961-A4BD-A17A23BAAD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742-CE1B-499D-AA73-25A0EAFCCE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C06-69D1-417A-B6A4-6D6D4C6E24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EF4-FBC5-4F48-9301-BE9BD3DAB9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9240-83AE-4F1A-B4BB-D38C795085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FE6-1E9F-4A83-924F-210C908C305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CD9F-17E8-4EC2-9875-730124EA12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FCF4-3B92-43AA-AFC3-10CD1CDDF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FFA3-EF44-4CA3-B046-ACEF9DE11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CF5E-51B7-4A0A-9A19-B07D65F87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1FC3-2A60-4CF1-A639-7947C782E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295E-E553-4459-B2C7-94744866C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7640" y="6380280"/>
            <a:ext cx="1368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&gt;</a:t>
            </a: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 </a:t>
            </a:r>
            <a:fld id="{E650870F-1457-487A-8A35-17B88CB294B8}" type="slidenum"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79240" y="160812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07640" y="6380280"/>
            <a:ext cx="1368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&gt;</a:t>
            </a: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 </a:t>
            </a:r>
            <a:fld id="{9CD89EF0-05A5-4778-A4F9-F69F9E65D3CB}" type="slidenum"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</a:t>
            </a:r>
            <a:fld id="{766C115C-2F50-41B7-BE56-1D749CB9631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79240" y="160812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720" y="1412640"/>
            <a:ext cx="4464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ОВРЕМЕННЫЕ ПСИХОТЕХНОЛОГИИ В БИЗНЕСЕ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63" name="Picture 9" descr="logo"/>
          <p:cNvPicPr/>
          <p:nvPr/>
        </p:nvPicPr>
        <p:blipFill>
          <a:blip r:embed="rId1"/>
          <a:stretch/>
        </p:blipFill>
        <p:spPr>
          <a:xfrm>
            <a:off x="8153280" y="250920"/>
            <a:ext cx="739800" cy="547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01"/>
          <p:cNvPicPr/>
          <p:nvPr/>
        </p:nvPicPr>
        <p:blipFill>
          <a:blip r:embed="rId3"/>
          <a:stretch/>
        </p:blipFill>
        <p:spPr>
          <a:xfrm>
            <a:off x="6516720" y="4508640"/>
            <a:ext cx="934920" cy="1512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7"/>
          <p:cNvSpPr/>
          <p:nvPr/>
        </p:nvSpPr>
        <p:spPr>
          <a:xfrm>
            <a:off x="584280" y="5310360"/>
            <a:ext cx="41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афед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«Прикладная психолог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4. Психотехнологии воздействия на группу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Психологические основы эффективности проведения совещаний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1. Элементы эффективного планирования совещания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2. Типичные ошибки, допускаемые при проведении совещания и негативно влияющие на психологическое состояние и внимание участников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rebuchet MS"/>
              </a:rPr>
              <a:t>Домашнее задание: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 Разработать программу совещания с учетом специфики коллективного восприят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5. Психотехнологии управления эмоциям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Роль эмоций в жизни человек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Основные подходы к управлению эмоциям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Три способа управлять собственными эмоциями (реакциями): сознательное распределение эмоций как фактор чрезмерной концентрации переживаний человека; увеличение объема получаемой информации и расширение круга контактов; концентрация и сосредоточение эмоций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Механизмы переноса переживаний с эмоциогенных ситуаций на нейтральные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Рефлексия эмоций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Основные проблемы управления эмоциями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97" name="Picture 6" descr="basic_emotions_600"/>
          <p:cNvPicPr/>
          <p:nvPr/>
        </p:nvPicPr>
        <p:blipFill>
          <a:blip r:embed="rId1"/>
          <a:stretch/>
        </p:blipFill>
        <p:spPr>
          <a:xfrm>
            <a:off x="6516720" y="1557360"/>
            <a:ext cx="2279520" cy="1224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98" name="Picture 4" descr="masks"/>
          <p:cNvPicPr/>
          <p:nvPr/>
        </p:nvPicPr>
        <p:blipFill>
          <a:blip r:embed="rId2"/>
          <a:stretch/>
        </p:blipFill>
        <p:spPr>
          <a:xfrm>
            <a:off x="7164360" y="5084640"/>
            <a:ext cx="1260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5. Психотехнологии управления эмоциям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0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Monotype Corsiva"/>
              </a:rPr>
              <a:t>СЕМИНАР . </a:t>
            </a: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Отработка навыков управления эмоциями.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Развитие гибкости в управлении психоэмоциональными состояниями и их использовании в коммуникации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Отработка психофизиологических техник релаксации и саморегуляции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Аутотренинг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Якорение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rebuchet MS"/>
              </a:rPr>
              <a:t>- Проведение методик: </a:t>
            </a: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Самооценка тревожности, фрустрированности, агрессивности и ригидности, Дифференциальные шкалы эмоций (по К.Изарду)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rebuchet MS"/>
              </a:rPr>
              <a:t>Домашнее задание</a:t>
            </a: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Мини-сочинение на тему: «Понимание себя - рефлексия эмоций. Управление собой - менеджмент эмоций»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Пройти методики: </a:t>
            </a:r>
            <a:r>
              <a:rPr b="1" lang="ru-RU" sz="1800" spc="-1" strike="noStrike">
                <a:solidFill>
                  <a:srgbClr val="000066"/>
                </a:solidFill>
                <a:latin typeface="Trebuchet MS"/>
              </a:rPr>
              <a:t>Опросник структуры темперамента В.М. Русалова (ОСТ), Шкала реактивной (ситуативной) и личностной тревожности Ч.Д.Спилбергера – Ю.Л.Ханина,</a:t>
            </a: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7596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6. Психотехнологии убеждения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онятие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«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техники словесного убеждения».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Убеждение как ведущий  метод организаторского воздействия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Эффективные приемы и способы аргумент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авила эффективного воздействия.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03" name="Рисунок 3" descr="b_46459c0b65c82df6ecd026c47d3f2cee.jpg"/>
          <p:cNvPicPr/>
          <p:nvPr/>
        </p:nvPicPr>
        <p:blipFill>
          <a:blip r:embed="rId1"/>
          <a:stretch/>
        </p:blipFill>
        <p:spPr>
          <a:xfrm>
            <a:off x="1258920" y="4941720"/>
            <a:ext cx="1908000" cy="1224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11228f676349b8a_b"/>
          <p:cNvPicPr/>
          <p:nvPr/>
        </p:nvPicPr>
        <p:blipFill>
          <a:blip r:embed="rId2"/>
          <a:stretch/>
        </p:blipFill>
        <p:spPr>
          <a:xfrm>
            <a:off x="6732720" y="5157720"/>
            <a:ext cx="1800000" cy="935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Users\Администратор\Desktop\marketing9_01.jpg"/>
          <p:cNvPicPr/>
          <p:nvPr/>
        </p:nvPicPr>
        <p:blipFill>
          <a:blip r:embed="rId3"/>
          <a:stretch/>
        </p:blipFill>
        <p:spPr>
          <a:xfrm>
            <a:off x="3995640" y="5229360"/>
            <a:ext cx="1943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308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6. Психотехнологии убеждения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СЕМИНАР 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дготовка и проведение дискусс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омашнее задание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Составить таблицу способов аргументации и их краткую характеристику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08" name="Рисунок 5" descr="iStock_boxing.jpg"/>
          <p:cNvPicPr/>
          <p:nvPr/>
        </p:nvPicPr>
        <p:blipFill>
          <a:blip r:embed="rId1"/>
          <a:stretch/>
        </p:blipFill>
        <p:spPr>
          <a:xfrm>
            <a:off x="6588000" y="2492280"/>
            <a:ext cx="187956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236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Тема 7. Современные психотехнологии: манипулятивные игры в бизнесе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нятия и причины аферы и мошенничество в современном российском бизнесе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авильная оценка делового партнера при осуществлении рыночной хозяйственной деятельност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Формы недобросовестного сотрудничества в предпринимательской деятельност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Методы манипуляции и введения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в заблуждение.  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11" name="Picture 2" descr="C:\Users\Администратор\Desktop\125.jpg"/>
          <p:cNvPicPr/>
          <p:nvPr/>
        </p:nvPicPr>
        <p:blipFill>
          <a:blip r:embed="rId1"/>
          <a:stretch/>
        </p:blipFill>
        <p:spPr>
          <a:xfrm>
            <a:off x="6659640" y="5013360"/>
            <a:ext cx="21924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236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Тема 7. Современные психотехнологии: манипулятивные игры в бизнесе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02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Методы и приемы контроля за манипулятивными играми в бизнесе</a:t>
            </a: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 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етоды и приемы работы с проблемами: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еувеличение или преуменьшение возможностей, то есть создание "ложного имиджа«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едложение заманчивых условий сотрудничества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"Игра на конъюнктуре«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одтасовка информации для убеждения в эффективности коммерческого предложения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Вовлечение в сделку путем завоевания доверия на первом этапе.    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14" name="Picture 5" descr="image009"/>
          <p:cNvPicPr/>
          <p:nvPr/>
        </p:nvPicPr>
        <p:blipFill>
          <a:blip r:embed="rId1"/>
          <a:stretch/>
        </p:blipFill>
        <p:spPr>
          <a:xfrm>
            <a:off x="6948360" y="3213000"/>
            <a:ext cx="19796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60847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УДАЧИ В ИСПОЛЬЗОВАНИИ СОВРЕМЕННЫХ</a:t>
            </a:r>
            <a:r>
              <a:rPr b="0" lang="ru-RU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ПСИХОТЕХНОЛОГИЙ</a:t>
            </a:r>
            <a:r>
              <a:rPr b="0" lang="ru-RU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В БИЗНЕСЕ!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3059280" y="2276640"/>
            <a:ext cx="2808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4360" y="1834920"/>
            <a:ext cx="46083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3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исциплина психологического цикла: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исциплина по выбору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28320" y="3652920"/>
            <a:ext cx="5842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rebuchet MS"/>
              </a:rPr>
              <a:t>#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69" name="Picture 6" descr="logo"/>
          <p:cNvPicPr/>
          <p:nvPr/>
        </p:nvPicPr>
        <p:blipFill>
          <a:blip r:embed="rId1"/>
          <a:stretch/>
        </p:blipFill>
        <p:spPr>
          <a:xfrm>
            <a:off x="8075520" y="351000"/>
            <a:ext cx="739800" cy="547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02"/>
          <p:cNvPicPr/>
          <p:nvPr/>
        </p:nvPicPr>
        <p:blipFill>
          <a:blip r:embed="rId3"/>
          <a:stretch/>
        </p:blipFill>
        <p:spPr>
          <a:xfrm>
            <a:off x="6012000" y="472428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659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Тема 1. Психотехнологии управления времене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00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я психотехнологии управления временем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2. «Идеальная» система тайм-менеджмент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3. О планах и органайзерах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4. Навыки тайм-менеджмента: полезные и бесполезные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5. Коррекция планов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6. Тотальный контроль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7. Процессы управления временем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8. Правила тайм-менеджмента, позволяющие повысить личную эффективность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9. Инструменты для реализации техник управления временем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74" name="Picture 8" descr="b86"/>
          <p:cNvPicPr/>
          <p:nvPr/>
        </p:nvPicPr>
        <p:blipFill>
          <a:blip r:embed="rId1"/>
          <a:stretch/>
        </p:blipFill>
        <p:spPr>
          <a:xfrm>
            <a:off x="7524720" y="3357720"/>
            <a:ext cx="1295280" cy="16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Тема 1. Психотехнологии управления времене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</a:t>
            </a:r>
            <a:r>
              <a:rPr b="1" i="1" lang="ru-RU" sz="2800" spc="-1" strike="noStrike">
                <a:solidFill>
                  <a:srgbClr val="000066"/>
                </a:solidFill>
                <a:latin typeface="Monotype Corsiva"/>
              </a:rPr>
              <a:t>Практическое руководство по планированию работ</a:t>
            </a: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 (</a:t>
            </a:r>
            <a:r>
              <a:rPr b="1" i="1" lang="ru-RU" sz="2800" spc="-1" strike="noStrike">
                <a:solidFill>
                  <a:srgbClr val="000066"/>
                </a:solidFill>
                <a:latin typeface="Monotype Corsiva"/>
              </a:rPr>
              <a:t>Техники ТМ)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рименение планинг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Шаги разработки планинга и работы с ним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Категории проектов: планы на день, учет финансовых расходов, расписание дня, телефонный справочник, расписание занятий, составление меню и т.д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rebuchet MS"/>
              </a:rPr>
              <a:t>Домашнее задание: 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Составить планинг значимого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для себя проект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77" name="Picture 6" descr="42051"/>
          <p:cNvPicPr/>
          <p:nvPr/>
        </p:nvPicPr>
        <p:blipFill>
          <a:blip r:embed="rId1"/>
          <a:stretch/>
        </p:blipFill>
        <p:spPr>
          <a:xfrm>
            <a:off x="7451640" y="4437000"/>
            <a:ext cx="1405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6156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2. Психотехнологии самомотиваци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онятие само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Три области самомотивации: стремление к достижениям, инициатива и оптимизм, решимость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инципы само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Развитие само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80" name="Picture 4" descr="21"/>
          <p:cNvPicPr/>
          <p:nvPr/>
        </p:nvPicPr>
        <p:blipFill>
          <a:blip r:embed="rId1"/>
          <a:stretch/>
        </p:blipFill>
        <p:spPr>
          <a:xfrm>
            <a:off x="7308720" y="5013360"/>
            <a:ext cx="9432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56516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2. Психотехнологии самомотиваци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СЕМИНАР . Техники самомотивации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Техники преуменьшения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Техники выполнения сложной и неинтересной работы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иемы личной 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rebuchet MS"/>
              </a:rPr>
              <a:t>Домашнее задание</a:t>
            </a: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: выполнить методики по мотивации к учебной деятельности и учению, мотивации достижения успеха и избегания неудачи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812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3. Психотехнологии эффективных коммуникаций в бизнесе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ctr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я: общение, коммуникац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Содержание и характеристики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Функции и структур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Мотивационно-целевая сторон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Коммуникационная сторона общения: коммуникативные барьеры, информация, коммуникации.Вербальная, невербальная коммуникац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Интерактивная сторон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ерцептивная сторон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сихологические особенности управленческого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сихология ведения спор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85" name="Picture 5" descr="20"/>
          <p:cNvPicPr/>
          <p:nvPr/>
        </p:nvPicPr>
        <p:blipFill>
          <a:blip r:embed="rId1"/>
          <a:stretch/>
        </p:blipFill>
        <p:spPr>
          <a:xfrm>
            <a:off x="7380360" y="5589720"/>
            <a:ext cx="961920" cy="838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18"/>
          <p:cNvPicPr/>
          <p:nvPr/>
        </p:nvPicPr>
        <p:blipFill>
          <a:blip r:embed="rId2"/>
          <a:stretch/>
        </p:blipFill>
        <p:spPr>
          <a:xfrm>
            <a:off x="7524720" y="2060640"/>
            <a:ext cx="7333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308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Тема 3. Психотехнологии эффективных коммуникаций в бизнесе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00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Методы и инструменты повышения эффективности коммуникаций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1. Коммуникативные свойства информаци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2. Современные средства коммуникации в менеджменте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3. Управленческая информац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4. Влияние информационных технологий на организацию рабочих мест. 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роведение игр и упражнений на понимание вербальной и невербальной информаци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rebuchet MS"/>
              </a:rPr>
              <a:t>Домашнее задание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- Составьте логическую схему на тему: «Ролевые игры и упражнения, направленные на развитие навыков калибровки партнёра по взаимодействию»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- Составить кроссворд по теме: «Сенсорная острота и обратная связь. Информационные фильтры. Каналы восприятия»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4. Психотехнологии воздействия на группу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я психологического воздействия на группу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Специфика коллективного восприят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Основные стимулы, побуждающие к эффективной деятельност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ериферические стимулы, отвлекающие внимание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Ресурсы внима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е «референтные переживания»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91" name="Picture 4" descr="22"/>
          <p:cNvPicPr/>
          <p:nvPr/>
        </p:nvPicPr>
        <p:blipFill>
          <a:blip r:embed="rId1"/>
          <a:stretch/>
        </p:blipFill>
        <p:spPr>
          <a:xfrm>
            <a:off x="7524720" y="5157720"/>
            <a:ext cx="774720" cy="1447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19"/>
          <p:cNvPicPr/>
          <p:nvPr/>
        </p:nvPicPr>
        <p:blipFill>
          <a:blip r:embed="rId2"/>
          <a:stretch/>
        </p:blipFill>
        <p:spPr>
          <a:xfrm>
            <a:off x="7164360" y="2637000"/>
            <a:ext cx="157176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6:05:40Z</dcterms:created>
  <dc:creator>natalie</dc:creator>
  <dc:description/>
  <dc:language>en-US</dc:language>
  <cp:lastModifiedBy>LEGION</cp:lastModifiedBy>
  <dcterms:modified xsi:type="dcterms:W3CDTF">2016-01-11T10:04:13Z</dcterms:modified>
  <cp:revision>33</cp:revision>
  <dc:subject/>
  <dc:title>Современные психотехнологии в бизнес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