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gif" ContentType="image/gif"/>
  <Override PartName="/ppt/media/image9.jpeg" ContentType="image/jpeg"/>
  <Override PartName="/ppt/media/image13.gif" ContentType="image/gif"/>
  <Override PartName="/ppt/media/image16.jpeg" ContentType="image/jpeg"/>
  <Override PartName="/ppt/media/image8.gif" ContentType="image/gif"/>
  <Override PartName="/ppt/media/image18.jpeg" ContentType="image/jpeg"/>
  <Override PartName="/ppt/media/image12.gif" ContentType="image/gif"/>
  <Override PartName="/ppt/media/image3.jpeg" ContentType="image/jpeg"/>
  <Override PartName="/ppt/media/image7.gif" ContentType="image/gif"/>
  <Override PartName="/ppt/media/image11.gif" ContentType="image/gif"/>
  <Override PartName="/ppt/media/image21.jpeg" ContentType="image/jpeg"/>
  <Override PartName="/ppt/media/image20.jpeg" ContentType="image/jpeg"/>
  <Override PartName="/ppt/media/image15.jpeg" ContentType="image/jpeg"/>
  <Override PartName="/ppt/media/image14.gif" ContentType="image/gif"/>
  <Override PartName="/ppt/media/image19.jpeg" ContentType="image/jpeg"/>
  <Override PartName="/ppt/media/image5.png" ContentType="image/png"/>
  <Override PartName="/ppt/media/image17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4.png" ContentType="image/png"/>
  <Override PartName="/ppt/media/image6.gif" ContentType="image/gi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move the slide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93F9B-7D99-4BD0-9E83-DD9A0F7460E5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РЕМЕННЫЕ ПСИХОТЕХНОЛОГИИ В БИЗНЕСЕ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федр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кладная психолог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сихологические основы эффективности проведения совеща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Элементы эффективного планирования совещ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Разработать программу совещания с учетом специфики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ль эмоций в жизни челове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одходы к управлению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ы переноса переживаний с эмоциогенных ситуаций на нейтральны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флексия эмоци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облемы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5. Психотехнологии управления эмо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Отработка навыков управления эмоциям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ботка психофизиологических техник релаксации и саморегуля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утотренин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кор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роведение методик: 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йти методики: Опросник структуры темперамента В.М. Русалова (ОСТ), Шкала реактивной (ситуативной) и личностной тревожности Ч.Д.Спилбергера – Ю.Л.Ханин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техники словесного убежден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ффективные приемы и способы аргумент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а эффективного воздейств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6. Психотехнологии убежд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готовка и проведение дискусс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таблицу способов аргументации и их краткую характеристик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и причины аферы и мошенничество в современном российском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недобросовестного сотрудничества в предприниматель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манипуляции и введ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блуждение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7. Современные психотехнологии: манипулятивные игры в бизне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приемы контроля за манипулятивными играми в бизнесе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и приемы работы с проблемам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увеличение или преуменьшение возможностей, то есть создание "ложного имиджа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е заманчивых условий сотрудниче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"Игра на конъюнктуре«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тасовка информации для убеждения в эффективности коммерческого предлож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влечение в сделку путем завоевания доверия на первом этапе.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АЧИ В ИСПОЛЬЗОВАНИИ СОВРЕМЕННЫХ ПСИХОТЕХНОЛОГИЙ В БИЗНЕС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сихологического цикла: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 по выбор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#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gt;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технологии управления времен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«Идеальная» система тайм-менеджм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О планах и органайзерах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Навыки тайм-менеджмента: полезные и бесполезны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Коррекция план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Тотальный контрол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Процессы управления времене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Правила тайм-менеджмента, позволяющие повысить личную эффективность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Инструменты для реализации техник управления времен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1. Психотехнологии управления временем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Практическое руководство по планированию работ (Техники Т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план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аги разработки планинга и работы с н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Составить планинг значим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ебя проек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2. Психотехнологи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Техники само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преуменьш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ики выполнения сложной и неинтересной рабо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емы личной мотив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: общение,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держание и характеристики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и структур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тивационно-целев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ак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цептивная сторона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ческие особенности управленческого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ология ведения сп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3. Психотехнологии эффективных коммуникаций в бизнес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МИНАР . Методы и инструменты повышения эффективности коммуникац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муникативные свойства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Современные средства коммуникации в менеджмент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Управленческая информа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Влияние информационных технологий на организацию рабочих мест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дение игр и упражнений на понимание вербальной и невербальн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Психотехнологии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КЦ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я психологического воздействия на групп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ка коллективного восприят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стимулы, побуждающие к эффектив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иферические стимулы, отвлекающие вним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вним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референтные переживания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AE30FE-A5AC-4133-BCDF-D4BE53915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4203-E492-4E24-9329-169D7CEC02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866DB-F143-407C-934A-759B7AA139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F27E-4800-4E51-847D-B79D255A0B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4AC99-DCC9-4992-9462-2477C0C4F3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842FD-1F09-40FC-BE05-6E12AA424A8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E4687B-754A-4F30-8E37-8A4DB423BF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12436-EC0E-4166-8805-13D472E76A6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34B4E-E997-42BE-8D09-A4A73C42766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35B4D-7F23-4F0D-97FF-5F263D4933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2F9D1-6A76-4EFA-8C42-0B77121FF0B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A98E-71FF-463F-A925-C474DF1E6E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0215E-8EEA-4A8E-8510-AABEC062EF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316BC-2CC3-447C-AAEA-C539469E7E9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4AC46-970F-425B-A871-30FE922D4DE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64A5CD-8100-4A15-A760-5B9D5789BE7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C8988-B235-43CA-B079-BA554F901DAB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5F8F-8869-4489-A215-F651BA3E21D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14045-C525-47DA-A059-149EF84F490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E60CF-3ED3-4FC9-AD93-02E3169C4D5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78C2-6FE5-41A5-9183-93A6F4A24F2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EA30-6B91-45F0-87F8-42E277863EB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A0D1EF-9181-41BC-BCDD-F08B581849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4C895-2795-4731-A40E-01D4B4EBF33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F6EEF-F6E9-45F6-8F1E-D3FC1C9AA39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644A-86CA-40F9-8951-A5CD7374905C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5DD7-BEF1-4188-883D-702197433CA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26BF-0E86-4B65-984C-34DAA79AE72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847AF-D41E-44B0-BD6F-403D80CE20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75E5A-2418-430C-9B9A-ECD0D52E734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7C64-4B1A-40AD-851E-35CD9829A06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4540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951160" y="160812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3964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4540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5951160" y="3972240"/>
            <a:ext cx="25765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E71CFD-BDC1-4BF7-B832-622FAD382A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0" y="333000"/>
            <a:ext cx="6084720" cy="433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A31EE-2CE9-4521-B159-11DDE9A90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6E70-DDDE-476C-8812-83B707F22E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40400" y="397224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B918C-E46F-454B-BB81-BF00DC3EC6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40400" y="1608120"/>
            <a:ext cx="3905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39640" y="3972240"/>
            <a:ext cx="800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0A727-98E7-4A1C-B36C-ACB48A93DE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F94262EA-042E-4B8F-8A0F-41C9E04EEF43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2"/>
          </p:nvPr>
        </p:nvSpPr>
        <p:spPr>
          <a:xfrm>
            <a:off x="107640" y="6380280"/>
            <a:ext cx="1368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rebuchet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&gt;</a:t>
            </a:r>
            <a:r>
              <a:rPr b="0" lang="en-US" sz="1000" spc="-1" strike="noStrike">
                <a:solidFill>
                  <a:srgbClr val="ffffff"/>
                </a:solidFill>
                <a:latin typeface="Trebuchet MS"/>
              </a:rPr>
              <a:t> </a:t>
            </a:r>
            <a:fld id="{4650C50A-DE20-4998-815C-74C731B06CFA}" type="slidenum">
              <a:rPr b="0" lang="ru-RU" sz="1000" spc="-1" strike="noStrike">
                <a:solidFill>
                  <a:srgbClr val="ffffff"/>
                </a:solidFill>
                <a:latin typeface="Trebuchet MS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gt;</a:t>
            </a:r>
            <a:fld id="{09117661-598E-43AE-92FF-02CBDBDC1BD9}" type="slidenum"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579240" y="160812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199"/>
              </a:spcAft>
              <a:buClr>
                <a:srgbClr val="f39220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Click to edit the outline text format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1" marL="708120" indent="-363600">
              <a:spcAft>
                <a:spcPts val="1199"/>
              </a:spcAft>
              <a:buClr>
                <a:srgbClr val="0985d2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con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2" marL="1065240" indent="-345960">
              <a:spcAft>
                <a:spcPts val="1199"/>
              </a:spcAft>
              <a:buClr>
                <a:srgbClr val="ea4037"/>
              </a:buClr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3" marL="1631880" indent="-228600">
              <a:spcAft>
                <a:spcPts val="1199"/>
              </a:spcAft>
              <a:buClr>
                <a:srgbClr val="0000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our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4" marL="2057400" indent="-228600">
              <a:spcAft>
                <a:spcPts val="1199"/>
              </a:spcAft>
              <a:buClr>
                <a:srgbClr val="0000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Fif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5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ix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lvl="6" marL="2057400" indent="-228600">
              <a:spcAft>
                <a:spcPts val="1199"/>
              </a:spcAft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rebuchet MS"/>
              </a:rPr>
              <a:t>Seventh Outline Level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284720" y="1412640"/>
            <a:ext cx="4464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</a:rPr>
              <a:t>СОВРЕМЕННЫЕ ПСИХОТЕХНОЛОГИИ В БИЗНЕСЕ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3" name="Picture 9" descr="logo"/>
          <p:cNvPicPr/>
          <p:nvPr/>
        </p:nvPicPr>
        <p:blipFill>
          <a:blip r:embed="rId1"/>
          <a:stretch/>
        </p:blipFill>
        <p:spPr>
          <a:xfrm>
            <a:off x="8153280" y="25092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01"/>
          <p:cNvPicPr/>
          <p:nvPr/>
        </p:nvPicPr>
        <p:blipFill>
          <a:blip r:embed="rId3"/>
          <a:stretch/>
        </p:blipFill>
        <p:spPr>
          <a:xfrm>
            <a:off x="6516720" y="4508640"/>
            <a:ext cx="934920" cy="1512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7"/>
          <p:cNvSpPr/>
          <p:nvPr/>
        </p:nvSpPr>
        <p:spPr>
          <a:xfrm>
            <a:off x="584280" y="5310360"/>
            <a:ext cx="4138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Кафед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Black"/>
              </a:rPr>
              <a:t>«Прикладная психология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Психологические основы эффективности проведения совещан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1. Элементы эффективного планирования совещания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2. Типичные ошибки, допускаемые при проведении совещания и негативно влияющие на психологическое состояние и внимание участников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 Разработать программу совещания с учетом специфики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4784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оль эмоций в жизни человек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одходы к управлению эмоциям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Три способа управлять собственными эмоциями (реакциями): сознательное распределение эмоций как фактор чрезмерной концентрации переживаний человека; увеличение объема получаемой информации и расширение круга контактов; концентрация и сосредоточение эмоций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еханизмы переноса переживаний с эмоциогенных ситуаций на нейтральны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флексия эмоций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проблемы управления эмоциями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7" name="Picture 6" descr="basic_emotions_600"/>
          <p:cNvPicPr/>
          <p:nvPr/>
        </p:nvPicPr>
        <p:blipFill>
          <a:blip r:embed="rId1"/>
          <a:stretch/>
        </p:blipFill>
        <p:spPr>
          <a:xfrm>
            <a:off x="6516720" y="1557360"/>
            <a:ext cx="2279520" cy="12240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pic>
        <p:nvPicPr>
          <p:cNvPr id="198" name="Picture 4" descr="masks"/>
          <p:cNvPicPr/>
          <p:nvPr/>
        </p:nvPicPr>
        <p:blipFill>
          <a:blip r:embed="rId2"/>
          <a:stretch/>
        </p:blipFill>
        <p:spPr>
          <a:xfrm>
            <a:off x="7164360" y="5084640"/>
            <a:ext cx="1260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5. Психотехнологии управления эмоциям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39640" y="1341000"/>
            <a:ext cx="8002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Отработка навыков управления эмоциями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Развитие гибкости в управлении психоэмоциональными состояниями и их использовании в коммуника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Отработка психофизиологических техник релаксации и саморегуляции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Аутотренинг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Якорение.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- Проведение методик: 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Самооценка тревожности, фрустрированности, агрессивности и ригидности, Дифференциальные шкалы эмоций (по К.Изарду)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lnSpc>
                <a:spcPct val="80000"/>
              </a:lnSpc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Мини-сочинение на тему: «Понимание себя - рефлексия эмоций. Управление собой - менеджмент эмоций».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lnSpc>
                <a:spcPct val="80000"/>
              </a:lnSpc>
              <a:spcAft>
                <a:spcPts val="901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Пройти методики: </a:t>
            </a:r>
            <a:r>
              <a:rPr b="1" lang="ru-RU" sz="1800" spc="-1" strike="noStrike">
                <a:solidFill>
                  <a:srgbClr val="000066"/>
                </a:solidFill>
                <a:latin typeface="Trebuchet MS"/>
              </a:rPr>
              <a:t>Опросник структуры темперамента В.М. Русалова (ОСТ), Шкала реактивной (ситуативной) и личностной тревожности Ч.Д.Спилбергера – Ю.Л.Ханина,</a:t>
            </a:r>
            <a:r>
              <a:rPr b="0" lang="ru-RU" sz="1800" spc="-1" strike="noStrike">
                <a:solidFill>
                  <a:srgbClr val="000066"/>
                </a:solidFill>
                <a:latin typeface="Trebuchet MS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759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онятие</a:t>
            </a:r>
            <a:r>
              <a:rPr b="0" lang="ru-RU" sz="3200" spc="-1" strike="noStrike">
                <a:solidFill>
                  <a:srgbClr val="000066"/>
                </a:solidFill>
                <a:latin typeface="Arial"/>
              </a:rPr>
              <a:t> «</a:t>
            </a: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техники словесного убеждения»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Убеждение как ведущий  метод организаторского воздейств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Эффективные приемы и способы аргумент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100000"/>
              </a:lnSpc>
              <a:spcAft>
                <a:spcPts val="1199"/>
              </a:spcAft>
              <a:buClr>
                <a:srgbClr val="f3922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Arial"/>
              </a:rPr>
              <a:t>Правила эффективного воздействия.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3" name="Рисунок 3" descr="b_46459c0b65c82df6ecd026c47d3f2cee.jpg"/>
          <p:cNvPicPr/>
          <p:nvPr/>
        </p:nvPicPr>
        <p:blipFill>
          <a:blip r:embed="rId1"/>
          <a:stretch/>
        </p:blipFill>
        <p:spPr>
          <a:xfrm>
            <a:off x="1258920" y="4941720"/>
            <a:ext cx="1908000" cy="1224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11228f676349b8a_b"/>
          <p:cNvPicPr/>
          <p:nvPr/>
        </p:nvPicPr>
        <p:blipFill>
          <a:blip r:embed="rId2"/>
          <a:stretch/>
        </p:blipFill>
        <p:spPr>
          <a:xfrm>
            <a:off x="6732720" y="5157720"/>
            <a:ext cx="1800000" cy="935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2" descr="C:\Users\Администратор\Desktop\marketing9_01.jpg"/>
          <p:cNvPicPr/>
          <p:nvPr/>
        </p:nvPicPr>
        <p:blipFill>
          <a:blip r:embed="rId3"/>
          <a:stretch/>
        </p:blipFill>
        <p:spPr>
          <a:xfrm>
            <a:off x="3995640" y="5229360"/>
            <a:ext cx="1943280" cy="86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6. Психотехнологии убеждения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дготовка и проведение дискусс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imes New Roman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- Составить таблицу способов аргументации и их краткую характеристику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08" name="Рисунок 5" descr="iStock_boxing.jpg"/>
          <p:cNvPicPr/>
          <p:nvPr/>
        </p:nvPicPr>
        <p:blipFill>
          <a:blip r:embed="rId1"/>
          <a:stretch/>
        </p:blipFill>
        <p:spPr>
          <a:xfrm>
            <a:off x="6588000" y="2492280"/>
            <a:ext cx="18795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Понятия и причины аферы и мошенничество в современном российском бизнесе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авильная оценка делового партнера при осуществлении рыночной хозяйственн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Формы недобросовестного сотрудничества в предпринимательской деятельност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Методы манипуляции и введения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 заблуждение.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1" name="Picture 2" descr="C:\Users\Администратор\Desktop\125.jpg"/>
          <p:cNvPicPr/>
          <p:nvPr/>
        </p:nvPicPr>
        <p:blipFill>
          <a:blip r:embed="rId1"/>
          <a:stretch/>
        </p:blipFill>
        <p:spPr>
          <a:xfrm>
            <a:off x="6659640" y="5013360"/>
            <a:ext cx="2192400" cy="123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236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7. Современные психотехнологии: манипулятивные игры в бизнесе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9640" y="1267920"/>
            <a:ext cx="80028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Методы и приемы контроля за манипулятивными играми в бизнесе</a:t>
            </a:r>
            <a:r>
              <a:rPr b="0" lang="ru-RU" sz="2800" spc="-1" strike="noStrike">
                <a:solidFill>
                  <a:srgbClr val="000066"/>
                </a:solidFill>
                <a:latin typeface="Monotype Corsiva"/>
              </a:rPr>
              <a:t> 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imes New Roman"/>
              </a:rPr>
              <a:t>Методы и приемы работы с проблемами: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увеличение или преуменьшение возможностей, то есть создание "ложного имиджа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едложение заманчивых условий сотрудничества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"Игра на конъюнктуре«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дтасовка информации для убеждения в эффективности коммерческого предложения,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8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Вовлечение в сделку путем завоевания доверия на первом этапе.     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214" name="Picture 5" descr="image009"/>
          <p:cNvPicPr/>
          <p:nvPr/>
        </p:nvPicPr>
        <p:blipFill>
          <a:blip r:embed="rId1"/>
          <a:stretch/>
        </p:blipFill>
        <p:spPr>
          <a:xfrm>
            <a:off x="6948360" y="3213000"/>
            <a:ext cx="1979640" cy="14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6084720" cy="172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УДАЧИ В ИСПОЛЬЗОВАНИИ СОВРЕМЕННЫХ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ПСИХОТЕХНОЛОГИЙ</a:t>
            </a:r>
            <a:r>
              <a:rPr b="0" lang="ru-RU" sz="26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 Black"/>
              </a:rPr>
              <a:t>В БИЗНЕСЕ!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16" name="Picture 4" descr=""/>
          <p:cNvPicPr/>
          <p:nvPr/>
        </p:nvPicPr>
        <p:blipFill>
          <a:blip r:embed="rId1"/>
          <a:stretch/>
        </p:blipFill>
        <p:spPr>
          <a:xfrm>
            <a:off x="3059280" y="2276640"/>
            <a:ext cx="280800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284360" y="1834920"/>
            <a:ext cx="4608360" cy="108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36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сихологического цикла: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дисциплина по выбору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228320" y="3652920"/>
            <a:ext cx="584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8080"/>
                </a:solidFill>
                <a:latin typeface="Trebuchet MS"/>
              </a:rPr>
              <a:t>#</a:t>
            </a:r>
            <a:endParaRPr b="0" lang="en-US" sz="36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69" name="Picture 6" descr="logo"/>
          <p:cNvPicPr/>
          <p:nvPr/>
        </p:nvPicPr>
        <p:blipFill>
          <a:blip r:embed="rId1"/>
          <a:stretch/>
        </p:blipFill>
        <p:spPr>
          <a:xfrm>
            <a:off x="8075520" y="351000"/>
            <a:ext cx="739800" cy="5475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"/>
          <p:cNvPicPr/>
          <p:nvPr/>
        </p:nvPicPr>
        <p:blipFill>
          <a:blip r:embed="rId2"/>
          <a:stretch/>
        </p:blipFill>
        <p:spPr>
          <a:xfrm>
            <a:off x="7812000" y="189000"/>
            <a:ext cx="1152720" cy="100800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02"/>
          <p:cNvPicPr/>
          <p:nvPr/>
        </p:nvPicPr>
        <p:blipFill>
          <a:blip r:embed="rId3"/>
          <a:stretch/>
        </p:blipFill>
        <p:spPr>
          <a:xfrm>
            <a:off x="6012000" y="4724280"/>
            <a:ext cx="123804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360" y="189000"/>
            <a:ext cx="6659640" cy="107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-38088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технологии управления временем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«Идеальная» система тайм-менеджмен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О планах и органайзерах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Навыки тайм-менеджмента: полезные и бесполезны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5. Коррекция планов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6. Тотальный контрол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7. Процессы управления временем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8. Правила тайм-менеджмента, позволяющие повысить личную эффективность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8088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9. Инструменты для реализации техник управления времене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4" name="Picture 8" descr="b86"/>
          <p:cNvPicPr/>
          <p:nvPr/>
        </p:nvPicPr>
        <p:blipFill>
          <a:blip r:embed="rId1"/>
          <a:stretch/>
        </p:blipFill>
        <p:spPr>
          <a:xfrm>
            <a:off x="7524720" y="3357720"/>
            <a:ext cx="1295280" cy="16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rebuchet MS"/>
              </a:rPr>
              <a:t>Тема 1. Психотехнологии управления временем.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Практическое руководство по планированию работ</a:t>
            </a:r>
            <a:r>
              <a:rPr b="0" i="1" lang="ru-RU" sz="2800" spc="-1" strike="noStrike">
                <a:solidFill>
                  <a:srgbClr val="000066"/>
                </a:solidFill>
                <a:latin typeface="Monotype Corsiva"/>
              </a:rPr>
              <a:t> (</a:t>
            </a:r>
            <a:r>
              <a:rPr b="1" i="1" lang="ru-RU" sz="2800" spc="-1" strike="noStrike">
                <a:solidFill>
                  <a:srgbClr val="000066"/>
                </a:solidFill>
                <a:latin typeface="Monotype Corsiva"/>
              </a:rPr>
              <a:t>Техники ТМ)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именение планинг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Шаги разработки планинга и работы с ним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атегории проектов: планы на день, учет финансовых расходов, расписание дня, телефонный справочник, расписание занятий, составление меню и т.д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: 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ставить планинг значимого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для себя проект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10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77" name="Picture 6" descr="42051"/>
          <p:cNvPicPr/>
          <p:nvPr/>
        </p:nvPicPr>
        <p:blipFill>
          <a:blip r:embed="rId1"/>
          <a:stretch/>
        </p:blipFill>
        <p:spPr>
          <a:xfrm>
            <a:off x="7451640" y="4437000"/>
            <a:ext cx="14050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615636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5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32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оня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ри области самомотивации: стремление к достижениям, инициатива и оптимизм, решимость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нципы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Развитие само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0" name="Picture 4" descr="21"/>
          <p:cNvPicPr/>
          <p:nvPr/>
        </p:nvPicPr>
        <p:blipFill>
          <a:blip r:embed="rId1"/>
          <a:stretch/>
        </p:blipFill>
        <p:spPr>
          <a:xfrm>
            <a:off x="7308720" y="5013360"/>
            <a:ext cx="94320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565164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2. Психотехнологии самомотиваци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9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СЕМИНАР . Техники самомотивации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преуменьшения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Техники выполнения сложной и неинтересной работы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lnSpc>
                <a:spcPct val="90000"/>
              </a:lnSpc>
              <a:spcAft>
                <a:spcPts val="1199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Приемы личной мотивации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lnSpc>
                <a:spcPct val="9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400" spc="-1" strike="noStrike">
                <a:solidFill>
                  <a:srgbClr val="000066"/>
                </a:solidFill>
                <a:latin typeface="Trebuchet MS"/>
              </a:rPr>
              <a:t>: выполнить методики по мотивации к учебной деятельности и учению, мотивации достижения успеха и избегания неудачи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81200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0" algn="ctr">
              <a:lnSpc>
                <a:spcPct val="8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: общение,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одержание и характеристики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Функции и структур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Мотивационно-целев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Коммуникационная сторона общения: коммуникативные барьеры, информация, коммуникации.Вербальная, невербальная коммуник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Интерак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цептивная сторона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ческие особенности управленческого обще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-452520">
              <a:lnSpc>
                <a:spcPct val="80000"/>
              </a:lnSpc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сихология ведения спора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252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85" name="Picture 5" descr="20"/>
          <p:cNvPicPr/>
          <p:nvPr/>
        </p:nvPicPr>
        <p:blipFill>
          <a:blip r:embed="rId1"/>
          <a:stretch/>
        </p:blipFill>
        <p:spPr>
          <a:xfrm>
            <a:off x="7380360" y="5589720"/>
            <a:ext cx="961920" cy="838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18"/>
          <p:cNvPicPr/>
          <p:nvPr/>
        </p:nvPicPr>
        <p:blipFill>
          <a:blip r:embed="rId2"/>
          <a:stretch/>
        </p:blipFill>
        <p:spPr>
          <a:xfrm>
            <a:off x="7524720" y="2060640"/>
            <a:ext cx="733320" cy="12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7308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Тема 3. Психотехнологии эффективных коммуникаций в бизнесе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0028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Monotype Corsiva"/>
              </a:rPr>
              <a:t>СЕМИНАР . Методы и инструменты повышения эффективности коммуникаций.</a:t>
            </a:r>
            <a:endParaRPr b="0" lang="en-US" sz="24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1. Коммуникативные свойства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2. Современные средства коммуникации в менеджменте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3. Управленческая информац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4. Влияние информационных технологий на организацию рабочих мест. 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	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роведение игр и упражнений на понимание вербальной и невербальной информаци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rebuchet MS"/>
              </a:rPr>
              <a:t>Домашнее задание</a:t>
            </a: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: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ьте логическую схему на тему: «Ролевые игры и упражнения, направленные на развитие навыков калибровки партнёра по взаимодействию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- Составить кроссворд по теме: «Сенсорная острота и обратная связь. Информационные фильтры. Каналы восприятия». 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6084720" cy="93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4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Тема 4. Психотехнологии воздействия на группу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39640" y="1608120"/>
            <a:ext cx="800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 algn="ctr">
              <a:lnSpc>
                <a:spcPct val="100000"/>
              </a:lnSpc>
              <a:spcAft>
                <a:spcPts val="14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Monotype Corsiva"/>
              </a:rPr>
              <a:t>ЛЕКЦИЯ.</a:t>
            </a:r>
            <a:endParaRPr b="0" lang="en-US" sz="28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я психологического воздействия на группу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Специфика коллективного восприят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Основные стимулы, побуждающие к эффективной деятельности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ериферические стимулы, отвлекающие внимание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Ресурсы внимания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-457200">
              <a:spcAft>
                <a:spcPts val="1001"/>
              </a:spcAft>
              <a:buClr>
                <a:srgbClr val="f3922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66"/>
                </a:solidFill>
                <a:latin typeface="Trebuchet MS"/>
              </a:rPr>
              <a:t>Понятие «референтные переживания».</a:t>
            </a: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  <a:p>
            <a:pPr marL="457200" indent="0">
              <a:spcAft>
                <a:spcPts val="1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rebuchet MS"/>
            </a:endParaRPr>
          </a:p>
        </p:txBody>
      </p:sp>
      <p:pic>
        <p:nvPicPr>
          <p:cNvPr id="191" name="Picture 4" descr="22"/>
          <p:cNvPicPr/>
          <p:nvPr/>
        </p:nvPicPr>
        <p:blipFill>
          <a:blip r:embed="rId1"/>
          <a:stretch/>
        </p:blipFill>
        <p:spPr>
          <a:xfrm>
            <a:off x="7524720" y="5157720"/>
            <a:ext cx="774720" cy="144792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5" descr="19"/>
          <p:cNvPicPr/>
          <p:nvPr/>
        </p:nvPicPr>
        <p:blipFill>
          <a:blip r:embed="rId2"/>
          <a:stretch/>
        </p:blipFill>
        <p:spPr>
          <a:xfrm>
            <a:off x="7164360" y="2637000"/>
            <a:ext cx="157176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5T06:05:40Z</dcterms:created>
  <dc:creator>natalie</dc:creator>
  <dc:description/>
  <dc:language>en-US</dc:language>
  <cp:lastModifiedBy>LEGION</cp:lastModifiedBy>
  <dcterms:modified xsi:type="dcterms:W3CDTF">2016-01-11T10:04:13Z</dcterms:modified>
  <cp:revision>33</cp:revision>
  <dc:subject/>
  <dc:title>Современные психотехнологии в бизнес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ublishingExpirationDate">
    <vt:lpwstr/>
  </property>
  <property fmtid="{D5CDD505-2E9C-101B-9397-08002B2CF9AE}" pid="3" name="PublishingStartDate">
    <vt:lpwstr/>
  </property>
</Properties>
</file>