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3DF9-0073-405D-B3FE-29F43BC69F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163-F429-4E2E-B202-7AE65FBB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729-C350-46BD-A11D-9AF45CB7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6F6-3453-42E6-85E7-6CE92160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E18-7C1A-46DB-ACFD-6F91BDCC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A079-BA2F-481F-A32C-46B50700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5391-1834-4C93-999F-E166B05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57B8-0693-498B-8762-8FE75E74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DA60-0337-4060-B597-46D93C2C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0B14-D33D-452E-A6FE-BEEBD10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2754-C6B3-4739-8B41-E03C7287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7074-0ED1-4D3D-AC5F-851EF60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7C4-DE12-4D6B-864F-9A614DD9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7C08-C1ED-4BFC-ADAC-B90E186C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C361-4466-476E-A017-DBD36112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B741-8241-4089-96E9-C4B30C88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34BA-59C5-4A51-BE40-B27F9E21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7ABB-EB33-4264-ABDD-92E78FF1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E9D8C-880E-43A3-8401-F77F3188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5B37C-38E8-4398-ACC8-E5AA74F4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C431F-A8C3-4CD9-AEB6-CBF98092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79929-83F3-4D13-B00E-F9D8FD81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BC129-1263-4C8E-975A-CD4FC9A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B7C-3118-45BE-BDEE-298EB48E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E3106-FC62-49BB-8F1A-E7EDFCFC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BC360-E8AF-471C-A8E5-248C6E72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D622F-B0B7-4AFC-B4B4-F5DC40FE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77032-8088-4C37-992F-29056B4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D876B-4E2E-4F47-89AA-E7B35279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DA546-2E46-4778-8F2F-90D47AB4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37411-A4E2-4B58-89BC-E6AAE97E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513B-FA8C-443E-A024-2CDBB6DA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3C6D-E144-449E-87C8-4A249DA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AAAC-7D6A-4136-B257-AF718E00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C3E-5662-4773-B421-8E6C396C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1234-AECE-44B0-9231-88BC2B62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6757-EF40-4939-87F2-5324DEEA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A24D7-5D5D-41BF-A6FC-2B3CD981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EC59-F20F-457A-B328-F7CC4E2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4304-13DD-49A1-BB68-AB8020F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CAD9-5EDD-407A-BB6F-AC3A65B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0C48-952A-4C4A-8753-8EBDF2B3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8327-03C7-42F7-B904-3543398E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EEE5-094D-457D-8A76-FF0542B8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4DE-ED31-49E8-97EC-D6A011B2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E1B-B5E9-4C13-BF38-FF159E89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4AA-2AEC-4402-B087-C8B8597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FAC-FDC7-4BEE-8686-D1747206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4C2-EC8B-4BF1-9185-C3B0AD6D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FDCF-2D97-4529-87BE-9C4C03E9D5CA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75C-93F1-4298-97F1-3674C9F27A2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0B91-4605-4036-BF03-2F7682B49936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A7EA-067E-4A00-971A-705D0B2ABA6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0B56-BF07-41E1-9CA8-33645E86EB35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7DE5-C0C2-4B30-ABF0-5B5A494EBB8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34D1-940E-4ADD-B12F-680063DF376E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785D-46AE-4FEF-9C00-094C621227C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инципы и методы управле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инципы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нятие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лассификация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32000" y="1724040"/>
            <a:ext cx="2448000" cy="184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Эконом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108360" y="1052640"/>
            <a:ext cx="381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минимальных социально-экономических гаранти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3520" y="98100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льгот и компенсаций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 государственных пособий отдельным категориям населения, определяемым законодатель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3995640" y="507348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3166920" y="1557360"/>
            <a:ext cx="2268720" cy="273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10800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профессиональной подготовки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кладывается система непрерывного профессионального образов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752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актического определения эффективности упра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3348000" y="4846680"/>
            <a:ext cx="1944720" cy="18619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197000"/>
            <a:ext cx="4038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должностного продвижения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-психологической защиты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нятие психологической нагрузки, напряже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24360" y="1125000"/>
            <a:ext cx="5046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развития средств труд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го партнерства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11280" y="3508200"/>
            <a:ext cx="23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62560" y="3317760"/>
            <a:ext cx="2089080" cy="19828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580000" y="4300560"/>
            <a:ext cx="252108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34100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й стереотипизаци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663640" cy="17841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кинесического общения.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кспрессивно-выразительные дв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им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движение мышц лица, которую называют зеркалом ду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згляд (визуальный контакт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видетельствует о расположенности к общен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ложение человеческого тела, типичное для данной куль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Жест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азнообразные движения руками, головой, ногами, смысл которых понятен для общающихся стор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садического и экстра-лингвистического общ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сод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кстралингвистическ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267920"/>
            <a:ext cx="316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такес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3280" y="980640"/>
            <a:ext cx="57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ксем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имное расстояние (от 0 до 45 см) - общение самых близких люд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сональное (от 45 до 120 см) – общение со знакомыми людь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бличное (от 400 до 750 см) – при выступлении перед различными аудитор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духовной ориентации управления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сочетания централизации и децен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08000" y="1341000"/>
            <a:ext cx="446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единоначал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1341000"/>
            <a:ext cx="4535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коллегиаль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497560" y="4535640"/>
            <a:ext cx="3035160" cy="227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C900078734[1]"/>
          <p:cNvPicPr/>
          <p:nvPr/>
        </p:nvPicPr>
        <p:blipFill>
          <a:blip r:embed="rId2"/>
          <a:stretch/>
        </p:blipFill>
        <p:spPr>
          <a:xfrm>
            <a:off x="971640" y="4797360"/>
            <a:ext cx="2520720" cy="19224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j0300840"/>
          <p:cNvPicPr/>
          <p:nvPr/>
        </p:nvPicPr>
        <p:blipFill>
          <a:blip r:embed="rId1"/>
          <a:stretch/>
        </p:blipFill>
        <p:spPr>
          <a:xfrm>
            <a:off x="6948360" y="5116680"/>
            <a:ext cx="18716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232000" cy="220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720" y="1062000"/>
            <a:ext cx="33130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плано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научной обоснован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соответствии с ним все решения и действия руководителя должны аргументироваться с научных позиц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76360" y="1092240"/>
            <a:ext cx="4038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социальной справедли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030480" y="2178000"/>
            <a:ext cx="2262240" cy="1755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общественной целесообраз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56000" y="1351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экономической эффектив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28280"/>
            <a:ext cx="4038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нятие «метод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557000"/>
            <a:ext cx="4392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24000" y="1341360"/>
          <a:ext cx="8640720" cy="47037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258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масштаб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щие. Относимые ко всей системе, и особенные, обращенные к отдельным составным частям этой системы или, наоборот к внешней среде и ее субъектам, включая потребителей, посредников, конкурент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отраслям и сфер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сударственном и муниципальном управлении, в бизнесе, в промышленности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5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роли на различных этапах жизнедеятельности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исследования организаций, формирующие, упорядочивающие, стабилизирующие, развивающие, вплоть до методов реорганизации, ликвидации, банкро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397160"/>
          <a:ext cx="8712360" cy="496548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степени опосредованн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ямые и 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ровню обобщения управленчески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теории и практик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правленческим функц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анализа, планирования, мотивации, контроля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конкретным объектам управления и характеру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ейс ст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9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характеру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о-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но-распорядительные (административ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оном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мерческ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состав организационных методов Керженцев П.М. включал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й план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структирование и его формы (директива, лозунг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тановление (декрет, инструкция, приказ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спределение сил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ю заново и реорганизацию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иентацию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реговоры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ы дезорганизации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е приемы в деятельности руководител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10:11Z</dcterms:created>
  <dc:creator>Хозяин</dc:creator>
  <dc:description/>
  <dc:language>en-US</dc:language>
  <cp:lastModifiedBy>LEGION</cp:lastModifiedBy>
  <dcterms:modified xsi:type="dcterms:W3CDTF">2016-01-11T10:02:33Z</dcterms:modified>
  <cp:revision>13</cp:revision>
  <dc:subject/>
  <dc:title>Принципы и методы управления</dc:title>
</cp:coreProperties>
</file>