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453F-DAF5-4DB8-856F-3A7F5F2181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34D-8D62-4CB7-8E8E-3F02FB11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1DC-4EB5-4166-AF4A-BA8F29B7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531-9C50-45A3-8309-AA67B6F1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C53-2BD4-44FC-A6C5-D367ECE7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E222-D9C6-4902-A1B7-EED79FCE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DE20-1710-41BE-BE9B-7E367851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F3E1-BCCD-4997-88DB-C2FF9FE5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DF3B-34FA-440D-803D-713902BA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8365-667C-491E-B431-052096BB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EDDB-E84F-40CC-B83B-06C95C55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D7CE-DD85-46EC-B33D-5CEB8CAF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EED-7D6D-4C54-B7F2-8E6E2F5E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4B64-0BE7-49E8-8CAC-CF038BB0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27D4-752E-405A-A2B7-AE0A5728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47B8-3E2F-434F-9BBB-E5C060EA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6ACA-A91E-437E-ADAE-9C46DC54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435B-A5ED-41CD-94D4-5418E397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F1A60-6AE3-4A24-B9DD-DD869B6A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21AAE-47C7-4AA1-A29A-5D4DCDC5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5421C-0A5B-4880-BCF8-9B163C49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D470A-22CE-4A70-806E-77700D6B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E75DD-C737-4858-BEBB-4C580526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800-8187-4E58-88B8-9C70552D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4458B-7824-490B-B66E-E8C858B4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862CF-4A21-4BCB-81D9-FF4BD481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82E2C-C40D-4752-97CB-46ACAC49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16E2C-D1DF-4CD9-A95F-DBDF537A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232A8-2AD1-42A1-B8C0-57CE1E72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26744-1E8F-4F78-8B42-B2FB0BCB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DCD93-5609-4949-BB8D-0542F0E4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4101-1699-4100-BB1A-372ED4AE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59A0D-8193-4A4D-AB60-3639E694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8961-2CD3-483C-848A-0270045E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EA8-27AA-408B-98D7-CAF1DCA5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4ADDE-AF0C-4C66-A75C-B9FE1FCB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9765-62CB-4B9A-86F3-63BDB49B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D688-EEEB-4EC6-9DB7-5D618AD4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8B91-B0FF-4167-9CBD-2167471A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E334D-B0AB-429D-BE18-DDDC5082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5012-5E7D-44D8-9CB7-073D0555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93A83-1893-4CBC-B103-2859178F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D1356-379E-4B14-B015-E33E7C30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2748C-1D0B-488D-9A8D-FD55EFF7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A4E-DB7D-4343-ABAE-AFE1362B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F49-D0ED-4929-91CB-F8B36D79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3BC-DF78-461D-9D94-C953BB3D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029-8D25-41D1-8287-B8DB5336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6C1-02EE-4BC4-AE27-427E63EF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6C0E-8D51-43CD-AF84-67BEEA738166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3F7E-1E69-48A0-8F2E-FF1C357E971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E5A4-6A44-468A-B49C-127EF5BA9F68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B25F-FAA1-4280-A47A-5186AB54C13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CBF8-24D1-40EA-A67A-6E6CF6DBF485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40CC-3C2B-4FDA-8441-CE92B3D50BC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B848-E7D9-48A3-A712-28FCD7C8805F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6FF4-862C-4C77-819A-2987238FEFC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инципы и методы управлен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инципы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онятие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лассификация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3132000" y="1724040"/>
            <a:ext cx="2448000" cy="184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Эконом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108360" y="1052640"/>
            <a:ext cx="381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минимальных социально-экономических гаранти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3520" y="98100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льгот и компенсаций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 государственных пособий отдельным категориям населения, определяемым законодательн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3995640" y="507348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3166920" y="1557360"/>
            <a:ext cx="2268720" cy="2736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10800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профессиональной подготовки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кладывается система непрерывного профессионального образова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9752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актического определения эффективности управления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3348000" y="4846680"/>
            <a:ext cx="1944720" cy="18619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197000"/>
            <a:ext cx="40384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должностного продвижения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-психологической защиты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нятие психологической нагрузки, напряжен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24360" y="1125000"/>
            <a:ext cx="5046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развития средств труда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го партнерства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611280" y="3508200"/>
            <a:ext cx="2376360" cy="1792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tretch/>
        </p:blipFill>
        <p:spPr>
          <a:xfrm>
            <a:off x="5362560" y="3317760"/>
            <a:ext cx="2089080" cy="19828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5580000" y="4300560"/>
            <a:ext cx="2521080" cy="25131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341000"/>
            <a:ext cx="4495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341360"/>
            <a:ext cx="40384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й стереотипизаци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663640" cy="17841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кинесического общения.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кспрессивно-выразительные движ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им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движение мышц лица, которую называют зеркалом душ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згляд (визуальный контакт)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видетельствует о расположенности к общению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оложение человеческого тела, типичное для данной культур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Жест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разнообразные движения руками, головой, ногами, смысл которых понятен для общающихся сторо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садического и экстра-лингвистического общ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осод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кстралингвистическ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9280" y="1267920"/>
            <a:ext cx="316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такес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03280" y="980640"/>
            <a:ext cx="5761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ксем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тимное расстояние (от 0 до 45 см) - общение самых близких люд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сональное (от 45 до 120 см) – общение со знакомыми людьм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убличное (от 400 до 750 см) – при выступлении перед различными аудитория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духовной ориентации управления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сочетания централизации и децентрализац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108000" y="1341000"/>
            <a:ext cx="4464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единоначал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00720" y="1341000"/>
            <a:ext cx="4535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коллегиаль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497560" y="4535640"/>
            <a:ext cx="3035160" cy="227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MC900078734[1]"/>
          <p:cNvPicPr/>
          <p:nvPr/>
        </p:nvPicPr>
        <p:blipFill>
          <a:blip r:embed="rId2"/>
          <a:stretch/>
        </p:blipFill>
        <p:spPr>
          <a:xfrm>
            <a:off x="971640" y="4797360"/>
            <a:ext cx="2520720" cy="19224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8" descr="j0300840"/>
          <p:cNvPicPr/>
          <p:nvPr/>
        </p:nvPicPr>
        <p:blipFill>
          <a:blip r:embed="rId1"/>
          <a:stretch/>
        </p:blipFill>
        <p:spPr>
          <a:xfrm>
            <a:off x="6948360" y="5116680"/>
            <a:ext cx="187164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979640" y="4653000"/>
            <a:ext cx="2232000" cy="220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720" y="1062000"/>
            <a:ext cx="33130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плано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научной обоснован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соответствии с ним все решения и действия руководителя должны аргументироваться с научных позиц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76360" y="1092240"/>
            <a:ext cx="40388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социальной справедли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3030480" y="2178000"/>
            <a:ext cx="2262240" cy="1755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341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общественной целесообраз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356000" y="1351080"/>
            <a:ext cx="454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экономической эффектив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тод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28280"/>
            <a:ext cx="4038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нятие «метод»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557000"/>
            <a:ext cx="4392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24000" y="1341360"/>
          <a:ext cx="8640720" cy="470376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258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масштаб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щие. Относимые ко всей системе, и особенные, обращенные к отдельным составным частям этой системы или, наоборот к внешней среде и ее субъектам, включая потребителей, посредников, конкурентов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отраслям и сфер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государственном и муниципальном управлении, в бизнесе, в промышленности и 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5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роли на различных этапах жизнедеятельности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исследования организаций, формирующие, упорядочивающие, стабилизирующие, развивающие, вплоть до методов реорганизации, ликвидации, банкрот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397160"/>
          <a:ext cx="8712360" cy="496548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степени опосредованности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ямые и 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ровню обобщения управленчески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теории и практик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правленческим функц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анализа, планирования, мотивации, контроля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конкретным объектам управления и характеру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ейс ст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89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характеру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о-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онно-распорядительные (административны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коном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ммерческ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состав организационных методов Керженцев П.М. включал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й план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нструктирование и его формы (директива, лозунг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становление (декрет, инструкция, приказ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спределение сил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ю заново и реорганизацию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иентацию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реговоры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етоды дезорганизации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е приемы в деятельности руководител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7:10:11Z</dcterms:created>
  <dc:creator>Хозяин</dc:creator>
  <dc:description/>
  <dc:language>en-US</dc:language>
  <cp:lastModifiedBy>LEGION</cp:lastModifiedBy>
  <dcterms:modified xsi:type="dcterms:W3CDTF">2016-01-11T10:02:33Z</dcterms:modified>
  <cp:revision>13</cp:revision>
  <dc:subject/>
  <dc:title>Принципы и методы управления</dc:title>
</cp:coreProperties>
</file>