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AD44-AC6C-463E-B9BA-6743A5C99B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5E5-FE32-4238-ABF0-EBCE015C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376-4AC8-44E4-A998-64DBAA2B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A67-FCC6-49E2-B424-31716FFA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1EF-F192-4F19-A9E2-0ABC150C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22FD-0838-4E64-A6F5-18DD528D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7209-BD6B-4071-927F-A185BB0C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8521-F726-4EDB-9D90-C36FC135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C54F-0A24-4468-BD6D-B563DAAD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95A0-3AEE-4997-B868-016A0987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1AC1-E5D8-431F-BC39-344101D3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8A0B-5A17-49C6-9E2D-2D5696EE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49D-5D5A-4C5C-8440-FD7473F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1718-57EB-49EF-8B00-2A50DB89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D303-5DCE-4A3F-8816-BCB245FD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7249-1E05-4E28-A122-0B298545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4AA2-60AA-473D-8218-9ECCAFED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68F3-2633-499C-AA2F-C8E808BF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C7467-0F84-4E4E-9BFA-1AA038E1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AA7C9-AAD0-4695-8B6E-9F4B04F6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A66E0-C531-48A0-B853-DFD7548C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5D085-FD9F-41E8-9396-CA4C11B3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968B0-808B-42EC-9FD0-FCB3DFB9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32F-F82E-4280-AA20-707BAC7C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AA452-AFE4-4C9A-9817-00A9D8BC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BA0EC-DC14-48C8-BEE1-1A236B8D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4AAEB-E110-4997-B1FA-B2F6BC6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5D3D3-5661-48EE-B615-BCEF398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B6E52-4258-485E-A9B7-D56B529A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DDB99-0E63-4460-9EC0-0F8B1FD4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87FAE-3096-42C6-9841-22C84E6C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8688-C734-4FA8-A16A-F1A191DB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08C1-FA96-49B4-BB93-BBD8517C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A4CED-D68C-4C91-9C38-C1D9BD82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3B9-7DF1-4D36-8855-F2CF058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776E-6656-45B6-BE74-888D5B0A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6D8B8-B372-46A1-8770-0A7972B4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FE72-3C68-499F-9CB5-07B2FD54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98C5A-D101-4AA1-A8A9-A75B0D1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FFE7-1061-4C0A-AA96-175B6019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CBAA-C6F6-40CC-ADDE-14158AF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1B8B-63D2-48B4-B2BF-A87080EC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74A5-EB90-48D2-8AFA-BC1F2A2F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4DFB-C57D-4066-A48E-DF06D7B8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77C-6AC4-4A61-9FF3-AD24EEC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037-729C-4EE8-8BBE-49238A83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462-7947-4338-BD78-3CADED65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02D-A00B-4966-BB75-F8EA8E7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5E4-FAFD-4B0F-8463-B528143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DF69-2856-4A53-A6D3-1AACC565F2C2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9C12-333C-41AC-AF08-BD97F847B30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8ED6-C6FD-4A85-BAEB-E06AA61F609D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9D22-16B6-45CD-879E-1CE846901FF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9121-37E9-4BB8-83D8-E14A91F215D0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E82E-E482-4894-8A91-3421143AAD6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2F86-65E0-43AA-9FA5-F14AD5A8B256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F6DA-D063-48F8-B9FC-2AF333ADF31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инципы и методы управле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инципы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нятие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лассификация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3132000" y="1724040"/>
            <a:ext cx="2448000" cy="184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Эконом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108360" y="1052640"/>
            <a:ext cx="381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минимальных социально-экономических гаранти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3520" y="98100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льгот и компенсаций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 государственных пособий отдельным категориям населения, определяемым законодатель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3995640" y="507348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3166920" y="1557360"/>
            <a:ext cx="2268720" cy="2736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10800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профессиональной подготовки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кладывается система непрерывного профессионального образов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752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актического определения эффективности упра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3348000" y="4846680"/>
            <a:ext cx="1944720" cy="18619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197000"/>
            <a:ext cx="4038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должностного продвижения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-психологической защиты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нятие психологической нагрузки, напряже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24360" y="1125000"/>
            <a:ext cx="5046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развития средств труда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го партнерства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611280" y="3508200"/>
            <a:ext cx="2376360" cy="179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362560" y="3317760"/>
            <a:ext cx="2089080" cy="19828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5580000" y="4300560"/>
            <a:ext cx="252108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34100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34136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й стереотипизаци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663640" cy="17841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кинесического общения.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кспрессивно-выразительные движ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им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движение мышц лица, которую называют зеркалом душ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згляд (визуальный контакт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видетельствует о расположенности к общен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ложение человеческого тела, типичное для данной культу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Жест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разнообразные движения руками, головой, ногами, смысл которых понятен для общающихся стор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садического и экстра-лингвистического общ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сод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кстралингвистическ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1267920"/>
            <a:ext cx="316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такес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03280" y="980640"/>
            <a:ext cx="57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ксем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имное расстояние (от 0 до 45 см) - общение самых близких люд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сональное (от 45 до 120 см) – общение со знакомыми людь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бличное (от 400 до 750 см) – при выступлении перед различными аудитория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духовной ориентации управления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сочетания централизации и децентрализац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108000" y="1341000"/>
            <a:ext cx="4464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единоначал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1341000"/>
            <a:ext cx="4535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коллегиаль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497560" y="4535640"/>
            <a:ext cx="3035160" cy="227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C900078734[1]"/>
          <p:cNvPicPr/>
          <p:nvPr/>
        </p:nvPicPr>
        <p:blipFill>
          <a:blip r:embed="rId2"/>
          <a:stretch/>
        </p:blipFill>
        <p:spPr>
          <a:xfrm>
            <a:off x="971640" y="4797360"/>
            <a:ext cx="2520720" cy="19224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j0300840"/>
          <p:cNvPicPr/>
          <p:nvPr/>
        </p:nvPicPr>
        <p:blipFill>
          <a:blip r:embed="rId1"/>
          <a:stretch/>
        </p:blipFill>
        <p:spPr>
          <a:xfrm>
            <a:off x="6948360" y="5116680"/>
            <a:ext cx="18716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2232000" cy="220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720" y="1062000"/>
            <a:ext cx="33130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плано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научной обоснован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соответствии с ним все решения и действия руководителя должны аргументироваться с научных позиц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76360" y="1092240"/>
            <a:ext cx="4038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социальной справедли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030480" y="2178000"/>
            <a:ext cx="2262240" cy="1755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общественной целесообраз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356000" y="1351080"/>
            <a:ext cx="454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экономической эффектив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28280"/>
            <a:ext cx="4038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нятие «метод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557000"/>
            <a:ext cx="4392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24000" y="1341360"/>
          <a:ext cx="8640720" cy="47037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258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масштаб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щие. Относимые ко всей системе, и особенные, обращенные к отдельным составным частям этой системы или, наоборот к внешней среде и ее субъектам, включая потребителей, посредников, конкурент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отраслям и сфер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осударственном и муниципальном управлении, в бизнесе, в промышленности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5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роли на различных этапах жизнедеятельности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исследования организаций, формирующие, упорядочивающие, стабилизирующие, развивающие, вплоть до методов реорганизации, ликвидации, банкро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397160"/>
          <a:ext cx="8712360" cy="496548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степени опосредованности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ямые и 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ровню обобщения управленчески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теории и практик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правленческим функц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анализа, планирования, мотивации, контроля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конкретным объектам управления и характеру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ейс ст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89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характеру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о-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но-распорядительные (административ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коном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мерческ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состав организационных методов Керженцев П.М. включал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й план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структирование и его формы (директива, лозунг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становление (декрет, инструкция, приказ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спределение сил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ю заново и реорганизацию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иентацию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реговоры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ы дезорганизации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е приемы в деятельности руководител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7:10:11Z</dcterms:created>
  <dc:creator>Хозяин</dc:creator>
  <dc:description/>
  <dc:language>en-US</dc:language>
  <cp:lastModifiedBy>LEGION</cp:lastModifiedBy>
  <dcterms:modified xsi:type="dcterms:W3CDTF">2016-01-11T10:02:33Z</dcterms:modified>
  <cp:revision>13</cp:revision>
  <dc:subject/>
  <dc:title>Принципы и методы управления</dc:title>
</cp:coreProperties>
</file>