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3B1F-8005-4C2F-9AF5-74A19CB9CB0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и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и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тодов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инимальных социально-экономических гарантий.  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льгот и компенсаций - метод государственных пособий отдельным категориям населения, определяемым законод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минимальных социально-экономических гарантий.  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компенсации расходов 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льгот и компенсаций - метод государственных пособий отдельным категориям населения, определяемым законодате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методы управлен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офессиональной подготовки кадров.  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ладывается система непрерывно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актического определения эффективности управления.  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е методы управлен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профессиональной подготовки кадров.  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ется система непрерывно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актического определения эффективности управления.  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должностного продвижения кадров.  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-психологической защиты работников (снятие психологической нагрузки, напря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развития средств труда 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го партнерства  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должностного продвижения кадров.  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-психологической защиты работников (снятие психологической нагрузки, напря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развития средств труда 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го партнерства  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циальной стереотипизации.  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циальной стереотипизации.  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инесического общения.  Экспрессивно-выразительные 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мика – движение мышц лица, которую называют зеркалом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гляд (визуальный контакт) свидетельствует о расположенности к общ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а – положение человеческого тела, типичное для данн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ы – разнообразные движения руками, головой, ногами, смысл которых понятен для общающихся сто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садического и экстра-лингвистического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одика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ралингвистическая система 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кинесического общения.  Экспрессивно-выразительные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мика – движение мышц лица, которую называют зеркалом ду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д (визуальный контакт) свидетельствует о расположенности к общ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а – положение человеческого тела, типичное для дан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ы – разнообразные движения руками, головой, ногами, смысл которых понятен для общающихся стор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садического и экстра-лингвистического об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одика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тралингвистическая система 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такесического общения.  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ксемического общения.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имное расстояние (от 0 до 45 см) - общение самых близких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ое (от 45 до 120 см) – общение со знакомыми людь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(от 400 до 750 см) – при выступлении перед различными аудитор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сихологические 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такесического общения.  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ксемического общения.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имное расстояние (от 0 до 45 см) - общение самых близких люд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ьное (от 45 до 120 см) – общение со знакомыми людь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(от 400 до 750 см) – при выступлении перед различными аудитор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духовной ориентации управления.  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четания централизации и децентрализации.  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духовной ориентации управления.  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четания централизации и децентрализации.  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единоначалия.  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коллегиальности.  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единоначалия.  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коллегиальности.  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плановости.  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аучной обоснованности.  В соответствии с ним все решения и действия руководителя должны аргументироваться с научных поз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циальной справедливости.  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плановости.  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научной обоснованности.  В соответствии с ним все решения и действия руководителя должны аргументироваться с научных пози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циальной справедливости.  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общественной целесообразности.  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экономической эффективности.  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щественной целесообразности.  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кономической эффективности.  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метод» 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метод» 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методов управления по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организационных методов Керженцев П.М. включа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пла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ирование и его формы (директива, лозунг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(декрет, инструкция, приказ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си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ю заново и реорганизаци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гово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езорганиз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приемы в деятельности руко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став организационных методов Керженцев П.М. включ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й пла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ктирование и его формы (директива, лозунг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(декрет, инструкция, приказ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 си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ю заново и реорганизацию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ацию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ов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дезорганиза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приемы в деятельности руковод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C2C-D593-4662-8E80-C4C8A44D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C02-BDE8-4FD4-89F4-2A772F21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60CD-6D0E-4060-BFA3-0CFAA831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DB7F-EC16-4183-9132-EAFF3DCB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3AE4-637D-4D93-9841-0554DB00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10F5-7772-4599-8A80-143459FD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B968-BA76-4F69-8D42-4C0273F3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FC71-F5F9-42CC-A35D-BB9DEE73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C923-16DA-4158-8C7D-7BE614CB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63B5-D4F4-4BD2-8A34-5D78B12B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5AC9-3C89-402B-88B1-D6202223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59A4-AF42-4699-B92B-08E8387D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C2AC-4788-4DCE-9E18-0B049F0A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F85D-1664-49C6-929A-6C6827B5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160D-3351-43DD-9450-604D8B54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7531-39A8-45ED-90E8-4BFE8D34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B6FE-8B68-434F-AB0E-D98EC95A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6DE04-81BC-4096-84BB-B88147C3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40ED7-89A0-4C6F-A23F-4647C9D1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D84B5-4735-46FF-B366-20888678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FC4DCC-263C-43A8-A8E5-8285C6C8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2A1E9-7D7A-4606-9583-9760911A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B05A-818A-40B9-8B57-03475597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C0C5E-C762-45DF-AC6D-DE588653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D1F39-80FC-4E40-B169-56D491AA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3EA1B-5615-44B4-A6B8-EEC55039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8A8A3-33CF-4A9D-88B3-A03AC54F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10826-21D2-428B-9428-4DEE8824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6FB010-473C-4AC8-B00B-87DE8A46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C9F05-5933-4B1D-AD96-5B9188EA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FB51D-0549-47DE-AC16-7EF5CB5E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8DFD2-3549-477F-9839-CF12B943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15E2B-5548-43B4-8FDA-799C055B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CDBA-A97A-4B1E-A202-4E614BC1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C18DD-53EE-4C12-A49D-640EBE19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AC9D8-B5E8-4D90-BAAC-D3D61BA9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BE12A-6D87-4439-9F60-5F8BDD23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A6C15-0021-49E0-9D30-D3718FA4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4BF1E-C3EE-4B98-8947-DBC5D86E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A23D9-67C9-4C82-A12D-ECA2BA37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6EF44-EC56-49E3-9F50-718A704D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B35B0-1307-4A46-98E5-E5A81EC5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60126-26A3-4803-9D62-79C86C4F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4C4-8211-4D06-80D3-E759A5C8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5BE1-6D74-4E09-85A7-F3CA77AA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8EE-2059-49C1-9285-5377026B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28CF-6924-4EDA-B1C2-9FD353DA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7EC-65E6-482A-AC98-49B09D93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CF0D-500D-4872-B794-376966F73BCD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A3FA-32B6-4D96-9D6B-B09E6CA3088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86EF-3331-4B14-9C9A-CE330B57E94D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BE55-8619-4165-9A0D-4E125B363D1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8175-B1D9-41A6-9E52-EE2CA1BD15D6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E241-C24D-4A58-93CA-BFAD2FD23A15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1E42-650F-480D-8ED0-97FCF289DCC2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BDD2-0FF7-4320-9ED7-137F44CA119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ринципы и методы управления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ринципы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онятие методов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Классификация методов управл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3132000" y="1724040"/>
            <a:ext cx="2448000" cy="18460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Эконом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108360" y="1052640"/>
            <a:ext cx="3816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минимальных социально-экономических гарантий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пределяющим здесь является законодательное установление минимального размера оплаты труда и прожиточного минимум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компенсации расход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213520" y="98100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компенсации расход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озмещение расходов населения различных социальных групп органами власти в связи с ожиданием или наступившим ростом це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льгот и компенсаций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 государственных пособий отдельным категориям населения, определяемым законодательн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2"/>
          <a:stretch/>
        </p:blipFill>
        <p:spPr>
          <a:xfrm>
            <a:off x="3995640" y="5073480"/>
            <a:ext cx="2232000" cy="166860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3166920" y="1557360"/>
            <a:ext cx="2268720" cy="27367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Социальные методы управления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108000" y="1125000"/>
            <a:ext cx="403848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профессиональной подготовки кадров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существляется в различных формах: очная, заочная, вечерняя, очно-заочная, экстернат.  Утвердился многоступенчатый уровень образования: допрофессиональное, профессиональное, послевузовское, повышение квалификации, переподготовка кадр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кладывается система непрерывного профессионального образова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997520" y="1125000"/>
            <a:ext cx="403848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актического определения эффективности управления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ключают статистический анализ, сравнительный анализ социально-демографический анализ, целенаправленное наблюдение за изменениями в жизнеобеспеченности клиента, социологические исследования, математическое моделирование и д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2"/>
          <a:stretch/>
        </p:blipFill>
        <p:spPr>
          <a:xfrm>
            <a:off x="3348000" y="4846680"/>
            <a:ext cx="1944720" cy="18619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Социальные методы управл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197000"/>
            <a:ext cx="403848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должностного продвижения кадров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ключает переход из ранга специалиста в ранг руководителя и ротацию (периодическое перемещение кадров с должности на должность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09960" indent="-2170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-психологической защиты работников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снятие психологической нагрузки, напряжения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924360" y="1125000"/>
            <a:ext cx="504648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развития средств труда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едполагает активное внедрение информационных технологий, программного обеспечения для своевременной обработки имеющейся информации, оперативного проведения аналитических исследован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3920" indent="-219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го партнерства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сотрудник – клиент, сотрудник - сотрудник, сотрудник – специалист другого ведомства и/или другого сектора экономики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tretch/>
        </p:blipFill>
        <p:spPr>
          <a:xfrm>
            <a:off x="611280" y="3508200"/>
            <a:ext cx="2376360" cy="1792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tretch/>
        </p:blipFill>
        <p:spPr>
          <a:xfrm>
            <a:off x="5362560" y="3317760"/>
            <a:ext cx="2089080" cy="19828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7" descr=""/>
          <p:cNvPicPr/>
          <p:nvPr/>
        </p:nvPicPr>
        <p:blipFill>
          <a:blip r:embed="rId1"/>
          <a:stretch/>
        </p:blipFill>
        <p:spPr>
          <a:xfrm>
            <a:off x="5580000" y="4300560"/>
            <a:ext cx="2521080" cy="25131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341000"/>
            <a:ext cx="4495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мелое использование данных методов весьма эффективно: их удельное значение в общих успехах организации может превышать 80%.  По данным японских специалистов, морально-психологический климат коллектива и создаваемый им настрой способны повысить производительность труда в 1,5 раз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341360"/>
            <a:ext cx="40384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 социальной стереотипизаци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 социальной стереотипизацией обычно понимается устойчивое представление о каких-либо явлениях или людях, свойственное представителям той или иной социальной группы.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1258920" y="4869000"/>
            <a:ext cx="2663640" cy="17841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26828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кинесического общения.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кспрессивно-выразительные движ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имик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движение мышц лица, которую называют зеркалом душ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Взгляд (визуальный контакт)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свидетельствует о расположенности к общению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з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положение человеческого тела, типичное для данной культур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Жесты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разнообразные движения руками, головой, ногами, смысл которых понятен для общающихся сторо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8320" y="1268280"/>
            <a:ext cx="40384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осадического и экстра-лингвистического общен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осодик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это общее название таких ритмико-интанационных сторон речи, как высота, громкость голосового тона, тембр голоса, сила удар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Экстралингвистическая система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это включение в речь пауз, а также различного рода психофизиологических проявлений человека: плача, кашля, смеха, вздоха и т.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циально-психологические методы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79280" y="1267920"/>
            <a:ext cx="3168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такесического общен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 ним относятся динамические прикосновения в форме рукопожатия, прикосновения, поцелуя.  Доказано, что динамические прикосновения являются необходимой формой стимуляции, а не просто сентиментальной подробностью человеческого общения.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203280" y="980640"/>
            <a:ext cx="5761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тоды проксемического общен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Буквальный перевод термина «проксемика» - близость.  К проксемическим характеристикам относятся ориентация партнеров в момент общения и дистанция между ними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мериканский антрополог Э. Холл описал нормы приближения человека к человеку – дистанции, характерные для североамериканской культур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тимное расстояние (от 0 до 45 см) - общение самых близких люде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ерсональное (от 45 до 120 см) – общение со знакомыми людьм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циальное (от 120 до 400 см) – предпочтительно при общении с чужими людьми и при официальном общени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убличное (от 400 до 750 см) – при выступлении перед различными аудиториям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rebuchet MS"/>
              </a:rPr>
              <a:t>В принципах выражаются требования к системе, структуре организации и процессу управл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1628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ринцип духовной ориентации управления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уть этого принципа заключается в том, что управление в процессе адаптации к постоянно меняющимся условиям и объектам управления опирается на национальную философию и не выходит за рамки духовных ценностных ориентиров народа и государств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ринцип сочетания централизации и децентрализац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иерархии управления искомые сочетания достигаются посредством рационального распределения полномочий и ответственности на всех уровнях системы управлени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108000" y="1341000"/>
            <a:ext cx="44640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единоначалия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анный принцип означает предоставление руководителям организации и ее подразделений власти в объеме, необходимом и достаточном для принятия управленческого решения в пределах своих полномочий (при этом сохраняется ответственность за предпринимаемые действия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00720" y="1341000"/>
            <a:ext cx="45352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коллегиаль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необходимых случаях он предполагает совместное общение и выработку решений с привлечением специалистов.  При всех обстоятельствах право на окончательное принятие решения и ответственность за его последствия сохраняются за руководителе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5497560" y="4535640"/>
            <a:ext cx="3035160" cy="2278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MC900078734[1]"/>
          <p:cNvPicPr/>
          <p:nvPr/>
        </p:nvPicPr>
        <p:blipFill>
          <a:blip r:embed="rId2"/>
          <a:stretch/>
        </p:blipFill>
        <p:spPr>
          <a:xfrm>
            <a:off x="971640" y="4797360"/>
            <a:ext cx="2520720" cy="192240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8" descr="j0300840"/>
          <p:cNvPicPr/>
          <p:nvPr/>
        </p:nvPicPr>
        <p:blipFill>
          <a:blip r:embed="rId1"/>
          <a:stretch/>
        </p:blipFill>
        <p:spPr>
          <a:xfrm>
            <a:off x="6948360" y="5116680"/>
            <a:ext cx="1871640" cy="1577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1979640" y="4653000"/>
            <a:ext cx="2232000" cy="22003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720" y="1062000"/>
            <a:ext cx="331308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планов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гласно ему определяются основные направления и задачи развития организации с ее ориентацией на долгосрочные цел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научной обоснован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соответствии с ним все решения и действия руководителя должны аргументироваться с научных позиц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76360" y="1092240"/>
            <a:ext cx="40388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нцип социальной справедлив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циально-экономическая справедливость выступает не в виде абсолютной уравнительности, а прежде всего в виде справедливой цены труда, справедливого дохода мелкого производителя, приближения минимальной заработной платы к средней, блокирования излишеств в заработках руководящего состава при нищем персонале 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3"/>
          <a:stretch/>
        </p:blipFill>
        <p:spPr>
          <a:xfrm>
            <a:off x="3030480" y="2178000"/>
            <a:ext cx="2262240" cy="175572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134136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ринцип общественной целесообразности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огласно этому принципу, контингент защищаемых в обществе должен быть строго ограничен теми категориями населения, кто полностью или частично лишен способности к труду и самообеспечению.  Нарушение этого принципа ведет к снижению трудовой мотивации и росту армии иждивенцев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356000" y="1351080"/>
            <a:ext cx="454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ринцип экономической эффективности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тражает оптимальное соотношение объема социальных расходов и размера отчислений на их финансирование.  Отчисления на финансирование социальной сферы должны соотноситься со всеми макроэкономическими показателями: валовым внутренним продуктом, фондом оплаты труда, доходами населения и др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етоды управл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28280"/>
            <a:ext cx="403848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нятие «метод»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уквально означает «путь исследования», способ достижения какой-либо цели, решения задачи, совокупность приемов или операций теоретического или практического познания и освоения действительности.  С их помощью руководитель оказывает целенаправленное воздействие на управляемый объект, с тем, чтобы добиться от него решения поставленных задач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0" y="1557000"/>
            <a:ext cx="4392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тоды управления выбираются и используются в зависимости от сочетания (приоритетов) функций управления и от сочетания (выбора) его средств (инструментов).  Многое зависит от масштаба управления, его целей, окружающей социально-экономической среды, качества персонала и реального наличия тех или иных средств (инструментов) управл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еория управления: Учебник /Под общ. ред. А.Л. Гапоненко, А.П. Панкрухина.  М.: Изд-о  РАГС, 2004.  С. 97-100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Классификация методов управления по признакам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24000" y="1341360"/>
          <a:ext cx="8640720" cy="470376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258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 масштабам при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бщие. Относимые ко всей системе, и особенные, обращенные к отдельным составным частям этой системы или, наоборот к внешней среде и ее субъектам, включая потребителей, посредников, конкурентов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2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отраслям и сферам при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государственном и муниципальном управлении, в бизнесе, в промышленности и п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95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роли на различных этапах жизнедеятельности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исследования организаций, формирующие, упорядочивающие, стабилизирующие, развивающие, вплоть до методов реорганизации, ликвидации, банкрот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Классификация методов управления по признакам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79280" y="1397160"/>
          <a:ext cx="8712360" cy="4965480"/>
        </p:xfrm>
        <a:graphic>
          <a:graphicData uri="http://schemas.openxmlformats.org/drawingml/2006/table">
            <a:tbl>
              <a:tblPr/>
              <a:tblGrid>
                <a:gridCol w="4356360"/>
                <a:gridCol w="4356000"/>
              </a:tblGrid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 степени опосредованности во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рямые и кос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уровню обобщения управленчески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теории и практики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управленческим функц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оды анализа, планирования, мотивации, контроля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1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конкретным объектам управления и характеру 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ейс ст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89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 характеру во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циаль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циально-психолог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рганизационно-распорядительные (административные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коном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сихологическ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ммерческие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25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rebuchet MS"/>
              </a:rPr>
              <a:t>Первая концепция этих методов связана с именем П.М. Керженцева, видного специалиста в области научной организации труда в 20-е гг.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84428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состав организационных методов Керженцев П.М. включал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онный план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нструктирование и его формы (директива, лозунг)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остановление (декрет, инструкция, приказ)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распределение сил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ю заново и реорганизацию,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иентацию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реговоры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методы дезорганизации,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рганизационные приемы в деятельности руководител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07:10:11Z</dcterms:created>
  <dc:creator>Хозяин</dc:creator>
  <dc:description/>
  <dc:language>en-US</dc:language>
  <cp:lastModifiedBy>LEGION</cp:lastModifiedBy>
  <dcterms:modified xsi:type="dcterms:W3CDTF">2016-01-11T10:02:33Z</dcterms:modified>
  <cp:revision>13</cp:revision>
  <dc:subject/>
  <dc:title>Принципы и методы управления</dc:title>
</cp:coreProperties>
</file>