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AB71-C046-4646-B567-4FD77544BF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© Бараусова Елен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Бараусова Еле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распоряд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дминист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онно-распоряд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административны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ющ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подразде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у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ламен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о 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остны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ие указ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чи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ответ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ч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а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-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огресс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жил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под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г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рабо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исс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ощ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о-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огрессив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корд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е обслужи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лата жи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ные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приб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соб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ьг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стим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опы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ый код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м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тные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олож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-психологического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сихолог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ал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процесса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т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е стим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опы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ревн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ый код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ческие 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м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тные з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бличное призн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хв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ложит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-психологического клим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ы психолог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груз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малых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процесса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лю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ното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УНКЦ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ФУНКЦИ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ие процесс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ун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ия: 1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4232) 40 41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   elena.barausova@vvsu.ru,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barausova_elena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семинаров – 32 ча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, экза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удитория: 15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лефон: (4232) 40 41 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-mail:    elena.barausova@vvsu.ru,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barausova_elena@mail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семинаров – 32 час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ция /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ботка 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зависит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ресур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ция / усл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бы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довлетвор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ология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СИФИКАЦИЯ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КЛАССИФИКАЦИЯ ОРГАНИЗ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ормам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формам собственност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ницип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ношению к прибы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ношению к прибыли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размера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тру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Е ХАРАКТЕРИСТИК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т внешней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ь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фт Р.Л. Менеджмент. СПб.: Питер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фт Р.Л. Менеджмент. СПб.: Питер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ЛИЧНОСТ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ЛИЧНОСТ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ц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циональ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уководя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ерсо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цепт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з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руководя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ерсона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ая литератур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роли руко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характеристика 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как объект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и роли руковод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(побуждение) к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менты у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 (побуждение) к действия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E16-91D0-4026-B1A5-3BBFB147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597-974B-43B3-B169-3BB9C174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3E0-74E4-4DF1-9201-0E0B9067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3C5-C4EB-4172-96C5-CA539596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253-ABE7-4739-B5DF-06DF30E3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2CD-0B5B-45AF-866A-3071BE07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198-E825-41DA-BCD8-7221C69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42E-62D8-453C-8F36-3AD36AE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F89-EB2F-4EAC-B1C4-FAB7E35A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381-088F-40A8-8E83-36645AB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816-046D-4DB8-AA4A-44D7672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ED9-5CA9-45C7-93B6-D5DFD0D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A6C7-F0BC-433E-91AC-5E9E3E1797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Основы менеджмент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араусова Еле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PE01616_"/>
          <p:cNvPicPr/>
          <p:nvPr/>
        </p:nvPicPr>
        <p:blipFill>
          <a:blip r:embed="rId1"/>
          <a:stretch/>
        </p:blipFill>
        <p:spPr>
          <a:xfrm>
            <a:off x="2743200" y="19051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.3.2.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0944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Метод управлен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совокупность (система) управленческих приемов, способствующих обеспечению высокой эффективности деятельности организации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981000"/>
            <a:ext cx="5689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ЕТОДЫ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340000" y="1916280"/>
            <a:ext cx="71280" cy="403380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40000" y="29242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4000" y="234936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701"/>
                </a:solidFill>
                <a:latin typeface="Arial Black"/>
              </a:rPr>
              <a:t>Организационно-распоряд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(административ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564000" y="393372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35280" y="5445000"/>
            <a:ext cx="518472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Социально-псих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2411280" y="4508640"/>
            <a:ext cx="1152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411280" y="59500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7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табилизир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826920" y="321300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Распоряд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исциплина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министратив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3"/>
          <p:cNvSpPr/>
          <p:nvPr/>
        </p:nvSpPr>
        <p:spPr>
          <a:xfrm>
            <a:off x="3432960" y="2682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ла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3448440" y="981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5"/>
          <p:cNvSpPr/>
          <p:nvPr/>
        </p:nvSpPr>
        <p:spPr>
          <a:xfrm>
            <a:off x="3290760" y="183348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нструк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6551640" y="0"/>
            <a:ext cx="2592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Уст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ложение о подразде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589720" y="1052640"/>
            <a:ext cx="35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рудовы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ехнически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Распорядительные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084720" y="2492280"/>
            <a:ext cx="30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олжностны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етодические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3132000" y="47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3132000" y="20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2"/>
          <p:cNvSpPr/>
          <p:nvPr/>
        </p:nvSpPr>
        <p:spPr>
          <a:xfrm>
            <a:off x="3132000" y="1125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3"/>
          <p:cNvSpPr/>
          <p:nvPr/>
        </p:nvSpPr>
        <p:spPr>
          <a:xfrm>
            <a:off x="313200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2987640" y="1125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5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392436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7"/>
          <p:cNvSpPr/>
          <p:nvPr/>
        </p:nvSpPr>
        <p:spPr>
          <a:xfrm>
            <a:off x="5364000" y="1197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8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 flipV="1">
            <a:off x="6156360" y="33300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>
            <a:off x="3059280" y="573408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1"/>
          <p:cNvSpPr/>
          <p:nvPr/>
        </p:nvSpPr>
        <p:spPr>
          <a:xfrm>
            <a:off x="3851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Установление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443640" y="4005360"/>
            <a:ext cx="226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Ли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Коллектив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ор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>
            <a:off x="579600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4"/>
          <p:cNvSpPr/>
          <p:nvPr/>
        </p:nvSpPr>
        <p:spPr>
          <a:xfrm flipV="1">
            <a:off x="5508720" y="436536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>
            <a:off x="5724360" y="595008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6"/>
          <p:cNvSpPr/>
          <p:nvPr/>
        </p:nvSpPr>
        <p:spPr>
          <a:xfrm flipV="1">
            <a:off x="5651640" y="5084640"/>
            <a:ext cx="64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7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8"/>
          <p:cNvSpPr/>
          <p:nvPr/>
        </p:nvSpPr>
        <p:spPr>
          <a:xfrm>
            <a:off x="539640" y="3716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9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6920" y="249228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Комисс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награ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ном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737520" y="3333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3528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00"/>
                </a:solidFill>
                <a:latin typeface="Arial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227640" y="0"/>
            <a:ext cx="219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времен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89720" y="10526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64000" y="1125360"/>
            <a:ext cx="30592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Косвенно-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огресс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Аккор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54936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V="1">
            <a:off x="3203640" y="3860280"/>
            <a:ext cx="936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211640" y="3213000"/>
            <a:ext cx="201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дицинское обслу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уте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плата жи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4932360" y="2060640"/>
            <a:ext cx="503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V="1">
            <a:off x="5508720" y="40428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3059280" y="5734080"/>
            <a:ext cx="3025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300720" y="5025960"/>
            <a:ext cx="22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Ценные под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приб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соб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3964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900000" y="393372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ль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3276720" y="54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2987640" y="119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26920" y="134136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4365720"/>
            <a:ext cx="2159280" cy="79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 rot="16200000">
            <a:off x="-2664360" y="3320280"/>
            <a:ext cx="6120000" cy="28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психолог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39520" y="2602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92800" y="981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19640" y="19890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Моральное стим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1640" y="0"/>
            <a:ext cx="259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58080" y="14130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Моральный ко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Этические 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300720" y="2205000"/>
            <a:ext cx="305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Грам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четные 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убличное при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Благода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хв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203640" y="62064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3640" y="227664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203640" y="1413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203640" y="62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987640" y="17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58000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V="1">
            <a:off x="5508720" y="47628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92360" y="609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6588000" y="5013360"/>
            <a:ext cx="22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39640" y="1699920"/>
            <a:ext cx="216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539640" y="3789360"/>
            <a:ext cx="28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3059280" y="4797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492360" y="3645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3924360" y="285264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оздание положи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орально-психологического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49236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4054320" y="431316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стемы 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4067280" y="5229360"/>
            <a:ext cx="344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Arial"/>
              </a:rPr>
              <a:t>Формирование малых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Гуманизация процесса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732720" y="630864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164360" y="5545080"/>
            <a:ext cx="19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лю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онот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1"/>
          <p:cNvSpPr/>
          <p:nvPr/>
        </p:nvSpPr>
        <p:spPr>
          <a:xfrm flipV="1">
            <a:off x="6804000" y="580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358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нципы управления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e701"/>
                </a:solidFill>
                <a:uFillTx/>
                <a:latin typeface="Arial Black"/>
              </a:rPr>
              <a:t>Процесс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Эти действия называют управленческими функци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01"/>
                </a:solidFill>
                <a:latin typeface="Arial Black"/>
              </a:rPr>
              <a:t>ОСНОВНЫЕ ФУНКЦИИ УПРАВЛЕНИ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2060640"/>
            <a:ext cx="28101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03640" y="206064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3640" y="393372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187280" y="3933720"/>
            <a:ext cx="2808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667640" y="270828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824400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7667280" y="465300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3995640" y="465300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395280" y="4653000"/>
            <a:ext cx="792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9528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95280" y="2708280"/>
            <a:ext cx="72072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97964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Arial Black"/>
              </a:rPr>
              <a:t>Связующие процес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коммун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инятие ре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0244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701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– это некоторая целостность, состоящая из взаимозависимых частей, каждая из которых вносит свой вклад в характеристики целого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701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Бараусова Елена Александровна, к.э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доцент кафедры экономики и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удитория: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5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лефон: (4232)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40 41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: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vs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_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ail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енний семест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дель. Лекций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ов,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семинаров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701"/>
                </a:solidFill>
                <a:latin typeface="Arial Black"/>
              </a:rPr>
              <a:t>Систем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132000" y="2781360"/>
            <a:ext cx="302436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бработк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реобра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в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(зависит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у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852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19240" y="3357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258920" y="378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11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рудовые 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900000" y="321300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900000" y="371628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900000" y="4581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00000" y="227664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300120" y="2060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999120" y="227664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211440" y="2800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одукция /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372360" y="3213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22764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6156360" y="321300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6156360" y="357336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209280" y="4097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ля ры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6156360" y="450864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6231960" y="45086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7380360" y="515772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1763640" y="6021360"/>
            <a:ext cx="56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V="1">
            <a:off x="1763640" y="4797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3635280" y="5589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 Black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Ситуац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e701"/>
                </a:solidFill>
                <a:uFillTx/>
                <a:latin typeface="Arial Black"/>
              </a:rPr>
              <a:t>Методология ситуационного подход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0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быть знаком со средствами профессион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уметь правильно интерпретировать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увязывать конкретные приемы с конкретными ситуа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Организация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– это группа людей, деятельность которых сознательно координируется для достижения общих цел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КЛАССИФИКАЦИЯ ОРГАНИЗАЦ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По формам собственн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640" y="2349360"/>
            <a:ext cx="6059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час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государстве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уницип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друг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тношению к прибыл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2276280"/>
            <a:ext cx="58435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змерам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0920" y="2708280"/>
            <a:ext cx="3683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руп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сред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ал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 Black"/>
              </a:rPr>
              <a:t>ОБЩИЕ ХАРАКТЕРИСТИКИ ОРГАНИЗА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есурсы (люди, капитал, материалы, технология, информ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Зависимость от внешн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азделение тр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ризонт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зделение работы на сост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ертик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еятельность по координированию работы други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Необходимость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ЛЬ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–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то образец действий, ожидаемых от индивида при выполнении деятельности, имеющей отношение к другим людям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ЕКОМЕНДУЕМАЯ ЛИТЕРАТУ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Arial"/>
              </a:rPr>
              <a:t>Основ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Менеджмент: Учебник. М.: Гардарика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Практикум по курсу «Менеджмент». М.: Гардарика, 199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афт Р.Л. Менеджмент. СПб.: Питер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МЕЖЛИЧНОСТ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ЛАВА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церемониалы, встреча гостей, подписание юридически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ИДЕР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ство и мотивация подчиненных, обучение, коммуникации с рабо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ВЯЗУЮЩЕЕ ЗВЕ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ИНФОРМАЦИОН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ИЕМНИК ИНФОРМАЦИИ (НАБЛЮДАТЕЛЬ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обработка всей почты, ознакомительные поездки, личные 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АСПРОСТРАНИТЕЛЬ ИНФОРМАЦИИ (ПРОВОДНИК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сылка почты по организациям, вербальные контакты для передач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ЕДСТАВИТЕЛЬ (ОРАТОР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участие в заседаниях, обращение через средства массовой информации, речи, отчеты,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 Black"/>
              </a:rPr>
              <a:t>РОЛИ, СВЯЗАННЫЕ С ПРИНЯТИЕМ РЕШЕНИЙ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РЕДПРИНИМАТЕЛЬ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инициация новых проектов, поиск новых идей, завоевание сторо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УСТРАНЯЮЩИЙ НАРУШЕНИЯ (ПОЖАРНЫЙ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урегулирование споров, разрешение конфликтов, адаптация к кризисам во внешне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РАСПРЕДЕЛИТЕЛЬ РЕСУРСОВ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составление бюджетов, составление графиков работы, расстановка приор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ВЕДУЩИЙ ПЕРЕГОВОРЫ (ПОСРЕДНИК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ведение переговоров, представление интересов своей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Уровни управлен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 flipH="1">
            <a:off x="1547280" y="1413000"/>
            <a:ext cx="295308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00720" y="1413000"/>
            <a:ext cx="316692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547640" y="5516640"/>
            <a:ext cx="612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268360" y="4508640"/>
            <a:ext cx="4608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132000" y="3357720"/>
            <a:ext cx="288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810240" y="228456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Ин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туциона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930400" y="3778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Управл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49160" y="479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Техн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124000" y="981000"/>
            <a:ext cx="6624720" cy="41767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124000" y="3068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124000" y="2060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24000" y="4076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3419280" y="981000"/>
            <a:ext cx="1439640" cy="417672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4427280" y="4076640"/>
            <a:ext cx="360360" cy="108108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6300360" y="981000"/>
            <a:ext cx="1079640" cy="309564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195640" y="134136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Концепт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78840" y="23050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Челове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881760" y="35290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Тех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788000" y="4076640"/>
            <a:ext cx="1512720" cy="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2124000" y="2060640"/>
            <a:ext cx="23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124000" y="3068640"/>
            <a:ext cx="201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124000" y="4076640"/>
            <a:ext cx="165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00720" y="2060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4140360" y="3068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3780000" y="4076640"/>
            <a:ext cx="100800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7020000" y="2060640"/>
            <a:ext cx="172872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6659640" y="3068640"/>
            <a:ext cx="2089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6300720" y="4076640"/>
            <a:ext cx="244800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154440" y="40464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Уровн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547920" y="141300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ыс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470520" y="2421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536040" y="3429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Низ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5200" y="4221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еруководя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(персон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7" name="Picture 3" descr="BD04924_"/>
          <p:cNvPicPr/>
          <p:nvPr/>
        </p:nvPicPr>
        <p:blipFill>
          <a:blip r:embed="rId1"/>
          <a:stretch/>
        </p:blipFill>
        <p:spPr>
          <a:xfrm>
            <a:off x="3352680" y="304812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 Black"/>
              </a:rPr>
              <a:t>Дополнительная литература</a:t>
            </a:r>
            <a:r>
              <a:rPr b="1" lang="ru-RU" sz="3200" spc="-1" strike="noStrike">
                <a:solidFill>
                  <a:srgbClr val="ffe701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Тема 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ВВЕДЕНИЕ В</a:t>
            </a:r>
            <a:r>
              <a:rPr b="0" lang="en-US" sz="4000" spc="-1" strike="noStrike">
                <a:solidFill>
                  <a:srgbClr val="ffe701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ЕНЕДЖМЕН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0" descr="j0283209"/>
          <p:cNvPicPr/>
          <p:nvPr/>
        </p:nvPicPr>
        <p:blipFill>
          <a:blip r:embed="rId1"/>
          <a:stretch/>
        </p:blipFill>
        <p:spPr>
          <a:xfrm>
            <a:off x="2627280" y="2852640"/>
            <a:ext cx="395928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Arial Black"/>
              </a:rPr>
              <a:t>План лек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бщая характеристика 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рганизация как объект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ункции и роли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Уровни управления в 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Black"/>
              </a:rPr>
              <a:t>Менеджмент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Элементы управле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решение о поставленной цели и планирование деятельности по ее дост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пределение времени и действий, необходимых для решения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мотивация (побуждение) к действи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координация отдельных, но взаимосвязан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едметом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 изучения науки упра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3:57:59Z</dcterms:created>
  <dc:creator>HOME</dc:creator>
  <dc:description/>
  <dc:language>en-US</dc:language>
  <cp:lastModifiedBy>LEGION</cp:lastModifiedBy>
  <dcterms:modified xsi:type="dcterms:W3CDTF">2016-01-11T10:03:16Z</dcterms:modified>
  <cp:revision>131</cp:revision>
  <dc:subject/>
  <dc:title>Основы менеджмента</dc:title>
</cp:coreProperties>
</file>