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9.png" ContentType="image/png"/>
  <Override PartName="/ppt/media/image10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10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ftr" idx="11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 type="sldNum" idx="12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8D2A7-5108-474F-A880-0EFAEAA9B6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ГОУ  ВПО  «Финансовая академ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равительстве Российской Федераци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ОСНОВЫ  ПСИХОЛОГ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  проф.   В.С. Трипольского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4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A0B4B-A057-4A70-8475-EDE95F5E86C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Классификация психических явл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Психическое состояни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пределившийся в данное время относительно устойчивый уровень психической деятельности, который проявляется в повышенной или пониженной активности л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более изученными являютс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общее психическое состояние, например внимание, проявляющееся на уровне активной сосредоточенности или рассеянност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эмоциональные состояния, или настроения (жизнерадост-ное, восторженное, грустное, печальное, гневное, и т.д.). Интересные исследования имеются об особом, творческом, состоянии личности, которое называют </a:t>
            </a: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вдохновен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336F2-27D4-4EA3-8F02-A4A7339711B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Классификация психических явл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шими и устойчивыми регуляторами психической деятельности являютс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свойства личнос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устойчивые образования, обеспечивающие определенный качественно-количест-венный уровень деятельности и поведения, типичный для данного челове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ое психическое свойство формируется постепенно в процессе отражения и закрепляется в практике. Оно, следовательно, является результатом отражательной и практической деятель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4AD03-3834-474B-8B00-46ABF52FE03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Тема 2.   Чувственные формы освоения действи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щущение как элементарная форма отражения реальности. Классификация ощущений. Общие свойства ощущений. Развитие ощущений в процессе деятельности человека: адаптация, сенсибилизация, синестез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риятие и его свойства. Восприятие пространства и движения. Восприятие времени. Нарушения восприятия – гиперстезия, галлюцинации, аффективные, вербальные и перейдолические иллюз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имание и его основные свойства: устойчивость, концентрация и распределение, переключаемость и объем. Виды вним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Номер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66F1-D0C8-43DA-95A9-C315F9272D6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Ощущен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наиболее элементарный психический процесс, заключающийся в психическом отражени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тдельных свойств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ов и явлений, непосредственно воздействующих на органы чув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Классификация ощущений по модальности органов чувст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Зрите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Слухов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Такти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Вкусов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Обоняте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FC167-86D5-480E-BBD1-65B9176ED13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Классификация ощущений п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)способу воздействия раздражителя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2) времени возникновения в филогенезе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3) функции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4) по расположению рецептивных  по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B3AF9-E0A8-4355-9535-24B9D6F5130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йства ощущ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рог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абсолютный нижний (порог обнаружения)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мальная интенсивность раздражителя, вызывающего едва заметное ощуще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абсолютный верхний (терминальный)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симально допустимая величина внешнего раздражител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дифференциальный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мальное различие между двумя раздражителями, которые воспринимаются как различающиеся по ощущени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даптация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ность органов чувств приспосабливаться к новому или изменившему интенсивность сигнал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енсибилизация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чувствительности,  снижение порога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инестезия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фические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щущения, возникающие  при совместной работе нескольких анализаторов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3EE9C-952E-4905-90B7-499055AE9AD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осприятие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перцепция) – воссоздание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целостных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разов объектов (предметов, ситуаций и т.д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Классификация по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ffff00"/>
                </a:solidFill>
                <a:latin typeface="Arial"/>
              </a:rPr>
              <a:t>модальности ведущего рецептор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рительное, слуховое, тактильное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Классификация по </a:t>
            </a:r>
            <a:r>
              <a:rPr b="1" i="1" lang="ru-RU" sz="1200" spc="-1" strike="noStrike">
                <a:solidFill>
                  <a:srgbClr val="ffff00"/>
                </a:solidFill>
                <a:latin typeface="Arial"/>
              </a:rPr>
              <a:t>содержанию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риятие формы, цвета, пространства, движения, време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3854F-C635-43FD-9A13-245D4F62F1F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Свойства воспри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Константность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оянство восприятия формы, размера и цвета предметов окружающего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Предметность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–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несенность всех полученных с помощью органов чувств сведений о внешнем мире к самим предметам (а, например, не к рецепторам или структурам мозг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Целостность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ность воспринимать всякий объект, предметную ситуацию как устойчивое системное целое, даже, если некоторые части этого целого в данный момент не могут быть наблюда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Категориальность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(осмысленность)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несение воспринимаемых объектов к определенной категории, группе объе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Избирательность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ение из сенсорного поля каких-либо объектов (или их частей) и признаков. «Фигура» и «фон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A7BC2-F173-4CE8-80F6-819CFBAF52E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Иллюзии восприятия </a:t>
            </a: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искаженное восприятие реальных предме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Связанные со строением глаза (светлые предметы кажутся большими, чем темные – иррадиация возбуждения в сетчатк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Переоценка длины вертикальных ли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Иллюзии контраста (не только зрительны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Перенесение свойств фигуры на отдельные ее ч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Искажение направлений линий за счет штриховки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F18B0-54E4-452D-8293-68A8C3CEC45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Arial"/>
              </a:rPr>
              <a:t>Зрительные иллюзии вос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тикальные параллельные линии, пересекаемые короткими косыми, кажутся расходящимися (иллюзия Цельнера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10F15-E05C-494A-84F6-08A3A36ED72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Arial"/>
              </a:rPr>
              <a:t>Зрительные иллюзии вос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тикальные параллельные линии, пересекаемые короткими косыми, кажутся расходящимися (иллюзия Цельнера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13B6A-8131-43C3-8CC8-7D89F8F60F7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Иллюзия Эббингау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3DE43-19EB-4F42-B090-37676BCD2E7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Иллюзия Мюллера-Лай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166AB-853A-4165-9BBE-5EA97D63E25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Иллюзии зрительного вос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06DDA-B8C8-4D93-858D-B17FECAA40A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Arial"/>
              </a:rPr>
              <a:t>Тема 3.   Рациональные формы освоения </a:t>
            </a:r>
            <a:br>
              <a:rPr sz="1200"/>
            </a:br>
            <a:r>
              <a:rPr b="0" lang="ru-RU" sz="1200" spc="-1" strike="noStrike">
                <a:solidFill>
                  <a:srgbClr val="ff6600"/>
                </a:solidFill>
                <a:latin typeface="Arial"/>
              </a:rPr>
              <a:t>                действи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мя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обра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ш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ч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левые процес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33686-037A-4444-BBC2-E29094A39E7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Памя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способность к сохранению, накоплению и воспроизведению информ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Без памяти мы были бы существами мгновения. Наше прошлое было бы мертво для будущего. Настоящее по мере его протекания безвозвратно исчезало бы в прошлом, не было бы психической жизни смыкающейся в единстве личного сознания, и невозможен был бы факт по существу непрерывного учения, проходящий через всю нашу жизнь и делающий нас тем, что мы ест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Л.Рубинштей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A16A4-AE28-46E1-A7DB-B657A1FC714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иды памя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типу запоминаемого материала: </a:t>
            </a: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двигательная, образная (слуховая, зрительная, тактильная), словесно-логиче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характеру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целей деятельности: </a:t>
            </a: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непроизвольная и произволь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ремен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сенсорная (иконическая, эхоическая), кратковременная (до 20 сек.) , долговременная (практически бесконечная;), оперативная, или рабочая (время определяется задачей</a:t>
            </a: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8C734-C030-41BE-BC97-613ED0B6A2E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09062-B8DF-4587-8752-6B541AE3746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ЗА ВНИМАНИЕ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66"/>
                </a:solidFill>
                <a:latin typeface="Arial"/>
              </a:rPr>
              <a:t>«</a:t>
            </a:r>
            <a:r>
              <a:rPr b="0" i="1" lang="ru-RU" sz="3800" spc="-1" strike="noStrike">
                <a:solidFill>
                  <a:srgbClr val="ffff66"/>
                </a:solidFill>
                <a:latin typeface="Arial"/>
              </a:rPr>
              <a:t>Человек – животное общественное</a:t>
            </a:r>
            <a:r>
              <a:rPr b="0" lang="ru-RU" sz="3800" spc="-1" strike="noStrike">
                <a:solidFill>
                  <a:srgbClr val="ffff66"/>
                </a:solidFill>
                <a:latin typeface="Arial"/>
              </a:rPr>
              <a:t>»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66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Аристотель (384 </a:t>
            </a:r>
            <a:r>
              <a:rPr b="0" i="1" lang="ru-RU" sz="2400" spc="-1" strike="noStrike">
                <a:solidFill>
                  <a:srgbClr val="ffff66"/>
                </a:solidFill>
                <a:latin typeface="Arial"/>
              </a:rPr>
              <a:t>–</a:t>
            </a: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 322 до н.э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Номер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F930A-3268-4B37-AC3B-BAC1DA75B1A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99"/>
                </a:solidFill>
                <a:latin typeface="Arial"/>
              </a:rPr>
              <a:t>План ле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2EE14-FD1B-4BAC-8721-DCE7902ED40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Тема 1.   Предмет психологии, задачи и мет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явлений, которые изучает современная псих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психических явл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развития психологического 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современного  психологического знания и основные направления в псих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психологического исслед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направления практического применения психологических знаний и методов в сфере экономики и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23632-C9B8-4691-9B97-F9FBBDE3953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классификации наук академика А. Кедрова психология занимает центральное место не только как продукт всех других наук, но и как возможный источник объяснения их формирования и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я интегрирует все данные этих наук и в свою очередь влияет на них, становясь общей моделью человекознания. Психологию следует рассматривать как научное исследование поведения и умственной деятельности человека, а также практическое применение приобретенных зна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2498C-0B69-4293-AA7B-6449FD49717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Тема 1.   Предмет психологии, задачи и мет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явлений, которые изучает современная псих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психических явл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развития психологического 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современного  психологического знания и основные направления в псих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психологического исслед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направления практического применения психологических знаний и методов в сфере экономики и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1C6D9-2C93-425E-8622-0740F6CBCE9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Классификация психических явл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ика сложна и многообразна по своим проявлениям. Обычно выделяют три крупные группы психических явлений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психические процесс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психические состояни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психические свой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61160-F887-4ED5-A71E-8F9A542D1A8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Классификация психических явл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000"/>
                </a:solidFill>
                <a:latin typeface="Arial"/>
              </a:rPr>
              <a:t>Психические процессы – динамическое отражение действительности в различных формах психических явл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Психический процесс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это течение психического явления, имеющего начало, развитие и конец, проявляющееся в виде реакции. При этом нужно иметь в виду, что конец психического процесса тесно связан с началом нового процесса. Отсюда непрерывность психической деятельности в состоянии бодрствования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40FD7-AB00-4EF9-8E97-B07AD3F38D1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7435-2413-4D19-8E13-BAAE942A7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BF62-35BF-419E-A1D8-7429B52F4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487C-DD24-4F39-A7C0-45C5AF159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2ED6-2ECE-4D6C-A99D-EB56E3E93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39B1D-FFD5-467D-9F96-09CBC9C35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83687-EA08-4537-A004-6533A7E3E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F65E1-6AFC-4511-B72D-44745677E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D3321-1BE1-480A-B26C-C1EA9C061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6659D-1753-46F0-83CC-60BE1B951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F946C-7087-4FAA-9CA2-B33FE74A4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DE7CF-61E9-4DFD-AC6E-8752E2B4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8E88-549B-4D69-A64B-F3F541B72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A002C-5340-4D4D-B899-520E32D6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D7953-394A-474B-B7F0-931DBAD8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38BF8-10DF-4D7A-ADAD-8AF559B38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81775-3AB8-462D-9761-C161B8202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E7A5E-5A63-4EDA-A561-3DEBEE8D2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67C7B-489F-4EDF-9312-85BAA11AA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D6E27-2092-48D0-8C8C-F4BC0F5D0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20069-9881-437D-90F6-70B783808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22773-2D04-4C68-AAA4-B3D74D3AF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2366C-EFC7-491D-B78F-D7596967D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9C40-10CA-459E-BF8A-052C8B763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FDA71-F7AC-4202-87B9-0B121600E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D10C9-A237-4F24-AB9C-B307DF14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84BD9-25B4-4676-9702-B6056614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435B2-BA97-446D-A4E0-56105E30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B091F-B817-40CB-BECE-071442358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27613-9A43-4B73-9092-F322B19A0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A8EF5-5AF0-4736-8019-3C7FC153A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E81F-0F5B-4BE5-865D-F8BE8EBCF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E698-77DD-4298-90AD-2AA425647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7B3D-A4C0-47BA-9A4C-8BBCB393D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172C-465A-4361-8B0E-A393C0B0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4943-AFFE-4F6F-A547-189241B6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E700-EF1A-44D7-A5AD-4D945A19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FCEF3-B04F-4A6E-9213-8FBE53B7859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4072E-2A0E-43FB-B78F-721A518C86E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15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5A924-65E3-49BB-861B-2F83194043B8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08120" y="412920"/>
            <a:ext cx="6469200" cy="1123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ГОУ  ВПО  «Финансовая академия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 Правительстве Российской Федерации»</a:t>
            </a:r>
            <a:endParaRPr b="1" lang="en-US" sz="2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09160" y="2484000"/>
            <a:ext cx="8745480" cy="39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66"/>
                </a:solidFill>
                <a:latin typeface="Arial"/>
              </a:rPr>
              <a:t>ОСНОВЫ  ПСИХОЛОГИИ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екция  проф.   В.С. Трипольского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4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0" name="Picture 4" descr="логотип зел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64960" y="228600"/>
            <a:ext cx="1920960" cy="1627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34880" y="252360"/>
            <a:ext cx="8593200" cy="89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Классификация психических явлений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2120" y="1376280"/>
            <a:ext cx="870912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сихическое состояние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определившийся в данное время относительно устойчивый уровень психической деятельности, который проявляется в повышенной или пониженной активности личност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аиболее изученными являются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) общее психическое состояние, например внимание, проявляющееся на уровне активной сосредоточенности или рассеянности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2) эмоциональные состояния, или настроения (жизнерадост-ное, восторженное, грустное, печальное, гневное, и т.д.). Интересные исследования имеются об особом, творческом, состоянии личности, которое называют </a:t>
            </a:r>
            <a:r>
              <a:rPr b="0" lang="ru-RU" sz="2400" spc="-1" strike="noStrike">
                <a:solidFill>
                  <a:srgbClr val="ffff66"/>
                </a:solidFill>
                <a:latin typeface="Garamond"/>
              </a:rPr>
              <a:t>вдохновение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34880" y="252360"/>
            <a:ext cx="8593200" cy="89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Классификация психических явлений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2120" y="1393560"/>
            <a:ext cx="870912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сшими и устойчивыми регуляторами психической деятельности являются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войства личност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устойчивые образования, обеспечивающие определенный качественно-количест-венный уровень деятельности и поведения, типичный для данного человек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ждое психическое свойство формируется постепенно в процессе отражения и закрепляется в практике. Оно, следовательно, является результатом отражательной и практической деятельност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12320" y="252000"/>
            <a:ext cx="715644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Тема 2.   Чувственные формы освоения действительности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2120" y="1623960"/>
            <a:ext cx="870912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щущение как элементарная форма отражения реальности. Классификация ощущений. Общие свойства ощущений. Развитие ощущений в процессе деятельности человека: адаптация, сенсибилизация, синестези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сприятие и его свойства. Восприятие пространства и движения. Восприятие времени. Нарушения восприятия – гиперстезия, галлюцинации, аффективные, вербальные и перейдолические иллюзи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нимание и его основные свойства: устойчивость, концентрация и распределение, переключаемость и объем. Виды вниман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29600" cy="2208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щущения</a:t>
            </a:r>
            <a:r>
              <a:rPr b="0" lang="ru-RU" sz="2400" spc="-1" strike="noStrike">
                <a:solidFill>
                  <a:srgbClr val="b9efee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наиболее элементарный психический процесс, заключающийся в психическом отражении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отдельных свойств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дметов и явлений, непосредственно воздействующих на органы чу</a:t>
            </a:r>
            <a:r>
              <a:rPr b="0" lang="ru-RU" sz="2400" spc="-1" strike="noStrike">
                <a:solidFill>
                  <a:srgbClr val="b9efee"/>
                </a:solidFill>
                <a:latin typeface="Arial"/>
              </a:rPr>
              <a:t>вств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67760" y="1600200"/>
            <a:ext cx="8975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Классификация ощущений по модальности органов чувств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Зрительны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Слуховы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Тактильны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Вкусовы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Обонятельны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41120"/>
            <a:ext cx="8229600" cy="1633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Garamond"/>
              </a:rPr>
              <a:t>Классификация ощущений по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(1)способу воздействия раздражителя,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(2) времени возникновения в филогенезе,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(3) функции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(4) по расположению рецептивных  полей</a:t>
            </a:r>
            <a:endParaRPr b="1" lang="en-US" sz="20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22" name="Organization Chart 2"/>
          <p:cNvGrpSpPr/>
          <p:nvPr/>
        </p:nvGrpSpPr>
        <p:grpSpPr>
          <a:xfrm>
            <a:off x="466560" y="2302200"/>
            <a:ext cx="8208720" cy="3715560"/>
            <a:chOff x="466560" y="2302200"/>
            <a:chExt cx="8208720" cy="3715560"/>
          </a:xfrm>
        </p:grpSpPr>
        <p:cxnSp>
          <p:nvCxnSpPr>
            <p:cNvPr id="223" name="_s1028"/>
            <p:cNvCxnSpPr>
              <a:stCxn id="224" idx="1"/>
              <a:endCxn id="225" idx="2"/>
            </p:cNvCxnSpPr>
            <p:nvPr/>
          </p:nvCxnSpPr>
          <p:spPr>
            <a:xfrm rot="10800000">
              <a:off x="5810040" y="4707000"/>
              <a:ext cx="255960" cy="4370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26" name="_s1029"/>
            <p:cNvCxnSpPr>
              <a:stCxn id="227" idx="1"/>
              <a:endCxn id="228" idx="2"/>
            </p:cNvCxnSpPr>
            <p:nvPr/>
          </p:nvCxnSpPr>
          <p:spPr>
            <a:xfrm rot="10800000">
              <a:off x="2689920" y="4707000"/>
              <a:ext cx="255960" cy="1092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29" name="_s1030"/>
            <p:cNvCxnSpPr>
              <a:stCxn id="230" idx="1"/>
              <a:endCxn id="228" idx="2"/>
            </p:cNvCxnSpPr>
            <p:nvPr/>
          </p:nvCxnSpPr>
          <p:spPr>
            <a:xfrm rot="10800000">
              <a:off x="2689920" y="4707000"/>
              <a:ext cx="255960" cy="4370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1" name="_s1031"/>
            <p:cNvCxnSpPr>
              <a:stCxn id="225" idx="1"/>
              <a:endCxn id="232" idx="2"/>
            </p:cNvCxnSpPr>
            <p:nvPr/>
          </p:nvCxnSpPr>
          <p:spPr>
            <a:xfrm rot="10800000">
              <a:off x="4353120" y="4052160"/>
              <a:ext cx="255960" cy="438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3" name="_s1032"/>
            <p:cNvCxnSpPr>
              <a:stCxn id="228" idx="1"/>
              <a:endCxn id="234" idx="2"/>
            </p:cNvCxnSpPr>
            <p:nvPr/>
          </p:nvCxnSpPr>
          <p:spPr>
            <a:xfrm rot="10800000">
              <a:off x="1232280" y="4052160"/>
              <a:ext cx="255960" cy="438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5" name="_s1033"/>
            <p:cNvCxnSpPr>
              <a:stCxn id="232" idx="0"/>
              <a:endCxn id="236" idx="2"/>
            </p:cNvCxnSpPr>
            <p:nvPr/>
          </p:nvCxnSpPr>
          <p:spPr>
            <a:xfrm flipH="1" flipV="1" rot="5400000">
              <a:off x="5132520" y="2616480"/>
              <a:ext cx="219240" cy="1777320"/>
            </a:xfrm>
            <a:prstGeom prst="bentConnector3">
              <a:avLst>
                <a:gd name="adj1" fmla="val 4950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7" name="_s1034"/>
            <p:cNvCxnSpPr>
              <a:stCxn id="234" idx="0"/>
              <a:endCxn id="238" idx="2"/>
            </p:cNvCxnSpPr>
            <p:nvPr/>
          </p:nvCxnSpPr>
          <p:spPr>
            <a:xfrm flipH="1" flipV="1" rot="5400000">
              <a:off x="2012760" y="2615760"/>
              <a:ext cx="219240" cy="1779120"/>
            </a:xfrm>
            <a:prstGeom prst="bentConnector3">
              <a:avLst>
                <a:gd name="adj1" fmla="val 4950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9" name="_s1035"/>
            <p:cNvCxnSpPr>
              <a:stCxn id="236" idx="0"/>
              <a:endCxn id="240" idx="2"/>
            </p:cNvCxnSpPr>
            <p:nvPr/>
          </p:nvCxnSpPr>
          <p:spPr>
            <a:xfrm flipV="1" rot="16200000">
              <a:off x="5240160" y="2068200"/>
              <a:ext cx="219240" cy="15606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1" name="_s1036"/>
            <p:cNvCxnSpPr>
              <a:stCxn id="238" idx="0"/>
              <a:endCxn id="240" idx="2"/>
            </p:cNvCxnSpPr>
            <p:nvPr/>
          </p:nvCxnSpPr>
          <p:spPr>
            <a:xfrm flipH="1" flipV="1" rot="5400000">
              <a:off x="3681360" y="2068920"/>
              <a:ext cx="219240" cy="15591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40" name="_s1037"/>
            <p:cNvSpPr/>
            <p:nvPr/>
          </p:nvSpPr>
          <p:spPr>
            <a:xfrm>
              <a:off x="3457440" y="2302200"/>
              <a:ext cx="2225520" cy="4374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760" rIns="8676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Тип ощущений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_s1038"/>
            <p:cNvSpPr/>
            <p:nvPr/>
          </p:nvSpPr>
          <p:spPr>
            <a:xfrm>
              <a:off x="2087280" y="2958480"/>
              <a:ext cx="1845720" cy="4374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760" rIns="8676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Контактные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_s1039"/>
            <p:cNvSpPr/>
            <p:nvPr/>
          </p:nvSpPr>
          <p:spPr>
            <a:xfrm>
              <a:off x="5207400" y="2958480"/>
              <a:ext cx="1845720" cy="4374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760" rIns="8676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Arial"/>
                </a:rPr>
                <a:t>Дистантные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_s1040"/>
            <p:cNvSpPr/>
            <p:nvPr/>
          </p:nvSpPr>
          <p:spPr>
            <a:xfrm>
              <a:off x="466560" y="3615120"/>
              <a:ext cx="1533240" cy="4374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760" rIns="8676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Arial"/>
                </a:rPr>
                <a:t>Палео-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_s1041"/>
            <p:cNvSpPr/>
            <p:nvPr/>
          </p:nvSpPr>
          <p:spPr>
            <a:xfrm>
              <a:off x="3587040" y="3615120"/>
              <a:ext cx="1533240" cy="4374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760" rIns="8676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Arial"/>
                </a:rPr>
                <a:t>Нео-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_s1042"/>
            <p:cNvSpPr/>
            <p:nvPr/>
          </p:nvSpPr>
          <p:spPr>
            <a:xfrm>
              <a:off x="1488600" y="4271760"/>
              <a:ext cx="2403000" cy="43596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760" rIns="8676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Констатирующие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_s1043"/>
            <p:cNvSpPr/>
            <p:nvPr/>
          </p:nvSpPr>
          <p:spPr>
            <a:xfrm>
              <a:off x="4609440" y="4271760"/>
              <a:ext cx="2403000" cy="43596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760" rIns="8676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Упреждающие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_s1044"/>
            <p:cNvSpPr/>
            <p:nvPr/>
          </p:nvSpPr>
          <p:spPr>
            <a:xfrm>
              <a:off x="2946240" y="4926600"/>
              <a:ext cx="2608920" cy="436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760" rIns="8676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ffffff"/>
                  </a:solidFill>
                  <a:latin typeface="Arial"/>
                </a:rPr>
                <a:t>Интеро(ре)цептивные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_s1045"/>
            <p:cNvSpPr/>
            <p:nvPr/>
          </p:nvSpPr>
          <p:spPr>
            <a:xfrm>
              <a:off x="2946240" y="5581800"/>
              <a:ext cx="2608920" cy="43596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760" rIns="8676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ffffff"/>
                  </a:solidFill>
                  <a:latin typeface="Arial"/>
                </a:rPr>
                <a:t>Проприо(ре)цептивные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_s1046"/>
            <p:cNvSpPr/>
            <p:nvPr/>
          </p:nvSpPr>
          <p:spPr>
            <a:xfrm>
              <a:off x="6066360" y="4926600"/>
              <a:ext cx="2608920" cy="436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ffffff"/>
                  </a:solidFill>
                  <a:latin typeface="Arial"/>
                </a:rPr>
                <a:t>Экстеро(ре)цептивные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Свойства ощущений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роги: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абсолютный нижний (порог обнаружения)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инимальная интенсивность раздражителя, вызывающего едва заметное ощущение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абсолютный верхний (терминальный)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ксимально допустимая величина внешнего раздражителя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дифференциальный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инимальное различие между двумя раздражителями, которые воспринимаются как различающиеся по ощущениям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даптация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особность органов чувств приспосабливаться к новому или изменившему интенсивность сигналу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нсибилизация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вышение чувствительности,  снижение порога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инестезия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ецифически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ощущения, возникающие  при совместной работе нескольких анализаторов    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Восприятие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(перцепция) – воссоздание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целостных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образов объектов (предметов, ситуаций и т.д.)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17720"/>
            <a:ext cx="8229600" cy="41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Классификация по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модальности ведущего рецептора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рительное, слуховое, тактильное и т.д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Классификация по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содержанию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сприятие формы, цвета, пространства, движения, времен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84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Garamond"/>
              </a:rPr>
              <a:t>Свойства восприятия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082520"/>
            <a:ext cx="8229600" cy="552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Константность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стоянство восприятия формы, размера и цвета предметов окружающего мир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Предметность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–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несенность всех полученных с помощью органов чувств сведений о внешнем мире к самим предметам (а, например, не к рецепторам или структурам мозга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Целостность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особность воспринимать всякий объект, предметную ситуацию как устойчивое системное целое, даже, если некоторые части этого целого в данный момент не могут быть наблюдаемы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Категориальность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(осмысленность)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несение воспринимаемых объектов к определенной категории, группе объектов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Избирательность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деление из сенсорного поля каких-либо объектов (или их частей) и признаков. «Фигура» и «фон»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Иллюзии восприятия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–</a:t>
            </a:r>
            <a:r>
              <a:rPr b="0" lang="ru-RU" sz="4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искаженное восприятие реальных предметов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002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) Связанные со строением глаза (светлые предметы кажутся большими, чем темные – иррадиация возбуждения в сетчатке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) Переоценка длины вертикальных лини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) Иллюзии контраста (не только зрительные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) Перенесение свойств фигуры на отдельные ее част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) Искажение направлений линий за счет штриховки и др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12320" y="252000"/>
            <a:ext cx="7156440" cy="777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Garamond"/>
              </a:rPr>
              <a:t>Зрительные иллюзии восприятия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2120" y="1623960"/>
            <a:ext cx="870912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ертикальные параллельные линии, пересекаемые короткими косыми, кажутся расходящимися (иллюзия Цельнера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7" name="Рисунок 5" descr="http://tvorim.e-gloryon.com/userdata/images/celner.jpg"/>
          <p:cNvPicPr/>
          <p:nvPr/>
        </p:nvPicPr>
        <p:blipFill>
          <a:blip r:embed="rId1"/>
          <a:stretch/>
        </p:blipFill>
        <p:spPr>
          <a:xfrm>
            <a:off x="2914560" y="2759040"/>
            <a:ext cx="3313080" cy="366732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5" descr="PB12216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4"/>
          <p:cNvSpPr/>
          <p:nvPr/>
        </p:nvSpPr>
        <p:spPr>
          <a:xfrm>
            <a:off x="539640" y="239760"/>
            <a:ext cx="836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Как экономистам объяснить что такое человек, почему он активен, что им движет? Человеческий организм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НЕ НАБОР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дифференцированных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ЧАСТЕЙ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……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12320" y="252000"/>
            <a:ext cx="7156440" cy="777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Garamond"/>
              </a:rPr>
              <a:t>Зрительные иллюзии восприятия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2120" y="1623960"/>
            <a:ext cx="870912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ертикальные параллельные линии, пересекаемые короткими косыми, кажутся расходящимися (иллюзия Цельнера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Garamond"/>
              </a:rPr>
              <a:t>Иллюзия Эббингауз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263" name="Picture 5" descr="classic-5-1"/>
          <p:cNvPicPr/>
          <p:nvPr/>
        </p:nvPicPr>
        <p:blipFill>
          <a:blip r:embed="rId1"/>
          <a:stretch/>
        </p:blipFill>
        <p:spPr>
          <a:xfrm>
            <a:off x="2428920" y="2124000"/>
            <a:ext cx="4627440" cy="3043440"/>
          </a:xfrm>
          <a:prstGeom prst="rect">
            <a:avLst/>
          </a:prstGeom>
          <a:ln w="0">
            <a:noFill/>
          </a:ln>
        </p:spPr>
      </p:pic>
      <p:sp>
        <p:nvSpPr>
          <p:cNvPr id="2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Garamond"/>
              </a:rPr>
              <a:t>Иллюзия Мюллера-Лайер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266" name="Picture 5" descr="classic-1a-1"/>
          <p:cNvPicPr/>
          <p:nvPr/>
        </p:nvPicPr>
        <p:blipFill>
          <a:blip r:embed="rId1"/>
          <a:stretch/>
        </p:blipFill>
        <p:spPr>
          <a:xfrm>
            <a:off x="2666880" y="2428920"/>
            <a:ext cx="3810240" cy="2867040"/>
          </a:xfrm>
          <a:prstGeom prst="rect">
            <a:avLst/>
          </a:prstGeom>
          <a:ln w="0">
            <a:noFill/>
          </a:ln>
        </p:spPr>
      </p:pic>
      <p:sp>
        <p:nvSpPr>
          <p:cNvPr id="2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12320" y="252000"/>
            <a:ext cx="7156440" cy="777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Иллюзии зрительного восприятия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22120" y="1623960"/>
            <a:ext cx="870912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70" name="Picture 5" descr=""/>
          <p:cNvPicPr/>
          <p:nvPr/>
        </p:nvPicPr>
        <p:blipFill>
          <a:blip r:embed="rId1"/>
          <a:stretch/>
        </p:blipFill>
        <p:spPr>
          <a:xfrm>
            <a:off x="3351240" y="1927080"/>
            <a:ext cx="5641920" cy="39546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" descr="C:\Documents and Settings\VST\Рабочий стол\Иллюстрации\Иллюзия-01.jpg"/>
          <p:cNvPicPr/>
          <p:nvPr/>
        </p:nvPicPr>
        <p:blipFill>
          <a:blip r:embed="rId2"/>
          <a:stretch/>
        </p:blipFill>
        <p:spPr>
          <a:xfrm>
            <a:off x="270000" y="1933560"/>
            <a:ext cx="3039840" cy="3959280"/>
          </a:xfrm>
          <a:prstGeom prst="rect">
            <a:avLst/>
          </a:prstGeom>
          <a:ln w="0">
            <a:noFill/>
          </a:ln>
        </p:spPr>
      </p:pic>
      <p:sp>
        <p:nvSpPr>
          <p:cNvPr id="2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34880" y="252360"/>
            <a:ext cx="8593200" cy="89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Garamond"/>
              </a:rPr>
              <a:t>Тема 3.   Рациональные формы освоения </a:t>
            </a:r>
            <a:br>
              <a:rPr sz="2800"/>
            </a:br>
            <a:r>
              <a:rPr b="1" lang="ru-RU" sz="2800" spc="-1" strike="noStrike">
                <a:solidFill>
                  <a:srgbClr val="ff6600"/>
                </a:solidFill>
                <a:latin typeface="Garamond"/>
              </a:rPr>
              <a:t>                действительности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22120" y="1393560"/>
            <a:ext cx="870912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мя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ставл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ображ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ышл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ч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левые процесс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Память</a:t>
            </a: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 – </a:t>
            </a:r>
            <a:r>
              <a:rPr b="1" lang="ru-RU" sz="2800" spc="-1" strike="noStrike">
                <a:solidFill>
                  <a:srgbClr val="ffff66"/>
                </a:solidFill>
                <a:latin typeface="Garamond"/>
              </a:rPr>
              <a:t>способность к сохранению, накоплению и воспроизведению информации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Без памяти мы были бы существами мгновения. Наше прошлое было бы мертво для будущего. Настоящее по мере его протекания безвозвратно исчезало бы в прошлом, не было бы психической жизни смыкающейся в единстве личного сознания, и невозможен был бы факт по существу непрерывного учения, проходящий через всю нашу жизнь и делающий нас тем, что мы есть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.Л.Рубинштей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Виды памяти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типу запоминаемого материала: 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двигательная, образная (слуховая, зрительная, тактильная), словесно-логическа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характеру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целей деятельности: 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непроизвольная и произвольна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ремени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сенсорная (иконическая, эхоическая), кратковременная (до 20 сек.) , долговременная (практически бесконечная;), оперативная, или рабочая (время определяется задачей</a:t>
            </a:r>
            <a:r>
              <a:rPr b="0" lang="ru-RU" sz="2800" spc="-1" strike="noStrike">
                <a:solidFill>
                  <a:srgbClr val="ffff66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20320" y="2949120"/>
            <a:ext cx="7324920" cy="1295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СПАСИБО ЗА ВНИМАНИЕ </a:t>
            </a: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!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12320" y="-155880"/>
            <a:ext cx="715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64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9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66"/>
                </a:solidFill>
                <a:latin typeface="Garamond"/>
              </a:rPr>
              <a:t>«</a:t>
            </a:r>
            <a:r>
              <a:rPr b="0" i="1" lang="ru-RU" sz="3800" spc="-1" strike="noStrike">
                <a:solidFill>
                  <a:srgbClr val="ffff66"/>
                </a:solidFill>
                <a:latin typeface="Garamond"/>
              </a:rPr>
              <a:t>Человек – животное общественное</a:t>
            </a:r>
            <a:r>
              <a:rPr b="0" lang="ru-RU" sz="3800" spc="-1" strike="noStrike">
                <a:solidFill>
                  <a:srgbClr val="ffff66"/>
                </a:solidFill>
                <a:latin typeface="Garamond"/>
              </a:rPr>
              <a:t>»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66"/>
                </a:solidFill>
                <a:latin typeface="Garamond"/>
              </a:rPr>
              <a:t>           </a:t>
            </a:r>
            <a:r>
              <a:rPr b="0" lang="ru-RU" sz="2800" spc="-1" strike="noStrike">
                <a:solidFill>
                  <a:srgbClr val="ffff66"/>
                </a:solidFill>
                <a:latin typeface="Garamond"/>
              </a:rPr>
              <a:t>Аристотель (384 </a:t>
            </a:r>
            <a:r>
              <a:rPr b="0" i="1" lang="ru-RU" sz="2400" spc="-1" strike="noStrike">
                <a:solidFill>
                  <a:srgbClr val="ffff66"/>
                </a:solidFill>
                <a:latin typeface="Garamond"/>
              </a:rPr>
              <a:t>–</a:t>
            </a:r>
            <a:r>
              <a:rPr b="0" lang="ru-RU" sz="2800" spc="-1" strike="noStrike">
                <a:solidFill>
                  <a:srgbClr val="ffff66"/>
                </a:solidFill>
                <a:latin typeface="Garamond"/>
              </a:rPr>
              <a:t> 322 до н.э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Picture 4" descr="254083997"/>
          <p:cNvPicPr/>
          <p:nvPr/>
        </p:nvPicPr>
        <p:blipFill>
          <a:blip r:embed="rId1"/>
          <a:stretch/>
        </p:blipFill>
        <p:spPr>
          <a:xfrm>
            <a:off x="6630840" y="515880"/>
            <a:ext cx="1879920" cy="254016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7" descr="биограф очерк1"/>
          <p:cNvPicPr/>
          <p:nvPr/>
        </p:nvPicPr>
        <p:blipFill>
          <a:blip r:embed="rId1"/>
          <a:stretch/>
        </p:blipFill>
        <p:spPr>
          <a:xfrm>
            <a:off x="0" y="-1508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04840" y="0"/>
            <a:ext cx="8564400" cy="1393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99"/>
                </a:solidFill>
                <a:latin typeface="Garamond"/>
              </a:rPr>
              <a:t>План лекций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1" name="Прямоугольник 4"/>
          <p:cNvSpPr/>
          <p:nvPr/>
        </p:nvSpPr>
        <p:spPr>
          <a:xfrm>
            <a:off x="115920" y="1996920"/>
            <a:ext cx="8842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ема 1.   Предмет психологии, задачи и мето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ема 2.   Чувственные формы освое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            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действитель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ема 3.   Рациональные формы освое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            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действитель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ема 4.   Психология лич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ема 5.   Психические состояния челове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ема 6.   Межличностные отнош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34880" y="252360"/>
            <a:ext cx="8593200" cy="89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Тема 1.   Предмет психологии, задачи и методы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2120" y="1393560"/>
            <a:ext cx="870912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истема явлений, которые изучает современная психолог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лассификация психических явлени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тория развития психологического знан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уктура современного  психологического знания и основные направления в психологи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тоды психологического исследован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ые направления практического применения психологических знаний и методов в сфере экономики и бизнес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12720" y="145080"/>
            <a:ext cx="7174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71360" y="985680"/>
            <a:ext cx="8972640" cy="587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гласно классификации наук академика А. Кедрова психология занимает центральное место не только как продукт всех других наук, но и как возможный источник объяснения их формирования и развит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сихология интегрирует все данные этих наук и в свою очередь влияет на них, становясь общей моделью человекознания. Психологию следует рассматривать как научное исследование поведения и умственной деятельности человека, а также практическое применение приобретенных знаний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 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Рисунок 3" descr="Рис. 1"/>
          <p:cNvPicPr/>
          <p:nvPr/>
        </p:nvPicPr>
        <p:blipFill>
          <a:blip r:embed="rId1"/>
          <a:stretch/>
        </p:blipFill>
        <p:spPr>
          <a:xfrm>
            <a:off x="2092320" y="2768760"/>
            <a:ext cx="5040360" cy="1417320"/>
          </a:xfrm>
          <a:prstGeom prst="rect">
            <a:avLst/>
          </a:prstGeom>
          <a:ln w="0">
            <a:noFill/>
          </a:ln>
        </p:spPr>
      </p:pic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34880" y="252360"/>
            <a:ext cx="8593200" cy="89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Тема 1.   Предмет психологии, задачи и методы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2120" y="1393560"/>
            <a:ext cx="870912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истема явлений, которые изучает современная психолог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лассификация психических явлени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тория развития психологического знан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уктура современного  психологического знания и основные направления в психологи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тоды психологического исследован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ые направления практического применения психологических знаний и методов в сфере экономики и бизнес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34880" y="252360"/>
            <a:ext cx="8593200" cy="89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Классификация психических явлений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2120" y="1393560"/>
            <a:ext cx="870912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сихика сложна и многообразна по своим проявлениям. Обычно выделяют три крупные группы психических явлений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) психические процессы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) психические состояния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) психические свойств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34880" y="252360"/>
            <a:ext cx="8593200" cy="89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Классификация психических явлений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22120" y="1393560"/>
            <a:ext cx="870912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Психические процессы – динамическое отражение действительности в различных формах психических явлени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сихический процесс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это течение психического явления, имеющего начало, развитие и конец, проявляющееся в виде реакции. При этом нужно иметь в виду, что конец психического процесса тесно связан с началом нового процесса. Отсюда непрерывность психической деятельности в состоянии бодрствования человек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9T18:40:37Z</dcterms:created>
  <dc:creator>Богатырев Е Д</dc:creator>
  <dc:description/>
  <dc:language>en-US</dc:language>
  <cp:lastModifiedBy>LEGION</cp:lastModifiedBy>
  <dcterms:modified xsi:type="dcterms:W3CDTF">2014-11-12T07:32:53Z</dcterms:modified>
  <cp:revision>98</cp:revision>
  <dc:subject/>
  <dc:title>Слайд 1</dc:title>
</cp:coreProperties>
</file>