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2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6611-4980-4B1E-8368-522BD45A41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У  ВПО  «Финансовая академ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авительстве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ОСНОВЫ  ПСИХ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 проф.   В.С. Трипольского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22A3-ED92-4099-8809-D6B03CC0D9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сихическое состоя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изученными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общее психическое состояние, например внимание, проявляющееся на уровне активной сосредоточенности или рассеян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эмоциональные состояния, или настроения (жизнерадост-ное, восторженное, грустное, печальное, гневное, и т.д.). Интересные исследования имеются об особом, творческом, состоянии личности, которое называют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дохнов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DC2C-27EE-45C0-BAD7-01CE680D90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ми и устойчивыми регуляторами психической деятельности явля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войства л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устойчивые образования, обеспечивающие определенный качественно-количест-венный уровень деятельности и поведения, типичный для данного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59F1-39C1-42B4-9002-3E4AF1A0FF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Тема 2.   Чувственные формы освоения действ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щущение как элементарная форма отражения реальности. Классификация ощущений. Общие свойства ощущений. Развитие ощущений в процессе деятельности человека: адаптация, сенсибилизация, синестез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и его свойства. Восприятие пространства и движения. Восприятие времени. Нарушения восприятия – гиперстезия, галлюцинации, аффективные, вербальные и перейдолические иллюз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е и его основные свойства: устойчивость, концентрация и распределение, переключаемость и объем. Виды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6E3E-592E-4E55-8211-EC2A7BA7D9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иболее элементарный психический процесс, заключающийся в психическом отражен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дельных свойст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ов и явлений, непосредственно воздействующих на органы чув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Классификация ощущений по модальности органов чув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Зр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Слух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Такти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кус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Обоня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5D95-BE0B-4835-8E45-EA9639D415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Классификация ощущений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)способу воздействия раздражител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) времени возникновения в филогенез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) функци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) по расположению рецептивных  по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F875-E458-4E3D-9163-CD6FB7134C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рог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бсолютный нижний (порог обнаружения)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ая интенсивность раздражителя, вызывающего едва заметное ощу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бсолютный верхний (терминальный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о допустимая величина внешнего раздраж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ифференциальный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ое различие между двумя раздражителями, которые воспринимаются как различающиеся по ощущ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органов чувств приспосабливаться к новому или изменившему интенсивность сиг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нсибилиз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чувствительности,  снижение порог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нестез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щущения, возникающие  при совместной работе нескольких анализаторов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6AAD-CAE6-4146-9436-54F1F6DFDF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осприят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ерцепция) – воссоздани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целостны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 объектов (предметов, ситуаций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Классификация по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модальности ведущего рецеп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рительное, слуховое, тактильное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Классификация по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содержани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ятие формы, цвета, пространства, движения,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262E-3D96-41B2-BA66-D4984D2EF0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Свойства вос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Констант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ство восприятия формы, размера и цвета предметов окружающего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редметность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енность всех полученных с помощью органов чувств сведений о внешнем мире к самим предметам (а, например, не к рецепторам или структурам мозг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Целост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воспринимать всякий объект, предметную ситуацию как устойчивое системное целое, даже, если некоторые части этого целого в данный момент не могут быть наблюда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Категориа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(осмысленность)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есение воспринимаемых объектов к определенной категории, группе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Избира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е из сенсорного поля каких-либо объектов (или их частей) и признаков. «Фигура» и «фо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34A6-06FD-406E-B95D-15FA6AD60A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Иллюзии восприятия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искаженное восприятие реальных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вязанные со строением глаза (светлые предметы кажутся большими, чем темные – иррадиация возбуждения в сетчатк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ереоценка длины вертикальных ли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Иллюзии контраста (не только зрите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Перенесение свойств фигуры на отдельные ее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Искажение направлений линий за счет штриховк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0ABB-AE8E-4CCA-8ADB-C2BA595AE4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Зрительные иллюзии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1B5F-6498-4B28-ABEC-0672FBF96C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Зрительные иллюзии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9B3D-1AD8-4E77-B6E4-E34C6DC5EF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Иллюзия Эббингау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C6DA-6397-4F38-8675-63407D0B6A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Иллюзия Мюллера-Лай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7EEB-E6D9-4E1E-8C55-5112517C61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Иллюзии зрительн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4593-2723-4AD1-AC2B-053E268097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Тема 3.   Рациональные формы освоения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                действ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вые 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AF45-71C2-42BC-A3B0-1F5D6EDFB4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способность к сохранению, накоплению и воспроизведению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памяти мы были бы существами мгновения. Наше прошлое было бы мертво для будущего. Настоящее по мере его протекания безвозвратно исчезало бы в прошлом, не было бы психической жизни смыкающейся в единстве личного сознания, и невозможен был бы факт по существу непрерывного учения, проходящий через всю нашу жизнь и делающий нас тем, что мы ес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Л.Рубинште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ED4E-0FFE-4E3A-A645-0B755683AD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иды 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ипу запоминаемого материала: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двигательная, образная (слуховая, зрительная, тактильная), словесно-лог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характеру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лей деятельности: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непроизвольная и произво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ремен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сенсорная (иконическая, эхоическая), кратковременная (до 20 сек.) , долговременная (практически бесконечная;), оперативная, или рабочая (время определяется задачей</a:t>
            </a: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7AD7-84B3-40BD-A9B8-714CC83544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E8BA-BEE0-4018-AAD5-649CA6E2F6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«</a:t>
            </a:r>
            <a:r>
              <a:rPr b="0" i="1" lang="ru-RU" sz="3800" spc="-1" strike="noStrike">
                <a:solidFill>
                  <a:srgbClr val="ffff66"/>
                </a:solidFill>
                <a:latin typeface="Arial"/>
              </a:rPr>
              <a:t>Человек – животное общественное</a:t>
            </a: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Аристотель (384 </a:t>
            </a: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 322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4794-9BA7-4479-8B0B-3EB8B8DD11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Arial"/>
              </a:rPr>
              <a:t>План ле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1717-D7EF-42B4-8FF6-1B6E1A2A77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психолог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3FC0-F7C6-415B-BF50-37A8F21138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классификации наук академика А. Кедрова психология занимает центральное место не только как продукт всех других наук, но и как возможный источник объяснения их формирования и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интегрирует все данные этих наук и в свою очередь влияет на них, становясь общей моделью человекознания. Психологию следует рассматривать как научное исследование поведения и умственной деятельности человека, а также практическое применение приобретенны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037B-4E31-4AEB-8226-19716F982F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психологическ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5D2E-F57E-45D7-A3A4-BBB588A1ED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ика сложна и многообразна по своим проявлениям. Обычно выделяют три крупные группы психических явлен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сихические процесс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сихические состоя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сихические сво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4D7B-D81E-4C4A-81CA-98BB947E5E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Психические процессы – динамическое отражение действительности в различных формах психических яв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сихический процесс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чение психического явления, имеющего начало, развитие и конец, проявляющееся в виде реакции. При этом нужно иметь в виду, что конец психического процесса тесно связан с началом нового процесса. Отсюда непрерывность психической деятельности в состоянии бодрствования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84E7-B8A4-4531-B752-A99D075AE9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228-5CF2-416C-820C-01B4D898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E8C-1CE5-4210-96D0-4ADC6F43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654-F871-4DF0-9390-73553BDA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080D-9A0B-4AC5-AA9A-4B56A4DB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50D8-AA17-4DF0-89B0-F7192481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C66E-1E53-4A94-B3B0-D3FEC804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7B8C-E924-49FC-A95F-433622AA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883E-4322-4349-84E7-A8D31479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C614-9FB7-49DF-94E2-04094343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A9DD-4CEB-44E6-94AB-8996E981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61A2-793C-4410-B0A1-21E76D7D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C223-5819-451C-B6C1-29578072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836B-7C7F-4813-A43F-974D142C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51F9-9F8C-4CA2-9148-88EC60C2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C7AE-EBA7-4D0E-95D2-6149AB1F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EB9C-B6E0-45C7-BD15-99D089D3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5AE6-1D7A-4781-B8D1-8E2A696E9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B9122-034F-409E-BF77-57698ECC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2F005-55DF-406B-BC5D-56623E01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CB286-758A-461D-9B9D-B7735F66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9B046-03CD-4D0D-8FCC-8B599AFE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95095-EF56-451B-8DD8-1B33C2FC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689-83F5-49CB-AB7D-8C32C9FC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6BB3D-BCB8-476D-9D51-A5ED7B88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2BEAB-8F06-4459-9AB2-426F6E66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93924-A013-44CB-9252-7AAAA186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83547-E2B4-4F8C-9D5A-A1B25C84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D8833-B0E9-4983-829B-F9F080E6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FC4FB-5538-4399-B775-99557C0E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EC7E2-B2B0-4F34-A787-DB0A8A49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C21-61E4-4A74-B0B3-FC4AFE38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E2ED-2CD4-4BBB-97B0-4813E362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3A4-F6B9-4609-A292-33F8E50D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382-CCFD-44A5-A0C9-C1118C84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24B-C471-4629-A201-7EA3E91C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375F-87C0-4EF9-9745-128A0312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ACED-B6D7-47E2-B5D0-E906FF9FDB1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655A-1482-4B3C-9B6B-16DB119DBC4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13CE-3301-4211-8F8C-49EF0FB285E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8120" y="412920"/>
            <a:ext cx="64692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ГОУ  ВПО  «Финансовая академ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Правительстве Российской Федерации»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9160" y="2484000"/>
            <a:ext cx="87454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Arial"/>
              </a:rPr>
              <a:t>ОСНОВЫ  ПСИХОЛОГИИ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кция  проф.   В.С. Трипольского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4" descr="логотип зел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64960" y="228600"/>
            <a:ext cx="1920960" cy="162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2120" y="1376280"/>
            <a:ext cx="870912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сихическое состоя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пределившийся в данное время относительно устойчивый уровень психической деятельности, который проявляется в повышенной или пониженной активности лич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иболее изученными являются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) общее психическое состояние, например внимание, проявляющееся на уровне активной сосредоточенности или рассеянност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) эмоциональные состояния, или настроения (жизнерадост-ное, восторженное, грустное, печальное, гневное, и т.д.). Интересные исследования имеются об особом, творческом, состоянии личности, которое называют </a:t>
            </a:r>
            <a:r>
              <a:rPr b="0" lang="ru-RU" sz="2400" spc="-1" strike="noStrike">
                <a:solidFill>
                  <a:srgbClr val="ffff66"/>
                </a:solidFill>
                <a:latin typeface="Garamond"/>
              </a:rPr>
              <a:t>вдохновени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шими и устойчивыми регуляторами психической деятельности являю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войства лич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устойчивые образования, обеспечивающие определенный качественно-количест-венный уровень деятельности и поведения, типичный для данного челове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е психическое свойство формируется постепенно в процессе отражения и закрепляется в практике. Оно, следовательно, является результатом отражательной и практической деятель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ема 2.   Чувственные формы освоения действительности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щущение как элементарная форма отражения реальности. Классификация ощущений. Общие свойства ощущений. Развитие ощущений в процессе деятельности человека: адаптация, сенсибилизация, синестез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ятие и его свойства. Восприятие пространства и движения. Восприятие времени. Нарушения восприятия – гиперстезия, галлюцинации, аффективные, вербальные и перейдолические иллюз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мание и его основные свойства: устойчивость, концентрация и распределение, переключаемость и объем. Виды вним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2208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2400" spc="-1" strike="noStrike">
                <a:solidFill>
                  <a:srgbClr val="b9efe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наиболее элементарный психический процесс, заключающийся в психическом отражени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дельных свойств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ов и явлений, непосредственно воздействующих на органы чу</a:t>
            </a:r>
            <a:r>
              <a:rPr b="0" lang="ru-RU" sz="2400" spc="-1" strike="noStrike">
                <a:solidFill>
                  <a:srgbClr val="b9efee"/>
                </a:solidFill>
                <a:latin typeface="Arial"/>
              </a:rPr>
              <a:t>вств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760" y="1600200"/>
            <a:ext cx="897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лассификация ощущений по модальности органов чувст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Зрите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лух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Такти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кусов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боняте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4112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Garamond"/>
              </a:rPr>
              <a:t>Классификация ощущений по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1)способу воздействия раздражителя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2) времени возникновения в филогенезе,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3) функции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4) по расположению рецептивных  полей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22" name="Organization Chart 2"/>
          <p:cNvGrpSpPr/>
          <p:nvPr/>
        </p:nvGrpSpPr>
        <p:grpSpPr>
          <a:xfrm>
            <a:off x="466560" y="2302200"/>
            <a:ext cx="8208720" cy="3715560"/>
            <a:chOff x="466560" y="2302200"/>
            <a:chExt cx="8208720" cy="3715560"/>
          </a:xfrm>
        </p:grpSpPr>
        <p:cxnSp>
          <p:nvCxnSpPr>
            <p:cNvPr id="223" name="_s1028"/>
            <p:cNvCxnSpPr>
              <a:stCxn id="224" idx="1"/>
              <a:endCxn id="225" idx="2"/>
            </p:cNvCxnSpPr>
            <p:nvPr/>
          </p:nvCxnSpPr>
          <p:spPr>
            <a:xfrm rot="10800000">
              <a:off x="5810040" y="4707000"/>
              <a:ext cx="255960" cy="43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6" name="_s1029"/>
            <p:cNvCxnSpPr>
              <a:stCxn id="227" idx="1"/>
              <a:endCxn id="228" idx="2"/>
            </p:cNvCxnSpPr>
            <p:nvPr/>
          </p:nvCxnSpPr>
          <p:spPr>
            <a:xfrm rot="10800000">
              <a:off x="2689920" y="4707000"/>
              <a:ext cx="255960" cy="10929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1030"/>
            <p:cNvCxnSpPr>
              <a:stCxn id="230" idx="1"/>
              <a:endCxn id="228" idx="2"/>
            </p:cNvCxnSpPr>
            <p:nvPr/>
          </p:nvCxnSpPr>
          <p:spPr>
            <a:xfrm rot="10800000">
              <a:off x="2689920" y="4707000"/>
              <a:ext cx="255960" cy="4370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1" name="_s1031"/>
            <p:cNvCxnSpPr>
              <a:stCxn id="225" idx="1"/>
              <a:endCxn id="232" idx="2"/>
            </p:cNvCxnSpPr>
            <p:nvPr/>
          </p:nvCxnSpPr>
          <p:spPr>
            <a:xfrm rot="10800000">
              <a:off x="4353120" y="4052160"/>
              <a:ext cx="255960" cy="43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3" name="_s1032"/>
            <p:cNvCxnSpPr>
              <a:stCxn id="228" idx="1"/>
              <a:endCxn id="234" idx="2"/>
            </p:cNvCxnSpPr>
            <p:nvPr/>
          </p:nvCxnSpPr>
          <p:spPr>
            <a:xfrm rot="10800000">
              <a:off x="1232280" y="4052160"/>
              <a:ext cx="255960" cy="438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5" name="_s1033"/>
            <p:cNvCxnSpPr>
              <a:stCxn id="232" idx="0"/>
              <a:endCxn id="236" idx="2"/>
            </p:cNvCxnSpPr>
            <p:nvPr/>
          </p:nvCxnSpPr>
          <p:spPr>
            <a:xfrm flipH="1" flipV="1" rot="5400000">
              <a:off x="5132520" y="2616480"/>
              <a:ext cx="219240" cy="17773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7" name="_s1034"/>
            <p:cNvCxnSpPr>
              <a:stCxn id="234" idx="0"/>
              <a:endCxn id="238" idx="2"/>
            </p:cNvCxnSpPr>
            <p:nvPr/>
          </p:nvCxnSpPr>
          <p:spPr>
            <a:xfrm flipH="1" flipV="1" rot="5400000">
              <a:off x="2012760" y="2615760"/>
              <a:ext cx="219240" cy="1779120"/>
            </a:xfrm>
            <a:prstGeom prst="bentConnector3">
              <a:avLst>
                <a:gd name="adj1" fmla="val 495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9" name="_s1035"/>
            <p:cNvCxnSpPr>
              <a:stCxn id="236" idx="0"/>
              <a:endCxn id="240" idx="2"/>
            </p:cNvCxnSpPr>
            <p:nvPr/>
          </p:nvCxnSpPr>
          <p:spPr>
            <a:xfrm flipV="1" rot="16200000">
              <a:off x="5240160" y="2068200"/>
              <a:ext cx="219240" cy="156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1" name="_s1036"/>
            <p:cNvCxnSpPr>
              <a:stCxn id="238" idx="0"/>
              <a:endCxn id="240" idx="2"/>
            </p:cNvCxnSpPr>
            <p:nvPr/>
          </p:nvCxnSpPr>
          <p:spPr>
            <a:xfrm flipH="1" flipV="1" rot="5400000">
              <a:off x="3681360" y="2068920"/>
              <a:ext cx="219240" cy="1559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0" name="_s1037"/>
            <p:cNvSpPr/>
            <p:nvPr/>
          </p:nvSpPr>
          <p:spPr>
            <a:xfrm>
              <a:off x="3457440" y="2302200"/>
              <a:ext cx="22255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Тип ощущени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1038"/>
            <p:cNvSpPr/>
            <p:nvPr/>
          </p:nvSpPr>
          <p:spPr>
            <a:xfrm>
              <a:off x="2087280" y="2958480"/>
              <a:ext cx="18457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онтакт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_s1039"/>
            <p:cNvSpPr/>
            <p:nvPr/>
          </p:nvSpPr>
          <p:spPr>
            <a:xfrm>
              <a:off x="5207400" y="2958480"/>
              <a:ext cx="184572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Дистантны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>
              <a:off x="466560" y="3615120"/>
              <a:ext cx="153324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Пале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1041"/>
            <p:cNvSpPr/>
            <p:nvPr/>
          </p:nvSpPr>
          <p:spPr>
            <a:xfrm>
              <a:off x="3587040" y="3615120"/>
              <a:ext cx="1533240" cy="4374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Arial"/>
                </a:rPr>
                <a:t>Нео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1042"/>
            <p:cNvSpPr/>
            <p:nvPr/>
          </p:nvSpPr>
          <p:spPr>
            <a:xfrm>
              <a:off x="1488600" y="4271760"/>
              <a:ext cx="240300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Констатирующ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1043"/>
            <p:cNvSpPr/>
            <p:nvPr/>
          </p:nvSpPr>
          <p:spPr>
            <a:xfrm>
              <a:off x="4609440" y="4271760"/>
              <a:ext cx="240300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Упреждающие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1044"/>
            <p:cNvSpPr/>
            <p:nvPr/>
          </p:nvSpPr>
          <p:spPr>
            <a:xfrm>
              <a:off x="2946240" y="4926600"/>
              <a:ext cx="2608920" cy="436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Интер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1045"/>
            <p:cNvSpPr/>
            <p:nvPr/>
          </p:nvSpPr>
          <p:spPr>
            <a:xfrm>
              <a:off x="2946240" y="5581800"/>
              <a:ext cx="2608920" cy="4359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760" rIns="8676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Пропри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_s1046"/>
            <p:cNvSpPr/>
            <p:nvPr/>
          </p:nvSpPr>
          <p:spPr>
            <a:xfrm>
              <a:off x="6066360" y="4926600"/>
              <a:ext cx="2608920" cy="436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ffffff"/>
                  </a:solidFill>
                  <a:latin typeface="Arial"/>
                </a:rPr>
                <a:t>Экстеро(ре)цептивны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войства ощущен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оги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бсолютный нижний (порог обнаружения)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ая интенсивность раздражителя, вызывающего едва заметное ощущени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бсолютный верхний (терминальный)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 допустимая величина внешнего раздражител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фференциальный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нимальное различие между двумя раздражителями, которые воспринимаются как различающиеся по ощущения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аптац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органов чувств приспосабливаться к новому или изменившему интенсивность сигнал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нсибилизац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ышение чувствительности,  снижение порога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нестезия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ецифическ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щущения, возникающие  при совместной работе нескольких анализаторов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осприятие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перцепция) – воссоздание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целостных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разов объектов (предметов, ситуаций и т.д.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7720"/>
            <a:ext cx="822960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ассификация по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модальности ведущего рецептора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рительное, слуховое, тактильное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лассификация по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содержанию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риятие формы, цвета, пространства, движения, времен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Garamond"/>
              </a:rPr>
              <a:t>Свойства восприятия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82520"/>
            <a:ext cx="822960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нстант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оянство восприятия формы, размера и цвета предметов окружающего мир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едметность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есенность всех полученных с помощью органов чувств сведений о внешнем мире к самим предметам (а, например, не к рецепторам или структурам мозг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Целост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воспринимать всякий объект, предметную ситуацию как устойчивое системное целое, даже, если некоторые части этого целого в данный момент не могут быть наблюдаем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атегориаль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(осмысленность)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есение воспринимаемых объектов к определенной категории, группе объек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Избирательност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ение из сенсорного поля каких-либо объектов (или их частей) и признаков. «Фигура» и «фон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ллюзии восприятия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–</a:t>
            </a: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искаженное восприятие реальных предметов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0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Связанные со строением глаза (светлые предметы кажутся большими, чем темные – иррадиация возбуждения в сетчатк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ереоценка длины вертикальных ли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Иллюзии контраста (не только зрительны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Перенесение свойств фигуры на отдельные ее ча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Искажение направлений линий за счет штриховки и д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aramond"/>
              </a:rPr>
              <a:t>Зрительные иллюзии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7" name="Рисунок 5" descr="http://tvorim.e-gloryon.com/userdata/images/celner.jpg"/>
          <p:cNvPicPr/>
          <p:nvPr/>
        </p:nvPicPr>
        <p:blipFill>
          <a:blip r:embed="rId1"/>
          <a:stretch/>
        </p:blipFill>
        <p:spPr>
          <a:xfrm>
            <a:off x="2914560" y="2759040"/>
            <a:ext cx="3313080" cy="366732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PB1221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539640" y="239760"/>
            <a:ext cx="836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ак экономистам объяснить что такое человек, почему он активен, что им движет? Человеческий организм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Е НАБОР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дифференцированных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ЧАСТЕЙ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aramond"/>
              </a:rPr>
              <a:t>Зрительные иллюзии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тикальные параллельные линии, пересекаемые короткими косыми, кажутся расходящимися (иллюзия Цельнер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Иллюзия Эббингауз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3" name="Picture 5" descr="classic-5-1"/>
          <p:cNvPicPr/>
          <p:nvPr/>
        </p:nvPicPr>
        <p:blipFill>
          <a:blip r:embed="rId1"/>
          <a:stretch/>
        </p:blipFill>
        <p:spPr>
          <a:xfrm>
            <a:off x="2428920" y="2124000"/>
            <a:ext cx="4627440" cy="304344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Иллюзия Мюллера-Лайер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6" name="Picture 5" descr="classic-1a-1"/>
          <p:cNvPicPr/>
          <p:nvPr/>
        </p:nvPicPr>
        <p:blipFill>
          <a:blip r:embed="rId1"/>
          <a:stretch/>
        </p:blipFill>
        <p:spPr>
          <a:xfrm>
            <a:off x="2666880" y="2428920"/>
            <a:ext cx="3810240" cy="28670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12320" y="252000"/>
            <a:ext cx="7156440" cy="77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Иллюзии зрительного восприятия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2120" y="1623960"/>
            <a:ext cx="870912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3351240" y="1927080"/>
            <a:ext cx="5641920" cy="395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C:\Documents and Settings\VST\Рабочий стол\Иллюстрации\Иллюзия-01.jpg"/>
          <p:cNvPicPr/>
          <p:nvPr/>
        </p:nvPicPr>
        <p:blipFill>
          <a:blip r:embed="rId2"/>
          <a:stretch/>
        </p:blipFill>
        <p:spPr>
          <a:xfrm>
            <a:off x="270000" y="1933560"/>
            <a:ext cx="3039840" cy="39592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Тема 3.   Рациональные формы освоения </a:t>
            </a:r>
            <a:br>
              <a:rPr sz="2800"/>
            </a:b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                действительност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об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ч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левые процес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Память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 – </a:t>
            </a:r>
            <a:r>
              <a:rPr b="1" lang="ru-RU" sz="2800" spc="-1" strike="noStrike">
                <a:solidFill>
                  <a:srgbClr val="ffff66"/>
                </a:solidFill>
                <a:latin typeface="Garamond"/>
              </a:rPr>
              <a:t>способность к сохранению, накоплению и воспроизведению информаци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Без памяти мы были бы существами мгновения. Наше прошлое было бы мертво для будущего. Настоящее по мере его протекания безвозвратно исчезало бы в прошлом, не было бы психической жизни смыкающейся в единстве личного сознания, и невозможен был бы факт по существу непрерывного учения, проходящий через всю нашу жизнь и делающий нас тем, что мы есть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Л.Рубинштей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иды памят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ипу запоминаемого материала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вигательная, образная (слуховая, зрительная, тактильная), словесно-логическ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характеру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целей деятельности: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непроизвольная и произволь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ремени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енсорная (иконическая, эхоическая), кратковременная (до 20 сек.) , долговременная (практически бесконечная;), оперативная, или рабочая (время определяется задачей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20320" y="2949120"/>
            <a:ext cx="732492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ПАСИБО ЗА ВНИМАНИЕ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!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12320" y="-155880"/>
            <a:ext cx="715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6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9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«</a:t>
            </a:r>
            <a:r>
              <a:rPr b="0" i="1" lang="ru-RU" sz="3800" spc="-1" strike="noStrike">
                <a:solidFill>
                  <a:srgbClr val="ffff66"/>
                </a:solidFill>
                <a:latin typeface="Garamond"/>
              </a:rPr>
              <a:t>Человек – животное общественное</a:t>
            </a: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»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66"/>
                </a:solidFill>
                <a:latin typeface="Garamond"/>
              </a:rPr>
              <a:t>           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Аристотель (384 </a:t>
            </a:r>
            <a:r>
              <a:rPr b="0" i="1" lang="ru-RU" sz="2400" spc="-1" strike="noStrike">
                <a:solidFill>
                  <a:srgbClr val="ffff66"/>
                </a:solidFill>
                <a:latin typeface="Garamond"/>
              </a:rPr>
              <a:t>–</a:t>
            </a:r>
            <a:r>
              <a:rPr b="0" lang="ru-RU" sz="2800" spc="-1" strike="noStrike">
                <a:solidFill>
                  <a:srgbClr val="ffff66"/>
                </a:solidFill>
                <a:latin typeface="Garamond"/>
              </a:rPr>
              <a:t> 322 до н.э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254083997"/>
          <p:cNvPicPr/>
          <p:nvPr/>
        </p:nvPicPr>
        <p:blipFill>
          <a:blip r:embed="rId1"/>
          <a:stretch/>
        </p:blipFill>
        <p:spPr>
          <a:xfrm>
            <a:off x="6630840" y="515880"/>
            <a:ext cx="1879920" cy="25401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" descr="биограф очерк1"/>
          <p:cNvPicPr/>
          <p:nvPr/>
        </p:nvPicPr>
        <p:blipFill>
          <a:blip r:embed="rId1"/>
          <a:stretch/>
        </p:blipFill>
        <p:spPr>
          <a:xfrm>
            <a:off x="0" y="-150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4840" y="0"/>
            <a:ext cx="8564400" cy="139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Garamond"/>
              </a:rPr>
              <a:t>План лекц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Прямоугольник 4"/>
          <p:cNvSpPr/>
          <p:nvPr/>
        </p:nvSpPr>
        <p:spPr>
          <a:xfrm>
            <a:off x="115920" y="1996920"/>
            <a:ext cx="8842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1.   Предмет психологии, задачи и мет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2.   Чувственные формы осво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3.   Рациональные формы осво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йстви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4.   Психолог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5.   Психические состояния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ема 6.   Межличностные отно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развития психологического зн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сихологического исследо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2720" y="145080"/>
            <a:ext cx="7174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1360" y="985680"/>
            <a:ext cx="897264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гласно классификации наук академика А. Кедрова психология занимает центральное место не только как продукт всех других наук, но и как возможный источник объяснения их формирования и развит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ология интегрирует все данные этих наук и в свою очередь влияет на них, становясь общей моделью человекознания. Психологию следует рассматривать как научное исследование поведения и умственной деятельности человека, а также практическое применение приобретенных знани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Рисунок 3" descr="Рис. 1"/>
          <p:cNvPicPr/>
          <p:nvPr/>
        </p:nvPicPr>
        <p:blipFill>
          <a:blip r:embed="rId1"/>
          <a:stretch/>
        </p:blipFill>
        <p:spPr>
          <a:xfrm>
            <a:off x="2092320" y="2768760"/>
            <a:ext cx="5040360" cy="141732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Тема 1.   Предмет психологии, задачи и методы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явлений, которые изучает современная психолог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ция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я развития психологического зн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современного  психологического знания и основные направления в психолог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сихологического исследо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направления практического применения психологических знаний и методов в сфере экономики и бизнес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ика сложна и многообразна по своим проявлениям. Обычно выделяют три крупные группы психических явлений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психические процессы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психические состояния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психические свой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4880" y="252360"/>
            <a:ext cx="8593200" cy="89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Классификация психических явлений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2120" y="1393560"/>
            <a:ext cx="8709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сихические процессы – динамическое отражение действительности в различных формах психических явлен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сихический процесс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это течение психического явления, имеющего начало, развитие и конец, проявляющееся в виде реакции. При этом нужно иметь в виду, что конец психического процесса тесно связан с началом нового процесса. Отсюда непрерывность психической деятельности в состоянии бодрствования челове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8:40:37Z</dcterms:created>
  <dc:creator>Богатырев Е Д</dc:creator>
  <dc:description/>
  <dc:language>en-US</dc:language>
  <cp:lastModifiedBy>LEGION</cp:lastModifiedBy>
  <dcterms:modified xsi:type="dcterms:W3CDTF">2014-11-12T07:32:53Z</dcterms:modified>
  <cp:revision>98</cp:revision>
  <dc:subject/>
  <dc:title>Слайд 1</dc:title>
</cp:coreProperties>
</file>