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A3A5-B9E4-4F5C-B4A5-D87113E6D5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У  ВПО  «Финансовая академ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авительстве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 проф.   В.С. Трипольског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CC6D-A762-4EA3-9870-9420D8B2A7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ученным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дохнов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6E9F-6679-429C-A29A-0C9186B20D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5FF1-94D8-4995-B4FF-DA5D0F03C5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D700-CDBE-4E9E-BA1D-A664909D98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иболее элементарный психический процесс, заключающийся в психическом отражен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дельных свойст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ов и явлений, непосредственно воздействующих на органы чув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07F6-1AA8-4657-B4C7-0C1B03E388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)способу воздействия раздражител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) времени возникновения в филогенез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) функ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) по расположению рецептивных  по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22BD-1F34-4F8D-87DC-1A03D29569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рог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верхний (терминальный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ифференциальный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нсибилиз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нестез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8C9A-6465-4667-9CAA-C9842F2C77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осприя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ерцепция) – воссоздани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остны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 объектов (предметов, ситуаций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ительное, слуховое, тактильное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416D-2D9E-4C9D-A3D1-1FD61F580C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войства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осмысленность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0FD1-5E45-4E56-A960-4CF74F6543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ереоценка длины вертикальных ли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Иллюзии контраста (не только зрите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533F-1A6A-439B-9EC8-DFC7C5DB89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D299-299A-4BDA-AF32-8F4E8C6473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C048-8540-4062-9B09-75EF849F27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Эббингау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0C5B-32AC-40D6-969E-AE15843EEE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Мюллера-Ла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AAB5-2F1A-4AD6-BF6A-B66C4371CC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644F-7C85-460A-8B96-2BB6D1A3E9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Тема 3.   Рациональные формы освоения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               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10E2-F80D-4069-BEFC-2417AA024B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способность к сохранению, накоплению и воспроизведению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Л.Рубинште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C2F6-6BA5-4405-9FB2-DCBE24F5AF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ипу запоминаемого материала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лей деятельности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ремен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5E85-E3C8-4BF4-B541-075BCCEE11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078A-8373-460C-AE55-D00E292E8F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Arial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 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60F2-0791-4B9F-A464-76032691DE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План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9856-0AE7-444B-A6E2-E875791B1B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5A45-C6BA-441C-8CDA-E0A61198E9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4ABC-6602-4C57-907B-E9E1579F8A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6293-DA19-4229-855F-5BC70F6234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сихические процесс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сихические состоя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сихические сво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F3D8-AA18-4251-B2F8-0FCB72550C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2A21-D4FB-446E-AA48-8B5EB5C99C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4C3-E50E-4D9F-B9A6-8918CE1B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3D6-6A30-4769-BBA9-1E4800F6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FD8-A66D-4830-B795-2EADBB10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82D-850B-4308-97DD-6B8B3B62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A68D-D8E5-4D8D-B608-5EC6D71C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525A-3711-40B0-8492-1E677B09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8B90-F400-4B9C-8446-C44C8C6C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4AC2-8C6F-40DE-AAB5-168775E5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6255-7DDB-46F4-9132-0AB20EF9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B3B7-A8C1-4BCD-9A0D-7E755A42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F1D5-32BD-4616-9ECE-60763A68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78B-FBA6-47F2-9DF0-62C56A93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AC25-8118-4C14-BC8F-991B79EA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3322-EA25-49DC-8250-43125795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DD89-9AE9-430A-A970-8EF52C45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2D93-4F8D-46AA-9DD2-943C5207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D095-7193-4548-9B6D-62618C51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54A04-CD6B-46D0-B8EC-5FEF8711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F74F6-8E83-43AF-B560-6C1DDF64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A2DE8-417A-4346-8CAA-7E6F056D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38304-95F3-441A-9711-A74A0762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08FC-C8AC-4F20-90B7-59C0CDDC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335-DA7E-4272-986C-F49621BB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AE00-DABB-4E72-8888-90B2EBEC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4D34B-28B4-450B-B7A2-36866593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C963-9BDE-4FF3-9018-195D6F5C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8C991-2141-4D47-B545-A7E2A98C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B955-0F0A-4281-B12B-3E489D9E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233AE-8F40-46F3-AAB5-2E1793A8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2F51B-6BA8-4B5D-B120-ED4683AA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107-A0BA-4FCC-8E88-EE27172B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066-11DE-452D-B1CE-8A1AA342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05E-0A27-47F6-93D2-16FD2E02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C18-ADAF-478C-95BA-E8441BBF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220-2DC4-44B1-B2D1-FE78CDD5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343-F09B-4D3D-83C6-308321AF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25F7-0E07-4EF0-B8D4-AE71499FFCA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95DD-3177-4373-881E-3F01E53551A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AAAB-619A-4BF4-AE65-03EBCD44C56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8120" y="412920"/>
            <a:ext cx="64692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ГОУ  ВПО  «Финансовая академ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Правительстве Российской Федерации»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9160" y="2484000"/>
            <a:ext cx="87454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ция  проф.   В.С. Трипольского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логотип зел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4960" y="228600"/>
            <a:ext cx="1920960" cy="16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2120" y="1376280"/>
            <a:ext cx="87091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иболее изученными являются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вдохновени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208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наиболее элементарный психический процесс, заключающийся в психическом отражени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дельных свойств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ов и явлений, непосредственно воздействующих на органы чу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вств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760" y="1600200"/>
            <a:ext cx="897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Garamond"/>
              </a:rPr>
              <a:t>Классификация ощущений п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1)способу воздействия раздражителя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2) времени возникновения в филогенезе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3) функции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4) по расположению рецептивных  полей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22" name="Organization Chart 2"/>
          <p:cNvGrpSpPr/>
          <p:nvPr/>
        </p:nvGrpSpPr>
        <p:grpSpPr>
          <a:xfrm>
            <a:off x="466560" y="2302200"/>
            <a:ext cx="8208720" cy="3715560"/>
            <a:chOff x="466560" y="2302200"/>
            <a:chExt cx="8208720" cy="3715560"/>
          </a:xfrm>
        </p:grpSpPr>
        <p:cxnSp>
          <p:nvCxnSpPr>
            <p:cNvPr id="223" name="_s1028"/>
            <p:cNvCxnSpPr>
              <a:stCxn id="224" idx="1"/>
              <a:endCxn id="225" idx="2"/>
            </p:cNvCxnSpPr>
            <p:nvPr/>
          </p:nvCxnSpPr>
          <p:spPr>
            <a:xfrm rot="10800000">
              <a:off x="581004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1029"/>
            <p:cNvCxnSpPr>
              <a:stCxn id="227" idx="1"/>
              <a:endCxn id="228" idx="2"/>
            </p:cNvCxnSpPr>
            <p:nvPr/>
          </p:nvCxnSpPr>
          <p:spPr>
            <a:xfrm rot="10800000">
              <a:off x="2689920" y="4707000"/>
              <a:ext cx="255960" cy="1092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1030"/>
            <p:cNvCxnSpPr>
              <a:stCxn id="230" idx="1"/>
              <a:endCxn id="228" idx="2"/>
            </p:cNvCxnSpPr>
            <p:nvPr/>
          </p:nvCxnSpPr>
          <p:spPr>
            <a:xfrm rot="10800000">
              <a:off x="268992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1031"/>
            <p:cNvCxnSpPr>
              <a:stCxn id="225" idx="1"/>
              <a:endCxn id="232" idx="2"/>
            </p:cNvCxnSpPr>
            <p:nvPr/>
          </p:nvCxnSpPr>
          <p:spPr>
            <a:xfrm rot="10800000">
              <a:off x="435312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3" name="_s1032"/>
            <p:cNvCxnSpPr>
              <a:stCxn id="228" idx="1"/>
              <a:endCxn id="234" idx="2"/>
            </p:cNvCxnSpPr>
            <p:nvPr/>
          </p:nvCxnSpPr>
          <p:spPr>
            <a:xfrm rot="10800000">
              <a:off x="123228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5" name="_s1033"/>
            <p:cNvCxnSpPr>
              <a:stCxn id="232" idx="0"/>
              <a:endCxn id="236" idx="2"/>
            </p:cNvCxnSpPr>
            <p:nvPr/>
          </p:nvCxnSpPr>
          <p:spPr>
            <a:xfrm flipH="1" flipV="1" rot="5400000">
              <a:off x="5132520" y="2616480"/>
              <a:ext cx="219240" cy="17773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1034"/>
            <p:cNvCxnSpPr>
              <a:stCxn id="234" idx="0"/>
              <a:endCxn id="238" idx="2"/>
            </p:cNvCxnSpPr>
            <p:nvPr/>
          </p:nvCxnSpPr>
          <p:spPr>
            <a:xfrm flipH="1" flipV="1" rot="5400000">
              <a:off x="2012760" y="2615760"/>
              <a:ext cx="219240" cy="17791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9" name="_s1035"/>
            <p:cNvCxnSpPr>
              <a:stCxn id="236" idx="0"/>
              <a:endCxn id="240" idx="2"/>
            </p:cNvCxnSpPr>
            <p:nvPr/>
          </p:nvCxnSpPr>
          <p:spPr>
            <a:xfrm flipV="1" rot="16200000">
              <a:off x="5240160" y="2068200"/>
              <a:ext cx="219240" cy="156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36"/>
            <p:cNvCxnSpPr>
              <a:stCxn id="238" idx="0"/>
              <a:endCxn id="240" idx="2"/>
            </p:cNvCxnSpPr>
            <p:nvPr/>
          </p:nvCxnSpPr>
          <p:spPr>
            <a:xfrm flipH="1" flipV="1" rot="5400000">
              <a:off x="3681360" y="2068920"/>
              <a:ext cx="219240" cy="1559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7"/>
            <p:cNvSpPr/>
            <p:nvPr/>
          </p:nvSpPr>
          <p:spPr>
            <a:xfrm>
              <a:off x="3457440" y="2302200"/>
              <a:ext cx="22255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Тип ощущени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1038"/>
            <p:cNvSpPr/>
            <p:nvPr/>
          </p:nvSpPr>
          <p:spPr>
            <a:xfrm>
              <a:off x="208728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так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1039"/>
            <p:cNvSpPr/>
            <p:nvPr/>
          </p:nvSpPr>
          <p:spPr>
            <a:xfrm>
              <a:off x="520740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Дистан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>
              <a:off x="46656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Пал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1041"/>
            <p:cNvSpPr/>
            <p:nvPr/>
          </p:nvSpPr>
          <p:spPr>
            <a:xfrm>
              <a:off x="358704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Н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1042"/>
            <p:cNvSpPr/>
            <p:nvPr/>
          </p:nvSpPr>
          <p:spPr>
            <a:xfrm>
              <a:off x="148860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статиру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43"/>
            <p:cNvSpPr/>
            <p:nvPr/>
          </p:nvSpPr>
          <p:spPr>
            <a:xfrm>
              <a:off x="460944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Упрежда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1044"/>
            <p:cNvSpPr/>
            <p:nvPr/>
          </p:nvSpPr>
          <p:spPr>
            <a:xfrm>
              <a:off x="294624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Ин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1045"/>
            <p:cNvSpPr/>
            <p:nvPr/>
          </p:nvSpPr>
          <p:spPr>
            <a:xfrm>
              <a:off x="2946240" y="5581800"/>
              <a:ext cx="260892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Пропри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1046"/>
            <p:cNvSpPr/>
            <p:nvPr/>
          </p:nvSpPr>
          <p:spPr>
            <a:xfrm>
              <a:off x="606636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Экс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войства ощущен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оги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верхний (терминальный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фференциальный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апт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сибилиз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нестез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фическ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осприятие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перцепция) – воссоздание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целостных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разов объектов (предметов, ситуаций и т.д.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7720"/>
            <a:ext cx="822960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рительное, слуховое, тактильное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Свойства восприятия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82520"/>
            <a:ext cx="822960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(осмысленность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0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ереоценка длины вертикальных ли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Иллюзии контраста (не только зрительны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7" name="Рисунок 5" descr="http://tvorim.e-gloryon.com/userdata/images/celner.jpg"/>
          <p:cNvPicPr/>
          <p:nvPr/>
        </p:nvPicPr>
        <p:blipFill>
          <a:blip r:embed="rId1"/>
          <a:stretch/>
        </p:blipFill>
        <p:spPr>
          <a:xfrm>
            <a:off x="2914560" y="2759040"/>
            <a:ext cx="3313080" cy="36673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PB1221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539640" y="239760"/>
            <a:ext cx="836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к экономистам объяснить что такое человек, почему он активен, что им движет? Человеческий организм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Е НАБОР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ифференцированных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ЧАСТЕЙ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Эббингауз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3" name="Picture 5" descr="classic-5-1"/>
          <p:cNvPicPr/>
          <p:nvPr/>
        </p:nvPicPr>
        <p:blipFill>
          <a:blip r:embed="rId1"/>
          <a:stretch/>
        </p:blipFill>
        <p:spPr>
          <a:xfrm>
            <a:off x="2428920" y="2124000"/>
            <a:ext cx="4627440" cy="304344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Мюллера-Лайер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6" name="Picture 5" descr="classic-1a-1"/>
          <p:cNvPicPr/>
          <p:nvPr/>
        </p:nvPicPr>
        <p:blipFill>
          <a:blip r:embed="rId1"/>
          <a:stretch/>
        </p:blipFill>
        <p:spPr>
          <a:xfrm>
            <a:off x="2666880" y="2428920"/>
            <a:ext cx="3810240" cy="28670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3351240" y="1927080"/>
            <a:ext cx="5641920" cy="395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C:\Documents and Settings\VST\Рабочий стол\Иллюстрации\Иллюзия-01.jpg"/>
          <p:cNvPicPr/>
          <p:nvPr/>
        </p:nvPicPr>
        <p:blipFill>
          <a:blip r:embed="rId2"/>
          <a:stretch/>
        </p:blipFill>
        <p:spPr>
          <a:xfrm>
            <a:off x="270000" y="1933560"/>
            <a:ext cx="3039840" cy="39592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Тема 3.   Рациональные формы освоения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                действительност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ч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евые процес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Память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Garamond"/>
              </a:rPr>
              <a:t>способность к сохранению, накоплению и воспроизведению информаци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Л.Рубинштей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иды памят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у запоминаемого материала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характеру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ей деятельности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ремени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20320" y="2949120"/>
            <a:ext cx="732492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ПАСИБО ЗА ВНИМАНИЕ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!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12320" y="-15588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6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Garamond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»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           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Garamond"/>
              </a:rPr>
              <a:t>–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 322 до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254083997"/>
          <p:cNvPicPr/>
          <p:nvPr/>
        </p:nvPicPr>
        <p:blipFill>
          <a:blip r:embed="rId1"/>
          <a:stretch/>
        </p:blipFill>
        <p:spPr>
          <a:xfrm>
            <a:off x="6630840" y="515880"/>
            <a:ext cx="1879920" cy="2540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биограф очерк1"/>
          <p:cNvPicPr/>
          <p:nvPr/>
        </p:nvPicPr>
        <p:blipFill>
          <a:blip r:embed="rId1"/>
          <a:stretch/>
        </p:blipFill>
        <p:spPr>
          <a:xfrm>
            <a:off x="0" y="-150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4840" y="0"/>
            <a:ext cx="8564400" cy="139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Garamond"/>
              </a:rPr>
              <a:t>План лекц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115920" y="1996920"/>
            <a:ext cx="884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1.   Предмет психологии, задачи и мет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2.   Чувствен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3.   Рациональ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4.   Психолог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5.   Психические состояния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6.   Межличностные отно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2720" y="145080"/>
            <a:ext cx="7174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1360" y="985680"/>
            <a:ext cx="897264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Рисунок 3" descr="Рис. 1"/>
          <p:cNvPicPr/>
          <p:nvPr/>
        </p:nvPicPr>
        <p:blipFill>
          <a:blip r:embed="rId1"/>
          <a:stretch/>
        </p:blipFill>
        <p:spPr>
          <a:xfrm>
            <a:off x="2092320" y="2768760"/>
            <a:ext cx="5040360" cy="14173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психические процессы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сихические состояния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психические свой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8:40:37Z</dcterms:created>
  <dc:creator>Богатырев Е Д</dc:creator>
  <dc:description/>
  <dc:language>en-US</dc:language>
  <cp:lastModifiedBy>LEGION</cp:lastModifiedBy>
  <dcterms:modified xsi:type="dcterms:W3CDTF">2014-11-12T07:32:53Z</dcterms:modified>
  <cp:revision>98</cp:revision>
  <dc:subject/>
  <dc:title>Слайд 1</dc:title>
</cp:coreProperties>
</file>