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2021-7677-4947-AC76-E826E4270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У  ВПО  «Финансовая академ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 проф.   В.С. Трипольског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9398-CC89-491D-9A15-6E83161229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ученным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дохнов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B514-4F40-463E-A827-07113563C6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22C5-08F7-4704-B082-DA49BC3F51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F314-0D91-4CAC-BD61-644550B980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иболее элементарный психический процесс, заключающийся в психическом отражен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дельных свой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в и явлений, непосредственно воздействующих на органы чув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46E5-CCFD-4563-AA9E-9C876DBB45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)способу воздействия раздражител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) времени возникновения в филогенез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) функ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) по расположению рецептивных  по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210F-F458-4A5B-8C0F-1445EBD648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ог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верхний (терминальный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фференциальный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ибилиз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естез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4A92-E780-4D92-9099-0481DD17FC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осприя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цепция) – воссозда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ост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 объектов (предметов, ситуаци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ительное, слуховое, тактильно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2A48-A3C9-429D-AD7A-93D7C96604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а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осмысленность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419-A918-41F1-B43F-0570FE5212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ереоценка длины вертикальных ли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Иллюзии контраста (не только зрите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338C-59D2-44DD-B1BC-7ADBFFA1AE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C84D-1E97-49B0-9C53-52648041A6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1EDA-F1A0-4B22-8F78-65915DD7A8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Эббинг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A621-054A-43E8-BBC2-98E6370BFA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Мюллера-Ла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4F3-7F81-4814-B94D-C8FF7563F0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838D-74DC-4E16-BF0B-088FB34A4E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Тема 3.   Рациональные формы освоения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              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22E9-49B8-41FF-9D48-6B03CFB4D9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пособность к сохранению, накоплению и воспроизведению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Л.Рубиншт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5275-308C-42F3-9396-4CC8AC0296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ипу запоминаемого материала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лей деятельности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ремен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66CB-8D5D-4995-BC55-D9E5AC9D86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738C-346F-4F8D-923C-74CFA202B6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Arial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 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5D0B-3FD7-4593-B7BB-D376FD4EE5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План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3EF0-B220-4B7D-9811-D8ACF6B132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6FF1-311F-4BB7-8243-767A3CE4E6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D1BB-2FCE-4AB9-9F4A-6AC5865ECF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A56C-1224-4A39-94B2-42CE98C4BE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сихические процесс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сихические состоя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сихические сво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24EA-A0E6-4D07-90B6-4C9CFECB0A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47D1-0266-4E9D-AE87-74AD02CF62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109-B54F-4A66-B11F-4ADE9966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DCF-1F11-475B-9E9F-EA601C68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5E6-EEAB-450C-A582-B9B87E78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805-7333-45DD-835B-72AED007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E0F0-9462-4A77-AAC7-2D3CE07F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6EFE-4782-473B-A144-6CBBF41A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E765-E435-4838-80F7-62F77790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0467-69FF-4A64-9EC2-A81F8570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7661-7842-4742-AAD5-F14CA18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300C-FE2A-4A65-98B6-644414FA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5D7F-357B-4059-8838-441D2012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CC3-1BE7-47B3-A5EC-9CBE7984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C6AC-9A4D-4F64-AA24-570046CB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D20C-315A-4136-92CB-69D7E70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9506-EA6E-4DEB-B664-29E57706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988E-F926-46CD-9F02-E399185E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AB90-3873-4184-B9DB-5971AD26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78B4-945A-4500-B658-6431BE03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4695-0AC0-486E-892F-B28B3DF7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694A7-4026-4B49-A51F-B0D1C8B5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ED51-BDC5-4B43-9A3D-86397840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8B1A-DB1A-4A26-BA8D-8986282C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449-76DD-4554-ADE1-3B10EE0E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C29D-6D77-4C24-A028-744C5AF2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378A-4961-4826-AA3C-DDE22F95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F4D4-5CFA-4C4A-A19A-F842BEB3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64AC-D50F-46F3-84F3-83CFB9CE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5691-A4BB-4525-ABAB-385B4243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B5E0-3DFC-4E59-B2D9-69395E93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C53C-7B02-47E6-92FA-A4594564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CB9-0450-4646-8348-989D3862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472-E3A7-4AC2-808A-6B09696F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B06-2EED-43FE-947C-B077211E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738-078E-4DAA-B4F9-164F2AC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9AB-07B6-4B67-8AC3-69313B55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D4B-A29B-4EC6-BD77-690BE0ED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38BF-F5B8-4128-BCA5-8BD42454F2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D573-55DF-471B-9D6A-76E6B650C0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EBC3-B4D5-43C0-9558-6A67D40AF0A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8120" y="412920"/>
            <a:ext cx="64692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ГОУ  ВПО  «Финансовая академ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тельстве Российской Федерации»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9160" y="2484000"/>
            <a:ext cx="87454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ция  проф.   В.С. Трипольского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логотип зел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960" y="228600"/>
            <a:ext cx="1920960" cy="16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2120" y="1376280"/>
            <a:ext cx="87091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иболее изученными являются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дохнов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иболее элементарный психический процесс, заключающийся в психическом отражени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дельных свойст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и явлений, непосредственно воздействующих на органы чу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вств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760" y="1600200"/>
            <a:ext cx="897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Garamond"/>
              </a:rPr>
              <a:t>Классификация ощущений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1)способу воздействия раздражител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2) времени возникновения в филогенезе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) функци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) по расположению рецептивных  полей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22" name="Organization Chart 2"/>
          <p:cNvGrpSpPr/>
          <p:nvPr/>
        </p:nvGrpSpPr>
        <p:grpSpPr>
          <a:xfrm>
            <a:off x="466560" y="2302200"/>
            <a:ext cx="8208720" cy="3715560"/>
            <a:chOff x="466560" y="2302200"/>
            <a:chExt cx="8208720" cy="3715560"/>
          </a:xfrm>
        </p:grpSpPr>
        <p:cxnSp>
          <p:nvCxnSpPr>
            <p:cNvPr id="223" name="_s1028"/>
            <p:cNvCxnSpPr>
              <a:stCxn id="224" idx="1"/>
              <a:endCxn id="225" idx="2"/>
            </p:cNvCxnSpPr>
            <p:nvPr/>
          </p:nvCxnSpPr>
          <p:spPr>
            <a:xfrm rot="10800000">
              <a:off x="581004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1"/>
              <a:endCxn id="228" idx="2"/>
            </p:cNvCxnSpPr>
            <p:nvPr/>
          </p:nvCxnSpPr>
          <p:spPr>
            <a:xfrm rot="10800000">
              <a:off x="2689920" y="4707000"/>
              <a:ext cx="255960" cy="1092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8" idx="2"/>
            </p:cNvCxnSpPr>
            <p:nvPr/>
          </p:nvCxnSpPr>
          <p:spPr>
            <a:xfrm rot="10800000">
              <a:off x="268992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31"/>
            <p:cNvCxnSpPr>
              <a:stCxn id="225" idx="1"/>
              <a:endCxn id="232" idx="2"/>
            </p:cNvCxnSpPr>
            <p:nvPr/>
          </p:nvCxnSpPr>
          <p:spPr>
            <a:xfrm rot="10800000">
              <a:off x="435312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2"/>
            <p:cNvCxnSpPr>
              <a:stCxn id="228" idx="1"/>
              <a:endCxn id="234" idx="2"/>
            </p:cNvCxnSpPr>
            <p:nvPr/>
          </p:nvCxnSpPr>
          <p:spPr>
            <a:xfrm rot="10800000">
              <a:off x="123228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033"/>
            <p:cNvCxnSpPr>
              <a:stCxn id="232" idx="0"/>
              <a:endCxn id="236" idx="2"/>
            </p:cNvCxnSpPr>
            <p:nvPr/>
          </p:nvCxnSpPr>
          <p:spPr>
            <a:xfrm flipH="1" flipV="1" rot="5400000">
              <a:off x="5132520" y="2616480"/>
              <a:ext cx="219240" cy="17773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1034"/>
            <p:cNvCxnSpPr>
              <a:stCxn id="234" idx="0"/>
              <a:endCxn id="238" idx="2"/>
            </p:cNvCxnSpPr>
            <p:nvPr/>
          </p:nvCxnSpPr>
          <p:spPr>
            <a:xfrm flipH="1" flipV="1" rot="5400000">
              <a:off x="2012760" y="2615760"/>
              <a:ext cx="219240" cy="17791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1035"/>
            <p:cNvCxnSpPr>
              <a:stCxn id="236" idx="0"/>
              <a:endCxn id="240" idx="2"/>
            </p:cNvCxnSpPr>
            <p:nvPr/>
          </p:nvCxnSpPr>
          <p:spPr>
            <a:xfrm flipV="1" rot="16200000">
              <a:off x="5240160" y="2068200"/>
              <a:ext cx="219240" cy="156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36"/>
            <p:cNvCxnSpPr>
              <a:stCxn id="238" idx="0"/>
              <a:endCxn id="240" idx="2"/>
            </p:cNvCxnSpPr>
            <p:nvPr/>
          </p:nvCxnSpPr>
          <p:spPr>
            <a:xfrm flipH="1" flipV="1" rot="5400000">
              <a:off x="3681360" y="2068920"/>
              <a:ext cx="219240" cy="155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7"/>
            <p:cNvSpPr/>
            <p:nvPr/>
          </p:nvSpPr>
          <p:spPr>
            <a:xfrm>
              <a:off x="3457440" y="2302200"/>
              <a:ext cx="22255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Тип ощущ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8"/>
            <p:cNvSpPr/>
            <p:nvPr/>
          </p:nvSpPr>
          <p:spPr>
            <a:xfrm>
              <a:off x="208728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так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9"/>
            <p:cNvSpPr/>
            <p:nvPr/>
          </p:nvSpPr>
          <p:spPr>
            <a:xfrm>
              <a:off x="520740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Дистан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>
              <a:off x="46656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Пал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358704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Н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42"/>
            <p:cNvSpPr/>
            <p:nvPr/>
          </p:nvSpPr>
          <p:spPr>
            <a:xfrm>
              <a:off x="148860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статиру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43"/>
            <p:cNvSpPr/>
            <p:nvPr/>
          </p:nvSpPr>
          <p:spPr>
            <a:xfrm>
              <a:off x="460944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Упрежда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44"/>
            <p:cNvSpPr/>
            <p:nvPr/>
          </p:nvSpPr>
          <p:spPr>
            <a:xfrm>
              <a:off x="294624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Ин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45"/>
            <p:cNvSpPr/>
            <p:nvPr/>
          </p:nvSpPr>
          <p:spPr>
            <a:xfrm>
              <a:off x="2946240" y="5581800"/>
              <a:ext cx="260892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ропри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46"/>
            <p:cNvSpPr/>
            <p:nvPr/>
          </p:nvSpPr>
          <p:spPr>
            <a:xfrm>
              <a:off x="606636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Экс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войства ощущен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ог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верхний (терминальный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фференциальный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апт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сибилиз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естез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ческ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сприят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ерцепция) – воссоздани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лостных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 объектов (предметов, ситуаций и т.д.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е, слуховое, тактильное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Свойства восприя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осмысленность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0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оценка длины вертикальных ли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ллюзии контраста (не только зрительны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Рисунок 5" descr="http://tvorim.e-gloryon.com/userdata/images/celner.jpg"/>
          <p:cNvPicPr/>
          <p:nvPr/>
        </p:nvPicPr>
        <p:blipFill>
          <a:blip r:embed="rId1"/>
          <a:stretch/>
        </p:blipFill>
        <p:spPr>
          <a:xfrm>
            <a:off x="2914560" y="2759040"/>
            <a:ext cx="3313080" cy="36673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B12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39640" y="239760"/>
            <a:ext cx="83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 экономистам объяснить что такое человек, почему он активен, что им движет? Человеческий организм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 НАБОР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фференцированны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ЧАСТЕ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Эббингауз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3" name="Picture 5" descr="classic-5-1"/>
          <p:cNvPicPr/>
          <p:nvPr/>
        </p:nvPicPr>
        <p:blipFill>
          <a:blip r:embed="rId1"/>
          <a:stretch/>
        </p:blipFill>
        <p:spPr>
          <a:xfrm>
            <a:off x="2428920" y="2124000"/>
            <a:ext cx="4627440" cy="304344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Мюллера-Лайе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6" name="Picture 5" descr="classic-1a-1"/>
          <p:cNvPicPr/>
          <p:nvPr/>
        </p:nvPicPr>
        <p:blipFill>
          <a:blip r:embed="rId1"/>
          <a:stretch/>
        </p:blipFill>
        <p:spPr>
          <a:xfrm>
            <a:off x="2666880" y="242892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351240" y="1927080"/>
            <a:ext cx="5641920" cy="395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VST\Рабочий стол\Иллюстрации\Иллюзия-01.jpg"/>
          <p:cNvPicPr/>
          <p:nvPr/>
        </p:nvPicPr>
        <p:blipFill>
          <a:blip r:embed="rId2"/>
          <a:stretch/>
        </p:blipFill>
        <p:spPr>
          <a:xfrm>
            <a:off x="270000" y="1933560"/>
            <a:ext cx="3039840" cy="39592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Тема 3.   Рациональные формы освоения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                действитель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вые процес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амять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способность к сохранению, накоплению и воспроизведению информа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Л.Рубинштей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у запоминаемого материала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ей деятельности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ремен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20320" y="2949120"/>
            <a:ext cx="73249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ЗА ВНИМАНИЕ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2320" y="-15588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Garamond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 322 до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254083997"/>
          <p:cNvPicPr/>
          <p:nvPr/>
        </p:nvPicPr>
        <p:blipFill>
          <a:blip r:embed="rId1"/>
          <a:stretch/>
        </p:blipFill>
        <p:spPr>
          <a:xfrm>
            <a:off x="6630840" y="515880"/>
            <a:ext cx="1879920" cy="2540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биограф очерк1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840" y="0"/>
            <a:ext cx="8564400" cy="13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Garamond"/>
              </a:rPr>
              <a:t>План лекц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15920" y="1996920"/>
            <a:ext cx="884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1.   Предмет психологии, задачи и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2.   Чувствен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3.   Рациональ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4.   Психолог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5.   Психические состояни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6.   Межличностны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2720" y="145080"/>
            <a:ext cx="7174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1360" y="985680"/>
            <a:ext cx="897264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3" descr="Рис. 1"/>
          <p:cNvPicPr/>
          <p:nvPr/>
        </p:nvPicPr>
        <p:blipFill>
          <a:blip r:embed="rId1"/>
          <a:stretch/>
        </p:blipFill>
        <p:spPr>
          <a:xfrm>
            <a:off x="2092320" y="2768760"/>
            <a:ext cx="5040360" cy="14173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сихические процесс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сихические состоя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психические свой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8:40:37Z</dcterms:created>
  <dc:creator>Богатырев Е Д</dc:creator>
  <dc:description/>
  <dc:language>en-US</dc:language>
  <cp:lastModifiedBy>LEGION</cp:lastModifiedBy>
  <dcterms:modified xsi:type="dcterms:W3CDTF">2014-11-12T07:32:53Z</dcterms:modified>
  <cp:revision>98</cp:revision>
  <dc:subject/>
  <dc:title>Слайд 1</dc:title>
</cp:coreProperties>
</file>