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BDAA-222B-4ADA-9BCF-359880A1A52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ОСНОВЫ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 Введение в менеджмен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 Эволюция и основные теории менеджмен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 Основы менеджмента в Украин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4. Системный подход в менеджмент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5. Управляющая и управляемая подсистемы в здоровоохорон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6. Роль управления в здравоохранении Укра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ЩИЕ ОСНОВЫ МЕНЕДЖМЕНТ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1. Введение в менеджмент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2. Эволюция и основные теории менеджмента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3. Основы менеджмента в Украин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4. Системный подход в менеджмент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5. Управляющая и управляемая подсистемы в здоровоохорон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6. Роль управления в здравоохранении Украин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классическая школа управления (или школа движения за гуманные отнош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ла как реакция на недостатки классического подхода к управлению, откуда и взяла свое название. Две предыдущие школы мало учитывали социально-психологические и эмоциональные потребности человека в процессе производства и управления. Но "тейлоризм наоборот", когда созданием только положительного психологического климата пытались достичь высокой производительности тоже большей эффективности не принес. Однако, следует отметить такие ценные наработки, как создание соответствующих психо-физиологических и эргономических условий труда, разработка мероприятий, направленных на сохранение здоровья, исследования мотивационных характеристик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оклассическая школа управления (или школа движения за гуманные отноше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зникла как реакция на недостатки классического подхода к управлению, откуда и взяла свое название. Две предыдущие школы мало учитывали социально-психологические и эмоциональные потребности человека в процессе производства и управления. Но "тейлоризм наоборот", когда созданием только положительного психологического климата пытались достичь высокой производительности тоже большей эффективности не принес. Однако, следует отметить такие ценные наработки, как создание соответствующих психо-физиологических и эргономических условий труда, разработка мероприятий, направленных на сохранение здоровья, исследования мотивационных характеристик люд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денческая школа (школа поведенческих нау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ла в 50-е годы, как видоизменение неоклассической школы, в результате значительного развития психологии, социологии и соционики, а также совершенствование методов изучения поведения людей. Выдающимися представителями этой школы были Крис Арджирис, Ренсис Лайнкерт, Дуглас Мак-Грегор, Фредерик Герцбер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веденческая школа (школа поведенческих наук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зникла в 50-е годы, как видоизменение неоклассической школы, в результате значительного развития психологии, социологии и соционики, а также совершенствование методов изучения поведения людей. Выдающимися представителями этой школы были Крис Арджирис, Ренсис Лайнкерт, Дуглас Мак-Грегор, Фредерик Герцберг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а системного управления (современная фаз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овременного периода исследования управления характерен широкий связь с такими науками как математика, статистика, компьютерные технологии и т.д. Количественные методы исследования в управлении завоевывают все более широкие территории. Преимуществом количественных методов является замена словесных выражений математическими моделями, выражениями и количественными значениями. Данный подход дал зеленую улицу внедрения компьютерного анализа в сферу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Школа системного управления (современная фаза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ля современного периода исследования управления характерен широкий связь с такими науками как математика, статистика, компьютерные технологии и т.д. Количественные методы исследования в управлении завоевывают все более широкие территории. Преимуществом количественных методов является замена словесных выражений математическими моделями, выражениями и количественными значениями. Данный подход дал зеленую улицу внедрения компьютерного анализа в сферу управл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е концепции менеджме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ный подхо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подхо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онный подх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временные концепции менеджмент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цессный подход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истемный подход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итуационный подход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ный под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ервые это понятие было введено сторонниками школы административного управления, которые описывали функции менеджера, но эти функции они описывали обособленно друг от друга, а процессный подход рассматривает функции управления в тесной взаимосвязи. Функции управления не является стабильно определенными и поныне, каждый исследователь приводит свой их набор и считает его наиболее целесообразным. Процесс управления по Файолю насчитывает пять основных функций: предвидение, планирование, организация, распоряжение и контр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цессный подхо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первые это понятие было введено сторонниками школы административного управления, которые описывали функции менеджера, но эти функции они описывали обособленно друг от друга, а процессный подход рассматривает функции управления в тесной взаимосвязи. Функции управления не является стабильно определенными и поныне, каждый исследователь приводит свой их набор и считает его наиболее целесообразным. Процесс управления по Файолю насчитывает пять основных функций: предвидение, планирование, организация, распоряжение и контроль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под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правлении основывается на теории систем. Суть системного подхода заключается в том, что любая проблема рассматривается как система и разлагается на составные части до тех пор, пока не вступит простого, элементарного ви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истемный подхо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управлении основывается на теории систем. Суть системного подхода заключается в том, что любая проблема рассматривается как система и разлагается на составные части до тех пор, пока не вступит простого, элементарного ви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чески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ложные, открытые системы (характеристика их будет дана далее), которые работают по принципу действия "вход" - "преобразования" - "выход". Поэтому подходы каждой предыдущей школы, которые сосредоточили свое внимание лишь на отдельных подсистемах или элементах системы управления, можно использовать лишь в ограниченных условиях и на определенном уровне системы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правленческие систем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сложные, открытые системы (характеристика их будет дана далее), которые работают по принципу действия "вход" - "преобразования" - "выход". Поэтому подходы каждой предыдущей школы, которые сосредоточили свое внимание лишь на отдельных подсистемах или элементах системы управления, можно использовать лишь в ограниченных условиях и на определенном уровне системы управл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онный под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исключает взглядов предыдущих школ, но вместе с тем требует применения специальных приемов для достижения целей организации. В основе ситуационного подхода лежит положение, что любая организация должна быть структурированной, однако построение этой структуры зависит от ситуации, внешней и внутренней ее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итуационный подхо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 исключает взглядов предыдущих школ, но вместе с тем требует применения специальных приемов для достижения целей организации. В основе ситуационного подхода лежит положение, что любая организация должна быть структурированной, однако построение этой структуры зависит от ситуации, внешней и внутренней ее сред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одновременно наук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усством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кой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енеджмен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является одновременно наукой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скусством 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актикой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е применение ситуационного подхода заключается в том, что менеджер долже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адать эффективными средствами профессионального упра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о понимать и трактовать ситуацию, которая складывается и уметь определять приорите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язывать конкретные приемы с конкретными ситуациями, обеспечивая достижение цели организац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актическое применение ситуационного подхода заключается в том, что менеджер должен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ладать эффективными средствами профессионального управле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авильно понимать и трактовать ситуацию, которая складывается и уметь определять приоритеты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вязывать конкретные приемы с конкретными ситуациями, обеспечивая достижение цели организацие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ситуационной обусловл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верждает, что бюрократическая форма организации эффективнее в относительно простом и стабильном окружении, а более "органическое" форма организации будет эффективной в сложном и динамичном среде, когда в работе участвует значительная доля специалистов. Более органическая организационная форма способствует расширению круга участников процесса, в ней делается больший расчет на косвенное распространение информации и на такие механизмы координации, которые будут объединять между собой людей производственные подразделения и результаты, будут более рентабельными и эффектив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ория ситуационной обусловлен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тверждает, что бюрократическая форма организации эффективнее в относительно простом и стабильном окружении, а более "органическое" форма организации будет эффективной в сложном и динамичном среде, когда в работе участвует значительная доля специалистов. Более органическая организационная форма способствует расширению круга участников процесса, в ней делается больший расчет на косвенное распространение информации и на такие механизмы координации, которые будут объединять между собой людей производственные подразделения и результаты, будут более рентабельными и эффективны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зависимости от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черкивает важность способности организации к обеспечению необходимых ресурсов из окружающей среды, если организация хочет выжить. Те подразделения организации, которые будут иметь более легкий и лучший доступ к ключевым внешним ресурсам, пользоваться большей властью и влиянием. Хотя организации и хотят сохранять самостоятельность, они все же признают необходимость формирования определенных коалиций или сетей с целью аккумулирования ресурсов и уменьшения затрат при выполнении согла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ория зависимости от ресурс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дчеркивает важность способности организации к обеспечению необходимых ресурсов из окружающей среды, если организация хочет выжить. Те подразделения организации, которые будут иметь более легкий и лучший доступ к ключевым внешним ресурсам, пользоваться большей властью и влиянием. Хотя организации и хотят сохранять самостоятельность, они все же признают необходимость формирования определенных коалиций или сетей с целью аккумулирования ресурсов и уменьшения затрат при выполнении согла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стратегического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одолжение теории зависимости от ресурсов подчеркивает умении разместить свою организацию в отношении внешнего окружения так, чтобы достичь своей цели и обеспечить выживание. Эта концепция пытается объединить силы окружающей среды, внутреннее строение организации и процессы, которые в ней происходят, со стратегией организации. Руководители и члены организации могут по своему усмотрению выбирать стратегию и структуры, которые лучше будут соответствовать требованиям окружения и повышать производительность труда в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нцепция стратегического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продолжение теории зависимости от ресурсов подчеркивает умении разместить свою организацию в отношении внешнего окружения так, чтобы достичь своей цели и обеспечить выживание. Эта концепция пытается объединить силы окружающей среды, внутреннее строение организации и процессы, которые в ней происходят, со стратегией организации. Руководители и члены организации могут по своему усмотрению выбирать стратегию и структуры, которые лучше будут соответствовать требованиям окружения и повышать производительность труда в организац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популяционной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зывает, что окружение "отбирает" для выживания отдельные виды организаций. Опираясь на теорию естественного отбора из биологии, они основное внимание сосредотачивают на определенной популяции организаций, а не на отдельных организациях. То, добьется успеха конкретная организация, зависит от ее местонахождения в отношении популяции конкурентов и от общего расположения внешних сил, влияющих на эту популяцию. Способность руководителей успешно влиять на свое окружение, по данной теории, относительно невел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ория популяционной эколог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оказывает, что окружение "отбирает" для выживания отдельные виды организаций. Опираясь на теорию естественного отбора из биологии, они основное внимание сосредотачивают на определенной популяции организаций, а не на отдельных организациях. То, добьется успеха конкретная организация, зависит от ее местонахождения в отношении популяции конкурентов и от общего расположения внешних сил, влияющих на эту популяцию. Способность руководителей успешно влиять на свое окружение, по данной теории, относительно невелик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циональная тео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верждает, что внешняя среда, в которой функционируют организации, имеет свои нормы, правила и выдвигает требования, а потому, чтобы быть узаконенными и получать поддержку, организации должны соответствовать этим требованиям, нормам и правил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нституциональная теор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тверждает, что внешняя среда, в которой функционируют организации, имеет свои нормы, правила и выдвигает требования, а потому, чтобы быть узаконенными и получать поддержку, организации должны соответствовать этим требованиям, нормам и правила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84 году Уильям Оучи предложил дифференциацию особенностей управления японских и американских организаций, которая заключалась в следующ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понские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жизненный най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епенное оценки и продви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пециализированн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нкие механизмы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ое принятие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анские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временный най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строе оценки и продви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зированн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ые механизмы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е принятие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1984 году Уильям Оучи предложил дифференциацию особенностей управления японских и американских организаций, которая заключалась в следующем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Японские организа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жизненный най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степенное оценки и продви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специализированная деятельн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онкие механизмы контрол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ллективное принятие реше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ллективная ответственн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мериканские организа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ратковременный най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ыстрое оценки и продви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ециализированная деятельн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ормальные механизмы контрол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ндивидуальное принятие реше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ндивидуальная ответственн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качеств руководителя, которые имеют определенную ценность и для украинских руководителей (по В. Терещенк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"Будь руководителем, а не погонщиком"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уверенность в себ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строгость и требователь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"Критикуй положительно"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умение поощрять и наказыв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умение ценить время подчинен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 вежливое и доброжелательное отношение к подчиненны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) умение и молч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) чувство юмо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) "Интересуйся, изучай своих подчиненных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0 качеств руководителя, которые имеют определенную ценность и для украинских руководителей (по В. Терещенко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) "Будь руководителем, а не погонщиком"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) уверенность в себе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) строгость и требовательность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) "Критикуй положительно"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) умение поощрять и наказывать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6) умение ценить время подчиненных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7) вежливое и доброжелательное отношение к подчиненным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8) умение и молчать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9) чувство юмор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0) "Интересуйся, изучай своих подчиненных"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такой сложной системой, как здравоохранение требует системного подхода и использования системного анализа. Основными направлениями их применения в здравоохранении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и реализация целевых комплексных программ, направленных на решение сложных пробл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организация системы медицинской помощи на рыночных принцип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математических моделей системы медицинской помощи с целью прогнозирования ее разви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рование взаимодействия подразделений системы и систем между собой с целью определения так называемых слабых мест и дальнейшей оптимизации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правление такой сложной системой, как здравоохранение требует системного подхода и использования системного анализа. Основными направлениями их применения в здравоохранении являютс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зработка и реализация целевых комплексных программ, направленных на решение сложных проблем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организация системы медицинской помощи на рыночных принципах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зработка математических моделей системы медицинской помощи с целью прогнозирования ее развит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оделирование взаимодействия подразделений системы и систем между собой с целью определения так называемых слабых мест и дальнейшей оптимизации работ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ми способами организации и управления системой здравоохранения на сегодня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я рынком или сетью услуг, ориентированное на удовлетворение потребностей насе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я медицинским обслуживанием с выходом за пределы организ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ое управление качеством и постоянное совершенствование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лавными способами организации и управления системой здравоохранения на сегодня являютс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правления рынком или сетью услуг, ориентированное на удовлетворение потребностей населе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правления медицинским обслуживанием с выходом за пределы организац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ктивное управление качеством и постоянное совершенствование работ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умение достигать поставленных целей, используя труд, интеллект и мотивы поведения других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енеджмент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умение достигать поставленных целей, используя труд, интеллект и мотивы поведения других люд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- это совокупность элементов, взаимодействуя между собой и внешней средой, порождают новые свойства и признаки, не присущие ни одному из этих элементов, но характерные для системы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истема - это совокупность элементов, взаимодействуя между собой и внешней средой, порождают новые свойства и признаки, не присущие ни одному из этих элементов, но характерные для системы в цело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под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аучная методология, которая является средством анализа и синтеза при изучении сложных целостных систем, суть которой заключается в том, что явления и процессы, происходящие в природе, обществе рассматриваются как целостные системы, состоящие из подсистем, компонентов или эле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истемный подхо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научная методология, которая является средством анализа и синтеза при изучении сложных целостных систем, суть которой заключается в том, что явления и процессы, происходящие в природе, обществе рассматриваются как целостные системы, состоящие из подсистем, компонентов или элемент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метод решения сложных комплексных проблем, если удовлетворительный результат не может быть получен с помощью одной произвольной дисциплины или даже совокупности методов других дисципл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истемный анализ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метод решения сложных комплексных проблем, если удовлетворительный результат не может быть получен с помощью одной произвольной дисциплины или даже совокупности методов других дисциплин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с точки зрения теории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есоответствие между желаемым (необходимым) и действительным положением д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блема с точки зрения теории систе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несоответствие между желаемым (необходимым) и действительным положением де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здоровоохороны с точки зрения теории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умма всех составляющих ее элементов, действующих на одной территории или населенном пункте, включая амбулаторно-поликлинические, стационарные и другие учреждения, их взаимосвязь, направленный на удовлетворение потребностей населения, в лечебно-профилактическом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истема здоровоохороны с точки зрения теории систе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сумма всех составляющих ее элементов, действующих на одной территории или населенном пункте, включая амбулаторно-поликлинические, стационарные и другие учреждения, их взаимосвязь, направленный на удовлетворение потребностей населения, в лечебно-профилактическом помощ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системы здоровоохоро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многоцелевая и многоуровневая система с иерархической системой упра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е элементы подпадают под случайные неконтролируемые воздейств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 внутрисистемных связей сложный и трудно уловим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а система носит вероятностный, а не детерминированный харак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обенности системы здоровоохорон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многоцелевая и многоуровневая система с иерархической системой управле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е элементы подпадают под случайные неконтролируемые воздейств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арактер внутрисистемных связей сложный и трудно уловимы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ама система носит вероятностный, а не детерминированный характер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управління охороною здоров’я міс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хема управління охороною здоров’я міста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асибо за внимание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Спасибо за внимание!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тапы развития теории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Этапы развития теории менеджмент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ф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период развития менеджмента совпадает с периодом домонополистического капитализма. Управление осуществлялось на базе практического опыта предпринимателей, который передавался из поколения в поколение. Многочисленные по объему организации были только в государственной, церковной и военной сферах. С них и начались первые ростки научного управления. Характерным для управления этого периода была иерархически пирамидальная построение организ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едфаз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т период развития менеджмента совпадает с периодом домонополистического капитализма. Управление осуществлялось на базе практического опыта предпринимателей, который передавался из поколения в поколение. Многочисленные по объему организации были только в государственной, церковной и военной сферах. С них и начались первые ростки научного управления. Характерным для управления этого периода была иерархически пирамидальная построение организац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а научного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ила развитие в США в начале XX века. "Научное управление" ввел Ф. Тейл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став школы научного управления вошли также исследования Г. Гантта и супруги Гилбрайтив. Последние разработали так называемый микрохронометром, который в сочетании с кинокамерой позволял определять, какие движения выполняются при определенных операциях и сколько времени занимает каждый из них. Тейлор, например, придирчиво измерял количество железной руды и угля, которое человек может поднять лопатой. Такая информация позволяла исследователям просматривать рабочие операции, чтобы удалить ненужные, непродуктивные движения, заменив их стандартными процеду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Школа научного управл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лучила развитие в США в начале XX века. "Научное управление" ввел Ф. Тейлор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состав школы научного управления вошли также исследования Г. Гантта и супруги Гилбрайтив. Последние разработали так называемый микрохронометром, который в сочетании с кинокамерой позволял определять, какие движения выполняются при определенных операциях и сколько времени занимает каждый из них. Тейлор, например, придирчиво измерял количество железной руды и угля, которое человек может поднять лопатой. Такая информация позволяла исследователям просматривать рабочие операции, чтобы удалить ненужные, непродуктивные движения, заменив их стандартными процедура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йлор Фредерик Уинстон (1856-1915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вестный американский ученый и практик. Начинал работать учеником в механической мастерской. Впоследствии прошел все должностные ступени от младшего служащего до главного инженера крупного металлургического завод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ллельно занимался научной деятельностью. Исследования Тейлора по проблемам научной организации производства стали первой попыткой создать отдельную науку управления. Можно считать, что его произведение "Научная организация труда" стал основой развития менеджменте в СЕЛА, а затем и в других странах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йлор основное внимание сосредоточивал на изучении с помощью наблюдения и хронометража движений рабочего, разработке рекомендаций по ликвидации непроизводительных затрат человеческой энергии и повышения эффективности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йлор Фредерик Уинстон (1856-1915)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Известный американский ученый и практик. Начинал работать учеником в механической мастерской. Впоследствии прошел все должностные ступени от младшего служащего до главного инженера крупного металлургического завода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араллельно занимался научной деятельностью. Исследования Тейлора по проблемам научной организации производства стали первой попыткой создать отдельную науку управления. Можно считать, что его произведение "Научная организация труда" стал основой развития менеджменте в СЕЛА, а затем и в других странах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йлор основное внимание сосредоточивал на изучении с помощью наблюдения и хронометража движений рабочего, разработке рекомендаций по ликвидации непроизводительных затрат человеческой энергии и повышения эффективности тру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а административного управления (классическая шко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ла в 20 года. Выдающимися ее представителями были А. Файоль (Франция), Л. Урвик (Англия), Джеймс Д. Муни и А. К. Рейли (США), М. Вебер (Герма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тличие от школы научного управления, представители классической школы проблемы эффективности организации рассматривали в значительно более широком масштабе, определяя закономерности и общие характеристики эффективной организации. Они пытались найти универсальные принципы управления, которые бы позволили добиваться успеха любой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Школа административного управления (классическая школа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зникла в 20 года. Выдающимися ее представителями были А. Файоль (Франция), Л. Урвик (Англия), Джеймс Д. Муни и А. К. Рейли (США), М. Вебер (Германия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отличие от школы научного управления, представители классической школы проблемы эффективности организации рассматривали в значительно более широком масштабе, определяя закономерности и общие характеристики эффективной организации. Они пытались найти универсальные принципы управления, которые бы позволили добиваться успеха любой организац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йоль Анри (1841-1925)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нцузский инженер и ученый. После окончания в 1860 году горной школы начал работать на крупном металлургическом объединении, где впоследствии стал генеральным директором. В этом объединении Файоль разработал и внедрил стройную систему управления производством, где определил основные административные функции, их назначение, основные 14 принципов административного управле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еоретические выводы Файоля по проблемам совершенствования управления изложены в его труде "Общее и промышленное управление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йоль Анри (1841-1925)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ранцузский инженер и ученый. После окончания в 1860 году горной школы начал работать на крупном металлургическом объединении, где впоследствии стал генеральным директором. В этом объединении Файоль разработал и внедрил стройную систему управления производством, где определил основные административные функции, их назначение, основные 14 принципов административного управления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новные теоретические выводы Файоля по проблемам совершенствования управления изложены в его труде "Общее и промышленное управление"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7B0B-D737-404E-A8A0-D2248621A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9A9C-C1DF-45CA-8C73-560E5845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FCC2-162F-419B-BD53-232ECA575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FC90-0888-4CB2-9027-91741DE58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F95E8C-8421-41A7-BFFB-8BF244AFF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4C95C-D16B-4E6A-BB1B-7FA6832E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C6E40-CC55-4BC0-921E-F6DF1F6D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7C557-19EB-4B7B-9A75-65F473EB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7B68B-87CD-4B03-AFB8-0294CB6A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0AE63-B966-4170-AE4F-86F8E3E7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9B0BDF-169B-40C5-A6D1-9159CCDB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830E-B44B-42CF-8538-CB38DECB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214624-7177-44E0-AE46-70802B92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E72001-C722-47C1-837C-592823F4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93DB1-2120-47CB-8CEB-E4BFF365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86A239-D359-492B-B4B3-A9922AEA8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7CF34-C97D-4BC3-9E0C-0EA89BF7D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A82E-CACD-46A1-8832-4848784E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B622-3A3C-4647-9E1B-15A0C3B7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E1FE-8F40-4C04-BE15-BA33F921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DB6E-AEB1-481F-9B12-8AE08E15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14FF-C200-4896-99FE-5DCADFC2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71FA-9677-433E-9BB9-1887DCDC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CE49-7A9B-4035-A753-F7EA19A1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6FD7-62B7-4173-AC46-CD312114AE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FE27-5518-4FED-AA08-FE4A39C8996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БЩИЕ ОСНОВЫ МЕНЕДЖМЕНТ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68000" y="2204640"/>
            <a:ext cx="8496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1. Введение в менеджмент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2. Эволюция и основные теории менеджмент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3. Основы менеджмента в Украин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4. Системный подход в менеджмент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5. Управляющая и управляемая подсистемы в здоровоохорони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6. Роль управления в здравоохранении Украи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еоклассическая школа управления (или школа движения за гуманные отношения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зникла как реакция на недостатки классического подхода к управлению, откуда и взяла свое название. Две предыдущие школы мало учитывали социально-психологические и эмоциональные потребности человека в процессе производства и управления. Но "тейлоризм наоборот", когда созданием только положительного психологического климата пытались достичь высокой производительности тоже большей эффективности не принес. Однако, следует отметить такие ценные наработки, как создание соответствующих психо-физиологических и эргономических условий труда, разработка мероприятий, направленных на сохранение здоровья, исследования мотивационных характеристик люд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4"/>
          <p:cNvGrpSpPr/>
          <p:nvPr/>
        </p:nvGrpSpPr>
        <p:grpSpPr>
          <a:xfrm>
            <a:off x="468360" y="620640"/>
            <a:ext cx="8064360" cy="5761080"/>
            <a:chOff x="468360" y="620640"/>
            <a:chExt cx="8064360" cy="5761080"/>
          </a:xfrm>
        </p:grpSpPr>
        <p:sp>
          <p:nvSpPr>
            <p:cNvPr id="147" name="Text Box 5"/>
            <p:cNvSpPr/>
            <p:nvPr/>
          </p:nvSpPr>
          <p:spPr>
            <a:xfrm>
              <a:off x="468360" y="620640"/>
              <a:ext cx="8064360" cy="576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Tahoma"/>
                </a:rPr>
                <a:t>Елтон Мейо (1880 – 1947)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Американский социолог и психолог, один из основателей теории "человеческих отношений", положенных в основу психологических аспектов современного менеджмента. Основные тезисы Мейо: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just">
                <a:buClr>
                  <a:srgbClr val="0000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Люди в основном мотивируются социальными потребностями и ощущают свою индивидуальность благодаря своим отношениям с другими людьми;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just">
                <a:buClr>
                  <a:srgbClr val="0000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в результате рационализации процесса труда сама работа потеряла привлекательность и люди ищут удовлетворения в социальных взаимоотношениях;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just">
                <a:buClr>
                  <a:srgbClr val="0000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люди более чувствительны к социальному влиянию группы равных им людей, чем к побуждениям и средств контроля, используемых руководителями;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just">
                <a:buClr>
                  <a:srgbClr val="0000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рабочий выполнит распоряжение руководителя, если последний сможет удовлетворить социальные потребности своих подчиненных и их желания быть понятными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AutoShape 6"/>
            <p:cNvSpPr/>
            <p:nvPr/>
          </p:nvSpPr>
          <p:spPr>
            <a:xfrm>
              <a:off x="951840" y="780480"/>
              <a:ext cx="3225600" cy="799920"/>
            </a:xfrm>
            <a:custGeom>
              <a:avLst/>
              <a:gdLst>
                <a:gd name="textAreaLeft" fmla="*/ 806400 w 3225600"/>
                <a:gd name="textAreaRight" fmla="*/ 2419200 w 3225600"/>
                <a:gd name="textAreaTop" fmla="*/ 99720 h 799920"/>
                <a:gd name="textAreaBottom" fmla="*/ 800280 h 79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Значительные</a:t>
              </a:r>
              <a:br>
                <a:rPr sz="1400"/>
              </a:b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личности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веденческая школа (школа поведенческих наук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зникла в 50-е годы, как видоизменение неоклассической школы, в результате значительного развития психологии, социологии и соционики, а также совершенствование методов изучения поведения людей. Выдающимися представителями этой школы были Крис Арджирис, Ренсис Лайнкерт, Дуглас Мак-Грегор, Фредерик Герцбер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4"/>
          <p:cNvGrpSpPr/>
          <p:nvPr/>
        </p:nvGrpSpPr>
        <p:grpSpPr>
          <a:xfrm>
            <a:off x="324000" y="549360"/>
            <a:ext cx="8280360" cy="5471640"/>
            <a:chOff x="324000" y="549360"/>
            <a:chExt cx="8280360" cy="5471640"/>
          </a:xfrm>
        </p:grpSpPr>
        <p:sp>
          <p:nvSpPr>
            <p:cNvPr id="154" name="Text Box 5"/>
            <p:cNvSpPr/>
            <p:nvPr/>
          </p:nvSpPr>
          <p:spPr>
            <a:xfrm>
              <a:off x="324000" y="572760"/>
              <a:ext cx="8280360" cy="544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Дэвид Мак Грегор</a:t>
              </a:r>
              <a:br>
                <a:rPr sz="1800"/>
              </a:b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Американский социолог, автор теории "X" и "В". Теория X (более авторитарная) сводится к тому, что среднестатистический рабочий ленив, глуп, старается избегать работы, через который необходимо контролировать, принуждать, побуждать, направлять, пугать наказаниями, чтобы он работал для интересов организации. Такой руководитель нечестолюбний, не стремится ни к ответственности, ни к управлению, беспокоится преимущественно только о своей безопасности.</a:t>
              </a:r>
              <a:br>
                <a:rPr sz="1800"/>
              </a:b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Теория У (более демократична), напротив, сводится к тому, что рабочий инициативный, энергичный и честолюбивый, стремится к успеху собственного и организации, охотно берет на себя ответственность. Руководство должно доверять такому рабочему, поручать ему творческую работу, допускать определенную свободу действий.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AutoShape 6"/>
            <p:cNvSpPr/>
            <p:nvPr/>
          </p:nvSpPr>
          <p:spPr>
            <a:xfrm>
              <a:off x="500040" y="549360"/>
              <a:ext cx="2818800" cy="680760"/>
            </a:xfrm>
            <a:custGeom>
              <a:avLst/>
              <a:gdLst>
                <a:gd name="textAreaLeft" fmla="*/ 704520 w 2818800"/>
                <a:gd name="textAreaRight" fmla="*/ 2114280 w 2818800"/>
                <a:gd name="textAreaTop" fmla="*/ 84960 h 680760"/>
                <a:gd name="textAreaBottom" fmla="*/ 681120 h 68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значительные</a:t>
              </a:r>
              <a:br>
                <a:rPr sz="1400"/>
              </a:b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личности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Школа системного управления (современная фаза)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современного периода исследования управления характерен широкий связь с такими науками как математика, статистика, компьютерные технологии и т.д. Количественные методы исследования в управлении завоевывают все более широкие территории. Преимуществом количественных методов является замена словесных выражений математическими моделями, выражениями и количественными значениями. Данный подход дал зеленую улицу внедрения компьютерного анализа в сферу управл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овременные концепции менеджмент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цессный подход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стемный подход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туационный подхо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Процессный подхо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первые это понятие было введено сторонниками школы административного управления, которые описывали функции менеджера, но эти функции они описывали обособленно друг от друга, а процессный подход рассматривает функции управления в тесной взаимосвязи. Функции управления не является стабильно определенными и поныне, каждый исследователь приводит свой их набор и считает его наиболее целесообразным. Процесс управления по Файолю насчитывает пять основных функций: предвидение, планирование, организация, распоряжение и контрол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Системный подхо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управлении основывается на теории систем. Суть системного подхода заключается в том, что любая проблема рассматривается как система и разлагается на составные части до тех пор, пока не вступит простого, элементарного ви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Управленческие систем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сложные, открытые системы (характеристика их будет дана далее), которые работают по принципу действия "вход" - "преобразования" - "выход". Поэтому подходы каждой предыдущей школы, которые сосредоточили свое внимание лишь на отдельных подсистемах или элементах системы управления, можно использовать лишь в ограниченных условиях и на определенном уровне системы управл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Ситуационный подхо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исключает взглядов предыдущих школ, но вместе с тем требует применения специальных приемов для достижения целей организации. В основе ситуационного подхода лежит положение, что любая организация должна быть структурированной, однако построение этой структуры зависит от ситуации, внешней и внутренней ее сре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4"/>
          <p:cNvSpPr txBox="1"/>
          <p:nvPr/>
        </p:nvSpPr>
        <p:spPr>
          <a:xfrm>
            <a:off x="395280" y="549360"/>
            <a:ext cx="8353440" cy="42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неджмент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является одновременно наукой,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кусством и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актикой управления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62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актическое применение ситуационного подхода заключается в том, что менеджер должен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ладать эффективными средствами профессионального управл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ильно понимать и трактовать ситуацию, которая складывается и уметь определять приоритет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вязывать конкретные приемы с конкретными ситуациями, обеспечивая достижение цели организаци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Теория ситуационной обусловленност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тверждает, что бюрократическая форма организации эффективнее в относительно простом и стабильном окружении, а более "органическое" форма организации будет эффективной в сложном и динамичном среде, когда в работе участвует значительная доля специалистов. Более органическая организационная форма способствует расширению круга участников процесса, в ней делается больший расчет на косвенное распространение информации и на такие механизмы координации, которые будут объединять между собой людей производственные подразделения и результаты, будут более рентабельными и эффективны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Теория зависимости от ресурс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черкивает важность способности организации к обеспечению необходимых ресурсов из окружающей среды, если организация хочет выжить. Те подразделения организации, которые будут иметь более легкий и лучший доступ к ключевым внешним ресурсам, пользоваться большей властью и влиянием. Хотя организации и хотят сохранять самостоятельность, они все же признают необходимость формирования определенных коалиций или сетей с целью аккумулирования ресурсов и уменьшения затрат при выполнении соглаш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Концепция стратегического управл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продолжение теории зависимости от ресурсов подчеркивает умении разместить свою организацию в отношении внешнего окружения так, чтобы достичь своей цели и обеспечить выживание. Эта концепция пытается объединить силы окружающей среды, внутреннее строение организации и процессы, которые в ней происходят, со стратегией организации. Руководители и члены организации могут по своему усмотрению выбирать стратегию и структуры, которые лучше будут соответствовать требованиям окружения и повышать производительность труда в организ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Теория популяционной эколог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казывает, что окружение "отбирает" для выживания отдельные виды организаций. Опираясь на теорию естественного отбора из биологии, они основное внимание сосредотачивают на определенной популяции организаций, а не на отдельных организациях. То, добьется успеха конкретная организация, зависит от ее местонахождения в отношении популяции конкурентов и от общего расположения внешних сил, влияющих на эту популяцию. Способность руководителей успешно влиять на свое окружение, по данной теории, относительно невели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Институциональная теор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тверждает, что внешняя среда, в которой функционируют организации, имеет свои нормы, правила и выдвигает требования, а потому, чтобы быть узаконенными и получать поддержку, организации должны соответствовать этим требованиям, нормам и правила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Tahoma"/>
              </a:rPr>
              <a:t>В 1984 году Уильям Оучи предложил дифференциацию особенностей управления японских и американских организаций, которая заключалась в следующем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410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Японские организа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жизненный най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степенное оценки и продвиж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еспециализированная деятель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онкие механизмы контрол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оллективное принятие реше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оллективная ответствен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427280" y="1905120"/>
            <a:ext cx="453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ahoma"/>
              </a:rPr>
              <a:t>Американские организа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ратковременный най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ыстрое оценки и продвиж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пециализированная деятель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Формальные механизмы контрол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ндивидуальное принятие решен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ндивидуальная ответствен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Tahoma"/>
              </a:rPr>
              <a:t>10 качеств руководителя, которые имеют определенную ценность и для украинских руководителей (по В. Терещенко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99ff"/>
                </a:solidFill>
                <a:latin typeface="Tahoma"/>
              </a:rPr>
              <a:t>1) "Будь руководителем, а не погонщиком"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99ff"/>
                </a:solidFill>
                <a:latin typeface="Tahoma"/>
              </a:rPr>
              <a:t>2) уверенность в себ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99ff"/>
                </a:solidFill>
                <a:latin typeface="Tahoma"/>
              </a:rPr>
              <a:t>3) строгость и требовательнос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99ff"/>
                </a:solidFill>
                <a:latin typeface="Tahoma"/>
              </a:rPr>
              <a:t>4) "Критикуй положительно"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99ff"/>
                </a:solidFill>
                <a:latin typeface="Tahoma"/>
              </a:rPr>
              <a:t>5) умение поощрять и наказыва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99ff"/>
                </a:solidFill>
                <a:latin typeface="Tahoma"/>
              </a:rPr>
              <a:t>6) умение ценить время подчиненны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99ff"/>
                </a:solidFill>
                <a:latin typeface="Tahoma"/>
              </a:rPr>
              <a:t>7) вежливое и доброжелательное отношение к подчиненны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99ff"/>
                </a:solidFill>
                <a:latin typeface="Tahoma"/>
              </a:rPr>
              <a:t>8) умение и молча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99ff"/>
                </a:solidFill>
                <a:latin typeface="Tahoma"/>
              </a:rPr>
              <a:t>9) чувство юмор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99ff"/>
                </a:solidFill>
                <a:latin typeface="Tahoma"/>
              </a:rPr>
              <a:t>10) "Интересуйся, изучай своих подчиненных"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Tahoma"/>
              </a:rPr>
              <a:t>Управление такой сложной системой, как здравоохранение требует системного подхода и использования системного анализа. Основными направлениями их применения в здравоохранении являютс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2276280"/>
            <a:ext cx="91440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ff"/>
                </a:solidFill>
                <a:latin typeface="Tahoma"/>
              </a:rPr>
              <a:t>Разработка и реализация целевых комплексных программ, направленных на решение сложных пробле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ff"/>
                </a:solidFill>
                <a:latin typeface="Tahoma"/>
              </a:rPr>
              <a:t>Реорганизация системы медицинской помощи на рыночных принципах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ff"/>
                </a:solidFill>
                <a:latin typeface="Tahoma"/>
              </a:rPr>
              <a:t>Разработка математических моделей системы медицинской помощи с целью прогнозирования ее развит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ff"/>
                </a:solidFill>
                <a:latin typeface="Tahoma"/>
              </a:rPr>
              <a:t>Моделирование взаимодействия подразделений системы и систем между собой с целью определения так называемых слабых мест и дальнейшей оптимизации рабо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авными способами организации и управления системой здравоохранения на сегодня являютс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управления рынком или сетью услуг, ориентированное на удовлетворение потребностей насел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управления медицинским обслуживанием с выходом за пределы организац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активное управление качеством и постоянное совершенствование рабо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Менеджмент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умение достигать поставленных целей, используя труд, интеллект и мотивы поведения других люд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50560" y="291960"/>
            <a:ext cx="8435880" cy="608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99ff"/>
                </a:solidFill>
                <a:latin typeface="Tahoma"/>
              </a:rPr>
              <a:t>Система - это совокупность элементов, взаимодействуя между собой и внешней средой, порождают новые свойства и признаки, не присущие ни одному из этих элементов, но характерные для системы в целом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истемный подхо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научная методология, которая является средством анализа и синтеза при изучении сложных целостных систем, суть которой заключается в том, что явления и процессы, происходящие в природе, обществе рассматриваются как целостные системы, состоящие из подсистем, компонентов или элемен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истемный анализ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метод решения сложных комплексных проблем, если удовлетворительный результат не может быть получен с помощью одной произвольной дисциплины или даже совокупности методов других дисципли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облема с точки зрения теории систе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4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несоответствие между желаемым (необходимым) и действительным положением де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истема здоровоохороны с точки зрения теории систе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сумма всех составляющих ее элементов, действующих на одной территории или населенном пункте, включая амбулаторно-поликлинические, стационарные и другие учреждения, их взаимосвязь, направленный на удовлетворение потребностей населения, в лечебно-профилактическом помощ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собенности системы здоровоохорон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многоцелевая и многоуровневая система с иерархической системой управл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е элементы подпадают под случайные неконтролируемые воздейств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арактер внутрисистемных связей сложный и трудно уловимы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ама система носит вероятностный, а не детерминированный характе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 rot="16200000">
            <a:off x="-1841040" y="2856600"/>
            <a:ext cx="490392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Схема управління охороною здоров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я міста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971640" y="404640"/>
            <a:ext cx="7560720" cy="6453360"/>
            <a:chOff x="971640" y="404640"/>
            <a:chExt cx="7560720" cy="6453360"/>
          </a:xfrm>
        </p:grpSpPr>
        <p:sp>
          <p:nvSpPr>
            <p:cNvPr id="225" name="Line 5"/>
            <p:cNvSpPr/>
            <p:nvPr/>
          </p:nvSpPr>
          <p:spPr>
            <a:xfrm flipH="1">
              <a:off x="3152160" y="1215720"/>
              <a:ext cx="1017720" cy="282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Line 6"/>
            <p:cNvSpPr/>
            <p:nvPr/>
          </p:nvSpPr>
          <p:spPr>
            <a:xfrm flipH="1">
              <a:off x="3152160" y="1220040"/>
              <a:ext cx="1017720" cy="38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Line 7"/>
            <p:cNvSpPr/>
            <p:nvPr/>
          </p:nvSpPr>
          <p:spPr>
            <a:xfrm flipH="1">
              <a:off x="3152160" y="1220040"/>
              <a:ext cx="1017720" cy="45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Line 8"/>
            <p:cNvSpPr/>
            <p:nvPr/>
          </p:nvSpPr>
          <p:spPr>
            <a:xfrm flipV="1">
              <a:off x="5447520" y="807480"/>
              <a:ext cx="872280" cy="22856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Line 9"/>
            <p:cNvSpPr/>
            <p:nvPr/>
          </p:nvSpPr>
          <p:spPr>
            <a:xfrm flipV="1">
              <a:off x="5447520" y="1479600"/>
              <a:ext cx="872280" cy="1747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30" name="Group 10"/>
            <p:cNvGrpSpPr/>
            <p:nvPr/>
          </p:nvGrpSpPr>
          <p:grpSpPr>
            <a:xfrm>
              <a:off x="971640" y="404640"/>
              <a:ext cx="7560720" cy="6453360"/>
              <a:chOff x="971640" y="404640"/>
              <a:chExt cx="7560720" cy="6453360"/>
            </a:xfrm>
          </p:grpSpPr>
          <p:sp>
            <p:nvSpPr>
              <p:cNvPr id="231" name="Text Box 11"/>
              <p:cNvSpPr/>
              <p:nvPr/>
            </p:nvSpPr>
            <p:spPr>
              <a:xfrm>
                <a:off x="971640" y="40464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Областные лечебно-профилактические учреждения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Text Box 12"/>
              <p:cNvSpPr/>
              <p:nvPr/>
            </p:nvSpPr>
            <p:spPr>
              <a:xfrm>
                <a:off x="971640" y="1076760"/>
                <a:ext cx="2180880" cy="403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2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Центр "Здоровье"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Text Box 13"/>
              <p:cNvSpPr/>
              <p:nvPr/>
            </p:nvSpPr>
            <p:spPr>
              <a:xfrm>
                <a:off x="971640" y="161460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Областная станция переливания крови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Text Box 14"/>
              <p:cNvSpPr/>
              <p:nvPr/>
            </p:nvSpPr>
            <p:spPr>
              <a:xfrm>
                <a:off x="971640" y="215244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Областное бюро судмедэкспертизы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Text Box 15"/>
              <p:cNvSpPr/>
              <p:nvPr/>
            </p:nvSpPr>
            <p:spPr>
              <a:xfrm>
                <a:off x="971640" y="269028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200" spc="-1" strike="noStrike">
                    <a:solidFill>
                      <a:srgbClr val="ffffff"/>
                    </a:solidFill>
                    <a:latin typeface="Tahoma"/>
                  </a:rPr>
                  <a:t>Обласне патанатомічне бюро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Text Box 16"/>
              <p:cNvSpPr/>
              <p:nvPr/>
            </p:nvSpPr>
            <p:spPr>
              <a:xfrm>
                <a:off x="971640" y="322776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Областной дом ребенка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Text Box 17"/>
              <p:cNvSpPr/>
              <p:nvPr/>
            </p:nvSpPr>
            <p:spPr>
              <a:xfrm>
                <a:off x="971640" y="376560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200" spc="-1" strike="noStrike">
                    <a:solidFill>
                      <a:srgbClr val="ffffff"/>
                    </a:solidFill>
                    <a:latin typeface="Tahoma"/>
                  </a:rPr>
                  <a:t>В/о “Фармация”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Text Box 18"/>
              <p:cNvSpPr/>
              <p:nvPr/>
            </p:nvSpPr>
            <p:spPr>
              <a:xfrm>
                <a:off x="971640" y="430344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200" spc="-1" strike="noStrike">
                    <a:solidFill>
                      <a:srgbClr val="ffffff"/>
                    </a:solidFill>
                    <a:latin typeface="Tahoma"/>
                  </a:rPr>
                  <a:t>НВО “Медтехника”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Text Box 19"/>
              <p:cNvSpPr/>
              <p:nvPr/>
            </p:nvSpPr>
            <p:spPr>
              <a:xfrm>
                <a:off x="971640" y="484128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200" spc="-1" strike="noStrike">
                    <a:solidFill>
                      <a:srgbClr val="ffffff"/>
                    </a:solidFill>
                    <a:latin typeface="Tahoma"/>
                  </a:rPr>
                  <a:t>Санепидслужба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Text Box 20"/>
              <p:cNvSpPr/>
              <p:nvPr/>
            </p:nvSpPr>
            <p:spPr>
              <a:xfrm>
                <a:off x="971640" y="537912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200" spc="-1" strike="noStrike">
                    <a:solidFill>
                      <a:srgbClr val="ffffff"/>
                    </a:solidFill>
                    <a:latin typeface="Tahoma"/>
                  </a:rPr>
                  <a:t>Дезстанция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Text Box 21"/>
              <p:cNvSpPr/>
              <p:nvPr/>
            </p:nvSpPr>
            <p:spPr>
              <a:xfrm>
                <a:off x="6351480" y="40464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Центральные районные больницы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Text Box 22"/>
              <p:cNvSpPr/>
              <p:nvPr/>
            </p:nvSpPr>
            <p:spPr>
              <a:xfrm>
                <a:off x="6351480" y="107676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Управление образования города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Text Box 23"/>
              <p:cNvSpPr/>
              <p:nvPr/>
            </p:nvSpPr>
            <p:spPr>
              <a:xfrm>
                <a:off x="6351480" y="242100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Общественные и религиозные организации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Text Box 24"/>
              <p:cNvSpPr/>
              <p:nvPr/>
            </p:nvSpPr>
            <p:spPr>
              <a:xfrm>
                <a:off x="6351480" y="2958840"/>
                <a:ext cx="2180880" cy="806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Бизнес-структуры в сфере здравоохранения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Text Box 25"/>
              <p:cNvSpPr/>
              <p:nvPr/>
            </p:nvSpPr>
            <p:spPr>
              <a:xfrm>
                <a:off x="6351480" y="174888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Средства массовой информации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Text Box 26"/>
              <p:cNvSpPr/>
              <p:nvPr/>
            </p:nvSpPr>
            <p:spPr>
              <a:xfrm>
                <a:off x="6351480" y="3900240"/>
                <a:ext cx="2180880" cy="80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Индивидуальная трудовая деятельности в сфере здравоохранения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Text Box 27"/>
              <p:cNvSpPr/>
              <p:nvPr/>
            </p:nvSpPr>
            <p:spPr>
              <a:xfrm>
                <a:off x="6351480" y="4841280"/>
                <a:ext cx="2180880" cy="672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Аптеки различной формы собственности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Text Box 28"/>
              <p:cNvSpPr/>
              <p:nvPr/>
            </p:nvSpPr>
            <p:spPr>
              <a:xfrm>
                <a:off x="6351480" y="5513760"/>
                <a:ext cx="2180880" cy="671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Ведомственные учреждения медицинской помощи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Text Box 29"/>
              <p:cNvSpPr/>
              <p:nvPr/>
            </p:nvSpPr>
            <p:spPr>
              <a:xfrm>
                <a:off x="6351480" y="6454800"/>
                <a:ext cx="2180880" cy="403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Службы МВД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Text Box 30"/>
              <p:cNvSpPr/>
              <p:nvPr/>
            </p:nvSpPr>
            <p:spPr>
              <a:xfrm>
                <a:off x="4170240" y="1076760"/>
                <a:ext cx="1308600" cy="941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Управление здравоохранения области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Text Box 31"/>
              <p:cNvSpPr/>
              <p:nvPr/>
            </p:nvSpPr>
            <p:spPr>
              <a:xfrm>
                <a:off x="4170240" y="3093480"/>
                <a:ext cx="1308600" cy="941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Управление здравоохранения области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Text Box 32"/>
              <p:cNvSpPr/>
              <p:nvPr/>
            </p:nvSpPr>
            <p:spPr>
              <a:xfrm>
                <a:off x="4170240" y="4707000"/>
                <a:ext cx="1308600" cy="941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Управление здравоохранения области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Line 33"/>
              <p:cNvSpPr/>
              <p:nvPr/>
            </p:nvSpPr>
            <p:spPr>
              <a:xfrm>
                <a:off x="4897440" y="2017800"/>
                <a:ext cx="0" cy="107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Line 34"/>
              <p:cNvSpPr/>
              <p:nvPr/>
            </p:nvSpPr>
            <p:spPr>
              <a:xfrm>
                <a:off x="4897440" y="4034520"/>
                <a:ext cx="0" cy="67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Line 35"/>
              <p:cNvSpPr/>
              <p:nvPr/>
            </p:nvSpPr>
            <p:spPr>
              <a:xfrm flipH="1" flipV="1">
                <a:off x="3152160" y="673200"/>
                <a:ext cx="1017720" cy="53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Line 36"/>
              <p:cNvSpPr/>
              <p:nvPr/>
            </p:nvSpPr>
            <p:spPr>
              <a:xfrm flipV="1">
                <a:off x="5479200" y="673200"/>
                <a:ext cx="872280" cy="53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Line 37"/>
              <p:cNvSpPr/>
              <p:nvPr/>
            </p:nvSpPr>
            <p:spPr>
              <a:xfrm flipH="1">
                <a:off x="3152160" y="1211400"/>
                <a:ext cx="101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Line 38"/>
              <p:cNvSpPr/>
              <p:nvPr/>
            </p:nvSpPr>
            <p:spPr>
              <a:xfrm flipH="1">
                <a:off x="3152160" y="1211400"/>
                <a:ext cx="1017720" cy="53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Line 39"/>
              <p:cNvSpPr/>
              <p:nvPr/>
            </p:nvSpPr>
            <p:spPr>
              <a:xfrm flipH="1">
                <a:off x="3152160" y="1211400"/>
                <a:ext cx="1017720" cy="120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Line 40"/>
              <p:cNvSpPr/>
              <p:nvPr/>
            </p:nvSpPr>
            <p:spPr>
              <a:xfrm flipH="1">
                <a:off x="3152160" y="1211400"/>
                <a:ext cx="1017720" cy="174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Line 41"/>
              <p:cNvSpPr/>
              <p:nvPr/>
            </p:nvSpPr>
            <p:spPr>
              <a:xfrm flipH="1">
                <a:off x="3152160" y="1211400"/>
                <a:ext cx="1017720" cy="228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Line 42"/>
              <p:cNvSpPr/>
              <p:nvPr/>
            </p:nvSpPr>
            <p:spPr>
              <a:xfrm flipH="1">
                <a:off x="3152160" y="1211400"/>
                <a:ext cx="1017720" cy="336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Line 43"/>
              <p:cNvSpPr/>
              <p:nvPr/>
            </p:nvSpPr>
            <p:spPr>
              <a:xfrm flipV="1">
                <a:off x="5479200" y="2152080"/>
                <a:ext cx="872280" cy="12099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Line 44"/>
              <p:cNvSpPr/>
              <p:nvPr/>
            </p:nvSpPr>
            <p:spPr>
              <a:xfrm flipV="1">
                <a:off x="5479200" y="2690280"/>
                <a:ext cx="872280" cy="80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Line 45"/>
              <p:cNvSpPr/>
              <p:nvPr/>
            </p:nvSpPr>
            <p:spPr>
              <a:xfrm flipV="1">
                <a:off x="5479200" y="3362400"/>
                <a:ext cx="872280" cy="2685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Line 46"/>
              <p:cNvSpPr/>
              <p:nvPr/>
            </p:nvSpPr>
            <p:spPr>
              <a:xfrm>
                <a:off x="5479200" y="3765600"/>
                <a:ext cx="872280" cy="40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Line 47"/>
              <p:cNvSpPr/>
              <p:nvPr/>
            </p:nvSpPr>
            <p:spPr>
              <a:xfrm>
                <a:off x="5479200" y="3900240"/>
                <a:ext cx="872280" cy="12096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Line 48"/>
              <p:cNvSpPr/>
              <p:nvPr/>
            </p:nvSpPr>
            <p:spPr>
              <a:xfrm>
                <a:off x="5479200" y="4034520"/>
                <a:ext cx="872280" cy="16131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Line 49"/>
              <p:cNvSpPr/>
              <p:nvPr/>
            </p:nvSpPr>
            <p:spPr>
              <a:xfrm>
                <a:off x="5479200" y="4034520"/>
                <a:ext cx="872280" cy="25545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Line 50"/>
              <p:cNvSpPr/>
              <p:nvPr/>
            </p:nvSpPr>
            <p:spPr>
              <a:xfrm flipH="1" flipV="1">
                <a:off x="3152160" y="807480"/>
                <a:ext cx="1017720" cy="228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Line 51"/>
              <p:cNvSpPr/>
              <p:nvPr/>
            </p:nvSpPr>
            <p:spPr>
              <a:xfrm flipH="1" flipV="1">
                <a:off x="3152160" y="1345680"/>
                <a:ext cx="1017720" cy="201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Line 52"/>
              <p:cNvSpPr/>
              <p:nvPr/>
            </p:nvSpPr>
            <p:spPr>
              <a:xfrm flipH="1" flipV="1">
                <a:off x="3152160" y="2017800"/>
                <a:ext cx="1017720" cy="147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Line 53"/>
              <p:cNvSpPr/>
              <p:nvPr/>
            </p:nvSpPr>
            <p:spPr>
              <a:xfrm>
                <a:off x="3152520" y="3093480"/>
                <a:ext cx="1017720" cy="53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Line 54"/>
              <p:cNvSpPr/>
              <p:nvPr/>
            </p:nvSpPr>
            <p:spPr>
              <a:xfrm>
                <a:off x="3152520" y="3631320"/>
                <a:ext cx="1017720" cy="13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Line 55"/>
              <p:cNvSpPr/>
              <p:nvPr/>
            </p:nvSpPr>
            <p:spPr>
              <a:xfrm flipH="1">
                <a:off x="3152160" y="3900240"/>
                <a:ext cx="1017720" cy="26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Line 56"/>
              <p:cNvSpPr/>
              <p:nvPr/>
            </p:nvSpPr>
            <p:spPr>
              <a:xfrm flipH="1">
                <a:off x="3152160" y="4034520"/>
                <a:ext cx="1017720" cy="67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Line 57"/>
              <p:cNvSpPr/>
              <p:nvPr/>
            </p:nvSpPr>
            <p:spPr>
              <a:xfrm flipH="1">
                <a:off x="3152160" y="4034520"/>
                <a:ext cx="1017720" cy="107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Line 58"/>
              <p:cNvSpPr/>
              <p:nvPr/>
            </p:nvSpPr>
            <p:spPr>
              <a:xfrm flipH="1">
                <a:off x="3152160" y="4034520"/>
                <a:ext cx="1163160" cy="147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j0212674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282" name="WordArt 9"/>
          <p:cNvSpPr txBox="1"/>
          <p:nvPr/>
        </p:nvSpPr>
        <p:spPr>
          <a:xfrm>
            <a:off x="468360" y="549360"/>
            <a:ext cx="820908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8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4716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4"/>
          <p:cNvGrpSpPr/>
          <p:nvPr/>
        </p:nvGrpSpPr>
        <p:grpSpPr>
          <a:xfrm>
            <a:off x="611280" y="260280"/>
            <a:ext cx="8137080" cy="6337440"/>
            <a:chOff x="611280" y="260280"/>
            <a:chExt cx="8137080" cy="6337440"/>
          </a:xfrm>
        </p:grpSpPr>
        <p:sp>
          <p:nvSpPr>
            <p:cNvPr id="99" name="Text Box 5"/>
            <p:cNvSpPr/>
            <p:nvPr/>
          </p:nvSpPr>
          <p:spPr>
            <a:xfrm>
              <a:off x="611280" y="260280"/>
              <a:ext cx="1479240" cy="73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Передфаза</a:t>
              </a:r>
              <a:br>
                <a:rPr sz="1400"/>
              </a:b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До 1900 г.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Text Box 6"/>
            <p:cNvSpPr/>
            <p:nvPr/>
          </p:nvSpPr>
          <p:spPr>
            <a:xfrm>
              <a:off x="1202760" y="788400"/>
              <a:ext cx="3254760" cy="31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Школа научного управлени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Text Box 7"/>
            <p:cNvSpPr/>
            <p:nvPr/>
          </p:nvSpPr>
          <p:spPr>
            <a:xfrm>
              <a:off x="1202760" y="1105200"/>
              <a:ext cx="3254760" cy="633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Tahoma"/>
                </a:rPr>
                <a:t>1900- 1930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Tahoma"/>
                </a:rPr>
                <a:t>США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Text Box 8"/>
            <p:cNvSpPr/>
            <p:nvPr/>
          </p:nvSpPr>
          <p:spPr>
            <a:xfrm>
              <a:off x="1646640" y="1633320"/>
              <a:ext cx="3550680" cy="31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Школа административного управлени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Text Box 9"/>
            <p:cNvSpPr/>
            <p:nvPr/>
          </p:nvSpPr>
          <p:spPr>
            <a:xfrm>
              <a:off x="1646640" y="1950120"/>
              <a:ext cx="3550680" cy="633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1900 - 1930</a:t>
              </a:r>
              <a:br>
                <a:rPr sz="1400"/>
              </a:b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Германия, Франция, Англи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Oval 10"/>
            <p:cNvSpPr/>
            <p:nvPr/>
          </p:nvSpPr>
          <p:spPr>
            <a:xfrm>
              <a:off x="5493600" y="1105200"/>
              <a:ext cx="3254760" cy="1056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Поведенческая школа</a:t>
              </a:r>
              <a:br>
                <a:rPr sz="1400"/>
              </a:b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(Школа поведенческих наук)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Text Box 11"/>
            <p:cNvSpPr/>
            <p:nvPr/>
          </p:nvSpPr>
          <p:spPr>
            <a:xfrm>
              <a:off x="4457880" y="2478240"/>
              <a:ext cx="2958840" cy="31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Tahoma"/>
                </a:rPr>
                <a:t>Неоклассическая школа управления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Text Box 12"/>
            <p:cNvSpPr/>
            <p:nvPr/>
          </p:nvSpPr>
          <p:spPr>
            <a:xfrm>
              <a:off x="4457880" y="2689560"/>
              <a:ext cx="2958840" cy="52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ahoma"/>
                </a:rPr>
                <a:t>1930 –1950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ahoma"/>
                </a:rPr>
                <a:t>США, Япон</a:t>
              </a: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и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Text Box 13"/>
            <p:cNvSpPr/>
            <p:nvPr/>
          </p:nvSpPr>
          <p:spPr>
            <a:xfrm>
              <a:off x="5493600" y="3111840"/>
              <a:ext cx="2958840" cy="42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Школа системного управлени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Text Box 14"/>
            <p:cNvSpPr/>
            <p:nvPr/>
          </p:nvSpPr>
          <p:spPr>
            <a:xfrm>
              <a:off x="5493600" y="3429000"/>
              <a:ext cx="2958840" cy="42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ahoma"/>
                </a:rPr>
                <a:t>З 1940 и до сегодн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AutoShape 15"/>
            <p:cNvSpPr/>
            <p:nvPr/>
          </p:nvSpPr>
          <p:spPr>
            <a:xfrm>
              <a:off x="2534760" y="3323160"/>
              <a:ext cx="2071080" cy="3168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2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ahoma"/>
                </a:rPr>
                <a:t>Професиональный подход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AutoShape 16"/>
            <p:cNvSpPr/>
            <p:nvPr/>
          </p:nvSpPr>
          <p:spPr>
            <a:xfrm>
              <a:off x="2090520" y="3745800"/>
              <a:ext cx="2071440" cy="3168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Системный подход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" name="AutoShape 17"/>
            <p:cNvSpPr/>
            <p:nvPr/>
          </p:nvSpPr>
          <p:spPr>
            <a:xfrm>
              <a:off x="2682360" y="4168440"/>
              <a:ext cx="2071440" cy="3168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Ситуационный подход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AutoShape 18"/>
            <p:cNvSpPr/>
            <p:nvPr/>
          </p:nvSpPr>
          <p:spPr>
            <a:xfrm>
              <a:off x="1646640" y="4590720"/>
              <a:ext cx="3846960" cy="31680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ahoma"/>
                </a:rPr>
                <a:t>Теория ситуацыонной </a:t>
              </a: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обусловленности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AutoShape 19"/>
            <p:cNvSpPr/>
            <p:nvPr/>
          </p:nvSpPr>
          <p:spPr>
            <a:xfrm>
              <a:off x="1351080" y="5013360"/>
              <a:ext cx="3106800" cy="31680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Теория зависимости от ресурсов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AutoShape 20"/>
            <p:cNvSpPr/>
            <p:nvPr/>
          </p:nvSpPr>
          <p:spPr>
            <a:xfrm>
              <a:off x="1351080" y="5436000"/>
              <a:ext cx="3846600" cy="31680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Концепция стратегического управлени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AutoShape 21"/>
            <p:cNvSpPr/>
            <p:nvPr/>
          </p:nvSpPr>
          <p:spPr>
            <a:xfrm>
              <a:off x="2238480" y="5858280"/>
              <a:ext cx="2958840" cy="31680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Теория популяционной экологии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AutoShape 22"/>
            <p:cNvSpPr/>
            <p:nvPr/>
          </p:nvSpPr>
          <p:spPr>
            <a:xfrm>
              <a:off x="3274200" y="6280920"/>
              <a:ext cx="2958840" cy="31680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Институциональная теория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AutoShape 23"/>
            <p:cNvSpPr/>
            <p:nvPr/>
          </p:nvSpPr>
          <p:spPr>
            <a:xfrm rot="2081400">
              <a:off x="6233400" y="1844640"/>
              <a:ext cx="160200" cy="769680"/>
            </a:xfrm>
            <a:prstGeom prst="upArrow">
              <a:avLst>
                <a:gd name="adj1" fmla="val 50000"/>
                <a:gd name="adj2" fmla="val 12011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AutoShape 24"/>
            <p:cNvSpPr/>
            <p:nvPr/>
          </p:nvSpPr>
          <p:spPr>
            <a:xfrm>
              <a:off x="7121160" y="4696560"/>
              <a:ext cx="1479240" cy="633600"/>
            </a:xfrm>
            <a:prstGeom prst="flowChartPunchedCar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Современные теории менеджмента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AutoShape 25"/>
            <p:cNvSpPr/>
            <p:nvPr/>
          </p:nvSpPr>
          <p:spPr>
            <a:xfrm rot="12900000">
              <a:off x="7641000" y="3831840"/>
              <a:ext cx="147960" cy="950400"/>
            </a:xfrm>
            <a:prstGeom prst="upArrow">
              <a:avLst>
                <a:gd name="adj1" fmla="val 50000"/>
                <a:gd name="adj2" fmla="val 16058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Line 26"/>
            <p:cNvSpPr/>
            <p:nvPr/>
          </p:nvSpPr>
          <p:spPr>
            <a:xfrm flipH="1">
              <a:off x="4605840" y="3429000"/>
              <a:ext cx="88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Line 27"/>
            <p:cNvSpPr/>
            <p:nvPr/>
          </p:nvSpPr>
          <p:spPr>
            <a:xfrm flipH="1">
              <a:off x="4161600" y="3429000"/>
              <a:ext cx="1331640" cy="42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Line 28"/>
            <p:cNvSpPr/>
            <p:nvPr/>
          </p:nvSpPr>
          <p:spPr>
            <a:xfrm flipH="1">
              <a:off x="4753440" y="3429000"/>
              <a:ext cx="739800" cy="84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Line 29"/>
            <p:cNvSpPr/>
            <p:nvPr/>
          </p:nvSpPr>
          <p:spPr>
            <a:xfrm flipH="1" flipV="1">
              <a:off x="5493600" y="4801680"/>
              <a:ext cx="1627200" cy="21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Line 30"/>
            <p:cNvSpPr/>
            <p:nvPr/>
          </p:nvSpPr>
          <p:spPr>
            <a:xfrm flipH="1">
              <a:off x="4457880" y="5013360"/>
              <a:ext cx="2663280" cy="10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Line 31"/>
            <p:cNvSpPr/>
            <p:nvPr/>
          </p:nvSpPr>
          <p:spPr>
            <a:xfrm flipH="1">
              <a:off x="5197320" y="5013360"/>
              <a:ext cx="1923480" cy="52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Line 32"/>
            <p:cNvSpPr/>
            <p:nvPr/>
          </p:nvSpPr>
          <p:spPr>
            <a:xfrm flipH="1">
              <a:off x="5197320" y="5013360"/>
              <a:ext cx="1923480" cy="9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Line 33"/>
            <p:cNvSpPr/>
            <p:nvPr/>
          </p:nvSpPr>
          <p:spPr>
            <a:xfrm flipH="1">
              <a:off x="6085440" y="5013360"/>
              <a:ext cx="1035360" cy="126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8920" y="217440"/>
            <a:ext cx="9144000" cy="3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апы развития теории менеджмен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Передфаз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т период развития менеджмента совпадает с периодом домонополистического капитализма. Управление осуществлялось на базе практического опыта предпринимателей, который передавался из поколения в поколение. Многочисленные по объему организации были только в государственной, церковной и военной сферах. С них и начались первые ростки научного управления. Характерным для управления этого периода была иерархически пирамидальная построение организац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Школа научного управл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учила развитие в США в начале XX века. "Научное управление" ввел Ф. Тейло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состав школы научного управления вошли также исследования Г. Гантта и супруги Гилбрайтив. Последние разработали так называемый микрохронометром, который в сочетании с кинокамерой позволял определять, какие движения выполняются при определенных операциях и сколько времени занимает каждый из них. Тейлор, например, придирчиво измерял количество железной руды и угля, которое человек может поднять лопатой. Такая информация позволяла исследователям просматривать рабочие операции, чтобы удалить ненужные, непродуктивные движения, заменив их стандартными процедур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1042920" y="765000"/>
            <a:ext cx="6985080" cy="532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57200">
              <a:lnSpc>
                <a:spcPct val="111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Тейлор Фредерик Уинстон (1856-1915)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- Известный американский ученый и практик. Начинал работать учеником в механической мастерской. Впоследствии прошел все должностные ступени от младшего служащего до главного инженера крупного металлургического завода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Параллельно занимался научной деятельностью. Исследования Тейлора по проблемам научной организации производства стали первой попыткой создать отдельную науку управления. Можно считать, что его произведение "Научная организация труда" стал основой развития менеджменте в СЕЛА, а затем и в других странах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Тейлор основное внимание сосредоточивал на изучении с помощью наблюдения и хронометража движений рабочего, разработке рекомендаций по ликвидации непроизводительных затрат человеческой энергии и повышения эффективности труд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Tahoma"/>
              </a:rPr>
              <a:t>Школа административного управления (классическая школа)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зникла в 20 года. Выдающимися ее представителями были А. Файоль (Франция), Л. Урвик (Англия), Джеймс Д. Муни и А. К. Рейли (США), М. Вебер (Германия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тличие от школы научного управления, представители классической школы проблемы эффективности организации рассматривали в значительно более широком масштабе, определяя закономерности и общие характеристики эффективной организации. Они пытались найти универсальные принципы управления, которые бы позволили добиваться успеха любой организ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755640" y="836640"/>
            <a:ext cx="7704000" cy="54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Файоль Анри (1841-1925)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французский инженер и ученый. После окончания в 1860 году горной школы начал работать на крупном металлургическом объединении, где впоследствии стал генеральным директором. В этом объединении Файоль разработал и внедрил стройную систему управления производством, где определил основные административные функции, их назначение, основные 14 принципов административного управления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Основные теоретические выводы Файоля по проблемам совершенствования управления изложены в его труде "Общее и промышленное управление"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14:30:54Z</dcterms:created>
  <dc:creator>Home</dc:creator>
  <dc:description/>
  <dc:language>en-US</dc:language>
  <cp:lastModifiedBy>LEGION</cp:lastModifiedBy>
  <dcterms:modified xsi:type="dcterms:W3CDTF">2016-01-11T10:02:41Z</dcterms:modified>
  <cp:revision>18</cp:revision>
  <dc:subject/>
  <dc:title>Общие основы менеджмента</dc:title>
</cp:coreProperties>
</file>