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89E2-D594-4F05-B064-8FC5A3B5EC9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Е ОСНОВЫ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чески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вляется одновременно наук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сство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ой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вляется одновременно наукой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кусство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кой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зависимости от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популяционной эк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те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изн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епенн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нки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и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временный най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строе оценки и продв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механизмы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е 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ая ответ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Япо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анские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уверенность в себ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строгость и требов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"Критикуй положительно"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умение поощрять и наказыв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 умение ценить время подчине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 умение и молч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) чувство юмо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) "Будь руководителем, а не погонщиком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) уверенность в себе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) строгость и требовательнос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) "Критикуй положительно"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) умение поощрять и наказыв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) умение ценить время подчиненны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) умение и молчать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) чувство юмор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) "Интересуйся, изучай своих подчиненных"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’я міст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асибо за внимание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Спасибо за внимание!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тапы развития теор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ф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научн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Фредерик Уинстон (1856-1915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йоль Анри (1841-1925)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59CA-BFA3-41BF-8AB6-AA9B23D3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F308-FEB5-4F39-8F1B-E31B2B9C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C460-39A3-4C02-A8B4-EEFA9AA8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3547-7376-4248-8FA2-459FF89AA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B39B43-1BE2-40CE-8D95-D726C5E5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7C0902-33EA-477A-AFD8-7A4BC743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FA442-5708-455A-A861-D8FB0F9C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8BBB2D-9229-46C6-861F-F0ACC4162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AE3E8-CB07-4442-B37C-F5FE4526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34FF8-FC02-46C4-9016-63084F47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61881-77A5-47C1-A774-70A6585A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DCC-A4AB-4B70-9CE7-B4FF3EA1B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8D1D4-1EBD-41C0-A1A3-5C09140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E574F-4426-4D24-B3DD-2E32E0D1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4E1B49-DAE0-4343-A499-5A8380EF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F427F-7DFE-472F-88FE-C4A6DB382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493F3-F6D9-4BBE-876B-5940BA1C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7C6-00A7-44B9-8802-919354FD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7CF2-69D5-43E4-BB8E-730EF362F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965-4A07-44ED-832F-A7698824A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203-7279-4236-9D75-B95746D9F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8B8A-D002-475E-835C-4B8BA5893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A6E1-208C-4A55-91B7-E848475E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65D2-2578-48BD-904B-FAD78518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9199-7B1C-47EE-8542-3F7E539456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F9A1-4760-426E-B47F-431D9A8102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БЩИЕ ОСНОВЫ МЕНЕДЖМЕНТ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68000" y="2204640"/>
            <a:ext cx="8496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1. Введение в менеджмент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2. Эволюция и основные теории менеджмент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3. Основы менеджмента в Украин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4. Системный подход в менеджмент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5. Управляющая и управляемая подсистемы в здоровоохорон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6. Роль управления в здравоохранении Украин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классическая школа управления (или школа движения за гуманные отношен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как реакция на недостатки классического подхода к управлению, откуда и взяла свое название. Две предыдущие школы мало учитывали социально-психологические и эмоциональные потребности человека в процессе производства и управления. Но "тейлоризм наоборот", когда созданием только положительного психологического климата пытались достичь высокой производительности тоже большей эффективности не принес. Однако, следует отметить такие ценные наработки, как создание соответствующих психо-физиологических и эргономических условий труда, разработка мероприятий, направленных на сохранение здоровья, исследования мотивационных характеристик людей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4"/>
          <p:cNvGrpSpPr/>
          <p:nvPr/>
        </p:nvGrpSpPr>
        <p:grpSpPr>
          <a:xfrm>
            <a:off x="468360" y="620640"/>
            <a:ext cx="8064360" cy="5761080"/>
            <a:chOff x="468360" y="620640"/>
            <a:chExt cx="8064360" cy="5761080"/>
          </a:xfrm>
        </p:grpSpPr>
        <p:sp>
          <p:nvSpPr>
            <p:cNvPr id="147" name="Text Box 5"/>
            <p:cNvSpPr/>
            <p:nvPr/>
          </p:nvSpPr>
          <p:spPr>
            <a:xfrm>
              <a:off x="468360" y="620640"/>
              <a:ext cx="8064360" cy="576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00"/>
                  </a:solidFill>
                  <a:latin typeface="Tahoma"/>
                </a:rPr>
                <a:t>Елтон Мейо (1880 – 1947)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 и психолог, один из основателей теории "человеческих отношений", положенных в основу психологических аспектов современного менеджмента. Основные тезисы Мейо: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в основном мотивируются социальными потребностями и ощущают свою индивидуальность благодаря своим отношениям с другими людь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в результате рационализации процесса труда сама работа потеряла привлекательность и люди ищут удовлетворения в социальных взаимоотношениях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люди более чувствительны к социальному влиянию группы равных им людей, чем к побуждениям и средств контроля, используемых руководителями;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 algn="just">
                <a:buClr>
                  <a:srgbClr val="000000"/>
                </a:buClr>
                <a:buSzPct val="120000"/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ahoma"/>
                </a:rPr>
                <a:t>рабочий выполнит распоряжение руководителя, если последний сможет удовлетворить социальные потребности своих подчиненных и их желания быть понятными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>
              <a:off x="951840" y="780480"/>
              <a:ext cx="3225600" cy="799920"/>
            </a:xfrm>
            <a:custGeom>
              <a:avLst/>
              <a:gdLst>
                <a:gd name="textAreaLeft" fmla="*/ 806400 w 3225600"/>
                <a:gd name="textAreaRight" fmla="*/ 2419200 w 3225600"/>
                <a:gd name="textAreaTop" fmla="*/ 99720 h 799920"/>
                <a:gd name="textAreaBottom" fmla="*/ 800280 h 79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веденческая школа (школа поведенческих наук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никла в 50-е годы, как видоизменение неоклассической школы, в результате значительного развития психологии, социологии и соционики, а также совершенствование методов изучения поведения людей. Выдающимися представителями этой школы были Крис Арджирис, Ренсис Лайнкерт, Дуглас Мак-Грегор, Фредерик Герцберг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Group 4"/>
          <p:cNvGrpSpPr/>
          <p:nvPr/>
        </p:nvGrpSpPr>
        <p:grpSpPr>
          <a:xfrm>
            <a:off x="324000" y="549360"/>
            <a:ext cx="8280360" cy="5471640"/>
            <a:chOff x="324000" y="549360"/>
            <a:chExt cx="8280360" cy="5471640"/>
          </a:xfrm>
        </p:grpSpPr>
        <p:sp>
          <p:nvSpPr>
            <p:cNvPr id="154" name="Text Box 5"/>
            <p:cNvSpPr/>
            <p:nvPr/>
          </p:nvSpPr>
          <p:spPr>
            <a:xfrm>
              <a:off x="324000" y="572760"/>
              <a:ext cx="8280360" cy="544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Дэвид Мак Грегор</a:t>
              </a:r>
              <a:br>
                <a:rPr sz="1800"/>
              </a:b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Американский социолог, автор теории "X" и "В". Теория X (более авторитарная) сводится к тому, что среднестатистический рабочий ленив, глуп, старается избегать работы, через который необходимо контролировать, принуждать, побуждать, направлять, пугать наказаниями, чтобы он работал для интересов организации. Такой руководитель нечестолюбний, не стремится ни к ответственности, ни к управлению, беспокоится преимущественно только о своей безопасности.</a:t>
              </a:r>
              <a:br>
                <a:rPr sz="1800"/>
              </a:b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Теория У (более демократична), напротив, сводится к тому, что рабочий инициативный, энергичный и честолюбивый, стремится к успеху собственного и организации, охотно берет на себя ответственность. Руководство должно доверять такому рабочему, поручать ему творческую работу, допускать определенную свободу действий.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AutoShape 6"/>
            <p:cNvSpPr/>
            <p:nvPr/>
          </p:nvSpPr>
          <p:spPr>
            <a:xfrm>
              <a:off x="500040" y="549360"/>
              <a:ext cx="2818800" cy="680760"/>
            </a:xfrm>
            <a:custGeom>
              <a:avLst/>
              <a:gdLst>
                <a:gd name="textAreaLeft" fmla="*/ 704520 w 2818800"/>
                <a:gd name="textAreaRight" fmla="*/ 2114280 w 2818800"/>
                <a:gd name="textAreaTop" fmla="*/ 8496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425" y="0"/>
                  </a:lnTo>
                  <a:arcTo wR="675" hR="675" stAng="16200000" swAng="5400000"/>
                  <a:lnTo>
                    <a:pt x="8100" y="2700"/>
                  </a:lnTo>
                  <a:lnTo>
                    <a:pt x="13500" y="2700"/>
                  </a:lnTo>
                  <a:lnTo>
                    <a:pt x="13500" y="675"/>
                  </a:lnTo>
                  <a:arcTo wR="675" hR="675" stAng="10800000" swAng="5400000"/>
                  <a:lnTo>
                    <a:pt x="21600" y="0"/>
                  </a:lnTo>
                  <a:lnTo>
                    <a:pt x="18900" y="9450"/>
                  </a:lnTo>
                  <a:lnTo>
                    <a:pt x="21600" y="18900"/>
                  </a:lnTo>
                  <a:lnTo>
                    <a:pt x="16200" y="18900"/>
                  </a:lnTo>
                  <a:lnTo>
                    <a:pt x="16200" y="20925"/>
                  </a:lnTo>
                  <a:arcTo wR="675" hR="675" stAng="0" swAng="5400000"/>
                  <a:lnTo>
                    <a:pt x="6075" y="21600"/>
                  </a:lnTo>
                  <a:arcTo wR="675" hR="675" stAng="5400000" swAng="5400000"/>
                  <a:lnTo>
                    <a:pt x="5400" y="18900"/>
                  </a:lnTo>
                  <a:lnTo>
                    <a:pt x="0" y="18900"/>
                  </a:lnTo>
                  <a:lnTo>
                    <a:pt x="2700" y="9450"/>
                  </a:lnTo>
                  <a:close/>
                </a:path>
                <a:path fill="none" w="21600" h="21600">
                  <a:moveTo>
                    <a:pt x="8100" y="675"/>
                  </a:moveTo>
                  <a:arcTo wR="675" hR="675" stAng="0" swAng="5400000"/>
                  <a:lnTo>
                    <a:pt x="6075" y="1350"/>
                  </a:lnTo>
                  <a:arcTo wR="675" hR="675" stAng="16200000" swAng="-5400000"/>
                  <a:arcTo wR="675" hR="675" stAng="10800000" swAng="-5400000"/>
                  <a:lnTo>
                    <a:pt x="8100" y="2700"/>
                  </a:lnTo>
                </a:path>
                <a:path fill="none" w="21600" h="21600">
                  <a:moveTo>
                    <a:pt x="13500" y="675"/>
                  </a:moveTo>
                  <a:arcTo wR="675" hR="675" stAng="10800000" swAng="-5400000"/>
                  <a:lnTo>
                    <a:pt x="15525" y="1350"/>
                  </a:lnTo>
                  <a:arcTo wR="675" hR="675" stAng="16200000" swAng="5400000"/>
                  <a:arcTo wR="675" hR="675" stAng="0" swAng="5400000"/>
                  <a:lnTo>
                    <a:pt x="13500" y="2700"/>
                  </a:lnTo>
                </a:path>
                <a:path fill="none" w="21600" h="21600">
                  <a:moveTo>
                    <a:pt x="5400" y="2025"/>
                  </a:moveTo>
                  <a:lnTo>
                    <a:pt x="5400" y="18900"/>
                  </a:lnTo>
                </a:path>
                <a:path fill="none" w="21600" h="21600">
                  <a:moveTo>
                    <a:pt x="16200" y="2025"/>
                  </a:moveTo>
                  <a:lnTo>
                    <a:pt x="16200" y="18900"/>
                  </a:ln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1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значительные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лич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Школа системного управления (современная фаза)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ля современного периода исследования управления характерен широкий связь с такими науками как математика, статистика, компьютерные технологии и т.д. Количественные методы исследования в управлении завоевывают все более широкие территории. Преимуществом количественных методов является замена словесных выражений математическими моделями, выражениями и количественными значениями. Данный подход дал зеленую улицу внедрения компьютерного анализа в сферу управ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Современные концепции менеджмента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цесс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стемный подход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туационный подх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Процесс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первые это понятие было введено сторонниками школы административного управления, которые описывали функции менеджера, но эти функции они описывали обособленно друг от друга, а процессный подход рассматривает функции управления в тесной взаимосвязи. Функции управления не является стабильно определенными и поныне, каждый исследователь приводит свой их набор и считает его наиболее целесообразным. Процесс управления по Файолю насчитывает пять основных функций: предвидение, планирование, организация, распоряжение и контрол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управлении основывается на теории систем. Суть системного подхода заключается в том, что любая проблема рассматривается как система и разлагается на составные части до тех пор, пока не вступит простого, элементарного ви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Управленческие сист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 сложные, открытые системы (характеристика их будет дана далее), которые работают по принципу действия "вход" - "преобразования" - "выход". Поэтому подходы каждой предыдущей школы, которые сосредоточили свое внимание лишь на отдельных подсистемах или элементах системы управления, можно использовать лишь в ограниченных условиях и на определенном уровне системы упра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Ситуацион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 исключает взглядов предыдущих школ, но вместе с тем требует применения специальных приемов для достижения целей организации. В основе ситуационного подхода лежит положение, что любая организация должна быть структурированной, однако построение этой структуры зависит от ситуации, внешней и внутренней ее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95280" y="549360"/>
            <a:ext cx="835344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9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является одновременно наукой,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усством и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ктикой управления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62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актическое применение ситуационного подхода заключается в том, что менеджер долже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20464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ладать эффективными средствами профессионального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ьно понимать и трактовать ситуацию, которая складывается и уметь определять приоритеты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вязывать конкретные приемы с конкретными ситуациями, обеспечивая достижение цели организац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ситуационной обусловленност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тверждает, что бюрократическая форма организации эффективнее в относительно простом и стабильном окружении, а более "органическое" форма организации будет эффективной в сложном и динамичном среде, когда в работе участвует значительная доля специалистов. Более органическая организационная форма способствует расширению круга участников процесса, в ней делается больший расчет на косвенное распространение информации и на такие механизмы координации, которые будут объединять между собой людей производственные подразделения и результаты, будут более рентабельными и эффективны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зависимости от ресурсо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еркивает важность способности организации к обеспечению необходимых ресурсов из окружающей среды, если организация хочет выжить. Те подразделения организации, которые будут иметь более легкий и лучший доступ к ключевым внешним ресурсам, пользоваться большей властью и влиянием. Хотя организации и хотят сохранять самостоятельность, они все же признают необходимость формирования определенных коалиций или сетей с целью аккумулирования ресурсов и уменьшения затрат при выполнении соглашен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онцепция стратегического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продолжение теории зависимости от ресурсов подчеркивает умении разместить свою организацию в отношении внешнего окружения так, чтобы достичь своей цели и обеспечить выживание. Эта концепция пытается объединить силы окружающей среды, внутреннее строение организации и процессы, которые в ней происходят, со стратегией организации. Руководители и члены организации могут по своему усмотрению выбирать стратегию и структуры, которые лучше будут соответствовать требованиям окружения и повышать производительность труда в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Теория популяционной экологи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казывает, что окружение "отбирает" для выживания отдельные виды организаций. Опираясь на теорию естественного отбора из биологии, они основное внимание сосредотачивают на определенной популяции организаций, а не на отдельных организациях. То, добьется успеха конкретная организация, зависит от ее местонахождения в отношении популяции конкурентов и от общего расположения внешних сил, влияющих на эту популяцию. Способность руководителей успешно влиять на свое окружение, по данной теории, относительно невели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Институциональная теор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тверждает, что внешняя среда, в которой функционируют организации, имеет свои нормы, правила и выдвигает требования, а потому, чтобы быть узаконенными и получать поддержку, организации должны соответствовать этим требованиям, нормам и правил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В 1984 году Уильям Оучи предложил дифференциацию особенностей управления японских и американских организаций, которая заключалась в следующем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560" y="1905120"/>
            <a:ext cx="410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ahoma"/>
              </a:rPr>
              <a:t>Японские организ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жизненный най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остепенное оценки и продвиж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Неспециализированная деятель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Тонкие механизмы контро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ое принятие реш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оллективная ответственн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427280" y="1905120"/>
            <a:ext cx="453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ahoma"/>
              </a:rPr>
              <a:t>Американские организаци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Кратковременный най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ыстрое оценки и продви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ециализированная деятель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Формальные механизмы контрол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ое принятие решен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дивидуальная ответствен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Tahoma"/>
              </a:rPr>
              <a:t>10 качеств руководителя, которые имеют определенную ценность и для украинских руководителей (по В. Терещенко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) "Будь руководителем, а не погонщиком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2) уверенность в себ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3) строгость и требовательнос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4) "Критикуй положительно"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5) умение поощрять и наказыв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6) умение ценить время подчиненны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7) вежливое и доброжелательное отношение к подчиненны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8) умение и молчать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9) чувство юмор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6699ff"/>
                </a:solidFill>
                <a:latin typeface="Tahoma"/>
              </a:rPr>
              <a:t>10) "Интересуйся, изучай своих подчиненных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ff"/>
                </a:solidFill>
                <a:latin typeface="Tahoma"/>
              </a:rPr>
              <a:t>Управление такой сложной системой, как здравоохранение требует системного подхода и использования системного анализа. Основными направлениями их применения в здравоохранении являютс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0" y="2276280"/>
            <a:ext cx="91440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и реализация целевых комплексных программ, направленных на решение сложных проблем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еорганизация системы медицинской помощи на рыночных принцип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Разработка математических моделей системы медицинской помощи с целью прогнозирования ее развит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99ff"/>
                </a:solidFill>
                <a:latin typeface="Tahoma"/>
              </a:rPr>
              <a:t>Моделирование взаимодействия подразделений системы и систем между собой с целью определения так называемых слабых мест и дальнейшей оптимизации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лавными способами организации и управления системой здравоохранения на сегодня являю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рынком или сетью услуг, ориентированное на удовлетворение потребностей насе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управления медицинским обслуживанием с выходом за пределы организац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ff"/>
                </a:solidFill>
                <a:latin typeface="Tahoma"/>
              </a:rPr>
              <a:t>активное управление качеством и постоянное совершенствование рабо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Менеджмент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умение достигать поставленных целей, используя труд, интеллект и мотивы поведения других люде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291960"/>
            <a:ext cx="8435880" cy="608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6699ff"/>
                </a:solidFill>
                <a:latin typeface="Tahoma"/>
              </a:rPr>
              <a:t>Система - это совокупность элементов, взаимодействуя между собой и внешней средой, порождают новые свойства и признаки, не присущие ни одному из этих элементов, но характерные для системы в целом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подход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аучная методология, которая является средством анализа и синтеза при изучении сложных целостных систем, суть которой заключается в том, что явления и процессы, происходящие в природе, обществе рассматриваются как целостные системы, состоящие из подсистем, компонентов или элемент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ный анализ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етод решения сложных комплексных проблем, если удовлетворительный результат не может быть получен с помощью одной произвольной дисциплины или даже совокупности методов других дисципл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блема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несоответствие между желаемым (необходимым) и действительным положением де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стема здоровоохороны с точки зрения теории систе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умма всех составляющих ее элементов, действующих на одной территории или населенном пункте, включая амбулаторно-поликлинические, стационарные и другие учреждения, их взаимосвязь, направленный на удовлетворение потребностей населения, в лечебно-профилактическом помощ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собенности системы здоровоохорон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многоцелевая и многоуровневая система с иерархической системой управлен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е элементы подпадают под случайные неконтролируемые воздействия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арактер внутрисистемных связей сложный и трудно уловимы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а система носит вероятностный, а не детерминированный характ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 rot="16200000">
            <a:off x="-1841040" y="2856600"/>
            <a:ext cx="490392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Схема управління охороною здоров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 міста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971640" y="404640"/>
            <a:ext cx="7560720" cy="6453360"/>
            <a:chOff x="971640" y="404640"/>
            <a:chExt cx="7560720" cy="6453360"/>
          </a:xfrm>
        </p:grpSpPr>
        <p:sp>
          <p:nvSpPr>
            <p:cNvPr id="225" name="Line 5"/>
            <p:cNvSpPr/>
            <p:nvPr/>
          </p:nvSpPr>
          <p:spPr>
            <a:xfrm flipH="1">
              <a:off x="3152160" y="1215720"/>
              <a:ext cx="1017720" cy="282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Line 6"/>
            <p:cNvSpPr/>
            <p:nvPr/>
          </p:nvSpPr>
          <p:spPr>
            <a:xfrm flipH="1">
              <a:off x="3152160" y="1220040"/>
              <a:ext cx="1017720" cy="38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Line 7"/>
            <p:cNvSpPr/>
            <p:nvPr/>
          </p:nvSpPr>
          <p:spPr>
            <a:xfrm flipH="1">
              <a:off x="3152160" y="1220040"/>
              <a:ext cx="1017720" cy="457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Line 8"/>
            <p:cNvSpPr/>
            <p:nvPr/>
          </p:nvSpPr>
          <p:spPr>
            <a:xfrm flipV="1">
              <a:off x="5447520" y="807480"/>
              <a:ext cx="872280" cy="2285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Line 9"/>
            <p:cNvSpPr/>
            <p:nvPr/>
          </p:nvSpPr>
          <p:spPr>
            <a:xfrm flipV="1">
              <a:off x="5447520" y="1479600"/>
              <a:ext cx="872280" cy="1747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230" name="Group 10"/>
            <p:cNvGrpSpPr/>
            <p:nvPr/>
          </p:nvGrpSpPr>
          <p:grpSpPr>
            <a:xfrm>
              <a:off x="971640" y="404640"/>
              <a:ext cx="7560720" cy="6453360"/>
              <a:chOff x="971640" y="404640"/>
              <a:chExt cx="7560720" cy="6453360"/>
            </a:xfrm>
          </p:grpSpPr>
          <p:sp>
            <p:nvSpPr>
              <p:cNvPr id="231" name="Text Box 11"/>
              <p:cNvSpPr/>
              <p:nvPr/>
            </p:nvSpPr>
            <p:spPr>
              <a:xfrm>
                <a:off x="97164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ые лечебно-профилактические учрежд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Text Box 12"/>
              <p:cNvSpPr/>
              <p:nvPr/>
            </p:nvSpPr>
            <p:spPr>
              <a:xfrm>
                <a:off x="971640" y="107676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92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ahoma"/>
                  </a:rPr>
                  <a:t>Центр "Здоровье"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Text Box 13"/>
              <p:cNvSpPr/>
              <p:nvPr/>
            </p:nvSpPr>
            <p:spPr>
              <a:xfrm>
                <a:off x="971640" y="1614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ая станция переливания кров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Text Box 14"/>
              <p:cNvSpPr/>
              <p:nvPr/>
            </p:nvSpPr>
            <p:spPr>
              <a:xfrm>
                <a:off x="971640" y="2152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е бюро судмедэкспертиз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Text Box 15"/>
              <p:cNvSpPr/>
              <p:nvPr/>
            </p:nvSpPr>
            <p:spPr>
              <a:xfrm>
                <a:off x="971640" y="2690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Обласне патанатомічне бюро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Text Box 16"/>
              <p:cNvSpPr/>
              <p:nvPr/>
            </p:nvSpPr>
            <p:spPr>
              <a:xfrm>
                <a:off x="971640" y="3227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ластной дом ребенк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Text Box 17"/>
              <p:cNvSpPr/>
              <p:nvPr/>
            </p:nvSpPr>
            <p:spPr>
              <a:xfrm>
                <a:off x="971640" y="37656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В/о “Фармация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Text Box 18"/>
              <p:cNvSpPr/>
              <p:nvPr/>
            </p:nvSpPr>
            <p:spPr>
              <a:xfrm>
                <a:off x="971640" y="43034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НВО “Медтехника”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Text Box 19"/>
              <p:cNvSpPr/>
              <p:nvPr/>
            </p:nvSpPr>
            <p:spPr>
              <a:xfrm>
                <a:off x="971640" y="48412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Санепидслужба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Text Box 20"/>
              <p:cNvSpPr/>
              <p:nvPr/>
            </p:nvSpPr>
            <p:spPr>
              <a:xfrm>
                <a:off x="971640" y="537912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200" spc="-1" strike="noStrike">
                    <a:solidFill>
                      <a:srgbClr val="ffffff"/>
                    </a:solidFill>
                    <a:latin typeface="Tahoma"/>
                  </a:rPr>
                  <a:t>Дезстанция</a:t>
                </a:r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Text Box 21"/>
              <p:cNvSpPr/>
              <p:nvPr/>
            </p:nvSpPr>
            <p:spPr>
              <a:xfrm>
                <a:off x="6351480" y="40464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Центральные районные больницы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Text Box 22"/>
              <p:cNvSpPr/>
              <p:nvPr/>
            </p:nvSpPr>
            <p:spPr>
              <a:xfrm>
                <a:off x="6351480" y="107676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образования города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Text Box 23"/>
              <p:cNvSpPr/>
              <p:nvPr/>
            </p:nvSpPr>
            <p:spPr>
              <a:xfrm>
                <a:off x="6351480" y="242100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Общественные и религиозные организ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Text Box 24"/>
              <p:cNvSpPr/>
              <p:nvPr/>
            </p:nvSpPr>
            <p:spPr>
              <a:xfrm>
                <a:off x="6351480" y="2958840"/>
                <a:ext cx="2180880" cy="806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Бизнес-структуры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Text Box 25"/>
              <p:cNvSpPr/>
              <p:nvPr/>
            </p:nvSpPr>
            <p:spPr>
              <a:xfrm>
                <a:off x="6351480" y="1748880"/>
                <a:ext cx="2180880" cy="53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редства массовой информаци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Text Box 26"/>
              <p:cNvSpPr/>
              <p:nvPr/>
            </p:nvSpPr>
            <p:spPr>
              <a:xfrm>
                <a:off x="6351480" y="3900240"/>
                <a:ext cx="2180880" cy="806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Индивидуальная трудовая деятельности в сфере здравоохранения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Text Box 27"/>
              <p:cNvSpPr/>
              <p:nvPr/>
            </p:nvSpPr>
            <p:spPr>
              <a:xfrm>
                <a:off x="6351480" y="4841280"/>
                <a:ext cx="2180880" cy="672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Аптеки различной формы собственно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Text Box 28"/>
              <p:cNvSpPr/>
              <p:nvPr/>
            </p:nvSpPr>
            <p:spPr>
              <a:xfrm>
                <a:off x="6351480" y="5513760"/>
                <a:ext cx="2180880" cy="67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Ведомственные учреждения медицинской помощ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Text Box 29"/>
              <p:cNvSpPr/>
              <p:nvPr/>
            </p:nvSpPr>
            <p:spPr>
              <a:xfrm>
                <a:off x="6351480" y="6454800"/>
                <a:ext cx="2180880" cy="403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Службы МВД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Text Box 30"/>
              <p:cNvSpPr/>
              <p:nvPr/>
            </p:nvSpPr>
            <p:spPr>
              <a:xfrm>
                <a:off x="4170240" y="107676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Text Box 31"/>
              <p:cNvSpPr/>
              <p:nvPr/>
            </p:nvSpPr>
            <p:spPr>
              <a:xfrm>
                <a:off x="4170240" y="309348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Text Box 32"/>
              <p:cNvSpPr/>
              <p:nvPr/>
            </p:nvSpPr>
            <p:spPr>
              <a:xfrm>
                <a:off x="4170240" y="4707000"/>
                <a:ext cx="1308600" cy="941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000" spc="-1" strike="noStrike">
                    <a:solidFill>
                      <a:srgbClr val="ffffff"/>
                    </a:solidFill>
                    <a:latin typeface="Tahoma"/>
                  </a:rPr>
                  <a:t>Управление здравоохранения области</a:t>
                </a:r>
                <a:endParaRPr b="0" lang="en-US" sz="1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Line 33"/>
              <p:cNvSpPr/>
              <p:nvPr/>
            </p:nvSpPr>
            <p:spPr>
              <a:xfrm>
                <a:off x="4897440" y="2017800"/>
                <a:ext cx="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Line 34"/>
              <p:cNvSpPr/>
              <p:nvPr/>
            </p:nvSpPr>
            <p:spPr>
              <a:xfrm>
                <a:off x="4897440" y="4034520"/>
                <a:ext cx="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Line 35"/>
              <p:cNvSpPr/>
              <p:nvPr/>
            </p:nvSpPr>
            <p:spPr>
              <a:xfrm flipH="1" flipV="1">
                <a:off x="3152160" y="6732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Line 36"/>
              <p:cNvSpPr/>
              <p:nvPr/>
            </p:nvSpPr>
            <p:spPr>
              <a:xfrm flipV="1">
                <a:off x="5479200" y="673200"/>
                <a:ext cx="87228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Line 37"/>
              <p:cNvSpPr/>
              <p:nvPr/>
            </p:nvSpPr>
            <p:spPr>
              <a:xfrm flipH="1">
                <a:off x="3152160" y="1211400"/>
                <a:ext cx="101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Line 38"/>
              <p:cNvSpPr/>
              <p:nvPr/>
            </p:nvSpPr>
            <p:spPr>
              <a:xfrm flipH="1">
                <a:off x="3152160" y="121140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Line 39"/>
              <p:cNvSpPr/>
              <p:nvPr/>
            </p:nvSpPr>
            <p:spPr>
              <a:xfrm flipH="1">
                <a:off x="3152160" y="1211400"/>
                <a:ext cx="1017720" cy="120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Line 40"/>
              <p:cNvSpPr/>
              <p:nvPr/>
            </p:nvSpPr>
            <p:spPr>
              <a:xfrm flipH="1">
                <a:off x="3152160" y="1211400"/>
                <a:ext cx="1017720" cy="174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Line 41"/>
              <p:cNvSpPr/>
              <p:nvPr/>
            </p:nvSpPr>
            <p:spPr>
              <a:xfrm flipH="1">
                <a:off x="3152160" y="1211400"/>
                <a:ext cx="1017720" cy="228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Line 42"/>
              <p:cNvSpPr/>
              <p:nvPr/>
            </p:nvSpPr>
            <p:spPr>
              <a:xfrm flipH="1">
                <a:off x="3152160" y="1211400"/>
                <a:ext cx="1017720" cy="336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Line 43"/>
              <p:cNvSpPr/>
              <p:nvPr/>
            </p:nvSpPr>
            <p:spPr>
              <a:xfrm flipV="1">
                <a:off x="5479200" y="2152080"/>
                <a:ext cx="872280" cy="1209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Line 44"/>
              <p:cNvSpPr/>
              <p:nvPr/>
            </p:nvSpPr>
            <p:spPr>
              <a:xfrm flipV="1">
                <a:off x="5479200" y="2690280"/>
                <a:ext cx="872280" cy="80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Line 45"/>
              <p:cNvSpPr/>
              <p:nvPr/>
            </p:nvSpPr>
            <p:spPr>
              <a:xfrm flipV="1">
                <a:off x="5479200" y="3362400"/>
                <a:ext cx="872280" cy="268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Line 46"/>
              <p:cNvSpPr/>
              <p:nvPr/>
            </p:nvSpPr>
            <p:spPr>
              <a:xfrm>
                <a:off x="5479200" y="3765600"/>
                <a:ext cx="872280" cy="4032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Line 47"/>
              <p:cNvSpPr/>
              <p:nvPr/>
            </p:nvSpPr>
            <p:spPr>
              <a:xfrm>
                <a:off x="5479200" y="3900240"/>
                <a:ext cx="872280" cy="1209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Line 48"/>
              <p:cNvSpPr/>
              <p:nvPr/>
            </p:nvSpPr>
            <p:spPr>
              <a:xfrm>
                <a:off x="5479200" y="4034520"/>
                <a:ext cx="872280" cy="1613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Line 49"/>
              <p:cNvSpPr/>
              <p:nvPr/>
            </p:nvSpPr>
            <p:spPr>
              <a:xfrm>
                <a:off x="5479200" y="4034520"/>
                <a:ext cx="872280" cy="25545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Line 50"/>
              <p:cNvSpPr/>
              <p:nvPr/>
            </p:nvSpPr>
            <p:spPr>
              <a:xfrm flipH="1" flipV="1">
                <a:off x="3152160" y="807480"/>
                <a:ext cx="1017720" cy="22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Line 51"/>
              <p:cNvSpPr/>
              <p:nvPr/>
            </p:nvSpPr>
            <p:spPr>
              <a:xfrm flipH="1" flipV="1">
                <a:off x="3152160" y="1345680"/>
                <a:ext cx="1017720" cy="201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Line 52"/>
              <p:cNvSpPr/>
              <p:nvPr/>
            </p:nvSpPr>
            <p:spPr>
              <a:xfrm flipH="1" flipV="1">
                <a:off x="3152160" y="2017800"/>
                <a:ext cx="101772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Line 53"/>
              <p:cNvSpPr/>
              <p:nvPr/>
            </p:nvSpPr>
            <p:spPr>
              <a:xfrm>
                <a:off x="3152520" y="3093480"/>
                <a:ext cx="1017720" cy="53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Line 54"/>
              <p:cNvSpPr/>
              <p:nvPr/>
            </p:nvSpPr>
            <p:spPr>
              <a:xfrm>
                <a:off x="3152520" y="3631320"/>
                <a:ext cx="1017720" cy="13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Line 55"/>
              <p:cNvSpPr/>
              <p:nvPr/>
            </p:nvSpPr>
            <p:spPr>
              <a:xfrm flipH="1">
                <a:off x="3152160" y="3900240"/>
                <a:ext cx="1017720" cy="26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Line 56"/>
              <p:cNvSpPr/>
              <p:nvPr/>
            </p:nvSpPr>
            <p:spPr>
              <a:xfrm flipH="1">
                <a:off x="3152160" y="4034520"/>
                <a:ext cx="1017720" cy="67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Line 57"/>
              <p:cNvSpPr/>
              <p:nvPr/>
            </p:nvSpPr>
            <p:spPr>
              <a:xfrm flipH="1">
                <a:off x="3152160" y="4034520"/>
                <a:ext cx="1017720" cy="107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Line 58"/>
              <p:cNvSpPr/>
              <p:nvPr/>
            </p:nvSpPr>
            <p:spPr>
              <a:xfrm flipH="1">
                <a:off x="3152160" y="4034520"/>
                <a:ext cx="1163160" cy="147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2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j0212674.wav" descr=""/>
          <p:cNvPicPr/>
          <p:nvPr/>
        </p:nvPicPr>
        <p:blipFill>
          <a:blip r:embed="rId1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282" name="WordArt 9"/>
          <p:cNvSpPr txBox="1"/>
          <p:nvPr/>
        </p:nvSpPr>
        <p:spPr>
          <a:xfrm>
            <a:off x="468360" y="549360"/>
            <a:ext cx="820908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внимание!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4716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4"/>
          <p:cNvGrpSpPr/>
          <p:nvPr/>
        </p:nvGrpSpPr>
        <p:grpSpPr>
          <a:xfrm>
            <a:off x="611280" y="260280"/>
            <a:ext cx="8137080" cy="6337440"/>
            <a:chOff x="611280" y="260280"/>
            <a:chExt cx="8137080" cy="6337440"/>
          </a:xfrm>
        </p:grpSpPr>
        <p:sp>
          <p:nvSpPr>
            <p:cNvPr id="99" name="Text Box 5"/>
            <p:cNvSpPr/>
            <p:nvPr/>
          </p:nvSpPr>
          <p:spPr>
            <a:xfrm>
              <a:off x="611280" y="260280"/>
              <a:ext cx="1479240" cy="739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ередфаз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До 1900 г.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1202760" y="788400"/>
              <a:ext cx="325476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Школа науч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202760" y="1105200"/>
              <a:ext cx="325476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1900- 1930 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400" spc="-1" strike="noStrike">
                  <a:solidFill>
                    <a:srgbClr val="ffffff"/>
                  </a:solidFill>
                  <a:latin typeface="Tahoma"/>
                </a:rPr>
                <a:t>СШ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Text Box 8"/>
            <p:cNvSpPr/>
            <p:nvPr/>
          </p:nvSpPr>
          <p:spPr>
            <a:xfrm>
              <a:off x="1646640" y="1633320"/>
              <a:ext cx="355068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административ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Text Box 9"/>
            <p:cNvSpPr/>
            <p:nvPr/>
          </p:nvSpPr>
          <p:spPr>
            <a:xfrm>
              <a:off x="1646640" y="1950120"/>
              <a:ext cx="3550680" cy="633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1900 - 1930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Германия, Франция, Англ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Oval 10"/>
            <p:cNvSpPr/>
            <p:nvPr/>
          </p:nvSpPr>
          <p:spPr>
            <a:xfrm>
              <a:off x="5493600" y="1105200"/>
              <a:ext cx="3254760" cy="1056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Поведенческая школа</a:t>
              </a:r>
              <a:br>
                <a:rPr sz="1400"/>
              </a:br>
              <a:r>
                <a:rPr b="1" lang="ru-RU" sz="1400" spc="-1" strike="noStrike">
                  <a:solidFill>
                    <a:srgbClr val="ffffff"/>
                  </a:solidFill>
                  <a:latin typeface="Tahoma"/>
                </a:rPr>
                <a:t>(Школа поведенческих наук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Text Box 11"/>
            <p:cNvSpPr/>
            <p:nvPr/>
          </p:nvSpPr>
          <p:spPr>
            <a:xfrm>
              <a:off x="4457880" y="2478240"/>
              <a:ext cx="2958840" cy="31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ffffff"/>
                  </a:solidFill>
                  <a:latin typeface="Tahoma"/>
                </a:rPr>
                <a:t>Неоклассическая школа управления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4457880" y="2689560"/>
              <a:ext cx="2958840" cy="52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1930 –1950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США, Япон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Text Box 13"/>
            <p:cNvSpPr/>
            <p:nvPr/>
          </p:nvSpPr>
          <p:spPr>
            <a:xfrm>
              <a:off x="5493600" y="311184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Школа системн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Text Box 14"/>
            <p:cNvSpPr/>
            <p:nvPr/>
          </p:nvSpPr>
          <p:spPr>
            <a:xfrm>
              <a:off x="5493600" y="3429000"/>
              <a:ext cx="2958840" cy="42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З 1940 и до сегодн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AutoShape 15"/>
            <p:cNvSpPr/>
            <p:nvPr/>
          </p:nvSpPr>
          <p:spPr>
            <a:xfrm>
              <a:off x="2534760" y="3323160"/>
              <a:ext cx="207108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2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Професиональ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AutoShape 16"/>
            <p:cNvSpPr/>
            <p:nvPr/>
          </p:nvSpPr>
          <p:spPr>
            <a:xfrm>
              <a:off x="2090520" y="374580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стем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1" name="AutoShape 17"/>
            <p:cNvSpPr/>
            <p:nvPr/>
          </p:nvSpPr>
          <p:spPr>
            <a:xfrm>
              <a:off x="2682360" y="4168440"/>
              <a:ext cx="2071440" cy="3168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Ситуационный подхо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" name="AutoShape 18"/>
            <p:cNvSpPr/>
            <p:nvPr/>
          </p:nvSpPr>
          <p:spPr>
            <a:xfrm>
              <a:off x="1646640" y="4590720"/>
              <a:ext cx="384696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400" spc="-1" strike="noStrike">
                  <a:solidFill>
                    <a:srgbClr val="ffffff"/>
                  </a:solidFill>
                  <a:latin typeface="Tahoma"/>
                </a:rPr>
                <a:t>Теория ситуацыонной </a:t>
              </a: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обусловленност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" name="AutoShape 19"/>
            <p:cNvSpPr/>
            <p:nvPr/>
          </p:nvSpPr>
          <p:spPr>
            <a:xfrm>
              <a:off x="1351080" y="5013360"/>
              <a:ext cx="31068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зависимости от ресурсов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" name="AutoShape 20"/>
            <p:cNvSpPr/>
            <p:nvPr/>
          </p:nvSpPr>
          <p:spPr>
            <a:xfrm>
              <a:off x="1351080" y="5436000"/>
              <a:ext cx="384660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Tahoma"/>
                </a:rPr>
                <a:t>Концепция стратегического управл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5" name="AutoShape 21"/>
            <p:cNvSpPr/>
            <p:nvPr/>
          </p:nvSpPr>
          <p:spPr>
            <a:xfrm>
              <a:off x="2238480" y="585828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Теория популяционной экологии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" name="AutoShape 22"/>
            <p:cNvSpPr/>
            <p:nvPr/>
          </p:nvSpPr>
          <p:spPr>
            <a:xfrm>
              <a:off x="3274200" y="6280920"/>
              <a:ext cx="2958840" cy="3168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Институциональная теор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" name="AutoShape 23"/>
            <p:cNvSpPr/>
            <p:nvPr/>
          </p:nvSpPr>
          <p:spPr>
            <a:xfrm rot="2081400">
              <a:off x="6233400" y="1844640"/>
              <a:ext cx="160200" cy="769680"/>
            </a:xfrm>
            <a:prstGeom prst="upArrow">
              <a:avLst>
                <a:gd name="adj1" fmla="val 50000"/>
                <a:gd name="adj2" fmla="val 1201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" name="AutoShape 24"/>
            <p:cNvSpPr/>
            <p:nvPr/>
          </p:nvSpPr>
          <p:spPr>
            <a:xfrm>
              <a:off x="7121160" y="4696560"/>
              <a:ext cx="1479240" cy="633600"/>
            </a:xfrm>
            <a:prstGeom prst="flowChartPunchedCar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ffffff"/>
                  </a:solidFill>
                  <a:latin typeface="Tahoma"/>
                </a:rPr>
                <a:t>Современные теории менеджмента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" name="AutoShape 25"/>
            <p:cNvSpPr/>
            <p:nvPr/>
          </p:nvSpPr>
          <p:spPr>
            <a:xfrm rot="12900000">
              <a:off x="7641000" y="3831840"/>
              <a:ext cx="147960" cy="950400"/>
            </a:xfrm>
            <a:prstGeom prst="upArrow">
              <a:avLst>
                <a:gd name="adj1" fmla="val 50000"/>
                <a:gd name="adj2" fmla="val 16058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0" name="Line 26"/>
            <p:cNvSpPr/>
            <p:nvPr/>
          </p:nvSpPr>
          <p:spPr>
            <a:xfrm flipH="1">
              <a:off x="4605840" y="3429000"/>
              <a:ext cx="887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1" name="Line 27"/>
            <p:cNvSpPr/>
            <p:nvPr/>
          </p:nvSpPr>
          <p:spPr>
            <a:xfrm flipH="1">
              <a:off x="4161600" y="3429000"/>
              <a:ext cx="1331640" cy="42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" name="Line 28"/>
            <p:cNvSpPr/>
            <p:nvPr/>
          </p:nvSpPr>
          <p:spPr>
            <a:xfrm flipH="1">
              <a:off x="4753440" y="3429000"/>
              <a:ext cx="739800" cy="84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3" name="Line 29"/>
            <p:cNvSpPr/>
            <p:nvPr/>
          </p:nvSpPr>
          <p:spPr>
            <a:xfrm flipH="1" flipV="1">
              <a:off x="5493600" y="4801680"/>
              <a:ext cx="1627200" cy="21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4" name="Line 30"/>
            <p:cNvSpPr/>
            <p:nvPr/>
          </p:nvSpPr>
          <p:spPr>
            <a:xfrm flipH="1">
              <a:off x="4457880" y="5013360"/>
              <a:ext cx="266328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5" name="Line 31"/>
            <p:cNvSpPr/>
            <p:nvPr/>
          </p:nvSpPr>
          <p:spPr>
            <a:xfrm flipH="1">
              <a:off x="5197320" y="5013360"/>
              <a:ext cx="1923480" cy="52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6" name="Line 32"/>
            <p:cNvSpPr/>
            <p:nvPr/>
          </p:nvSpPr>
          <p:spPr>
            <a:xfrm flipH="1">
              <a:off x="5197320" y="5013360"/>
              <a:ext cx="192348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7" name="Line 33"/>
            <p:cNvSpPr/>
            <p:nvPr/>
          </p:nvSpPr>
          <p:spPr>
            <a:xfrm flipH="1">
              <a:off x="6085440" y="5013360"/>
              <a:ext cx="1035360" cy="126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8920" y="217440"/>
            <a:ext cx="9144000" cy="3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апы развития теории менеджмент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ередфаза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период развития менеджмента совпадает с периодом домонополистического капитализма. Управление осуществлялось на базе практического опыта предпринимателей, который передавался из поколения в поколение. Многочисленные по объему организации были только в государственной, церковной и военной сферах. С них и начались первые ростки научного управления. Характерным для управления этого периода была иерархически пирамидальная построение организа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а научного управл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олучила развитие в США в начале XX века. "Научное управление" ввел Ф. Тейло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состав школы научного управления вошли также исследования Г. Гантта и супруги Гилбрайтив. Последние разработали так называемый микрохронометром, который в сочетании с кинокамерой позволял определять, какие движения выполняются при определенных операциях и сколько времени занимает каждый из них. Тейлор, например, придирчиво измерял количество железной руды и угля, которое человек может поднять лопатой. Такая информация позволяла исследователям просматривать рабочие операции, чтобы удалить ненужные, непродуктивные движения, заменив их стандартными процедур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042920" y="765000"/>
            <a:ext cx="698508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457200">
              <a:lnSpc>
                <a:spcPct val="111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Фредерик Уинстон (1856-1915)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- Известный американский ученый и практик. Начинал работать учеником в механической мастерской. Впоследствии прошел все должностные ступени от младшего служащего до главного инженера крупного металлургического завода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Параллельно занимался научной деятельностью. Исследования Тейлора по проблемам научной организации производства стали первой попыткой создать отдельную науку управления. Можно считать, что его произведение "Научная организация труда" стал основой развития менеджменте в СЕЛА, а затем и в других странах.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Тейлор основное внимание сосредоточивал на изучении с помощью наблюдения и хронометража движений рабочего, разработке рекомендаций по ликвидации непроизводительных затрат человеческой энергии и повышения эффективности тру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ff"/>
                </a:solidFill>
                <a:latin typeface="Tahoma"/>
              </a:rPr>
              <a:t>Школа административного управления (классическая школа)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зникла в 20 года. Выдающимися ее представителями были А. Файоль (Франция), Л. Урвик (Англия), Джеймс Д. Муни и А. К. Рейли (США), М. Вебер (Германи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отличие от школы научного управления, представители классической школы проблемы эффективности организации рассматривали в значительно более широком масштабе, определяя закономерности и общие характеристики эффективной организации. Они пытались найти универсальные принципы управления, которые бы позволили добиваться успеха любой организац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755640" y="836640"/>
            <a:ext cx="7704000" cy="547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йоль Анри (1841-1925)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ранцузский инженер и ученый. После окончания в 1860 году горной школы начал работать на крупном металлургическом объединении, где впоследствии стал генеральным директором. В этом объединении Файоль разработал и внедрил стройную систему управления производством, где определил основные административные функции, их назначение, основные 14 принципов административного управления.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Основные теоретические выводы Файоля по проблемам совершенствования управления изложены в его труде "Общее и промышленное управление"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4:30:54Z</dcterms:created>
  <dc:creator>Home</dc:creator>
  <dc:description/>
  <dc:language>en-US</dc:language>
  <cp:lastModifiedBy>LEGION</cp:lastModifiedBy>
  <dcterms:modified xsi:type="dcterms:W3CDTF">2016-01-11T10:02:41Z</dcterms:modified>
  <cp:revision>18</cp:revision>
  <dc:subject/>
  <dc:title>Общие основы менеджмента</dc:title>
</cp:coreProperties>
</file>