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A4F-60A2-433D-A5F3-05581B1D8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08D-12A7-4FE7-993B-3342ACEE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175-8424-4F15-B977-331A6B9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EE8-D328-42FE-959A-18A1EFEA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359-5CDC-4A66-B502-340D7CDD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667-7452-4CCE-AC50-F4ED8491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B01D-9A44-4513-A2AA-CBB82AB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35E3-2B64-4D07-99DB-01BEE34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AC0E-F9A7-4F4A-82BF-0B557CCF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6AD0-E29C-4436-A5F7-EBF98196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FAEE-70AC-4037-9FEA-9E6C633A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040-5CB8-4E51-830B-8117ACB5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C64-BA93-4C0A-B910-3A686524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4BFD-8F11-4699-9B63-C561581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E782-488F-4445-A721-1408A3A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D4A5-67BD-4364-B3A3-3B6ECD0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BBCD-2755-4A85-9082-705DA93A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9F14-FF59-4589-9C3F-2096FCFC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8D1-394F-4845-832D-079E6DEF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524-F1AC-4031-9FA3-12709EF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D37-E1B2-484E-A26D-780DC5D7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533-84FF-4D43-B0A6-E689457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AA3-027B-4E2E-B61E-98163E4F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AFA-1E4E-48B7-9C54-D9B080C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5B2-2A8D-42ED-B4DE-A8F8FBE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9D1E-622C-4A6A-9C32-FF89697CF35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52BA-8D53-4F10-A152-E71AE5105A4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3333"/>
                </a:solidFill>
                <a:latin typeface="Times New Roman"/>
              </a:rPr>
              <a:t>Образцы основных документов управления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6" descr="AG00280_(t)"/>
          <p:cNvPicPr/>
          <p:nvPr/>
        </p:nvPicPr>
        <p:blipFill>
          <a:blip r:embed="rId1"/>
          <a:stretch/>
        </p:blipFill>
        <p:spPr>
          <a:xfrm>
            <a:off x="3564000" y="371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40056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основной деятельност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роизводственным вопросам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ерсоналу предприятия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458136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Датой приказа является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ата его подписания руководителе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rcRect l="31141" t="16899" r="30308" b="18004"/>
          <a:stretch/>
        </p:blipFill>
        <p:spPr>
          <a:xfrm>
            <a:off x="1547640" y="189000"/>
            <a:ext cx="4977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16720" y="33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риказ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 по личному состав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Приказ по 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обязательный документ трудовых правоотноше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30308" t="15001" r="30308" b="15280"/>
          <a:stretch/>
        </p:blipFill>
        <p:spPr>
          <a:xfrm>
            <a:off x="900000" y="189000"/>
            <a:ext cx="491508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796000" y="18900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31141" t="16237" r="30308" b="17588"/>
          <a:stretch/>
        </p:blipFill>
        <p:spPr>
          <a:xfrm>
            <a:off x="900000" y="260280"/>
            <a:ext cx="4810320" cy="633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651640" y="26028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31141" t="16150" r="31264" b="19398"/>
          <a:stretch/>
        </p:blipFill>
        <p:spPr>
          <a:xfrm>
            <a:off x="971640" y="189000"/>
            <a:ext cx="5040360" cy="6481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588000" y="33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указания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Информационно-справоч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42920" y="4365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Датой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отокола является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дата проведения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собран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1141" t="17052" r="30308" b="14252"/>
          <a:stretch/>
        </p:blipFill>
        <p:spPr>
          <a:xfrm>
            <a:off x="900000" y="115920"/>
            <a:ext cx="4903920" cy="655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940360" y="260280"/>
            <a:ext cx="27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олного протокол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рганизацион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7640" y="2276640"/>
            <a:ext cx="401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Разновидности акто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1141" t="15001" r="30308" b="16298"/>
          <a:stretch/>
        </p:blipFill>
        <p:spPr>
          <a:xfrm>
            <a:off x="1042920" y="260280"/>
            <a:ext cx="4794480" cy="640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445440" y="33336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к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кладная запис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Служебная записка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32428" t="15001" r="32150" b="30085"/>
          <a:stretch/>
        </p:blipFill>
        <p:spPr>
          <a:xfrm>
            <a:off x="673200" y="260280"/>
            <a:ext cx="538956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048360" y="260280"/>
            <a:ext cx="30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кладной запис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ъяснительные запис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rcRect l="32166" t="18474" r="33019" b="34854"/>
          <a:stretch/>
        </p:blipFill>
        <p:spPr>
          <a:xfrm>
            <a:off x="324000" y="333360"/>
            <a:ext cx="5276880" cy="597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80000" y="47628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яснительной запис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равка</a:t>
            </a: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Виды справок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подтверждающие работу (учебу), оплату труда, место проживания и т.п., составляю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 запросам граждан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 по производственным вопросам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составляются по запросу руководства: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30854" t="16248" r="31157" b="43910"/>
          <a:stretch/>
        </p:blipFill>
        <p:spPr>
          <a:xfrm>
            <a:off x="611280" y="260280"/>
            <a:ext cx="5616360" cy="5210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227640" y="404640"/>
            <a:ext cx="25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 справки с места работ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1313" t="18343" r="31137" b="24512"/>
          <a:stretch/>
        </p:blipFill>
        <p:spPr>
          <a:xfrm>
            <a:off x="2195640" y="260280"/>
            <a:ext cx="540072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56000" y="530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я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8" name="Picture 4" descr="MOUSE1"/>
          <p:cNvPicPr/>
          <p:nvPr/>
        </p:nvPicPr>
        <p:blipFill>
          <a:blip r:embed="rId1"/>
          <a:stretch/>
        </p:blipFill>
        <p:spPr>
          <a:xfrm>
            <a:off x="6732720" y="5084640"/>
            <a:ext cx="119376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фициально-деловой стиль излож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Picture 6" descr="Язык документов отличает подчеркнутая логичность и безэмоциональность"/>
          <p:cNvPicPr/>
          <p:nvPr/>
        </p:nvPicPr>
        <p:blipFill>
          <a:blip r:embed="rId1"/>
          <a:stretch/>
        </p:blipFill>
        <p:spPr>
          <a:xfrm>
            <a:off x="3995640" y="1844640"/>
            <a:ext cx="4681800" cy="4227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971640" y="234936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30833" t="16423" r="33039" b="24074"/>
          <a:stretch/>
        </p:blipFill>
        <p:spPr>
          <a:xfrm>
            <a:off x="971640" y="260280"/>
            <a:ext cx="489564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6156360" y="333360"/>
            <a:ext cx="27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заявл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26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31096" t="19984" r="30194" b="19010"/>
          <a:stretch/>
        </p:blipFill>
        <p:spPr>
          <a:xfrm>
            <a:off x="971640" y="260280"/>
            <a:ext cx="517356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516720" y="333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резю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исьма оформляются на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бланке пись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роекты пис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готовятся исполнителями по поручению руководства предприят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8" name="Picture 4" descr="017"/>
          <p:cNvPicPr/>
          <p:nvPr/>
        </p:nvPicPr>
        <p:blipFill>
          <a:blip r:embed="rId1"/>
          <a:stretch/>
        </p:blipFill>
        <p:spPr>
          <a:xfrm>
            <a:off x="6804000" y="3429000"/>
            <a:ext cx="1079640" cy="10382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0372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Стадии подготовки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исьмо должно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2800"/>
            </a:b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сновные виды устав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государственной организации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 (утверждается вышестоящим органом – министерством, комитетом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муниципальн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городской или районной администрацие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коммерческ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общественной</a:t>
            </a:r>
            <a:r>
              <a:rPr b="1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съездом) участников организации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31686" t="19289" r="31981" b="20536"/>
          <a:stretch/>
        </p:blipFill>
        <p:spPr>
          <a:xfrm>
            <a:off x="684360" y="260280"/>
            <a:ext cx="515916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904000" y="33336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ис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 – просьб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31161" t="17763" r="31604" b="19109"/>
          <a:stretch/>
        </p:blipFill>
        <p:spPr>
          <a:xfrm>
            <a:off x="900000" y="26028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56360" y="333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-отве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30895" t="16565" r="30308" b="19415"/>
          <a:stretch/>
        </p:blipFill>
        <p:spPr>
          <a:xfrm>
            <a:off x="900000" y="333360"/>
            <a:ext cx="482760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580000" y="404640"/>
            <a:ext cx="41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гарантийного пись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ец информацион-ного письм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1141" t="18237" r="31186" b="12559"/>
          <a:stretch/>
        </p:blipFill>
        <p:spPr>
          <a:xfrm>
            <a:off x="82692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ы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3" descr="HMM"/>
          <p:cNvPicPr/>
          <p:nvPr/>
        </p:nvPicPr>
        <p:blipFill>
          <a:blip r:embed="rId1"/>
          <a:stretch/>
        </p:blipFill>
        <p:spPr>
          <a:xfrm>
            <a:off x="4038480" y="2057400"/>
            <a:ext cx="1416240" cy="38336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 должен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устав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оложения, инструкц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Положение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d3333"/>
                </a:solidFill>
                <a:latin typeface="Times New Roman"/>
              </a:rPr>
              <a:t>Инструкци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лжностная инструк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функции, права, обязанности и ответственность сотрудни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пред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рудовой договор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с работни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разрабатыв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структурного подраздел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визиру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юрисконсультом и кадровой службо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утвержд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или заместителем директора, курирующим это подразделение, или вводится приказ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Распорядитель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4751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20:15:18Z</dcterms:created>
  <dc:creator>Людмила Шипулина</dc:creator>
  <dc:description/>
  <dc:language>en-US</dc:language>
  <cp:lastModifiedBy>LEGION</cp:lastModifiedBy>
  <dcterms:modified xsi:type="dcterms:W3CDTF">2016-01-11T10:02:53Z</dcterms:modified>
  <cp:revision>43</cp:revision>
  <dc:subject/>
  <dc:title>Образцы основных документов управления</dc:title>
</cp:coreProperties>
</file>