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10.png" ContentType="image/png"/>
  <Override PartName="/ppt/media/image5.png" ContentType="image/png"/>
  <Override PartName="/ppt/media/image4.png" ContentType="image/png"/>
  <Override PartName="/ppt/media/image12.png" ContentType="image/png"/>
  <Override PartName="/ppt/media/image7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gif" ContentType="image/gif"/>
  <Override PartName="/ppt/media/image17.png" ContentType="image/png"/>
  <Override PartName="/ppt/media/image19.gif" ContentType="image/gi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BFF0-5CE8-4787-8F05-6674D85CF5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цы основных документов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цы основных документов управлен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авовой акт, издаваемый руководителем в целях разрешения производственных зада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правовой акт, издаваемый руководителем в целях разрешения производственных задач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ы предприятия делятся на две основные групп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ы по основной деятельности (производственным вопросам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ы по личному составу (персоналу предприяти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ой приказа является дата его подписания руководител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ы предприятия делятся на две основные группы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ы по основной деятельности (производственным вопросам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ы по личному составу (персоналу предприятия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атой приказа является дата его подписания руководителе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прика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приказ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 по личному состав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авовой акт, издаваемый руководителем, как правило, по вопросам приема, увольнения и перевода работников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 по личному составу – обязательный документ трудовых правоотнош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 по личному составу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правовой акт, издаваемый руководителем, как правило, по вопросам приема, увольнения и перевода работников предприят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 по личному составу – обязательный документ трудовых правоотношений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дного приказ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личному состав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водного приказа 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 личному составу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дного приказ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личному состав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водного приказа 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 личному составу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указ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указания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о-справочные докуме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око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ладные и служебные за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формационно-справочные документ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отокол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кладные и служебные записк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правки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 и др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око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фиксирующий ход обсуждения вопросов и коллегиального принятия решений на собраниях, совещаниях, заседан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ой протокола является дата проведения собр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отокол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фиксирующий ход обсуждения вопросов и коллегиального принятия решений на собраниях, совещаниях, заседаниях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атой протокола является дата проведения собран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полного прото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полного протокол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онные докуме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р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рганизационные документ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ложен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струкци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составленный несколькими лицами и подтверждающий конкретные факты или дейст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овидности ак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 приемки-передачи оборудован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 обследования места происшеств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 списания материальных ценност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 провер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ерческий акт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составленный несколькими лицами и подтверждающий конкретные факты или действ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азновидности актов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 приемки-передачи оборудования;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 обследования места происшествия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 списания материальных ценностей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 проверки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коммерческий акт и т.д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а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ладная запис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адресованный руководству, содержащий изложение какого-либо вопроса с выводами и предложениями составител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ладная записка может быть внешней и внутренн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жебная записка – документ, адресованный руководителю предприятия или структурного подразделения, используемый  для решения  производственных  вопросов, как правило, внутри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кладная записк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адресованный руководству, содержащий изложение какого-либо вопроса с выводами и предложениями составител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кладная записка может быть внешней и внутренней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лужебная записка – документ, адресованный руководителю предприятия или структурного подразделения, используемый  для решения  производственных  вопросов, как правило, внутри предприят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внутренн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ладной за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внутренней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кладной записк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яснительные за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яются по производственным вопросам и трудовым правоотноше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 объяснительной записки составляется в произвольной форме, как правило, с указанием причин, которые привели к каким-либо наруше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ъяснительные записк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оставляются по производственным вопросам и трудовым правоотношения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 объяснительной записки составляется в произвольной форме, как правило, с указанием причин, которые привели к каким-либо нарушения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внутренн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яснительной за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внутренней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ъяснительной записк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содержащий описание и (или) подтверждение фактов, собы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правка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описание и (или) подтверждение фактов, событий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справ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ки, подтверждающие работу (учебу), оплату труда, место проживания и т.п., составляются по запросам гражда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ки по производственным вопросам, составляются по запросу руководств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- внешние составляются по запрос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вышестоящей орган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внутренние составляются по запрос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руководства сво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Виды справок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правки, подтверждающие работу (учебу), оплату труда, место проживания и т.п., составляются по запросам граждан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правки по производственным вопросам, составляются по запросу руководства: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- внешние составляются по запросу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  вышестоящей организации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- внутренние составляются по запросу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  руководства своей организаци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 справки с места работ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 справки с места работы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внутренней справки по производственн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внутренней справки по производственной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еятельност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– это правовой акт, определяющий права, функции, структуру организации в сфере государственной, коммерческой или обще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формляется на стандартных листах бумаг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– это правовой акт, определяющий права, функции, структуру организации в сфере государственной, коммерческой или общественной деятельност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формляется на стандартных листах бумаг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содержащий просьбу или предлож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 заявления должен быть юридически правиль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принято употреблять архаизмы и канцеляризмы («весьма убедительно», «заранее признателен», «прошу не отказать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Заявлен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просьбу или предложение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 заявления должен быть юридически правильны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е принято употреблять архаизмы и канцеляризмы («весьма убедительно», «заранее признателен», «прошу не отказать»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фициально-деловой стиль из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зык документов отличается подчеркнутой логичностью и безэмоциональность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фициально-деловой стиль изложения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Язык документов отличается подчеркнутой логичностью и безэмоциональностью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зая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заявлен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юм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содержащий сведения, характеризующие уровень образования, профессиональные навыки и опыт работы претендента на долж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езюм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сведения, характеризующие уровень образования, профессиональные навыки и опыт работы претендента на должность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резюм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резюме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обобщенное название различных по содержанию документов, пересылаемых по почте, курьером, посредством факсимильной связи, электронной почтой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 оформляются на бланке пись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ы писем готовятся исполнителями по поручению руководства предпри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о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обобщенное название различных по содержанию документов, пересылаемых по почте, курьером, посредством факсимильной связи, электронной почтой и т.д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 оформляются на бланке письма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оекты писем готовятся исполнителями по поручению руководства предприят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одержанию и назначению письма могут бы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рукцио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арантий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лам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ер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ламацио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-за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-приглашения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 содержанию и назначению письма могут быть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струкцион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гарантий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формацион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еклам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коммерческ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екламацион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-запрос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-приглашения и др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дии подготовки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существа вопрос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бор необходимых сведений, в т.ч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из предыдущей перепис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 письм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гласование проекта (пр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необходимост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писание пись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тадии подготовки письм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зучение существа вопроса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бор необходимых сведений, в т.ч. 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из предыдущей переписки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дготовка проекта письма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огласование проекта (при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необходимости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дписание письма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о должно име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е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сылку на дату и номер получен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письма (в письмах-ответах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рес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головок (отвечающий на вопрос - о чем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пис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тку об исполнител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тку о наличии прилож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о должно иметь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ату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омер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сылку на дату и номер полученного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письма (в письмах-ответах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дресат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Заголовок (отвечающий на вопрос - о чем?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дпись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тметку об исполнителе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тметку о наличии приложений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виды уста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государственной организации  (утверждается вышестоящим органом – министерством, комитетом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муниципальной организации (утверждается городской или районной администрацие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коммерческой организации (утверждается общим собранием (учредителями, собственниками имущества) и регистрируется государственным органом (регистрационной палато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общественной организации (утверждается общим собранием (съездом) участников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сновные виды уставов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государственной организации  (утверждается вышестоящим органом – министерством, комитетом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муниципальной организации (утверждается городской или районной администрацией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коммерческой организации (утверждается общим собранием (учредителями, собственниками имущества) и регистрируется государственным органом (регистрационной палатой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общественной организации (утверждается общим собранием (съездом) участников организаци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исходяще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 – просьб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исходящего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 – просьбы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входяще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исьма-отв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входящего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-ответ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жен быть лаконичным, последовательным, убедительным и корректны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, как правило, не превышает одной страниц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ы и события должны представляться объектив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стороны излагаемого вопроса должны освещаться с достаточной полнотой, кратко и яс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 письм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лжен быть лаконичным, последовательным, убедительным и корректным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, как правило, не превышает одной страницы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Факты и события должны представляться объективно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Все стороны излагаемого вопроса должны освещаться с достаточной полнотой, кратко и ясно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гарантийного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гарантийного письм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информацион-ного пись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информацион-ного письма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Вопросы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Вопросы ?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должен име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менование орган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менование вида докумен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у (это дата утверждения устава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иф утвержд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тку о регистрации устава (для коммерческих организаци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о издания (город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писи учредителей или лиц, занимающих выборные должности (председателя, секретар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должен иметь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аименование организации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аименование вида документа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ату (это дата утверждения устава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Гриф утверждения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тметку о регистрации устава (для коммерческих организаций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Место издания (город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дписи учредителей или лиц, занимающих выборные должности (председателя, секретаря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 уста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ит из разделов, имеющих заголовки и нумерацию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, задачи, предмет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й стату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онная структура (органы управления, структурные подразделения и их взаимосвяз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о-материальная база (уставной капитал, акции, основные и оборотные средства, порядок распоряжения им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т и отчет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троль за финансово-хозяйственной деятельность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а и обязанности участн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ликвидации и реогр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 устав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остоит из разделов, имеющих заголовки и нумерацию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щие положен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Цели, задачи, предмет деятельност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авовой статус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рганизационная структура (органы управления, структурные подразделения и их взаимосвязи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Финансово-материальная база (уставной капитал, акции, основные и оборотные средства, порядок распоряжения ими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чет и отчетность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Контроль за финансово-хозяйственной деятельностью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ава и обязанности участников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рядок ликвидации и реогранизаци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жения, инстр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жение – нормативный акт, определяющий порядок образования, структуру, функции, права и обязанности организации, структурного подразделения, коллегиального органа (комисси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рукция – нормативный акт, регулирующий организационные, производственные, финансовые и иные вопросы деятельности организаций, предприятий и должностных ли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ложения, инструкци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ложение – нормативный акт, определяющий порядок образования, структуру, функции, права и обязанности организации, структурного подразделения, коллегиального органа (комиссии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струкция – нормативный акт, регулирующий организационные, производственные, финансовые и иные вопросы деятельности организаций, предприятий и должностных лиц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жностная инструк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нормативный документ, в котором определены функции, права, обязанности и ответственность сотрудника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сновании должностной инструкции разрабатывается трудовой договор с работн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жностная инструк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атывается  руководителем структурного подразде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зируется  юрисконсультом и кадровой службо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верждается  руководителем или заместителем директора, курирующим это подразделение, или вводится приказ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лжностная инструкц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нормативный документ, в котором определены функции, права, обязанности и ответственность сотрудника предприят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а основании должностной инструкции разрабатывается трудовой договор с работнико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лжностная инструкция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азрабатывается  руководителем структурного подразделения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визируется  юрисконсультом и кадровой службой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тверждается  руководителем или заместителем директора, курирующим это подразделение, или вводится приказо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рядительные докуме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ря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аз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аспорядительные документ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аспоряжен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казан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ешен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E0F7-2835-4A27-8677-966E2F2F9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BD9D-1431-48BD-8FA5-8CE17D45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3A17-7B62-4F74-998E-7784A90F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C76B-8482-40BC-94BD-00E6524D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29A9-834D-4E2E-BCF9-850AAC25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74C5-0C2D-48DE-B648-3FE6B09E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529B-B89D-45A3-B29E-283016B0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559C-117D-4B9D-81AC-21D447B9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CB1B-605E-4222-86D1-79D53049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1600-C0D1-4851-A9FF-A31E9BEB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0EEC-FC25-4736-AAB3-EC1C57F9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B2CD-3A42-4B2F-85A2-FA846707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1DCB-863E-4689-AEA5-F6EBAD5A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B765-CD61-44FF-AD95-6C36BEB3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914D-846B-4880-A65D-EB036352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7D51-9F3D-4D29-A172-12DA1DB9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E6C4-311E-4FBE-83F1-0D0B1057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CC0B-9C33-40C6-94C1-A41FEEC5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4CE6-810F-40F6-B593-C3306594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0EA5-A8A6-4DC6-B359-D06E6C69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2873-E25A-4D90-8A13-66B8CDDA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D6CE-F8DE-4F71-A4D4-49E04C94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17FF-E46D-4506-BCBC-89C83D8E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8D9F-A4E1-47B8-8D8E-B7F4ECC2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A0A6-57ED-40F3-A12E-949735EB6512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33A1-52D2-4683-91F0-F273F2C188A0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d3333"/>
                </a:solidFill>
                <a:latin typeface="Times New Roman"/>
              </a:rPr>
              <a:t>Образцы основных документов управления</a:t>
            </a:r>
            <a:endParaRPr b="0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98" name="Picture 6" descr="AG00280_(t)"/>
          <p:cNvPicPr/>
          <p:nvPr/>
        </p:nvPicPr>
        <p:blipFill>
          <a:blip r:embed="rId1"/>
          <a:stretch/>
        </p:blipFill>
        <p:spPr>
          <a:xfrm>
            <a:off x="3564000" y="371628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40056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иказ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Это правовой акт, издаваемый руководителем в целях разрешения производственных задач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Приказы предприятия делятся на две основные группы: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риказы по </a:t>
            </a: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основной деятельности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(производственным вопросам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риказы по </a:t>
            </a: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личному составу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(персоналу предприятия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187280" y="4581360"/>
            <a:ext cx="763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Датой приказа является</a:t>
            </a: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дата его подписания руководителем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"/>
          <p:cNvPicPr/>
          <p:nvPr/>
        </p:nvPicPr>
        <p:blipFill>
          <a:blip r:embed="rId1"/>
          <a:srcRect l="31141" t="16899" r="30308" b="18004"/>
          <a:stretch/>
        </p:blipFill>
        <p:spPr>
          <a:xfrm>
            <a:off x="1547640" y="189000"/>
            <a:ext cx="4977000" cy="6480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6516720" y="333360"/>
            <a:ext cx="230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приказ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иказ по личному составу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правовой акт, издаваемый руководителем, как правило, по вопросам приема, увольнения и перевода работников предприятия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d3333"/>
                </a:solidFill>
                <a:latin typeface="Times New Roman"/>
              </a:rPr>
              <a:t>Приказ по личному составу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– обязательный документ трудовых правоотношений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rcRect l="30308" t="15001" r="30308" b="15280"/>
          <a:stretch/>
        </p:blipFill>
        <p:spPr>
          <a:xfrm>
            <a:off x="900000" y="189000"/>
            <a:ext cx="4915080" cy="6524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5796000" y="189000"/>
            <a:ext cx="34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бразец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водного приказ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 личному составу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rcRect l="31141" t="16237" r="30308" b="17588"/>
          <a:stretch/>
        </p:blipFill>
        <p:spPr>
          <a:xfrm>
            <a:off x="900000" y="260280"/>
            <a:ext cx="4810320" cy="6337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5651640" y="260280"/>
            <a:ext cx="34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бразец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водного приказ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 личному составу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rcRect l="31141" t="16150" r="31264" b="19398"/>
          <a:stretch/>
        </p:blipFill>
        <p:spPr>
          <a:xfrm>
            <a:off x="971640" y="189000"/>
            <a:ext cx="5040360" cy="6481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6588000" y="333360"/>
            <a:ext cx="23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указания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Информационно-справочные документ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7280" y="1699920"/>
            <a:ext cx="7632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Протоколы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Акты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Докладные и служебные записки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Справки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Письма и др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отокол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фиксирующий ход обсуждения вопросов и коллегиального принятия решений на собраниях, совещаниях, заседаниях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042920" y="436572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d3333"/>
                </a:solidFill>
                <a:latin typeface="Times New Roman"/>
              </a:rPr>
              <a:t>Датой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ротокола является </a:t>
            </a:r>
            <a:r>
              <a:rPr b="0" lang="ru-RU" sz="3200" spc="-1" strike="noStrike" u="sng">
                <a:solidFill>
                  <a:srgbClr val="402000"/>
                </a:solidFill>
                <a:uFillTx/>
                <a:latin typeface="Times New Roman"/>
              </a:rPr>
              <a:t>дата проведения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собрания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rcRect l="31141" t="17052" r="30308" b="14252"/>
          <a:stretch/>
        </p:blipFill>
        <p:spPr>
          <a:xfrm>
            <a:off x="900000" y="115920"/>
            <a:ext cx="4903920" cy="65530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5940360" y="260280"/>
            <a:ext cx="277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полного протокол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Организационные документ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987640" y="2276640"/>
            <a:ext cx="40132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02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Уставы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02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Положения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02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Инструкции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Акт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составленный несколькими лицами и подтверждающий конкретные факты или действия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d3333"/>
                </a:solidFill>
                <a:latin typeface="Times New Roman"/>
              </a:rPr>
              <a:t>Разновидности актов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акт приемки-передачи оборудования;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акт обследования места происшествия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акт списания материальных ценностей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акт проверки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коммерческий акт и т.д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rcRect l="31141" t="15001" r="30308" b="16298"/>
          <a:stretch/>
        </p:blipFill>
        <p:spPr>
          <a:xfrm>
            <a:off x="1042920" y="260280"/>
            <a:ext cx="4794480" cy="64087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6445440" y="333360"/>
            <a:ext cx="221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кт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Докладная записк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Это документ, адресованный руководству, содержащий изложение какого-либо вопроса с выводами и предложениями составителя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Докладная записка может быть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внешней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и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внутренней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Служебная записка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– документ, адресованный руководителю предприятия или структурного подразделения, используемый  для решения  производственных  вопросов, как правило, внутри предприятия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rcRect l="32428" t="15001" r="32150" b="30085"/>
          <a:stretch/>
        </p:blipFill>
        <p:spPr>
          <a:xfrm>
            <a:off x="673200" y="260280"/>
            <a:ext cx="5389560" cy="6597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6048360" y="260280"/>
            <a:ext cx="3095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внутренней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докладной записки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Объяснительные записки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71640" y="2133720"/>
            <a:ext cx="77724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составляются по производственным вопросам и трудовым правоотношениям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текст объяснительной записки составляется в произвольной форме, как правило, с указанием причин, которые привели к каким-либо нарушениям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rcRect l="32166" t="18474" r="33019" b="34854"/>
          <a:stretch/>
        </p:blipFill>
        <p:spPr>
          <a:xfrm>
            <a:off x="324000" y="333360"/>
            <a:ext cx="5276880" cy="59770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5580000" y="476280"/>
            <a:ext cx="324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разец внутренней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ъяснительной записки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равка</a:t>
            </a: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описание и (или) подтверждение фактов, событий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Виды справок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03280" y="177336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правки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, подтверждающие работу (учебу), оплату труда, место проживания и т.п., составляются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о запросам граждан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правки по производственным вопросам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, составляются по запросу руководства:</a:t>
            </a:r>
            <a:br>
              <a:rPr sz="2800"/>
            </a:b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-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внешние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составляются по запросу</a:t>
            </a:r>
            <a:br>
              <a:rPr sz="2800"/>
            </a:b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вышестоящей организации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внутренние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составляются по запросу</a:t>
            </a:r>
            <a:br>
              <a:rPr sz="2800"/>
            </a:b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руководства своей организации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rcRect l="30854" t="16248" r="31157" b="43910"/>
          <a:stretch/>
        </p:blipFill>
        <p:spPr>
          <a:xfrm>
            <a:off x="611280" y="260280"/>
            <a:ext cx="5616360" cy="52102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6227640" y="404640"/>
            <a:ext cx="259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 справки с места работы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rcRect l="31313" t="18343" r="31137" b="24512"/>
          <a:stretch/>
        </p:blipFill>
        <p:spPr>
          <a:xfrm>
            <a:off x="2195640" y="260280"/>
            <a:ext cx="5400720" cy="6264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2556000" y="5300640"/>
            <a:ext cx="518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бразец внутренней справки по производственной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еятельности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Уста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Устав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– это правовой акт, определяющий права, функции, структуру организации в сфере государственной, коммерческой или общественной деятельности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Оформляется на стандартных листах бумаги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Заявление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просьбу или предложение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Текст заявления должен быть юридически правильным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Не принято употреблять архаизмы и канцеляризмы («весьма убедительно», «заранее признателен», «прошу не отказать»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88" name="Picture 4" descr="MOUSE1"/>
          <p:cNvPicPr/>
          <p:nvPr/>
        </p:nvPicPr>
        <p:blipFill>
          <a:blip r:embed="rId1"/>
          <a:stretch/>
        </p:blipFill>
        <p:spPr>
          <a:xfrm>
            <a:off x="6732720" y="5084640"/>
            <a:ext cx="1193760" cy="12956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Официально-деловой стиль изложения</a:t>
            </a:r>
            <a:r>
              <a:rPr b="0" lang="ru-RU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91" name="Picture 6" descr="Язык документов отличает подчеркнутая логичность и безэмоциональность"/>
          <p:cNvPicPr/>
          <p:nvPr/>
        </p:nvPicPr>
        <p:blipFill>
          <a:blip r:embed="rId1"/>
          <a:stretch/>
        </p:blipFill>
        <p:spPr>
          <a:xfrm>
            <a:off x="3995640" y="1844640"/>
            <a:ext cx="4681800" cy="42274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7"/>
          <p:cNvSpPr/>
          <p:nvPr/>
        </p:nvSpPr>
        <p:spPr>
          <a:xfrm>
            <a:off x="971640" y="234936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Язык документов отличается подчеркнутой логичностью и безэмоциональностью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rcRect l="30833" t="16423" r="33039" b="24074"/>
          <a:stretch/>
        </p:blipFill>
        <p:spPr>
          <a:xfrm>
            <a:off x="971640" y="260280"/>
            <a:ext cx="4895640" cy="6264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6156360" y="333360"/>
            <a:ext cx="277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заявления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езюме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7772400" cy="26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сведения, характеризующие уровень образования, профессиональные навыки и опыт работы претендента на должность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rcRect l="31096" t="19984" r="30194" b="19010"/>
          <a:stretch/>
        </p:blipFill>
        <p:spPr>
          <a:xfrm>
            <a:off x="971640" y="260280"/>
            <a:ext cx="5173560" cy="6408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6516720" y="333360"/>
            <a:ext cx="23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резюме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исьмо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обобщенное название различных по содержанию документов, пересылаемых по почте, курьером, посредством факсимильной связи, электронной почтой и т.д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исьма оформляются на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бланке письма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Проекты писем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готовятся исполнителями по поручению руководства предприятия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08" name="Picture 4" descr="017"/>
          <p:cNvPicPr/>
          <p:nvPr/>
        </p:nvPicPr>
        <p:blipFill>
          <a:blip r:embed="rId1"/>
          <a:stretch/>
        </p:blipFill>
        <p:spPr>
          <a:xfrm>
            <a:off x="6804000" y="3429000"/>
            <a:ext cx="1079640" cy="10382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По содержанию и назначению письма могут быть: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0372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инструкцион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гарантий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информацион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реклам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коммерчески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рекламацион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письма-запросы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письма-приглашения и др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Стадии подготовки письм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31640" y="1773360"/>
            <a:ext cx="711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Изучение существа вопроса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Сбор необходимых сведений, в т.ч. </a:t>
            </a:r>
            <a:br>
              <a:rPr sz="3200"/>
            </a:b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из предыдущей переписки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одготовка проекта письма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Согласование проекта (при</a:t>
            </a:r>
            <a:br>
              <a:rPr sz="3200"/>
            </a:b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необходимости)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одписание письма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Письмо должно иметь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84836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Дату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Номер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Ссылку на дату и номер полученного</a:t>
            </a:r>
            <a:br>
              <a:rPr sz="2800"/>
            </a:b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 письма (в письмах-ответах)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Адресат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Заголовок (отвечающий на вопрос - о чем?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Текст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Подпись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Отметку об исполнителе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Отметку о наличии приложений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Основные виды устав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Устав государственной организации</a:t>
            </a: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  (утверждается вышестоящим органом – министерством, комитетом)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Устав муниципальной организации</a:t>
            </a:r>
            <a:r>
              <a:rPr b="0" lang="ru-RU" sz="2600" spc="-1" strike="noStrike">
                <a:solidFill>
                  <a:srgbClr val="cd3333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(утверждается городской или районной администрацией)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Устав коммерческой организации</a:t>
            </a:r>
            <a:r>
              <a:rPr b="0" lang="ru-RU" sz="2600" spc="-1" strike="noStrike">
                <a:solidFill>
                  <a:srgbClr val="cd3333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(утверждается общим собранием (учредителями, собственниками имущества) и регистрируется государственным органом (регистрационной палатой)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Устав общественной</a:t>
            </a:r>
            <a:r>
              <a:rPr b="1" lang="ru-RU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организации</a:t>
            </a:r>
            <a:r>
              <a:rPr b="0" lang="ru-RU" sz="2600" spc="-1" strike="noStrike">
                <a:solidFill>
                  <a:srgbClr val="cd3333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(утверждается общим собранием (съездом) участников организации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rcRect l="31686" t="19289" r="31981" b="20536"/>
          <a:stretch/>
        </p:blipFill>
        <p:spPr>
          <a:xfrm>
            <a:off x="684360" y="260280"/>
            <a:ext cx="5159160" cy="63374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5904000" y="333360"/>
            <a:ext cx="324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исходящего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исьма – просьбы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rcRect l="31161" t="17763" r="31604" b="19109"/>
          <a:stretch/>
        </p:blipFill>
        <p:spPr>
          <a:xfrm>
            <a:off x="900000" y="260280"/>
            <a:ext cx="5040360" cy="64087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6156360" y="333360"/>
            <a:ext cx="345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входящего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исьма-ответ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Текст письм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Должен быть лаконичным, последовательным, убедительным и корректным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Текст, как правило, не превышает одной страницы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Факты и события должны представляться объективно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Все стороны излагаемого вопроса должны освещаться с достаточной полнотой, кратко и ясно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rcRect l="30895" t="16565" r="30308" b="19415"/>
          <a:stretch/>
        </p:blipFill>
        <p:spPr>
          <a:xfrm>
            <a:off x="900000" y="333360"/>
            <a:ext cx="4827600" cy="626436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5580000" y="404640"/>
            <a:ext cx="410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гарантийного письм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96000" y="764640"/>
            <a:ext cx="33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бразец информацион-ного письма</a:t>
            </a:r>
            <a:r>
              <a:rPr b="0" lang="ru-RU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rcRect l="31141" t="18237" r="31186" b="12559"/>
          <a:stretch/>
        </p:blipFill>
        <p:spPr>
          <a:xfrm>
            <a:off x="826920" y="260280"/>
            <a:ext cx="4969080" cy="63374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опросы 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5" name="Picture 3" descr="HMM"/>
          <p:cNvPicPr/>
          <p:nvPr/>
        </p:nvPicPr>
        <p:blipFill>
          <a:blip r:embed="rId1"/>
          <a:stretch/>
        </p:blipFill>
        <p:spPr>
          <a:xfrm>
            <a:off x="4038480" y="2057400"/>
            <a:ext cx="1416240" cy="383364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Устав должен иметь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Наименование организаци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Наименование вида документ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Дату (это дата утверждения устава)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Гриф утверждения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Отметку о регистрации устава (для коммерческих организаций)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Место издания (город)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Текст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Подписи учредителей или лиц, занимающих выборные должности (председателя, секретаря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Текст устав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9930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Состоит из разделов, имеющих заголовки и нумерацию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Общие положения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Цели, задачи, предмет деятельности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равовой статус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Организационная структура (органы управления, структурные подразделения и их взаимосвязи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Финансово-материальная база (уставной капитал, акции, основные и оборотные средства, порядок распоряжения ими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Учет и отчетность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Контроль за финансово-хозяйственной деятельностью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рава и обязанности участников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орядок ликвидации и реогранизации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Положения, инструкции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Положение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– нормативный акт, определяющий порядок образования, структуру, функции, права и обязанности организации, структурного подразделения, коллегиального органа (комиссии)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d3333"/>
                </a:solidFill>
                <a:latin typeface="Times New Roman"/>
              </a:rPr>
              <a:t>Инструкция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– нормативный акт, регулирующий организационные, производственные, финансовые и иные вопросы деятельности организаций, предприятий и должностных лиц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Должностная инструкция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5640" y="1773000"/>
            <a:ext cx="7777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Это нормативный документ, в котором определены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функции, права, обязанности и ответственность сотрудника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предприятия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На основании должностной инструкции разрабатывается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трудовой договор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с работником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Должностная инструкция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2000"/>
                </a:solidFill>
                <a:uFillTx/>
                <a:latin typeface="Times New Roman"/>
              </a:rPr>
              <a:t>разрабатывается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руководителем структурного подразделения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2000"/>
                </a:solidFill>
                <a:uFillTx/>
                <a:latin typeface="Times New Roman"/>
              </a:rPr>
              <a:t>визируется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юрисконсультом и кадровой службой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2000"/>
                </a:solidFill>
                <a:uFillTx/>
                <a:latin typeface="Times New Roman"/>
              </a:rPr>
              <a:t>утверждается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руководителем или заместителем директора, курирующим это подразделение, или вводится приказом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772400" cy="10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Распорядительные документ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00360" y="2060640"/>
            <a:ext cx="47512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Приказ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Распоряжение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Указание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Решение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20:15:18Z</dcterms:created>
  <dc:creator>Людмила Шипулина</dc:creator>
  <dc:description/>
  <dc:language>en-US</dc:language>
  <cp:lastModifiedBy>LEGION</cp:lastModifiedBy>
  <dcterms:modified xsi:type="dcterms:W3CDTF">2016-01-11T10:02:53Z</dcterms:modified>
  <cp:revision>43</cp:revision>
  <dc:subject/>
  <dc:title>Образцы основных документов управления</dc:title>
</cp:coreProperties>
</file>