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05BB-CE91-40E7-B32D-FB072F196C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8F6-81FA-44FD-9D0B-A064DB00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60C-3BF0-4D7F-9532-F04A71E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066-707C-4DB4-AB5E-CA80A3BB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A45-4875-41B3-9ACD-9B71EA6E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133F-BA87-4085-9EC0-04384983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FC99-88B5-4413-A524-15CFAB84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E97F-7383-42AA-AC0A-AF50752F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7018-3120-483E-B262-A2F47864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FA8-4679-43C6-B353-781E56CC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3999-ADB9-4128-80A7-07D27A3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8972-38CE-4D06-AD50-FDEBEF7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D51-B236-4064-9F11-75DD56E9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5699-50D1-403C-A373-FC2D7F9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713-5313-4C36-B58B-B5B4B49E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F79C-A410-4539-8129-A397F7C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1A7-6456-46E1-B515-A89C2F04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1586-024A-4CD8-9414-12620A5C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C8D-4EB1-44CA-B99C-4581213B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2E6-7701-4443-ABAB-ADC6990A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2E2-893A-4451-A8E4-03E4E8B6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43E-E724-46DA-8397-78B73493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EE5-5B86-49EA-A2AD-BD7567AD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C0D-0707-455B-9BDA-50B01C35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07A-8765-48DB-92D2-7BD8886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0A54-850B-4BB2-BE46-30F74F081FE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3F0A-7FB8-4442-8BD3-F3923F6E589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3333"/>
                </a:solidFill>
                <a:latin typeface="Times New Roman"/>
              </a:rPr>
              <a:t>Образцы основных документов управления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6" descr="AG00280_(t)"/>
          <p:cNvPicPr/>
          <p:nvPr/>
        </p:nvPicPr>
        <p:blipFill>
          <a:blip r:embed="rId1"/>
          <a:stretch/>
        </p:blipFill>
        <p:spPr>
          <a:xfrm>
            <a:off x="3564000" y="371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40056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основной деятельност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роизводственным вопросам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ерсоналу предприятия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458136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Датой приказа является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ата его подписания руководителе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rcRect l="31141" t="16899" r="30308" b="18004"/>
          <a:stretch/>
        </p:blipFill>
        <p:spPr>
          <a:xfrm>
            <a:off x="1547640" y="189000"/>
            <a:ext cx="4977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16720" y="33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риказ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 по личному состав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Приказ по 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обязательный документ трудовых правоотноше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30308" t="15001" r="30308" b="15280"/>
          <a:stretch/>
        </p:blipFill>
        <p:spPr>
          <a:xfrm>
            <a:off x="900000" y="189000"/>
            <a:ext cx="491508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796000" y="18900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31141" t="16237" r="30308" b="17588"/>
          <a:stretch/>
        </p:blipFill>
        <p:spPr>
          <a:xfrm>
            <a:off x="900000" y="260280"/>
            <a:ext cx="4810320" cy="633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651640" y="26028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31141" t="16150" r="31264" b="19398"/>
          <a:stretch/>
        </p:blipFill>
        <p:spPr>
          <a:xfrm>
            <a:off x="971640" y="189000"/>
            <a:ext cx="5040360" cy="6481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588000" y="33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указания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Информационно-справоч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42920" y="4365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Датой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отокола является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дата проведения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собран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1141" t="17052" r="30308" b="14252"/>
          <a:stretch/>
        </p:blipFill>
        <p:spPr>
          <a:xfrm>
            <a:off x="900000" y="115920"/>
            <a:ext cx="4903920" cy="655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940360" y="260280"/>
            <a:ext cx="27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олного протокол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рганизацион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7640" y="2276640"/>
            <a:ext cx="401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Разновидности акто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1141" t="15001" r="30308" b="16298"/>
          <a:stretch/>
        </p:blipFill>
        <p:spPr>
          <a:xfrm>
            <a:off x="1042920" y="260280"/>
            <a:ext cx="4794480" cy="640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445440" y="33336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к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кладная запис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Служебная записка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32428" t="15001" r="32150" b="30085"/>
          <a:stretch/>
        </p:blipFill>
        <p:spPr>
          <a:xfrm>
            <a:off x="673200" y="260280"/>
            <a:ext cx="538956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048360" y="260280"/>
            <a:ext cx="30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кладной запис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ъяснительные запис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rcRect l="32166" t="18474" r="33019" b="34854"/>
          <a:stretch/>
        </p:blipFill>
        <p:spPr>
          <a:xfrm>
            <a:off x="324000" y="333360"/>
            <a:ext cx="5276880" cy="597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80000" y="47628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яснительной запис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равка</a:t>
            </a: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Виды справок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подтверждающие работу (учебу), оплату труда, место проживания и т.п., составляю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 запросам граждан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 по производственным вопросам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составляются по запросу руководства: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30854" t="16248" r="31157" b="43910"/>
          <a:stretch/>
        </p:blipFill>
        <p:spPr>
          <a:xfrm>
            <a:off x="611280" y="260280"/>
            <a:ext cx="5616360" cy="5210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227640" y="404640"/>
            <a:ext cx="25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 справки с места работ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1313" t="18343" r="31137" b="24512"/>
          <a:stretch/>
        </p:blipFill>
        <p:spPr>
          <a:xfrm>
            <a:off x="2195640" y="260280"/>
            <a:ext cx="540072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56000" y="530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я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8" name="Picture 4" descr="MOUSE1"/>
          <p:cNvPicPr/>
          <p:nvPr/>
        </p:nvPicPr>
        <p:blipFill>
          <a:blip r:embed="rId1"/>
          <a:stretch/>
        </p:blipFill>
        <p:spPr>
          <a:xfrm>
            <a:off x="6732720" y="5084640"/>
            <a:ext cx="119376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фициально-деловой стиль излож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Picture 6" descr="Язык документов отличает подчеркнутая логичность и безэмоциональность"/>
          <p:cNvPicPr/>
          <p:nvPr/>
        </p:nvPicPr>
        <p:blipFill>
          <a:blip r:embed="rId1"/>
          <a:stretch/>
        </p:blipFill>
        <p:spPr>
          <a:xfrm>
            <a:off x="3995640" y="1844640"/>
            <a:ext cx="4681800" cy="4227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971640" y="234936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30833" t="16423" r="33039" b="24074"/>
          <a:stretch/>
        </p:blipFill>
        <p:spPr>
          <a:xfrm>
            <a:off x="971640" y="260280"/>
            <a:ext cx="489564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6156360" y="333360"/>
            <a:ext cx="27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заявл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26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31096" t="19984" r="30194" b="19010"/>
          <a:stretch/>
        </p:blipFill>
        <p:spPr>
          <a:xfrm>
            <a:off x="971640" y="260280"/>
            <a:ext cx="517356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516720" y="333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резю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исьма оформляются на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бланке пись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роекты пис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готовятся исполнителями по поручению руководства предприят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8" name="Picture 4" descr="017"/>
          <p:cNvPicPr/>
          <p:nvPr/>
        </p:nvPicPr>
        <p:blipFill>
          <a:blip r:embed="rId1"/>
          <a:stretch/>
        </p:blipFill>
        <p:spPr>
          <a:xfrm>
            <a:off x="6804000" y="3429000"/>
            <a:ext cx="1079640" cy="10382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0372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Стадии подготовки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исьмо должно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2800"/>
            </a:b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сновные виды устав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государственной организации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 (утверждается вышестоящим органом – министерством, комитетом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муниципальн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городской или районной администрацие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коммерческ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общественной</a:t>
            </a:r>
            <a:r>
              <a:rPr b="1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съездом) участников организации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31686" t="19289" r="31981" b="20536"/>
          <a:stretch/>
        </p:blipFill>
        <p:spPr>
          <a:xfrm>
            <a:off x="684360" y="260280"/>
            <a:ext cx="515916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904000" y="33336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ис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 – просьб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31161" t="17763" r="31604" b="19109"/>
          <a:stretch/>
        </p:blipFill>
        <p:spPr>
          <a:xfrm>
            <a:off x="900000" y="26028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56360" y="333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-отве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30895" t="16565" r="30308" b="19415"/>
          <a:stretch/>
        </p:blipFill>
        <p:spPr>
          <a:xfrm>
            <a:off x="900000" y="333360"/>
            <a:ext cx="482760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580000" y="404640"/>
            <a:ext cx="41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гарантийного пись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ец информацион-ного письм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1141" t="18237" r="31186" b="12559"/>
          <a:stretch/>
        </p:blipFill>
        <p:spPr>
          <a:xfrm>
            <a:off x="82692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ы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3" descr="HMM"/>
          <p:cNvPicPr/>
          <p:nvPr/>
        </p:nvPicPr>
        <p:blipFill>
          <a:blip r:embed="rId1"/>
          <a:stretch/>
        </p:blipFill>
        <p:spPr>
          <a:xfrm>
            <a:off x="4038480" y="2057400"/>
            <a:ext cx="1416240" cy="38336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 должен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устав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оложения, инструкц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Положение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d3333"/>
                </a:solidFill>
                <a:latin typeface="Times New Roman"/>
              </a:rPr>
              <a:t>Инструкци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лжностная инструк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функции, права, обязанности и ответственность сотрудни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пред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рудовой договор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с работни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разрабатыв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структурного подраздел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визиру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юрисконсультом и кадровой службо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утвержд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или заместителем директора, курирующим это подразделение, или вводится приказ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Распорядитель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4751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20:15:18Z</dcterms:created>
  <dc:creator>Людмила Шипулина</dc:creator>
  <dc:description/>
  <dc:language>en-US</dc:language>
  <cp:lastModifiedBy>LEGION</cp:lastModifiedBy>
  <dcterms:modified xsi:type="dcterms:W3CDTF">2016-01-11T10:02:53Z</dcterms:modified>
  <cp:revision>43</cp:revision>
  <dc:subject/>
  <dc:title>Образцы основных документов управления</dc:title>
</cp:coreProperties>
</file>