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1B89-DC21-4FCB-981D-7A3382DB62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EFF-2C4F-4F43-8B6F-52707A2E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1C2-A194-4A9C-8096-C2800B08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83B-65CF-42CF-A2C7-C08AC322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147-F00A-4A88-B0DB-B07A16AF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A869-982B-46F5-B399-780E6E9E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C0CE-C1A1-438F-9F55-96A1D55C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9A20-2539-49EE-A3E9-C568505B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C1C0-889E-4BE1-94B5-C5D15342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F743-437F-4E6B-BBE4-1395AAED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10F4-BECB-4111-9137-1F97D5E1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FA3B-0531-4B09-B703-2A3C7C05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C96-BACE-45AB-BB45-794A3501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643E-A617-4E4F-B9CC-1071F60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BA28-35E8-4992-881B-7DBD3E5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49C3-7AB1-49F4-9475-997070DE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CCFC-EE32-4A8B-9BE0-EFA49BC2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003E-D0A7-4AC7-8D0C-F998AA09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D34-3FCB-4D99-BD78-B136585B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03D-A9BC-4F46-861F-10FC7A91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5FB-E2E9-4748-AF4A-9BE615E6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135-93B5-4B02-B911-5EE1C810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285-5887-4ACB-87CF-BA5F7897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2F1-8D59-4500-A9C0-1EC2637F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943-E824-490C-999A-7A74D155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9955-E47A-4B9C-877F-BBD014D5C2BA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77B9-43A2-4BA0-95D9-9DB54D8637EA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d3333"/>
                </a:solidFill>
                <a:latin typeface="Times New Roman"/>
              </a:rPr>
              <a:t>Образцы основных документов управления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Picture 6" descr="AG00280_(t)"/>
          <p:cNvPicPr/>
          <p:nvPr/>
        </p:nvPicPr>
        <p:blipFill>
          <a:blip r:embed="rId1"/>
          <a:stretch/>
        </p:blipFill>
        <p:spPr>
          <a:xfrm>
            <a:off x="3564000" y="3716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40056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основной деятельност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роизводственным вопросам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ерсоналу предприятия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4581360"/>
            <a:ext cx="763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Датой приказа является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ата его подписания руководителе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1"/>
          <a:srcRect l="31141" t="16899" r="30308" b="18004"/>
          <a:stretch/>
        </p:blipFill>
        <p:spPr>
          <a:xfrm>
            <a:off x="1547640" y="189000"/>
            <a:ext cx="4977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516720" y="333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риказ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 по личному состав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Приказ по 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обязательный документ трудовых правоотношен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30308" t="15001" r="30308" b="15280"/>
          <a:stretch/>
        </p:blipFill>
        <p:spPr>
          <a:xfrm>
            <a:off x="900000" y="189000"/>
            <a:ext cx="4915080" cy="652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796000" y="18900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rcRect l="31141" t="16237" r="30308" b="17588"/>
          <a:stretch/>
        </p:blipFill>
        <p:spPr>
          <a:xfrm>
            <a:off x="900000" y="260280"/>
            <a:ext cx="4810320" cy="6337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651640" y="26028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31141" t="16150" r="31264" b="19398"/>
          <a:stretch/>
        </p:blipFill>
        <p:spPr>
          <a:xfrm>
            <a:off x="971640" y="189000"/>
            <a:ext cx="5040360" cy="6481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588000" y="33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указания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Информационно-справоч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42920" y="436572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Датой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отокола является </a:t>
            </a:r>
            <a:r>
              <a:rPr b="0" lang="ru-RU" sz="3200" spc="-1" strike="noStrike" u="sng">
                <a:solidFill>
                  <a:srgbClr val="402000"/>
                </a:solidFill>
                <a:uFillTx/>
                <a:latin typeface="Times New Roman"/>
              </a:rPr>
              <a:t>дата проведения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собран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1141" t="17052" r="30308" b="14252"/>
          <a:stretch/>
        </p:blipFill>
        <p:spPr>
          <a:xfrm>
            <a:off x="900000" y="115920"/>
            <a:ext cx="4903920" cy="655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940360" y="260280"/>
            <a:ext cx="27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олного протокол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рганизацион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87640" y="2276640"/>
            <a:ext cx="401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Разновидности акто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31141" t="15001" r="30308" b="16298"/>
          <a:stretch/>
        </p:blipFill>
        <p:spPr>
          <a:xfrm>
            <a:off x="1042920" y="260280"/>
            <a:ext cx="4794480" cy="640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445440" y="333360"/>
            <a:ext cx="221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к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кладная запис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Служебная записка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32428" t="15001" r="32150" b="30085"/>
          <a:stretch/>
        </p:blipFill>
        <p:spPr>
          <a:xfrm>
            <a:off x="673200" y="260280"/>
            <a:ext cx="538956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048360" y="260280"/>
            <a:ext cx="309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кладной записк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бъяснительные записк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rcRect l="32166" t="18474" r="33019" b="34854"/>
          <a:stretch/>
        </p:blipFill>
        <p:spPr>
          <a:xfrm>
            <a:off x="324000" y="333360"/>
            <a:ext cx="5276880" cy="5977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580000" y="47628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ъяснительной записк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равка</a:t>
            </a: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Виды справок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подтверждающие работу (учебу), оплату труда, место проживания и т.п., составляю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 запросам граждан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 по производственным вопросам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составляются по запросу руководства: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30854" t="16248" r="31157" b="43910"/>
          <a:stretch/>
        </p:blipFill>
        <p:spPr>
          <a:xfrm>
            <a:off x="611280" y="260280"/>
            <a:ext cx="5616360" cy="5210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6227640" y="404640"/>
            <a:ext cx="25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 справки с места работ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31313" t="18343" r="31137" b="24512"/>
          <a:stretch/>
        </p:blipFill>
        <p:spPr>
          <a:xfrm>
            <a:off x="2195640" y="260280"/>
            <a:ext cx="540072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556000" y="530064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я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8" name="Picture 4" descr="MOUSE1"/>
          <p:cNvPicPr/>
          <p:nvPr/>
        </p:nvPicPr>
        <p:blipFill>
          <a:blip r:embed="rId1"/>
          <a:stretch/>
        </p:blipFill>
        <p:spPr>
          <a:xfrm>
            <a:off x="6732720" y="5084640"/>
            <a:ext cx="1193760" cy="12956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фициально-деловой стиль изложения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Picture 6" descr="Язык документов отличает подчеркнутая логичность и безэмоциональность"/>
          <p:cNvPicPr/>
          <p:nvPr/>
        </p:nvPicPr>
        <p:blipFill>
          <a:blip r:embed="rId1"/>
          <a:stretch/>
        </p:blipFill>
        <p:spPr>
          <a:xfrm>
            <a:off x="3995640" y="1844640"/>
            <a:ext cx="4681800" cy="4227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971640" y="234936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rcRect l="30833" t="16423" r="33039" b="24074"/>
          <a:stretch/>
        </p:blipFill>
        <p:spPr>
          <a:xfrm>
            <a:off x="971640" y="260280"/>
            <a:ext cx="4895640" cy="626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6156360" y="333360"/>
            <a:ext cx="27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заявл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26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31096" t="19984" r="30194" b="19010"/>
          <a:stretch/>
        </p:blipFill>
        <p:spPr>
          <a:xfrm>
            <a:off x="971640" y="260280"/>
            <a:ext cx="5173560" cy="6408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6516720" y="33336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резюм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исьма оформляются на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бланке письм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роекты пис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готовятся исполнителями по поручению руководства предприят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8" name="Picture 4" descr="017"/>
          <p:cNvPicPr/>
          <p:nvPr/>
        </p:nvPicPr>
        <p:blipFill>
          <a:blip r:embed="rId1"/>
          <a:stretch/>
        </p:blipFill>
        <p:spPr>
          <a:xfrm>
            <a:off x="6804000" y="3429000"/>
            <a:ext cx="1079640" cy="10382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0372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Стадии подготовки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исьмо должно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48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2800"/>
            </a:b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сновные виды устав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государственной организации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 (утверждается вышестоящим органом – министерством, комитетом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муниципальн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городской или районной администрацие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коммерческ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общественной</a:t>
            </a:r>
            <a:r>
              <a:rPr b="1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съездом) участников организации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31686" t="19289" r="31981" b="20536"/>
          <a:stretch/>
        </p:blipFill>
        <p:spPr>
          <a:xfrm>
            <a:off x="684360" y="260280"/>
            <a:ext cx="5159160" cy="6337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904000" y="33336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ис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 – просьб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31161" t="17763" r="31604" b="19109"/>
          <a:stretch/>
        </p:blipFill>
        <p:spPr>
          <a:xfrm>
            <a:off x="900000" y="26028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6156360" y="33336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-отве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30895" t="16565" r="30308" b="19415"/>
          <a:stretch/>
        </p:blipFill>
        <p:spPr>
          <a:xfrm>
            <a:off x="900000" y="333360"/>
            <a:ext cx="4827600" cy="6264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5580000" y="404640"/>
            <a:ext cx="41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гарантийного письм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ец информацион-ного письм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31141" t="18237" r="31186" b="12559"/>
          <a:stretch/>
        </p:blipFill>
        <p:spPr>
          <a:xfrm>
            <a:off x="826920" y="260280"/>
            <a:ext cx="4969080" cy="63374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ы 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5" name="Picture 3" descr="HMM"/>
          <p:cNvPicPr/>
          <p:nvPr/>
        </p:nvPicPr>
        <p:blipFill>
          <a:blip r:embed="rId1"/>
          <a:stretch/>
        </p:blipFill>
        <p:spPr>
          <a:xfrm>
            <a:off x="4038480" y="2057400"/>
            <a:ext cx="1416240" cy="38336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 должен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устав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оложения, инструкци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Положение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d3333"/>
                </a:solidFill>
                <a:latin typeface="Times New Roman"/>
              </a:rPr>
              <a:t>Инструкци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Должностная инструк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функции, права, обязанности и ответственность сотрудника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предприят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рудовой договор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с работник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разрабатыв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структурного подраздел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визиру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юрисконсультом и кадровой службо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утвержд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или заместителем директора, курирующим это подразделение, или вводится приказ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Распорядитель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00360" y="2060640"/>
            <a:ext cx="4751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20:15:18Z</dcterms:created>
  <dc:creator>Людмила Шипулина</dc:creator>
  <dc:description/>
  <dc:language>en-US</dc:language>
  <cp:lastModifiedBy>LEGION</cp:lastModifiedBy>
  <dcterms:modified xsi:type="dcterms:W3CDTF">2016-01-11T10:02:53Z</dcterms:modified>
  <cp:revision>43</cp:revision>
  <dc:subject/>
  <dc:title>Образцы основных документов управления</dc:title>
</cp:coreProperties>
</file>