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9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2960"/>
            <a:ext cx="4889520" cy="36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692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8BE2-BE94-40E1-AD44-D93474F81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орная презентация по одноименной книг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А. Нов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[Большой энциклопедический словарь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направление движением кого/чего-нибудь, руководство действиями кого-нибудь» [Словарь русского языка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ebster’s dictionary предлагает следующие значения терминов «control» и «management», которые соответствуют (в зависимости от объекта управления) русскому термину «управление»: «control – an activity or organization that directs or regulates an activity»; «management – art or science of directing, conducting and administering the work of others to achieve defined objectives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[Большой энциклопедический словарь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направление движением кого/чего-нибудь, руководство действиями кого-нибудь» [Словарь русского языка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ebster’s dictionary предлагает следующие значения терминов «control» и «management», которые соответствуют (в зависимости от объекта управления) русскому термину «управление»: «control – an activity or organization that directs or regulates an activity»; «management – art or science of directing, conducting and administering the work of others to achieve defined objectives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 управ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РГАНИЗАЦИИ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екта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 управ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РГАНИЗАЦИИ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екта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КОМПОНЕН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КОМПОНЕН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, ЛОГИЧЕСКАЯ И ВРЕМ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, ЛОГИЧЕСКАЯ И ВРЕМ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ультат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ультат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называется достаточное условие для чего-либ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познания, мысли,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называется достаточное условие для чего-либ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познания, мысли,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 Мэйо, И.П. Павлов, Г. Саймон, П. Сорокин, Ф. Тейлор, А. Файоль, З. Фрейд, Э. Фромм, К. Хорни, К. Юнг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 Различные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 Мэйо, И.П. Павлов, Г. Саймон, П. Сорокин, Ф. Тейлор, А. Файоль, З. Фрейд, Э. Фромм, К. Хорни, К. Юнг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 Различные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И ТЕОР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11. Механизмы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И ТЕОР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11. Механизмы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 организацио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тип – знаниев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 организацио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тип – знаниев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ОРГАНИЗАЦИОНН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ОРГАНИЗАЦИОНН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ССЛЕДОВАНИЯ В ФИЛОСОФ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ССЛЕДОВАНИЯ В ФИЛОСОФ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авленческой деятельности этические нормы носят доминирующий характер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подчеркнуть социальный характер процесса и результатов управленческой деятельности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ЧЕСКИЕ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авленческой деятельности этические нормы носят доминирующий характер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подчеркнуть социальный характер процесса и результатов управленческой деятельности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ЧЕСКИЕ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Субъектность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Самостоятельное целеполагание, осуществляемое субъектом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осредованность результат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Творческий характер управленческой деятель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Необходимость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Ответственность субъекта управления за процесс и результаты своей деятельности и деятельности управляемых им субъектов и/или объ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Развитие и адапт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адап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Субъектность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Самостоятельное целеполагание, осуществляемое субъектом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осредованность результат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Творческий характер управленческой деятель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Необходимость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Ответственность субъекта управления за процесс и результаты своей деятельности и деятельности управляемых им субъектов и/или объ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Развитие и адапт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адап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иерарх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н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целенаправ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крыт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ветств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евмеш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олноты и прогноз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ратной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еква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а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ежающего отра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ап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циональной центр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емократическ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гласова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иерарх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н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целенаправ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крыт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ветств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евмеш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олноты и прогноз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ратной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еква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а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ежающего отра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ап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циональной центр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емократическ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гласова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 (иерархии).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 (унификации).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3 (целенаправленности). Любое воздействие системы управления на управляемую систему должно быть целенаправл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4 (открытости). Функционирование системы управления должно быть открытым для информации, инноваций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5 (эффективности). Система управления должна реализовывать наиболее эффективные из допустимых управляющих воз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6 (ответственности). 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 (иерархии).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 (унификации).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3 (целенаправленности). Любое воздействие системы управления на управляемую систему должно быть целенаправл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4 (открытости). Функционирование системы управления должно быть открытым для информации, инноваций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5 (эффективности). Система управления должна реализовывать наиболее эффективные из допустимых управляющих воз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6 (ответственности). 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7 (невмешательства). 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8 (общественно-государственного управления, соучастия)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9 (саморазвития). 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0 (полноты и прогнозирования)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1 (регламентации и ресурсного обеспечения управленческой деятельности)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7 (невмешательства). 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8 (общественно-государственного управления, соучастия)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9 (саморазвития). 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0 (полноты и прогнозирования)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1 (регламентации и ресурсного обеспечения управленческой деятельности)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2 (обратной связи).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3 (адекватности).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4 (оперативности).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5 (опережающего отражения). С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2 (обратной связи).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3 (адекватности).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4 (оперативности).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5 (опережающего отражения). С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6 (адаптивности).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7 (рациональной централизации). 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8 (демократического управления). Иногда его называют принципом анонимности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9 (согласованности).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0 (этичности, гуманизма).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6 (адаптивности).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7 (рациональной централизации). 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8 (демократического управления). Иногда его называют принципом анонимности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9 (согласованности).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0 (этичности, гуманизма).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4. 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4. 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И НАУКИ ОБ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теория управления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И НАУКИ ОБ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теория управления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 ЗАДАЧ И ФУНКЦИЙ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 ЗАДАЧ И ФУНКЦИЙ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(ВИДЫ)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(ВИДЫ)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ей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м системообразующим элементом теории управления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ей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м системообразующим элементом теории управления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– это учение об организации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методологии – организация человече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ДИВИДУАЛЬНОЙ ИЛИ КОЛЛЕКТИВ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САЙ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WWW.METHODO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– это учение об организации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методологии – организация человече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ДИВИДУАЛЬНОЙ ИЛИ КОЛЛЕКТИВ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САЙ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WWW.METHODO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Ы ТЕОР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Ы ТЕОР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5. ВРЕМЕНН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5. ВРЕМЕНН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 УПРАВЛЕНИЯ И УПРАВЛЯЕМОГО СУБЪ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 УПРАВЛЕНИЯ И УПРАВЛЯЕМОГО СУБЪ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КОМПОНЕНТ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КОМПОНЕНТ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ЗЫ, СТАДИИ И ЭТАП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ЗЫ, СТАДИИ И ЭТАП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6. ЛИТЕРАТУРА К ГЛАВЕ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ков В.Н., Новиков Д.А., Коргин Н.А. Введение в теорию управления организационными системами: Учебник. – М.: Книжный дом «ЛИБРОКОМ»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ковский А.Г. К методологии и философии кибернетики. – М.: ИПУ РАН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ер Н. Кибернетика или управление и связь в животном и машине. – М.: Наука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н Т. Структура научных революций. – Москва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чев О.И. Наука и искусство принятия решений. – М.: Наука, 197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А.М., Новиков Д.А. Методология. – М.: Синтег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 Д.А. Методология управления. – М.: Книжный дом «ЛИБРОКОМ»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Д.А. Теория управления организационными системами. –  М.: Физматлит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удов Ф.И., Тарасенко Ф.П. Введение в системный анализ. – М.: Высшая школа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ов Б.Я., Яковлев С.А. Моделирование систем. – М.: Высшая школа, 199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шби У.Р. Введение в кибернетику. – М.: Изд-во иностранной литературы. 19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электронной библиотеке на сайте www.mta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6. ЛИТЕРАТУРА К ГЛАВЕ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ков В.Н., Новиков Д.А., Коргин Н.А. Введение в теорию управления организационными системами: Учебник. – М.: Книжный дом «ЛИБРОКОМ»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ковский А.Г. К методологии и философии кибернетики. – М.: ИПУ РАН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ер Н. Кибернетика или управление и связь в животном и машине. – М.: Наука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н Т. Структура научных революций. – Москва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чев О.И. Наука и искусство принятия решений. – М.: Наука, 197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А.М., Новиков Д.А. Методология. – М.: Синтег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 Д.А. Методология управления. – М.: Книжный дом «ЛИБРОКОМ»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Д.А. Теория управления организационными системами. –  М.: Физматлит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удов Ф.И., Тарасенко Ф.П. Введение в системный анализ. – М.: Высшая школа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ов Б.Я., Яковлев С.А. Моделирование систем. – М.: Высшая школа, 199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шби У.Р. Введение в кибернетику. – М.: Изд-во иностранной литературы. 19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электронной библиотеке на сайте www.mta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- активное взаимодействие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кружающей действительность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которого человек выступает как субъект, целенаправленно воздействующий на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ПОНЯТИЕ О ЧЕЛОВЕЧЕСКОЙ ДЕ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- активное взаимодействие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кружающей действительность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которого человек выступает как субъект, целенаправленно воздействующий на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ПОНЯТИЕ О ЧЕЛОВЕЧЕСКОЙ ДЕ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И КОНКРЕТНЫХ ДЕЯТЕЛЬ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И КОНКРЕТНЫХ ДЕЯТЕЛЬ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– целенаправленная актив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– целенаправленная актив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2A2-52BB-4C3C-9A22-BE1AC3FE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633-C2E2-4A00-AC37-7EFE7D88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ECA-436E-49BF-A820-9D87CD72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E92-79A8-42BE-BE44-EE563C72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B49-C2AC-459A-A297-82AEC470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783-00C1-4A30-A3E0-80999253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979-132C-4961-9880-6152EF20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7A8-1F0A-462D-91C7-FD6FA165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901-CC04-4219-A54B-B2F38C77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29D-FADF-4D9F-BF1F-79EDD54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BD8-774E-41BD-9566-76C22C20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001-5180-45F3-A70A-B5D20FBD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ханизмы управления. Глава 2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AC33-9995-464A-BBE7-560992F0E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thodolog.ru/books/methodology_full.pd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thodolog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mtas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8580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ТОДОЛОГИЯ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опорная презентация по одноименной книг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8149320" y="61815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1476360" y="3465360"/>
            <a:ext cx="2147760" cy="1731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258920" y="5321160"/>
            <a:ext cx="2583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.А. Нов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cover1"/>
          <p:cNvPicPr/>
          <p:nvPr/>
        </p:nvPicPr>
        <p:blipFill>
          <a:blip r:embed="rId2"/>
          <a:stretch/>
        </p:blipFill>
        <p:spPr>
          <a:xfrm>
            <a:off x="5245200" y="1957320"/>
            <a:ext cx="2863800" cy="386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172440" y="620856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160" y="716040"/>
            <a:ext cx="8642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ольшой энциклопедический словарь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направление движением кого/чего-нибудь, руководство действиями кого-нибудь» [Словарь русского языка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bster’s dictionary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едлагае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ледующ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начения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ермино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control»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management»,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торы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ответствую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ависимост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бъект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правления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усском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ермин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»: «control – an activity or organization that directs or regulates an activity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; «management – art or science of directing, conducting and administering the work of others to achieve defined objectives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2387520" y="4890960"/>
          <a:ext cx="430380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4890960"/>
                    <a:ext cx="430380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ИЕ – ДЕЯТЕЛЬНОСТЬ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субъекта управления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ПО ОРГАНИЗАЦИИ ДЕЯТЕЛЬНОСТИ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объекта управлен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5"/>
          <p:cNvGraphicFramePr/>
          <p:nvPr/>
        </p:nvGraphicFramePr>
        <p:xfrm>
          <a:off x="1763640" y="2421000"/>
          <a:ext cx="5329440" cy="30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21000"/>
                    <a:ext cx="532944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6"/>
          <p:cNvSpPr/>
          <p:nvPr/>
        </p:nvSpPr>
        <p:spPr>
          <a:xfrm>
            <a:off x="684360" y="544500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руктура системы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НЫЕ КОМПОНЕН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692280"/>
          <a:ext cx="8316720" cy="57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92280"/>
                    <a:ext cx="831672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250920" y="1125360"/>
          <a:ext cx="8700840" cy="48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70084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4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И, ЛОГИЧЕСКАЯ И ВРЕМЕННА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44400" y="890280"/>
            <a:ext cx="828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ред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результат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ф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та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эта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МЕТОДОЛОГ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055000" y="6243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2. ОСНОВАНИЯ МЕТОДОЛОГ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НОВАНИЯ МЕТОДОЛОГИИ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893880" y="2039760"/>
          <a:ext cx="7808760" cy="37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039760"/>
                    <a:ext cx="7808760" cy="37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МЕТОД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8075520" y="624348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11280" y="9651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снованием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называется достаточное условие для чего-либо: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ытия, познания, мысли,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3760" y="812520"/>
            <a:ext cx="905184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Мэйо, И.П. Павлов, Г. Саймон, П. Сорокин, Ф. Тейлор, А.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айоль, З. Фрейд, Э. Фромм, К. Хорни, К. Юнг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10) Различные тес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042400" y="6243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ДЖМЕНТ И ТЕОРИЯ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14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58680" y="784080"/>
          <a:ext cx="9009000" cy="53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784080"/>
                    <a:ext cx="9009000" cy="53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5"/>
          <p:cNvSpPr/>
          <p:nvPr/>
        </p:nvSpPr>
        <p:spPr>
          <a:xfrm>
            <a:off x="172440" y="6270480"/>
            <a:ext cx="60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11. Механизмы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048520" y="624348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92120" y="122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организацион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ледующий тип – знаниевая 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663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. Управлен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. Основания методологии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6.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РГАНИЗАЦИОНН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169920" y="1295280"/>
          <a:ext cx="886608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295280"/>
                    <a:ext cx="886608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6"/>
          <p:cNvGraphicFramePr/>
          <p:nvPr/>
        </p:nvGraphicFramePr>
        <p:xfrm>
          <a:off x="816120" y="930240"/>
          <a:ext cx="710064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930240"/>
                    <a:ext cx="710064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64960" y="831240"/>
            <a:ext cx="874404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И ИССЛЕДОВАНИЯ В ФИЛОСОФ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7"/>
          <p:cNvGraphicFramePr/>
          <p:nvPr/>
        </p:nvGraphicFramePr>
        <p:xfrm>
          <a:off x="54000" y="836640"/>
          <a:ext cx="430200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36640"/>
                    <a:ext cx="430200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10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9"/>
          <p:cNvGraphicFramePr/>
          <p:nvPr/>
        </p:nvGraphicFramePr>
        <p:xfrm>
          <a:off x="3348000" y="2971800"/>
          <a:ext cx="579600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2971800"/>
                    <a:ext cx="57960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30040" y="915480"/>
            <a:ext cx="86043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В управленческой деятельности этические нормы носят доминирующий характер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Необходимо подчеркнуть </a:t>
            </a: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социальный характер процесса и результатов управленческой деятельности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ЧЕСКИ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АРАКТЕРИСТИК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836640"/>
          <a:ext cx="8642160" cy="5289480"/>
        </p:xfrm>
        <a:graphic>
          <a:graphicData uri="http://schemas.openxmlformats.org/drawingml/2006/table">
            <a:tbl>
              <a:tblPr/>
              <a:tblGrid>
                <a:gridCol w="1746000"/>
                <a:gridCol w="6896160"/>
              </a:tblGrid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правленческой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обенност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 Субъектность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 Самостоятельное целеполагание, осуществляемое субъектом управленческой деятельности (субъектом управле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 Опосредованность результата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 Творческий характер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 Необходимость моделирования (прогнозирования поведения управляемой системы в зависимости от управляющих воздействий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 Ответственность субъекта управления за процесс и результаты своей деятельности и деятельности управляемых им субъектов и/или объект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 Адаптивность и развит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нци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нципы: иерархии; унификации; целенаправленности; открытости; эффективности; ответственности; невмешательства; общественно-государственного управления; развития; полноты и прогнозирования; регламентации и ресурсного обеспечения; обратной связи; адекватности; оперативности; опережающего отражения; адаптивности; рациональной централизации; демократического управления; согласованности; этич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тивационные, кадровые, материально-технические, научно-методические, организационные, финансовые, нормативно-правовые, информацион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р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) общ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) специф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ечеловеческие этические, правовые и другие нор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рмы управленческой этики, организационная культу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83736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убъектность управлен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Самостоятельное целеполагание, осуществляемое субъектом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Опосредованность результата управлен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Творческий характер управленческой деятельност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еобходимость моделирова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Ответственность субъекта управления за процесс и результаты своей деятельности и деятельности управляемых им субъектов и/или объект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Развитие и адап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867280" y="4797360"/>
            <a:ext cx="21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ровни адап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971640" y="3670200"/>
          <a:ext cx="4608360" cy="25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670200"/>
                    <a:ext cx="4608360" cy="25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2672-1A03-4A25-90E6-993551507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20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23760" y="753120"/>
            <a:ext cx="627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иерарх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униф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целенаправл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ткрыт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эффе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тветств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невмешатель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полноты и прогноз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братной свя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адеква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пера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пережающего отра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адап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ациональной центр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демократического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согласов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1"/>
          <p:cNvGraphicFramePr/>
          <p:nvPr/>
        </p:nvGraphicFramePr>
        <p:xfrm>
          <a:off x="4700520" y="615960"/>
          <a:ext cx="443232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615960"/>
                    <a:ext cx="44323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3"/>
          <p:cNvGraphicFramePr/>
          <p:nvPr/>
        </p:nvGraphicFramePr>
        <p:xfrm>
          <a:off x="4970520" y="4365720"/>
          <a:ext cx="4168800" cy="20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0520" y="4365720"/>
                    <a:ext cx="416880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D61D-9FCA-418C-801C-A873080DF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8360" y="831600"/>
            <a:ext cx="835344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иерархи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2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унификаци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3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целенаправлен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Любое воздействие системы управления на управляемую систему должно быть целенаправленны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4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ткрыт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Функционирование системы управления должно быть открытым для информации, инноваций и т.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5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эффектив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Система управления должна реализовывать наиболее эффективные из допустимых управляющих воздейств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6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тветствен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1. УПРАВЛЕНЧЕ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659640" y="6245280"/>
            <a:ext cx="202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-</a:t>
            </a:r>
            <a:fld id="{B19C9D99-E07D-4064-8E54-78973547F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33200" y="77976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7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невмешательства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8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общественно-государственного управления, соучаст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9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аморазвит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0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лноты и прогнозирова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1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егламентации и ресурсного обеспечения управленческой деятель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D8A4-D64D-4907-98A2-D2D765FF4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57320" y="875880"/>
            <a:ext cx="87138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2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братной связ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3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адекват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4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ператив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5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пережающего отражения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 С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1669-87D2-4C8C-AD2C-DF495DAB4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79280" y="77616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6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адаптив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7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ациональной централизаци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8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демократического управле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Иногда его называют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принципом анонимност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9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огласован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20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этичности, гуманизма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4. 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огическ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ECA0-2BBA-4542-BA38-A83DA0BE6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УПРАВЛЕНИЯ И НАУКИ ОБ У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7"/>
          <p:cNvGraphicFramePr/>
          <p:nvPr/>
        </p:nvGraphicFramePr>
        <p:xfrm>
          <a:off x="5076720" y="836640"/>
          <a:ext cx="383544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836640"/>
                    <a:ext cx="383544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3"/>
          <p:cNvSpPr/>
          <p:nvPr/>
        </p:nvSpPr>
        <p:spPr>
          <a:xfrm>
            <a:off x="233280" y="354384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82600" y="640440"/>
            <a:ext cx="44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теория управ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ЛЕКС ЗАДАЧ И ФУНКЦИЙ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5"/>
          <p:cNvGraphicFramePr/>
          <p:nvPr/>
        </p:nvGraphicFramePr>
        <p:xfrm>
          <a:off x="1258920" y="1052640"/>
          <a:ext cx="655308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052640"/>
                    <a:ext cx="655308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8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Object 5"/>
          <p:cNvGraphicFramePr/>
          <p:nvPr/>
        </p:nvGraphicFramePr>
        <p:xfrm>
          <a:off x="1476360" y="1484280"/>
          <a:ext cx="633744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33744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Ы (ВИДЫ)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82600" y="833400"/>
          <a:ext cx="8618400" cy="5292720"/>
        </p:xfrm>
        <a:graphic>
          <a:graphicData uri="http://schemas.openxmlformats.org/drawingml/2006/table">
            <a:tbl>
              <a:tblPr/>
              <a:tblGrid>
                <a:gridCol w="1519200"/>
                <a:gridCol w="70992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управленческой 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ъект управления (индивидуальный или коллективны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кт управления и/или управляемый субъект (индивидуальный или коллективны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Элементы управляемой системы, компоненты деятельности управляемого субъекта. Например, для организационных систем: состав системы; структура системы; ограничения и нормы деятельности участников; цели и предпочтения участников; информированность участников; порядок функцион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стояние объекта управления, результат деятельности управляемого субъекта; использованные ресурс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дивидуальное и коллективное управление; унифицированное и персонифицирова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ектное и процессное управление; рефлекторное (ситуационное) и опережающе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ерархическое управление, распределенное управление и сетев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планирование, организация, стимулирование (мотивация), контро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24000" y="719280"/>
          <a:ext cx="8435880" cy="5549760"/>
        </p:xfrm>
        <a:graphic>
          <a:graphicData uri="http://schemas.openxmlformats.org/drawingml/2006/table">
            <a:tbl>
              <a:tblPr/>
              <a:tblGrid>
                <a:gridCol w="1315800"/>
                <a:gridCol w="7120080"/>
              </a:tblGrid>
              <a:tr h="490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управленческой 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мониторинг и анализ текущего состояния управляемой системы, прогноз развития, целеполагание, выбор технологии деятельности, планирование и распределение ресурсов, стимулирование (мотивация), контроль и оперативное управление, анализ и улучшения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оды (виды)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пример, для организационных систем: управление составом; управление структурой; институциональное управление (нормативное, управление ограничениями и нормами деятельности); мотивационное управление (экономическое, управление предпочтениями); информационное управление (социально-психологическое, управление информацией, которой обладают управляемые субъекты на момент принятия решени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приказы, распоряжения, указания, планы, стратегии, политики, нормы, нормативы, процедуры, регламенты, положения об организации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1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ханиз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активной экспертизы; внутренних цен; выбора набора проектов; дополнительных соглашений; «затраты-эффект»; институционального управления; информационного управления; компенсационные; комплексного оценивания (агрегирования информации); конкурсные (тендеры); многоканальные; назначения; обмена; опережающего самоконтроля; оптимизации производственного и коммерческого циклов; освоенного объема; противозатратные; распределения ресурса (в том числе – затрат и доходов); самоокупаемости (самофинансирования); синтеза структуры; синтеза состава; смешанного финансирования; согласия; стимулирования; страхования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1DBF-4307-4D2B-B94B-444151A05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826920"/>
            <a:ext cx="847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орие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Центральным системообразующим элементом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ории управлен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37960" y="13161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етодолог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то учение об организации деятельност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28600" y="2787120"/>
            <a:ext cx="55227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мет методологи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организация человеческ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ИНДИВИДУАЛЬНОЙ ИЛИ КОЛЛЕКТИВ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ЕНИЕ МЕТОД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62880" y="3300480"/>
            <a:ext cx="1995480" cy="2738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6056280" y="2320920"/>
            <a:ext cx="314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СМ. САЙТ</a:t>
            </a:r>
            <a:br>
              <a:rPr sz="1800"/>
            </a:b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ETHODOLO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9666-7D16-40B5-BD25-AA4A505254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ОНЕНТЫ ТЕОР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0"/>
          <p:cNvGraphicFramePr/>
          <p:nvPr/>
        </p:nvGraphicFramePr>
        <p:xfrm>
          <a:off x="1116000" y="1125360"/>
          <a:ext cx="6921360" cy="47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25360"/>
                    <a:ext cx="6921360" cy="47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5. ВРЕМЕНН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ременн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ЪЕКТА УПРАВЛЕНИЯ И УПРАВЛЯЕМОГО СУБЪЕК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6"/>
          <p:cNvGraphicFramePr/>
          <p:nvPr/>
        </p:nvGraphicFramePr>
        <p:xfrm>
          <a:off x="468360" y="1268280"/>
          <a:ext cx="8077320" cy="39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07732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УНКЦИИ И КОМПОНЕНТЫ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7"/>
          <p:cNvGraphicFramePr/>
          <p:nvPr/>
        </p:nvGraphicFramePr>
        <p:xfrm>
          <a:off x="684360" y="1052640"/>
          <a:ext cx="748008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4800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, СТАДИИ И ЭТАПЫ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4"/>
          <p:cNvSpPr/>
          <p:nvPr/>
        </p:nvSpPr>
        <p:spPr>
          <a:xfrm>
            <a:off x="4879800" y="424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5"/>
          <p:cNvSpPr/>
          <p:nvPr/>
        </p:nvSpPr>
        <p:spPr>
          <a:xfrm>
            <a:off x="4879800" y="437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70"/>
          <p:cNvSpPr/>
          <p:nvPr/>
        </p:nvSpPr>
        <p:spPr>
          <a:xfrm>
            <a:off x="4879800" y="476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71"/>
          <p:cNvSpPr/>
          <p:nvPr/>
        </p:nvSpPr>
        <p:spPr>
          <a:xfrm>
            <a:off x="4879800" y="4856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49120" y="831960"/>
          <a:ext cx="8605800" cy="5278320"/>
        </p:xfrm>
        <a:graphic>
          <a:graphicData uri="http://schemas.openxmlformats.org/drawingml/2006/table">
            <a:tbl>
              <a:tblPr/>
              <a:tblGrid>
                <a:gridCol w="2517840"/>
                <a:gridCol w="2425680"/>
                <a:gridCol w="3662280"/>
              </a:tblGrid>
              <a:tr h="2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0560">
                <a:tc row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я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противореч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ц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критер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098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мод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(принятие реш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омпози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усло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«технологической» подгот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170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170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стимулирования и мотив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монитор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оперативного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ая 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учета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анализа деятельности и ее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коррекции ранее принятых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улучшения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83" descr="120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40323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35"/>
          <p:cNvSpPr/>
          <p:nvPr/>
        </p:nvSpPr>
        <p:spPr>
          <a:xfrm>
            <a:off x="2732040" y="3182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36"/>
          <p:cNvSpPr/>
          <p:nvPr/>
        </p:nvSpPr>
        <p:spPr>
          <a:xfrm>
            <a:off x="2732040" y="357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48" descr="121"/>
          <p:cNvPicPr/>
          <p:nvPr/>
        </p:nvPicPr>
        <p:blipFill>
          <a:blip r:embed="rId1"/>
          <a:stretch/>
        </p:blipFill>
        <p:spPr>
          <a:xfrm>
            <a:off x="846000" y="1104840"/>
            <a:ext cx="7523280" cy="47577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2732040" y="3182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732040" y="357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122"/>
          <p:cNvPicPr/>
          <p:nvPr/>
        </p:nvPicPr>
        <p:blipFill>
          <a:blip r:embed="rId1"/>
          <a:stretch/>
        </p:blipFill>
        <p:spPr>
          <a:xfrm>
            <a:off x="835200" y="1138320"/>
            <a:ext cx="7662600" cy="429408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6. ЛИТЕРАТУРА К ГЛАВЕ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урков В.Н., Новик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Д.А., Коргин Н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Введение в теорию управления организационными системам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: Учебник. – М.: Книжный дом «ЛИБРОКОМ»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утковский А.Г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К методологии и философии кибернетики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– М.: ИПУ РАН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инер Н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Кибернетика или управление и связь в животном и машине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Наука, 198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Кун Т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Структура научных революци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осква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Ларичев О.И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Наука и искусство принятия решени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Наука, 197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 А.М., Новиков Д.А.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Методолог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Синтег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 Д.А.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Методология управлен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Книжный дом «ЛИБРОКОМ»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 Д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Теория управления организационными системам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 М.: Физматлит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ерегудов Ф.И., Тарасенко Ф.П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Введение в системный анализ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Высшая школа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овет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 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.Я., Яковле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 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Моделирование систем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Высшая школа, 199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Эшби У.Р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. Введение в кибернетику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Изд-во иностранной литературы. 195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700"/>
            </a:b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 в электронной библиотеке на сайте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www.mtas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1187280" y="1413000"/>
          <a:ext cx="691848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91848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"/>
          <p:cNvSpPr/>
          <p:nvPr/>
        </p:nvSpPr>
        <p:spPr>
          <a:xfrm>
            <a:off x="8101080" y="6243480"/>
            <a:ext cx="4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еятельность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 активное взаимодействие человека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окружающей действительностью,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 ходе которого человек выступает как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убъек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целенаправленно воздействующий на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объект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ЕЕ ПОНЯТИЕ О ЧЕЛОВЕЧЕСКОЙ ДЕ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501480" y="900000"/>
          <a:ext cx="810756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900000"/>
                    <a:ext cx="810756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5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И КОНКРЕТНЫХ ДЕЯТЕЛЬ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122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Ь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направленная активность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79280" y="1050840"/>
          <a:ext cx="891072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0840"/>
                    <a:ext cx="891072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5"/>
          <p:cNvSpPr/>
          <p:nvPr/>
        </p:nvSpPr>
        <p:spPr>
          <a:xfrm>
            <a:off x="8113680" y="624348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547640" y="1197000"/>
          <a:ext cx="619128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97000"/>
                    <a:ext cx="619128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3:01:46Z</dcterms:created>
  <dc:creator>Коллектив авторов</dc:creator>
  <dc:description/>
  <dc:language>en-US</dc:language>
  <cp:lastModifiedBy>LEGION</cp:lastModifiedBy>
  <dcterms:modified xsi:type="dcterms:W3CDTF">2016-01-11T10:08:26Z</dcterms:modified>
  <cp:revision>105</cp:revision>
  <dc:subject/>
  <dc:title>МЕТОДОЛОГИЯ УПРАВЛЕНИЯ (опорная презентация по одноименной книге)</dc:title>
</cp:coreProperties>
</file>