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692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D6D-CB56-4B48-96D9-9691C888C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орная презентация по одноименной книг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А. Нов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01F-2064-4CBB-9800-4C9069B1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0A3-0DDD-4806-BE0F-9EE8DF4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004-18DB-487A-A7BF-B68A972F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86D-B1CB-4899-B902-FB99A273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E90-D97E-44D1-B4C1-4280AB2D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B85-84EC-46DE-8B77-34C632A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667-8CE3-4F6A-94A4-3A99C6E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61A-5852-4C4B-A4E8-34B070C3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3CC-845A-4110-8404-2A80220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807-D5C7-4B8A-9D18-7DD161A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D1B-0680-4FC9-A05C-6CF98054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C89-C1B8-4073-9BFB-7E14E6D5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ханизмы управления. Глава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8AD8-3114-41C6-8DE6-375188126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hodolog.ru/books/methodology_full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thodolog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tas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858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ОЛОГИЯ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опорная презентация по одноименной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149320" y="61815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476360" y="3465360"/>
            <a:ext cx="2147760" cy="1731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258920" y="5321160"/>
            <a:ext cx="2583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.А. Нов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over1"/>
          <p:cNvPicPr/>
          <p:nvPr/>
        </p:nvPicPr>
        <p:blipFill>
          <a:blip r:embed="rId2"/>
          <a:stretch/>
        </p:blipFill>
        <p:spPr>
          <a:xfrm>
            <a:off x="5245200" y="1957320"/>
            <a:ext cx="2863800" cy="386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72440" y="620856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60" y="716040"/>
            <a:ext cx="8642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ольшой энциклопедический словарь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направление движением кого/чего-нибудь, руководство действиями кого-нибудь» [Словарь русского языка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bster’s dictionary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лагае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едующ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нач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о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control»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management»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торы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ответствую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висим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бъект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равл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усском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: «control – an activity or organization that directs or regulates an activity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; «management – art or science of directing, conducting and administering the work of others to achieve defined objectives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2387520" y="4890960"/>
          <a:ext cx="430380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4890960"/>
                    <a:ext cx="4303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–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убъекта управления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О ОРГАНИЗАЦИИ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объекта управ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1763640" y="2421000"/>
          <a:ext cx="532944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21000"/>
                    <a:ext cx="532944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684360" y="54450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уктура системы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НЫЕ КОМПОНЕН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692280"/>
          <a:ext cx="831672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831672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50920" y="1125360"/>
          <a:ext cx="870084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70084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, ЛОГИЧЕСКАЯ И ВРЕМЕННА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44400" y="89028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результа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та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эта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055000" y="6243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2. ОСНОВАНИЯ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893880" y="2039760"/>
          <a:ext cx="7808760" cy="37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039760"/>
                    <a:ext cx="780876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75520" y="62434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11280" y="9651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нование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называется достаточное условие для чего-либо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ытия, познания, мысли,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3760" y="812520"/>
            <a:ext cx="90518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эйо, И.П. Павлов, Г. Саймон, П. Сорокин, Ф. Тейлор, А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айоль, З. Фрейд, Э. Фромм, К. Хорни, К. Юнг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0) Различные тес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042400" y="6243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ДЖМЕНТ И ТЕОР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8680" y="784080"/>
          <a:ext cx="9009000" cy="53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784080"/>
                    <a:ext cx="900900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5"/>
          <p:cNvSpPr/>
          <p:nvPr/>
        </p:nvSpPr>
        <p:spPr>
          <a:xfrm>
            <a:off x="172440" y="6270480"/>
            <a:ext cx="60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11. Механизмы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048520" y="624348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2120" y="122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организацио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дующий тип – знаниев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663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 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 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6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РГАНИЗАЦИОН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69920" y="1295280"/>
          <a:ext cx="886608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295280"/>
                    <a:ext cx="886608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816120" y="930240"/>
          <a:ext cx="710064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30240"/>
                    <a:ext cx="710064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4960" y="831240"/>
            <a:ext cx="87440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И ИССЛЕДОВАНИЯ В ФИЛОСОФ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54000" y="836640"/>
          <a:ext cx="43020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36640"/>
                    <a:ext cx="43020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0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348000" y="2971800"/>
          <a:ext cx="57960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971800"/>
                    <a:ext cx="57960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0040" y="915480"/>
            <a:ext cx="86043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В управленческой деятельности этические нормы носят доминирующий характер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Необходимо подчеркнуть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социальный характер процесса и результатов управленческой деятельности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836640"/>
          <a:ext cx="8642160" cy="5289480"/>
        </p:xfrm>
        <a:graphic>
          <a:graphicData uri="http://schemas.openxmlformats.org/drawingml/2006/table">
            <a:tbl>
              <a:tblPr/>
              <a:tblGrid>
                <a:gridCol w="1746000"/>
                <a:gridCol w="6896160"/>
              </a:tblGrid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правленческой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 Субъектность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 Самостоятельное целеполагание, осуществляемое субъектом управленческой деятельности (субъектом управле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 Опосредованность результата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 Творческий характер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 Необходимость моделирования (прогнозирования поведения управляемой системы в зависимости от управляющих воздействий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 Ответственность субъекта управления за процесс и результаты своей деятельности и деятельности управляемых им субъектов и/или объ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 Адаптивность и разви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: иерархии; унификации; целенаправленности; открытости; эффективности; ответственности; невмешательства; общественно-государственного управления; развития; полноты и прогнозирования; регламентации и ресурсного обеспечения; обратной связи; адекватности; оперативности; опережающего отражения; адаптивности; рациональной централизации; демократического управления; согласованности; эт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тивационные, кадровые, материально-технические, научно-методические, организационные, финансовые, нормативно-правовые, информацион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) общ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) специф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ечеловеческие этические, правовые и другие нор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 управленческой этики, организационная культу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83736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убъектность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Самостоятельное целеполагание, осуществляемое субъекто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Опосредованность результата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Творческий характер управленческой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тветственность субъекта управления за процесс и результаты своей деятельности и деятельности управляемых им субъектов и/или объект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азвитие и 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867280" y="479736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ровни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971640" y="3670200"/>
          <a:ext cx="460836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670200"/>
                    <a:ext cx="460836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AFBF-045C-4B1D-BD1B-E540B5F65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3760" y="753120"/>
            <a:ext cx="627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иерарх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ун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целенапра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крыт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невмеш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полноты и прогно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ратной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еква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ежающего от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ап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циональной центр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демократическ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согласов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1"/>
          <p:cNvGraphicFramePr/>
          <p:nvPr/>
        </p:nvGraphicFramePr>
        <p:xfrm>
          <a:off x="4700520" y="615960"/>
          <a:ext cx="4432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615960"/>
                    <a:ext cx="4432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3"/>
          <p:cNvGraphicFramePr/>
          <p:nvPr/>
        </p:nvGraphicFramePr>
        <p:xfrm>
          <a:off x="4970520" y="4365720"/>
          <a:ext cx="4168800" cy="20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0520" y="4365720"/>
                    <a:ext cx="416880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DC0-43FB-4E68-8D25-AA6FB2B17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8360" y="831600"/>
            <a:ext cx="835344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иерарх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унификац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целенаправл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Любое воздействие системы управления на управляемую систему должно быть целенаправленны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4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крыт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Функционирование системы управления должно быть открытым для информации, инноваций и т.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эффек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должна реализовывать наиболее эффективные из допустимых управляющих воздейств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6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ветств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1. УПРАВЛЕН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659640" y="6245280"/>
            <a:ext cx="202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-</a:t>
            </a:r>
            <a:fld id="{7A6380A0-F977-4F78-86B2-61F04D553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33200" y="7797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вмешательств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8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общественно-государственного управления, соучас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аморазви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0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лноты и прогнозирова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1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егламентации и ресурсного обеспечения управленческой деятель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807-A47F-412F-81B3-F1D4D3277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57320" y="87588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братной связ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адекват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4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а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ежающего отражения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С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2750-BBF8-4B3F-8C0F-BF4A9A466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7761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6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адаптив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циональной цен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8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демократического управл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Иногда его называют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принципом анонимност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огласован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20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этичности, гуманизм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4. 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F49-4F58-4932-A727-EC7F86C01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 И НАУКИ ОБ 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7"/>
          <p:cNvGraphicFramePr/>
          <p:nvPr/>
        </p:nvGraphicFramePr>
        <p:xfrm>
          <a:off x="5076720" y="836640"/>
          <a:ext cx="383544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836640"/>
                    <a:ext cx="383544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3"/>
          <p:cNvSpPr/>
          <p:nvPr/>
        </p:nvSpPr>
        <p:spPr>
          <a:xfrm>
            <a:off x="233280" y="354384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82600" y="640440"/>
            <a:ext cx="44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еория управ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КС ЗАДАЧ И ФУНКЦИЙ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258920" y="1052640"/>
          <a:ext cx="655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655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8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5"/>
          <p:cNvGraphicFramePr/>
          <p:nvPr/>
        </p:nvGraphicFramePr>
        <p:xfrm>
          <a:off x="1476360" y="1484280"/>
          <a:ext cx="633744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3374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(ВИДЫ)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2600" y="833400"/>
          <a:ext cx="8618400" cy="5292720"/>
        </p:xfrm>
        <a:graphic>
          <a:graphicData uri="http://schemas.openxmlformats.org/drawingml/2006/table">
            <a:tbl>
              <a:tblPr/>
              <a:tblGrid>
                <a:gridCol w="1519200"/>
                <a:gridCol w="70992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 управления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 управления и/или управляемый субъект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лементы управляемой системы, компоненты деятельности управляемого субъекта. Например, для организационных систем: состав системы; структура системы; ограничения и нормы деятельности участников; цели и предпочтения участников; информированность участников; порядок функцио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ояние объекта управления, результат деятельности управляемого субъекта; использован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дивидуальное и коллективное управление; унифицированное и персонифицирова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е и процессное управление; рефлекторное (ситуационное) и опережающе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ерархическое управление, распределенное управление и сетев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ланирование, организация, стимулирование (мотивация), контр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719280"/>
          <a:ext cx="8435880" cy="5549760"/>
        </p:xfrm>
        <a:graphic>
          <a:graphicData uri="http://schemas.openxmlformats.org/drawingml/2006/table">
            <a:tbl>
              <a:tblPr/>
              <a:tblGrid>
                <a:gridCol w="1315800"/>
                <a:gridCol w="7120080"/>
              </a:tblGrid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мониторинг и анализ текущего состояния управляемой системы, прогноз развития, целеполагание, выбор технологии деятельности, планирование и распределение ресурсов, стимулирование (мотивация), контроль и оперативное управление, анализ и улучшения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(виды)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имер, для организационных систем: управление составом; управление структурой; институциональное управление (нормативное, управление ограничениями и нормами деятельности); мотивационное управление (экономическое, управление предпочтениями); информационное управление (социально-психологическое, управление информацией, которой обладают управляемые субъекты на момент принятия решен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риказы, распоряжения, указания, планы, стратегии, политики, нормы, нормативы, процедуры, регламенты, положения об организации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х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активной экспертизы; внутренних цен; выбора набора проектов; дополнительных соглашений; «затраты-эффект»; институционального управления; информационного управления; компенсационные; комплексного оценивания (агрегирования информации); конкурсные (тендеры); многоканальные; назначения; обмена; опережающего самоконтроля; оптимизации производственного и коммерческого циклов; освоенного объема; противозатратные; распределения ресурса (в том числе – затрат и доходов); самоокупаемости (самофинансирования); синтеза структуры; синтеза состава; смешанного финансирования; согласия; стимулирования; страхования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8391-7E29-4FC1-BA19-4AFEEBA94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826920"/>
            <a:ext cx="847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е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нтральным системообразующим элементо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и у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37960" y="1316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учение об организации деятельност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2787120"/>
            <a:ext cx="5522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мет методологи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организация челове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ИНДИВИДУАЛЬНОЙ ИЛИ КОЛЛЕКТИВ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2880" y="3300480"/>
            <a:ext cx="1995480" cy="2738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056280" y="2320920"/>
            <a:ext cx="314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М. САЙТ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THODO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A540-A489-48B5-B71F-43D195DDF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ОНЕНТЫ ТЕОР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1116000" y="1125360"/>
          <a:ext cx="692136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692136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5. ВРЕМЕНН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рем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ЪЕКТА УПРАВЛЕНИЯ И УПРАВЛЯЕМОГО СУБЪЕ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6"/>
          <p:cNvGraphicFramePr/>
          <p:nvPr/>
        </p:nvGraphicFramePr>
        <p:xfrm>
          <a:off x="468360" y="1268280"/>
          <a:ext cx="80773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0773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УНКЦИИ И КОМПОНЕНТ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7"/>
          <p:cNvGraphicFramePr/>
          <p:nvPr/>
        </p:nvGraphicFramePr>
        <p:xfrm>
          <a:off x="684360" y="1052640"/>
          <a:ext cx="7480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480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, СТАДИИ И ЭТАП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4"/>
          <p:cNvSpPr/>
          <p:nvPr/>
        </p:nvSpPr>
        <p:spPr>
          <a:xfrm>
            <a:off x="4879800" y="424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5"/>
          <p:cNvSpPr/>
          <p:nvPr/>
        </p:nvSpPr>
        <p:spPr>
          <a:xfrm>
            <a:off x="4879800" y="437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0"/>
          <p:cNvSpPr/>
          <p:nvPr/>
        </p:nvSpPr>
        <p:spPr>
          <a:xfrm>
            <a:off x="4879800" y="476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1"/>
          <p:cNvSpPr/>
          <p:nvPr/>
        </p:nvSpPr>
        <p:spPr>
          <a:xfrm>
            <a:off x="4879800" y="485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9120" y="831960"/>
          <a:ext cx="8605800" cy="5278320"/>
        </p:xfrm>
        <a:graphic>
          <a:graphicData uri="http://schemas.openxmlformats.org/drawingml/2006/table">
            <a:tbl>
              <a:tblPr/>
              <a:tblGrid>
                <a:gridCol w="2517840"/>
                <a:gridCol w="2425680"/>
                <a:gridCol w="3662280"/>
              </a:tblGrid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я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противоре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критер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098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мод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(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«технологической»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стимулирования и мотив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ператив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ая 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чета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анализа деятельности и ее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коррекции ранее принятых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лучшения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3" descr="120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0323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48" descr="121"/>
          <p:cNvPicPr/>
          <p:nvPr/>
        </p:nvPicPr>
        <p:blipFill>
          <a:blip r:embed="rId1"/>
          <a:stretch/>
        </p:blipFill>
        <p:spPr>
          <a:xfrm>
            <a:off x="846000" y="1104840"/>
            <a:ext cx="7523280" cy="47577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122"/>
          <p:cNvPicPr/>
          <p:nvPr/>
        </p:nvPicPr>
        <p:blipFill>
          <a:blip r:embed="rId1"/>
          <a:stretch/>
        </p:blipFill>
        <p:spPr>
          <a:xfrm>
            <a:off x="835200" y="1138320"/>
            <a:ext cx="7662600" cy="429408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6. ЛИТЕРАТУРА К ГЛАВЕ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рков В.Н., Новик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.А., Коргин Н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теорию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: Учебник. – М.: Книжный дом «ЛИБРОКОМ»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тковский А.Г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 методологии и философии кибернетики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– М.: ИПУ РАН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инер Н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ибернетика или управление и связь в животном и машине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Кун Т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Структура научных революц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оскв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Ларичев О.И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Наука и искусство принятия решен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7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А.М., Новиков Д.А.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Синтег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 Д.А.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 управлен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Книжный дом «ЛИБРОКОМ»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Д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Теория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 М.: Физматлит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ерегудов Ф.И., Тарасенко Ф.П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системный анализ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овет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.Я., Яковле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Моделирование систем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9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Эшби У.Р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. Введение в кибернетику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Изд-во иностранной литературы. 195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700"/>
            </a:b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в электронной библиотеке на сайте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mtas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187280" y="1413000"/>
          <a:ext cx="691848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848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8101080" y="624348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активное взаимодействие человека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окружающей действительностью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ходе которого человек выступает как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убъек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целенаправленно воздействующий на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бъект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Е ПОНЯТИЕ О ЧЕЛОВЕЧЕСКОЙ ДЕ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01480" y="900000"/>
          <a:ext cx="810756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900000"/>
                    <a:ext cx="810756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И КОНКРЕТНЫХ ДЕЯТЕЛЬ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122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Ь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актив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79280" y="1050840"/>
          <a:ext cx="89107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0840"/>
                    <a:ext cx="89107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5"/>
          <p:cNvSpPr/>
          <p:nvPr/>
        </p:nvSpPr>
        <p:spPr>
          <a:xfrm>
            <a:off x="8113680" y="624348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47640" y="1197000"/>
          <a:ext cx="61912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1912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3:01:46Z</dcterms:created>
  <dc:creator>Коллектив авторов</dc:creator>
  <dc:description/>
  <dc:language>en-US</dc:language>
  <cp:lastModifiedBy>LEGION</cp:lastModifiedBy>
  <dcterms:modified xsi:type="dcterms:W3CDTF">2016-01-11T10:08:26Z</dcterms:modified>
  <cp:revision>105</cp:revision>
  <dc:subject/>
  <dc:title>МЕТОДОЛОГИЯ УПРАВЛЕНИЯ (опорная презентация по одноименной книге)</dc:title>
</cp:coreProperties>
</file>