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3706-B9F3-4A38-9AE7-74BA61BC9C8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3. Методологические основы менеджмента: цель, задачи, принципы, методы, фун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баев Ю.А. к.п.н., доцен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менеджмента и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а 3. Методологические основы менеджмента: цель, задачи, принципы, методы, функ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лбаев Ю.А. к.п.н., доцент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федра менеджмента и маркетинг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менеджера (П. Друк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елей организации и путей их дост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работы персонала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системы мотивации и координирования деятельности работ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деятельности работника и контроль за работой персо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роста людей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ункции менеджера (П. Друкер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целей организации и путей их достиж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 работы персонала компан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здание системы мотивации и координирования деятельности работни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ализ деятельности работника и контроль за работой персона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роста людей в организ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цели менедж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, ориентированное на успешную деятельность, присущее каждой организации и отдельно взятому челове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живание организации, сохранение своего места на рынке в течение длительного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намеченных результатов, т. е. обеспечение определенного уровн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преодоление риска или рисковых ситуаций не только в настоящем, но и в будущ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Цели, задачи и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авные цели менеджмент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правление, ориентированное на успешную деятельность, присущее каждой организации и отдельно взятому человеку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живание организации, сохранение своего места на рынке в течение длительного време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стижение намеченных результатов, т. е. обеспечение определенного уровня прибыл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стоянное преодоление риска или рисковых ситуаций не только в настоящем, но и в будуще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Цели, задачи и принцип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задачи менеджмен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производства товаров и услуг с учетом спроса потребителей на основе имеющихся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к использованию работников, обладающих высокой квалифика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ование сотрудников организации путем создания для них соответствующих условий труда и системы его опл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необходимых ресурсов и источников их обеспе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стратегии развития организации и реализац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елей развития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системы мероприятий для достижения намеченных ц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контроля за эффективностью деятельности организации, за выполнением поставлен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задачи менеджмен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 производства товаров и услуг с учетом спроса потребителей на основе имеющихся рес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ход к использованию работников, обладающих высокой квалификаци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имулирование сотрудников организации путем создания для них соответствующих условий труда и системы его опла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необходимых ресурсов и источников их обеспеч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работка стратегии развития организации и реализац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целей развития организ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работка системы мероприятий для достижения намеченных цел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уществление контроля за эффективностью деятельности организации, за выполнением поставленных задач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кономерности, в рамках которых реализуются связи (отношения) между различными структурами (элементами) управленческой системы, проявляющиеся при постановке практических задач управл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авила, основные положения, нормы, которыми руководствуются менеджеры в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закономерности, в рамках которых реализуются связи (отношения) между различными структурами (элементами) управленческой системы, проявляющиеся при постановке практических задач управления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правила, основные положения, нормы, которыми руководствуются менеджеры в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ы менеджмент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ять принципов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специализации и универсализации в управлении (при управлении должно обеспечиваться оптимальное соотношение между специализацией и универсализацие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сть к внешней среде (при изменении отдельных элементов микро- и макросреды предприятия система управления должна продолжать функционировать и выполнять поставленные цел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ность управления (при выборе способов и средств для осуществления управления и достижения цели необходимо ограничивать затраты: трудовые; материальные; временные; финансовые; моральны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упра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централизации и децентрализации в управлении (в каждой системе управления должен быть оптимальный уровень централизации (децентрализации) соответствующих функц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ять принципов 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четание специализации и универсализации в управлении (при управлении должно обеспечиваться оптимальное соотношение между специализацией и универсализацией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тойчивость к внешней среде (при изменении отдельных элементов микро- и макросреды предприятия система управления должна продолжать функционировать и выполнять поставленные цели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ность управления (при выборе способов и средств для осуществления управления и достижения цели необходимо ограничивать затраты: трудовые; материальные; временные; финансовые; моральные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ффективность управления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четание централизации и децентрализации в управлении (в каждой системе управления должен быть оптимальный уровень централизации (децентрализации) соответствующих функций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науч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методов 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научны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еск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о-психологическ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применение моделей для решения управленчески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 – научно поставленный опыт на базе разработанной методики с целью проверки тех или иных гипоте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о-исторический подход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рассмотрения каждого явления в динамике. Проблемы на каждой стадии отличаются, что требует выбора методов, наиболее соответствующих объективным зако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оциологических исследований Используются при решении проблем, связанных с людьми в организации (опросы, наблюдения, изучение документ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де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олагает применение моделей для решения управленческих пробле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сперимен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сперимент – научно поставленный опыт на базе разработанной методики с целью проверки тех или иных гипотез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кретно-исторический подход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олагает рассмотрения каждого явления в динамике. Проблемы на каждой стадии отличаются, что требует выбора методов, наиболее соответствующих объективным закона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оциологических исследований Используются при решении проблем, связанных с людьми в организации (опросы, наблюдения, изучение документов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ют косвенное воздействие на объект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и качественное выполнение заданий вознаграждается денежными выплатами, зависящими от достигнутого результ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атериального стиму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атериальных сан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ески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олагают косвенное воздействие на объект упр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воевременное и качественное выполнение заданий вознаграждается денежными выплатами, зависящими от достигнутого результа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материального стимулирова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материальных санкц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благоприятного морально-психологического климата в коллекти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ие личных способностей каждого работни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работнику в совершенствовании, что в конечном итоге ведет к его максимальной самореал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о-психологически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ирование благоприятного морально-психологического климата в коллективе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крытие личных способностей каждого работника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мощь работнику в совершенствовании, что в конечном итоге ведет к его максимальной самореализа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ые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одель и роли менедж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Цели, задачи и принципы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функции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ебные вопрос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Модель и роли менеджер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Цели, задачи и принципы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Основные функции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функции менеджмен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- непрерывный процесс установления или уточнения и конкретизации целей (развития организации и ее подразделений), определения средств и последовательности их достижения, а также выявления и распределения  ресур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- процесс принятия решений, позволяющих обеспечить эффективное функционирование и развитие организации в будущем, уменьшить неопределе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Основные функции менеджмен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нирование - непрерывный процесс установления или уточнения и конкретизации целей (развития организации и ее подразделений), определения средств и последовательности их достижения, а также выявления и распределения  ресурс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нирование - процесс принятия решений, позволяющих обеспечить эффективное функционирование и развитие организации в будущем, уменьшить неопределенность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еспечение целенаправленного развития организации в целом и ее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ерспективная ориентация и раннее распознавание проблем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оординация деятельности структурных подразделений и работников орган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оздание объективной базы для эффективного контро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тимул трудовой активности персо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Информационное обеспечение работ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планирова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Обеспечение целенаправленного развития организации в целом и ее элемент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Перспективная ориентация и раннее распознавание проблем развит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Координация деятельности структурных подразделений и работников организаци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Создание объективной базы для эффективного контрол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Стимул трудовой активности персона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Информационное обеспечение работни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и интег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еобходимых условий для выполнения пл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ы планирова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прерыв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ализм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ординация и интеграц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здание необходимых условий для выполнения пла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план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ор действий и решений , предпринятых  руководством, которые ведут к разработке специфических стратегий, предназначенных для того, чтобы помочь организации достичь своих целей (термин введен в 70-е год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ратегическое планировани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бор действий и решений , предпринятых  руководством, которые ведут к разработке специфических стратегий, предназначенных для того, чтобы помочь организации достичь своих целей (термин введен в 70-е годы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рациональных форм разделения труда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работы среди работников, групп работников подразде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структуры органов упра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ункция организ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рациональных форм разделения труда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пределение работы среди работников, групп работников подразделен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работка структуры органов управлен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 и лиде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 - поведение индивида, которое вносит изменения в поведение и отношения другого индивида или груп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 - член группы, который в значимых ситуациях способен оказывать существенное влияние на поведение остальных уча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ство - есть механизм воздействия индивида на групповую деятельность в условиях сознательного принятия и поддержки его действий со стороны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ство - отношения доминирования и подчинения, влияния и следования в системе межличностных отношений в групп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ы к пониманию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че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ческие теории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е теории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уководство и лидер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лияние  - поведение индивида, которое вносит изменения в поведение и отношения другого индивида или групп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дер - член группы, который в значимых ситуациях способен оказывать существенное влияние на поведение остальных участник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дерство - есть механизм воздействия индивида на групповую деятельность в условиях сознательного принятия и поддержки его действий со стороны групп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дерство - отношения доминирования и подчинения, влияния и следования в системе межличностных отношений в групп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ходы к пониманию лидер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ория чер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веденческие теории лидер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туационные теории лидер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я менеджера от лидер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 О. Виханскому  и А. Наумов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личия менеджера от лидер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о О. Виханскому  и А. Наумову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- это процесс обеспечения достижения целей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- постоянный процесс, обеспечивающий достижение организацией принятых целей развития путем своевременного обнаружения возникающих в ходе производственно-хозяйственной деятельности объектов управления пробл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- комплексная функция, включающая в себя функции учета, оценки,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ункция контро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роль - это процесс обеспечения достижения целей организ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роль - постоянный процесс, обеспечивающий достижение организацией принятых целей развития путем своевременного обнаружения возникающих в ходе производственно-хозяйственной деятельности объектов управления проблем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роль - комплексная функция, включающая в себя функции учета, оценки, анализ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систематизация информации о фактическом состоянии деятельности и ее результатах (функция – уч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стояния и значимости полученных результатов деятельности, выявление отклонений от стандартов - плановых заданий, нормативов (функция - оцен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ричин отклонений и дестабилизирующих факто­ров, влияющих на результаты деятельности (функция - анализ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ование последствий сложившейся ситуации, обоснование необходимости принятия корректирующих воз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онтро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бор и систематизация информации о фактическом состоянии деятельности и ее результатах (функция – учет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ценка состояния и значимости полученных результатов деятельности, выявление отклонений от стандартов - плановых заданий, нормативов (функция - оценка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ализ причин отклонений и дестабилизирующих факто­ров, влияющих на результаты деятельности (функция - анализ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гнозирование последствий сложившейся ситуации, обоснование необходимости принятия корректирующих воздейств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ровню: стратегический, тактический, оператив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ремени: предварительный, текущий, заключитель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бъекту: финансовый, производственный, маркетинговый, кадровый, качества, материальных средств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убъекту: внешний - осуществляемый руководством или специальными сотрудниками – контролерами, внутренний - осуществляемый самими работн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иды контро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уровню: стратегический, тактический, оперативны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времени: предварительный, текущий, заключительны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объекту: финансовый, производственный, маркетинговый, кадровый, качества, материальных средств и т.п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субъекту: внешний - осуществляемый руководством или специальными сотрудниками – контролерами, внутренний - осуществляемый самими работникам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nage (заведовать, руководить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nager (заведующий, руководитель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nagement (управление)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менеджмент» не является точным синонимом русскому термину «управление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ть можно не только заводом, но и автомобилем или ракет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- всегда управление людь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manage (заведовать, руководить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manager (заведующий, руководитель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management (управление). 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н «менеджмент» не является точным синонимом русскому термину «управление»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правлять можно не только заводом, но и автомобилем или ракето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неджмент - всегда управление людьм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я термина «менеджмен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енеджмент как вид трудов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енеджмент как процесс управления, со всеми его функциями, методами и средств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енеджмент – это орган управления, например, совокупность подразделений аппарата управления, объединяющего менедже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енеджмент - это категория людей, профессионально занимающихся управлением, работающих на должностях, входящих в аппарат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енеджмент – это научная дисциплина, посвященная проблемам, возникающим, когда люди управляют людь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Менеджмент – это не только наука, но и искусство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Менеджмент – это практика реального управления и ее осмыс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Менеджмент – это учебная дисциплина, посвященная управл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начения термина «менеджмент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Менеджмент как вид трудовой деятельност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Менеджмент как процесс управления, со всеми его функциями, методами и средствам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Менеджмент – это орган управления, например, совокупность подразделений аппарата управления, объединяющего менеджер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Менеджмент - это категория людей, профессионально занимающихся управлением, работающих на должностях, входящих в аппарат упр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Менеджмент – это научная дисциплина, посвященная проблемам, возникающим, когда люди управляют людь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Менеджмент – это не только наука, но и искусство упр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. Менеджмент – это практика реального управления и ее осмыслен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. Менеджмент – это учебная дисциплина, посвященная управлению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человека или группу людей, которые осуществляют управленческие воздействия в рамках организации и для реализации ее целей и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бъект менеджмент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ставляет собой человека или группу людей, которые осуществляют управленческие воздействия в рамках организации и для реализации ее целей и задач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се то, на что направлены управленческие воздействия субъекта менеджмента в рамках организации и для реализации ее целей и задач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ие ресурсы организации, представителями которых выступает персонал, подчине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щики ресурсов для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е обеспечение, примером которого могут служить организация и налаживание локальных сетей, поддержание программного обеспечения в работоспособном состоянии и т. 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ы организации, т. е. непосредственно финансово-денежные потоки и управление и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экономическая ситуация в стра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регион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ъект 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все то, на что направлены управленческие воздействия субъекта менеджмента в рамках организации и для реализации ее целей и задач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ловеческие ресурсы организации, представителями которых выступает персонал, подчиненные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ставщики ресурсов для организ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курен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формационное обеспечение, примером которого могут служить организация и налаживание локальных сетей, поддержание программного обеспечения в работоспособном состоянии и т. д.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нансы организации, т. е. непосредственно финансово-денежные потоки и управление им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о-экономическая ситуация в стране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фраструктура региона и д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одель и роли менедж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 — это специалист в области управления, наемный управляющий, организующий работу предприятия, руководящий деятельностью подчиненных ему работников и выполняющий одновременно определенные управленческие фун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Модель и роли менеджер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неджер — это специалист в области управления, наемный управляющий, организующий работу предприятия, руководящий деятельностью подчиненных ему работников и выполняющий одновременно определенные управленческие функ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менеджера Альфреда Слоу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920-е г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ие управлять на основе опыта, знаний, вообра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рженность к фактам и неустанный поиск ист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ость мышления и стремление к беспрестанному анализ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 идти на риск, предварительно рассчитав его це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сть и уважение прав других людей и целей также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иальность и стремление отстаивать свою точку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яльность и готовность пожертвовать личным в интересах д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вперед и создание условий для лучшего выб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дель менеджера Альфреда Слоу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1920-е г.г.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мение управлять на основе опыта, знаний, воображ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верженность к фактам и неустанный поиск исти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крытость мышления и стремление к беспрестанному анализу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товность идти на риск, предварительно рассчитав его цену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раведливость и уважение прав других людей и целей также организ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иальность и стремление отстаивать свою точку зр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ояльность и готовность пожертвовать личным в интересах дел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вижение вперед и создание условий для лучшего выбор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правленческие роли 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(Г. Минцбер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Управленческие роли 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(Г. Минцберг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C169-D5F2-4EF3-AF56-0644BF5F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89EB-E472-4E8E-B284-494EF343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3364-16C8-47C4-9CFE-FA7B0817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BEBA-72A7-4984-9797-C0BC1B9A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2DCF-A81B-421B-9269-36DBD415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2AED-B749-4ABB-846B-3C228860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2CAF-441B-4600-95AC-F9701F55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7315-FA82-42F0-835C-5ED23855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E38A-0013-4502-9D83-0AF73AA6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6743-E958-41DE-BA29-501F726E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0C2C-F335-4BDF-9C5F-B14F4F75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D280-1B83-4BB6-BE54-7A500FD7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3615-854E-4CA1-95F9-D409F9A0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30E7-84B6-41A5-9BCA-EA5418FB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9C61-B4D0-4658-9C3B-772E48C6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A4A3-F70A-482E-B94E-545053B8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7A0C-CB87-4A64-A99D-CE982DB3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73FA-ED79-4D9C-8AB2-F4E13478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124D-C5F1-46AD-96AF-C5472392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176F-C60C-4E5D-BB35-0618DE2C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F037-566B-4A4F-8239-6A161579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53B5-D463-4687-9D69-906D48E1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6AFE-DFFD-4BC9-9BA8-DF239294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CD65-4DE5-4E0C-A10F-759C9BD7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E24D-4089-4A33-BD4A-AFBEE21C6C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82A0-8F77-458F-8718-9E46FBBA4426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692280"/>
            <a:ext cx="7597800" cy="21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Тема 3. Методологические основы менеджмента: цель, задачи, принципы, методы, функции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39280" y="5229000"/>
            <a:ext cx="7704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Елбаев Ю.А. к.п.н., доцент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афедра менеджмента и маркетинг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ункции менеджера (П. Друкер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ределение целей организации и путей их достиж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ация работы персонала компан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оздание системы мотивации и координирования деятельности работни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нализ деятельности работника и контроль за работой персона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беспечение роста людей в организ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2104560"/>
            <a:ext cx="856944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Главные цели менеджмент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правление, ориентированное на успешную деятельность, присущее каждой организации и отдельно взятому человеку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живание организации, сохранение своего места на рынке в течение длительного времен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остижение намеченных результатов, т. е. обеспечение определенного уровня прибыл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стоянное преодоление риска или рисковых ситуаций не только в настоящем, но и в будущем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476360" y="620640"/>
            <a:ext cx="69832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3. Цели, задачи и принцип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менеджмен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Основные задачи менеджмента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рганизация производства товаров и услуг с учетом спроса потребителей на основе имеющихся ресурс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ереход к использованию работников, обладающих высокой квалификаци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тимулирование сотрудников организации путем создания для них соответствующих условий труда и системы его оплат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пределение необходимых ресурсов и источников их обеспеч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зработка стратегии развития организации и реализац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пределение целей развития организац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ыработка системы мероприятий для достижения намеченных цел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существление контроля за эффективностью деятельности организации, за выполнением поставленных задач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755280" y="6857640"/>
            <a:ext cx="76294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116000" y="404640"/>
            <a:ext cx="802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611280" y="260028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закономерности,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в рамках которых реализуются связи (отношения) между различными структурами (элементами) управленческой системы, проявляющиеся при постановке практических задач управлени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авила, основные положения, нормы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которыми руководствуются менеджеры в практ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1403280" y="981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Принципы менеджмент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15640" y="764640"/>
            <a:ext cx="7350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Пять принципов менеджмен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79280" y="1987200"/>
            <a:ext cx="8785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четание специализации и универсализации в управлен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при управлении должно обеспечиваться оптимальное соотношение между специализацией и универсализацией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стойчивость к внешней сред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при изменении отдельных элементов микро- и макросреды предприятия система управления должна продолжать функционировать и выполнять поставленные цели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кономичность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при выборе способов и средств для осуществления управления и достижения цели необходимо ограничивать затраты: трудовые; материальные; временные; финансовые; моральные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ффективность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четание централизации и децентрализации в управлен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в каждой системе управления должен быть оптимальный уровень централизации (децентрализации) соответствующих функций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Классификация методов менеджмент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бщенаучны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Экономическ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Социально-психологическ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1332000" y="907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4000" y="2060640"/>
          <a:ext cx="8351640" cy="4535280"/>
        </p:xfrm>
        <a:graphic>
          <a:graphicData uri="http://schemas.openxmlformats.org/drawingml/2006/table">
            <a:tbl>
              <a:tblPr/>
              <a:tblGrid>
                <a:gridCol w="2365200"/>
                <a:gridCol w="5986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звание мет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арактерис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стемный под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порядочивания упр. проблем, благодаря которому осуществляется их структурирование, выбираются варианты решений, устанавливаются взаимосвязи элементов проблем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мплексный под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ецифическая форма конкретизации системности, заключающаяся в рассмотрении проблем в их связи с методами исследования других наук, изучающих те же проблемы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ономико- математ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т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меняются для решения задач оптимизации, распределения ресурсов, программно-целевого планирования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6"/>
          <p:cNvSpPr/>
          <p:nvPr/>
        </p:nvSpPr>
        <p:spPr>
          <a:xfrm>
            <a:off x="2124000" y="981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Общенаучные метод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дел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Предполагает применение моделей для решения управленческих проблем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ксперимент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Эксперимент – научно поставленный опыт на базе разработанной методики с целью проверки тех или иных гипотез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кретно-исторический подход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едполагает рассмотрения каждого явления в динамике. Проблемы на каждой стадии отличаются, что требует выбора методов, наиболее соответствующих объективным закон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тоды социологических исследований </a:t>
            </a: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Используются при решении проблем, связанных с людьми в организации (опросы, наблюдения, изучение документов)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258920" y="105264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Общенаучные мето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Экономические метод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полагают косвенное воздействие на объект управле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оевременное и качественное выполнение заданий вознаграждается денежными выплатами, зависящими от достигнутого результа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од материального стимулирова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од материальных санкц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оциально-психологические метод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7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ормирование благоприятного морально-психологического климата в коллективе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скрытие личных способностей каждого работник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мощь работнику в совершенствовании, что в конечном итоге ведет к его максимальной самореализ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16000" y="765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547640" y="5145120"/>
            <a:ext cx="705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269000" y="2163960"/>
            <a:ext cx="720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Tahoma"/>
              </a:rPr>
              <a:t>Учебные вопрос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 Основные понятия менедж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. Модель и роли менеджер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. Цели, задачи и принципы менедж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4. Основные функции менедж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4. Основные функции менеджмента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ланирование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непрерывный процесс установления или уточнения и конкретизации целей (развития организации и ее подразделений), определения средств и последовательности их достижения, а также выявления и распределения  ресурсо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ланирова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процесс принятия решений, позволяющих обеспечить эффективное функционирование и развитие организации в будущем, уменьшить неопределенност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планир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Обеспечение целенаправленного развития организации в целом и ее элемен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Перспективная ориентация и раннее распознавание проблем развит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. Координация деятельности структурных подразделений и работников организаци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Создание объективной базы для эффективного контрол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5. Стимул трудовой активности персона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6. Информационное обеспечение работник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нципы планир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прерыв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ализ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ординация и интеграц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ч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здание необходимых условий для выполнения пл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тратегическое планирование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8664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бор действий и решений , предпринятых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уководством, которые ведут к разработке специфических стратегий, предназначенных для того, чтобы помочь организации достичь своих целей (термин введен в 70-е годы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ункция организац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ение рациональных форм разделения труда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пределение работы среди работников, групп работников подраздел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работка структуры органов управл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уководство и лидерств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лияние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поведение индивида, которое вносит изменения в поведение и отношения другого индивида или групп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дер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член группы, который в значимых ситуациях способен оказывать существенное влияние на поведение остальных участник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дерств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есть механизм воздействия индивида на групповую деятельность в условиях сознательного принятия и поддержки его действий со стороны групп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дерств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отношения доминирования и подчинения, влияния и следования в системе межличностных отношений в групп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Подходы к пониманию лиде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еория чер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веденческие теории лиде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итуационные теории лиде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Отличия менеджера от лидера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(по О. Виханскому  и А. Наумову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84360" y="2133720"/>
          <a:ext cx="7772400" cy="4572000"/>
        </p:xfrm>
        <a:graphic>
          <a:graphicData uri="http://schemas.openxmlformats.org/drawingml/2006/table">
            <a:tbl>
              <a:tblPr/>
              <a:tblGrid>
                <a:gridCol w="3852720"/>
                <a:gridCol w="3919680"/>
              </a:tblGrid>
              <a:tr h="51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недж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д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5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дминистрато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андует, убежда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олняет указания други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йствует на основе расче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иентируется на организаци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тролиру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держивает движ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имает реш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лает, как нуж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ьзуется уваж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новато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дохновляет, призыва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изует собственные ц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йствует на основе вид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иентируется на люд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веря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ет импульс движени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изует реш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лает, что нуж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ьзуется любов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ункция контрол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Контроль</a:t>
            </a:r>
            <a:r>
              <a:rPr b="0" lang="ru-RU" sz="2800" spc="-1" strike="noStrike">
                <a:solidFill>
                  <a:srgbClr val="00e4a8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это процесс обеспечения достижения целей организа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Контрол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постоянный процесс, обеспечивающий достижение организацией принятых целей развития путем своевременного обнаружения возникающих в ходе производственно-хозяйственной деятельности объектов управления пробле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Контроль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комплексная функция, включающая в себя функции учета, оценки, анализ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Задачи контрол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22050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бор и систематизация информации о фактическом состоянии деятельности и ее результатах (функция – учет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ценка состояния и значимости полученных результатов деятельности, выявление отклонений от стандартов - плановых заданий, нормативов (функция - оценка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нализ причин отклонений и дестабилизирующих факто­ров, влияющих на результаты деятельности (функция - анализ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гнозирование последствий сложившейся ситуации, обоснование необходимости принятия корректирующих воздейств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Виды контрол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уровн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ратегический, тактический, оперативны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времен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предварительный, текущий, заключительны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объекту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финансовый, производственный, маркетинговый, кадровый, качества, материальных средств и т.п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субъек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шний - осуществляемый руководством или специальными сотрудниками – контролерами, внутренний - осуществляемый самими работникам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32000" y="764640"/>
            <a:ext cx="74880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1. Основные понятия менеджмен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116000" y="1802520"/>
            <a:ext cx="7632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manage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заведовать, руководить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manager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заведующий, руководитель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управление). 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рмин «менеджмент» не является точным синонимом русскому термину «управление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правлять можно не только заводом, но и автомобилем или ракето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неджмент - всегда управление людьми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1600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Значения термина «менеджмент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95280" y="2127600"/>
            <a:ext cx="82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. Менеджмент как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ид трудовой деятельност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2. Менеджмент как процесс управления, со всеми его функциями, методами и средствам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3. Менеджмент – это орган управления, например, совокупность подразделений аппарата управления, объединяющего менеджер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4. Менеджмент - это категория людей, профессионально занимающихся управлением, работающих на должностях, входящих в аппарат управления.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. Менеджмент – это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научная дисциплин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 посвященная проблемам, возникающим, когда люди управляют людь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6. Менеджмент – это не только наука, но и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искусство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правле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7. Менеджмент – это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актика реального управления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и ее осмысле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8. Менеджмент – это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учебная дисциплин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 посвященная управлению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Субъект менеджмент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ставляет собой человека или группу людей, которые осуществляют управленческие воздействия в рамках организации и для реализации ее целей и задач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Объект менеджмен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971640" y="5095800"/>
            <a:ext cx="794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95280" y="2060640"/>
            <a:ext cx="856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все то, на что направлены управленческие воздействия субъекта менеджмента в рамках организации и для реализации ее целей и задач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человеческие ресурсы организации, представителями которых выступает персонал, подчиненны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ставщики ресурсов для организаци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нкуренты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нформационное обеспечение, примером которого могут служить организация и налаживание локальных сетей, поддержание программного обеспечения в работоспособном состоянии и т. д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инансы организации, т. е. непосредственно финансово-денежные потоки и управление им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циально-экономическая ситуация в стран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нфраструктура региона и д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2. Модель и роли менеджер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4920" y="24210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енеджер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это специалист в области управления, наемный управляющий, организующий работу предприятия, руководящий деятельностью подчиненных ему работников и выполняющий одновременно определенные управленческие функц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817236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Модель менеджера Альфреда Слоуна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(1920-е г.г.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мение управлять на основе опыта, знаний, воображ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верженность к фактам и неустанный поиск истин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ткрытость мышления и стремление к беспрестанному анализ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отовность идти на риск, предварительно рассчитав его цен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праведливость и уважение прав других людей и целей также организац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нципиальность и стремление отстаивать свою точку зр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ояльность и готовность пожертвовать личным в интересах дел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вижение вперед и создание условий для лучшего выбор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Управленческие роли  </a:t>
            </a: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(Г. Минцберг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2017800"/>
          <a:ext cx="8486640" cy="4370400"/>
        </p:xfrm>
        <a:graphic>
          <a:graphicData uri="http://schemas.openxmlformats.org/drawingml/2006/table">
            <a:tbl>
              <a:tblPr/>
              <a:tblGrid>
                <a:gridCol w="4244760"/>
                <a:gridCol w="4241880"/>
              </a:tblGrid>
              <a:tr h="117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жличностная р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лавный руковод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д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вязующее зве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формационная р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емник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пространитель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дстав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ль, связанная с принятием реш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траняющий наруш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пределитель ресур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едущий перегов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2:55:26Z</dcterms:created>
  <dc:creator>Дмитрий</dc:creator>
  <dc:description/>
  <dc:language>en-US</dc:language>
  <cp:lastModifiedBy>LEGION</cp:lastModifiedBy>
  <dcterms:modified xsi:type="dcterms:W3CDTF">2016-01-11T10:02:26Z</dcterms:modified>
  <cp:revision>16</cp:revision>
  <dc:subject/>
  <dc:title>Тема 3. Методологические основы менеджмента: цель, задачи, принципы, методы, функции</dc:title>
</cp:coreProperties>
</file>