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6DF3-2D6E-4432-BB91-C6D82B0F34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055-CC62-4A80-9EE6-E8BC4523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5B8-A39F-4CCA-AF2E-2E5105C8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1FA-0C26-4CA7-B1FE-ECE195A8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594-5F71-448B-A4F7-526B8664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0873-4D54-4369-8F22-0CEEE5BA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8480-259A-4172-84A8-4817D443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2A77-C02D-4246-95C3-851C2740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B47B-6FB0-40AB-BAEE-4DD41B70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BE92-749F-4ACC-BDF3-38D42889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DE14-41AA-4F8C-883D-7E5D6DC2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EE2F-C274-44EE-BB63-73C8E296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3D2-96A2-45DA-A210-E9021D12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EA1E-D9E7-46F3-8337-C643E947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FBF3-BA5E-4EF3-89E4-B2FF00C5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5943-2961-4EE0-8584-ECB3C8F8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8F8D-3B4A-42CA-933C-E4D7A4BA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DBB1-ADEC-48B6-960D-16EAAE49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EFA-04C3-498C-8A1D-45FB26F0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C7C-9CB2-4BFF-BC2D-56A115E0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058-8C11-44FB-98B0-4D90388F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46D-ACEF-4545-A9B5-ED74F06D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54B-84AF-4BD0-88D7-A15F1BB5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196-5407-40DD-B679-CC9621A7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C3E-13AE-4FEA-AFB1-2369635C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E0E3-9EC2-4F52-A4BD-0242C08C0A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CEAE-1A2D-47B8-8E8D-3C87CE5F95B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97800" cy="21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Тема 3. Методологические основы менеджмента: цель, задачи, принципы, методы, функции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280" y="5229000"/>
            <a:ext cx="7704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и менеджера (П. Друкер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2104560"/>
            <a:ext cx="856944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Главные цели менеджмен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620640"/>
            <a:ext cx="698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3. Цели, задачи и принци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сновные задачи менеджмент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280" y="6857640"/>
            <a:ext cx="7629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16000" y="404640"/>
            <a:ext cx="802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1280" y="2600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кономерности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авила, основные положения, норм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которыми руководствуются менеджеры в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403280" y="981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ринципы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735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ять принципов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1987200"/>
            <a:ext cx="878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управлении должно обеспечиваться оптимальное соотношение между специализацией и универсализаци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стойчивость к внешней сред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ономич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ффектив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Классификация методов менеджмен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енаучны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коном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оциально-психолог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332000" y="90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2060640"/>
          <a:ext cx="8351640" cy="4535280"/>
        </p:xfrm>
        <a:graphic>
          <a:graphicData uri="http://schemas.openxmlformats.org/drawingml/2006/table">
            <a:tbl>
              <a:tblPr/>
              <a:tblGrid>
                <a:gridCol w="2365200"/>
                <a:gridCol w="598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т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порядочивания упр. проблем, благодаря которому осуществляется их структурирование, выбираются варианты решений, устанавливаются взаимосвязи элементов проблем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лекс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ая форма конкретизации системности, заключающаяся в рассмотрении проблем в их связи с методами исследования других наук, изучающих те же проблемы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ко- мате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меняются для решения задач оптимизации, распределения ресурсов, программно-целевого планирова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6"/>
          <p:cNvSpPr/>
          <p:nvPr/>
        </p:nvSpPr>
        <p:spPr>
          <a:xfrm>
            <a:off x="2124000" y="981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Используются при решении проблем, связанных с людьми в организации (опросы, наблюдения, изучение документов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258920" y="1052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Эконом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циально-психолог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1451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69000" y="2163960"/>
            <a:ext cx="720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ahoma"/>
              </a:rPr>
              <a:t>Учебные вопро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4. Основные функции менеджмента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роцесс принятия решений, позволяющих обеспечить эффективное функционирование и развитие организации в будущем, уменьшить неопределенн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нципы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атегическое планирован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организ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уководство и лидерств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ия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поведение индивида, которое вносит изменения в поведение и отношения другого индивида или 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отношения доминирования и подчинения, влияния и следования в системе межличностных отношений в групп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Подходы к пониманию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тличия менеджера от лидер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(по О. Виханскому  и А. Наумову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4360" y="2133720"/>
          <a:ext cx="7772400" cy="4572000"/>
        </p:xfrm>
        <a:graphic>
          <a:graphicData uri="http://schemas.openxmlformats.org/drawingml/2006/table">
            <a:tbl>
              <a:tblPr/>
              <a:tblGrid>
                <a:gridCol w="3852720"/>
                <a:gridCol w="391968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андует, убежд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ет указания друг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расч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организац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иру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ивает 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има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как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уваж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нов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дохновляет, призыв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собственные ц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вид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люд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веря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ет импульс движе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что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любов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это процесс обеспечения достижения целей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функция, включающая в себя функции учета, оценки, анали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дачи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иды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уровн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тегический, тактический, оператив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редварительный, текущий, заключитель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объек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финансовый, производственный, маркетинговый, кадровый, качества, материальных средств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субъек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2000" y="764640"/>
            <a:ext cx="7488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1. Основные понятия менеджмен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16000" y="1802520"/>
            <a:ext cx="7632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овать, руководи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ующий, руководител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управление).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Значения термина «менеджмен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212760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Менеджмент как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ид 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уч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проблемам, возникающим, когда люди управляют людь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кусств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прав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актика реального управлен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и ее осмыс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учеб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управлению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убъект менеджмент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ъект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971640" y="5095800"/>
            <a:ext cx="794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206064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2. Модель и роли менедж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неджер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одель менеджера Альфреда Слоун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(1920-е г.г.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Управленческие роли  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(Г. Минцберг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2017800"/>
          <a:ext cx="8486640" cy="4370400"/>
        </p:xfrm>
        <a:graphic>
          <a:graphicData uri="http://schemas.openxmlformats.org/drawingml/2006/table">
            <a:tbl>
              <a:tblPr/>
              <a:tblGrid>
                <a:gridCol w="4244760"/>
                <a:gridCol w="4241880"/>
              </a:tblGrid>
              <a:tr h="117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личност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в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язующее зв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емник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остранитель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ста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ь, связанная с принятием ре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раняющий нару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еделитель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дущий перегов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55:26Z</dcterms:created>
  <dc:creator>Дмитрий</dc:creator>
  <dc:description/>
  <dc:language>en-US</dc:language>
  <cp:lastModifiedBy>LEGION</cp:lastModifiedBy>
  <dcterms:modified xsi:type="dcterms:W3CDTF">2016-01-11T10:02:26Z</dcterms:modified>
  <cp:revision>16</cp:revision>
  <dc:subject/>
  <dc:title>Тема 3. Методологические основы менеджмента: цель, задачи, принципы, методы, функции</dc:title>
</cp:coreProperties>
</file>