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4.gif" ContentType="image/gif"/>
  <Override PartName="/ppt/media/image7.wmf" ContentType="image/x-wmf"/>
  <Override PartName="/ppt/media/image12.wmf" ContentType="image/x-wm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73D79-94E4-47DB-8526-DD6D196DB15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11.01.2016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Менеджмент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Савка Н.В., учитель истории и обществознания, 2009г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01.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м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вка Н.В., учитель истории и обществознания, 2009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Х Макгрегора: люди изначально не любят трудиться и при любой возможности избегают работы; у них нет честолюбия, и они стараются избавиться от ответственности, предпочитая, чтобы ими руководили другие; больше всего люди хотят защищенности, и чтобы заставить их трудиться, необходимо … чт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ть принуждение, контроль и угрозу наказ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У: труд – процесс естественный, и если условия благоприятны, люди готовы принять на себя ответственность; работники заинтересованы в целях организации, значительная часть их обладает способностью к творческому решению проблем. Следующие этой теории руководители в управлении используют …чт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ность персонала обсуждать, принимать и предлагать решения, цели и задачи предприя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Теория Х Макгрегора: люди изначально не любят трудиться и при любой возможности избегают работы; у них нет честолюбия, и они стараются избавиться от ответственности, предпочитая, чтобы ими руководили другие; больше всего люди хотят защищенности, и чтобы заставить их трудиться, необходимо … что?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Использовать принуждение, контроль и угрозу наказания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Теория У: труд – процесс естественный, и если условия благоприятны, люди готовы принять на себя ответственность; работники заинтересованы в целях организации, значительная часть их обладает способностью к творческому решению проблем. Следующие этой теории руководители в управлении используют …что?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Способность персонала обсуждать, принимать и предлагать решения, цели и задачи предприятия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наблюдения за деятельностью фирм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контроль количества, качества, сохран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укции, расходованием ресурсов, соблюдение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вых норм, инструкций, договоров и т.д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предварительный контроль (на стад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ления планов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текущий контроль (на стадии выполнения планов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заключительный контроль (при оценке результат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ви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лексная проверка всех или отдель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орон деятельности фир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ой формой управления, нацеленной на максимализацию прибыли и обеспечение стабильной работы фирмы, является комплексная система синхронного анализа, планирования и контроля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линг (controll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Система наблюдения за деятельностью фирмы</a:t>
            </a:r>
            <a:br>
              <a:rPr sz="1200"/>
            </a:b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(контроль количества, качества, сохранности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родукции, расходованием ресурсов, соблюдением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равовых норм, инструкций, договоров и т.д.)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А) предварительный контроль (на стадии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составления планов);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Б) текущий контроль (на стадии выполнения планов);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В) заключительный контроль (при оценке результатов)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Контроль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Ревизия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Комплексная проверка всех или отдельных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сторон деятельности фирмы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Современной формой управления, нацеленной на максимализацию прибыли и обеспечение стабильной работы фирмы, является комплексная система синхронного анализа, планирования и контроля –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Контроллинг (controlling)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производства — ресурсы, необходимые для производства товаров и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ые ресурсы, или труд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иционные ресурсы, или капитал (совокупность созданных прошлым трудом человека благ. К факторам производства относится не весь капитал, а только реальный капитал — здания, сооружения, станки, машины и оборудование, инструменты и проч. — то есть все то, что используется для производства и транспортировки товаров и услуг. Финансовый же капитал (акции, облигации, банковские депозиты и деньги) к факторам производства не относится, поскольку не связан с реальным производством, а выступает в качестве инструмента получения реального капитала)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ные ресурсы, или земля (все сельскохозяйственные угодья и городские земли, которые отведены под жилищную или промышленную застройку, а также совокупность природных условий, необходимых для производства товаров и услуг)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ырьевые ресурс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ий талант, или предпринимательские способност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; специфической формой информации является технологи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я, или управленческие способ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производства могут быть соединены различными способами, решение о способе соединения принимает менедж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Факторы производства — ресурсы, необходимые для производства товаров и услуг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трудовые ресурсы, или труд;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инвестиционные ресурсы, или капитал (совокупность созданных прошлым трудом человека благ. К факторам производства относится не весь капитал, а только реальный капитал — здания, сооружения, станки, машины и оборудование, инструменты и проч. — то есть все то, что используется для производства и транспортировки товаров и услуг. Финансовый же капитал (акции, облигации, банковские депозиты и деньги) к факторам производства не относится, поскольку не связан с реальным производством, а выступает в качестве инструмента получения реального капитала) ;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риродные ресурсы, или земля (все сельскохозяйственные угодья и городские земли, которые отведены под жилищную или промышленную застройку, а также совокупность природных условий, необходимых для производства товаров и услуг) ;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сырьевые ресурсы;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редпринимательский талант, или предпринимательские способности;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информация; специфической формой информации является технология;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знания, или управленческие способности.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Факторы производства могут быть соединены различными способами, решение о способе соединения принимает менеджер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м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по управлению и координ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ы предприятия и его подраздел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ка об управлении организац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Команда» руководителей пред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цо, занимающее определенную долж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редприятии и обладающее властью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м принимать ре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Менеджмент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Деятельность по управлению и координации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работы предприятия и его подразделений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Наука об управлении организацией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«Команда» руководителей предприятия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Менеджер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Лицо, занимающее определенную должность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на предприятии и обладающее властью и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равом принимать решения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и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ший – председатель сове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ректоров, генеральный директор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идент компан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ний – заместител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водителя: «директор п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етингу», «Директор п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у», начальники цехо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водители отде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зовой – руководители первичных, низов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разделений – начальники участко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абораторий, секторов, бригади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Уровни менеджмента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Высший – председатель совета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директоров, генеральный директор,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резидент компании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Средний – заместители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руководителя: «директор по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маркетингу», «Директор по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ерсоналу», начальники цехов,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руководители отделов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Низовой – руководители первичных, низовых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одразделений – начальники участков,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лабораторий, секторов, бригадиры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функции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создания структуры предприятия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ения ее работниками своих функц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ить структуру и соподчин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раздел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пределить место, время производ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укции, маршруты ее движ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редприят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изучения и решения пробле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дущего: определение целей деятель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и,  и способов их реал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тегическое – определение основ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й развития на 10-15 л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Среднесрочное на 3-5 лет (конкретизация задач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тегических планов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Текущее планирование сроком до 1 го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с разбивкой по кварталам), охватыва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стороны деятельност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Основные функции менеджмента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Организация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роцесс создания структуры предприятия и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выполнения ее работниками своих функций: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Определить структуру и соподчинение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одразделений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2. Определить место, время производства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родукции, маршруты ее движения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на предприятии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ланирование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роцесс изучения и решения проблем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будущего: определение целей деятельности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организации,  и способов их реализации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Стратегическое – определение основных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направлений развития на 10-15 лет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2. Среднесрочное на 3-5 лет (конкретизация задач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стратегических планов)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3. Текущее планирование сроком до 1 года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(с разбивкой по кварталам), охватывают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все стороны деятельности)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ая организация тр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ые методы представляют собой установление связей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ошений между должностями работников. Эти методы носят пассив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.  Они обеспечивают развитие персонала и упорядочивают управл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ые методы – это управление и регулирование деятель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а на основе приказов, распоряжений, конкретных заданий. Э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могут и сопровождаться поощрениями и штрафами за успешную ил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успешную работу. Возможны три формы проявления этих методов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язательное предписание, согласительные (консультация, компромисс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комендации (совет, предписание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е методы – косвенное воздействие на объект управления. Э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не действуют автоматически, трудно определить силу их влияния 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ультат. С их помощью осуществляется материальное стимулирование, он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гут выступать как планирование, анализ, ценообразование, финансировани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оставление экономической самосто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ческие методы – побуждение работников к эффектив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и через психологическое воздействие. Нацелены 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благоприятного климата в коллекти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Эффективная организация труда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Организационные методы представляют собой установление связей и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отношений между должностями работников. Эти методы носят пассивный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характер.  Они обеспечивают развитие персонала и упорядочивают управление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Административные методы – это управление и регулирование деятельности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ерсонала на основе приказов, распоряжений, конкретных заданий. Эти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методы могут и сопровождаться поощрениями и штрафами за успешную или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неуспешную работу. Возможны три формы проявления этих методов: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Обязательное предписание, согласительные (консультация, компромисс),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рекомендации (совет, предписание)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Экономические методы – косвенное воздействие на объект управления. Эти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методы не действуют автоматически, трудно определить силу их влияния на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результат. С их помощью осуществляется материальное стимулирование, они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могут выступать как планирование, анализ, ценообразование, финансирование,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редоставление экономической самостоятельности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сихологические методы – побуждение работников к эффективной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деятельности через психологическое воздействие. Нацелены на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формирование благоприятного климата в коллективе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тив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заинтересованности персонал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остижении целей фир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рамида Масло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Мотивация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Создание заинтересованности персонала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в достижении целей фирмы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ирамида Маслоу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 организ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 организ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  организ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ди (кадр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а  прямого воздей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ители; конкуренты; оставщики; законы  и  государственные  органы; профсоюз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а  косвенного  воздействия политика; экономика; социальные  факторы; технология; международные 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внутренней среды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ей среды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цели  организации;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структура  организации;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задачи  организации;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технология;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люди (кадры)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среда  прямого воздействия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отребители; конкуренты; оставщики; законы  и  государственные  органы; профсоюзы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среда  косвенного  воздействия политика; экономика; социальные  факторы; технология; международные  отношения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Факторы внутренней среды и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внешней среды организации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уник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мен  информацией  с  другими  людь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 процессе  обмена  информацией  можно  выделить  четыре  базовых  элемент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правитель (адресант) – лицо, генерирующее  идеи  или  собирающее  информацию  и  передающее  е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бщение – собственно  информация, закодированная  с  помощью  символ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нал – средство  передачи  информ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атель (адресат) – лицо, которому  предназначена  информ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ыми  эффективными  являются  коммуникации  путем  личных  контак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Коммуникации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обмен  информацией  с  другими  людьми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В  процессе  обмена  информацией  можно  выделить  четыре  базовых  элемента: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отправитель (адресант) – лицо, генерирующее  идеи  или  собирающее  информацию  и  передающее  ее;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сообщение – собственно  информация, закодированная  с  помощью  символов;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канал – средство  передачи  информации;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олучатель (адресат) – лицо, которому  предназначена  информация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Самыми  эффективными  являются  коммуникации  путем  личных  контактов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4912-C5D5-481D-83A6-95AF259A2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1BD6-7280-43AD-B5C6-B36ABA80F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6937-7863-4AD2-95FC-A6D3B8647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03CB-893F-414B-8D58-082C5E4F0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FBBADC-D5E7-462A-A9E4-7BE42810E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CB64AB-8373-4123-BB29-F4DFA3B7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D1B44C-2438-49B3-B8F4-C92369DD4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8D4FC3-AC5A-45BA-BB1B-3D4ACE35B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D042CD-F2E5-47B8-8B2D-88474C09D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FAD3D4-6225-4C53-824C-AF544878C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42D8AA-5874-4860-BB2F-52604BF6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4837-D218-421C-A0C0-CD31B2E5B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DC82A8-81D7-4978-932F-22D18AAC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414233-4BDF-455A-BF84-CF6FA2EE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F36A3B-4D82-4CAD-8A47-6B5363CE0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C02757-F95D-4C9E-A303-C82FCAA4D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6D1F26-4C63-404C-B78E-DE807522E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834D-1A02-493A-9FFD-88252C60A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BD1B-B457-4231-8AB4-F462B51F5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A398-9DD1-4120-8412-092AE7D7F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7C04-CFDC-4380-95CF-B3D9211E6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4334-8E25-457C-826D-24EB99AA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E1F7-AA6B-4F0E-8302-F55E7BF8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730E-1BCD-4CB8-A7E2-395BDB3A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3EB0E-1F4F-4845-8A50-4FD1755A0E3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0974F-1FD2-46E8-ACB3-6656486FCE92}" type="slidenum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810072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246A6-E461-482E-AC21-8D460B813D5A}" type="slidenum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5DAA8-97FE-471A-9ABC-383516018D68}" type="datetime">
              <a:rPr b="0" lang="ru-RU" sz="1400" spc="-1" strike="noStrike">
                <a:solidFill>
                  <a:srgbClr val="205ff6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05ff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B89F1-54A7-4D16-A705-A54F0741A339}" type="datetime">
              <a:rPr b="0" lang="ru-RU" sz="1400" spc="-1" strike="noStrike">
                <a:solidFill>
                  <a:srgbClr val="205ff6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енеджмен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195640" y="5734080"/>
            <a:ext cx="62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Савка Н.В., учитель истории и обществознания, 2009г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4"/>
          <p:cNvSpPr/>
          <p:nvPr/>
        </p:nvSpPr>
        <p:spPr>
          <a:xfrm>
            <a:off x="395280" y="1413000"/>
            <a:ext cx="8497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Теория Х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Макгрегора: люди изначально не любят трудиться и при любой возможности избегают работы; у них нет честолюбия, и они стараются избавиться от ответственности, предпочитая, чтобы ими руководили другие; больше всего люди хотят защищенности, и чтобы заставить их трудиться, необходимо … </a:t>
            </a:r>
            <a:r>
              <a:rPr b="0" i="1" lang="ru-RU" sz="1800" spc="-1" strike="noStrike">
                <a:solidFill>
                  <a:srgbClr val="990000"/>
                </a:solidFill>
                <a:latin typeface="Arial"/>
              </a:rPr>
              <a:t>что?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468360" y="292428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Использовать принуждение, контроль и угрозу наказания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539640" y="3573360"/>
            <a:ext cx="82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Теория У: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труд – процесс естественный, и если условия благоприятны, люди готовы принять на себя ответственность; работники заинтересованы в целях организации, значительная часть их обладает способностью к творческому решению проблем. Следующие этой теории руководители в управлении используют …</a:t>
            </a:r>
            <a:r>
              <a:rPr b="0" i="1" lang="ru-RU" sz="1800" spc="-1" strike="noStrike">
                <a:solidFill>
                  <a:srgbClr val="990000"/>
                </a:solidFill>
                <a:latin typeface="Arial"/>
              </a:rPr>
              <a:t>что?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395280" y="580536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Способность персонала обсуждать, принимать и предлагать решения, цели и задачи предприятия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69" name="Picture 8" descr="36_2_63"/>
          <p:cNvPicPr/>
          <p:nvPr/>
        </p:nvPicPr>
        <p:blipFill>
          <a:blip r:embed="rId1"/>
          <a:stretch/>
        </p:blipFill>
        <p:spPr>
          <a:xfrm>
            <a:off x="7020000" y="2565360"/>
            <a:ext cx="952560" cy="8571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36_2_51"/>
          <p:cNvPicPr/>
          <p:nvPr/>
        </p:nvPicPr>
        <p:blipFill>
          <a:blip r:embed="rId2"/>
          <a:stretch/>
        </p:blipFill>
        <p:spPr>
          <a:xfrm>
            <a:off x="4284720" y="4653000"/>
            <a:ext cx="1047600" cy="104760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дати 1"/>
          <p:cNvSpPr/>
          <p:nvPr/>
        </p:nvSpPr>
        <p:spPr>
          <a:xfrm>
            <a:off x="45720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A68B1-9681-4C04-92F5-F35D253036F2}" type="datetime">
              <a:rPr b="0" lang="ru-RU" sz="1400" spc="-1" strike="noStrike">
                <a:solidFill>
                  <a:srgbClr val="205ff6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2" name="Місце для нижнього колонтитула 2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AutoShape 5"/>
          <p:cNvSpPr/>
          <p:nvPr/>
        </p:nvSpPr>
        <p:spPr>
          <a:xfrm>
            <a:off x="2987640" y="836640"/>
            <a:ext cx="5977080" cy="25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4700"/>
              </a:gs>
              <a:gs pos="50000">
                <a:srgbClr val="cc9900"/>
              </a:gs>
              <a:gs pos="100000">
                <a:srgbClr val="5e4700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истема наблюдения за деятельностью фирмы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контроль количества, качества, сохраннос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дукции, расходованием ресурсов, соблюдением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авовых норм, инструкций, договоров и т.д.)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) предварительный контроль (на стади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ставления планов)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) текущий контроль (на стадии выполнения планов)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) заключительный контроль (при оценке результатов)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74" name="Picture 10" descr="EXAMINE"/>
          <p:cNvPicPr/>
          <p:nvPr/>
        </p:nvPicPr>
        <p:blipFill>
          <a:blip r:embed="rId1"/>
          <a:stretch/>
        </p:blipFill>
        <p:spPr>
          <a:xfrm>
            <a:off x="179280" y="260280"/>
            <a:ext cx="3025800" cy="3252960"/>
          </a:xfrm>
          <a:prstGeom prst="rect">
            <a:avLst/>
          </a:prstGeom>
          <a:ln w="0">
            <a:noFill/>
          </a:ln>
        </p:spPr>
      </p:pic>
      <p:sp>
        <p:nvSpPr>
          <p:cNvPr id="175" name="WordArt 4"/>
          <p:cNvSpPr txBox="1"/>
          <p:nvPr/>
        </p:nvSpPr>
        <p:spPr>
          <a:xfrm>
            <a:off x="468360" y="1341360"/>
            <a:ext cx="19429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Impact"/>
              </a:rPr>
              <a:t>Контро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Impact"/>
              <a:ea typeface="Impact"/>
            </a:endParaRPr>
          </a:p>
        </p:txBody>
      </p:sp>
      <p:sp>
        <p:nvSpPr>
          <p:cNvPr id="176" name="WordArt 6"/>
          <p:cNvSpPr txBox="1"/>
          <p:nvPr/>
        </p:nvSpPr>
        <p:spPr>
          <a:xfrm>
            <a:off x="826920" y="3716280"/>
            <a:ext cx="1781280" cy="80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Ревиз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77" name="AutoShape 7"/>
          <p:cNvSpPr/>
          <p:nvPr/>
        </p:nvSpPr>
        <p:spPr>
          <a:xfrm>
            <a:off x="2771640" y="3645000"/>
            <a:ext cx="547236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Комплексная проверка всех или отдельны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сторон деятельности фирмы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539640" y="4941720"/>
            <a:ext cx="8064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Современной формой управления, нацеленной на максимализацию прибыли и обеспечение стабильной работы фирмы, является комплексная система синхронного анализа, планирования и контроля –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1979640" y="595008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Контроллинг (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controlling)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0" name="Місце для дати 1"/>
          <p:cNvSpPr/>
          <p:nvPr/>
        </p:nvSpPr>
        <p:spPr>
          <a:xfrm>
            <a:off x="45720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8D42E-579D-4768-9136-D687FAF1A40E}" type="datetime">
              <a:rPr b="0" lang="ru-RU" sz="1400" spc="-1" strike="noStrike">
                <a:solidFill>
                  <a:srgbClr val="205ff6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1" name="Місце для нижнього колонтитула 2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акторы производств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— ресурсы, необходимые для производства товаров и услу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трудовые ресурсы, или </a:t>
            </a:r>
            <a:r>
              <a:rPr b="1" lang="ru-RU" sz="1600" spc="-1" strike="noStrike">
                <a:solidFill>
                  <a:srgbClr val="205ff6"/>
                </a:solidFill>
                <a:latin typeface="Arial"/>
              </a:rPr>
              <a:t>труд</a:t>
            </a: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инвестиционные ресурсы, или </a:t>
            </a:r>
            <a:r>
              <a:rPr b="1" lang="ru-RU" sz="1600" spc="-1" strike="noStrike">
                <a:solidFill>
                  <a:srgbClr val="205ff6"/>
                </a:solidFill>
                <a:latin typeface="Arial"/>
              </a:rPr>
              <a:t>капитал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(совокупность созданных прошлым трудом человека благ. К факторам производства относится не весь капитал, а только реальный капитал — здания, сооружения, станки, машины и оборудование, инструменты и проч. — то есть все то, что используется для производства и транспортировки товаров и услуг. Финансовый же капитал (акции, облигации, банковские депозиты и деньги) к факторам производства не относится, поскольку не связан с реальным производством, а выступает в качестве инструмента получения реального капитала)</a:t>
            </a: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 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природные ресурсы, или </a:t>
            </a:r>
            <a:r>
              <a:rPr b="1" lang="ru-RU" sz="1600" spc="-1" strike="noStrike">
                <a:solidFill>
                  <a:srgbClr val="205ff6"/>
                </a:solidFill>
                <a:latin typeface="Arial"/>
              </a:rPr>
              <a:t>земля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(все сельскохозяйственные угодья и городские земли, которые отведены под жилищную или промышленную застройку, а также совокупность природных условий, необходимых для производства товаров и услуг)</a:t>
            </a: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 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сырьевые ресурсы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предпринимательский талант, или предпринимательские способности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информация; специфической формой информации является </a:t>
            </a:r>
            <a:r>
              <a:rPr b="1" lang="ru-RU" sz="1600" spc="-1" strike="noStrike">
                <a:solidFill>
                  <a:srgbClr val="205ff6"/>
                </a:solidFill>
                <a:latin typeface="Arial"/>
              </a:rPr>
              <a:t>технология</a:t>
            </a: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знания, или управленческие способности.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0" y="5373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Факторы производства могут быть соединены различными способами, решение о способе соединения принимает менеджер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6" name="Місце для дати 1"/>
          <p:cNvSpPr/>
          <p:nvPr/>
        </p:nvSpPr>
        <p:spPr>
          <a:xfrm>
            <a:off x="45720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D06DE-4C10-437F-A70F-4028B55DC601}" type="datetime">
              <a:rPr b="0" lang="ru-RU" sz="1400" spc="-1" strike="noStrike">
                <a:solidFill>
                  <a:srgbClr val="205ff6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7" name="Місце для нижнього колонтитула 2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MEETING2"/>
          <p:cNvPicPr/>
          <p:nvPr/>
        </p:nvPicPr>
        <p:blipFill>
          <a:blip r:embed="rId1"/>
          <a:stretch/>
        </p:blipFill>
        <p:spPr>
          <a:xfrm>
            <a:off x="324000" y="620640"/>
            <a:ext cx="3133440" cy="2414520"/>
          </a:xfrm>
          <a:prstGeom prst="rect">
            <a:avLst/>
          </a:prstGeom>
          <a:ln w="0">
            <a:noFill/>
          </a:ln>
        </p:spPr>
      </p:pic>
      <p:sp>
        <p:nvSpPr>
          <p:cNvPr id="99" name="WordArt 5"/>
          <p:cNvSpPr txBox="1"/>
          <p:nvPr/>
        </p:nvSpPr>
        <p:spPr>
          <a:xfrm>
            <a:off x="4140360" y="189000"/>
            <a:ext cx="26762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енеджмен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AutoShape 6"/>
          <p:cNvSpPr/>
          <p:nvPr/>
        </p:nvSpPr>
        <p:spPr>
          <a:xfrm>
            <a:off x="3995640" y="1484280"/>
            <a:ext cx="4969080" cy="936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Деятельность по управлению и координаци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работы предприятия и его подразделений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1" name="AutoShape 7"/>
          <p:cNvSpPr/>
          <p:nvPr/>
        </p:nvSpPr>
        <p:spPr>
          <a:xfrm>
            <a:off x="4140360" y="2565360"/>
            <a:ext cx="4608360" cy="43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Наука об управлении организацией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4140360" y="3284640"/>
            <a:ext cx="4752720" cy="431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«Команда» руководителей предприят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3" name="WordArt 9"/>
          <p:cNvSpPr txBox="1"/>
          <p:nvPr/>
        </p:nvSpPr>
        <p:spPr>
          <a:xfrm rot="5400000">
            <a:off x="3527640" y="1448640"/>
            <a:ext cx="503280" cy="431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4" name="WordArt 10"/>
          <p:cNvSpPr txBox="1"/>
          <p:nvPr/>
        </p:nvSpPr>
        <p:spPr>
          <a:xfrm rot="5400000">
            <a:off x="3594240" y="2532600"/>
            <a:ext cx="487440" cy="406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5" name="WordArt 11"/>
          <p:cNvSpPr txBox="1"/>
          <p:nvPr/>
        </p:nvSpPr>
        <p:spPr>
          <a:xfrm rot="5400000">
            <a:off x="3630960" y="3288600"/>
            <a:ext cx="414360" cy="406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6" name="WordArt 12"/>
          <p:cNvSpPr txBox="1"/>
          <p:nvPr/>
        </p:nvSpPr>
        <p:spPr>
          <a:xfrm>
            <a:off x="468360" y="4005360"/>
            <a:ext cx="2152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недже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AutoShape 13"/>
          <p:cNvSpPr/>
          <p:nvPr/>
        </p:nvSpPr>
        <p:spPr>
          <a:xfrm>
            <a:off x="3132000" y="3933720"/>
            <a:ext cx="50421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33cc33"/>
              </a:gs>
            </a:gsLst>
            <a:lin ang="27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Лицо, занимающее определенную должность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на предприятии и обладающее властью 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правом принимать решен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pSp>
        <p:nvGrpSpPr>
          <p:cNvPr id="108" name="Group 20"/>
          <p:cNvGrpSpPr/>
          <p:nvPr/>
        </p:nvGrpSpPr>
        <p:grpSpPr>
          <a:xfrm>
            <a:off x="179280" y="4581360"/>
            <a:ext cx="1714680" cy="1187640"/>
            <a:chOff x="179280" y="4581360"/>
            <a:chExt cx="1714680" cy="1187640"/>
          </a:xfrm>
        </p:grpSpPr>
        <p:sp>
          <p:nvSpPr>
            <p:cNvPr id="109" name="Line 14"/>
            <p:cNvSpPr/>
            <p:nvPr/>
          </p:nvSpPr>
          <p:spPr>
            <a:xfrm flipH="1">
              <a:off x="900000" y="4581360"/>
              <a:ext cx="432000" cy="71928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10" name="WordArt 15"/>
            <p:cNvSpPr txBox="1"/>
            <p:nvPr/>
          </p:nvSpPr>
          <p:spPr>
            <a:xfrm>
              <a:off x="179280" y="5157720"/>
              <a:ext cx="1714680" cy="61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6666"/>
                  </a:solidFill>
                  <a:latin typeface="Times New Roman"/>
                </a:rPr>
                <a:t>обладать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66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111" name="Group 21"/>
          <p:cNvGrpSpPr/>
          <p:nvPr/>
        </p:nvGrpSpPr>
        <p:grpSpPr>
          <a:xfrm>
            <a:off x="1763640" y="4581360"/>
            <a:ext cx="1681200" cy="1258920"/>
            <a:chOff x="1763640" y="4581360"/>
            <a:chExt cx="1681200" cy="1258920"/>
          </a:xfrm>
        </p:grpSpPr>
        <p:sp>
          <p:nvSpPr>
            <p:cNvPr id="112" name="Line 16"/>
            <p:cNvSpPr/>
            <p:nvPr/>
          </p:nvSpPr>
          <p:spPr>
            <a:xfrm>
              <a:off x="1763640" y="4581360"/>
              <a:ext cx="1079640" cy="79236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13" name="WordArt 17"/>
            <p:cNvSpPr txBox="1"/>
            <p:nvPr/>
          </p:nvSpPr>
          <p:spPr>
            <a:xfrm>
              <a:off x="2340000" y="5229360"/>
              <a:ext cx="1104840" cy="610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80"/>
                  </a:solidFill>
                  <a:latin typeface="Times New Roman"/>
                </a:rPr>
                <a:t>уметь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114" name="Group 22"/>
          <p:cNvGrpSpPr/>
          <p:nvPr/>
        </p:nvGrpSpPr>
        <p:grpSpPr>
          <a:xfrm>
            <a:off x="2627280" y="4508640"/>
            <a:ext cx="2671920" cy="1187280"/>
            <a:chOff x="2627280" y="4508640"/>
            <a:chExt cx="2671920" cy="1187280"/>
          </a:xfrm>
        </p:grpSpPr>
        <p:sp>
          <p:nvSpPr>
            <p:cNvPr id="115" name="Line 18"/>
            <p:cNvSpPr/>
            <p:nvPr/>
          </p:nvSpPr>
          <p:spPr>
            <a:xfrm>
              <a:off x="2627280" y="4508640"/>
              <a:ext cx="2232000" cy="64908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16" name="WordArt 19"/>
            <p:cNvSpPr txBox="1"/>
            <p:nvPr/>
          </p:nvSpPr>
          <p:spPr>
            <a:xfrm>
              <a:off x="4356000" y="5084640"/>
              <a:ext cx="943200" cy="61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Times New Roman"/>
                </a:rPr>
                <a:t>быть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Times New Roman"/>
                <a:ea typeface="Times New Roman"/>
              </a:endParaRPr>
            </a:p>
          </p:txBody>
        </p:sp>
      </p:grpSp>
      <p:pic>
        <p:nvPicPr>
          <p:cNvPr id="117" name="Picture 23" descr="36_2_42"/>
          <p:cNvPicPr/>
          <p:nvPr/>
        </p:nvPicPr>
        <p:blipFill>
          <a:blip r:embed="rId2"/>
          <a:stretch/>
        </p:blipFill>
        <p:spPr>
          <a:xfrm>
            <a:off x="5796000" y="4941720"/>
            <a:ext cx="809640" cy="733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4" descr="36_5_3"/>
          <p:cNvPicPr/>
          <p:nvPr/>
        </p:nvPicPr>
        <p:blipFill>
          <a:blip r:embed="rId3"/>
          <a:stretch/>
        </p:blipFill>
        <p:spPr>
          <a:xfrm>
            <a:off x="6804000" y="4941720"/>
            <a:ext cx="952560" cy="857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5" descr="36_2_59"/>
          <p:cNvPicPr/>
          <p:nvPr/>
        </p:nvPicPr>
        <p:blipFill>
          <a:blip r:embed="rId4"/>
          <a:stretch/>
        </p:blipFill>
        <p:spPr>
          <a:xfrm>
            <a:off x="8101080" y="5013360"/>
            <a:ext cx="743040" cy="74304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дати 1"/>
          <p:cNvSpPr/>
          <p:nvPr/>
        </p:nvSpPr>
        <p:spPr>
          <a:xfrm>
            <a:off x="45720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DA200-3DD2-47E4-B1CB-B792613245E3}" type="datetime">
              <a:rPr b="0" lang="ru-RU" sz="1400" spc="-1" strike="noStrike">
                <a:solidFill>
                  <a:srgbClr val="205ff6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1" name="Місце для нижнього колонтитула 2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Уровни менеджмен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5" descr="MEETING"/>
          <p:cNvPicPr/>
          <p:nvPr/>
        </p:nvPicPr>
        <p:blipFill>
          <a:blip r:embed="rId1"/>
          <a:stretch/>
        </p:blipFill>
        <p:spPr>
          <a:xfrm>
            <a:off x="611280" y="1197000"/>
            <a:ext cx="4681440" cy="3338640"/>
          </a:xfrm>
          <a:prstGeom prst="rect">
            <a:avLst/>
          </a:prstGeom>
          <a:ln w="0">
            <a:noFill/>
          </a:ln>
        </p:spPr>
      </p:pic>
      <p:sp>
        <p:nvSpPr>
          <p:cNvPr id="124" name="AutoShape 6"/>
          <p:cNvSpPr/>
          <p:nvPr/>
        </p:nvSpPr>
        <p:spPr>
          <a:xfrm>
            <a:off x="4211640" y="1125360"/>
            <a:ext cx="453708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Высший 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– председатель совет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директоров, генеральный директор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президент компани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>
            <a:off x="5364000" y="2421000"/>
            <a:ext cx="3600720" cy="1728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Средний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– заместител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руководителя: «директор по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маркетингу», «Директор по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персоналу», начальники цехов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руководители отделов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6" name="AutoShape 8"/>
          <p:cNvSpPr/>
          <p:nvPr/>
        </p:nvSpPr>
        <p:spPr>
          <a:xfrm>
            <a:off x="826920" y="4653000"/>
            <a:ext cx="568980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Низовой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– руководители первичных, низовы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подразделений – начальники участков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лабораторий, секторов, бригадиры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7" name="Місце для дати 1"/>
          <p:cNvSpPr/>
          <p:nvPr/>
        </p:nvSpPr>
        <p:spPr>
          <a:xfrm>
            <a:off x="45720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482E8-6C40-4993-A919-D7DEE393F016}" type="datetime">
              <a:rPr b="0" lang="ru-RU" sz="1400" spc="-1" strike="noStrike">
                <a:solidFill>
                  <a:srgbClr val="205ff6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8" name="Місце для нижнього колонтитула 2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сновные функции менеджмен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WordArt 5"/>
          <p:cNvSpPr txBox="1"/>
          <p:nvPr/>
        </p:nvSpPr>
        <p:spPr>
          <a:xfrm>
            <a:off x="324000" y="1484280"/>
            <a:ext cx="3024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Организац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31" name="AutoShape 6"/>
          <p:cNvSpPr/>
          <p:nvPr/>
        </p:nvSpPr>
        <p:spPr>
          <a:xfrm>
            <a:off x="3527280" y="1268280"/>
            <a:ext cx="5616720" cy="22320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Процесс создания структуры предприятия 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выполнения ее работниками своих функций: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Определить структуру и соподчинение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подразделений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2. Определить место, время производств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продукции, маршруты ее движения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на предприятии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2" name="WordArt 7"/>
          <p:cNvSpPr txBox="1"/>
          <p:nvPr/>
        </p:nvSpPr>
        <p:spPr>
          <a:xfrm>
            <a:off x="250920" y="3645000"/>
            <a:ext cx="3162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ланирова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AutoShape 8"/>
          <p:cNvSpPr/>
          <p:nvPr/>
        </p:nvSpPr>
        <p:spPr>
          <a:xfrm>
            <a:off x="3492360" y="3645000"/>
            <a:ext cx="5543640" cy="3024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Процесс изучения и решения проблем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будущего: определение целей деятельнос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организации,  и способов их реализации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Стратегическое – определение основны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направлений развития на 10-15 лет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2. Среднесрочное на 3-5 лет (конкретизация задач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стратегических планов)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3. Текущее планирование сроком до 1 год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(с разбивкой по кварталам), охватывают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все стороны деятельности)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4" name="AutoShape 9">
            <a:hlinkClick r:id="rId3" action="ppaction://hlinksldjump"/>
          </p:cNvPr>
          <p:cNvSpPr/>
          <p:nvPr/>
        </p:nvSpPr>
        <p:spPr>
          <a:xfrm>
            <a:off x="8244000" y="6453360"/>
            <a:ext cx="900000" cy="404640"/>
          </a:xfrm>
          <a:custGeom>
            <a:avLst/>
            <a:gdLst>
              <a:gd name="textAreaLeft" fmla="*/ 25920 w 900000"/>
              <a:gd name="textAreaRight" fmla="*/ 874080 w 900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8019" h="21600">
                <a:moveTo>
                  <a:pt x="0" y="0"/>
                </a:moveTo>
                <a:lnTo>
                  <a:pt x="48019" y="0"/>
                </a:lnTo>
                <a:lnTo>
                  <a:pt x="48019" y="21600"/>
                </a:lnTo>
                <a:lnTo>
                  <a:pt x="0" y="21600"/>
                </a:lnTo>
                <a:close/>
              </a:path>
              <a:path fill="lightenLess" w="48019" h="21600">
                <a:moveTo>
                  <a:pt x="0" y="0"/>
                </a:moveTo>
                <a:lnTo>
                  <a:pt x="48019" y="0"/>
                </a:lnTo>
                <a:lnTo>
                  <a:pt x="46619" y="1400"/>
                </a:lnTo>
                <a:lnTo>
                  <a:pt x="1400" y="1400"/>
                </a:lnTo>
                <a:close/>
              </a:path>
              <a:path fill="darken" w="48019" h="21600">
                <a:moveTo>
                  <a:pt x="48019" y="0"/>
                </a:moveTo>
                <a:lnTo>
                  <a:pt x="48019" y="21600"/>
                </a:lnTo>
                <a:lnTo>
                  <a:pt x="46619" y="20200"/>
                </a:lnTo>
                <a:lnTo>
                  <a:pt x="46619" y="1400"/>
                </a:lnTo>
                <a:close/>
              </a:path>
              <a:path fill="darkenLess" w="48019" h="21600">
                <a:moveTo>
                  <a:pt x="48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619" y="20200"/>
                </a:lnTo>
                <a:close/>
              </a:path>
              <a:path fill="lighten" w="48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019" h="21600">
                <a:moveTo>
                  <a:pt x="17003" y="3794"/>
                </a:moveTo>
                <a:lnTo>
                  <a:pt x="31016" y="10800"/>
                </a:lnTo>
                <a:lnTo>
                  <a:pt x="1700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5" name="Місце для дати 1"/>
          <p:cNvSpPr/>
          <p:nvPr/>
        </p:nvSpPr>
        <p:spPr>
          <a:xfrm>
            <a:off x="45720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36559-3B0B-43C6-AF59-9B2E4B5D4630}" type="datetime">
              <a:rPr b="0" lang="ru-RU" sz="1400" spc="-1" strike="noStrike">
                <a:solidFill>
                  <a:srgbClr val="205ff6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6" name="Місце для нижнього колонтитула 2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Эффективная организация труд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76320" y="1341360"/>
            <a:ext cx="889308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00"/>
              </a:gs>
              <a:gs pos="50000">
                <a:srgbClr val="99cc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Организационные методы</a:t>
            </a: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 представляют собой установление связей 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отношений между должностями работников. Эти методы носят пассивный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характер.  Они обеспечивают развитие персонала и упорядочивают управление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395280" y="2276640"/>
            <a:ext cx="8748720" cy="172872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99"/>
              </a:gs>
              <a:gs pos="100000">
                <a:srgbClr val="cc9900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Административные методы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 – это управление и регулирование деятельнос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персонала на основе приказов, распоряжений, конкретных заданий. Э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методы могут и сопровождаться поощрениями и штрафами за успешную ил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неуспешную работу. Возможны три формы проявления этих методов: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Обязательное предписание, согласительные (консультация, компромисс)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рекомендации (совет, предписание)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0" y="4164120"/>
            <a:ext cx="914400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05ff6"/>
              </a:gs>
              <a:gs pos="50000">
                <a:srgbClr val="ccffff"/>
              </a:gs>
              <a:gs pos="100000">
                <a:srgbClr val="205ff6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Экономические методы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– косвенное воздействие на объект управления. Э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методы не действуют автоматически, трудно определить силу их влияния н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результат. С их помощью осуществляется материальное стимулирование, он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могут выступать как планирование, анализ, ценообразование, финансирование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предоставление экономической самостоятельности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395280" y="5661000"/>
            <a:ext cx="8497800" cy="93672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50000">
                <a:srgbClr val="ffccff"/>
              </a:gs>
              <a:gs pos="100000">
                <a:srgbClr val="ff0066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сихологические методы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 – побуждение работников к эффективной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деятельности через психологическое воздействие. Нацелены н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формирование благоприятного климата в коллективе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2" name="AutoShape 8">
            <a:hlinkClick r:id="" action="ppaction://hlinkshowjump?jump=previousslide"/>
          </p:cNvPr>
          <p:cNvSpPr/>
          <p:nvPr/>
        </p:nvSpPr>
        <p:spPr>
          <a:xfrm>
            <a:off x="8459640" y="6381720"/>
            <a:ext cx="684360" cy="476280"/>
          </a:xfrm>
          <a:custGeom>
            <a:avLst/>
            <a:gdLst>
              <a:gd name="textAreaLeft" fmla="*/ 30600 w 684360"/>
              <a:gd name="textAreaRight" fmla="*/ 653760 w 684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1030" h="21600">
                <a:moveTo>
                  <a:pt x="0" y="0"/>
                </a:moveTo>
                <a:lnTo>
                  <a:pt x="31030" y="0"/>
                </a:lnTo>
                <a:lnTo>
                  <a:pt x="31030" y="21600"/>
                </a:lnTo>
                <a:lnTo>
                  <a:pt x="0" y="21600"/>
                </a:lnTo>
                <a:close/>
              </a:path>
              <a:path fill="lightenLess" w="31030" h="21600">
                <a:moveTo>
                  <a:pt x="0" y="0"/>
                </a:moveTo>
                <a:lnTo>
                  <a:pt x="31030" y="0"/>
                </a:lnTo>
                <a:lnTo>
                  <a:pt x="29630" y="1400"/>
                </a:lnTo>
                <a:lnTo>
                  <a:pt x="1400" y="1400"/>
                </a:lnTo>
                <a:close/>
              </a:path>
              <a:path fill="darken" w="31030" h="21600">
                <a:moveTo>
                  <a:pt x="31030" y="0"/>
                </a:moveTo>
                <a:lnTo>
                  <a:pt x="31030" y="21600"/>
                </a:lnTo>
                <a:lnTo>
                  <a:pt x="29630" y="20200"/>
                </a:lnTo>
                <a:lnTo>
                  <a:pt x="29630" y="1400"/>
                </a:lnTo>
                <a:close/>
              </a:path>
              <a:path fill="darkenLess" w="31030" h="21600">
                <a:moveTo>
                  <a:pt x="310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30" y="20200"/>
                </a:lnTo>
                <a:close/>
              </a:path>
              <a:path fill="lighten" w="310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030" h="21600">
                <a:moveTo>
                  <a:pt x="8508" y="10800"/>
                </a:moveTo>
                <a:lnTo>
                  <a:pt x="22521" y="3794"/>
                </a:lnTo>
                <a:lnTo>
                  <a:pt x="2252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3" name="Місце для дати 1"/>
          <p:cNvSpPr/>
          <p:nvPr/>
        </p:nvSpPr>
        <p:spPr>
          <a:xfrm>
            <a:off x="45720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6605F-0092-4C29-BD40-2751CBDAAF48}" type="datetime">
              <a:rPr b="0" lang="ru-RU" sz="1400" spc="-1" strike="noStrike">
                <a:solidFill>
                  <a:srgbClr val="205ff6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4" name="Місце для нижнього колонтитула 2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4"/>
          <p:cNvSpPr txBox="1"/>
          <p:nvPr/>
        </p:nvSpPr>
        <p:spPr>
          <a:xfrm>
            <a:off x="395280" y="549360"/>
            <a:ext cx="30243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6666"/>
                  </a:solidFill>
                  <a:miter/>
                </a:ln>
                <a:solidFill>
                  <a:srgbClr val="33cc33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отивация</a:t>
            </a:r>
            <a:endParaRPr b="0" lang="en-US" sz="1800" spc="1" strike="noStrike">
              <a:ln w="12600">
                <a:solidFill>
                  <a:srgbClr val="006666"/>
                </a:solidFill>
                <a:miter/>
              </a:ln>
              <a:solidFill>
                <a:srgbClr val="33cc33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3780000" y="549360"/>
            <a:ext cx="5111640" cy="1152360"/>
          </a:xfrm>
          <a:prstGeom prst="roundRect">
            <a:avLst>
              <a:gd name="adj" fmla="val 16667"/>
            </a:avLst>
          </a:prstGeom>
          <a:solidFill>
            <a:srgbClr val="66ff66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Создание заинтересованности персонал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в достижении целей фирмы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47" name="Picture 6" descr="пирамида Маслоу"/>
          <p:cNvPicPr/>
          <p:nvPr/>
        </p:nvPicPr>
        <p:blipFill>
          <a:blip r:embed="rId1"/>
          <a:stretch/>
        </p:blipFill>
        <p:spPr>
          <a:xfrm>
            <a:off x="84240" y="1916280"/>
            <a:ext cx="9059760" cy="47527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7"/>
          <p:cNvSpPr/>
          <p:nvPr/>
        </p:nvSpPr>
        <p:spPr>
          <a:xfrm>
            <a:off x="4859280" y="595008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ирамида Маслоу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9" name="Місце для дати 1"/>
          <p:cNvSpPr/>
          <p:nvPr/>
        </p:nvSpPr>
        <p:spPr>
          <a:xfrm>
            <a:off x="45720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B8ED4-C2C1-49BF-A17C-D716D1316A96}" type="datetime">
              <a:rPr b="0" lang="ru-RU" sz="1400" spc="-1" strike="noStrike">
                <a:solidFill>
                  <a:srgbClr val="205ff6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0" name="Місце для нижнього колонтитула 2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AutoShape 6"/>
          <p:cNvSpPr/>
          <p:nvPr/>
        </p:nvSpPr>
        <p:spPr>
          <a:xfrm>
            <a:off x="179280" y="2781360"/>
            <a:ext cx="3529080" cy="1512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цели  организации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структура  организации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задачи  организации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технология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люди (кадры)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2" name="AutoShape 9"/>
          <p:cNvSpPr/>
          <p:nvPr/>
        </p:nvSpPr>
        <p:spPr>
          <a:xfrm>
            <a:off x="4284720" y="2421000"/>
            <a:ext cx="4390920" cy="1584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3" name="Text Box 13"/>
          <p:cNvSpPr/>
          <p:nvPr/>
        </p:nvSpPr>
        <p:spPr>
          <a:xfrm>
            <a:off x="4572000" y="2492280"/>
            <a:ext cx="36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среда  прямого воздейств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потребители; конкуренты; оставщики; законы  и  государственные  органы; профсоюзы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4" name="AutoShape 14"/>
          <p:cNvSpPr/>
          <p:nvPr/>
        </p:nvSpPr>
        <p:spPr>
          <a:xfrm>
            <a:off x="4284720" y="4149720"/>
            <a:ext cx="4535280" cy="1584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5" name="Text Box 15"/>
          <p:cNvSpPr/>
          <p:nvPr/>
        </p:nvSpPr>
        <p:spPr>
          <a:xfrm>
            <a:off x="4572000" y="428292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среда  косвенного  воздействия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политика; экономика; социальные  факторы; технология; международные  отношен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6" name="WordArt 16"/>
          <p:cNvSpPr txBox="1"/>
          <p:nvPr/>
        </p:nvSpPr>
        <p:spPr>
          <a:xfrm>
            <a:off x="1619280" y="765000"/>
            <a:ext cx="5848200" cy="139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Факторы внутренней среды 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внешней среды организац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57" name="Місце для дати 1"/>
          <p:cNvSpPr/>
          <p:nvPr/>
        </p:nvSpPr>
        <p:spPr>
          <a:xfrm>
            <a:off x="45720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DC544-1906-4902-9EA0-9BE15A962B7F}" type="datetime">
              <a:rPr b="0" lang="ru-RU" sz="1400" spc="-1" strike="noStrike">
                <a:solidFill>
                  <a:srgbClr val="205ff6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8" name="Місце для нижнього колонтитула 2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WordArt 4"/>
          <p:cNvSpPr txBox="1"/>
          <p:nvPr/>
        </p:nvSpPr>
        <p:spPr>
          <a:xfrm>
            <a:off x="2627280" y="1197000"/>
            <a:ext cx="3548160" cy="97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339966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оммуникации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339966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1116000" y="2060640"/>
            <a:ext cx="7343640" cy="504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2050920" y="213372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обмен  информацией  с  другими  людьм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684360" y="2770200"/>
            <a:ext cx="792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В  процессе  обмена  информацией  можно  выделить  четыре  базовых  элемента: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отправитель (адресант)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– лицо, генерирующее  идеи  или  собирающее  информацию  и  передающее  ее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сообщение 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– собственно  информация, закодированная  с  помощью  символов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канал 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– средство  передачи  информации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получатель (адресат)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– лицо, которому  предназначена  информация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Самыми  эффективными  являются  коммуникации  путем  личных  контактов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3" name="Місце для дати 1"/>
          <p:cNvSpPr/>
          <p:nvPr/>
        </p:nvSpPr>
        <p:spPr>
          <a:xfrm>
            <a:off x="45720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66441-C2E3-4BF2-909E-1831D8D79288}" type="datetime">
              <a:rPr b="0" lang="ru-RU" sz="1400" spc="-1" strike="noStrike">
                <a:solidFill>
                  <a:srgbClr val="205ff6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4" name="Місце для нижнього колонтитула 2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1T01:55:41Z</dcterms:created>
  <dc:creator>Надежда</dc:creator>
  <dc:description/>
  <cp:keywords/>
  <dc:language>en-US</dc:language>
  <cp:lastModifiedBy>LEGION</cp:lastModifiedBy>
  <dcterms:modified xsi:type="dcterms:W3CDTF">2016-01-11T10:08:05Z</dcterms:modified>
  <cp:revision>8</cp:revision>
  <dc:subject/>
  <dc:title>Управление производство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007000000000001024140</vt:lpwstr>
  </property>
  <property fmtid="{D5CDD505-2E9C-101B-9397-08002B2CF9AE}" pid="3" name="_TemplateID">
    <vt:lpwstr>TC101950921049</vt:lpwstr>
  </property>
</Properties>
</file>