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gif" ContentType="image/gif"/>
  <Override PartName="/ppt/media/image7.wmf" ContentType="image/x-wmf"/>
  <Override PartName="/ppt/media/image12.wmf" ContentType="image/x-wm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73A9-6228-4D89-BF87-51C074569D1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11.01.2016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Менеджмент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авка Н.В., учитель истории и обществознания, 2009г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01.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вка Н.В., учитель истории и обществознания, 2009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Х Макгрегора: люди изначально не любят трудиться и при любой возможности избегают работы; у них нет честолюбия, и они стараются избавиться от ответственности, предпочитая, чтобы ими руководили другие; больше всего люди хотят защищенности, и чтобы заставить их трудиться, необходимо … ч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ть принуждение, контроль и угрозу наказ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У: труд – процесс естественный, и если условия благоприятны, люди готовы принять на себя ответственность; работники заинтересованы в целях организации, значительная часть их обладает способностью к творческому решению проблем. Следующие этой теории руководители в управлении используют …ч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ность персонала обсуждать, принимать и предлагать решения, цели и задачи предпри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Теория Х Макгрегора: люди изначально не любят трудиться и при любой возможности избегают работы; у них нет честолюбия, и они стараются избавиться от ответственности, предпочитая, чтобы ими руководили другие; больше всего люди хотят защищенности, и чтобы заставить их трудиться, необходимо … что?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Использовать принуждение, контроль и угрозу наказания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Теория У: труд – процесс естественный, и если условия благоприятны, люди готовы принять на себя ответственность; работники заинтересованы в целях организации, значительная часть их обладает способностью к творческому решению проблем. Следующие этой теории руководители в управлении используют …что?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пособность персонала обсуждать, принимать и предлагать решения, цели и задачи предприятия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наблюдения за деятельностью фирм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контроль количества, качества, сохран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ции, расходованием ресурсов, соблюдени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ых норм, инструкций, договоров и т.д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предварительный контроль (на стад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ления планов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текущий контроль (на стадии выполнения планов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заключительный контроль (при оценке результат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ви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ная проверка всех или отдель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рон деятельности фи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ой формой управления, нацеленной на максимализацию прибыли и обеспечение стабильной работы фирмы, является комплексная система синхронного анализа, планирования и контроля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линг (controll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истема наблюдения за деятельностью фирмы</a:t>
            </a:r>
            <a:br>
              <a:rPr sz="1200"/>
            </a:b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(контроль количества, качества, сохранност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одукции, расходованием ресурсов, соблюдением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авовых норм, инструкций, договоров и т.д.)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А) предварительный контроль (на стади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оставления планов);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Б) текущий контроль (на стадии выполнения планов);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В) заключительный контроль (при оценке результатов)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Контроль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Ревизия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Комплексная проверка всех или отдельных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торон деятельности фирмы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овременной формой управления, нацеленной на максимализацию прибыли и обеспечение стабильной работы фирмы, является комплексная система синхронного анализа, планирования и контроля –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Контроллинг (controlling)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 — ресурсы, необходимые для производства товаров и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ые ресурсы, или труд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онные ресурсы, или капитал (совокупность созданных прошлым трудом человека благ. К факторам производства относится не весь капитал, а только реальный капитал — здания, сооружения, станки, машины и оборудование, инструменты и проч. — то есть все то, что используется для производства и транспортировки товаров и услуг. Финансовый же капитал (акции, облигации, банковские депозиты и деньги) к факторам производства не относится, поскольку не связан с реальным производством, а выступает в качестве инструмента получения реального капитала)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ные ресурсы, или земля (все сельскохозяйственные угодья и городские земли, которые отведены под жилищную или промышленную застройку, а также совокупность природных условий, необходимых для производства товаров и услуг)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ырьевые ресурс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талант, или предпринимательские способн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; специфической формой информации является технолог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, или управленческие способ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 могут быть соединены различными способами, решение о способе соединения принимает менедж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Факторы производства — ресурсы, необходимые для производства товаров и услуг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трудовые ресурсы, или труд;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инвестиционные ресурсы, или капитал (совокупность созданных прошлым трудом человека благ. К факторам производства относится не весь капитал, а только реальный капитал — здания, сооружения, станки, машины и оборудование, инструменты и проч. — то есть все то, что используется для производства и транспортировки товаров и услуг. Финансовый же капитал (акции, облигации, банковские депозиты и деньги) к факторам производства не относится, поскольку не связан с реальным производством, а выступает в качестве инструмента получения реального капитала) ;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иродные ресурсы, или земля (все сельскохозяйственные угодья и городские земли, которые отведены под жилищную или промышленную застройку, а также совокупность природных условий, необходимых для производства товаров и услуг) ;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ырьевые ресурсы;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едпринимательский талант, или предпринимательские способности;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информация; специфической формой информации является технология;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знания, или управленческие способности.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Факторы производства могут быть соединены различными способами, решение о способе соединения принимает менеджер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по управлению и координ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ы предприятия и его подразде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ка об управлении организац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оманда» руководителей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цо, занимающее определенную долж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едприятии и обладающее властью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м принимать ре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Менеджмент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Деятельность по управлению и координаци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работы предприятия и его подразделений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Наука об управлении организацией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«Команда» руководителей предприятия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Менеджер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Лицо, занимающее определенную должность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на предприятии и обладающее властью 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авом принимать решения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ший – председатель сове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ректоров, генеральный директор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идент компан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ий – заместите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я: «директор п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у», «Директор п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у», начальники цех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и отде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зовой – руководители первичных, низов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разделений – начальники участк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абораторий, секторов, бригади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Уровни менеджмента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Высший – председатель совета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директоров, генеральный директор,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езидент компани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редний – заместител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руководителя: «директор по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маркетингу», «Директор по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ерсоналу», начальники цехов,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руководители отделов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Низовой – руководители первичных, низовых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одразделений – начальники участков,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лабораторий, секторов, бригадиры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функции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создания структуры предприятия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ения ее работниками своих функц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структуру и соподчин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разде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пределить место, время производ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ции, маршруты ее движ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едприят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изучения и решения пробл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дущего: определение целей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и,  и способов их реал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ческое – определение основ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й развития на 10-15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реднесрочное на 3-5 лет (конкретизация задач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ческих план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Текущее планирование сроком до 1 го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 разбивкой по кварталам), охватыв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стороны деятельно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Основные функции менеджмента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Организация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оцесс создания структуры предприятия 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выполнения ее работниками своих функций: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Определить структуру и соподчинение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одразделений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2. Определить место, время производства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одукции, маршруты ее движения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на предприятии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ланирование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оцесс изучения и решения проблем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будущего: определение целей деятельност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организации,  и способов их реализации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тратегическое – определение основных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направлений развития на 10-15 лет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2. Среднесрочное на 3-5 лет (конкретизация задач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тратегических планов)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3. Текущее планирование сроком до 1 года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(с разбивкой по кварталам), охватывают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все стороны деятельности)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ая организация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ые методы представляют собой установление связей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й между должностями работников. Эти методы носят пассив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.  Они обеспечивают развитие персонала и упорядочивают управл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ые методы – это управление и регулирование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а на основе приказов, распоряжений, конкретных заданий. Э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могут и сопровождаться поощрениями и штрафами за успешную и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успешную работу. Возможны три формы проявления этих методов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ное предписание, согласительные (консультация, компромисс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мендации (совет, предписани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методы – косвенное воздействие на объект управления. Э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не действуют автоматически, трудно определить силу их влияния 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. С их помощью осуществляется материальное стимулирование, он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гут выступать как планирование, анализ, ценообразование, финансировани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оставление экономической самосто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ие методы – побуждение работников к эффектив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и через психологическое воздействие. Нацелены 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благоприятного климата в коллекти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Эффективная организация труда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Организационные методы представляют собой установление связей 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отношений между должностями работников. Эти методы носят пассивный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характер.  Они обеспечивают развитие персонала и упорядочивают управление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Административные методы – это управление и регулирование деятельност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ерсонала на основе приказов, распоряжений, конкретных заданий. Эт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методы могут и сопровождаться поощрениями и штрафами за успешную ил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неуспешную работу. Возможны три формы проявления этих методов: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Обязательное предписание, согласительные (консультация, компромисс),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рекомендации (совет, предписание)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Экономические методы – косвенное воздействие на объект управления. Эт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методы не действуют автоматически, трудно определить силу их влияния на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результат. С их помощью осуществляется материальное стимулирование, он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могут выступать как планирование, анализ, ценообразование, финансирование,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едоставление экономической самостоятельности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сихологические методы – побуждение работников к эффективной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деятельности через психологическое воздействие. Нацелены на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формирование благоприятного климата в коллективе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заинтересованности персона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остижении целей 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рамида Масло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Мотивация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оздание заинтересованности персонала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в достижении целей фирмы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ирамида Маслоу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 орган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 орган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 орган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 (кадр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а  прямого воз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ители; конкуренты; оставщики; законы  и  государственные  органы; профсоюз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а  косвенного  воздействия политика; экономика; социальные  факторы; технология; международные 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внутренней среды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й среды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цели  организации;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труктура  организации;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задачи  организации;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технология;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люди (кадры)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реда  прямого воздействия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отребители; конкуренты; оставщики; законы  и  государственные  органы; профсоюзы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реда  косвенного  воздействия политика; экономика; социальные  факторы; технология; международные  отношения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Факторы внутренней среды 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внешней среды организации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 информацией  с  другими  людь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 процессе  обмена  информацией  можно  выделить  четыре  базовых  элемен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витель (адресант) – лицо, генерирующее  идеи  или  собирающее  информацию  и  передающее  е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бщение – собственно  информация, закодированная  с  помощью  символ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 – средство  передачи  информ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тель (адресат) – лицо, которому  предназначена  информ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ыми  эффективными  являются  коммуникации  путем  личных  конта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Коммуникации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обмен  информацией  с  другими  людьм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В  процессе  обмена  информацией  можно  выделить  четыре  базовых  элемента: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отправитель (адресант) – лицо, генерирующее  идеи  или  собирающее  информацию  и  передающее  ее;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ообщение – собственно  информация, закодированная  с  помощью  символов;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канал – средство  передачи  информации;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олучатель (адресат) – лицо, которому  предназначена  информация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амыми  эффективными  являются  коммуникации  путем  личных  контактов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54C0-BFC8-4BBD-954E-CF2D71F0D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CE88-1715-460F-BE85-0083E343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E478-12C8-4887-AF2B-B804AE6C5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3A30-9F23-43E2-86D9-701991392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2E819-BCC8-4423-BDD0-EF3E9CB5E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ABDEEC-9858-4497-855F-584DF2DB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FD63F8-0550-401C-B50B-74E4F34E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0F7B9-8C47-4B97-A73D-3B24DB3F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B7E0E2-22D9-4562-A2FC-C78C7FBC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123BB-9883-4786-A59B-861E543D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36A26-49F1-4956-BA13-0C15A1CD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7342-D96F-43B2-B2CD-85761EAA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171CE8-2C61-46EE-9630-52659619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DD717-6B7E-4833-B6CE-4867CA84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3437C-37EA-483E-9431-ED1EFF5B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FC33F-A394-40E6-8C9F-AD3371037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63831F-748B-4C35-813F-84F3C7955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93C4-6901-4D53-8A71-F1D15F30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5CEB-A517-4AFD-824A-2EBBF682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1D36-268E-4E90-8E66-9CF64070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BA8E-B686-4358-B400-5FB9ABEF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86EA-E401-4CFB-A333-A1FD5216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1533-111C-4782-AD20-DBD741B2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2982-07B4-4336-B95D-293C185B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A293-C6C4-452A-9C34-6190BE3E30A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068B-1BFD-4D14-B00C-E71D3EC9BDAD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9994-B6CF-4BDD-A897-8BD93C9F42A8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2566-C5B3-4FB9-B052-960B12CBD354}" type="datetime">
              <a:rPr b="0" lang="ru-RU" sz="1400" spc="-1" strike="noStrike">
                <a:solidFill>
                  <a:srgbClr val="205ff6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3C10-DE9E-4275-B357-841FF5A19878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енеджмен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195640" y="5734080"/>
            <a:ext cx="62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Савка Н.В., учитель истории и обществознания, 2009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395280" y="1413000"/>
            <a:ext cx="849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Теория Х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Макгрегора: люди изначально не любят трудиться и при любой возможности избегают работы; у них нет честолюбия, и они стараются избавиться от ответственности, предпочитая, чтобы ими руководили другие; больше всего люди хотят защищенности, и чтобы заставить их трудиться, необходимо … </a:t>
            </a:r>
            <a:r>
              <a:rPr b="0" i="1" lang="ru-RU" sz="1800" spc="-1" strike="noStrike">
                <a:solidFill>
                  <a:srgbClr val="990000"/>
                </a:solidFill>
                <a:latin typeface="Arial"/>
              </a:rPr>
              <a:t>что?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468360" y="292428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Использовать принуждение, контроль и угрозу наказания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539640" y="357336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Теория У: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труд – процесс естественный, и если условия благоприятны, люди готовы принять на себя ответственность; работники заинтересованы в целях организации, значительная часть их обладает способностью к творческому решению проблем. Следующие этой теории руководители в управлении используют …</a:t>
            </a:r>
            <a:r>
              <a:rPr b="0" i="1" lang="ru-RU" sz="1800" spc="-1" strike="noStrike">
                <a:solidFill>
                  <a:srgbClr val="990000"/>
                </a:solidFill>
                <a:latin typeface="Arial"/>
              </a:rPr>
              <a:t>что?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395280" y="58053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пособность персонала обсуждать, принимать и предлагать решения, цели и задачи предприятия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69" name="Picture 8" descr="36_2_63"/>
          <p:cNvPicPr/>
          <p:nvPr/>
        </p:nvPicPr>
        <p:blipFill>
          <a:blip r:embed="rId1"/>
          <a:stretch/>
        </p:blipFill>
        <p:spPr>
          <a:xfrm>
            <a:off x="7020000" y="2565360"/>
            <a:ext cx="952560" cy="857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36_2_51"/>
          <p:cNvPicPr/>
          <p:nvPr/>
        </p:nvPicPr>
        <p:blipFill>
          <a:blip r:embed="rId2"/>
          <a:stretch/>
        </p:blipFill>
        <p:spPr>
          <a:xfrm>
            <a:off x="4284720" y="4653000"/>
            <a:ext cx="1047600" cy="104760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DE4A-8E45-4663-BF1D-9A1FA75D4200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2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5"/>
          <p:cNvSpPr/>
          <p:nvPr/>
        </p:nvSpPr>
        <p:spPr>
          <a:xfrm>
            <a:off x="2987640" y="836640"/>
            <a:ext cx="5977080" cy="25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4700"/>
              </a:gs>
              <a:gs pos="50000">
                <a:srgbClr val="cc9900"/>
              </a:gs>
              <a:gs pos="100000">
                <a:srgbClr val="5e47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стема наблюдения за деятельностью фирмы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контроль количества, качества, сохран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дукции, расходованием ресурсов, соблюдением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вовых норм, инструкций, договоров и т.д.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) предварительный контроль (на стади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ставления планов)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) текущий контроль (на стадии выполнения планов)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) заключительный контроль (при оценке результатов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74" name="Picture 10" descr="EXAMINE"/>
          <p:cNvPicPr/>
          <p:nvPr/>
        </p:nvPicPr>
        <p:blipFill>
          <a:blip r:embed="rId1"/>
          <a:stretch/>
        </p:blipFill>
        <p:spPr>
          <a:xfrm>
            <a:off x="179280" y="260280"/>
            <a:ext cx="3025800" cy="3252960"/>
          </a:xfrm>
          <a:prstGeom prst="rect">
            <a:avLst/>
          </a:prstGeom>
          <a:ln w="0">
            <a:noFill/>
          </a:ln>
        </p:spPr>
      </p:pic>
      <p:sp>
        <p:nvSpPr>
          <p:cNvPr id="175" name="WordArt 4"/>
          <p:cNvSpPr txBox="1"/>
          <p:nvPr/>
        </p:nvSpPr>
        <p:spPr>
          <a:xfrm>
            <a:off x="468360" y="1341360"/>
            <a:ext cx="19429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Impact"/>
              </a:rPr>
              <a:t>Контро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Impact"/>
              <a:ea typeface="Impact"/>
            </a:endParaRPr>
          </a:p>
        </p:txBody>
      </p:sp>
      <p:sp>
        <p:nvSpPr>
          <p:cNvPr id="176" name="WordArt 6"/>
          <p:cNvSpPr txBox="1"/>
          <p:nvPr/>
        </p:nvSpPr>
        <p:spPr>
          <a:xfrm>
            <a:off x="826920" y="3716280"/>
            <a:ext cx="178128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Ревиз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2771640" y="3645000"/>
            <a:ext cx="547236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омплексная проверка всех или отдель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сторон деятельности фирмы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539640" y="4941720"/>
            <a:ext cx="806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овременной формой управления, нацеленной на максимализацию прибыли и обеспечение стабильной работы фирмы, является комплексная система синхронного анализа, планирования и контроля –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1979640" y="595008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онтроллинг (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controlling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0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A504-065A-4A95-9CD5-7AC0C8520C46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1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акторы производст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— ресурсы, необходимые для производства товаров и услу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трудовые ресурсы, или </a:t>
            </a: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труд</a:t>
            </a: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инвестиционные ресурсы, или </a:t>
            </a: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капитал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(совокупность созданных прошлым трудом человека благ. К факторам производства относится не весь капитал, а только реальный капитал — здания, сооружения, станки, машины и оборудование, инструменты и проч. — то есть все то, что используется для производства и транспортировки товаров и услуг. Финансовый же капитал (акции, облигации, банковские депозиты и деньги) к факторам производства не относится, поскольку не связан с реальным производством, а выступает в качестве инструмента получения реального капитала)</a:t>
            </a: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 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природные ресурсы, или </a:t>
            </a: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земля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(все сельскохозяйственные угодья и городские земли, которые отведены под жилищную или промышленную застройку, а также совокупность природных условий, необходимых для производства товаров и услуг)</a:t>
            </a: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 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сырьевые ресурсы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предпринимательский талант, или предпринимательские способности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информация; специфической формой информации является </a:t>
            </a: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технология</a:t>
            </a: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знания, или управленческие способности.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0" y="537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Факторы производства могут быть соединены различными способами, решение о способе соединения принимает менеджер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6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EAEC-F156-427C-9E55-E50DA2AEF3B5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7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MEETING2"/>
          <p:cNvPicPr/>
          <p:nvPr/>
        </p:nvPicPr>
        <p:blipFill>
          <a:blip r:embed="rId1"/>
          <a:stretch/>
        </p:blipFill>
        <p:spPr>
          <a:xfrm>
            <a:off x="324000" y="620640"/>
            <a:ext cx="3133440" cy="2414520"/>
          </a:xfrm>
          <a:prstGeom prst="rect">
            <a:avLst/>
          </a:prstGeom>
          <a:ln w="0">
            <a:noFill/>
          </a:ln>
        </p:spPr>
      </p:pic>
      <p:sp>
        <p:nvSpPr>
          <p:cNvPr id="99" name="WordArt 5"/>
          <p:cNvSpPr txBox="1"/>
          <p:nvPr/>
        </p:nvSpPr>
        <p:spPr>
          <a:xfrm>
            <a:off x="4140360" y="189000"/>
            <a:ext cx="26762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енеджмен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3995640" y="1484280"/>
            <a:ext cx="496908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Деятельность по управлению и координаци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работы предприятия и его подразделени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4140360" y="2565360"/>
            <a:ext cx="460836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Наука об управлении организацие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4140360" y="3284640"/>
            <a:ext cx="4752720" cy="431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«Команда» руководителей предприят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3" name="WordArt 9"/>
          <p:cNvSpPr txBox="1"/>
          <p:nvPr/>
        </p:nvSpPr>
        <p:spPr>
          <a:xfrm rot="5400000">
            <a:off x="3527640" y="1448640"/>
            <a:ext cx="503280" cy="431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" name="WordArt 10"/>
          <p:cNvSpPr txBox="1"/>
          <p:nvPr/>
        </p:nvSpPr>
        <p:spPr>
          <a:xfrm rot="5400000">
            <a:off x="3594240" y="2532600"/>
            <a:ext cx="487440" cy="406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WordArt 11"/>
          <p:cNvSpPr txBox="1"/>
          <p:nvPr/>
        </p:nvSpPr>
        <p:spPr>
          <a:xfrm rot="5400000">
            <a:off x="3630960" y="3288600"/>
            <a:ext cx="414360" cy="406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WordArt 12"/>
          <p:cNvSpPr txBox="1"/>
          <p:nvPr/>
        </p:nvSpPr>
        <p:spPr>
          <a:xfrm>
            <a:off x="468360" y="4005360"/>
            <a:ext cx="2152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недже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AutoShape 13"/>
          <p:cNvSpPr/>
          <p:nvPr/>
        </p:nvSpPr>
        <p:spPr>
          <a:xfrm>
            <a:off x="3132000" y="3933720"/>
            <a:ext cx="50421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33cc33"/>
              </a:gs>
            </a:gsLst>
            <a:lin ang="27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Лицо, занимающее определенную долж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на предприятии и обладающее властью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правом принимать реше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pSp>
        <p:nvGrpSpPr>
          <p:cNvPr id="108" name="Group 20"/>
          <p:cNvGrpSpPr/>
          <p:nvPr/>
        </p:nvGrpSpPr>
        <p:grpSpPr>
          <a:xfrm>
            <a:off x="179280" y="4581360"/>
            <a:ext cx="1714680" cy="1187640"/>
            <a:chOff x="179280" y="4581360"/>
            <a:chExt cx="1714680" cy="1187640"/>
          </a:xfrm>
        </p:grpSpPr>
        <p:sp>
          <p:nvSpPr>
            <p:cNvPr id="109" name="Line 14"/>
            <p:cNvSpPr/>
            <p:nvPr/>
          </p:nvSpPr>
          <p:spPr>
            <a:xfrm flipH="1">
              <a:off x="900000" y="4581360"/>
              <a:ext cx="432000" cy="71928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10" name="WordArt 15"/>
            <p:cNvSpPr txBox="1"/>
            <p:nvPr/>
          </p:nvSpPr>
          <p:spPr>
            <a:xfrm>
              <a:off x="179280" y="5157720"/>
              <a:ext cx="171468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6666"/>
                  </a:solidFill>
                  <a:latin typeface="Times New Roman"/>
                </a:rPr>
                <a:t>облада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66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11" name="Group 21"/>
          <p:cNvGrpSpPr/>
          <p:nvPr/>
        </p:nvGrpSpPr>
        <p:grpSpPr>
          <a:xfrm>
            <a:off x="1763640" y="4581360"/>
            <a:ext cx="1681200" cy="1258920"/>
            <a:chOff x="1763640" y="4581360"/>
            <a:chExt cx="1681200" cy="1258920"/>
          </a:xfrm>
        </p:grpSpPr>
        <p:sp>
          <p:nvSpPr>
            <p:cNvPr id="112" name="Line 16"/>
            <p:cNvSpPr/>
            <p:nvPr/>
          </p:nvSpPr>
          <p:spPr>
            <a:xfrm>
              <a:off x="1763640" y="4581360"/>
              <a:ext cx="1079640" cy="79236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13" name="WordArt 17"/>
            <p:cNvSpPr txBox="1"/>
            <p:nvPr/>
          </p:nvSpPr>
          <p:spPr>
            <a:xfrm>
              <a:off x="2340000" y="5229360"/>
              <a:ext cx="1104840" cy="610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80"/>
                  </a:solidFill>
                  <a:latin typeface="Times New Roman"/>
                </a:rPr>
                <a:t>уме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14" name="Group 22"/>
          <p:cNvGrpSpPr/>
          <p:nvPr/>
        </p:nvGrpSpPr>
        <p:grpSpPr>
          <a:xfrm>
            <a:off x="2627280" y="4508640"/>
            <a:ext cx="2671920" cy="1187280"/>
            <a:chOff x="2627280" y="4508640"/>
            <a:chExt cx="2671920" cy="1187280"/>
          </a:xfrm>
        </p:grpSpPr>
        <p:sp>
          <p:nvSpPr>
            <p:cNvPr id="115" name="Line 18"/>
            <p:cNvSpPr/>
            <p:nvPr/>
          </p:nvSpPr>
          <p:spPr>
            <a:xfrm>
              <a:off x="2627280" y="4508640"/>
              <a:ext cx="2232000" cy="64908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16" name="WordArt 19"/>
            <p:cNvSpPr txBox="1"/>
            <p:nvPr/>
          </p:nvSpPr>
          <p:spPr>
            <a:xfrm>
              <a:off x="4356000" y="5084640"/>
              <a:ext cx="94320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бы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</p:txBody>
        </p:sp>
      </p:grpSp>
      <p:pic>
        <p:nvPicPr>
          <p:cNvPr id="117" name="Picture 23" descr="36_2_42"/>
          <p:cNvPicPr/>
          <p:nvPr/>
        </p:nvPicPr>
        <p:blipFill>
          <a:blip r:embed="rId2"/>
          <a:stretch/>
        </p:blipFill>
        <p:spPr>
          <a:xfrm>
            <a:off x="5796000" y="4941720"/>
            <a:ext cx="809640" cy="733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4" descr="36_5_3"/>
          <p:cNvPicPr/>
          <p:nvPr/>
        </p:nvPicPr>
        <p:blipFill>
          <a:blip r:embed="rId3"/>
          <a:stretch/>
        </p:blipFill>
        <p:spPr>
          <a:xfrm>
            <a:off x="6804000" y="4941720"/>
            <a:ext cx="952560" cy="857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5" descr="36_2_59"/>
          <p:cNvPicPr/>
          <p:nvPr/>
        </p:nvPicPr>
        <p:blipFill>
          <a:blip r:embed="rId4"/>
          <a:stretch/>
        </p:blipFill>
        <p:spPr>
          <a:xfrm>
            <a:off x="8101080" y="5013360"/>
            <a:ext cx="743040" cy="74304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B216-06ED-4BE0-A9DE-C8EBB96A4B0E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1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ровни менеджмен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MEETING"/>
          <p:cNvPicPr/>
          <p:nvPr/>
        </p:nvPicPr>
        <p:blipFill>
          <a:blip r:embed="rId1"/>
          <a:stretch/>
        </p:blipFill>
        <p:spPr>
          <a:xfrm>
            <a:off x="611280" y="1197000"/>
            <a:ext cx="4681440" cy="333864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6"/>
          <p:cNvSpPr/>
          <p:nvPr/>
        </p:nvSpPr>
        <p:spPr>
          <a:xfrm>
            <a:off x="4211640" y="1125360"/>
            <a:ext cx="45370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Высший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– председатель совет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директоров, генеральный директор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резидент компани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5364000" y="2421000"/>
            <a:ext cx="3600720" cy="1728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Средний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– заместител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руководителя: «директор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маркетингу», «Директор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ерсоналу», начальники цехов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руководители отделов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6" name="AutoShape 8"/>
          <p:cNvSpPr/>
          <p:nvPr/>
        </p:nvSpPr>
        <p:spPr>
          <a:xfrm>
            <a:off x="826920" y="4653000"/>
            <a:ext cx="568980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изовой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– руководители первичных, низов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одразделений – начальники участков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лабораторий, секторов, бригадиры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7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1BE2-47B4-419E-B1FE-0ECFC68C38D7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8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сновные функции менеджмен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WordArt 5"/>
          <p:cNvSpPr txBox="1"/>
          <p:nvPr/>
        </p:nvSpPr>
        <p:spPr>
          <a:xfrm>
            <a:off x="324000" y="1484280"/>
            <a:ext cx="302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рганиза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3527280" y="1268280"/>
            <a:ext cx="5616720" cy="22320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роцесс создания структуры предприятия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ыполнения ее работниками своих функций: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Определить структуру и соподчинение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одразделени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2. Определить место, время производств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родукции, маршруты ее движе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на предприяти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2" name="WordArt 7"/>
          <p:cNvSpPr txBox="1"/>
          <p:nvPr/>
        </p:nvSpPr>
        <p:spPr>
          <a:xfrm>
            <a:off x="250920" y="3645000"/>
            <a:ext cx="3162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аниров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3492360" y="3645000"/>
            <a:ext cx="5543640" cy="3024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роцесс изучения и решения проблем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будущего: определение целей деятель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организации,  и способов их реализаци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тратегическое – определение основ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направлений развития на 10-15 лет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2. Среднесрочное на 3-5 лет (конкретизация задач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тратегических планов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3. Текущее планирование сроком до 1 год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(с разбивкой по кварталам), охватывают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се стороны деятельности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4" name="AutoShape 9">
            <a:hlinkClick r:id="rId3" action="ppaction://hlinksldjump"/>
          </p:cNvPr>
          <p:cNvSpPr/>
          <p:nvPr/>
        </p:nvSpPr>
        <p:spPr>
          <a:xfrm>
            <a:off x="8244000" y="6453360"/>
            <a:ext cx="900000" cy="404640"/>
          </a:xfrm>
          <a:custGeom>
            <a:avLst/>
            <a:gdLst>
              <a:gd name="textAreaLeft" fmla="*/ 25920 w 900000"/>
              <a:gd name="textAreaRight" fmla="*/ 874080 w 900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8019" h="21600">
                <a:moveTo>
                  <a:pt x="0" y="0"/>
                </a:moveTo>
                <a:lnTo>
                  <a:pt x="48019" y="0"/>
                </a:lnTo>
                <a:lnTo>
                  <a:pt x="48019" y="21600"/>
                </a:lnTo>
                <a:lnTo>
                  <a:pt x="0" y="21600"/>
                </a:lnTo>
                <a:close/>
              </a:path>
              <a:path fill="lightenLess" w="48019" h="21600">
                <a:moveTo>
                  <a:pt x="0" y="0"/>
                </a:moveTo>
                <a:lnTo>
                  <a:pt x="48019" y="0"/>
                </a:lnTo>
                <a:lnTo>
                  <a:pt x="46619" y="1400"/>
                </a:lnTo>
                <a:lnTo>
                  <a:pt x="1400" y="1400"/>
                </a:lnTo>
                <a:close/>
              </a:path>
              <a:path fill="darken" w="48019" h="21600">
                <a:moveTo>
                  <a:pt x="48019" y="0"/>
                </a:moveTo>
                <a:lnTo>
                  <a:pt x="48019" y="21600"/>
                </a:lnTo>
                <a:lnTo>
                  <a:pt x="46619" y="20200"/>
                </a:lnTo>
                <a:lnTo>
                  <a:pt x="46619" y="1400"/>
                </a:lnTo>
                <a:close/>
              </a:path>
              <a:path fill="darkenLess" w="48019" h="21600">
                <a:moveTo>
                  <a:pt x="48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19" y="20200"/>
                </a:lnTo>
                <a:close/>
              </a:path>
              <a:path fill="lighten" w="48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19" h="21600">
                <a:moveTo>
                  <a:pt x="17003" y="3794"/>
                </a:moveTo>
                <a:lnTo>
                  <a:pt x="31016" y="10800"/>
                </a:lnTo>
                <a:lnTo>
                  <a:pt x="1700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5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D732-3242-4D5C-BD9B-721DCA79E8BC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6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ффективная организация тру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76320" y="1341360"/>
            <a:ext cx="8893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99cc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Организационные методы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 представляют собой установление связей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отношений между должностями работников. Эти методы носят пассивны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характер.  Они обеспечивают развитие персонала и упорядочивают управление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395280" y="2276640"/>
            <a:ext cx="8748720" cy="17287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99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Административные методы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– это управление и регулирование деятель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персонала на основе приказов, распоряжений, конкретных заданий. Э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методы могут и сопровождаться поощрениями и штрафами за успешную ил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неуспешную работу. Возможны три формы проявления этих методов: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Обязательное предписание, согласительные (консультация, компромисс)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рекомендации (совет, предписание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0" y="4164120"/>
            <a:ext cx="914400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05ff6"/>
              </a:gs>
              <a:gs pos="50000">
                <a:srgbClr val="ccffff"/>
              </a:gs>
              <a:gs pos="100000">
                <a:srgbClr val="205ff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Экономические методы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– косвенное воздействие на объект управления. Э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методы не действуют автоматически, трудно определить силу их влияния н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результат. С их помощью осуществляется материальное стимулирование, он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могут выступать как планирование, анализ, ценообразование, финансирование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редоставление экономической самостоятельност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95280" y="5661000"/>
            <a:ext cx="8497800" cy="93672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ccff"/>
              </a:gs>
              <a:gs pos="100000">
                <a:srgbClr val="ff006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сихологические методы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– побуждение работников к эффективной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деятельности через психологическое воздействие. Нацелены н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формирование благоприятного климата в коллективе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2" name="AutoShape 8">
            <a:hlinkClick r:id="" action="ppaction://hlinkshowjump?jump=previousslide"/>
          </p:cNvPr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30600 w 684360"/>
              <a:gd name="textAreaRight" fmla="*/ 653760 w 684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30" y="1400"/>
                </a:lnTo>
                <a:lnTo>
                  <a:pt x="1400" y="140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30" y="20200"/>
                </a:lnTo>
                <a:lnTo>
                  <a:pt x="29630" y="140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30" y="2020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30" h="21600">
                <a:moveTo>
                  <a:pt x="8508" y="10800"/>
                </a:moveTo>
                <a:lnTo>
                  <a:pt x="22521" y="3794"/>
                </a:lnTo>
                <a:lnTo>
                  <a:pt x="2252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3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29A9-1B30-4E10-B767-F0C9E7C24C7F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4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4"/>
          <p:cNvSpPr txBox="1"/>
          <p:nvPr/>
        </p:nvSpPr>
        <p:spPr>
          <a:xfrm>
            <a:off x="395280" y="549360"/>
            <a:ext cx="3024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6666"/>
                  </a:solidFill>
                  <a:miter/>
                </a:ln>
                <a:solidFill>
                  <a:srgbClr val="33cc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тивация</a:t>
            </a:r>
            <a:endParaRPr b="0" lang="en-US" sz="1800" spc="1" strike="noStrike">
              <a:ln w="12600">
                <a:solidFill>
                  <a:srgbClr val="006666"/>
                </a:solidFill>
                <a:miter/>
              </a:ln>
              <a:solidFill>
                <a:srgbClr val="33cc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3780000" y="549360"/>
            <a:ext cx="5111640" cy="1152360"/>
          </a:xfrm>
          <a:prstGeom prst="roundRect">
            <a:avLst>
              <a:gd name="adj" fmla="val 16667"/>
            </a:avLst>
          </a:prstGeom>
          <a:solidFill>
            <a:srgbClr val="66ff6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Создание заинтересованности персонал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в достижении целей фирмы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7" name="Picture 6" descr="пирамида Маслоу"/>
          <p:cNvPicPr/>
          <p:nvPr/>
        </p:nvPicPr>
        <p:blipFill>
          <a:blip r:embed="rId1"/>
          <a:stretch/>
        </p:blipFill>
        <p:spPr>
          <a:xfrm>
            <a:off x="84240" y="1916280"/>
            <a:ext cx="9059760" cy="47527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4859280" y="59500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ирамида Маслоу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9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584A-A280-4F33-AC6C-51C43AE21321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0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6"/>
          <p:cNvSpPr/>
          <p:nvPr/>
        </p:nvSpPr>
        <p:spPr>
          <a:xfrm>
            <a:off x="179280" y="2781360"/>
            <a:ext cx="3529080" cy="151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цели  организ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труктура  организ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задачи  организ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технология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люди (кадры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2" name="AutoShape 9"/>
          <p:cNvSpPr/>
          <p:nvPr/>
        </p:nvSpPr>
        <p:spPr>
          <a:xfrm>
            <a:off x="4284720" y="2421000"/>
            <a:ext cx="4390920" cy="1584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4572000" y="2492280"/>
            <a:ext cx="36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реда  прямого воздейств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отребители; конкуренты; оставщики; законы  и  государственные  органы; профсоюзы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4284720" y="4149720"/>
            <a:ext cx="4535280" cy="1584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4572000" y="428292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реда  косвенного  воздействия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политика; экономика; социальные  факторы; технология; международные  отноше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6" name="WordArt 16"/>
          <p:cNvSpPr txBox="1"/>
          <p:nvPr/>
        </p:nvSpPr>
        <p:spPr>
          <a:xfrm>
            <a:off x="1619280" y="765000"/>
            <a:ext cx="5848200" cy="13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Факторы внутренней среды 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нешней среды организа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7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D64E-32FE-41E5-9D01-28A64AA057A4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8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4"/>
          <p:cNvSpPr txBox="1"/>
          <p:nvPr/>
        </p:nvSpPr>
        <p:spPr>
          <a:xfrm>
            <a:off x="2627280" y="1197000"/>
            <a:ext cx="3548160" cy="9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339966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оммуникаци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339966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1116000" y="2060640"/>
            <a:ext cx="7343640" cy="504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2050920" y="213372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обмен  информацией  с  другими  людьм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684360" y="277020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В  процессе  обмена  информацией  можно  выделить  четыре  базовых  элемента: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отправитель (адресант)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– лицо, генерирующее  идеи  или  собирающее  информацию  и  передающее  ее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ообщение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– собственно  информация, закодированная  с  помощью  символов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канал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– средство  передачи  информ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получатель (адресат)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– лицо, которому  предназначена  информация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амыми  эффективными  являются  коммуникации  путем  личных  контактов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3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98F0-E4D7-4BD4-898A-4ACA658A3ACD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4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1:55:41Z</dcterms:created>
  <dc:creator>Надежда</dc:creator>
  <dc:description/>
  <cp:keywords/>
  <dc:language>en-US</dc:language>
  <cp:lastModifiedBy>LEGION</cp:lastModifiedBy>
  <dcterms:modified xsi:type="dcterms:W3CDTF">2016-01-11T10:08:05Z</dcterms:modified>
  <cp:revision>8</cp:revision>
  <dc:subject/>
  <dc:title>Управление производство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007000000000001024140</vt:lpwstr>
  </property>
  <property fmtid="{D5CDD505-2E9C-101B-9397-08002B2CF9AE}" pid="3" name="_TemplateID">
    <vt:lpwstr>TC101950921049</vt:lpwstr>
  </property>
</Properties>
</file>