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0DDC-7916-495A-8FDB-C938941EAA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1.01.2016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01.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: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ория Х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что?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ория У: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что?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наблюдения за деятельностью фир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онтроль количества, качества, сохра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х норм, инструкций, договоров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едварительный контроль (на стад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я план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ая проверка всех или отд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 деятельности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линг (control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истема наблюдения за деятельностью фирмы</a:t>
            </a:r>
            <a:br>
              <a:rPr sz="1200"/>
            </a:b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(контроль количества, качества, сохран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авовых норм, инструкций, договоров и т.д.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А) предварительный контроль (на стад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ставления планов)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виз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мплексная проверка всех или отдельн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орон деятельности фирмы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нтроллинг (controlling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— ресурсы, необходимые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ресурсы, или труд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ресурсы, или капитал 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, или земля 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евые ресур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; специфической формой информации являетс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, или управленческие способ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производства — ресурсы, необходимые для производства товаров и услуг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рудовые ресурсы, или труд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нвестиционные ресурсы, или капитал 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 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иродные ресурсы, или земля 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 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технология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 управлению и координ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редприятия и его 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а об управлении орган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оманда» руководителей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о, занимающее определенную дол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приятии и обладающее властью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 принимать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ер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ицо, занимающее определенную должность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 предприятии и обладающее властью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авом принимать решен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– председатель сов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ов, генеральный директ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компа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й – заместите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: «директор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у», «Директор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у», начальники це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и отде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овой – руководители первичных, низо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 – начальники участ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бораторий, секторов, бригад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ысший – председатель совет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ний – заместител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изовой – руководители первичных, низов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создания структуры предприятия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ее работниками своих фун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руктуру и соподч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пределить место, время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ции, маршруты ее дви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прия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изучения и решения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щего: определение целе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 и способо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ое – определение основ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й развития на 10-15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х пл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Текущее планирование сроком до 1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 разбивкой по кварталам), охватыв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стороны деятель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сновные функции менеджмент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методы представляют собой установление связе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.  Они обеспечивают развитие персонала и упорядочивают 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методы – это управление и регулирование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(совет, предпис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– косвенное воздействие на объект управления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методы – побуждение работников к эффектив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Эффективная организация труд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онные методы представляют собой установление связей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характер.  Они обеспечивают развитие персонала и упорядочивают управление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Административные методы – это управление и регулирование деятель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комендации (совет, предписание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Экономические методы – косвенное воздействие на объект управления. Э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сихологические методы – побуждение работников к эффективной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заинтересованности персон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остижении целей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амида Масло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ирамида Маслоу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(кад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 прям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 косвенного  воздействия политика; экономика; социальные  факторы; технология; международные 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внутренней сред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а  прямого воздейств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а  косвенного  воздействия политика; экономика; социальные  факторы; технология; международные  отношен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внутренней среды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нешней среды организации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 информацией  с  другими  людь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 (адресант) – лицо, генерирующее  идеи  или  собирающее  информацию  и  передающее  е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– собственно  информация, закодированная  с  помощью  симво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– средство  передачи 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 (адресат) – лицо, которому  предназначена 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ммуникации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тправитель (адресант) – лицо, генерирующее  идеи  или  собирающее  информацию  и  передающее  ее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общение – собственно  информация, закодированная  с  помощью  символов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анал – средство  передачи  информ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лучатель (адресат) – лицо, которому  предназначена  информац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F0E-4A38-4562-81EE-236CD73E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CE8-5EC3-4C92-A028-DF70D80D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C7B-FCC8-4971-8B54-43560924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3FE-32C1-42F7-82E0-C015BD6B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A7274-A865-44B1-9929-8F5E44DA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DBFAA-D108-456F-9C6D-1A9DD0E8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1FE1E-074A-47ED-8DC7-91F4D153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B7E3A-E09B-4E40-9D6B-9028CB32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9118E-846D-4FC9-BCBC-E4F9BF4F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D6C6D-BA88-435E-ABFD-6199CF95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AC757-E12A-4774-B255-85362A27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E4E-128E-4C45-AE03-6E2AC652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55550-E15B-467C-B58F-05D50CF4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BAF8D-FEB7-42C5-9617-DD5ADA8B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4FDA1-C56C-4B97-B4D8-6F29865D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D7133-7FE9-4ABE-9311-E4BF49FA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8DF1C-A15A-499C-BF6C-2CBE62C5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280-D442-486C-811B-75B01B2E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D2C-BC18-4B4E-9DEB-45D1E9BE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054-FA9A-4AEC-BE2C-32798AE3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AF3-07BF-447A-84F0-45341E99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EAD-2A4A-4FC4-8BA0-B524FBEA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9DB-BE08-43B5-B530-8B2A54F8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D55-410B-41AB-93A1-B63DF6BD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E3A4-0B96-451A-ABD9-72CE57787B3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7133-AC32-47BE-9799-4446D1EF6EFC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B0EE-56A6-439D-941B-8FACE9848E37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D53E-8DD8-44F4-BF07-3488E2CA4ADA}" type="datetime">
              <a:rPr b="0" lang="ru-RU" sz="1400" spc="-1" strike="noStrike">
                <a:solidFill>
                  <a:srgbClr val="205ff6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4CF4-70F6-4464-9112-C77608E63D60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69" name="Picture 8" descr="36_2_63"/>
          <p:cNvPicPr/>
          <p:nvPr/>
        </p:nvPicPr>
        <p:blipFill>
          <a:blip r:embed="rId1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36_2_51"/>
          <p:cNvPicPr/>
          <p:nvPr/>
        </p:nvPicPr>
        <p:blipFill>
          <a:blip r:embed="rId2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0A21-BE63-45A2-8057-3D4A88C80316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5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4" name="Picture 10" descr="EXAMINE"/>
          <p:cNvPicPr/>
          <p:nvPr/>
        </p:nvPicPr>
        <p:blipFill>
          <a:blip r:embed="rId1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C74D-024A-4B29-B7B1-B097395E8386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928F-1F66-4020-96F6-84EB92799E44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MEETING2"/>
          <p:cNvPicPr/>
          <p:nvPr/>
        </p:nvPicPr>
        <p:blipFill>
          <a:blip r:embed="rId1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5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WordArt 11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33cc33"/>
              </a:gs>
            </a:gsLst>
            <a:lin ang="27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109" name="Line 14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0" name="WordArt 15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11" name="Group 21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12" name="Line 16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3" name="WordArt 17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14" name="Group 22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15" name="Line 18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6" name="WordArt 19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17" name="Picture 23" descr="36_2_42"/>
          <p:cNvPicPr/>
          <p:nvPr/>
        </p:nvPicPr>
        <p:blipFill>
          <a:blip r:embed="rId2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4" descr="36_5_3"/>
          <p:cNvPicPr/>
          <p:nvPr/>
        </p:nvPicPr>
        <p:blipFill>
          <a:blip r:embed="rId3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36_2_59"/>
          <p:cNvPicPr/>
          <p:nvPr/>
        </p:nvPicPr>
        <p:blipFill>
          <a:blip r:embed="rId4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B4C5-2D2F-49E6-93E8-E0E431D35589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MEETING"/>
          <p:cNvPicPr/>
          <p:nvPr/>
        </p:nvPicPr>
        <p:blipFill>
          <a:blip r:embed="rId1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2947-7E6E-4709-BEB5-50A5B5655720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8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AutoShape 9">
            <a:hlinkClick r:id="rId3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6F61-FCB4-4279-9831-EA6796BDB6E7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AutoShape 8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1CD9-6FB1-4AF9-A414-7D7297F0E076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Picture 6" descr="пирамида Маслоу"/>
          <p:cNvPicPr/>
          <p:nvPr/>
        </p:nvPicPr>
        <p:blipFill>
          <a:blip r:embed="rId1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6E22-6BA6-4C4D-8A6C-E53D51B5016E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0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6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WordArt 16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7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21D5-D04D-4A07-9E92-5106CD4AF67E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9FB5-1573-4B15-8D67-C734A045B614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4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LEGION</cp:lastModifiedBy>
  <dcterms:modified xsi:type="dcterms:W3CDTF">2016-01-11T10:08:05Z</dcterms:modified>
  <cp:revision>8</cp:revision>
  <dc:subject/>
  <dc:title>Управление производств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7000000000001024140</vt:lpwstr>
  </property>
  <property fmtid="{D5CDD505-2E9C-101B-9397-08002B2CF9AE}" pid="3" name="_TemplateID">
    <vt:lpwstr>TC101950921049</vt:lpwstr>
  </property>
</Properties>
</file>