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0406-F78F-437E-B8A3-A4F343E6229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еджмент организ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двух курсов специ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 организа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двух курсов специ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специальностей 060800  и 061100 (52150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жи в своей основе,  но различаются методически, отражая разные научные школы разработчиков этих стандартов (ИнжЭконУниверситет, СПб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У им. Орджоникидзе, Москва, соответствен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ы специальностей 060800  и 061100 (52150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хожи в своей основе,  но различаются методически, отражая разные научные школы разработчиков этих стандартов (ИнжЭконУниверситет, СПб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У им. Орджоникидзе, Москва, соответственно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м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м цветом общие для всех программ поз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ым цветом – темы специ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м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м цветом общие для всех программ поз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м цветом – темы специ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управления современной российской макро- и микроэконом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совершенствования организации управле­ния в Росс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значение антикризисного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сущность, цели, значение, технологии, общие и специальные функции менеджмента как вида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менеджмента за рубежом; возможности и пути использования его в Росс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система управления предприят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организационных структу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боснования бизнес-планов предприятий и их мониторинг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­няя и внешняя среда предприят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онный менеджмент; система информационных коммуникац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ий менедж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менеджмент, его роль в системе современного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персонала, ос­новные качества менеджера, особенности его рабо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делового общения, управление конфликтами, психология менеджмента, кор­поративная культура и организационное повед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отива­ций, контроль и контроллинг, управление рисками, антикризисное управление, особенности управления внешнеэкономическими связя­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управления современной российской макро- и микроэкономи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совершенствования организации управле­ния в Росс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е значение антикризисного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, сущность, цели, значение, технологии, общие и специальные функции менеджмента как вида 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менеджмента за рубежом; возможности и пути использования его в Росс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система управления предприяти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организационных структур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боснования бизнес-планов предприятий и их мониторинг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­няя и внешняя среда предприят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й менеджмент; система информационных коммуникац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й менеджмен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менеджмент, его роль в системе современного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персонала, ос­новные качества менеджера, особенности его рабо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делового общения, управление конфликтами, психология менеджмента, кор­поративная культура и организационное повед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мотива­ций, контроль и контроллинг, управление рисками, антикризисное управление, особенности управления внешнеэкономическими связя­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и необходимость управления в дея­тельности человека. Менеджмент в системе понятий рыночн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енеджмента: условия и предпосылки возникновения менеджмента, школы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оссийск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онные процессы в менеджменте. Внеш­няя и внутренняя среда организации. Факторы прямого и косвен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менеджмента: функции и организацион­ные 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 управления: целеполагание и оценка ситуации, принятие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менеджмента: средства и методы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менеджмента, типология и выбор альтернатив эффективного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социология управления персоналом и формирование человеческого капитала. Личность менедж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и стиль управления. Власть и партнер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динамика и разрешение кон­фликтов. Формальное и неформальное управ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, качество и эффективность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обеспечения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й потенциал менеджмента, профессионализац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 и необходимость управления в дея­тельности человека. Менеджмент в системе понятий рыноч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волюция менеджмента: условия и предпосылки возникновения менеджмента, школы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оссийск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. Внеш­няя и внутренняя среда организации. Факторы прямого и косвенного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менеджмента: функции и организацион­ные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ы управления: целеполагание и оценка ситуации, принятие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менеджмента: средства и методы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 менеджмента, типология и выбор альтернатив эффективного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и социология управления персоналом и формирование человеческого капитала. Личность менедже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дерство и стиль управления. Власть и партнер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ая динамика и разрешение кон­фликтов. Формальное и неформальное управ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, качество и эффективность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нформационного обеспечения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ый потенциал менеджмента, профессионализация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1100 - "Менеджмент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теория управления. Закономерности управления различными системами. Управление социально-экономическими системами (организация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е основы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факторы и этика менеджмен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онные процессы в менеджмен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 ситуаций и разработка реш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и состав функций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1100 - "Менеджмент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еория управления. Закономерности управления различными системами. Управление социально-экономическими системами (организация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е основы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факторы и этика менеджм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 ситуаций и разработка решен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и состав функций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11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ие и тактические планы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отношения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организации системы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я деятельности в менеджмен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и контроль в системе менеджмен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групп и лидерство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человеком и управление групп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: власть и партнерств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менеджмента и имидж (образ) менедж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ликтность в менеджмен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11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е и тактические планы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отношения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организации системы менеджмен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деятельности в менеджмент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ование и контроль в системе менеджм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групп и лидерство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: власть и партнерств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ность в менеджмент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ециальность 061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ециальность 061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521500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алавр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теория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управления различными систе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социально-экономическими системами (организацие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школы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менеджмента (планирование, организация, мотивация, контрол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ы системы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ующие процессы в менеджмен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 менедж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рганизационными измен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 качеств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521500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калавр менеджмен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еория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управления различными систем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социально-экономическими системами (организацие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е школы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 (планирование, организация, мотивация, контроль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ы системы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ующие процессы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и менедже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организационными изменен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 качеств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задачи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программы пяти к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еджмент»,  «Управление проектами», «Стратегический менеджмент», «Маркетинг» и «Управление персоналом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наполнение этих к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ка задачи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ть программы пяти кур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,  «Управление проектами», «Стратегический менеджмент», «Маркетинг» и «Управление персоналом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ть наполнение этих к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в выделенные част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аем общее для всех специальностей ядро,  которое может стать основой базового модуля курса «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в выделенные част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ем общее для всех специальностей ядро,  которое может стать основой базового модуля курса 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ные нами 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мпонованы в программе курса «Менеджмент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зработка к.э.н., доц. Г.Я.Андреев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м эти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ные нами 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мпонованы в программе курса «Менеджмент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зработка к.э.н., доц. Г.Я.Андреев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м эти 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Общая теория управления. Закономерности управления различными систе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бернетические основы управления. Понятия «объект» и «субъект» управления, «управляющее воздействие», «обратная связь», «управляемая» и «управляющая» под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управления. Тип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Общая теория управления. Закономерности управления различными систе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бернетические основы управления. Понятия «объект» и «субъект» управления, «управляющее воздействие», «обратная связь», «управляемая» и «управляющая» под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управления. Тип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. Управление социально-экономическими системами (организация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ак объек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 элементы и характерис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и содержание процесса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управленческого тру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и субъекты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и роли менедж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менеджеров. Требования к менеджер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Управление социально-экономическими системами (организаци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как объект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 элементы и характерист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и содержание процесса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управленческого тру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и субъекты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и роли менедже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менеджеров. Требования к менеджер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Методологические основы менеджмента. Инфраструктура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определению сущности понятия «менеджмент». Соотношение с понятием «управление». Цели и задачи менеджмента. Взаимосвязь менеджмента с другими на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, методы и принципы менеджмента. Характеристика объектов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онные процессы в менеджменте. Инфраструктура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Методологические основы менеджмента. Инфраструктура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к определению сущности понятия «менеджмент». Соотношение с понятием «управление». Цели и задачи менеджмента. Взаимосвязь менеджмента с другими на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, методы и принципы менеджмента. Характеристика объектов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. Инфраструктура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 Этика менеджмента и социальная ответственность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этики менеджмента. Критерии принятия этически сложных реш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определяющие этический выб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социальной ответ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интересованные в деятельности организации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результатов социаль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этической и социальной ответственностью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 Этика менеджмента и социальная ответственность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этики менеджмента. Критерии принятия этически сложны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пределяющие этический выб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оциальной ответ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е в деятельности организации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езультатов социальн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этической и социальной ответственностью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. Природа и состав функций менеджмента. Цикл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функций менеджмента, их взаимодейств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функций по уровням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 управления и его ста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рирода и состав функций менеджмента. Цикл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функций менеджмента, их взаимодейств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 функций по уровням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управления и его стад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Моделирование ситуаций и разработка решений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, значение и типология решений в менеджмен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управленческим реш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процесс принятия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принятию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облемной ситу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процедуры анализа проблемной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процесса принятия и осуществления управленческого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уждение сотрудников к участию в принятии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Моделирование ситуаций и разработка решений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, значение и типология решений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управленческим решен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процесс принятия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к принятию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облемной ситу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процедуры анализа проблемной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процесса принятия и осуществления управленческого реш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буждение сотрудников к участию в принятии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 Планирование как функц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, цели и задачи внутрифирменного план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нутрифирменного планирования, их классификация: по целям; предмету; уровню; содержанию; периодам план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ая характеристика стратегических и тактических планов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лан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лан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 Планирование как функция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, цели и задачи внутрифирменного план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нутрифирменного планирования, их классификация: по целям; предмету; уровню; содержанию; периодам план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ая характеристика стратегических и тактических планов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лан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ла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результат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требований к дистанционной подаче материала, представление курсов в форме, пригодной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онизация» курсов: выработка принципов согласования подходов и кредитовой оценки курсов (модулей, блоков, мейджеров и т.п.) с перспективой взаимозачетов курсов, прослушанных в разных университ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результат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требований к дистанционной подаче материала, представление курсов в форме, пригодной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олонизация» курсов: выработка принципов согласования подходов и кредитовой оценки курсов (модулей, блоков, мейджеров и т.п.) с перспективой взаимозачетов курсов, прослушанных в разных университе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8. Построение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ак процесс, его содержание и на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структуры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(звенья, связи, уровни) и характеристики (сложность, формализация, централизация, механизмы координации) организационной струк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формирования организационных структу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структур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8. Построение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как процесс, его содержание и назна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труктуры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(звенья, связи, уровни) и характеристики (сложность, формализация, централизация, механизмы координации) организационной струк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формирования организационных структу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волюция структур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9. Организация взаимодействия и делегирование полномочий в системе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егирование, полномочия, ответственность: содержание и роль в обеспечении взаимодействия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олномоч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и децентрализация задач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успешного делег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Организация взаимодействия и делегирование полномочий в системе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егирование, полномочия, ответственность: содержание и роль в обеспечении взаимодействия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олномоч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 и децентрализация задач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успешного делег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0. Мотивация деятельности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 роль мотивации в управл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анализ теорий мотив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имость содержательных и процессуальных теорий в управлении организ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отивации персонала в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0. Мотивация деятельности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и роль мотивации в управл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ый анализ теорий мотив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мость содержательных и процессуальных теорий в управлении организ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мотивации персонала в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1. Контроль и регулирование в системе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 содержание функций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 формы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организации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1. Контроль и регулирование в систем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 содержание функций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 формы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организации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2. Коммуникации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сущность и роль коммуникаций в менеджмен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оцесса коммуникаций: элементы и эта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результатов (эффект) коммуни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ум в процессе коммуни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коммуникационных сете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онные ро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онные сти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2. Коммуникации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, сущность и роль коммуникаций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роцесса коммуникаций: элементы и эта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результатов (эффект)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 в процессе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коммуникационных сет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е ро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е сти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3. Групповая динам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и неформальные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зис и развитие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е поведение в групп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сплоч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человеком и управление групп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ффективность работы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3. Групповая динам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и неформальные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зис и развитие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е поведение в групп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ая сплоч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эффективность работы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4. Власть и вли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в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в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власти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влияния руководителя на подчинен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управленческого влияния на подчине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4. Власть и вли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вл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идов вл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власти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лияния руководителя на подчиненн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управленческого влияния на подчине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5. Лидерство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лидерства. Составляющие лидерства. Основные подходы к трактовке лиде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 и менеджер, их характеристики и отлич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менеджмента и имидж (образ) менедж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изучению лидерства. Теория лидерских качеств. Концепции лидерского поведения. Концепции ситуационного лиде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 теориях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5. Лидерство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лидерства. Составляющие лидерства. Основные подходы к трактовке лиде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дер и менеджер, их характеристики и отлич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к изучению лидерства. Теория лидерских качеств. Концепции лидерского поведения. Концепции ситуационного лидер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ое в теориях лиде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6. Конфликтность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ликт и его природа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конфли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 конфли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ы прерывания конфли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ипы поведения в конфликтной ситу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конфликта в организации и их источ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навыки управления конфликтами различных 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6. Конфликтность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 и его природа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конфли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конфли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прерывания конфли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поведения в конфликтной ситу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конфликта в организации и их источ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навыки управления конфликтами различных уров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7. Эффективность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 в организации 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7. Эффективность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 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рограммы двух к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еджмент» и «Стратегический 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программы двух кур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 и «Стратегический 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8. История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и факторы возникновения и развития менеджмента. Истоки возникновения менеджмента. Этапы и школы в истори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образие моделей менеджмента: американский, японский, европейский и др. Влияние национально-исторических факторов на развитие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управления 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система взглядов на 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менеджмента: возможное и вероя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8. История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и факторы возникновения и развития менеджмента. Истоки возникновения менеджмента. Этапы и школы в истории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образие моделей менеджмента: американский, японский, европейский и др. Влияние национально-исторических факторов на развити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управления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система взглядов на менедж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менеджмента: возможное и вероя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видим, что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ное нами ядро курса «Менеджмент», общее для всех специальностей ИЭиУ полностью  покрывается этой програм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приведенных тем в достаточной степени исчерпывает проблематику классического менеджмента в его традиционном излож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, на наш взгляд, именно этот перечень может быть взят в качестве устойчивого ядра курса «Менеджмент» как для всех специальностей ИЭиУ, так и для различных форм обучения – дневная, заочная, экстернат, дистанционное обу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видим, чт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ное нами ядро курса «Менеджмент», общее для всех специальностей ИЭиУ полностью  покрывается этой программ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приведенных тем в достаточной степени исчерпывает проблематику классического менеджмента в его традиционном излож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, на наш взгляд, именно этот перечень может быть взят в качестве устойчивого ядра курса «Менеджмент» как для всех специальностей ИЭиУ, так и для различных форм обучения – дневная, заочная, экстернат, дистанционное обу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личных специальностей эти центральные части будут различаться объемом выделяемых на них час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специальности «Менеджмент» разным будет соотношение часов на лекции, практические занятия и самостоятельную рабо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объем курса при этом составляет 300 часов для очного обучения, 268 часов для заочного и 250 часов для бакалавре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различных специальностей эти центральные части будут различаться объемом выделяемых на них час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специальности «Менеджмент» разным будет соотношение часов на лекции, практические занятия и самостоятельную рабо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объем курса при этом составляет 300 часов для очного обучения, 268 часов для заочного и 250 часов для бакалавре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уля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обсуждение и ознакомление с материалами наших немецких коллег позволяет выделить несколько возможных направлений дви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яр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ое обсуждение и ознакомление с материалами наших немецких коллег позволяет выделить несколько возможных направлений дви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е на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е – в пределах 250-350 часов – блоки, концентрирующие содержание одной (чаще – фундаментальной)  или нескольких взаимоувязанных и взаимодополняющих (чаще – специальных) дисципл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рганизационно подход удобен для приглашенных профессоров, имеющих возможность вычитать свой курс за 1-2 семестра и отбыть к следующему месту рабо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ен для европейской прак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может создавать определенные трудности студентам, либо вынужденных 2-3 года ждать необходимого им курса, либо ехать за этим курсом в другое учебное заведение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ком формате естественно глядятся авторские курсы, нетрадиционные подходы, рассмотрение новых, спорных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е на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е – в пределах 250-350 часов – блоки, концентрирующие содержание одной (чаще – фундаментальной)  или нескольких взаимоувязанных и взаимодополняющих (чаще – специальных) дисцип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рганизационно подход удобен для приглашенных профессоров, имеющих возможность вычитать свой курс за 1-2 семестра и отбыть к следующему месту рабо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ычен для европейской прак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может создавать определенные трудности студентам, либо вынужденных 2-3 года ждать необходимого им курса, либо ехать за этим курсом в другое учебное заведени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аком формате естественно глядятся авторские курсы, нетрадиционные подходы, рассмотрение новых, спорных вопр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е на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адаптированного для конкретного заказчика содержания курса из нескольких (нескольких десятков)  модулей – т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-то мере этот подход уже реализован в учебном плане специальности 060800 ИЭиУ. Здесь выделена базовая часть – «менеджмент I», общая для всех специализаций и переменная часть «менеджмент II»,  варьируемая для трех специализаций –  строительства, машиностроения и транс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 обеспечивает большую взаимозаменяемость преподавателей и большие удобства для слуша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-е на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адаптированного для конкретного заказчика содержания курса из нескольких (нескольких десятков)  модулей – т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ой-то мере этот подход уже реализован в учебном плане специальности 060800 ИЭиУ. Здесь выделена базовая часть – «менеджмент I», общая для всех специализаций и переменная часть «менеджмент II»,  варьируемая для трех специализаций –  строительства, машиностроения и тран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 обеспечивает большую взаимозаменяемость преподавателей и большие удобства для слушате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случа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видим достаточно тесную увязку следующих друг за другом тем и практическое отсутствие тем факультатив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напрашивается представление курса «Менеджмент» в виде единого макромодуля полным объемом до 300 часов (для специальности «Менеджмент»), с возможностью сокращения до 100 часов (для других специальностей и специальных программ) за счет второстепенных вопросов в каждой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шем случа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видим достаточно тесную увязку следующих друг за другом тем и практическое отсутствие тем факультатив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напрашивается представление курса «Менеджмент» в виде единого макромодуля полным объемом до 300 часов (для специальности «Менеджмент»), с возможностью сокращения до 100 часов (для других специальностей и специальных программ) за счет второстепенных вопросов в каждой 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курса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ой степени зависит от рекомендованной программной оболочки, поэтому вернемся к этому вопросу позже, после выбора такой оболо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курса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ольшой степени зависит от рекомендованной программной оболочки, поэтому вернемся к этому вопросу позже, после выбора такой оболоч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аниях и на предприятиях современной России переживает стадию зарождения и первоначального разви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помочь российским менеджерам осознанно подойти к решению вопросов, определяющих ближайшие и отдаленные перспективы; гармонично увязывать перспективы с текущей деятельностью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мпаниях и на предприятиях современной России переживает стадию зарождения и первоначального разви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помочь российским менеджерам осознанно подойти к решению вопросов, определяющих ближайшие и отдаленные перспективы; гармонично увязывать перспективы с текущей деятельностью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мет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«Менеджмент» - общепрофессиональная дисциплин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 в учебных планах всех специальностей ИЭи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«Стратегический менеджмент» специальная дисциплин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й курс - лишь в учебном плане специальности «Менеджмен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«Менеджмент» - общепрофессиональная дисциплин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 в учебных планах всех специальностей ИЭи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«Стратегический менеджмент» специальная дисциплин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й курс - лишь в учебном плане специальности «Менеджмент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«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относится к курсам специализации и его позиция в расстановке курсов специальности «Менеджмент» хорошо видна из рису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«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относится к курсам специализации и его позиция в расстановке курсов специальности «Менеджмент» хорошо видна из рисунк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ий менеджмент среди курсов специ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й менеджмент среди курсов специ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ей курса яв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студентам представление о стратегическом управлении в системе менеджмента, стратегическом управлении и конкурентоспособности организации, стратегическом планировании и стратегическом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студентов основам стратегического анализа, в том числе: анализу внешней среды, анализу внутренней среды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тудентов с основами сценарного план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редставление о  миссии, целях, приоритетах коммерческих, некоммерческих и государствен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тудентов с разработкой корпоративной стратегии, стратегий отдельных бизнесов и их системы, а также  стратегий функциональных подсистем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редставление о реализации стратегии и эффективности стратегическ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ей курса явля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студентам представление о стратегическом управлении в системе менеджмента, стратегическом управлении и конкурентоспособности организации, стратегическом планировании и стратегическом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ить студентов основам стратегического анализа, в том числе: анализу внешней среды, анализу внутренней среды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комить студентов с основами сценарного пла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представление о  миссии, целях, приоритетах коммерческих, некоммерческих и государственны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комить студентов с разработкой корпоративной стратегии, стратегий отдельных бизнесов и их системы, а также  стратегий функциональных подсистем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представление о реализации стратегии и эффективности стратегическ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 с другими предме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данной дисциплины целесообразно начинать после прохождения курсов "Менеджмент”, “Финансовый менеджмент”, “Маркетинг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с другими предме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данной дисциплины целесообразно начинать после прохождения курсов "Менеджмент”, “Финансовый менеджмент”, “Маркетинг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чебных пла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пециальности 061100 "Стратегический  менеджмент" отнесен к категории специальных экономических дисциплин. Изучается в 7 и 8 семестрах Общий объем курса 130 часов (85 аудиторных). Итоговая форма контроля - экзам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правления 521500 "Менеджмент",  квалификация - бакалавр менеджмента "Стратегический  менеджмент"  включен в рекомендуемые    УМО    специальные    дисциплины    направления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учебным планом специальности 060800  «экономист-менеджер»",  "Стратегический  менеджмент"  включен в рекомендуемые    УМО    специальные    дисциплины    направле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учебным планом специальности 060500 Бухгалтерский учет, анализ и аудит  "Стратегический  менеджмент" включен в состав общего курса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учебных план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 061100 "Стратегический  менеджмент" отнесен к категории специальных экономических дисциплин. Изучается в 7 и 8 семестрах Общий объем курса 130 часов (85 аудиторных). Итоговая форма контроля - экзам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аправления 521500 "Менеджмент",  квалификация - бакалавр менеджмента "Стратегический  менеджмент"  включен в рекомендуемые    УМО    специальные    дисциплины    направления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800  «экономист-менеджер»",  "Стратегический  менеджмент"  включен в рекомендуемые    УМО    специальные    дисциплины    направлен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500 Бухгалтерский учет, анализ и аудит  "Стратегический  менеджмент" включен в состав общего курса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 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 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 Введение в «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Стратегическое управление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1.Исходные предст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2.Исходные опред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3.Стратегический аспект в управлении организ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Стратегическое управление и конкурентоспособность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1. Конкуренция в бизне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2. Конкурентные преиму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3. Базовые конкурентные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4. Цепь создания ценности (Value Chai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5. Характеристики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Стратегическое планирование и стратегический 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1. Первичная концепция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2. Переход от стратегического планирования к стратегическому менеджмен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3. Изменение ментальности: вместо политики «от прошлого — к будущему» — политика «от будущего — к настоящем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 Введение в «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 Стратегическое управление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1.Исходные предст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2.Исходные опред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3.Стратегический аспект в управлении организ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 Стратегическое управление и конкурентоспособность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1. Конкуренция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2. Конкурентные преиму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3. Базовые конкурентные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4. Цепь создания ценности (Value Ch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5. Характеристики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 Стратегическое планирование и стратегический менедж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1. Первичная концепция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2. Переход от стратегического планирования к стратегическому менеджмен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3. Изменение ментальности: вместо политики «от прошлого — к будущему» — политика «от будущего — к настоящем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 Стратег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Анализ внешн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1. SWOT-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2. PEST-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3. Многофакторный системный анали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Анализ внутренней среды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1. Значение стратегического анализа внутренн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2. SNW-подход к анализу внутренн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3. Модель стратегического состояния организации (стратегический ку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Сценарное план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1. Первичное предст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3. Восемь шагов метод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Миссия, цели,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1. Определение ми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2. Цели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3. Стратегические целевы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 Стратег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 Анализ внешне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. SWOT-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2. PEST-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3. Многофакторный системный анали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 Анализ внутренней среды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1. Значение стратегического анализа внутренне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. SNW-подход к анализу внутренн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3. Модель стратегического состояния организации (стратегический ку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 Сценарное план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. Первичное предста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3. Восемь шагов метод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 Миссия, цели, приорит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. Определение ми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2. Цел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3. Стратегические целевые приорит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 Разработка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1. Продуктово-маркетинговая страте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1.1. Базовые конкурентные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 Разработка стратегий отдельных бизнесов и их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1. Стратегия организации — система бизнес-страте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2. Бизнес-стратегия: типовые варианты и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3. Классификация стратегий по функциональным направлениям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3. Система бизнес-стратегий: типовы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4. Стратегия системы бизнесов и стратегическая сине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 Разработка стратегий функциональных под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1. Производственная страте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2. Стратегия управления персона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3. Финансовая страте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4. Многообразие функциональных страте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4.  Теория ресурсной б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5. Стержневые компет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 Органичное развитие корпоративной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1. Полифония стратеги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2. Разумная достаточность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3. Пирамида разработки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 Разработка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. Продуктово-маркетинговая страте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.1. Базовые конкурентные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 Разработка стратегий отдельных бизнесов и их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1. Стратегия организации — система бизнес-страте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2. Бизнес-стратегия: типовые варианты и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3. Классификация стратегий по функциональным направлениям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3. Система бизнес-стратегий: типовые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4. Стратегия системы бизнесов и стратегическая синер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 Разработка стратегий функциональных под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1. Производственная страте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2. Стратегия управления персона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3. Финансовая стратег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4. Многообразие функциональных страте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4.  Теория ресурсной б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5. Стержневые компет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 Органичное развитие корпоративной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1. Полифония стратегии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2. Разумная достаточность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3. Пирамида разработки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 От выполнения долгосрочного плана — к реализации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1 Существенные отлич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2. Основные этапы цикла ре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Стратегическ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1. Система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2. Лидирующие стратегические из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3. Органичность стратегических изме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 Управление процессом реализации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1. Концептуальные под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2. Реализация стратегии и получение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3. Программа конкрет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 От выполнения долгосрочного плана — к реализации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1 Существенные отли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2. Основные этапы цикла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Стратегическ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1. Система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2. Лидирующие стратегические изме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3. Органичность стратегических измен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Управление процессом реализации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1. Концептуальные под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2. Реализация стратегии и получение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3. Программа конкрет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. Эффективность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 Эффективность стратег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1 Сущность стратегической эффе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2. Стратегическая 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 Стратегический контрол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1. Функции стратегического контрол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2. Стратегический и тактический контрол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 От стратегии к программе развит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1. Схемы пере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2. Стратегические у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 Конкуренция за будущее как новая парадигма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1. Конкуренция за будущее: стратегический фа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2. Новая парадигма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5. Как поставить стратегический 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5.2. Задачи и функции подразделения стратегическо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Эффективность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. Эффективность стратег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.1 Сущность стратегической эффекти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.2. Стратегическая рефлек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. Стратегический контрол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.1. Функции стратегического контрол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.2. Стратегический и тактический контроли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. От стратегии к программе развития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.1. Схемы пере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.2. Стратегические у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. Конкуренция за будущее как новая парадигма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.1. Конкуренция за будущее: стратегический факт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.2. Новая парадигма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5. Как поставить стратегический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5.2. Задачи и функции подразделения стратегическо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о важных отличий этой дисципл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адлежность к блоку специализации, следовательно гораздо большая гибкость, как по содержанию, так и по объему в зависимости от конкретной специ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аздо больший разброс подходов к дисциплине, как в ее понимании, так и в оценке ее необход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ьший объ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увязки с другими специальными дисциплинами (в нашем случае Финансовый менеджмент, Исследование систем управления, Теория организации, Организационное поведение, Стратегический менеджмент, Управление качеством, Разработка управленческого решения, Информационные технологии управления, Инновационный менеджмент, Управление персоналом 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олько важных отличий этой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адлежность к блоку специализации, следовательно гораздо большая гибкость, как по содержанию, так и по объему в зависимости от конкретной специ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аздо больший разброс подходов к дисциплине, как в ее понимании, так и в оценке ее необходим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й объ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увязки с другими специальными дисциплинами (в нашем случае Финансовый менеджмент, Исследование систем управления, Теория организации, Организационное поведение, Стратегический менеджмент, Управление качеством, Разработка управленческого решения, Информационные технологии управления, Инновационный менеджмент, Управление персоналом 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– последний 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модуляризации здесь будут решаться по-друго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подтем (теория ресурсной базы, сценарное планирование и др.) могут быть как включены, так и выключены из рассмотрения, что позволяет варьировать объемом курса в более широких предел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 курс может быть включен как составная часть вместе с другими курсами в некоторый общий модуль специ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– последний вопро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модуляризации здесь будут решаться по-другому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яд подтем (теория ресурсной базы, сценарное планирование и др.) могут быть как включены, так и выключены из рассмотрения, что позволяет варьировать объемом курса в более широких предел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 курс может быть включен как составная часть вместе с другими курсами в некоторый общий модуль специ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урс 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щие с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урс 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бщие с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ся специальност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0500 Бухгалтерский учет, анализ и аудит – включает описания специальных дисципл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0800  «экономист-менеджер» - отличается методическим подхо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1100 - "Менеджмент организации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521500 “Менеджмент» (Бакалавреа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ается специальност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60500 Бухгалтерский учет, анализ и аудит – включает описания специальных дисцип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60800  «экономист-менеджер» - отличается методическим подхо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61100 - "Менеджмент организации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521500 “Менеджмент» (Бакалавреа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специальности 060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основного ядра предм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ление со специальными темами: антикризисный, стратегический, ситуационный, финансовый менеджмент,  менеджмент персонала,  управление рисками, антикризисное управление, управление внешнеэкономическими связ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 специальности 060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основного ядра предм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ление со специальными темами: антикризисный, стратегический, ситуационный, финансовый менеджмент,  менеджмент персонала,  управление рисками, антикризисное управление, управление внешнеэкономическими связ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B1E9-986B-4FD3-9CE3-D5B31354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D00A-AE9B-483B-AE09-DADD6090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313-7446-4650-BCA7-90837308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67D-B974-4AAA-8717-BA4B2F0B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1243-EFAC-4FD9-8F97-3AC9B7A0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9EBE-2D30-40C6-917E-E48A44C2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6DD9-DC45-41F0-A741-C32F40F1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3286-A344-4DE0-8719-8761AF12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F417-B214-4F5B-896D-4B2CC230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207B-857D-4169-87F5-CFFD0E34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90CB-A0FE-4ADD-9F93-76B004D5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C83-F237-4247-86DD-143941F3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8E4A-5BD6-4FC4-A840-3729740E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A1E9-C85A-4106-A059-EB6C0657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16EF-A6CD-42D2-A334-DF590ACE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B3F9-D956-424D-B8F3-4A36C434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B1B8-A339-48D2-BD76-DDEECA69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A1A-20D7-4AD0-8935-A90493E2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95B-74EF-45E4-A73E-049EF4B9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7C4-7C73-41D0-9AEC-4266CB69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7424-0BB8-4E7C-9CE7-F0BE2D8B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09CE-2FA4-4F6F-967E-32A2E36B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54E-83F7-4E02-862A-26B22630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F38-81C7-46A0-A162-863C078E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A261-ABE6-432D-9C95-3808FBC539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BEB7-769A-4C22-8295-CBC114614D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«Менеджмент организации»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едставление двух курсов спе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андарты специальностей 060800  и 061100 (521500),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хожи в своей основе,  но различаются методически, отражая разные научные школы разработчиков этих стандартов (ИнжЭконУниверситет, СПб 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АУ им. Орджоникидзе, Москва, соответственно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делим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асным цветом общие для всех программ пози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еленым цветом – темы специализ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0500 </a:t>
            </a:r>
            <a:r>
              <a:rPr b="0" i="1" lang="ru-RU" sz="2800" spc="-1" strike="noStrike">
                <a:solidFill>
                  <a:srgbClr val="330066"/>
                </a:solidFill>
                <a:latin typeface="Arial"/>
              </a:rPr>
              <a:t>Бухгалтерский учет, анализ и аудит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Состояние управления современной российской макро- и микроэкономикой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необходимость совершенствования организации управле­ния в Росси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собое значение антикризисного менеджмент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понятие, сущность, цели, значение, технологии, общие и специальные функции менеджмента как вида деятельност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иды менеджмент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опыт менеджмента за рубежом; возможности и пути использования его в Росси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цели и система управления предприятиям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построение организационных структур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организационный менеджмент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етоды обоснования бизнес-планов предприятий и их мониторинг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внутрен­няя и внешняя среда предприятия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коммуникационный менеджмент; система информационных коммуникаций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стратегический менеджмент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ситуационный менеджмент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финансовый менеджмент, его роль в системе современного менеджмент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менеджмент персонала, ос­новные качества менеджера, особенности его работы;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этика делового общения, </a:t>
            </a: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управление конфликтами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 психология менеджмента, кор­поративная культура и </a:t>
            </a: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организационное поведение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система мотива­ций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 контроль и контроллинг, управление рисками, антикризисное управление, особенности управления внешнеэкономическими связя­м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пути повышения эффективности менеджмент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330066"/>
                </a:solidFill>
                <a:latin typeface="Arial"/>
              </a:rPr>
              <a:t>Специальность 060500 </a:t>
            </a:r>
            <a:r>
              <a:rPr b="0" i="1" lang="ru-RU" sz="3200" spc="-1" strike="noStrike">
                <a:solidFill>
                  <a:srgbClr val="330066"/>
                </a:solidFill>
                <a:latin typeface="Arial"/>
              </a:rPr>
              <a:t>Бухгалтерский учет, анализ и аудит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468360" y="1700280"/>
          <a:ext cx="822960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0800  «экономист-менеджер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Потребность и необходимость управления в дея­тельности человека. Менеджмент в системе понятий рыночной экономик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Эволюция менеджмента: условия и предпосылки возникновения менеджмента, школы менеджмент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8000"/>
                </a:solidFill>
                <a:latin typeface="Arial"/>
              </a:rPr>
              <a:t>Особенности российского менеджме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Интеграционные процессы в менеджменте. Внеш­няя и внутренняя среда организации. Факторы прямого и косвенного воздейств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Системы менеджмента: функции и организацион­ные структур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Процессы управления: целеполагание и оценка ситуации, принятие управленческих решени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еханизмы менеджмента: средства и методы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иверсификация менеджмента, типология и выбор альтернатив эффективного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Экономика и социология управления персоналом и формирование человеческого капитала. Личность менеджер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Лидерство и стиль управления. Власть и партнерств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Групповая динамика и разрешение кон­фликтов. Формальное и неформальное управлени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сурсы, 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качество и эффективность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истема информационного обеспечения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Инновационный потенциал менеджмента, профессионализация менеджме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0800  «экономист-менеджер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468360" y="1700280"/>
          <a:ext cx="822960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1100 - "Менеджмент организации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теория управления. Закономерности управления различными системами. Управление социально-экономическими системами (организациям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тодологические основы менеджмен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раструктура менеджмен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офакторы и этика менеджм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ирование ситуаций и разработка реш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рода и состав функций менеджмен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1100</a:t>
            </a:r>
            <a:br>
              <a:rPr sz="3900"/>
            </a:b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(продолжение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ратегические и тактические планы в системе менеджмен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рганизационные отношения в системе менеджмен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 организации системы менеджмен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отивация деятельности в менеджмент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гулирование и контроль в системе менеджмен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инамика групп и лидерство в системе менеджмен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уководство: власть и партнерств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ликтность в менеджмент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акторы эффективности менедж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110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468360" y="1700280"/>
          <a:ext cx="822960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Направление 521500 </a:t>
            </a:r>
            <a:br>
              <a:rPr sz="3900"/>
            </a:b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бакалавр менеджмента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Общая теория упр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кономерности управления различными система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правление социально-экономическими системами (организацией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Концепция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Научные школы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Функции менеджмента (планирование, организация, мотивация, контроль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уктуры системы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вязующие процессы в менеджмент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Человек в системе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ли менеджер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правление организационными изменения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Эффективность и качество управл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Постановка задачи групп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работать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программы пяти курс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Менеджмент»,  «Управление проектами», «Стратегический менеджмент», «Маркетинг» и «Управление персоналом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работать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наполнение этих кур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брав выделенные части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учаем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бщее для всех специальностей ядро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которое может стать основой базового модуля курса «Менеджмен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деленные нами тем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омпонованы в программе курса «Менеджмент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разработка к.э.н., доц. Г.Я.Андреево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едем эти те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971640" y="4581360"/>
            <a:ext cx="7775640" cy="1800360"/>
          </a:xfrm>
          <a:custGeom>
            <a:avLst/>
            <a:gdLst>
              <a:gd name="textAreaLeft" fmla="*/ 0 w 7775640"/>
              <a:gd name="textAreaRight" fmla="*/ 7776000 w 777564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Темы курс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1. Общая теория управления. Закономерности управления различными системам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ибернетические основы управления. Понятия «объект» и «субъект» управления, «управляющее воздействие», «обратная связь», «управляемая» и «управляющая» подсисте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управления. Типы управ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2. Управление социально-экономическими системами (организациями)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ация как объект управ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ационные  элементы и характеристи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сто и содержание процесса управления в организ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обенности управленческого труд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ъекты и субъекты управления в организ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ровни управл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чи и роли менеджер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ипы менеджеров. Требования к менеджер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3. Методологические основы менеджмента. Инфраструктура менеджмента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ходы к определению сущности понятия «менеджмент». Соотношение с понятием «управление». Цели и задачи менеджмента. Взаимосвязь менеджмента с другими наук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, методы и принципы менеджмента. Характеристика объектов менеджмен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. Инфраструктура менеджмен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4.  Этика менеджмента и социальная ответственность организации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этики менеджмента. Критерии принятия этически сложных решен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торы, определяющие этический выбо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социальной ответствен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интересованные в деятельности организации групп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ценка результатов социальной деятель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правление этической и социальной ответственностью организ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Тема 5. Природа и состав функций менеджмента. Цикл управлени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функций менеджмента, их взаимодейств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пределение функций по уровням управл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икл управления и его стад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6. Моделирование ситуаций и разработка решений в менеджменте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держание, значение и типология решений в менеджмент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ебования к управленческим решения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акторы, влияющие на процесс принятия управленческих реше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ходы к принятию реш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ятие проблемной ситуац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ормальные процедуры анализа проблемной ситу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тапы процесса принятия и осуществления управленческого реш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буждение сотрудников к участию в принятии управленческих реш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7.  Планирование как функция менеджмента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держание, цели и задачи внутрифирменного план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ды внутрифирменного планирования, их классификация: по целям; предмету; уровню; содержанию; периодам план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равнительная характеристика стратегических и тактических планов в системе менеджмен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нципы план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планиров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Требования к результатам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согласо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динаковых (сходных) курсов, читаемых на разных специальностях и разным категориям слуш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«модуляризация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урсов: принципы модуляризации, типы модулей, применение к конкретным курс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ботка требований к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дистанционной подач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материала, представление курсов в форме, пригодной для дистанционного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«болонизация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урсов: выработка принципов согласования подходов и кредитовой оценки курсов (модулей, блоков, мейджеров и т.п.) с перспективой взаимозачетов курсов, прослушанных в разных университет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8. Построение организации.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рганизация как процесс, его содержание и назнач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ятие структуры упр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лементы (звенья, связи, уровни) и характеристики (сложность, формализация, централизация, механизмы координации) организационной структур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акторы формирования организационных структур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волюция структур упр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ды структур управления организацие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ценка эффективности структур управления организацие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9. Организация взаимодействия и делегирование полномочий в системе управления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елегирование, полномочия, ответственность: содержание и роль в обеспечении взаимодействия в организ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полномоч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нтрализация и децентрализация задач управл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акторы успешного делегир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0. Мотивация деятельности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и роль мотивации в управлен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равнительный анализ теорий мотив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имость содержательных и процессуальных теорий в управлении организацие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а мотивации персонала в организ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Тема 11. Контроль и регулирование в системе менеджмента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и содержание функций контроля и регулиро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и формы контроля и регулиро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цесс контроля и регулиро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бования к организации контро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2. Коммуникации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, сущность и роль коммуникаций в менеджмент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уктура процесса коммуникаций: элементы и эта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пы результатов (эффект) коммуник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ум в процессе коммуник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пы коммуникационных сетей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муникационные рол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муникационные сти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3. Групповая динамика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 груп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альные и неформальные груп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енезис и развитие груп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рмативное поведение в групп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упповая сплочен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акторы, влияющие на эффективность работы групп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4. Власть и влияни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 вла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видов вла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чники власти в организ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дель влияния руководителя на подчиненног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собы управленческого влияния на подчинен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5. Лидерство в системе менеджмент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лидерства. Составляющие лидерства. Основные подходы к трактовке лидер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дер и менеджер, их характеристики и отлич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ходы к изучению лидерства. Теория лидерских качеств. Концепции лидерского поведения. Концепции ситуационного лидерств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вое в теориях лидер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6. Конфликтность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фликт и его природа в организ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уктура конфлик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икл конфлик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емы прерывания конфлик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ые типы поведения в конфликтной ситу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ровни конфликта в организации и их источни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ктические навыки управления конфликтами различных уровн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7. Эффективность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 Способы оценки эффективности менеджмента организ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Первый этап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азработка программы двух курсов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енеджмент» и «Стратегический 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673200" y="1935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8. История менеджмента.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ловия и факторы возникновения и развития менеджмента. Истоки возникновения менеджмента. Этапы и школы в истории менеджмен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нообразие моделей менеджмента: американский, японский, европейский и др. Влияние национально-исторических факторов на развитие менеджмен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управления в Росс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ременная система взглядов на менеджмен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спективы менеджмента: возможное и вероятн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ы видим, что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деленное нами ядро курса «Менеджмент», общее для всех специальностей ИЭиУ полностью  покрывается этой программ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чень приведенных тем в достаточной степени исчерпывает проблематику классического менеджмента в его традиционном изложен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этому, на наш взгляд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менно этот перечень может быть взят в качестве устойчивого ядра курса «Менеджмент» как для всех специальностей ИЭиУ, так и для различных форм обучения – дневная, заочная, экстернат, дистанционное обучение.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нечно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различных специальносте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эти центральные части будут различаться объемом выделяемых на них часов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рамках специальности «Менеджмент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зным будет соотношение часов на лекции, практические занятия и самостоятельную работ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бщий объем курс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 этом составляет 300 часов для очного обучения, 268 часов для заочного и 250 часов для бакалавре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700" spc="-1" strike="noStrike">
                <a:solidFill>
                  <a:srgbClr val="330066"/>
                </a:solidFill>
                <a:latin typeface="Arial"/>
              </a:rPr>
              <a:t>Модуляризация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варительное обсуждение и ознакомление с материалами наших немецких коллег </a:t>
            </a: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позволяет выделить несколько возможных направлений движения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1-е напр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Большие – в пределах 250-350 часов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блоки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онцентрирующие содержание одной (чаще – фундаментальной)  или нескольких взаимоувязанных и взаимодополняющих (чаще – специальных) дисципли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Организационно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дход </a:t>
            </a: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удобен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 для приглашенных профессоро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имеющих возможность вычитать свой курс за 1-2 семестра и отбыть к следующему месту работ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привычен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 для европейской практик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</a:t>
            </a: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может создавать определенные трудности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 студента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либо вынужденных 2-3 года ждать необходимого им курса, либо ехать за этим курсом в другое учебное заведение.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таком формате естественно глядятся авторские курсы, нетрадиционные подходы, рассмотрение новых, спорных вопрос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2-е напр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ормирование адаптированного для конкретного заказчика содержания </a:t>
            </a:r>
            <a:r>
              <a:rPr b="0" lang="ru-RU" sz="2500" spc="-1" strike="noStrike">
                <a:solidFill>
                  <a:srgbClr val="008000"/>
                </a:solidFill>
                <a:latin typeface="Arial"/>
              </a:rPr>
              <a:t>курса из нескольких (нескольких десятков)  модулей – тем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 какой-то мере этот подход уже реализован в учебном плане специальности 060800 ИЭиУ. Здесь выделена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базовая ча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– «менеджмент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», общая для всех специализаций и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переменная ча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«менеджмент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»,  варьируемая для трех специализаций –  строительства, машиностроения и транспорт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дход обеспечивает </a:t>
            </a:r>
            <a:r>
              <a:rPr b="0" lang="ru-RU" sz="2500" spc="-1" strike="noStrike">
                <a:solidFill>
                  <a:srgbClr val="008000"/>
                </a:solidFill>
                <a:latin typeface="Arial"/>
              </a:rPr>
              <a:t>большую взаимозаменяемость преподавател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500" spc="-1" strike="noStrike">
                <a:solidFill>
                  <a:srgbClr val="008000"/>
                </a:solidFill>
                <a:latin typeface="Arial"/>
              </a:rPr>
              <a:t>большие удобства для слушател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 нашем случае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ы видим достаточно тесную увязку следующих друг за другом тем и практическое отсутствие тем факультативны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им образом, напрашивается представление курса «Менеджмент»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в виде единого макромодуля полным объемом до 300 час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для специальности «Менеджмент»), с возможностью сокращения до 100 часов (для других специальностей и специальных программ) за счет второстепенных вопросов в каждой тем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0066"/>
                </a:solidFill>
                <a:latin typeface="Arial"/>
              </a:rPr>
              <a:t>Представление курса для дистанционного обучени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большой степени зависит от рекомендованной программной оболочки, поэтому вернемся к этому вопросу позже, после выбора такой оболоч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ocuments"/>
          <p:cNvSpPr/>
          <p:nvPr/>
        </p:nvSpPr>
        <p:spPr>
          <a:xfrm>
            <a:off x="1332000" y="1341360"/>
            <a:ext cx="5472000" cy="4103640"/>
          </a:xfrm>
          <a:custGeom>
            <a:avLst/>
            <a:gdLst>
              <a:gd name="textAreaLeft" fmla="*/ 416520 w 5472000"/>
              <a:gd name="textAreaRight" fmla="*/ 4185720 w 5472000"/>
              <a:gd name="textAreaTop" fmla="*/ 792360 h 4103640"/>
              <a:gd name="textAreaBottom" fmla="*/ 32893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00ffff">
              <a:alpha val="5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атегическое упр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омпаниях и на предприятиях современной России переживает стадию зарождения и первоначального развит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ет помочь российским менеджерам осознанно подойти к решению вопросов, определяющих ближайшие и отдаленные перспективы; гармонично увязывать перспективы с текущей деятельностью фир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метим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рс «Менеджмент» -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общепрофессиональная дисциплин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ставлен в учебных планах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е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пециальностей ИЭи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рс «Стратегический менеджмент»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специальная дисциплина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дельный курс - лишь в учебном плане специальности «Менеджмент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Курс «Стратегический менеджмент»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рс относится к курсам специализации и его позиция в расстановке курсов специальности «Менеджмент» хорошо видна из рисунк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атегический менеджмент среди курсов специализа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" y="1719360"/>
          <a:ext cx="8255160" cy="5211720"/>
        </p:xfrm>
        <a:graphic>
          <a:graphicData uri="http://schemas.openxmlformats.org/drawingml/2006/table">
            <a:tbl>
              <a:tblPr/>
              <a:tblGrid>
                <a:gridCol w="2053440"/>
                <a:gridCol w="356760"/>
                <a:gridCol w="700920"/>
                <a:gridCol w="702360"/>
                <a:gridCol w="355320"/>
                <a:gridCol w="529920"/>
                <a:gridCol w="461520"/>
                <a:gridCol w="588240"/>
                <a:gridCol w="702720"/>
                <a:gridCol w="393120"/>
                <a:gridCol w="664560"/>
                <a:gridCol w="218880"/>
                <a:gridCol w="527400"/>
              </a:tblGrid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семес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Д 10 Менеджмент 306/1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Д 11 Маркетинг 120/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12 Финансовый менеджмент 120/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1 Исследование систем управления 80/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2 Теория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3 Организационное поведение 80/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4 Стратегический менеджмент 130/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7 Управление качеством 80/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Задачей курса является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ать студентам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представление о стратегическом управлени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 системе менеджмента, стратегическом управлении и конкурентоспособности организации, стратегическом планировании и стратегическом менеджмент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учить студентов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основам стратегического анализ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в том числе: анализу внешней среды, анализу внутренней среды организац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знакомить студентов с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основами сценарного планирован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ать представление о 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миссии, целях, приоритета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коммерческих, некоммерческих и государственных организац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знакомить студентов с разработкой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корпоративной стратеги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стратегий отдельных бизнесов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 их системы, а также 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стратегий функциональных подсистем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рганиз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ать представление о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реализаци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тратегии и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эффективност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тратегического управ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вязь с другими предмета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е данной дисциплины целесообразно начинать после прохождения курсов "Менеджмент”, “Финансовый менеджмент”, “Маркетинг”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гласно учебных планов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специальности 061100 "Стратегический  менеджмент" отнесен к категории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пециальных экономических дисципли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Изучается в 7 и 8 семестрах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Общий объем курса 130 часов (85 аудиторных). Итоговая форма контроля - экзаме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направления 521500 "Менеджмент",  квалификация - бакалавр менеджмента "Стратегический  менеджмент"  включен в рекомендуемые    УМО   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пециальные    дисциплины    направления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800  «экономист-менеджер»",  "Стратегический  менеджмент"  включен в рекомендуемые    УМО   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пециальные    дисциплины    направления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500 Бухгалтерский учет, анализ и аудит  "Стратегический  менеджмент" включен в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остав общего курса менеджмен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0066"/>
                </a:solidFill>
                <a:latin typeface="Arial"/>
              </a:rPr>
              <a:t>Темы курс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« Стратегический менеджмент»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1 Введение в «Стратегическое управлени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.1. Стратегическое управление в системе менеджмен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1.1.Исходные предста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1.2.Исходные опреде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1.3.Стратегический аспект в управлении организаци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.2. Стратегическое управление и конкурентоспособность организ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1. Конкуренция в бизнес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2. Конкурентные преимуще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3. Базовые конкурентные стратег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4. Цепь создания ценности (Value Chain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5. Характеристики эффективной стратег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.3. Стратегическое планирование и стратегический менеджмен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3.1. Первичная концепция стратегического упра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3.2. Переход от стратегического планирования к стратегическому менеджмент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3.3. Изменение ментальности: вместо политики «от прошлого — к будущему» — политика «от будущего — к настоящему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2 Стратегический анализ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1. Анализ внешней сре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1.1. SWOT-анали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1.2. PEST-анали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1.3. Многофакторный системный анализ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2. Анализ внутренней среды организ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2.1. Значение стратегического анализа внутренней сре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2.2. SNW-подход к анализу внутренних ресурс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2.3. Модель стратегического состояния организации (стратегический куб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3. Сценарное планирова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3.1. Первичное представле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3.3. Восемь шагов методик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4. Миссия, цели, приорите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4.1. Определение мисс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4.2. Цели организ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4.3. Стратегические целевые приорите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3 Разработка стратеги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1. Продуктов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ркетинговая стратег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1.1. Базовые конкурентные стратег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2. Разработка стратегий отдельных бизнесов и их систем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1. Стратегия организации — система бизнес-стратег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2. Бизнес-стратегия: типовые варианты и ситу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3. Классификация стратегий по функциональным направлениям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3. Система бизнес-стратегий: типовые модел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4. Стратегия системы бизнесов и стратегическая синерг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3. Разработка стратегий функциональных подсист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1. Производственная стратег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2. Стратегия управления персонал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3. Финансовая стратег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4. Многообразие функциональных стратег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4.  Теория ресурсной баз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5. Стержневые компетенц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6. Органичное развитие корпоративной стратег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6.1. Полифония стратегии организац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6.2. Разумная достаточность стратег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6.3. Пирамида разработки стратег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4. . </a:t>
            </a:r>
            <a:br>
              <a:rPr sz="3500"/>
            </a:b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Реализация стратегии</a:t>
            </a: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.1. От выполнения долгосрочного плана — к реализации стратег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1.1 Существенные отлич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1.2. Основные этапы цикла реализ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.2. Стратегические измен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2.1. Система стратегических измен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2.2. Лидирующие стратегические измен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2.3. Органичность стратегических измен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.3. Управление процессом реализации стратегических измен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3.1. Концептуальные подход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3.2. Реализация стратегии и получение информ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3.3. Программа конкретных действ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ocuments"/>
          <p:cNvSpPr/>
          <p:nvPr/>
        </p:nvSpPr>
        <p:spPr>
          <a:xfrm>
            <a:off x="1332000" y="1341360"/>
            <a:ext cx="5472000" cy="4103640"/>
          </a:xfrm>
          <a:custGeom>
            <a:avLst/>
            <a:gdLst>
              <a:gd name="textAreaLeft" fmla="*/ 416520 w 5472000"/>
              <a:gd name="textAreaRight" fmla="*/ 4185720 w 5472000"/>
              <a:gd name="textAreaTop" fmla="*/ 792360 h 4103640"/>
              <a:gd name="textAreaBottom" fmla="*/ 32893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00ffff">
              <a:alpha val="5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5. Эффективность стратегического управления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1. Эффективность стратегического менеджмен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1.1 Сущность стратегической эффектив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1.2. Стратегическая рефлекс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2. Стратегический контролинг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2.1. Функции стратегического контролинг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2.2. Стратегический и тактический контролин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3. От стратегии к программе развития организ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3.1. Схемы переход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3.2. Стратегические указ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4. Конкуренция за будущее как новая парадигма стратег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4.1. Конкуренция за будущее: стратегический факто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4.2. Новая парадигма стратег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5. Как поставить стратегический менеджмен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5.2. Задачи и функции подразделения стратегического развит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Несколько важных отличий этой дисциплины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надлежность к блоку специализ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ледовательно гораздо большая гибкость, как по содержанию, так и по объему в зависимости от конкретной специализ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аздо больши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зброс подход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дисциплине, как в ее понимании, так и в оценке ее необходим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ньший объ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обходимость увяз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другими специальными дисциплинами (в нашем случае Финансовый менеджмент, Исследование систем управления, Теория организации, Организационное поведение, Стратегический менеджмент, Управление качеством, Разработка управленческого решения, Информационные технологии управления, Инновационный менеджмент, Управление персоналом 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 – последний вопрос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Вопросы модуляриз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десь будут решаться по-другому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яд подтем (теория ресурсной базы, сценарное планирование и др.) могут быть как включены, так и выключены из рассмотрения, что позволяет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варьировать объемом курса в более широких предела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м курс может быть включен как составная часть вместе с другими курсами в некоторый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бщий модуль специализации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Курс «Менеджмент»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ие с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зучается специальностя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60500 Бухгалтерский учет, анализ и аудит – 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включает описания специальных дисципл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60800  «экономист-менеджер» - 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отличается методическим подход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61100 - "Менеджмент организации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авление 521500 “Менеджмент» (Бакалавреат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андарт специальности 06050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е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основного ядр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редме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знакомление со </a:t>
            </a: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специальными тема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 антикризисный, стратегический, ситуационный, финансовый менеджмент,  менеджмент персонала,  управление рисками, антикризисное управление, управление внешнеэкономическими связя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13:04:38Z</dcterms:created>
  <dc:creator>sw</dc:creator>
  <dc:description/>
  <dc:language>en-US</dc:language>
  <cp:lastModifiedBy>LEGION</cp:lastModifiedBy>
  <dcterms:modified xsi:type="dcterms:W3CDTF">2016-01-11T10:02:11Z</dcterms:modified>
  <cp:revision>18</cp:revision>
  <dc:subject/>
  <dc:title>«Менеджмент организации»</dc:title>
</cp:coreProperties>
</file>