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0BA7-428D-4620-980D-6AFCC833BEF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неджмент организац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двух курсов специа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 организац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 двух курсов специ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специальностей 060800  и 061100 (521500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хожи в своей основе,  но различаются методически, отражая разные научные школы разработчиков этих стандартов (ИнжЭконУниверситет, СПб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У им. Орджоникидзе, Москва, соответственн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дарты специальностей 060800  и 061100 (521500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хожи в своей основе,  но различаются методически, отражая разные научные школы разработчиков этих стандартов (ИнжЭконУниверситет, СПб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У им. Орджоникидзе, Москва, соответственно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м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ым цветом общие для всех программ поз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леным цветом – темы специ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м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ым цветом общие для всех программ поз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леным цветом – темы специ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060500 Бухгалтерский учет, анализ и ау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управления современной российской макро- и микроэкономи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ь совершенствования организации управле­ния в Росс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 значение антикризисного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, сущность, цели, значение, технологии, общие и специальные функции менеджмента как вида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менеджмента за рубежом; возможности и пути использования его в Росс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система управления предприяти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ие организационных структу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й менеджмен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обоснования бизнес-планов предприятий и их мониторинг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­няя и внешняя среда предприят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ционный менеджмент; система информационных коммуникац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ий менеджмен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онный менеджмен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менеджмент, его роль в системе современного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персонала, ос­новные качества менеджера, особенности его рабо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ка делового общения, управление конфликтами, психология менеджмента, кор­поративная культура и организационное поведе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мотива­ций, контроль и контроллинг, управление рисками, антикризисное управление, особенности управления внешнеэкономическими связя­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повышения эффективности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060500 Бухгалтерский учет, анализ и ауд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управления современной российской макро- и микроэкономик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совершенствования организации управле­ния в Росс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е значение антикризисного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, сущность, цели, значение, технологии, общие и специальные функции менеджмента как вида деятель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менеджмента за рубежом; возможности и пути использования его в Росс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система управления предприяти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организационных структур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й менеджмент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обоснования бизнес-планов предприятий и их мониторинг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­няя и внешняя среда предприят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ый менеджмент; система информационных коммуникац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ий менеджмент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туационный менеджмент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менеджмент, его роль в системе современного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персонала, ос­новные качества менеджера, особенности его рабо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ка делового общения, управление конфликтами, психология менеджмента, кор­поративная культура и организационное поведен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мотива­ций, контроль и контроллинг, управление рисками, антикризисное управление, особенности управления внешнеэкономическими связя­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060500 Бухгалтерский учет, анализ и ау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060500 Бухгалтерский учет, анализ и ауд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060800  «экономист-менедже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ность и необходимость управления в дея­тельности человека. Менеджмент в системе понятий рыночной эконом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я менеджмента: условия и предпосылки возникновения менеджмента, школы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российского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онные процессы в менеджменте. Внеш­няя и внутренняя среда организации. Факторы прямого и косвенн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менеджмента: функции и организацион­ные струк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ы управления: целеполагание и оценка ситуации, принятие управленческих реш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 менеджмента: средства и методы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менеджмента, типология и выбор альтернатив эффективного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и социология управления персоналом и формирование человеческого капитала. Личность менедж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ство и стиль управления. Власть и партнер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ая динамика и разрешение кон­фликтов. Формальное и неформальное управл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, качество и эффективность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информационного обеспечения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новационный потенциал менеджмента, профессионализация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060800  «экономист-менедже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ность и необходимость управления в дея­тельности человека. Менеджмент в системе понятий рыночн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волюция менеджмента: условия и предпосылки возникновения менеджмента, школы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российского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онные процессы в менеджменте. Внеш­няя и внутренняя среда организации. Факторы прямого и косвенного воз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менеджмента: функции и организацион­ные 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ы управления: целеполагание и оценка ситуации, принятие управленческих ре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менеджмента: средства и методы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ерсификация менеджмента, типология и выбор альтернатив эффективного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и социология управления персоналом и формирование человеческого капитала. Личность менедже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дерство и стиль управления. Власть и партнерств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овая динамика и разрешение кон­фликтов. Формальное и неформальное управл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урсы, качество и эффективность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нформационного обеспечения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ый потенциал менеджмента, профессионализация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ециальность 060800  «экономист-менедже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ециальность 060800  «экономист-менедже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061100 - "Менеджмент орган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теория управления. Закономерности управления различными системами. Управление социально-экономическими системами (организациям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ческие основы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факторы и этика менеджмен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онные процессы в менеджмен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рование ситуаций и разработка реш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и состав функций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061100 - "Менеджмент орган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теория управления. Закономерности управления различными системами. Управление социально-экономическими системами (организациям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ческие основы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офакторы и этика менеджмен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онные процессы в менеджмент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рование ситуаций и разработка решен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 и состав функций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06110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ие и тактические планы в системе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отношения в системе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организации системы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тивация деятельности в менеджмен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и контроль в системе менеджмен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групп и лидерство в системе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человеком и управление групп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ство: власть и партнерств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менеджмента и имидж (образ) менедже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ликтность в менеджмен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эффективности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06110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ие и тактические планы в системе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е отношения в системе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организации системы менеджмен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деятельности в менеджмент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ование и контроль в системе менеджмен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намика групп и лидерство в системе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человеком и управление группо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ство: власть и партнерство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ль менеджмента и имидж (образ) менеджер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ликтность в менеджмент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эффективности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ециальность 061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ециальность 061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е 521500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алавр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теория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управления различными систе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социально-экономическими системами (организацие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е школы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менеджмента (планирование, организация, мотивация, контрол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ы системы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ующие процессы в менеджмен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в системе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и менедж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организационными измене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и качество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е 521500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калавр менеджмен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теория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управления различными систем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социально-экономическими системами (организацией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ые школы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менеджмента (планирование, организация, мотивация, контроль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ы системы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ующие процессы в менеджмен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в системе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и менедже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организационными изменен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и качество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ка задачи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ть программы пяти кур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неджмент»,  «Управление проектами», «Стратегический менеджмент», «Маркетинг» и «Управление персоналом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ть наполнение этих к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ка задачи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ть программы пяти курс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»,  «Управление проектами», «Стратегический менеджмент», «Маркетинг» и «Управление персоналом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ть наполнение этих к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рав выделенные част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аем общее для всех специальностей ядро,  которое может стать основой базового модуля курса «Менеджмен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рав выделенные част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ем общее для всех специальностей ядро,  которое может стать основой базового модуля курса «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ные нами 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мпонованы в программе курса «Менеджмент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азработка к.э.н., доц. Г.Я.Андреев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м эти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ные нами 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мпонованы в программе курса «Менеджмент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зработка к.э.н., доц. Г.Я.Андреев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ем эти 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ы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енеджмен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м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 Общая теория управления. Закономерности управления различными систе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бернетические основы управления. Понятия «объект» и «субъект» управления, «управляющее воздействие», «обратная связь», «управляемая» и «управляющая» под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управления. Типы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Общая теория управления. Закономерности управления различными систе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бернетические основы управления. Понятия «объект» и «субъект» управления, «управляющее воздействие», «обратная связь», «управляемая» и «управляющая» под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управления. Типы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2. Управление социально-экономическими системами (организациям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как объект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 элементы и характерист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и содержание процесса управления в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управленческого тру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и субъекты управления в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и роли менедже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менеджеров. Требования к менеджер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Управление социально-экономическими системами (организация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как объект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е  элементы и характерист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и содержание процесса управления в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управленческого тру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и субъекты управления в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и роли менедже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менеджеров. Требования к менеджер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3. Методологические основы менеджмента. Инфраструктура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ы к определению сущности понятия «менеджмент». Соотношение с понятием «управление». Цели и задачи менеджмента. Взаимосвязь менеджмента с другими нау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, методы и принципы менеджмента. Характеристика объектов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онные процессы в менеджменте. Инфраструктура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Методологические основы менеджмента. Инфраструктура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ы к определению сущности понятия «менеджмент». Соотношение с понятием «управление». Цели и задачи менеджмента. Взаимосвязь менеджмента с другими нау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, методы и принципы менеджмента. Характеристика объектов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онные процессы в менеджменте. Инфраструктура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4.  Этика менеджмента и социальная ответственность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этики менеджмента. Критерии принятия этически сложных реш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определяющие этический выб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социальной ответств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интересованные в деятельности организации груп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результатов социаль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этической и социальной ответственностью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 Этика менеджмента и социальная ответственность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этики менеджмента. Критерии принятия этически сложных ре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определяющие этический выб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социальной ответств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интересованные в деятельности организации групп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езультатов социальной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этической и социальной ответственностью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5. Природа и состав функций менеджмента. Цикл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функций менеджмента, их взаимодейств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функций по уровням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 управления и его стад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Природа и состав функций менеджмента. Цикл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функций менеджмента, их взаимодейств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ение функций по уровням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управления и его стад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6. Моделирование ситуаций и разработка решений в менедж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, значение и типология решений в менеджмен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управленческим реш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процесс принятия управленческих реш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ы к принятию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облемной ситу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процедуры анализа проблемной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процесса принятия и осуществления управленческого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уждение сотрудников к участию в принятии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Моделирование ситуаций и разработка решений в менедж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, значение и типология решений в менеджмен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 к управленческим решени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процесс принятия управленческих ре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ы к принятию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проблемной ситу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 процедуры анализа проблемной ситу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процесса принятия и осуществления управленческого реш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буждение сотрудников к участию в принятии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7.  Планирование как функция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, цели и задачи внутрифирменного план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нутрифирменного планирования, их классификация: по целям; предмету; уровню; содержанию; периодам план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ая характеристика стратегических и тактических планов в системе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лан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план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 Планирование как функция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, цели и задачи внутрифирменного план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нутрифирменного планирования, их классификация: по целям; предмету; уровню; содержанию; периодам план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тельная характеристика стратегических и тактических планов в системе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лан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пла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результат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ие одинаковых (сходных) курсов, читаемых на разных специальностях и разным категориям слуша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дуляризация» курсов: принципы модуляризации, типы модулей, применение к конкретным кур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требований к дистанционной подаче материала, представление курсов в форме, пригодной для дистанционного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олонизация» курсов: выработка принципов согласования подходов и кредитовой оценки курсов (модулей, блоков, мейджеров и т.п.) с перспективой взаимозачетов курсов, прослушанных в разных университе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 к результат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ание одинаковых (сходных) курсов, читаемых на разных специальностях и разным категориям слуш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одуляризация» курсов: принципы модуляризации, типы модулей, применение к конкретным курс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ка требований к дистанционной подаче материала, представление курсов в форме, пригодной для дистанционного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олонизация» курсов: выработка принципов согласования подходов и кредитовой оценки курсов (модулей, блоков, мейджеров и т.п.) с перспективой взаимозачетов курсов, прослушанных в разных университе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8. Построение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как процесс, его содержание и на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структуры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(звенья, связи, уровни) и характеристики (сложность, формализация, централизация, механизмы координации) организационной струк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формирования организационных структу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я структур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труктур управления организа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структур управления организа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8. Построение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как процесс, его содержание и назна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структуры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(звенья, связи, уровни) и характеристики (сложность, формализация, централизация, механизмы координации) организационной струк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формирования организационных структу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волюция структур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труктур управления организаци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эффективности структур управления организаци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9. Организация взаимодействия и делегирование полномочий в системе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егирование, полномочия, ответственность: содержание и роль в обеспечении взаимодействия в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олномоч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ация и децентрализация задач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успешного делег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9. Организация взаимодействия и делегирование полномочий в системе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егирование, полномочия, ответственность: содержание и роль в обеспечении взаимодействия в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олномоч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ация и децентрализация задач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успешного делег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0. Мотивация деятельности в менедж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и роль мотивации в управл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й анализ теорий мотив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имость содержательных и процессуальных теорий в управлении организа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мотивации персонала в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0. Мотивация деятельности в менедж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и роль мотивации в управле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тельный анализ теорий мотив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имость содержательных и процессуальных теорий в управлении организаци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мотивации персонала в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1. Контроль и регулирование в системе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и содержание функций контроля и регул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 формы контроля и регул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контроля и регул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организации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1. Контроль и регулирование в системе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и содержание функций контроля и регул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 формы контроля и регул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контроля и регул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 к организации 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2. Коммуникации в менедж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, сущность и роль коммуникаций в менеджмен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оцесса коммуникаций: элементы и эта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результатов (эффект) коммуник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ум в процессе коммуник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коммуникационных сете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ционные ро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ционные сти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2. Коммуникации в менедж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, сущность и роль коммуникаций в менеджмен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процесса коммуникаций: элементы и этап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результатов (эффект) коммуник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м в процессе коммуник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коммуникационных сетей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ые ро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ые сти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3. Групповая динам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груп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и неформальные груп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зис и развитие груп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е поведение в групп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ая сплоче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человеком и управление групп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эффективность работы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3. Групповая динам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групп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 и неформальные групп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зис и развитие групп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ое поведение в групп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овая сплочен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человеком и управление групп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эффективность работы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4. Власть и вли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в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идов в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власти в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влияния руководителя на подчинен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управленческого влияния на подчине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4. Власть и влия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вла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видов вла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власти в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влияния руководителя на подчиненн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управленческого влияния на подчине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5. Лидерство в системе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лидерства. Составляющие лидерства. Основные подходы к трактовке лиде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 и менеджер, их характеристики и отлич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менеджмента и имидж (образ) менедж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ы к изучению лидерства. Теория лидерских качеств. Концепции лидерского поведения. Концепции ситуационного лидер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 теориях лиде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5. Лидерство в системе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лидерства. Составляющие лидерства. Основные подходы к трактовке лиде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дер и менеджер, их характеристики и отлич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ль менеджмента и имидж (образ) менедж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ы к изучению лидерства. Теория лидерских качеств. Концепции лидерского поведения. Концепции ситуационного лидер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ое в теориях лиде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6. Конфликтность в менедж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ликт и его природа в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конфли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 конфли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ы прерывания конфли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ипы поведения в конфликтной ситу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конфликта в организации и их источ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е навыки управления конфликтами различных уров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6. Конфликтность в менедж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ликт и его природа в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конфлик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конфлик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ы прерывания конфлик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поведения в конфликтной ситу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конфликта в организации и их источ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е навыки управления конфликтами различных уров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7. Эффективность в менедж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оценки эффективности менеджмента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эффективного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повышения эффективности менеджмента в организации Способы оценки эффективности менеджмента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эффективного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оценки эффективности менеджмента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эффективного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повышения эффективности менеджмента в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повышения эффективности менеджмента в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7. Эффективность в менедж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оценки эффективности менеджмента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эффективного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 в организации Способы оценки эффективности менеджмента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эффективного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оценки эффективности менеджмента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эффективного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 в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 в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программы двух кур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неджмент» и «Стратегический менеджмен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ие одинаковых (сходных) курсов, читаемых на разных специальностях и разным категориям слуша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дуляризация» курсов: принципы модуляризации, типы модулей, применение к конкретным кур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программы двух курс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» и «Стратегический 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ание одинаковых (сходных) курсов, читаемых на разных специальностях и разным категориям слуш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одуляризация» курсов: принципы модуляризации, типы модулей, применение к конкретным курс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8. История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и факторы возникновения и развития менеджмента. Истоки возникновения менеджмента. Этапы и школы в истории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образие моделей менеджмента: американский, японский, европейский и др. Влияние национально-исторических факторов на развитие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управления в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система взглядов на менедж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менеджмента: возможное и вероят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8. История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и факторы возникновения и развития менеджмента. Истоки возникновения менеджмента. Этапы и школы в истории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образие моделей менеджмента: американский, японский, европейский и др. Влияние национально-исторических факторов на развитие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управления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система взглядов на менеджме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ы менеджмента: возможное и вероят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видим, что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ное нами ядро курса «Менеджмент», общее для всех специальностей ИЭиУ полностью  покрывается этой программ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приведенных тем в достаточной степени исчерпывает проблематику классического менеджмента в его традиционном излож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, на наш взгляд, именно этот перечень может быть взят в качестве устойчивого ядра курса «Менеджмент» как для всех специальностей ИЭиУ, так и для различных форм обучения – дневная, заочная, экстернат, дистанционное обу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видим, что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ное нами ядро курса «Менеджмент», общее для всех специальностей ИЭиУ полностью  покрывается этой программ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ень приведенных тем в достаточной степени исчерпывает проблематику классического менеджмента в его традиционном изложе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, на наш взгляд, именно этот перечень может быть взят в качестве устойчивого ядра курса «Менеджмент» как для всех специальностей ИЭиУ, так и для различных форм обучения – дневная, заочная, экстернат, дистанционное обуч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чн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зличных специальностей эти центральные части будут различаться объемом выделяемых на них час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специальности «Менеджмент» разным будет соотношение часов на лекции, практические занятия и самостоятельную рабо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объем курса при этом составляет 300 часов для очного обучения, 268 часов для заочного и 250 часов для бакалавре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о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различных специальностей эти центральные части будут различаться объемом выделяемых на них час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специальности «Менеджмент» разным будет соотношение часов на лекции, практические занятия и самостоятельную рабо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ий объем курса при этом составляет 300 часов для очного обучения, 268 часов для заочного и 250 часов для бакалавре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уляр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ое обсуждение и ознакомление с материалами наших немецких коллег позволяет выделить несколько возможных направлений дви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яр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варительное обсуждение и ознакомление с материалами наших немецких коллег позволяет выделить несколько возможных направлений дви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е на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е – в пределах 250-350 часов – блоки, концентрирующие содержание одной (чаще – фундаментальной)  или нескольких взаимоувязанных и взаимодополняющих (чаще – специальных) дисципл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рганизационно подход удобен для приглашенных профессоров, имеющих возможность вычитать свой курс за 1-2 семестра и отбыть к следующему месту работ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ен для европейской прак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может создавать определенные трудности студентам, либо вынужденных 2-3 года ждать необходимого им курса, либо ехать за этим курсом в другое учебное заведение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аком формате естественно глядятся авторские курсы, нетрадиционные подходы, рассмотрение новых, спорных вопр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е на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е – в пределах 250-350 часов – блоки, концентрирующие содержание одной (чаще – фундаментальной)  или нескольких взаимоувязанных и взаимодополняющих (чаще – специальных) дисципл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рганизационно подход удобен для приглашенных профессоров, имеющих возможность вычитать свой курс за 1-2 семестра и отбыть к следующему месту работ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ычен для европейской практи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может создавать определенные трудности студентам, либо вынужденных 2-3 года ждать необходимого им курса, либо ехать за этим курсом в другое учебное заведение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аком формате естественно глядятся авторские курсы, нетрадиционные подходы, рассмотрение новых, спорных вопро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е на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адаптированного для конкретного заказчика содержания курса из нескольких (нескольких десятков)  модулей – т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-то мере этот подход уже реализован в учебном плане специальности 060800 ИЭиУ. Здесь выделена базовая часть – «менеджмент I», общая для всех специализаций и переменная часть «менеджмент II»,  варьируемая для трех специализаций –  строительства, машиностроения и транс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 обеспечивает большую взаимозаменяемость преподавателей и большие удобства для слуша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-е на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адаптированного для конкретного заказчика содержания курса из нескольких (нескольких десятков)  модулей – т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кой-то мере этот подход уже реализован в учебном плане специальности 060800 ИЭиУ. Здесь выделена базовая часть – «менеджмент I», общая для всех специализаций и переменная часть «менеджмент II»,  варьируемая для трех специализаций –  строительства, машиностроения и транс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 обеспечивает большую взаимозаменяемость преподавателей и большие удобства для слушател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м случа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видим достаточно тесную увязку следующих друг за другом тем и практическое отсутствие тем факультативн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напрашивается представление курса «Менеджмент» в виде единого макромодуля полным объемом до 300 часов (для специальности «Менеджмент»), с возможностью сокращения до 100 часов (для других специальностей и специальных программ) за счет второстепенных вопросов в каждой 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шем случае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видим достаточно тесную увязку следующих друг за другом тем и практическое отсутствие тем факультативны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напрашивается представление курса «Менеджмент» в виде единого макромодуля полным объемом до 300 часов (для специальности «Менеджмент»), с возможностью сокращения до 100 часов (для других специальностей и специальных программ) за счет второстепенных вопросов в каждой те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курса для дистанционного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ьшой степени зависит от рекомендованной программной оболочки, поэтому вернемся к этому вопросу позже, после выбора такой оболоч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 курса для дистанционного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большой степени зависит от рекомендованной программной оболочки, поэтому вернемся к этому вопросу позже, после выбора такой оболоч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мпаниях и на предприятиях современной России переживает стадию зарождения и первоначального разви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помочь российским менеджерам осознанно подойти к решению вопросов, определяющих ближайшие и отдаленные перспективы; гармонично увязывать перспективы с текущей деятельностью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мпаниях и на предприятиях современной России переживает стадию зарождения и первоначального разви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помочь российским менеджерам осознанно подойти к решению вопросов, определяющих ближайшие и отдаленные перспективы; гармонично увязывать перспективы с текущей деятельностью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мет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«Менеджмент» - общепрофессиональная дисциплин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 в учебных планах всех специальностей ИЭи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«Стратегический менеджмент» специальная дисциплина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ьный курс - лишь в учебном плане специальности «Менеджмен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мет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«Менеджмент» - общепрофессиональная дисциплин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 в учебных планах всех специальностей ИЭи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«Стратегический менеджмент» специальная дисциплина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ый курс - лишь в учебном плане специальности «Менеджмент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«Стратегический 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относится к курсам специализации и его позиция в расстановке курсов специальности «Менеджмент» хорошо видна из рисун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«Стратегический 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относится к курсам специализации и его позиция в расстановке курсов специальности «Менеджмент» хорошо видна из рисунк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ий менеджмент среди курсов специ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ий менеджмент среди курсов специ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ей курса явля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студентам представление о стратегическом управлении в системе менеджмента, стратегическом управлении и конкурентоспособности организации, стратегическом планировании и стратегическом менедж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ь студентов основам стратегического анализа, в том числе: анализу внешней среды, анализу внутренней среды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тудентов с основами сценарного план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редставление о  миссии, целях, приоритетах коммерческих, некоммерческих и государственных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тудентов с разработкой корпоративной стратегии, стратегий отдельных бизнесов и их системы, а также  стратегий функциональных подсистем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редставление о реализации стратегии и эффективности стратегическ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ей курса являе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студентам представление о стратегическом управлении в системе менеджмента, стратегическом управлении и конкурентоспособности организации, стратегическом планировании и стратегическом менедж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ить студентов основам стратегического анализа, в том числе: анализу внешней среды, анализу внутренней среды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комить студентов с основами сценарного пла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представление о  миссии, целях, приоритетах коммерческих, некоммерческих и государственных организ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комить студентов с разработкой корпоративной стратегии, стратегий отдельных бизнесов и их системы, а также  стратегий функциональных подсистем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представление о реализации стратегии и эффективности стратегического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ь с другими предме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данной дисциплины целесообразно начинать после прохождения курсов "Менеджмент”, “Финансовый менеджмент”, “Маркетинг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с другими предме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данной дисциплины целесообразно начинать после прохождения курсов "Менеджмент”, “Финансовый менеджмент”, “Маркетинг”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учебных пла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пециальности 061100 "Стратегический  менеджмент" отнесен к категории специальных экономических дисциплин. Изучается в 7 и 8 семестрах Общий объем курса 130 часов (85 аудиторных). Итоговая форма контроля - экзам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аправления 521500 "Менеджмент",  квалификация - бакалавр менеджмента "Стратегический  менеджмент"  включен в рекомендуемые    УМО    специальные    дисциплины    направления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учебным планом специальности 060800  «экономист-менеджер»",  "Стратегический  менеджмент"  включен в рекомендуемые    УМО    специальные    дисциплины    направлен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учебным планом специальности 060500 Бухгалтерский учет, анализ и аудит  "Стратегический  менеджмент" включен в состав общего курса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учебных план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пециальности 061100 "Стратегический  менеджмент" отнесен к категории специальных экономических дисциплин. Изучается в 7 и 8 семестрах Общий объем курса 130 часов (85 аудиторных). Итоговая форма контроля - экзам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направления 521500 "Менеджмент",  квалификация - бакалавр менеджмента "Стратегический  менеджмент"  включен в рекомендуемые    УМО    специальные    дисциплины    направления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учебным планом специальности 060800  «экономист-менеджер»",  "Стратегический  менеджмент"  включен в рекомендуемые    УМО    специальные    дисциплины    направлени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учебным планом специальности 060500 Бухгалтерский учет, анализ и аудит  "Стратегический  менеджмент" включен в состав общего курса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ы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 Стратегический 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м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« Стратегический 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 Введение в «Стратегическ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Стратегическое управление в системе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1.Исходные предст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2.Исходные опред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3.Стратегический аспект в управлении организа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Стратегическое управление и конкурентоспособность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1. Конкуренция в бизне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2. Конкурентные преиму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3. Базовые конкурентные страте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4. Цепь создания ценности (Value Chai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5. Характеристики эффективной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Стратегическое планирование и стратегический менедж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1. Первичная концепция стратегического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2. Переход от стратегического планирования к стратегическому менеджмен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3. Изменение ментальности: вместо политики «от прошлого — к будущему» — политика «от будущего — к настоящем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 Введение в «Стратегическ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1. Стратегическое управление в системе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1.1.Исходные предст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1.2.Исходные опред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1.3.Стратегический аспект в управлении организ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 Стратегическое управление и конкурентоспособность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1. Конкуренция в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2. Конкурентные преиму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3. Базовые конкурентные страте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4. Цепь создания ценности (Value Chai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5. Характеристики эффективной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3. Стратегическое планирование и стратегический менеджме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3.1. Первичная концепция стратегического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3.2. Переход от стратегического планирования к стратегическому менеджмен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3.3. Изменение ментальности: вместо политики «от прошлого — к будущему» — политика «от будущего — к настоящему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2 Стратегически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Анализ внешне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1. SWOT-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2. PEST-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3. Многофакторный системный анали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Анализ внутренней среды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1. Значение стратегического анализа внутренне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2. SNW-подход к анализу внутренн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3. Модель стратегического состояния организации (стратегический ку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Сценарное план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1. Первичное предста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3. Восемь шагов метод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 Миссия, цели,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1. Определение ми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2. Цели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3. Стратегические целевы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 Стратегически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 Анализ внешне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1. SWOT-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2. PEST-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3. Многофакторный системный анали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 Анализ внутренней среды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1. Значение стратегического анализа внутренне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2. SNW-подход к анализу внутренни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3. Модель стратегического состояния организации (стратегический ку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 Сценарное план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1. Первичное представ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3. Восемь шагов метод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 Миссия, цели, приорит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1. Определение ми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2. Цели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3. Стратегические целевые приорит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3 Разработка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1. Продуктово-маркетинговая страте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1.1. Базовые конкурентные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 Разработка стратегий отдельных бизнесов и их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1. Стратегия организации — система бизнес-страте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2. Бизнес-стратегия: типовые варианты и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3. Классификация стратегий по функциональным направлениям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3. Система бизнес-стратегий: типовые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4. Стратегия системы бизнесов и стратегическая синер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3. Разработка стратегий функциональных под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3.1. Производственная страте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3.2. Стратегия управления персона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3.3. Финансовая страте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3.4. Многообразие функциональных страте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4.  Теория ресурсной б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5. Стержневые компет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6. Органичное развитие корпоративной страте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6.1. Полифония стратегии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6.2. Разумная достаточность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6.3. Пирамида разработки страте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 Разработка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. Продуктово-маркетинговая страте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.1. Базовые конкурентные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 Разработка стратегий отдельных бизнесов и их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1. Стратегия организации — система бизнес-страте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2. Бизнес-стратегия: типовые варианты и ситу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3. Классификация стратегий по функциональным направлениям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3. Система бизнес-стратегий: типовые мод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4. Стратегия системы бизнесов и стратегическая синер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3. Разработка стратегий функциональных под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3.1. Производственная страте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3.2. Стратегия управления персонал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3.3. Финансовая стратег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3.4. Многообразие функциональных страте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4.  Теория ресурсной ба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5. Стержневые компете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6. Органичное развитие корпоративной страте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6.1. Полифония стратегии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6.2. Разумная достаточность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6.3. Пирамида разработки страте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4. 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страте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1. От выполнения долгосрочного плана — к реализации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1.1 Существенные отлич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1.2. Основные этапы цикла ре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 Стратегические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1. Система стратегических изме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2. Лидирующие стратегические из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3. Органичность стратегических изме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3. Управление процессом реализации стратегических изме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3.1. Концептуальные под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3.2. Реализация стратегии и получение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3.3. Программа конкрет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страте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1. От выполнения долгосрочного плана — к реализации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1.1 Существенные отлич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1.2. Основные этапы цикла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 Стратегическ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1. Система стратегических изме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2. Лидирующие стратегические изме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3. Органичность стратегических измен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 Управление процессом реализации стратегических изме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1. Концептуальные подх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2. Реализация стратегии и получение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3. Программа конкрет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5. Эффективность стратегического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1. Эффективность стратегического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1.1 Сущность стратегической эффекти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1.2. Стратегическая 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2. Стратегический контрол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2.1. Функции стратегического контролин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2.2. Стратегический и тактический контролин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3. От стратегии к программе развит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3.1. Схемы пере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3.2. Стратегические у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4. Конкуренция за будущее как новая парадигма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4.1. Конкуренция за будущее: стратегический фак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4.2. Новая парадигма страте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5. Как поставить стратегический 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5.2. Задачи и функции подразделения стратегического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Эффективность стратегического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1. Эффективность стратегического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1.1 Сущность стратегической эффектив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1.2. Стратегическая рефлек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2. Стратегический контрол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2.1. Функции стратегического контрол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2.2. Стратегический и тактический контролин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3. От стратегии к программе развития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3.1. Схемы пере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3.2. Стратегические указ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4. Конкуренция за будущее как новая парадигма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4.1. Конкуренция за будущее: стратегический факт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4.2. Новая парадигма страте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5. Как поставить стратегический 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5.2. Задачи и функции подразделения стратегического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колько важных отличий этой дисципли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адлежность к блоку специализации, следовательно гораздо большая гибкость, как по содержанию, так и по объему в зависимости от конкретной специа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аздо больший разброс подходов к дисциплине, как в ее понимании, так и в оценке ее необходим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ьший объ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ь увязки с другими специальными дисциплинами (в нашем случае Финансовый менеджмент, Исследование систем управления, Теория организации, Организационное поведение, Стратегический менеджмент, Управление качеством, Разработка управленческого решения, Информационные технологии управления, Инновационный менеджмент, Управление персоналом 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колько важных отличий этой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адлежность к блоку специализации, следовательно гораздо большая гибкость, как по содержанию, так и по объему в зависимости от конкретной специал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аздо больший разброс подходов к дисциплине, как в ее понимании, так и в оценке ее необходим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ьший объ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увязки с другими специальными дисциплинами (в нашем случае Финансовый менеджмент, Исследование систем управления, Теория организации, Организационное поведение, Стратегический менеджмент, Управление качеством, Разработка управленческого решения, Информационные технологии управления, Инновационный менеджмент, Управление персоналом 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– последний 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модуляризации здесь будут решаться по-другом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подтем (теория ресурсной базы, сценарное планирование и др.) могут быть как включены, так и выключены из рассмотрения, что позволяет варьировать объемом курса в более широких предел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 курс может быть включен как составная часть вместе с другими курсами в некоторый общий модуль специа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– последний вопро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модуляризации здесь будут решаться по-другому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яд подтем (теория ресурсной базы, сценарное планирование и др.) могут быть как включены, так и выключены из рассмотрения, что позволяет варьировать объемом курса в более широких предел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 курс может быть включен как составная часть вместе с другими курсами в некоторый общий модуль специал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урс «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бщие с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урс «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бщие с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ся специальност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0500 Бухгалтерский учет, анализ и аудит – включает описания специальных дисципл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0800  «экономист-менеджер» - отличается методическим подхо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1100 - "Менеджмент организации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е 521500 “Менеджмент» (Бакалавреа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ается специальност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60500 Бухгалтерский учет, анализ и аудит – включает описания специальных дисципл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60800  «экономист-менеджер» - отличается методическим подхо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61100 - "Менеджмент организации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е 521500 “Менеджмент» (Бакалавреат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 специальности 0605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основного ядра предм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комление со специальными темами: антикризисный, стратегический, ситуационный, финансовый менеджмент,  менеджмент персонала,  управление рисками, антикризисное управление, управление внешнеэкономическими связ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дарт специальности 060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основного ядра предм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комление со специальными темами: антикризисный, стратегический, ситуационный, финансовый менеджмент,  менеджмент персонала,  управление рисками, антикризисное управление, управление внешнеэкономическими связ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B93E-6850-495B-B1ED-14685744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CBB6-67BE-49A7-98D7-98A3471C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EC04-B28D-498B-ABD8-D1685B09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B4F0-8A74-4CD4-B2DE-1E390927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BE95-8D5C-4D8C-9E13-E8129878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FC44-79AB-4B09-9DEC-9C423EF8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F673-3B47-40B8-9BDF-9458E868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8F54-C3A1-4828-BB31-3030ACF4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3674-84F7-4E1E-BDA8-9BC898EA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DDC3-62B8-470A-9E66-CF2E63AF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E970-3CA3-494C-85A5-A1F30DCA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77DD-2BB4-4B1C-AEC7-7408B4B4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E64D-1C1A-411D-8C31-030D6051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E1C1-16BC-40F3-A126-C503B393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C5F6-E776-4E33-AD5B-BE5507DB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10CF-D5D7-41AA-850F-3C7A2FBD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B49A-4D07-4EE1-857E-DA25F6028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94C9-D0E8-4338-817A-35D1F6AB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4713-4316-47D8-BCE0-40210F39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C383-7098-4D09-ACF5-37DA1383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3BE5-A7DA-467D-B899-9548985B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3A7E-82E7-4D47-831E-CC236349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DAF3-7BA7-4620-A74C-159FA9AB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838B-2421-48C6-837E-6FE28E06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F937-F4B2-421D-8C9E-1D2D606D2A7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8D86-0489-464A-A560-E17CD60C670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0066"/>
                </a:solidFill>
                <a:latin typeface="Arial"/>
              </a:rPr>
              <a:t>«Менеджмент организации»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Представление двух курсов специа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андарты специальностей 060800  и 061100 (521500),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хожи в своей основе,  но различаются методически, отражая разные научные школы разработчиков этих стандартов (ИнжЭконУниверситет, СПб и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АУ им. Орджоникидзе, Москва, соответственно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ыделим.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расным цветом общие для всех программ пози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еленым цветом – темы специализ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Специальность 060500 </a:t>
            </a:r>
            <a:r>
              <a:rPr b="0" i="1" lang="ru-RU" sz="2800" spc="-1" strike="noStrike">
                <a:solidFill>
                  <a:srgbClr val="330066"/>
                </a:solidFill>
                <a:latin typeface="Arial"/>
              </a:rPr>
              <a:t>Бухгалтерский учет, анализ и аудит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Состояние управления современной российской макро- и микроэкономикой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необходимость совершенствования организации управле­ния в России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собое значение антикризисного менеджмента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понятие, сущность, цели, значение, технологии, общие и специальные функции менеджмента как вида деятельности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иды менеджмента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8000"/>
                </a:solidFill>
                <a:latin typeface="Arial"/>
              </a:rPr>
              <a:t>опыт менеджмента за рубежом; возможности и пути использования его в России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цели и система управления предприятиям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построение организационных структур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организационный менеджмент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методы обоснования бизнес-планов предприятий и их мониторинг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внутрен­няя и внешняя среда предприятия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коммуникационный менеджмент; система информационных коммуникаций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8000"/>
                </a:solidFill>
                <a:latin typeface="Arial"/>
              </a:rPr>
              <a:t>стратегический менеджмент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8000"/>
                </a:solidFill>
                <a:latin typeface="Arial"/>
              </a:rPr>
              <a:t>ситуационный менеджмент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8000"/>
                </a:solidFill>
                <a:latin typeface="Arial"/>
              </a:rPr>
              <a:t>финансовый менеджмент, его роль в системе современного менеджмента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8000"/>
                </a:solidFill>
                <a:latin typeface="Arial"/>
              </a:rPr>
              <a:t>менеджмент персонала, ос­новные качества менеджера, особенности его работы;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этика делового общения, </a:t>
            </a: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управление конфликтами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, психология менеджмента, кор­поративная культура и </a:t>
            </a: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организационное поведение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система мотива­ций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, контроль и контроллинг, управление рисками, антикризисное управление, особенности управления внешнеэкономическими связя­ми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пути повышения эффективности менеджмент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330066"/>
                </a:solidFill>
                <a:latin typeface="Arial"/>
              </a:rPr>
              <a:t>Специальность 060500 </a:t>
            </a:r>
            <a:r>
              <a:rPr b="0" i="1" lang="ru-RU" sz="3200" spc="-1" strike="noStrike">
                <a:solidFill>
                  <a:srgbClr val="330066"/>
                </a:solidFill>
                <a:latin typeface="Arial"/>
              </a:rPr>
              <a:t>Бухгалтерский учет, анализ и аудит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94" name="Object 5"/>
          <p:cNvGraphicFramePr/>
          <p:nvPr/>
        </p:nvGraphicFramePr>
        <p:xfrm>
          <a:off x="468360" y="1700280"/>
          <a:ext cx="8229600" cy="44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822960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Специальность 060800  «экономист-менеджер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Потребность и необходимость управления в дея­тельности человека. Менеджмент в системе понятий рыночной экономик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Эволюция менеджмента: условия и предпосылки возникновения менеджмента, школы менеджмент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8000"/>
                </a:solidFill>
                <a:latin typeface="Arial"/>
              </a:rPr>
              <a:t>Особенности российского менеджмент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Интеграционные процессы в менеджменте. Внеш­няя и внутренняя среда организации. Факторы прямого и косвенного воздейств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Системы менеджмента: функции и организацион­ные структур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Процессы управления: целеполагание и оценка ситуации, принятие управленческих решени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еханизмы менеджмента: средства и методы управле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иверсификация менеджмента, типология и выбор альтернатив эффективного управле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Экономика и социология управления персоналом и формирование человеческого капитала. Личность менеджер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Лидерство и стиль управления. Власть и партнерство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Групповая динамика и разрешение кон­фликтов. Формальное и неформальное управлени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есурсы, </a:t>
            </a: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качество и эффективность управле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истема информационного обеспечения управле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Инновационный потенциал менеджмента, профессионализация менеджмент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Специальность 060800  «экономист-менеджер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1" name="Object 3"/>
          <p:cNvGraphicFramePr/>
          <p:nvPr/>
        </p:nvGraphicFramePr>
        <p:xfrm>
          <a:off x="468360" y="1700280"/>
          <a:ext cx="8229600" cy="44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822960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Специальность 061100 - "Менеджмент организации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ая теория управления. Закономерности управления различными системами. Управление социально-экономическими системами (организациям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тодологические основы менеджмен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раструктура менеджмен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офакторы и этика менеджмен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грационные процессы в менеджмент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лирование ситуаций и разработка решен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ирода и состав функций менеджмен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Специальность 061100</a:t>
            </a:r>
            <a:br>
              <a:rPr sz="3900"/>
            </a:b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(продолжение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тратегические и тактические планы в системе менеджмен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рганизационные отношения в системе менеджмен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рмы организации системы менеджмен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отивация деятельности в менеджмент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егулирование и контроль в системе менеджмен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инамика групп и лидерство в системе менеджмен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вление человеком и управление группо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уководство: власть и партнерств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иль менеджмента и имидж (образ) менеджер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фликтность в менеджмент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акторы эффективности менедж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Специальность 06110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11" name="Object 3"/>
          <p:cNvGraphicFramePr/>
          <p:nvPr/>
        </p:nvGraphicFramePr>
        <p:xfrm>
          <a:off x="468360" y="1700280"/>
          <a:ext cx="8229600" cy="44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822960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Направление 521500 </a:t>
            </a:r>
            <a:br>
              <a:rPr sz="3900"/>
            </a:b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бакалавр менеджмента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Общая теория управл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кономерности управления различными системам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правление социально-экономическими системами (организацией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Концепция менедж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Научные школы менедж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Функции менеджмента (планирование, организация, мотивация, контроль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уктуры системы менедж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Связующие процессы в менеджмент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Человек в системе менедж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оли менеджер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правление организационными изменениям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Эффективность и качество управл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330066"/>
                </a:solidFill>
                <a:uFillTx/>
                <a:latin typeface="Arial"/>
              </a:rPr>
              <a:t>Постановка задачи групп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работать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программы пяти курсо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Менеджмент»,  «Управление проектами», «Стратегический менеджмент», «Маркетинг» и «Управление персоналом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работать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наполнение этих курс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брав выделенные части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учаем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бщее для всех специальностей ядро,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которое может стать основой базового модуля курса «Менеджмен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ыделенные нами тем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компонованы в программе курса «Менеджмент»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разработка к.э.н., доц. Г.Я.Андреевой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ведем эти тем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971640" y="4581360"/>
            <a:ext cx="7775640" cy="1800360"/>
          </a:xfrm>
          <a:custGeom>
            <a:avLst/>
            <a:gdLst>
              <a:gd name="textAreaLeft" fmla="*/ 0 w 7775640"/>
              <a:gd name="textAreaRight" fmla="*/ 7776000 w 777564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Темы курс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Тема 1. Общая теория управления. Закономерности управления различными системами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ибернетические основы управления. Понятия «объект» и «субъект» управления, «управляющее воздействие», «обратная связь», «управляемая» и «управляющая» подсистем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ы управления. Типы управ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Тема 2. Управление социально-экономическими системами (организациями)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рганизация как объект управл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рганизационные  элементы и характеристи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сто и содержание процесса управления в организ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обенности управленческого труд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ъекты и субъекты управления в организ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ровни управл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дачи и роли менеджер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ипы менеджеров. Требования к менеджер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Тема 3. Методологические основы менеджмента. Инфраструктура менеджмента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ходы к определению сущности понятия «менеджмент». Соотношение с понятием «управление». Цели и задачи менеджмента. Взаимосвязь менеджмента с другими наук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ы, методы и принципы менеджмента. Характеристика объектов менеджмен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теграционные процессы в менеджменте. Инфраструктура менеджмент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Тема 4.  Этика менеджмента и социальная ответственность организации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нятие этики менеджмента. Критерии принятия этически сложных решени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кторы, определяющие этический выбо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нятие социальной ответственност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интересованные в деятельности организации групп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ценка результатов социальной деятельност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правление этической и социальной ответственностью организ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Тема 5. Природа и состав функций менеджмента. Цикл управлени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ы функций менеджмента, их взаимодействи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пределение функций по уровням управле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икл управления и его стад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Тема 6. Моделирование ситуаций и разработка решений в менеджменте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одержание, значение и типология решений в менеджмент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ребования к управленческим решениям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Факторы, влияющие на процесс принятия управленческих решени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ходы к принятию решен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ятие проблемной ситуаци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Формальные процедуры анализа проблемной ситу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тапы процесса принятия и осуществления управленческого реш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буждение сотрудников к участию в принятии управленческих решен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7.  Планирование как функция менеджмента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держание, цели и задачи внутрифирменного планирова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ды внутрифирменного планирования, их классификация: по целям; предмету; уровню; содержанию; периодам планирова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равнительная характеристика стратегических и тактических планов в системе менеджмен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нципы планирова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с планиров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330066"/>
                </a:solidFill>
                <a:uFillTx/>
                <a:latin typeface="Arial"/>
              </a:rPr>
              <a:t>Требования к результатам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согласова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динаковых (сходных) курсов, читаемых на разных специальностях и разным категориям слушате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«модуляризация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урсов: принципы модуляризации, типы модулей, применение к конкретным курс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работка требований к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дистанционной подач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материала, представление курсов в форме, пригодной для дистанционного обуч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«болонизация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урсов: выработка принципов согласования подходов и кредитовой оценки курсов (модулей, блоков, мейджеров и т.п.) с перспективой взаимозачетов курсов, прослушанных в разных университет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8. Построение организации.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рганизация как процесс, его содержание и назначе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ятие структуры управл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лементы (звенья, связи, уровни) и характеристики (сложность, формализация, централизация, механизмы координации) организационной структур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Факторы формирования организационных структур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волюция структур управл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иды структур управления организацие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ценка эффективности структур управления организацие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Тема 9. Организация взаимодействия и делегирование полномочий в системе управления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елегирование, полномочия, ответственность: содержание и роль в обеспечении взаимодействия в организ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ы полномоч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нтрализация и децентрализация задач управле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акторы успешного делегиров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0. Мотивация деятельности в менеджменте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и роль мотивации в управлен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равнительный анализ теорий мотив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нимость содержательных и процессуальных теорий в управлении организацие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истема мотивации персонала в организ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Тема 11. Контроль и регулирование в системе менеджмента.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чение и содержание функций контроля и регулирова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ы и формы контроля и регулирова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цесс контроля и регулирова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ребования к организации контрол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2. Коммуникации в менеджменте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нятие, сущность и роль коммуникаций в менеджмент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уктура процесса коммуникаций: элементы и этап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ипы результатов (эффект) коммуник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Шум в процессе коммуник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ипы коммуникационных сетей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муникационные рол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муникационные сти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3. Групповая динамика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нятие групп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альные и неформальные групп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енезис и развитие групп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ормативное поведение в групп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рупповая сплоченност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правление человеком и управление группо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акторы, влияющие на эффективность работы групп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4. Власть и влияни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нятие вла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сификация видов вла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точники власти в организ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дель влияния руководителя на подчиненного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особы управленческого влияния на подчиненн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5. Лидерство в системе менеджмент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нятие лидерства. Составляющие лидерства. Основные подходы к трактовке лидер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идер и менеджер, их характеристики и отлич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иль менеджмента и имидж (образ) менедже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ходы к изучению лидерства. Теория лидерских качеств. Концепции лидерского поведения. Концепции ситуационного лидерств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овое в теориях лидерс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6. Конфликтность в менеджменте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нфликт и его природа в организ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руктура конфлик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икл конфлик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емы прерывания конфлик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новные типы поведения в конфликтной ситу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ровни конфликта в организации и их источни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ктические навыки управления конфликтами различных уровн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7. Эффективность в менеджменте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особы оценки эффективности менеджмента организ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знаки эффективного менеджмен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 в организации Способы оценки эффективности менеджмента организ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знаки эффективного менеджмен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особы оценки эффективности менеджмента организ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знаки эффективного менеджмен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 в организац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 в организац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330066"/>
                </a:solidFill>
                <a:uFillTx/>
                <a:latin typeface="Arial"/>
              </a:rPr>
              <a:t>Первый этап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Разработка программы двух курсов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енеджмент» и «Стратегический менеджмен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огласование одинаковых (сходных) курсов, читаемых на разных специальностях и разным категориям слушателе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модуляризация» курсов: принципы модуляризации, типы модулей, применение к конкретным курса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673200" y="1935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8. История менеджмента.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ловия и факторы возникновения и развития менеджмента. Истоки возникновения менеджмента. Этапы и школы в истории менеджмен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нообразие моделей менеджмента: американский, японский, европейский и др. Влияние национально-исторических факторов на развитие менеджмен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управления в Росс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временная система взглядов на менеджмен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спективы менеджмента: возможное и вероятно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ы видим, что 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деленное нами ядро курса «Менеджмент», общее для всех специальностей ИЭиУ полностью  покрывается этой программо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речень приведенных тем в достаточной степени исчерпывает проблематику классического менеджмента в его традиционном изложени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этому, на наш взгляд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менно этот перечень может быть взят в качестве устойчивого ядра курса «Менеджмент» как для всех специальностей ИЭиУ, так и для различных форм обучения – дневная, заочная, экстернат, дистанционное обучение.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онечно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я различных специальносте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эти центральные части будут различаться объемом выделяемых на них часов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 рамках специальности «Менеджмент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разным будет соотношение часов на лекции, практические занятия и самостоятельную работ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бщий объем курс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ри этом составляет 300 часов для очного обучения, 268 часов для заочного и 250 часов для бакалавреа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700" spc="-1" strike="noStrike">
                <a:solidFill>
                  <a:srgbClr val="330066"/>
                </a:solidFill>
                <a:latin typeface="Arial"/>
              </a:rPr>
              <a:t>Модуляризация</a:t>
            </a:r>
            <a:endParaRPr b="1" lang="en-US" sz="4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варительное обсуждение и ознакомление с материалами наших немецких коллег </a:t>
            </a: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позволяет выделить несколько возможных направлений движения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1-е направле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Arial"/>
              </a:rPr>
              <a:t>Большие – в пределах 250-350 часов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– блоки,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концентрирующие содержание одной (чаще – фундаментальной)  или нескольких взаимоувязанных и взаимодополняющих (чаще – специальных) дисципли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Организационно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дход </a:t>
            </a:r>
            <a:r>
              <a:rPr b="1" lang="ru-RU" sz="2100" spc="-1" strike="noStrike">
                <a:solidFill>
                  <a:srgbClr val="008000"/>
                </a:solidFill>
                <a:latin typeface="Arial"/>
              </a:rPr>
              <a:t>удобен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 для приглашенных профессоров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имеющих возможность вычитать свой курс за 1-2 семестра и отбыть к следующему месту работы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Arial"/>
              </a:rPr>
              <a:t>привычен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 для европейской практик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о </a:t>
            </a:r>
            <a:r>
              <a:rPr b="1" lang="ru-RU" sz="2100" spc="-1" strike="noStrike">
                <a:solidFill>
                  <a:srgbClr val="008000"/>
                </a:solidFill>
                <a:latin typeface="Arial"/>
              </a:rPr>
              <a:t>может создавать определенные трудности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 студентам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либо вынужденных 2-3 года ждать необходимого им курса, либо ехать за этим курсом в другое учебное заведение.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таком формате естественно глядятся авторские курсы, нетрадиционные подходы, рассмотрение новых, спорных вопрос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2-е направле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ормирование адаптированного для конкретного заказчика содержания </a:t>
            </a:r>
            <a:r>
              <a:rPr b="0" lang="ru-RU" sz="2500" spc="-1" strike="noStrike">
                <a:solidFill>
                  <a:srgbClr val="008000"/>
                </a:solidFill>
                <a:latin typeface="Arial"/>
              </a:rPr>
              <a:t>курса из нескольких (нескольких десятков)  модулей – тем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 какой-то мере этот подход уже реализован в учебном плане специальности 060800 ИЭиУ. Здесь выделена </a:t>
            </a: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базовая част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– «менеджмент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», общая для всех специализаций и </a:t>
            </a: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переменная част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«менеджмент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»,  варьируемая для трех специализаций –  строительства, машиностроения и транспорт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дход обеспечивает </a:t>
            </a:r>
            <a:r>
              <a:rPr b="0" lang="ru-RU" sz="2500" spc="-1" strike="noStrike">
                <a:solidFill>
                  <a:srgbClr val="008000"/>
                </a:solidFill>
                <a:latin typeface="Arial"/>
              </a:rPr>
              <a:t>большую взаимозаменяемость преподавателей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500" spc="-1" strike="noStrike">
                <a:solidFill>
                  <a:srgbClr val="008000"/>
                </a:solidFill>
                <a:latin typeface="Arial"/>
              </a:rPr>
              <a:t>большие удобства для слушателей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 нашем случае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ы видим достаточно тесную увязку следующих друг за другом тем и практическое отсутствие тем факультативны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аким образом, напрашивается представление курса «Менеджмент»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в виде единого макромодуля полным объемом до 300 часо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для специальности «Менеджмент»), с возможностью сокращения до 100 часов (для других специальностей и специальных программ) за счет второстепенных вопросов в каждой тем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330066"/>
                </a:solidFill>
                <a:latin typeface="Arial"/>
              </a:rPr>
              <a:t>Представление курса для дистанционного обучения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большой степени зависит от рекомендованной программной оболочки, поэтому вернемся к этому вопросу позже, после выбора такой оболоч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ocuments"/>
          <p:cNvSpPr/>
          <p:nvPr/>
        </p:nvSpPr>
        <p:spPr>
          <a:xfrm>
            <a:off x="1332000" y="1341360"/>
            <a:ext cx="5472000" cy="4103640"/>
          </a:xfrm>
          <a:custGeom>
            <a:avLst/>
            <a:gdLst>
              <a:gd name="textAreaLeft" fmla="*/ 416520 w 5472000"/>
              <a:gd name="textAreaRight" fmla="*/ 4185720 w 5472000"/>
              <a:gd name="textAreaTop" fmla="*/ 792360 h 4103640"/>
              <a:gd name="textAreaBottom" fmla="*/ 3289320 h 410364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00ffff">
              <a:alpha val="59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ратегическое управле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компаниях и на предприятиях современной России переживает стадию зарождения и первоначального развит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жет помочь российским менеджерам осознанно подойти к решению вопросов, определяющих ближайшие и отдаленные перспективы; гармонично увязывать перспективы с текущей деятельностью фирм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тметим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урс «Менеджмент» -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общепрофессиональная дисциплин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ставлен в учебных планах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сех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пециальностей ИЭи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урс «Стратегический менеджмент»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специальная дисциплина;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дельный курс - лишь в учебном плане специальности «Менеджмент»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Курс «Стратегический менеджмент»</a:t>
            </a: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урс относится к курсам специализации и его позиция в расстановке курсов специальности «Менеджмент» хорошо видна из рисунка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ратегический менеджмент среди курсов специализа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57200" y="1719360"/>
          <a:ext cx="8255160" cy="5211720"/>
        </p:xfrm>
        <a:graphic>
          <a:graphicData uri="http://schemas.openxmlformats.org/drawingml/2006/table">
            <a:tbl>
              <a:tblPr/>
              <a:tblGrid>
                <a:gridCol w="2053440"/>
                <a:gridCol w="356760"/>
                <a:gridCol w="700920"/>
                <a:gridCol w="702360"/>
                <a:gridCol w="355320"/>
                <a:gridCol w="529920"/>
                <a:gridCol w="461520"/>
                <a:gridCol w="588240"/>
                <a:gridCol w="702720"/>
                <a:gridCol w="393120"/>
                <a:gridCol w="664560"/>
                <a:gridCol w="218880"/>
                <a:gridCol w="527400"/>
              </a:tblGrid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семест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Д 10 Менеджмент 306/1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Д 11 Маркетинг 120/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12 Финансовый менеджмент 120/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1 Исследование систем управления 80/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02 Теория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03 Организационное поведение 80/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04 Стратегический менеджмент 130/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07 Управление качеством 80/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Задачей курса является: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ать студентам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представление о стратегическом управлени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в системе менеджмента, стратегическом управлении и конкурентоспособности организации, стратегическом планировании и стратегическом менеджмент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учить студентов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основам стратегического анализа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 в том числе: анализу внешней среды, анализу внутренней среды организаци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знакомить студентов с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основами сценарного планирования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ать представление о 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миссии, целях, приоритетах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коммерческих, некоммерческих и государственных организац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знакомить студентов с разработкой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корпоративной стратеги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стратегий отдельных бизнесов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и их системы, а также 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стратегий функциональных подсистем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организац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ать представление о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реализаци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стратегии и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эффективност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стратегического управл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вязь с другими предметам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учение данной дисциплины целесообразно начинать после прохождения курсов "Менеджмент”, “Финансовый менеджмент”, “Маркетинг”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гласно учебных планов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специальности 061100 "Стратегический  менеджмент" отнесен к категории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специальных экономических дисциплин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Изучается в 7 и 8 семестрах 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Общий объем курса 130 часов (85 аудиторных). Итоговая форма контроля - экзамен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направления 521500 "Менеджмент",  квалификация - бакалавр менеджмента "Стратегический  менеджмент"  включен в рекомендуемые    УМО   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специальные    дисциплины    направления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соответствии с учебным планом специальности 060800  «экономист-менеджер»",  "Стратегический  менеджмент"  включен в рекомендуемые    УМО   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специальные    дисциплины    направления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соответствии с учебным планом специальности 060500 Бухгалтерский учет, анализ и аудит  "Стратегический  менеджмент" включен в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состав общего курса менеджмен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0066"/>
                </a:solidFill>
                <a:latin typeface="Arial"/>
              </a:rPr>
              <a:t>Темы курс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« Стратегический менеджмент»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Тема 1 Введение в «Стратегическое управлени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1.1. Стратегическое управление в системе менеджмен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1.1.Исходные представл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1.2.Исходные определ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1.3.Стратегический аспект в управлении организацие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1.2. Стратегическое управление и конкурентоспособность организ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2.1. Конкуренция в бизнес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2.2. Конкурентные преимуществ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2.3. Базовые конкурентные стратег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2.4. Цепь создания ценности (Value Chain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2.5. Характеристики эффективной стратег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1.3. Стратегическое планирование и стратегический менеджмент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3.1. Первичная концепция стратегического управл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3.2. Переход от стратегического планирования к стратегическому менеджмент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3.3. Изменение ментальности: вместо политики «от прошлого — к будущему» — политика «от будущего — к настоящему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Тема 2 Стратегический анализ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2.1. Анализ внешней сред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1.1. SWOT-анализ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1.2. PEST-анализ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1.3. Многофакторный системный анализ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2.2. Анализ внутренней среды организ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2.1. Значение стратегического анализа внутренней сред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2.2. SNW-подход к анализу внутренних ресурс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2.3. Модель стратегического состояния организации (стратегический куб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2.3. Сценарное планировани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3.1. Первичное представлени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3.3. Восемь шагов методик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2.4. Миссия, цели, приорите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4.1. Определение мисс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4.2. Цели организ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4.3. Стратегические целевые приорите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Тема 3 Разработка стратеги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.1. Продуктово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ркетинговая стратег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1.1. Базовые конкурентные стратег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.2. Разработка стратегий отдельных бизнесов и их систем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2.1. Стратегия организации — система бизнес-стратег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2.2. Бизнес-стратегия: типовые варианты и ситу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2.3. Классификация стратегий по функциональным направлениям деятельно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2.3. Система бизнес-стратегий: типовые модел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2.4. Стратегия системы бизнесов и стратегическая синерг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.3. Разработка стратегий функциональных подсисте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3.1. Производственная стратег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3.2. Стратегия управления персонал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3.3. Финансовая стратег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3.4. Многообразие функциональных стратег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.4.  Теория ресурсной баз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.5. Стержневые компетенц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.6. Органичное развитие корпоративной стратег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6.1. Полифония стратегии организац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6.2. Разумная достаточность стратег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6.3. Пирамида разработки стратег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Тема 4. . </a:t>
            </a:r>
            <a:br>
              <a:rPr sz="3500"/>
            </a:b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Реализация стратегии</a:t>
            </a:r>
            <a:r>
              <a:rPr b="0" lang="ru-RU" sz="3900" spc="-1" strike="noStrike">
                <a:solidFill>
                  <a:srgbClr val="330066"/>
                </a:solidFill>
                <a:latin typeface="Arial"/>
              </a:rPr>
              <a:t>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4.1. От выполнения долгосрочного плана — к реализации стратег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1.1 Существенные отлич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1.2. Основные этапы цикла реализац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4.2. Стратегические измен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2.1. Система стратегических измен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2.2. Лидирующие стратегические измен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2.3. Органичность стратегических изменен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4.3. Управление процессом реализации стратегических измен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3.1. Концептуальные подход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3.2. Реализация стратегии и получение информ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3.3. Программа конкретных действ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ocuments"/>
          <p:cNvSpPr/>
          <p:nvPr/>
        </p:nvSpPr>
        <p:spPr>
          <a:xfrm>
            <a:off x="1332000" y="1341360"/>
            <a:ext cx="5472000" cy="4103640"/>
          </a:xfrm>
          <a:custGeom>
            <a:avLst/>
            <a:gdLst>
              <a:gd name="textAreaLeft" fmla="*/ 416520 w 5472000"/>
              <a:gd name="textAreaRight" fmla="*/ 4185720 w 5472000"/>
              <a:gd name="textAreaTop" fmla="*/ 792360 h 4103640"/>
              <a:gd name="textAreaBottom" fmla="*/ 3289320 h 410364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00ffff">
              <a:alpha val="59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Тема 5. Эффективность стратегического управления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5.1. Эффективность стратегического менеджмен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1.1 Сущность стратегической эффективност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1.2. Стратегическая рефлекс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5.2. Стратегический контролинг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2.1. Функции стратегического контролинг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2.2. Стратегический и тактический контролинг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5.3. От стратегии к программе развития организац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3.1. Схемы переход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3.2. Стратегические указ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5.4. Конкуренция за будущее как новая парадигма стратег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4.1. Конкуренция за будущее: стратегический фактор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4.2. Новая парадигма стратеги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5.5. Как поставить стратегический менеджмен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5.2. Задачи и функции подразделения стратегического развит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330066"/>
                </a:solidFill>
                <a:latin typeface="Arial"/>
              </a:rPr>
              <a:t>Несколько важных отличий этой дисциплины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инадлежность к блоку специализ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ледовательно гораздо большая гибкость, как по содержанию, так и по объему в зависимости от конкретной специализ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аздо больший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азброс подход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 дисциплине, как в ее понимании, так и в оценке ее необходим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еньший объ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еобходимость увяз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другими специальными дисциплинами (в нашем случае Финансовый менеджмент, Исследование систем управления, Теория организации, Организационное поведение, Стратегический менеджмент, Управление качеством, Разработка управленческого решения, Информационные технологии управления, Инновационный менеджмент, Управление персоналом 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 – последний вопрос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Вопросы модуляризаци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здесь будут решаться по-другому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яд подтем (теория ресурсной базы, сценарное планирование и др.) могут быть как включены, так и выключены из рассмотрения, что позволяет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варьировать объемом курса в более широких пределах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ам курс может быть включен как составная часть вместе с другими курсами в некоторый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бщий модуль специализации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Курс «Менеджмент»</a:t>
            </a:r>
            <a:br>
              <a:rPr sz="48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ие с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зучается специальностям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060500 Бухгалтерский учет, анализ и аудит – </a:t>
            </a: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включает описания специальных дисципл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060800  «экономист-менеджер» - </a:t>
            </a: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отличается методическим подход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061100 - "Менеджмент организации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правление 521500 “Менеджмент» (Бакалавреат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андарт специальности 06050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учение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основного ядр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редме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знакомление со </a:t>
            </a:r>
            <a:r>
              <a:rPr b="0" lang="ru-RU" sz="3000" spc="-1" strike="noStrike">
                <a:solidFill>
                  <a:srgbClr val="008000"/>
                </a:solidFill>
                <a:latin typeface="Arial"/>
              </a:rPr>
              <a:t>специальными темам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: антикризисный, стратегический, ситуационный, финансовый менеджмент,  менеджмент персонала,  управление рисками, антикризисное управление, управление внешнеэкономическими связям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4T13:04:38Z</dcterms:created>
  <dc:creator>sw</dc:creator>
  <dc:description/>
  <dc:language>en-US</dc:language>
  <cp:lastModifiedBy>LEGION</cp:lastModifiedBy>
  <dcterms:modified xsi:type="dcterms:W3CDTF">2016-01-11T10:02:11Z</dcterms:modified>
  <cp:revision>18</cp:revision>
  <dc:subject/>
  <dc:title>«Менеджмент организации»</dc:title>
</cp:coreProperties>
</file>