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9428-7B48-474B-BE76-C94991D56D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аров Сергей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в сестринском деле: теория и пр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каров Сергей Виктор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в сестринском деле: теория и прак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едерик Тейл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редерик Тейло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или класс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ая или классическая шко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чно поставленные цели и иде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дравый смыс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мпетентная консуль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сциплина в коллект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праведливое отношение к персо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Быстрый, надежный, полный, точный и постоянный у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тчирование, обеспечивающее четкое оператив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 Гаррингтона Эмерс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Точно поставленные цели и идеал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Здравый смыс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омпетентная консульта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Дисциплина в коллектив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Справедливое отношение к персонал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Быстрый, надежный, полный, точный и постоянный уч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петчирование, обеспечивающее четкое оперативное упра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Гаррингтона Эмерсо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Нормы и расписания, позволяющие измерять все недостатки в организации и уменьшать вызванные ими пот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Нормализация условий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Нормирование операций, предлагающее установление времени и последовательности, при которых достигаются наилучши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Письменные стандартные ин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Вознаграждение за производ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Нормы и расписания, позволяющие измерять все недостатки в организации и уменьшать вызванные ими потер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. Нормализация условий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Нормирование операций, предлагающее установление времени и последовательности, при которых достигаются наилучши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 Письменные стандартные инстру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 Вознаграждение за производи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ри Фай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ри Файол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ение труда.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мочия и ответственность.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.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началие. Работник должен получать приказы только от одного непосредственного началь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направления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 Анри Фай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деление труда.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номочия и ответственность.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.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оначалие. Работник должен получать приказы только от одного непосредственного начальн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ство направления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Анри Фай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иненность личных интересов общим.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аграждение персонала.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.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лярная цепь.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чиненность личных интересов общим.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аграждение персонала.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трализация.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алярная цепь.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. Место – для всего и все на своем ме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ость. Справедливость – это сочетание доброты и правосу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сть рабочего места для персонала.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.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поративный дух. Союз – это сила. А она является результатом гармонии персон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ядок. Место – для всего и все на своем мест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аведливость. Справедливость – это сочетание доброты и правосу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ьность рабочего места для персонала.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ициатива.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рпоративный дух. Союз – это сила. А она является результатом гармонии персона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Х, Y (по Дуглас Мак-Грегор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ория Х, Y (по Дуглас Мак-Грегору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Х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теории Х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атриваемые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менеджмент» и эволюция подходов к его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менеджмента в медицинских организациях и в сестринском д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, методы и стил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атриваемые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нятие «менеджмент» и эволюция подходов к его реал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сти менеджмента в медицинских организациях и в сестринском дел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, методы и стили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юдишек надо почаще перебира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Гроз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Людишек надо почаще перебирать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ван Гроз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Y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теории Y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Рокфелл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жон Рокфелле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содержанию: вербальные, графические, экспертные, математ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цели: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школа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о содержанию: вербальные, графические, экспертные, математическ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по цели: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матическая школа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то много читает – умнее не становит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 Цзэду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то много читает – умнее не становится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о Цзэду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33 г. французский математик и консультант по управлению В. Грейкюнас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расчетов было доказано, что количество непосредственно подчиненных у одного руководителя не должно превышать шести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33 г. французский математик и консультант по управлению В. Грейкюнас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основе расчетов было доказано, что количество непосредственно подчиненных у одного руководителя не должно превышать шести человек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учше иметь десять человек под рукой, чем десять тысяч – в отдален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нгизх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Лучше иметь десять человек под рукой, чем десять тысяч – в отдалении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нгизха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6 ± 2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6 ± 2 человек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Кадры решают всё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адры решают всё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сновным особенностям управления здравоохранением относя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ь, а иногда и невозможность исправления неверн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компьютерных технологий способно существенно повысить эффективность управления и функционирование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сновным особенностям управления здравоохранением относя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ность, а иногда и невозможность исправления неверных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компьютерных технологий способно существенно повысить эффективность управления и функционирование систем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(от анг. management 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(от анг. management 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уровень – характеризуется функцией прогноза и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тический уровень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тивный уровень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тегический уровень – характеризуется функцией прогноза и планир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тический уровень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еративный уровень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андно-административные – авторитарное управление на основе распоряжений, приказов, устав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кономико-математические – используют для стимулирования деятельности персонала путем воздействия на заработную пл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циально-психологические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омандно-административные – авторитарное управление на основе распоряжений, приказов, уставов и т.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Экономико-математические – используют для стимулирования деятельности персонала путем воздействия на заработную плат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Социально-психологические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но-административные методы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андно-административные методы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административного воздейст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изирующие или регламентирующие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рядительные методы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две формы распорядительного метода: устная и документа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ые методы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особы административного воздейств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изирующие или регламентирующие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методы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две формы распорядительного метода: устная и документ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рные методы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о-математические методы – это совокупность способов по осуществлению воздействия с помощью экономических категор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о-математические методы – это совокупность способов по осуществлению воздействия с помощью экономических категор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 психологические методы включа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внушение (целенаправленное воздействие путем влияния на психику 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убеждение (аргументирование с помощью логических средст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одражание (воздействие на основе личного приме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методы  различаются формами опосредованного  воздейст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условиям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 психологические методы включают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мет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внушение (целенаправленное воздействие путем влияния на психику человек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 убеждение (аргументирование с помощью логических средств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подражание (воздействие на основе личного пример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свенные методы  различаются формами опосредованного  воздейств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условиями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управления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вторитарный (автократический)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беральный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емократический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ь управления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Авторитарный (автократический)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Либеральный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Демократический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эффективн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харта – Дем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икл эффективн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ухарта – Деминг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олтер Шухарт (1891 – 1967) – всемирно известный американский ученый и консультант по теории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многом благодаря наработкам Шухарта была реализована статистическая концепция Шесть сиг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Э. Демингом предложил модель эффективного управления («цикл Шухарта-Деминга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олтер Шухарт (1891 – 1967) – всемирно известный американский ученый и консультант по теории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многом благодаря наработкам Шухарта была реализована статистическая концепция Шесть сигм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местно с Э. Демингом предложил модель эффективного управления («цикл Шухарта-Деминга»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двард Деминг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бережливое производств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окончанием второй мировой войны статистический контроль качества применялся в Японии очень мало. В конце 40-х годов Деминг обучал японцев статистическим методам. Деминг был первым из тех, кого теперь называют «американскими гуру качества», посетивших Япо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Демингом последовали Д. Джуран и А. Фейгенба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двард Деминг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бережливое производство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д окончанием второй мировой войны статистический контроль качества применялся в Японии очень мало. В конце 40-х годов Деминг обучал японцев статистическим методам. Деминг был первым из тех, кого теперь называют «американскими гуру качества», посетивших Япон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Демингом последовали Д. Джуран и А. Фейгенбау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нак признания заслуг Э. Деминга в 1951 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знак признания заслуг Э. Деминга в 1951 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одель управления кач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управления качеств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вая часть управленческого 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бор, хранение, обработку, анализ ин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ланиров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отношений и пропор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еримента и модел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истемного и ситуацион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ирование включ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ервая часть управленческого цик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сбор, хранение, обработку, анализ информации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планирования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тиче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юджет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соотношений и пропорц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римента и моделирова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системного и ситуационного подх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й анали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ыполнения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(контроль) – позволяет осуществлять обратную связь,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(руководство) – это мотивация сотрудников для реализации управленческих решений, оно завершает цикл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выполнения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(контроль) – позволяет осуществлять обратную связь,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(руководство) – это мотивация сотрудников для реализации управленческих решений, оно завершает цикл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в понятие менеджмент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овременного управления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им образом, в понятие менеджмент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современного управления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редставителей различных профессий (по 100-балльной шкал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йтинг представителей различных профессий (по 100-балльной шкале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ждая кухарка может управлять государство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н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аждая кухарка может управлять государством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н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пешное управление организацией требует наличия у менеджера следующих навыков и способност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пособность управлять соб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азумные личные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Четкие лич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Упор на постоянный личны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Навык решать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обретательность и способность к инновац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ысокая способность влиять на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Способность руковод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Умение обучать и развивать подчин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Способность формировать и развивать эффективные рабоч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Знание эффективных управленческих под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пешное управление организацией требует наличия у менеджера следующих навыков и способно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Способность управлять соб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Разумные личные ц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Четкие личные це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Упор на постоянный личный рос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Навык решать пробл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Изобретательность и способность к инновация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Высокая способность влиять на окружающи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Способность руководи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 Умение обучать и развивать подчиненны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 Способность формировать и развивать эффективные рабочие групп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 Знание эффективных управленческих подход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Школа научного управления (1885-193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Школа человеческих отношений (1930-195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атематическая школа управления (с 50-х годов XX 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Школа научного управления (1885-193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Школа человеческих отношений (1930-195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Математическая школа управления (с 50-х годов XX век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рациональная организац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сотрудничество управляющего и рабоч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научн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принцип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рациональная организация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сотрудничество управляющего и рабоче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научн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7B2-6E57-4D1D-AD39-31678E81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C6B-0CFF-453A-B350-9C6C9B4A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CA0-297C-4E5F-B72D-1E2010B0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FD9-0AE6-469A-B92C-2E7AFB47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542-5F71-430C-97F8-CB597C92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DED-8EEA-46CC-B7C2-19943213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BC1-0850-468D-B8B6-62B0FC41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A80-7763-4CFC-8D4D-F86BF3DA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D23-2F68-4E46-9591-7B7E7B6D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F7A-58D1-4398-80A9-4CBD4F3F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C87-4FB2-46BB-B822-62E293B5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A97-9509-4B9F-81D6-C5B25158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E7EC-568A-492D-AAA7-1B75013D72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2280" y="4648320"/>
            <a:ext cx="881712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акаров Сергей Викторо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24000" y="1413000"/>
            <a:ext cx="8659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ahoma"/>
              </a:rPr>
              <a:t>Менеджмент в сестринском деле: теория и практ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228600" y="4114800"/>
            <a:ext cx="8686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4721760"/>
            <a:ext cx="91440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Фредерик Тейлор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6" descr="т"/>
          <p:cNvPicPr/>
          <p:nvPr/>
        </p:nvPicPr>
        <p:blipFill>
          <a:blip r:embed="rId2"/>
          <a:stretch/>
        </p:blipFill>
        <p:spPr>
          <a:xfrm>
            <a:off x="2987640" y="404640"/>
            <a:ext cx="3046320" cy="4248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4920" y="2923920"/>
            <a:ext cx="8497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lnSpc>
                <a:spcPct val="14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13399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Административная или классическая шко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78920" y="907560"/>
            <a:ext cx="9145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. Точно поставлен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цели и идеал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Здравый смыс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Компетентная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консультац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Дисциплина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в коллектив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Справедливое отноше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к персоналу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6. Быстрый, надежный, полный, точный и постоянный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че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Диспетчирова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обеспечивающее четкое оперативное управлени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327600"/>
            <a:ext cx="914400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ffff"/>
                </a:solidFill>
                <a:latin typeface="Arial"/>
              </a:rPr>
              <a:t>Принципы управления Гаррингтона Эмерсона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Нормы и расписания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позволяющие измерять все недостатки в организации и уменьшать вызванные ими потер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Нормализация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слов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10.Нормирование операц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предлагающее установление времени и последовательности, при которых достигаются наилучшие результат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1. Письменные стандарт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инструкци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Вознагражде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за производительност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200px-Fonds_henri_fayol"/>
          <p:cNvPicPr/>
          <p:nvPr/>
        </p:nvPicPr>
        <p:blipFill>
          <a:blip r:embed="rId2"/>
          <a:stretch/>
        </p:blipFill>
        <p:spPr>
          <a:xfrm>
            <a:off x="2916360" y="404640"/>
            <a:ext cx="3333600" cy="43927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0" y="4897800"/>
            <a:ext cx="903600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Анри Файоль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Разделение труд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Полномочия и ответственность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Дисциплин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Единоначалие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Работник должен получать приказы только от одного непосредственного начальник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Единство направления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153720"/>
            <a:ext cx="91440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Принципы управления Анри Фай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Подчиненность личных интересов общим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Вознаграждение персонал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Централизация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Скалярная цепь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83664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Порядок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Место – для всего и все на своем мес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1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праведливость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праведливость – это сочетание доброты и правосу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2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табильность рабочего места для персонал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Инициатив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4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Корпоративный дух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оюз – это сила. А она является результатом гармонии персон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8000" y="1123560"/>
            <a:ext cx="9036000" cy="54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я Х,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en-US" sz="2600" spc="-1" strike="noStrike">
                <a:solidFill>
                  <a:srgbClr val="00ff00"/>
                </a:solidFill>
                <a:latin typeface="Lucida Sans"/>
              </a:rPr>
              <a:t> (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по Дуглас Мак-Грегору</a:t>
            </a:r>
            <a:r>
              <a:rPr b="1" lang="en-US" sz="2600" spc="-1" strike="noStrike">
                <a:solidFill>
                  <a:srgbClr val="00ff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404280"/>
            <a:ext cx="9144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Школа человечески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95280" y="1700280"/>
            <a:ext cx="874872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огласно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и Х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Рассматриваемые вопрос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нятие «менеджмент» и эволюция подходов к его реал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колы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обенности менеджмента в медицинских организациях и в сестринском д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ровни, методы и стили у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правленческий цик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95280" y="5188680"/>
            <a:ext cx="8640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Людишек надо почаще перебирать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Иван Грозный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481"/>
          <p:cNvPicPr/>
          <p:nvPr/>
        </p:nvPicPr>
        <p:blipFill>
          <a:blip r:embed="rId2"/>
          <a:stretch/>
        </p:blipFill>
        <p:spPr>
          <a:xfrm>
            <a:off x="2843280" y="620640"/>
            <a:ext cx="3432240" cy="4248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9280" y="1052280"/>
            <a:ext cx="8785440" cy="54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огласно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и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4617360"/>
            <a:ext cx="90360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Джон Рокфеллер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12"/>
          <p:cNvPicPr/>
          <p:nvPr/>
        </p:nvPicPr>
        <p:blipFill>
          <a:blip r:embed="rId2"/>
          <a:stretch/>
        </p:blipFill>
        <p:spPr>
          <a:xfrm>
            <a:off x="2916360" y="476280"/>
            <a:ext cx="325260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 содержанию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ербальные, графические, экспертные, математическ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 цел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259560"/>
            <a:ext cx="9144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Математическая школа упра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66560" y="5188680"/>
            <a:ext cx="85694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то много читает – умнее не становится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М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ао Цзэдун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280px-Mao_Zedong_portrait"/>
          <p:cNvPicPr/>
          <p:nvPr/>
        </p:nvPicPr>
        <p:blipFill>
          <a:blip r:embed="rId2"/>
          <a:stretch/>
        </p:blipFill>
        <p:spPr>
          <a:xfrm>
            <a:off x="2843280" y="620640"/>
            <a:ext cx="331956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820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2600" spc="-1" strike="noStrike">
                <a:solidFill>
                  <a:srgbClr val="ff9933"/>
                </a:solidFill>
                <a:latin typeface="Tahoma"/>
              </a:rPr>
              <a:t>1933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г. французский математик и консультант по управлению </a:t>
            </a:r>
            <a:r>
              <a:rPr b="1" lang="ru-RU" sz="2600" spc="-1" strike="noStrike">
                <a:solidFill>
                  <a:srgbClr val="66ffff"/>
                </a:solidFill>
                <a:latin typeface="Tahoma"/>
              </a:rPr>
              <a:t>В. Грейкюнас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основе расчетов было доказано, что количество непосредственно подчиненных у одного руководителя не должно превышать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шести челове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5020920"/>
            <a:ext cx="90360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Лучше иметь десять человек под рукой, чем десять тысяч – в отдалении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Чингизха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483"/>
          <p:cNvPicPr/>
          <p:nvPr/>
        </p:nvPicPr>
        <p:blipFill>
          <a:blip r:embed="rId2"/>
          <a:stretch/>
        </p:blipFill>
        <p:spPr>
          <a:xfrm>
            <a:off x="2843280" y="692280"/>
            <a:ext cx="3373200" cy="39607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82000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6 ± 2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челове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484360" y="5212800"/>
            <a:ext cx="655164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адры решают всё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Стали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ст"/>
          <p:cNvPicPr/>
          <p:nvPr/>
        </p:nvPicPr>
        <p:blipFill>
          <a:blip r:embed="rId2"/>
          <a:stretch/>
        </p:blipFill>
        <p:spPr>
          <a:xfrm>
            <a:off x="2771640" y="476280"/>
            <a:ext cx="3521160" cy="4680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179280" y="189000"/>
            <a:ext cx="8964720" cy="66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К основным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особенностям управления здравоохранением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относят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Трудность, а иногда и невозможность исправления неверных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Использование </a:t>
            </a:r>
            <a:r>
              <a:rPr b="1" lang="ru-RU" sz="2600" spc="-1" strike="noStrike">
                <a:solidFill>
                  <a:srgbClr val="ff9933"/>
                </a:solidFill>
                <a:latin typeface="Arial"/>
                <a:ea typeface="Arial"/>
              </a:rPr>
              <a:t>компьютерных технолог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способно существенно повысить эффективность управления и функционирование систем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от анг.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management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8920" y="836280"/>
            <a:ext cx="85726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Стратегически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характеризуется функцией прогноза и планирова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Тактически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Оперативны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8792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Уровни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907560"/>
            <a:ext cx="91440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Командно-административны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авторитарное управление на основе распоряжений, приказов, уставов и т.д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Экономико-математически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используют для стимулирования деятельности персонала путем воздействия на заработную плат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Социально-психологически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8792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Методы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4000" y="333360"/>
            <a:ext cx="849600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630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Командно-административные методы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0360" indent="630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79280" y="189000"/>
            <a:ext cx="8964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Способы административного воздейств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Стабилизирующи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или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регламентирующи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Распорядительны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Существуют две формы распорядительного метода: устная и документальная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Дисциплинарные 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25440" y="1412640"/>
            <a:ext cx="88185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41040">
              <a:lnSpc>
                <a:spcPct val="14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  <a:ea typeface="Arial"/>
              </a:rPr>
              <a:t>Экономико-математические метод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– это совокупность способов по осуществлению воздействия с помощью экономических категор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5400" indent="41040">
              <a:lnSpc>
                <a:spcPct val="14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188640"/>
            <a:ext cx="914400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    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Социально- психологические 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включают: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ru-RU" sz="2300" spc="-1" strike="noStrike">
                <a:solidFill>
                  <a:srgbClr val="ff9933"/>
                </a:solidFill>
                <a:latin typeface="Arial"/>
                <a:ea typeface="Arial"/>
              </a:rPr>
              <a:t>Прямые методы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а) внушение (целенаправленное воздействие путем влияния на психику человека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б) убеждение (аргументирование с помощью логических средств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в) подражание (воздействие на основе личного примера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ru-RU" sz="2300" spc="-1" strike="noStrike">
                <a:solidFill>
                  <a:srgbClr val="ff9933"/>
                </a:solidFill>
                <a:latin typeface="Arial"/>
                <a:ea typeface="Arial"/>
              </a:rPr>
              <a:t>Косвенные методы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различаются формами опосредованного  воздействия: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а) условиями труда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Стиль управл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Авторитарный (автократический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Либеральны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Демократическ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971640" y="1413000"/>
            <a:ext cx="6913440" cy="5113080"/>
            <a:chOff x="971640" y="1413000"/>
            <a:chExt cx="6913440" cy="5113080"/>
          </a:xfrm>
        </p:grpSpPr>
        <p:grpSp>
          <p:nvGrpSpPr>
            <p:cNvPr id="143" name="Group 3"/>
            <p:cNvGrpSpPr/>
            <p:nvPr/>
          </p:nvGrpSpPr>
          <p:grpSpPr>
            <a:xfrm>
              <a:off x="971640" y="1413000"/>
              <a:ext cx="6913440" cy="5113080"/>
              <a:chOff x="971640" y="1413000"/>
              <a:chExt cx="6913440" cy="5113080"/>
            </a:xfrm>
          </p:grpSpPr>
          <p:sp>
            <p:nvSpPr>
              <p:cNvPr id="144" name="Line 4"/>
              <p:cNvSpPr/>
              <p:nvPr/>
            </p:nvSpPr>
            <p:spPr>
              <a:xfrm>
                <a:off x="4643280" y="1413000"/>
                <a:ext cx="0" cy="259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Line 5"/>
              <p:cNvSpPr/>
              <p:nvPr/>
            </p:nvSpPr>
            <p:spPr>
              <a:xfrm flipH="1">
                <a:off x="2195280" y="4005360"/>
                <a:ext cx="2448000" cy="1800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Line 6"/>
              <p:cNvSpPr/>
              <p:nvPr/>
            </p:nvSpPr>
            <p:spPr>
              <a:xfrm>
                <a:off x="4643280" y="4005360"/>
                <a:ext cx="2808360" cy="18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7"/>
              <p:cNvSpPr/>
              <p:nvPr/>
            </p:nvSpPr>
            <p:spPr>
              <a:xfrm>
                <a:off x="2423880" y="1434960"/>
                <a:ext cx="4373640" cy="4546800"/>
              </a:xfrm>
              <a:custGeom>
                <a:avLst/>
                <a:gdLst>
                  <a:gd name="textAreaLeft" fmla="*/ 0 w 4373640"/>
                  <a:gd name="textAreaRight" fmla="*/ 4374000 w 4373640"/>
                  <a:gd name="textAreaTop" fmla="*/ 0 h 4546800"/>
                  <a:gd name="textAreaBottom" fmla="*/ 4547160 h 4546800"/>
                </a:gdLst>
                <a:ahLst/>
                <a:rect l="textAreaLeft" t="textAreaTop" r="textAreaRight" b="textAreaBottom"/>
                <a:pathLst>
                  <a:path w="2755" h="2864">
                    <a:moveTo>
                      <a:pt x="1391" y="1632"/>
                    </a:moveTo>
                    <a:cubicBezTo>
                      <a:pt x="1416" y="1585"/>
                      <a:pt x="1442" y="1540"/>
                      <a:pt x="1485" y="1523"/>
                    </a:cubicBezTo>
                    <a:cubicBezTo>
                      <a:pt x="1528" y="1507"/>
                      <a:pt x="1601" y="1498"/>
                      <a:pt x="1648" y="1532"/>
                    </a:cubicBezTo>
                    <a:cubicBezTo>
                      <a:pt x="1695" y="1566"/>
                      <a:pt x="1775" y="1649"/>
                      <a:pt x="1764" y="1727"/>
                    </a:cubicBezTo>
                    <a:cubicBezTo>
                      <a:pt x="1753" y="1805"/>
                      <a:pt x="1673" y="1961"/>
                      <a:pt x="1584" y="1998"/>
                    </a:cubicBezTo>
                    <a:cubicBezTo>
                      <a:pt x="1495" y="2035"/>
                      <a:pt x="1317" y="2016"/>
                      <a:pt x="1232" y="1948"/>
                    </a:cubicBezTo>
                    <a:cubicBezTo>
                      <a:pt x="1147" y="1880"/>
                      <a:pt x="1064" y="1700"/>
                      <a:pt x="1073" y="1588"/>
                    </a:cubicBezTo>
                    <a:cubicBezTo>
                      <a:pt x="1082" y="1476"/>
                      <a:pt x="1185" y="1337"/>
                      <a:pt x="1284" y="1273"/>
                    </a:cubicBezTo>
                    <a:cubicBezTo>
                      <a:pt x="1383" y="1209"/>
                      <a:pt x="1545" y="1180"/>
                      <a:pt x="1665" y="1205"/>
                    </a:cubicBezTo>
                    <a:cubicBezTo>
                      <a:pt x="1786" y="1230"/>
                      <a:pt x="1934" y="1312"/>
                      <a:pt x="2006" y="1424"/>
                    </a:cubicBezTo>
                    <a:cubicBezTo>
                      <a:pt x="2078" y="1536"/>
                      <a:pt x="2131" y="1732"/>
                      <a:pt x="2096" y="1876"/>
                    </a:cubicBezTo>
                    <a:cubicBezTo>
                      <a:pt x="2061" y="2020"/>
                      <a:pt x="1936" y="2207"/>
                      <a:pt x="1793" y="2286"/>
                    </a:cubicBezTo>
                    <a:cubicBezTo>
                      <a:pt x="1650" y="2365"/>
                      <a:pt x="1404" y="2395"/>
                      <a:pt x="1239" y="2351"/>
                    </a:cubicBezTo>
                    <a:cubicBezTo>
                      <a:pt x="1074" y="2307"/>
                      <a:pt x="900" y="2190"/>
                      <a:pt x="800" y="2020"/>
                    </a:cubicBezTo>
                    <a:cubicBezTo>
                      <a:pt x="700" y="1850"/>
                      <a:pt x="616" y="1528"/>
                      <a:pt x="641" y="1328"/>
                    </a:cubicBezTo>
                    <a:cubicBezTo>
                      <a:pt x="666" y="1128"/>
                      <a:pt x="784" y="932"/>
                      <a:pt x="951" y="817"/>
                    </a:cubicBezTo>
                    <a:cubicBezTo>
                      <a:pt x="1118" y="702"/>
                      <a:pt x="1426" y="598"/>
                      <a:pt x="1645" y="638"/>
                    </a:cubicBezTo>
                    <a:cubicBezTo>
                      <a:pt x="1864" y="678"/>
                      <a:pt x="2117" y="861"/>
                      <a:pt x="2265" y="1060"/>
                    </a:cubicBezTo>
                    <a:cubicBezTo>
                      <a:pt x="2413" y="1259"/>
                      <a:pt x="2552" y="1579"/>
                      <a:pt x="2535" y="1832"/>
                    </a:cubicBezTo>
                    <a:cubicBezTo>
                      <a:pt x="2518" y="2085"/>
                      <a:pt x="2363" y="2414"/>
                      <a:pt x="2160" y="2581"/>
                    </a:cubicBezTo>
                    <a:cubicBezTo>
                      <a:pt x="1957" y="2748"/>
                      <a:pt x="1612" y="2864"/>
                      <a:pt x="1316" y="2837"/>
                    </a:cubicBezTo>
                    <a:cubicBezTo>
                      <a:pt x="1020" y="2810"/>
                      <a:pt x="599" y="2663"/>
                      <a:pt x="382" y="2416"/>
                    </a:cubicBezTo>
                    <a:cubicBezTo>
                      <a:pt x="165" y="2169"/>
                      <a:pt x="0" y="1687"/>
                      <a:pt x="15" y="1357"/>
                    </a:cubicBezTo>
                    <a:cubicBezTo>
                      <a:pt x="30" y="1027"/>
                      <a:pt x="263" y="653"/>
                      <a:pt x="470" y="437"/>
                    </a:cubicBezTo>
                    <a:cubicBezTo>
                      <a:pt x="677" y="221"/>
                      <a:pt x="1023" y="122"/>
                      <a:pt x="1260" y="61"/>
                    </a:cubicBezTo>
                    <a:cubicBezTo>
                      <a:pt x="1497" y="0"/>
                      <a:pt x="1698" y="20"/>
                      <a:pt x="1891" y="70"/>
                    </a:cubicBezTo>
                    <a:cubicBezTo>
                      <a:pt x="2084" y="120"/>
                      <a:pt x="2273" y="235"/>
                      <a:pt x="2417" y="364"/>
                    </a:cubicBezTo>
                    <a:cubicBezTo>
                      <a:pt x="2561" y="493"/>
                      <a:pt x="2685" y="746"/>
                      <a:pt x="2755" y="846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AutoShape 8"/>
              <p:cNvSpPr/>
              <p:nvPr/>
            </p:nvSpPr>
            <p:spPr>
              <a:xfrm>
                <a:off x="4572000" y="2781360"/>
                <a:ext cx="3313080" cy="865080"/>
              </a:xfrm>
              <a:prstGeom prst="wedgeEllipseCallout">
                <a:avLst>
                  <a:gd name="adj1" fmla="val -43481"/>
                  <a:gd name="adj2" fmla="val 75689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1. Информационное обеспечение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AutoShape 9"/>
              <p:cNvSpPr/>
              <p:nvPr/>
            </p:nvSpPr>
            <p:spPr>
              <a:xfrm>
                <a:off x="3130560" y="5518080"/>
                <a:ext cx="2736720" cy="1008000"/>
              </a:xfrm>
              <a:prstGeom prst="wedgeEllipseCallout">
                <a:avLst>
                  <a:gd name="adj1" fmla="val 28481"/>
                  <a:gd name="adj2" fmla="val -90314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2. Принятие решений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AutoShape 10"/>
              <p:cNvSpPr/>
              <p:nvPr/>
            </p:nvSpPr>
            <p:spPr>
              <a:xfrm>
                <a:off x="971640" y="1413000"/>
                <a:ext cx="3240000" cy="1008000"/>
              </a:xfrm>
              <a:prstGeom prst="wedgeEllipseCallout">
                <a:avLst>
                  <a:gd name="adj1" fmla="val 34222"/>
                  <a:gd name="adj2" fmla="val 84958"/>
                </a:avLst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3. Реализация принятых решений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1" name="Line 11"/>
            <p:cNvSpPr/>
            <p:nvPr/>
          </p:nvSpPr>
          <p:spPr>
            <a:xfrm flipH="1">
              <a:off x="6238440" y="4726080"/>
              <a:ext cx="144360" cy="288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 flipH="1">
              <a:off x="5650920" y="4487760"/>
              <a:ext cx="7164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 flipH="1">
              <a:off x="5157720" y="4165560"/>
              <a:ext cx="7128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 flipH="1" flipV="1">
              <a:off x="2987280" y="5229000"/>
              <a:ext cx="144360" cy="144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Line 15"/>
            <p:cNvSpPr/>
            <p:nvPr/>
          </p:nvSpPr>
          <p:spPr>
            <a:xfrm flipH="1" flipV="1">
              <a:off x="3695400" y="4676400"/>
              <a:ext cx="144360" cy="144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Line 16"/>
            <p:cNvSpPr/>
            <p:nvPr/>
          </p:nvSpPr>
          <p:spPr>
            <a:xfrm flipH="1" flipV="1">
              <a:off x="4211280" y="4294080"/>
              <a:ext cx="14292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17"/>
            <p:cNvSpPr/>
            <p:nvPr/>
          </p:nvSpPr>
          <p:spPr>
            <a:xfrm>
              <a:off x="4487760" y="1519200"/>
              <a:ext cx="1443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Line 18"/>
            <p:cNvSpPr/>
            <p:nvPr/>
          </p:nvSpPr>
          <p:spPr>
            <a:xfrm flipV="1">
              <a:off x="4427640" y="2443320"/>
              <a:ext cx="215640" cy="7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Line 19"/>
            <p:cNvSpPr/>
            <p:nvPr/>
          </p:nvSpPr>
          <p:spPr>
            <a:xfrm flipV="1">
              <a:off x="4498920" y="3357720"/>
              <a:ext cx="144360" cy="712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Прямоугольник 21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  <a:ea typeface="Arial"/>
              </a:rPr>
              <a:t>Управленческий цик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5976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Цикл эффективного управления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Шухарта – Деминг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3" descr="1"/>
          <p:cNvPicPr/>
          <p:nvPr/>
        </p:nvPicPr>
        <p:blipFill>
          <a:blip r:embed="rId2"/>
          <a:stretch/>
        </p:blipFill>
        <p:spPr>
          <a:xfrm>
            <a:off x="2050920" y="981000"/>
            <a:ext cx="5418360" cy="56484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3492360" y="191484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Бы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565440" y="585828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та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huhart"/>
          <p:cNvPicPr/>
          <p:nvPr/>
        </p:nvPicPr>
        <p:blipFill>
          <a:blip r:embed="rId2"/>
          <a:stretch/>
        </p:blipFill>
        <p:spPr>
          <a:xfrm>
            <a:off x="250920" y="333360"/>
            <a:ext cx="3025800" cy="4464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3276720" y="694800"/>
            <a:ext cx="586728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ff00"/>
                </a:solidFill>
                <a:latin typeface="Tahoma"/>
              </a:rPr>
              <a:t>Уолтер Шухарт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 (1891 – 1967) – всемирно известный американский ученый и консультант по теории управле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4941360"/>
            <a:ext cx="9144000" cy="13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Во многом благодаря наработкам Шухарта была реализована статистическая концепция </a:t>
            </a:r>
            <a:r>
              <a:rPr b="1" lang="ru-RU" sz="2100" spc="-1" strike="noStrike">
                <a:solidFill>
                  <a:srgbClr val="ff9933"/>
                </a:solidFill>
                <a:latin typeface="Tahoma"/>
              </a:rPr>
              <a:t>Шесть сигма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Совместно с Э. Демингом предложил модель эффективного управления («</a:t>
            </a:r>
            <a:r>
              <a:rPr b="1" lang="ru-RU" sz="2100" spc="-1" strike="noStrike">
                <a:solidFill>
                  <a:srgbClr val="ffff00"/>
                </a:solidFill>
                <a:latin typeface="Tahoma"/>
              </a:rPr>
              <a:t>цикл Шухарта-Деминга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»)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851280" y="195120"/>
            <a:ext cx="529272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9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Tahoma"/>
              </a:rPr>
              <a:t>Эдвард Деминг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бережливое производство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3" descr="deming_w_edwards_200"/>
          <p:cNvPicPr/>
          <p:nvPr/>
        </p:nvPicPr>
        <p:blipFill>
          <a:blip r:embed="rId2"/>
          <a:stretch/>
        </p:blipFill>
        <p:spPr>
          <a:xfrm>
            <a:off x="196920" y="189000"/>
            <a:ext cx="3663720" cy="4176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108000" y="4437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ред окончанием второй мировой войны статистический контроль качества применялся в Японии очень мало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конце 40-х годов Деминг обучал японцев статистическим методам. Деминг был первым из тех, кого теперь называют «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американскими гуру качеств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», посетивших Япон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Демингом последовали Д. Джуран и А. Фейгенба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5732640"/>
            <a:ext cx="9144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3" descr="Medal_JUSE"/>
          <p:cNvPicPr/>
          <p:nvPr/>
        </p:nvPicPr>
        <p:blipFill>
          <a:blip r:embed="rId2"/>
          <a:stretch/>
        </p:blipFill>
        <p:spPr>
          <a:xfrm>
            <a:off x="2627280" y="1773360"/>
            <a:ext cx="3828960" cy="3809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0" y="113400"/>
            <a:ext cx="91440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знак признания заслуг Э. Деминга в </a:t>
            </a:r>
            <a:r>
              <a:rPr b="1" lang="ru-RU" sz="2200" spc="-1" strike="noStrike">
                <a:solidFill>
                  <a:srgbClr val="ff9933"/>
                </a:solidFill>
                <a:latin typeface="Arial"/>
              </a:rPr>
              <a:t>1951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mg_0"/>
          <p:cNvPicPr/>
          <p:nvPr/>
        </p:nvPicPr>
        <p:blipFill>
          <a:blip r:embed="rId2"/>
          <a:stretch/>
        </p:blipFill>
        <p:spPr>
          <a:xfrm>
            <a:off x="971640" y="765000"/>
            <a:ext cx="7272360" cy="5929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Модель управления качеством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79280" y="33336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Планирова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включает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1. Первая часть управленческого цикл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(сбор, хранение, обработку, анализ информации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Методы планирования: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Аналитически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Нормативны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Бюджетны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соотношений и пропорци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Эксперимента и моделирован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системного и ситуационного подход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Экономический анализ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50560" y="260280"/>
            <a:ext cx="88930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Организация выполнения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540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Проверка (контроль)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позволяет осуществлять обратную связь,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540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Действие (руководство)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это мотивация сотрудников для реализации управленческих решений, оно завершает цикл управле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50560" y="333000"/>
            <a:ext cx="864396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88560" indent="4914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им образом, в понятие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8560" indent="49140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8560" indent="4914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современного управле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6"/>
          <p:cNvSpPr/>
          <p:nvPr/>
        </p:nvSpPr>
        <p:spPr>
          <a:xfrm>
            <a:off x="611280" y="2637000"/>
            <a:ext cx="8136000" cy="794880"/>
          </a:xfrm>
          <a:prstGeom prst="rect">
            <a:avLst/>
          </a:prstGeom>
          <a:noFill/>
          <a:ln w="0">
            <a:noFill/>
          </a:ln>
          <a:effectLst>
            <a:outerShdw dist="92520" dir="20637765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99"/>
                </a:solidFill>
                <a:latin typeface="Tahoma"/>
              </a:rPr>
              <a:t>Благодарю за внимание!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5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Рейтинг представителей различных профессий (по 100-балльной шкале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1484280"/>
          <a:ext cx="8229600" cy="5199120"/>
        </p:xfrm>
        <a:graphic>
          <a:graphicData uri="http://schemas.openxmlformats.org/drawingml/2006/table">
            <a:tbl>
              <a:tblPr/>
              <a:tblGrid>
                <a:gridCol w="2809800"/>
                <a:gridCol w="2676600"/>
                <a:gridCol w="27432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Профе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СШ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Ро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ач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изнесме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юрис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анки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д. сест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ступные авторите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ститу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5212800"/>
            <a:ext cx="903600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аждая кухарка может управлять государством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Лени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5" descr="280px-Leninportrait"/>
          <p:cNvPicPr/>
          <p:nvPr/>
        </p:nvPicPr>
        <p:blipFill>
          <a:blip r:embed="rId2"/>
          <a:stretch/>
        </p:blipFill>
        <p:spPr>
          <a:xfrm>
            <a:off x="2771640" y="333360"/>
            <a:ext cx="3140280" cy="4608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5331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Успешное управление организацией требует наличия у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менеджера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следующих навыков и способностей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Содержимое 2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. Способнос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правлять собо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2. Разум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е ценно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Четки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е цел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Упор на постоянный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й рос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5. Навык реша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проблем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6. Изобретательность и способность к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инновация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7. Высокая способнос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влия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на окружающи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Способность руководит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0. Умени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обуча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развива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подчиненны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1. Способность формировать и развивать эффектив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рабочие групп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2. Знание эффективных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правленческих подходов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56760" y="1285560"/>
            <a:ext cx="8572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Школа научного управления (1885-193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Школа человеческих отношений (1930-195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 Математическая школа управления (с 50-х годов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е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22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Школы менеджмен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148392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сновные принципы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) рациональная организация труд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) сотрудничество управляющего и рабочег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404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Школа научного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6:21:07Z</dcterms:created>
  <dc:creator>Olga Chernykh</dc:creator>
  <dc:description/>
  <dc:language>en-US</dc:language>
  <cp:lastModifiedBy>LEGION</cp:lastModifiedBy>
  <dcterms:modified xsi:type="dcterms:W3CDTF">2016-01-11T10:02:19Z</dcterms:modified>
  <cp:revision>409</cp:revision>
  <dc:subject/>
  <dc:title>Менеджмент в сестринском деле: теория и практика</dc:title>
</cp:coreProperties>
</file>