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C71D-F8F8-4102-AF21-CFB98C2D56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8B8-08AF-4EA5-B881-429140A0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BEC-53C2-478B-B778-F225FC34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9DC-3119-43FC-BB35-2308FCDA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53E-6EC8-4D18-98DF-07E4C8F6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1A7-9F33-42DD-8DFC-B5B7E4C1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9FF-0BE4-462F-B3D8-04CCF23F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E65-2ED6-42D0-91E4-FCE68FE7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F01-2FA0-4F35-8C8F-EBBA3DBE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EF9-BC9A-4D57-B54B-7D776888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27E-18F2-4090-8719-3C73AB44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CC3-8A50-4C4E-8FCE-A9EB0883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71E-0FD4-4803-9D29-BF67F29A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6603-CC32-4329-8980-77D8B7466E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280" y="4648320"/>
            <a:ext cx="88171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каров Сергей Викт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13000"/>
            <a:ext cx="865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Менеджмент в сестринском деле: теория и 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472176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Фредерик Тейлор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т"/>
          <p:cNvPicPr/>
          <p:nvPr/>
        </p:nvPicPr>
        <p:blipFill>
          <a:blip r:embed="rId2"/>
          <a:stretch/>
        </p:blipFill>
        <p:spPr>
          <a:xfrm>
            <a:off x="2987640" y="404640"/>
            <a:ext cx="3046320" cy="4248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292392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39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Административная или классическая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907560"/>
            <a:ext cx="914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Точно поставлен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цели и идеал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Здравый смыс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Компетентная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консультац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циплин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в коллектив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раведливое отнош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 персоналу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ч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петч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ее четкое оперативное упра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27600"/>
            <a:ext cx="9144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ff"/>
                </a:solidFill>
                <a:latin typeface="Arial"/>
              </a:rPr>
              <a:t>Принципы управления Гаррингтона Эмерсона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ы и расписан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озволяющие измерять все недостатки в организации и уменьшать вызванные ими потер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ализац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слов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10.Нормирование операц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редлагающее установление времени и последовательности, при которых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Письменные стандарт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струк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ознагражд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за производитель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px-Fonds_henri_fayol"/>
          <p:cNvPicPr/>
          <p:nvPr/>
        </p:nvPicPr>
        <p:blipFill>
          <a:blip r:embed="rId2"/>
          <a:stretch/>
        </p:blipFill>
        <p:spPr>
          <a:xfrm>
            <a:off x="2916360" y="40464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4897800"/>
            <a:ext cx="9036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Анри Файо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Разделение труд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лномочия и ответственност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Дисциплин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оначалие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Работник должен получать приказы только от одного непосредственного начальник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ство направления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3720"/>
            <a:ext cx="9144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нципы управления Анри Фай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дчиненность личных интересов общим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Вознаграждение персонал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Централизация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Скалярная цеп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рядок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сто – для всего и все на своем 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праведливость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праведливость – это сочетание доброты и правосу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табильность рабочего места для персонал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Инициатив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Корпоративный ду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оюз – это сила. А она является результатом гармонии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1123560"/>
            <a:ext cx="903600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я Х,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 (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по Дуглас Мак-Грегору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0428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Школа человечески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700280"/>
            <a:ext cx="87487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Х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Рассматрив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е «менеджмент» и эволюция подходов к его 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ы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менеджмента в медицинских организациях и в сестринском 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ровни, методы и стили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ческий цик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5188680"/>
            <a:ext cx="8640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юдишек надо почаще перебирать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Иван Гроз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481"/>
          <p:cNvPicPr/>
          <p:nvPr/>
        </p:nvPicPr>
        <p:blipFill>
          <a:blip r:embed="rId2"/>
          <a:stretch/>
        </p:blipFill>
        <p:spPr>
          <a:xfrm>
            <a:off x="2843280" y="620640"/>
            <a:ext cx="343224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052280"/>
            <a:ext cx="87854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617360"/>
            <a:ext cx="9036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Джон Рокфелле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2"/>
          <p:cNvPicPr/>
          <p:nvPr/>
        </p:nvPicPr>
        <p:blipFill>
          <a:blip r:embed="rId2"/>
          <a:stretch/>
        </p:blipFill>
        <p:spPr>
          <a:xfrm>
            <a:off x="2916360" y="476280"/>
            <a:ext cx="3252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содержанию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рбальные, графические, экспертные, математ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цел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25956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Математическая школа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6560" y="5188680"/>
            <a:ext cx="85694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то много читает – умнее не становится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ао Цзэдун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280px-Mao_Zedong_portrait"/>
          <p:cNvPicPr/>
          <p:nvPr/>
        </p:nvPicPr>
        <p:blipFill>
          <a:blip r:embed="rId2"/>
          <a:stretch/>
        </p:blipFill>
        <p:spPr>
          <a:xfrm>
            <a:off x="2843280" y="620640"/>
            <a:ext cx="33195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600" spc="-1" strike="noStrike">
                <a:solidFill>
                  <a:srgbClr val="ff9933"/>
                </a:solidFill>
                <a:latin typeface="Tahoma"/>
              </a:rPr>
              <a:t>1933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. французский математик и консультант по управлению </a:t>
            </a:r>
            <a:r>
              <a:rPr b="1" lang="ru-RU" sz="2600" spc="-1" strike="noStrike">
                <a:solidFill>
                  <a:srgbClr val="66ffff"/>
                </a:solidFill>
                <a:latin typeface="Tahoma"/>
              </a:rPr>
              <a:t>В. Грейкюна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снове расчетов было доказано, что количество непосредственно подчиненных у одного руководителя не должно превыша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шести челове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5020920"/>
            <a:ext cx="9036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учше иметь десять человек под рукой, чем десять тысяч – в отдалени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Чингизх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483"/>
          <p:cNvPicPr/>
          <p:nvPr/>
        </p:nvPicPr>
        <p:blipFill>
          <a:blip r:embed="rId2"/>
          <a:stretch/>
        </p:blipFill>
        <p:spPr>
          <a:xfrm>
            <a:off x="2843280" y="692280"/>
            <a:ext cx="337320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8200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6 ± 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484360" y="5212800"/>
            <a:ext cx="655164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дры решают всё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Стал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ст"/>
          <p:cNvPicPr/>
          <p:nvPr/>
        </p:nvPicPr>
        <p:blipFill>
          <a:blip r:embed="rId2"/>
          <a:stretch/>
        </p:blipFill>
        <p:spPr>
          <a:xfrm>
            <a:off x="2771640" y="476280"/>
            <a:ext cx="352116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79280" y="189000"/>
            <a:ext cx="8964720" cy="66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К основным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особенностям управления здравоохранением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относя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исправления неверн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  <a:ea typeface="Arial"/>
              </a:rPr>
              <a:t>компьютерных технолог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способно существенно повысить эффективность управления и функционирование сист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анг.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nagemen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8920" y="83628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Стратег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характеризуется функцией прогноза и план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Такт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перативны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Уровни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90756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авторитарное управление на основе распоряжений, приказов, уставов и т.д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используют для стимулирования деятельности персонала путем воздействия на заработную плат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психолог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Методы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333360"/>
            <a:ext cx="849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 метод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8900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пособы административного воз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табилиз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егламент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аспорядительны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ют две формы распорядительного метода: устная и документальна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Дисциплинарны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5440" y="1412640"/>
            <a:ext cx="8818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 мето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совокупность способов по осуществлению воздействия с помощью экономических категор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88640"/>
            <a:ext cx="9144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 психологически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ключают: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Прямые метод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внушение (целенаправленное воздействие путем влияния на психику человек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убеждение (аргументирование с помощью логических средст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одражание (воздействие на основе личного пример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Косвенные методы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различаются формами опосредованного  воздействия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условиями труд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Стиль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Авторитарный (автократический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Либера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Демократиче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971640" y="1413000"/>
            <a:ext cx="6913440" cy="5113080"/>
            <a:chOff x="971640" y="1413000"/>
            <a:chExt cx="6913440" cy="5113080"/>
          </a:xfrm>
        </p:grpSpPr>
        <p:grpSp>
          <p:nvGrpSpPr>
            <p:cNvPr id="143" name="Group 3"/>
            <p:cNvGrpSpPr/>
            <p:nvPr/>
          </p:nvGrpSpPr>
          <p:grpSpPr>
            <a:xfrm>
              <a:off x="971640" y="1413000"/>
              <a:ext cx="6913440" cy="5113080"/>
              <a:chOff x="971640" y="1413000"/>
              <a:chExt cx="6913440" cy="5113080"/>
            </a:xfrm>
          </p:grpSpPr>
          <p:sp>
            <p:nvSpPr>
              <p:cNvPr id="144" name="Line 4"/>
              <p:cNvSpPr/>
              <p:nvPr/>
            </p:nvSpPr>
            <p:spPr>
              <a:xfrm>
                <a:off x="4643280" y="1413000"/>
                <a:ext cx="0" cy="25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H="1">
                <a:off x="2195280" y="4005360"/>
                <a:ext cx="2448000" cy="180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>
                <a:off x="4643280" y="4005360"/>
                <a:ext cx="280836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2423880" y="1434960"/>
                <a:ext cx="4373640" cy="4546800"/>
              </a:xfrm>
              <a:custGeom>
                <a:avLst/>
                <a:gdLst>
                  <a:gd name="textAreaLeft" fmla="*/ 0 w 4373640"/>
                  <a:gd name="textAreaRight" fmla="*/ 4374000 w 4373640"/>
                  <a:gd name="textAreaTop" fmla="*/ 0 h 4546800"/>
                  <a:gd name="textAreaBottom" fmla="*/ 4547160 h 4546800"/>
                </a:gdLst>
                <a:ahLst/>
                <a:rect l="textAreaLeft" t="textAreaTop" r="textAreaRight" b="textAreaBottom"/>
                <a:pathLst>
                  <a:path w="2755" h="2864">
                    <a:moveTo>
                      <a:pt x="1391" y="1632"/>
                    </a:moveTo>
                    <a:cubicBezTo>
                      <a:pt x="1416" y="1585"/>
                      <a:pt x="1442" y="1540"/>
                      <a:pt x="1485" y="1523"/>
                    </a:cubicBezTo>
                    <a:cubicBezTo>
                      <a:pt x="1528" y="1507"/>
                      <a:pt x="1601" y="1498"/>
                      <a:pt x="1648" y="1532"/>
                    </a:cubicBezTo>
                    <a:cubicBezTo>
                      <a:pt x="1695" y="1566"/>
                      <a:pt x="1775" y="1649"/>
                      <a:pt x="1764" y="1727"/>
                    </a:cubicBezTo>
                    <a:cubicBezTo>
                      <a:pt x="1753" y="1805"/>
                      <a:pt x="1673" y="1961"/>
                      <a:pt x="1584" y="1998"/>
                    </a:cubicBezTo>
                    <a:cubicBezTo>
                      <a:pt x="1495" y="2035"/>
                      <a:pt x="1317" y="2016"/>
                      <a:pt x="1232" y="1948"/>
                    </a:cubicBezTo>
                    <a:cubicBezTo>
                      <a:pt x="1147" y="1880"/>
                      <a:pt x="1064" y="1700"/>
                      <a:pt x="1073" y="1588"/>
                    </a:cubicBezTo>
                    <a:cubicBezTo>
                      <a:pt x="1082" y="1476"/>
                      <a:pt x="1185" y="1337"/>
                      <a:pt x="1284" y="1273"/>
                    </a:cubicBezTo>
                    <a:cubicBezTo>
                      <a:pt x="1383" y="1209"/>
                      <a:pt x="1545" y="1180"/>
                      <a:pt x="1665" y="1205"/>
                    </a:cubicBezTo>
                    <a:cubicBezTo>
                      <a:pt x="1786" y="1230"/>
                      <a:pt x="1934" y="1312"/>
                      <a:pt x="2006" y="1424"/>
                    </a:cubicBezTo>
                    <a:cubicBezTo>
                      <a:pt x="2078" y="1536"/>
                      <a:pt x="2131" y="1732"/>
                      <a:pt x="2096" y="1876"/>
                    </a:cubicBezTo>
                    <a:cubicBezTo>
                      <a:pt x="2061" y="2020"/>
                      <a:pt x="1936" y="2207"/>
                      <a:pt x="1793" y="2286"/>
                    </a:cubicBezTo>
                    <a:cubicBezTo>
                      <a:pt x="1650" y="2365"/>
                      <a:pt x="1404" y="2395"/>
                      <a:pt x="1239" y="2351"/>
                    </a:cubicBezTo>
                    <a:cubicBezTo>
                      <a:pt x="1074" y="2307"/>
                      <a:pt x="900" y="2190"/>
                      <a:pt x="800" y="2020"/>
                    </a:cubicBezTo>
                    <a:cubicBezTo>
                      <a:pt x="700" y="1850"/>
                      <a:pt x="616" y="1528"/>
                      <a:pt x="641" y="1328"/>
                    </a:cubicBezTo>
                    <a:cubicBezTo>
                      <a:pt x="666" y="1128"/>
                      <a:pt x="784" y="932"/>
                      <a:pt x="951" y="817"/>
                    </a:cubicBezTo>
                    <a:cubicBezTo>
                      <a:pt x="1118" y="702"/>
                      <a:pt x="1426" y="598"/>
                      <a:pt x="1645" y="638"/>
                    </a:cubicBezTo>
                    <a:cubicBezTo>
                      <a:pt x="1864" y="678"/>
                      <a:pt x="2117" y="861"/>
                      <a:pt x="2265" y="1060"/>
                    </a:cubicBezTo>
                    <a:cubicBezTo>
                      <a:pt x="2413" y="1259"/>
                      <a:pt x="2552" y="1579"/>
                      <a:pt x="2535" y="1832"/>
                    </a:cubicBezTo>
                    <a:cubicBezTo>
                      <a:pt x="2518" y="2085"/>
                      <a:pt x="2363" y="2414"/>
                      <a:pt x="2160" y="2581"/>
                    </a:cubicBezTo>
                    <a:cubicBezTo>
                      <a:pt x="1957" y="2748"/>
                      <a:pt x="1612" y="2864"/>
                      <a:pt x="1316" y="2837"/>
                    </a:cubicBezTo>
                    <a:cubicBezTo>
                      <a:pt x="1020" y="2810"/>
                      <a:pt x="599" y="2663"/>
                      <a:pt x="382" y="2416"/>
                    </a:cubicBezTo>
                    <a:cubicBezTo>
                      <a:pt x="165" y="2169"/>
                      <a:pt x="0" y="1687"/>
                      <a:pt x="15" y="1357"/>
                    </a:cubicBezTo>
                    <a:cubicBezTo>
                      <a:pt x="30" y="1027"/>
                      <a:pt x="263" y="653"/>
                      <a:pt x="470" y="437"/>
                    </a:cubicBezTo>
                    <a:cubicBezTo>
                      <a:pt x="677" y="221"/>
                      <a:pt x="1023" y="122"/>
                      <a:pt x="1260" y="61"/>
                    </a:cubicBezTo>
                    <a:cubicBezTo>
                      <a:pt x="1497" y="0"/>
                      <a:pt x="1698" y="20"/>
                      <a:pt x="1891" y="70"/>
                    </a:cubicBezTo>
                    <a:cubicBezTo>
                      <a:pt x="2084" y="120"/>
                      <a:pt x="2273" y="235"/>
                      <a:pt x="2417" y="364"/>
                    </a:cubicBezTo>
                    <a:cubicBezTo>
                      <a:pt x="2561" y="493"/>
                      <a:pt x="2685" y="746"/>
                      <a:pt x="2755" y="846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4572000" y="2781360"/>
                <a:ext cx="3313080" cy="865080"/>
              </a:xfrm>
              <a:prstGeom prst="wedgeEllipseCallout">
                <a:avLst>
                  <a:gd name="adj1" fmla="val -43481"/>
                  <a:gd name="adj2" fmla="val 7568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. Информационное обеспечение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3130560" y="5518080"/>
                <a:ext cx="2736720" cy="1008000"/>
              </a:xfrm>
              <a:prstGeom prst="wedgeEllipseCallout">
                <a:avLst>
                  <a:gd name="adj1" fmla="val 28481"/>
                  <a:gd name="adj2" fmla="val -90314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2. Принятие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971640" y="1413000"/>
                <a:ext cx="3240000" cy="1008000"/>
              </a:xfrm>
              <a:prstGeom prst="wedgeEllipseCallout">
                <a:avLst>
                  <a:gd name="adj1" fmla="val 34222"/>
                  <a:gd name="adj2" fmla="val 8495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 Реализация принятых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Line 11"/>
            <p:cNvSpPr/>
            <p:nvPr/>
          </p:nvSpPr>
          <p:spPr>
            <a:xfrm flipH="1">
              <a:off x="6238440" y="4726080"/>
              <a:ext cx="144360" cy="288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>
              <a:off x="5650920" y="4487760"/>
              <a:ext cx="7164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5157720" y="4165560"/>
              <a:ext cx="7128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2987280" y="52290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 flipV="1">
              <a:off x="3695400" y="46764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 flipV="1">
              <a:off x="4211280" y="4294080"/>
              <a:ext cx="14292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487760" y="1519200"/>
              <a:ext cx="144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4427640" y="2443320"/>
              <a:ext cx="215640" cy="7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498920" y="3357720"/>
              <a:ext cx="144360" cy="71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Прямоугольник 21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  <a:ea typeface="Arial"/>
              </a:rPr>
              <a:t>Управленческий цик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5976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Цикл эффективного управлени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Шухарта – Деминг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1"/>
          <p:cNvPicPr/>
          <p:nvPr/>
        </p:nvPicPr>
        <p:blipFill>
          <a:blip r:embed="rId2"/>
          <a:stretch/>
        </p:blipFill>
        <p:spPr>
          <a:xfrm>
            <a:off x="2050920" y="981000"/>
            <a:ext cx="5418360" cy="5648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492360" y="19148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65440" y="585828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uhart"/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4464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276720" y="694800"/>
            <a:ext cx="58672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ahoma"/>
              </a:rPr>
              <a:t>Уолтер Шухарт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(1891 – 1967) – всемирно известный американский ученый и консультант по теории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4941360"/>
            <a:ext cx="9144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о многом благодаря наработкам Шухарта была реализована статистическая концепция </a:t>
            </a:r>
            <a:r>
              <a:rPr b="1" lang="ru-RU" sz="2100" spc="-1" strike="noStrike">
                <a:solidFill>
                  <a:srgbClr val="ff9933"/>
                </a:solidFill>
                <a:latin typeface="Tahoma"/>
              </a:rPr>
              <a:t>Шесть сигм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Совместно с Э. Демингом предложил модель эффективного управления («</a:t>
            </a:r>
            <a:r>
              <a:rPr b="1" lang="ru-RU" sz="2100" spc="-1" strike="noStrike">
                <a:solidFill>
                  <a:srgbClr val="ffff00"/>
                </a:solidFill>
                <a:latin typeface="Tahoma"/>
              </a:rPr>
              <a:t>цикл Шухарта-Деминг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51280" y="195120"/>
            <a:ext cx="5292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Эдвард Деминг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режливое производст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deming_w_edwards_200"/>
          <p:cNvPicPr/>
          <p:nvPr/>
        </p:nvPicPr>
        <p:blipFill>
          <a:blip r:embed="rId2"/>
          <a:stretch/>
        </p:blipFill>
        <p:spPr>
          <a:xfrm>
            <a:off x="196920" y="189000"/>
            <a:ext cx="366372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08000" y="4437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д окончанием второй мировой войны статистический контроль качества применялся в Японии очень мал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онце 40-х годов Деминг обучал японцев статистическим методам. Деминг был первым из тех, кого теперь называют «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мериканскими гуру качеств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посетивших Япо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Демингом последовали Д. Джуран и А. Фейгенба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5732640"/>
            <a:ext cx="9144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Medal_JUSE"/>
          <p:cNvPicPr/>
          <p:nvPr/>
        </p:nvPicPr>
        <p:blipFill>
          <a:blip r:embed="rId2"/>
          <a:stretch/>
        </p:blipFill>
        <p:spPr>
          <a:xfrm>
            <a:off x="2627280" y="1773360"/>
            <a:ext cx="382896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11340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</a:t>
            </a: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1951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_0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592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Модель управления качеством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План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включае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Первая часть управленческого цик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(сбор, хранение, обработку, анализ информаци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Методы планирования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налитическ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оотношений и пропорц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сперимента и моделир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истемного и ситуационного подход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анали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260280"/>
            <a:ext cx="88930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Организация выполнения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Проверка (контроль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зволяет осуществлять обратную связь,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Действие (руководство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это мотивация сотрудников для реализации управленческих решений, оно завершает цикл управл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560" y="333000"/>
            <a:ext cx="86439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им образом, в понятие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современного у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611280" y="2637000"/>
            <a:ext cx="8136000" cy="794880"/>
          </a:xfrm>
          <a:prstGeom prst="rect">
            <a:avLst/>
          </a:prstGeom>
          <a:noFill/>
          <a:ln w="0">
            <a:noFill/>
          </a:ln>
          <a:effectLst>
            <a:outerShdw dist="92520" dir="20637765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99"/>
                </a:solidFill>
                <a:latin typeface="Tahoma"/>
              </a:rPr>
              <a:t>Благодарю за внимание!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Рейтинг представителей различных профессий (по 100-балльной шкал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29600" cy="5199120"/>
        </p:xfrm>
        <a:graphic>
          <a:graphicData uri="http://schemas.openxmlformats.org/drawingml/2006/table">
            <a:tbl>
              <a:tblPr/>
              <a:tblGrid>
                <a:gridCol w="2809800"/>
                <a:gridCol w="267660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ф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м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. сест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ступные автор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иту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212800"/>
            <a:ext cx="903600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ждая кухарка может управлять государством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Лен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280px-Leninportrait"/>
          <p:cNvPicPr/>
          <p:nvPr/>
        </p:nvPicPr>
        <p:blipFill>
          <a:blip r:embed="rId2"/>
          <a:stretch/>
        </p:blipFill>
        <p:spPr>
          <a:xfrm>
            <a:off x="2771640" y="333360"/>
            <a:ext cx="3140280" cy="4608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53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менеджер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следующих навыков и способносте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ять соб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Разум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н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Четк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л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Упор на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й рос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Навык реша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новация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 Высокая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лия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на окружающи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особность руководи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0. Умен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обуч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звив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подчиненны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бочие групп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Знание эффективных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енческих подходо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56760" y="1285560"/>
            <a:ext cx="8572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ы менеджме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83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0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а научного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6:21:07Z</dcterms:created>
  <dc:creator>Olga Chernykh</dc:creator>
  <dc:description/>
  <dc:language>en-US</dc:language>
  <cp:lastModifiedBy>LEGION</cp:lastModifiedBy>
  <dcterms:modified xsi:type="dcterms:W3CDTF">2016-01-11T10:02:19Z</dcterms:modified>
  <cp:revision>409</cp:revision>
  <dc:subject/>
  <dc:title>Менеджмент в сестринском деле: теория и практика</dc:title>
</cp:coreProperties>
</file>