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AE55-39F5-405A-8A3F-217CE54B24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в управлении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ФИНАНСЫ И МЕНЕДЖМЕНТ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. Канафина А.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в управлении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ФЕДРА «ФИНАНСЫ И МЕНЕДЖМЕНТ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. преп. Канафина А.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в управлен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ФИНАНСЫ И 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. Канафина А.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лемент – источник – это человек или группа людей, формулирующие идею, мнение и т.п. и желающие передать их другому человеку или другим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элемент – это само сообщение, которое передается от источника другому человеку или другим люд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элемент – канал – это среда, через которую передается сообщ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ертый элемент – приемник – человек или группа людей, принимающие со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лемент – источник – это человек или группа людей, формулирующие идею, мнение и т.п. и желающие передать их другому человеку или другим людям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элемент – это само сообщение, которое передается от источника другому человеку или другим людя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элемент – канал – это среда, через которую передается сообщение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ертый элемент – приемник – человек или группа людей, принимающие сообщения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создание сообщения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стадия – кодирование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создание сообщения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стадия – кодирование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ья стадия – передача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ёртая стадия – прием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ья стадия – передача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ёртая стадия – прием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ая стадия – расшифровка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прямые и обратные связ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ая стадия – восприятие – это конечный этап коммуникационного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ая стадия – расшифровка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прямые и обратные связ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ая стадия – восприятие – это конечный этап коммуникационного процесса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коммун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коммуник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линейная модель, разработанная американским социологом Г. Лассуэллом и включающая 5 элемен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то? (передаёт сообщение) – коммун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Что? (передаётся) – со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ак? (осуществляется передача) – ка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ому? (направлено сообщение) – ауди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С каким эффектом? – 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линейная модель, разработанная американским социологом Г. Лассуэллом и включающая 5 элемент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то? (передаёт сообщение) – коммуник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Что? (передаётся) – сообщ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ак? (осуществляется передача) – кана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ому? (направлено сообщение) – аудитор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С каким эффектом? – результа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ели Шеннона-Уивера коммуникация описывается как линейный односторонний процесс. Согласно его теории, компонентами коммуникаци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ели Шеннона-Уивера коммуникация описывается как линейный односторонний процесс. Согласно его теории, компонентами коммуникации являются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, значение и классификация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ммуникационный процесс, его понятие и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Информационные технологии в управлен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, значение и классификация информаци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ммуникационный процесс, его понятие и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Информационные технологии в управленческой деятельност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ДеФлю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ДеФлюер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кулярная модель Шрама-Осг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кулярная модель Шрама-Осг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тивные б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тивные барье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осприятия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осприятия информаци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обеспечени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обеспечение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которые сведения, совокупность данных, имеющих практическое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екоторые сведения, совокупность данных, имеющих практическое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которые сведения, совокупность данных, имеющих практическое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система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система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но-организованная последовательность операций, выполняемых над информацией с использованием средств и методов автом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но-организованная последовательность операций, выполняемых над информацией с использованием средств и методов автомат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бор и регистрация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страция в машинном носителе, вдокум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информационную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 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бор и регистрация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страция в машинном носителе, вдокумент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информационную систе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 и регистр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каналы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сообщений с обратным преобразов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ередач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каналы связ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сообщений с обратным преобразовани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информации в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и контроль вы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бражение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ботк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информации в систе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и контроль вы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бражение результа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Хранение, 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и актуализация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Хранение, поис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и актуализация данных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нализ, подготовка принят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сход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нализ, подготовка принятия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сходной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м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формирования докумен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изображ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о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визуал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виртуальной реа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ре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и преобразования сигнал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электронной подпис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й офи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ая поч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технологии, используемые в управленческой деяте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технологии, используемые в управленческой деяте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льтимедиа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йрокомпьютер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но-ориентирова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управления зна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нет-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технологии, используемые в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ования, предъявляемые 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м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(полнота, достаточ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сть (достовер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(возможность применения технических средств обработки и передачи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ность сбора и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значность (инф не должна допуск различ толк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и коммуникацио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– это общение людей в процессе совместной деятельности, обмен информацией, идеями, мыс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процесс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и коммуникационный процес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– это общение людей в процессе совместной деятельности, обмен информацией, идеями, мыслям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процесс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четырех элементов и проходит через шесть стадий (рис. 1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четырех элементов и проходит через шесть стадий (рис. 1)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27D-8FB8-47EE-BF85-9C9A4B5E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597-040C-42F2-A788-DD591B36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49E-8C92-424B-8659-EF9DCFEB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FEF-C8D5-48E4-AD14-C6AB433C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408F-7A29-4B76-98CB-8DA63E15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374-5BC5-429B-B94C-6B3FF31C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F18-20BF-4E2B-9A2D-11697C3A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41E-49A7-487E-9C40-67827989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527-7553-45D2-8B9D-444078B0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597-6A7C-4040-941E-7FADDC61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1429-01C2-4827-B3F0-82E07D72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A00-4A97-4763-97CA-ECC311D6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87CC-83B8-42B9-81D8-9559163A4A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3760"/>
            <a:ext cx="856908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Информация и        коммуникация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              в управлении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3363840"/>
            <a:ext cx="5905440" cy="18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КАФЕДРА «ФИНАНСЫ И МЕНЕДЖМЕН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Ст. преп. Канафина А.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5803920"/>
            <a:ext cx="8605800" cy="65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4"/>
          <p:cNvGraphicFramePr/>
          <p:nvPr/>
        </p:nvGraphicFramePr>
        <p:xfrm>
          <a:off x="4788000" y="3441600"/>
          <a:ext cx="3930480" cy="30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3441600"/>
                    <a:ext cx="393048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1"/>
          <p:cNvGrpSpPr/>
          <p:nvPr/>
        </p:nvGrpSpPr>
        <p:grpSpPr>
          <a:xfrm>
            <a:off x="1042920" y="1268280"/>
            <a:ext cx="7274160" cy="3241440"/>
            <a:chOff x="1042920" y="1268280"/>
            <a:chExt cx="7274160" cy="3241440"/>
          </a:xfrm>
        </p:grpSpPr>
        <p:sp>
          <p:nvSpPr>
            <p:cNvPr id="82" name="Rectangle 4"/>
            <p:cNvSpPr/>
            <p:nvPr/>
          </p:nvSpPr>
          <p:spPr>
            <a:xfrm>
              <a:off x="1835280" y="1268280"/>
              <a:ext cx="5688000" cy="324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анал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6"/>
            <p:cNvSpPr/>
            <p:nvPr/>
          </p:nvSpPr>
          <p:spPr>
            <a:xfrm>
              <a:off x="2916360" y="2563560"/>
              <a:ext cx="352728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ообщение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7"/>
            <p:cNvSpPr/>
            <p:nvPr/>
          </p:nvSpPr>
          <p:spPr>
            <a:xfrm>
              <a:off x="1042920" y="1699920"/>
              <a:ext cx="7923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"/>
            <p:cNvSpPr/>
            <p:nvPr/>
          </p:nvSpPr>
          <p:spPr>
            <a:xfrm>
              <a:off x="7524720" y="1699920"/>
              <a:ext cx="7923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Ё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человек или группа людей, формулирующие идею, мнение и т.п. и желающие передать их другому человеку или другим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й элемент – это сам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общ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ое передается от источника другому человеку или другим люд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н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среда, через которую передается сообщ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верты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ем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еловек или группа людей, принимающие со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здание сообщ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дир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тья стадия –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ередач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твёртая стадия –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рие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шифров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ямые и обратные связ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ст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конечный этап коммуникационного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дели коммун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ирокое распростран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лучила линейная модель, разработанная американским социологом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Г. Лассуэлло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включающая 5 элемент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Кто? (передаёт сообщение) – коммуник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Что? (передаётся) – сооб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Как? (осуществляется передача) – ка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Кому? (направлено сообщение) – ауди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 С каким эффектом? – 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дел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еннона-Уив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ммуникация описывается как линейный односторонний процесс. Согласно его теории, компонентами коммуникац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50920" y="2276640"/>
            <a:ext cx="194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284720" y="2276640"/>
            <a:ext cx="7938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451640" y="2205000"/>
            <a:ext cx="11541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411280" y="2276640"/>
            <a:ext cx="1440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067280" y="3716280"/>
            <a:ext cx="1441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651640" y="2205000"/>
            <a:ext cx="13698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2195640" y="285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3851280" y="2708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5076720" y="27082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7020000" y="2708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 flipV="1">
            <a:off x="471636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Понятие, значение и классификация информ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Коммуникационный процесс, его понятие и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Информационные технологии в управленческо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Флю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2412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851280" y="278136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12400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78000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550872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7308720" y="124128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7308720" y="436572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558000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385128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219564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468360" y="4365720"/>
            <a:ext cx="1511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90800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"/>
          <p:cNvSpPr/>
          <p:nvPr/>
        </p:nvSpPr>
        <p:spPr>
          <a:xfrm>
            <a:off x="3492360" y="1700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>
            <a:off x="5148360" y="17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6877080" y="17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 flipH="1">
            <a:off x="694800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 flipH="1">
            <a:off x="52192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3564000" y="4724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 flipH="1"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 flipV="1">
            <a:off x="1116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4500720" y="213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 flipV="1">
            <a:off x="4500720" y="3645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8028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Циркулярная модель Шрама-Осг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780000" y="981000"/>
            <a:ext cx="1728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780000" y="4724280"/>
            <a:ext cx="17287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68360" y="1844640"/>
            <a:ext cx="2519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2997360"/>
            <a:ext cx="2519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39640" y="422100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227640" y="414972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6227640" y="299736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6227640" y="191628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161928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1619280" y="5300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5508720" y="5300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759636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1476360" y="148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1476360" y="1484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5508720" y="1484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7596360" y="1484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ммуникативные барь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словия восприятия информ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395280" y="1557360"/>
            <a:ext cx="8207280" cy="4578480"/>
            <a:chOff x="395280" y="1557360"/>
            <a:chExt cx="8207280" cy="4578480"/>
          </a:xfrm>
        </p:grpSpPr>
        <p:sp>
          <p:nvSpPr>
            <p:cNvPr id="178" name="AutoShape 5"/>
            <p:cNvSpPr/>
            <p:nvPr/>
          </p:nvSpPr>
          <p:spPr>
            <a:xfrm>
              <a:off x="395280" y="1557360"/>
              <a:ext cx="8207280" cy="457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552600" y="1918440"/>
              <a:ext cx="1736280" cy="108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НЕШ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НУТРЕН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2604240" y="1918440"/>
              <a:ext cx="4895640" cy="96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ЩИ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БОР                                                                                                  ПЕРЕДАЧА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3393360" y="2400120"/>
              <a:ext cx="2841840" cy="12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ЕОБРАЗ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ПОМИН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3078360" y="2882880"/>
              <a:ext cx="394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2288880" y="240012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2288880" y="252144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1026720" y="2279880"/>
              <a:ext cx="1104480" cy="36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710280" y="2159640"/>
              <a:ext cx="141948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сточники информации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"/>
            <p:cNvSpPr/>
            <p:nvPr/>
          </p:nvSpPr>
          <p:spPr>
            <a:xfrm>
              <a:off x="2604240" y="240012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5"/>
            <p:cNvSpPr/>
            <p:nvPr/>
          </p:nvSpPr>
          <p:spPr>
            <a:xfrm>
              <a:off x="6866280" y="240012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"/>
            <p:cNvSpPr/>
            <p:nvPr/>
          </p:nvSpPr>
          <p:spPr>
            <a:xfrm>
              <a:off x="3393360" y="2882880"/>
              <a:ext cx="94572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ервичная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обработка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7"/>
            <p:cNvSpPr/>
            <p:nvPr/>
          </p:nvSpPr>
          <p:spPr>
            <a:xfrm>
              <a:off x="5287680" y="2882880"/>
              <a:ext cx="94896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дир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8"/>
            <p:cNvSpPr/>
            <p:nvPr/>
          </p:nvSpPr>
          <p:spPr>
            <a:xfrm>
              <a:off x="4340520" y="2882880"/>
              <a:ext cx="94716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ображе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7340400" y="2400120"/>
              <a:ext cx="15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 flipH="1">
              <a:off x="6076440" y="2400120"/>
              <a:ext cx="14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2604240" y="2400120"/>
              <a:ext cx="94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2"/>
            <p:cNvSpPr/>
            <p:nvPr/>
          </p:nvSpPr>
          <p:spPr>
            <a:xfrm>
              <a:off x="7182720" y="3244320"/>
              <a:ext cx="126216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игнал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оситель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7483320" y="253332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7813080" y="2521440"/>
              <a:ext cx="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>
              <a:off x="7182720" y="3485520"/>
              <a:ext cx="12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6"/>
            <p:cNvSpPr/>
            <p:nvPr/>
          </p:nvSpPr>
          <p:spPr>
            <a:xfrm>
              <a:off x="7970760" y="2038680"/>
              <a:ext cx="316080" cy="108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7"/>
            <p:cNvSpPr/>
            <p:nvPr/>
          </p:nvSpPr>
          <p:spPr>
            <a:xfrm>
              <a:off x="2763000" y="4208400"/>
              <a:ext cx="4897080" cy="9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ЩИ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ЫДАЧА                                                                                          ПРИЕМ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8"/>
            <p:cNvSpPr/>
            <p:nvPr/>
          </p:nvSpPr>
          <p:spPr>
            <a:xfrm>
              <a:off x="3867480" y="4690080"/>
              <a:ext cx="2842920" cy="84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ПОМИН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9"/>
            <p:cNvSpPr/>
            <p:nvPr/>
          </p:nvSpPr>
          <p:spPr>
            <a:xfrm>
              <a:off x="2763000" y="4690080"/>
              <a:ext cx="11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0"/>
            <p:cNvSpPr/>
            <p:nvPr/>
          </p:nvSpPr>
          <p:spPr>
            <a:xfrm>
              <a:off x="6708600" y="4690080"/>
              <a:ext cx="94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1"/>
            <p:cNvSpPr/>
            <p:nvPr/>
          </p:nvSpPr>
          <p:spPr>
            <a:xfrm>
              <a:off x="7970760" y="384696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2"/>
            <p:cNvSpPr/>
            <p:nvPr/>
          </p:nvSpPr>
          <p:spPr>
            <a:xfrm flipH="1">
              <a:off x="7655400" y="493128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3"/>
            <p:cNvSpPr/>
            <p:nvPr/>
          </p:nvSpPr>
          <p:spPr>
            <a:xfrm>
              <a:off x="8114040" y="3955680"/>
              <a:ext cx="330840" cy="108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5761440" y="4690080"/>
              <a:ext cx="94680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екодир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3867480" y="4690080"/>
              <a:ext cx="94464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верк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4814640" y="4690080"/>
              <a:ext cx="94464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еобраз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710280" y="4569840"/>
              <a:ext cx="1735920" cy="48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Использование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8"/>
            <p:cNvSpPr/>
            <p:nvPr/>
          </p:nvSpPr>
          <p:spPr>
            <a:xfrm flipH="1">
              <a:off x="2446560" y="481032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4972320" y="3725640"/>
              <a:ext cx="2051640" cy="36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МЕХ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40"/>
            <p:cNvSpPr/>
            <p:nvPr/>
          </p:nvSpPr>
          <p:spPr>
            <a:xfrm flipV="1">
              <a:off x="6866280" y="3364200"/>
              <a:ext cx="31536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1"/>
            <p:cNvSpPr/>
            <p:nvPr/>
          </p:nvSpPr>
          <p:spPr>
            <a:xfrm>
              <a:off x="6866280" y="372564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Информационное обеспе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6516720" y="404640"/>
          <a:ext cx="2627280" cy="22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404640"/>
                    <a:ext cx="262728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137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некоторы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веден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данны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имеющих практическое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нформацион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формационная тех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истемно-организованна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следовательность операций, выполняемых над информаци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использованием средств и методов автом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4"/>
          <p:cNvGrpSpPr/>
          <p:nvPr/>
        </p:nvGrpSpPr>
        <p:grpSpPr>
          <a:xfrm>
            <a:off x="468360" y="2205000"/>
            <a:ext cx="8207280" cy="4000680"/>
            <a:chOff x="468360" y="2205000"/>
            <a:chExt cx="8207280" cy="4000680"/>
          </a:xfrm>
        </p:grpSpPr>
        <p:sp>
          <p:nvSpPr>
            <p:cNvPr id="236" name="AutoShape 5"/>
            <p:cNvSpPr/>
            <p:nvPr/>
          </p:nvSpPr>
          <p:spPr>
            <a:xfrm>
              <a:off x="468360" y="2205000"/>
              <a:ext cx="8207280" cy="40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"/>
            <p:cNvSpPr/>
            <p:nvPr/>
          </p:nvSpPr>
          <p:spPr>
            <a:xfrm>
              <a:off x="3056400" y="3233520"/>
              <a:ext cx="268308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МЕТОДЫ СВЯЗ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7"/>
            <p:cNvSpPr/>
            <p:nvPr/>
          </p:nvSpPr>
          <p:spPr>
            <a:xfrm>
              <a:off x="5834520" y="2433600"/>
              <a:ext cx="26834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КОМПЬЮТЕРЫ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>
              <a:off x="468360" y="2433600"/>
              <a:ext cx="32198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БЫЧНЫЕ СРЕДСТВ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 flipH="1">
              <a:off x="2203920" y="2205000"/>
              <a:ext cx="22093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0"/>
            <p:cNvSpPr/>
            <p:nvPr/>
          </p:nvSpPr>
          <p:spPr>
            <a:xfrm>
              <a:off x="4730040" y="449136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ЕЧАТЬ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1"/>
            <p:cNvSpPr/>
            <p:nvPr/>
          </p:nvSpPr>
          <p:spPr>
            <a:xfrm>
              <a:off x="4730040" y="4834080"/>
              <a:ext cx="363024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КУСТИЧЕСКАЯ ПЕРЕДАЧ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"/>
            <p:cNvSpPr/>
            <p:nvPr/>
          </p:nvSpPr>
          <p:spPr>
            <a:xfrm>
              <a:off x="783360" y="4148280"/>
              <a:ext cx="363024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ЛИЧНОЕ ОБЩЕ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>
              <a:off x="4730040" y="55198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ЛЕКТРОННАЯ ПОЧ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4"/>
            <p:cNvSpPr/>
            <p:nvPr/>
          </p:nvSpPr>
          <p:spPr>
            <a:xfrm>
              <a:off x="4730040" y="5176800"/>
              <a:ext cx="363024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УДИОВИЗУАЛЬНАЯ ТЕХНИК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5"/>
            <p:cNvSpPr/>
            <p:nvPr/>
          </p:nvSpPr>
          <p:spPr>
            <a:xfrm>
              <a:off x="783360" y="449136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ГРУППОВАЯ БЕСЕД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6"/>
            <p:cNvSpPr/>
            <p:nvPr/>
          </p:nvSpPr>
          <p:spPr>
            <a:xfrm>
              <a:off x="783360" y="48340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НФЕРЕНЦИЯ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7"/>
            <p:cNvSpPr/>
            <p:nvPr/>
          </p:nvSpPr>
          <p:spPr>
            <a:xfrm>
              <a:off x="4730040" y="41482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ЕЛЕКОММУНИКАЦИ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 flipH="1">
              <a:off x="2741040" y="3690360"/>
              <a:ext cx="157824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4319640" y="3690360"/>
              <a:ext cx="205164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Line 20"/>
          <p:cNvSpPr/>
          <p:nvPr/>
        </p:nvSpPr>
        <p:spPr>
          <a:xfrm flipH="1">
            <a:off x="2195280" y="1557360"/>
            <a:ext cx="23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572000" y="1557360"/>
            <a:ext cx="2448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572000" y="155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бор и регистрац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машинном носителе, вдокуме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информационн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вода и регист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едач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каналы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бщений с обратным преобраз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работк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 в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 и 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ображ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Хранение, поис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дача и актуа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нализ, подготовка принятия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ходн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5280" y="1628640"/>
          <a:ext cx="8229600" cy="4583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655640"/>
                <a:gridCol w="2098800"/>
              </a:tblGrid>
              <a:tr h="113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информа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пределенность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ко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неопределенность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ивные ожида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зна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днозна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ивные ощуще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ренн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веренн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Используемые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ременные технологии, используемые в управленческ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13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91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1125360"/>
          <a:ext cx="8280360" cy="5737320"/>
        </p:xfrm>
        <a:graphic>
          <a:graphicData uri="http://schemas.openxmlformats.org/drawingml/2006/table">
            <a:tbl>
              <a:tblPr/>
              <a:tblGrid>
                <a:gridCol w="3591000"/>
                <a:gridCol w="4689360"/>
              </a:tblGrid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бщему назначени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ивная, справочно-информацио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целевому назначени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овая, отчетно-статистическая, научно-техническая, административна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характеру носителей информац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ированная, (отчеты, справки) недокументирова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тепени обработ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ная, Первичная, вторич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источнику поступ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яя, внешня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аправлению движ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ящая, исходящ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ериодич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ическая, разов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форме представ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ьменная и устная, цифровая, буквенная, кодирова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асыщен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очная, недостаточная, избыточ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137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137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оммуникация и коммуникационный проце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муник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щение людей в процессе совместной деятельности, обмен информацией, идеями, мыс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муникационный процес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тырех элеме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оходит чере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есть стад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ис. 1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1:46:36Z</dcterms:created>
  <dc:creator>Tyrex</dc:creator>
  <dc:description/>
  <dc:language>en-US</dc:language>
  <cp:lastModifiedBy>LEGION</cp:lastModifiedBy>
  <dcterms:modified xsi:type="dcterms:W3CDTF">2016-01-11T10:01:57Z</dcterms:modified>
  <cp:revision>70</cp:revision>
  <dc:subject/>
  <dc:title>Информация и коммуникация в управлении</dc:title>
</cp:coreProperties>
</file>