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88F1-B1DF-46CC-BFAE-1CB9BAEC5B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и        коммуник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в управлении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«ФИНАНСЫ И МЕНЕДЖМЕНТ»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. преп. Канафина А.Т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я и        коммуник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в управлении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ФЕДРА «ФИНАНСЫ И МЕНЕДЖМЕНТ»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. преп. Канафина А.Т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и        коммуникац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в управлени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«ФИНАНСЫ И 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. преп. Канафина А.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1. Элементы коммуникацион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1. Элементы коммуникационного процесс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элемент – источник – это человек или группа людей, формулирующие идею, мнение и т.п. и желающие передать их другому человеку или другим люд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ой элемент – это само сообщение, которое передается от источника другому человеку или другим люд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тий элемент – канал – это среда, через которую передается сообщ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вертый элемент – приемник – человек или группа людей, принимающие со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элемент – источник – это человек или группа людей, формулирующие идею, мнение и т.п. и желающие передать их другому человеку или другим людям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ой элемент – это само сообщение, которое передается от источника другому человеку или другим людям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тий элемент – канал – это среда, через которую передается сообщение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вертый элемент – приемник – человек или группа людей, принимающие сообщения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стадия коммуникативного процесса – создание сообщения – осмысливание того, что источник хочет сообщить приемнику, осознание источником того, что сообщение будет понятно приемн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стадия – кодирование – мнение, мысль, идея и т.п. выражаются в виде символов (их можно увидеть, услышать, ощутить), которые становятся выразителями смысла сообщения, должны быть понятны приемнику (слова, жесты, мимика, звуки, схемы, рисунки и т.п.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стадия коммуникативного процесса – создание сообщения – осмысливание того, что источник хочет сообщить приемнику, осознание источником того, что сообщение будет понятно приемнику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стадия – кодирование – мнение, мысль, идея и т.п. выражаются в виде символов (их можно увидеть, услышать, ощутить), которые становятся выразителями смысла сообщения, должны быть понятны приемнику (слова, жесты, мимика, звуки, схемы, рисунки и т.п.)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тья стадия – передача – мнение, мысли, идея и т.п., закодированные с помощью символов в сообщение передается приемнику через воспроизведение символов: показом жестов, исполнение музыки, демонстрация фильма, рисунков и т.п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вёртая стадия – прием – представляет собой получение сообщения приемником. Условия окружающей среды могут эффективно влиять на приём сообщения, а могут ему препятствовать. Важны правильность и точность приема сообщений, что зависит от того, на какое из чувств приемника (зрение, слух, ощущение, осязание, обоняние) эта информация оказывает наибольшее воздейств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тья стадия – передача – мнение, мысли, идея и т.п., закодированные с помощью символов в сообщение передается приемнику через воспроизведение символов: показом жестов, исполнение музыки, демонстрация фильма, рисунков и т.п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вёртая стадия – прием – представляет собой получение сообщения приемником. Условия окружающей среды могут эффективно влиять на приём сообщения, а могут ему препятствовать. Важны правильность и точность приема сообщений, что зависит от того, на какое из чувств приемника (зрение, слух, ощущение, осязание, обоняние) эта информация оказывает наибольшее воздействие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ятая стадия – расшифровка – подготовка информации, полученной приемником для восприятия её значения. Эффективность её зависит от знания приемником символов, с помощью которых она зашифрована. Для высокой эффективности расшифровки между источником и преемником должны быть постоянные прямые и обратные связ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стая стадия – восприятие – это конечный этап коммуникационного процесс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ятая стадия – расшифровка – подготовка информации, полученной приемником для восприятия её значения. Эффективность её зависит от знания приемником символов, с помощью которых она зашифрована. Для высокой эффективности расшифровки между источником и преемником должны быть постоянные прямые и обратные связи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стая стадия – восприятие – это конечный этап коммуникационного процесса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ложенные в сообщении идеи и мысли должны интегрироваться и быть связаны с той информацией, которой приемник уже владеет. Без такой ассимиляции, содержащиеся в расшифрованном сообщении символы, могут остаться бесполезными, не базируясь на известной для приемника информ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ложенные в сообщении идеи и мысли должны интегрироваться и быть связаны с той информацией, которой приемник уже владеет. Без такой ассимиляции, содержащиеся в расшифрованном сообщении символы, могут остаться бесполезными, не базируясь на известной для приемника информации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коммун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модель коммуникации была разработана ещё Аристотелем и включала в себя 3 элеме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ящий – человек, который говори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чь – речь, которую произносит челове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дитория – те, кто слуш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 коммуник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ая модель коммуникации была разработана ещё Аристотелем и включала в себя 3 элемента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ящий – человек, который говорит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чь – речь, которую произносит человек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дитория – те, кто слушает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рокое распространение получила линейная модель, разработанная американским социологом Г. Лассуэллом и включающая 5 элемент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Кто? (передаёт сообщение) – коммуник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Что? (передаётся) – сообщ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Как? (осуществляется передача) – кан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Кому? (направлено сообщение) – аудит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С каким эффектом? – результ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рокое распространение получила линейная модель, разработанная американским социологом Г. Лассуэллом и включающая 5 элементов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Кто? (передаёт сообщение) – коммуникатор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Что? (передаётся) – сообщ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Как? (осуществляется передача) – канал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Кому? (направлено сообщение) – аудитор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С каким эффектом? – результа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дели Шеннона-Уивера коммуникация описывается как линейный односторонний процесс. Согласно его теории, компонентами коммуникации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т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гн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т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ой задачей было снижение «шума» и максимальное облегчение обмена информ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одели Шеннона-Уивера коммуникация описывается как линейный односторонний процесс. Согласно его теории, компонентами коммуникации являются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тель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гнал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тель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ой задачей было снижение «шума» и максимальное облегчение обмена информацией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ние       сигнал       ченный      сообщ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3 Модель коммуникации Шеннона-Уив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ние       сигнал       ченный      сообщ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3 Модель коммуникации Шеннона-Уивер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м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, значение и классификация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оммуникационный процесс, его понятие и зна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Информационные технологии в управлен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нятие, значение и классификация информации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оммуникационный процесс, его понятие и знач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Информационные технологии в управленческой деятельности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 данной схемы состоит в очевидности того, что сообщение, отправленное источником и сообщение, достигнутое реципиента, имеют неодинаковое зна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пособность участников коммуникации осознать, что посланное и полученное сообщение не всегда совпадают, является частой причиной затруднений коммуникационного обмена (эта мысль заложена в модели Шеннона-Уивер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Шеннона-Уивера расширил ДеФлю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имущество данной схемы состоит в очевидности того, что сообщение, отправленное источником и сообщение, достигнутое реципиента, имеют неодинаковое значение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пособность участников коммуникации осознать, что посланное и полученное сообщение не всегда совпадают, является частой причиной затруднений коммуникационного обмена (эта мысль заложена в модели Шеннона-Уивера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Шеннона-Уивера расширил ДеФлюер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4. Модель коммуникации ДеФлю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брат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 4. Модель коммуникации ДеФлюер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м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братна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ркулярная модель Шрама-Осг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лементы модел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овщ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гн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рес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ркулярная модель Шрама-Осгуд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элементы модели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овщик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гнал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ресат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5 Модель коммуникации Шрамма-Осг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овщ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овщ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с. 5 Модель коммуникации Шрамма-Осгуд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овщ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овщ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тивные барь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коммуникативным барьером обычно понимают все то, что препятствует эффективной коммуникации и блокирует её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Шепель выделил 6 явных барье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Дискомфорт физической среды, в условиях которой воспринимается сооб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тивные барьеры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коммуникативным барьером обычно понимают все то, что препятствует эффективной коммуникации и блокирует её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Шепель выделил 6 явных барьеров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Дискомфорт физической среды, в условиях которой воспринимается сообщение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нерция включенности, т.е. озабоченность слушателя др. пробле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Антипатия к чужим мыслям, стереотипизированность сознания, амбициоз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Языковой барьер – существенное различие словарного запаса, лексикона коммуникатора и аудито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рофессиональное неприятие – некомпетентное вторжения коммуникатора в профессиональную сферу собесед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Неприятие имиджа другого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Инерция включенности, т.е. озабоченность слушателя др. проблемам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Антипатия к чужим мыслям, стереотипизированность сознания, амбициозность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Языковой барьер – существенное различие словарного запаса, лексикона коммуникатора и аудитории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рофессиональное неприятие – некомпетентное вторжения коммуникатора в профессиональную сферу собеседника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Неприятие имиджа другого человека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итературе по психологии принято выделять 4 типа барье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етический – невыразительная быстрая или медленная речь, речь-скороговорка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нтический – различие в системах знаний с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листический  - несоответствие стиля речи коммуникатора, ситуации общения и психологического состояния собесед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ий – сложная непонятная или неправильная логики рассужд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итературе по психологии принято выделять 4 типа барьеров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етический – невыразительная быстрая или медленная речь, речь-скороговорка и т.п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антический – различие в системах знаний слов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листический  - несоответствие стиля речи коммуникатора, ситуации общения и психологического состояния собеседника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еский – сложная непонятная или неправильная логики рассуждений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восприятия информ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ство профессионального язы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т уровня интелл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т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ность из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нтрированность вним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онаци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восприятия информации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ство профессионального язык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т уровня интеллект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та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гичность изложен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нтрированность вниман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онация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лементы информацион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информационного процесс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обеспечение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назначено для от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и, характеризующ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управляемого объект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ющейся основой для при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их решений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яется благодаря созд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обеспечение 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назначено для отражен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и, характеризующей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управляемого объекта и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ющейся основой для принят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их решений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уществляется благодаря созданию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х систем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которые сведения, совокупность данных, имеющих практическое знач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некоторые сведения, совокупность данных, имеющих практическое знач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которые сведения, совокупность данных, имеющих практическое зна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система-совокупность информации, экономико-математических методов, технических, программных средств, специалистов, предназначенная для обработки информации и принятия управленческих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система-совокупность информации, экономико-математических методов, технических, программных средств, специалистов, предназначенная для обработки информации и принятия управленческих решен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 систе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ют в себ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оки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ы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ители 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е средства фиксирования, передачи, поиска и обработки да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 систе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ют в себ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оки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ы передач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ители 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е средства фиксирования, передачи, поиска и обработки данных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информацион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изованные и децентрализова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ые и лок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ые и слож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е и научно-тех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ручной, механизированной и автоматизированной обработки информ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информационных систем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изованные и децентрализованны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ые и локальны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ые и сложны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е и научно-техническ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ручной, механизированной и автоматизированной обработки информации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истемно-организованная последовательность операций, выполняемых над информацией с использованием средств и методов автомат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истемно-организованная последовательность операций, выполняемых над информацией с использованием средств и методов автоматиз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формационны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ые технолог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Сбор и регистрация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страция в машинном носителе, вдокумен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 в информационную сист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вода и регист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Сбор и регистрация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страция в машинном носителе, вдокумент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 в информационную систему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вода и регистр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ередач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 в каналы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 сообщений с обратным преобразова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ыв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ередача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 в каналы связ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бразова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 сообщений с обратным преобразованием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ывод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 информации в сист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в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 и контроль выв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ображение результа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бработка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 информации в систему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вод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 и контроль вывод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ображение результат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Хранение, поиск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поис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ча и актуализация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ыдачи и отоб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Хранение, поиск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ос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поиск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ча и актуализация данных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выдачи и отображен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Анализ, подготовка принятия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исходной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и корректир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инятия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ы и операции информационных технолог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Анализ, подготовка принятия решен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исходной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рова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ноз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и корректировк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принятия решен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 характера информации с управленческими реш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 характера информации с управленческими решениям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ые технолог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формирования документ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обработки изображен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о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визуализ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виртуальной реальност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обработки реч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обработки и преобразования сигнал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электронной подпис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ый офис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ая почт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уемые технолог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формирования документ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обработки изображений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ео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визуализ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виртуальной реальност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обработки реч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обработки и преобразования сигналов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электронной подпис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ный офис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ронная почт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ы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формирования доку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обработки изобра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о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визу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виртуальной ре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обработки ре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обработки и преобразования сигн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электронной подпи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ый офи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ая поч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технологии, используемые в управленческой деятельност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медиа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йрокомпьютерные технолог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но-ориентированная 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управления знаниям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нет-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е технологии, используемые в управленческой деятельност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льтимедиа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йрокомпьютерные технолог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ктно-ориентированная 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ология управления знаниям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тернет-технолог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технологии, используемые в управленческой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льтимедиа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йрокомпьютерны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но-ориентированная 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 управления зна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нет-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лассификация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ая 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ая 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ая 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ая 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 информация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ая информ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информ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ая информ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, предъявляемые к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им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(полнота, достаточность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ность (достоверность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еж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кость (возможность применения технических средств обработки и передачи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ность сбора и передач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ен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значность (инф не должна допуск различ толк.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ебования, предъявляемые к информаци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им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(полнота, достаточность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чность (достоверность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деж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уаль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 (возможность применения технических средств обработки и передачи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ность сбора и передачи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щищенность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означность (инф не должна допуск различ толк.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, предъявляемые к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(полнота, достаточ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чность (достовернос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деж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бкость (возможность применения технических средств обработки и передачи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ность сбора и пере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щ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значность (инф не должна допуск различ толк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я и коммуникационный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я – это общение людей в процессе совместной деятельности, обмен информацией, идеями, мыс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ый процесс – это процесс передачи информации от одного человека другому или другим людям. Одной из самых простых форм этого процесса можно считать разговор двух людей, находящихся ряд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я и коммуникационный процесс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я – это общение людей в процессе совместной деятельности, обмен информацией, идеями, мыслями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ый процесс – это процесс передачи информации от одного человека другому или другим людям. Одной из самых простых форм этого процесса можно считать разговор двух людей, находящихся рядом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жные формы коммуникации представляют собой множество прямых и непрямых путей доведения информации до тысяч или миллионов людей в виде сложных процессов. Независимо от сложности коммуникационного процесса его схема состоит из четырех элементов и проходит через шесть стадий (рис. 1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жные формы коммуникации представляют собой множество прямых и непрямых путей доведения информации до тысяч или миллионов людей в виде сложных процессов. Независимо от сложности коммуникационного процесса его схема состоит из четырех элементов и проходит через шесть стадий (рис. 1)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29B4-045C-4CCA-AF83-8235FAE7F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B7B4-E197-40A7-A676-4521660D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BF33-F1D8-41FB-B6CF-947F78FF7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CA13-A02D-48F3-9EC7-1084F4A1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D9E8-7F8F-4D6C-A5B2-A6E1862D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C828-22AE-40A5-8837-A852779E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A169-179F-457E-8AF6-23716D28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EA79-9A5E-4674-A1AF-F362F981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F69D-D650-4BAB-80FC-B4620DC7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9B67-E98B-4631-AE84-24952C675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4760-6374-43DE-A1E0-BC5BC3B3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E1AD-4B62-4D42-B56F-77A1CA5D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7CB5-9DFC-4719-B0F3-514D5156B1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1193760"/>
            <a:ext cx="8569080" cy="16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Информация и        коммуникация </a:t>
            </a:r>
            <a:br>
              <a:rPr sz="6000"/>
            </a:br>
            <a:r>
              <a:rPr b="0" lang="ru-RU" sz="6000" spc="-1" strike="noStrike">
                <a:solidFill>
                  <a:srgbClr val="ff0000"/>
                </a:solidFill>
                <a:latin typeface="Times New Roman"/>
              </a:rPr>
              <a:t>              в управлении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3363840"/>
            <a:ext cx="5905440" cy="18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КАФЕДРА «ФИНАНСЫ И МЕНЕДЖМЕНТ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Ст. преп. Канафина А.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Фото 0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5803920"/>
            <a:ext cx="8605800" cy="65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Object 4"/>
          <p:cNvGraphicFramePr/>
          <p:nvPr/>
        </p:nvGraphicFramePr>
        <p:xfrm>
          <a:off x="4788000" y="3441600"/>
          <a:ext cx="3930480" cy="301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8000" y="3441600"/>
                    <a:ext cx="3930480" cy="30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с 1. Элементы коммуникацион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11"/>
          <p:cNvGrpSpPr/>
          <p:nvPr/>
        </p:nvGrpSpPr>
        <p:grpSpPr>
          <a:xfrm>
            <a:off x="1042920" y="1268280"/>
            <a:ext cx="7274160" cy="3241440"/>
            <a:chOff x="1042920" y="1268280"/>
            <a:chExt cx="7274160" cy="3241440"/>
          </a:xfrm>
        </p:grpSpPr>
        <p:sp>
          <p:nvSpPr>
            <p:cNvPr id="82" name="Rectangle 4"/>
            <p:cNvSpPr/>
            <p:nvPr/>
          </p:nvSpPr>
          <p:spPr>
            <a:xfrm>
              <a:off x="1835280" y="1268280"/>
              <a:ext cx="5688000" cy="3241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Канал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6"/>
            <p:cNvSpPr/>
            <p:nvPr/>
          </p:nvSpPr>
          <p:spPr>
            <a:xfrm>
              <a:off x="2916360" y="2563560"/>
              <a:ext cx="352728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Сообщение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7"/>
            <p:cNvSpPr/>
            <p:nvPr/>
          </p:nvSpPr>
          <p:spPr>
            <a:xfrm>
              <a:off x="1042920" y="1699920"/>
              <a:ext cx="792360" cy="24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Ч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"/>
            <p:cNvSpPr/>
            <p:nvPr/>
          </p:nvSpPr>
          <p:spPr>
            <a:xfrm>
              <a:off x="7524720" y="1699920"/>
              <a:ext cx="792360" cy="24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Ё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ый элемент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сточн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человек или группа людей, формулирующие идею, мнение и т.п. и желающие передать их другому человеку или другим люд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торой элемент – это само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ообщ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которое передается от источника другому человеку или другим людя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тий элемент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ана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среда, через которую передается сообще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вертый элемент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иемни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человек или группа людей, принимающие сообщ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ая стадия коммуникативного процесса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оздание сообщ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смысливание того, что источник хочет сообщить приемнику, осознание источником того, что сообщение будет понятно приемн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торая стадия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одирова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мнение, мысль, идея и т.п. выражаются в виде символов (их можно увидеть, услышать, ощутить), которые становятся выразителями смысла сообщения, должны быть понятны приемнику (слова, жесты, мимика, звуки, схемы, рисунки и т.п.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ретья стадия –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передач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мнение, мысли, идея и т.п., закодированные с помощью символов в сообщение передается приемнику через воспроизведение символов: показом жестов, исполнение музыки, демонстрация фильма, рисунков и т.п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твёртая стадия –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прие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представляет собой получение сообщения приемником. Условия окружающей среды могут эффективно влиять на приём сообщения, а могут ему препятствовать. Важны правильность и точность приема сообщений, что зависит от того, на какое из чувств приемника (зрение, слух, ощущение, осязание, обоняние) эта информация оказывает наибольшее воздейств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ятая стадия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асшифров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подготовка информации, полученной приемником для восприятия её значения. Эффективность её зависит от знания приемником символов, с помощью которых она зашифрована. Для высокой эффективности расшифровки между источником и преемником должны быть постоянные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ямые и обратные связ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естая стадия –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осприят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конечный этап коммуникационного процес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250560" y="126828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ложенные в сообщении идеи и мысли должны интегрироваться и быть связаны с той информацией, которой приемник уже владеет. Без такой ассимиляции, содержащиеся в расшифрованном сообщении символы, могут остаться бесполезными, не базируясь на известной для приемника информ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одели коммуник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ая модель коммуникации была разработана ещё Аристотелем и включала в себя 3 элемен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ворящий – человек, который говори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чь – речь, которую произносит челове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удитория – те, кто слуш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Широкое распростран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лучила линейная модель, разработанная американским социологом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Г. Лассуэллом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и включающая 5 элемент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 Кто? (передаёт сообщение) – коммуника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 Что? (передаётся) – сообщ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 Как? (осуществляется передача) – ка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 Кому? (направлено сообщение) – ауди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5 С каким эффектом? – результ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одел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Шеннона-Уиве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ммуникация описывается как линейный односторонний процесс. Согласно его теории, компонентами коммуникации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прав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гн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уча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ой задачей было снижение «шума» и максимальное облегчение обмена информац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ение       сигнал       ченный      сооб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. 3 Модель коммуникации Шеннона-Уив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250920" y="2276640"/>
            <a:ext cx="1944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4284720" y="2276640"/>
            <a:ext cx="7938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7451640" y="2205000"/>
            <a:ext cx="11541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2411280" y="2276640"/>
            <a:ext cx="1440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пра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ел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4067280" y="3716280"/>
            <a:ext cx="144144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ум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5651640" y="2205000"/>
            <a:ext cx="136980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2195640" y="285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3851280" y="270828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5076720" y="270828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7020000" y="270828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4"/>
          <p:cNvSpPr/>
          <p:nvPr/>
        </p:nvSpPr>
        <p:spPr>
          <a:xfrm flipV="1">
            <a:off x="4716360" y="292428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. Понятие, значение и классификация информац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. Коммуникационный процесс, его понятие и зна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. Информационные технологии в управленческой дея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имущество данной схемы состоит в очевидности того, что сообщение, отправленное источником и сообщение, достигнутое реципиента, имеют неодинаковое знач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способность участников коммуникации осознать, что посланное и полученное сообщение не всегда совпадают, является частой причиной затруднений коммуникационного обмена (эта мысль заложена в модели Шеннона-Уивер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ь Шеннона-Уивера расширил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еФлюе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ис 4. Модель коммуникации ДеФлю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50920" y="1241280"/>
            <a:ext cx="16570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851280" y="278136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у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2124000" y="124128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прави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780000" y="124128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нал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5508720" y="124128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7308720" y="1241280"/>
            <a:ext cx="1368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7308720" y="4365720"/>
            <a:ext cx="136872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5580000" y="436572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прави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3851280" y="436572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нал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братна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язь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2195640" y="4365720"/>
            <a:ext cx="136836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468360" y="4365720"/>
            <a:ext cx="1511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5"/>
          <p:cNvSpPr/>
          <p:nvPr/>
        </p:nvSpPr>
        <p:spPr>
          <a:xfrm>
            <a:off x="1908000" y="1700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6"/>
          <p:cNvSpPr/>
          <p:nvPr/>
        </p:nvSpPr>
        <p:spPr>
          <a:xfrm>
            <a:off x="3492360" y="17002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>
            <a:off x="5148360" y="1700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6877080" y="1700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0"/>
          <p:cNvSpPr/>
          <p:nvPr/>
        </p:nvSpPr>
        <p:spPr>
          <a:xfrm flipH="1">
            <a:off x="694800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1"/>
          <p:cNvSpPr/>
          <p:nvPr/>
        </p:nvSpPr>
        <p:spPr>
          <a:xfrm flipH="1">
            <a:off x="5219280" y="4724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3564000" y="472428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3"/>
          <p:cNvSpPr/>
          <p:nvPr/>
        </p:nvSpPr>
        <p:spPr>
          <a:xfrm flipH="1">
            <a:off x="1979640" y="47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4"/>
          <p:cNvSpPr/>
          <p:nvPr/>
        </p:nvSpPr>
        <p:spPr>
          <a:xfrm flipV="1">
            <a:off x="1116000" y="213372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4500720" y="213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6"/>
          <p:cNvSpPr/>
          <p:nvPr/>
        </p:nvSpPr>
        <p:spPr>
          <a:xfrm flipV="1">
            <a:off x="4500720" y="3645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7"/>
          <p:cNvSpPr/>
          <p:nvPr/>
        </p:nvSpPr>
        <p:spPr>
          <a:xfrm>
            <a:off x="8028000" y="213372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Циркулярная модель Шрама-Осгу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элементы моде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точн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дировщ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гн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рес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ис. 5 Модель коммуникации Шрамма-Осг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780000" y="981000"/>
            <a:ext cx="172872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е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780000" y="4724280"/>
            <a:ext cx="172872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бще-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468360" y="1844640"/>
            <a:ext cx="2519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ировщи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468360" y="2997360"/>
            <a:ext cx="25192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539640" y="4221000"/>
            <a:ext cx="2519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6227640" y="4149720"/>
            <a:ext cx="2519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ировщи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6227640" y="2997360"/>
            <a:ext cx="2519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6227640" y="1916280"/>
            <a:ext cx="2519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кодировщи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"/>
          <p:cNvSpPr/>
          <p:nvPr/>
        </p:nvSpPr>
        <p:spPr>
          <a:xfrm>
            <a:off x="161928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3"/>
          <p:cNvSpPr/>
          <p:nvPr/>
        </p:nvSpPr>
        <p:spPr>
          <a:xfrm>
            <a:off x="1619280" y="5300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4"/>
          <p:cNvSpPr/>
          <p:nvPr/>
        </p:nvSpPr>
        <p:spPr>
          <a:xfrm>
            <a:off x="5508720" y="530064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5"/>
          <p:cNvSpPr/>
          <p:nvPr/>
        </p:nvSpPr>
        <p:spPr>
          <a:xfrm>
            <a:off x="7596360" y="4869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6"/>
          <p:cNvSpPr/>
          <p:nvPr/>
        </p:nvSpPr>
        <p:spPr>
          <a:xfrm flipV="1">
            <a:off x="1476360" y="1483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7"/>
          <p:cNvSpPr/>
          <p:nvPr/>
        </p:nvSpPr>
        <p:spPr>
          <a:xfrm>
            <a:off x="1476360" y="148428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8"/>
          <p:cNvSpPr/>
          <p:nvPr/>
        </p:nvSpPr>
        <p:spPr>
          <a:xfrm>
            <a:off x="5508720" y="148428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9"/>
          <p:cNvSpPr/>
          <p:nvPr/>
        </p:nvSpPr>
        <p:spPr>
          <a:xfrm>
            <a:off x="7596360" y="1484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оммуникативные барь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7112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 коммуникативным барьером обычно понимают все то, что препятствует эффективной коммуникации и блокирует её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Шепель выделил 6 явных барьер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Дискомфорт физической среды, в условиях которой воспринимается сообщ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Инерция включенности, т.е. озабоченность слушателя др. проблем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Антипатия к чужим мыслям, стереотипизированность сознания, амбициоз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Языковой барьер – существенное различие словарного запаса, лексикона коммуникатора и аудито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Профессиональное неприятие – некомпетентное вторжения коммуникатора в профессиональную сферу собесед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Неприятие имиджа другого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литературе по психологии принято выделять 4 типа барьер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нетический – невыразительная быстрая или медленная речь, речь-скороговорка 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мантический – различие в системах знаний с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листический  - несоответствие стиля речи коммуникатора, ситуации общения и психологического состояния собесед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гический – сложная непонятная или неправильная логики рассужд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Условия восприятия информа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динство профессионального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т уровня интелл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нота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гичность из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центрированность вним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онаци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лементы информационного проце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395280" y="1557360"/>
            <a:ext cx="8207280" cy="4578480"/>
            <a:chOff x="395280" y="1557360"/>
            <a:chExt cx="8207280" cy="4578480"/>
          </a:xfrm>
        </p:grpSpPr>
        <p:sp>
          <p:nvSpPr>
            <p:cNvPr id="178" name="AutoShape 5"/>
            <p:cNvSpPr/>
            <p:nvPr/>
          </p:nvSpPr>
          <p:spPr>
            <a:xfrm>
              <a:off x="395280" y="1557360"/>
              <a:ext cx="8207280" cy="4578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6"/>
            <p:cNvSpPr/>
            <p:nvPr/>
          </p:nvSpPr>
          <p:spPr>
            <a:xfrm>
              <a:off x="552600" y="1918440"/>
              <a:ext cx="1736280" cy="108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ВНЕШ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ВНУТРЕН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"/>
            <p:cNvSpPr/>
            <p:nvPr/>
          </p:nvSpPr>
          <p:spPr>
            <a:xfrm>
              <a:off x="2604240" y="1918440"/>
              <a:ext cx="4895640" cy="96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ЗАЩИТ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</a:rPr>
                <a:t>СБОР                                                                                                  ПЕРЕДАЧА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8"/>
            <p:cNvSpPr/>
            <p:nvPr/>
          </p:nvSpPr>
          <p:spPr>
            <a:xfrm>
              <a:off x="3393360" y="2400120"/>
              <a:ext cx="2841840" cy="12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ЕОБРАЗОВА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ЗАПОМИНА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9"/>
            <p:cNvSpPr/>
            <p:nvPr/>
          </p:nvSpPr>
          <p:spPr>
            <a:xfrm>
              <a:off x="3078360" y="2882880"/>
              <a:ext cx="394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0"/>
            <p:cNvSpPr/>
            <p:nvPr/>
          </p:nvSpPr>
          <p:spPr>
            <a:xfrm>
              <a:off x="2288880" y="2400120"/>
              <a:ext cx="31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1"/>
            <p:cNvSpPr/>
            <p:nvPr/>
          </p:nvSpPr>
          <p:spPr>
            <a:xfrm>
              <a:off x="2288880" y="2521440"/>
              <a:ext cx="31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2"/>
            <p:cNvSpPr/>
            <p:nvPr/>
          </p:nvSpPr>
          <p:spPr>
            <a:xfrm>
              <a:off x="1026720" y="2279880"/>
              <a:ext cx="1104480" cy="36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3"/>
            <p:cNvSpPr/>
            <p:nvPr/>
          </p:nvSpPr>
          <p:spPr>
            <a:xfrm>
              <a:off x="710280" y="2159640"/>
              <a:ext cx="1419480" cy="48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0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Источники информации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4"/>
            <p:cNvSpPr/>
            <p:nvPr/>
          </p:nvSpPr>
          <p:spPr>
            <a:xfrm>
              <a:off x="2604240" y="2400120"/>
              <a:ext cx="6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5"/>
            <p:cNvSpPr/>
            <p:nvPr/>
          </p:nvSpPr>
          <p:spPr>
            <a:xfrm>
              <a:off x="6866280" y="2400120"/>
              <a:ext cx="63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16"/>
            <p:cNvSpPr/>
            <p:nvPr/>
          </p:nvSpPr>
          <p:spPr>
            <a:xfrm>
              <a:off x="3393360" y="2882880"/>
              <a:ext cx="945720" cy="48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Первичная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обработка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17"/>
            <p:cNvSpPr/>
            <p:nvPr/>
          </p:nvSpPr>
          <p:spPr>
            <a:xfrm>
              <a:off x="5287680" y="2882880"/>
              <a:ext cx="948960" cy="48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Кодирова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8"/>
            <p:cNvSpPr/>
            <p:nvPr/>
          </p:nvSpPr>
          <p:spPr>
            <a:xfrm>
              <a:off x="4340520" y="2882880"/>
              <a:ext cx="947160" cy="48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Отображе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9"/>
            <p:cNvSpPr/>
            <p:nvPr/>
          </p:nvSpPr>
          <p:spPr>
            <a:xfrm>
              <a:off x="7340400" y="2400120"/>
              <a:ext cx="15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0"/>
            <p:cNvSpPr/>
            <p:nvPr/>
          </p:nvSpPr>
          <p:spPr>
            <a:xfrm flipH="1">
              <a:off x="6076440" y="2400120"/>
              <a:ext cx="142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1"/>
            <p:cNvSpPr/>
            <p:nvPr/>
          </p:nvSpPr>
          <p:spPr>
            <a:xfrm>
              <a:off x="2604240" y="2400120"/>
              <a:ext cx="94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2"/>
            <p:cNvSpPr/>
            <p:nvPr/>
          </p:nvSpPr>
          <p:spPr>
            <a:xfrm>
              <a:off x="7182720" y="3244320"/>
              <a:ext cx="1262160" cy="60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игнал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оситель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3"/>
            <p:cNvSpPr/>
            <p:nvPr/>
          </p:nvSpPr>
          <p:spPr>
            <a:xfrm>
              <a:off x="7483320" y="2533320"/>
              <a:ext cx="31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4"/>
            <p:cNvSpPr/>
            <p:nvPr/>
          </p:nvSpPr>
          <p:spPr>
            <a:xfrm>
              <a:off x="7813080" y="2521440"/>
              <a:ext cx="0" cy="7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5"/>
            <p:cNvSpPr/>
            <p:nvPr/>
          </p:nvSpPr>
          <p:spPr>
            <a:xfrm>
              <a:off x="7182720" y="3485520"/>
              <a:ext cx="126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6"/>
            <p:cNvSpPr/>
            <p:nvPr/>
          </p:nvSpPr>
          <p:spPr>
            <a:xfrm>
              <a:off x="7970760" y="2038680"/>
              <a:ext cx="316080" cy="108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7"/>
            <p:cNvSpPr/>
            <p:nvPr/>
          </p:nvSpPr>
          <p:spPr>
            <a:xfrm>
              <a:off x="2763000" y="4208400"/>
              <a:ext cx="4897080" cy="96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ЗАЩИТ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ВЫДАЧА                                                                                          ПРИЕМ</a:t>
              </a: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8"/>
            <p:cNvSpPr/>
            <p:nvPr/>
          </p:nvSpPr>
          <p:spPr>
            <a:xfrm>
              <a:off x="3867480" y="4690080"/>
              <a:ext cx="2842920" cy="84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ЗАПОМИНА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9"/>
            <p:cNvSpPr/>
            <p:nvPr/>
          </p:nvSpPr>
          <p:spPr>
            <a:xfrm>
              <a:off x="2763000" y="4690080"/>
              <a:ext cx="110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30"/>
            <p:cNvSpPr/>
            <p:nvPr/>
          </p:nvSpPr>
          <p:spPr>
            <a:xfrm>
              <a:off x="6708600" y="4690080"/>
              <a:ext cx="94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1"/>
            <p:cNvSpPr/>
            <p:nvPr/>
          </p:nvSpPr>
          <p:spPr>
            <a:xfrm>
              <a:off x="7970760" y="3846960"/>
              <a:ext cx="0" cy="10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32"/>
            <p:cNvSpPr/>
            <p:nvPr/>
          </p:nvSpPr>
          <p:spPr>
            <a:xfrm flipH="1">
              <a:off x="7655400" y="4931280"/>
              <a:ext cx="31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33"/>
            <p:cNvSpPr/>
            <p:nvPr/>
          </p:nvSpPr>
          <p:spPr>
            <a:xfrm>
              <a:off x="8114040" y="3955680"/>
              <a:ext cx="330840" cy="108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34"/>
            <p:cNvSpPr/>
            <p:nvPr/>
          </p:nvSpPr>
          <p:spPr>
            <a:xfrm>
              <a:off x="5761440" y="4690080"/>
              <a:ext cx="946800" cy="48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Декодирова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35"/>
            <p:cNvSpPr/>
            <p:nvPr/>
          </p:nvSpPr>
          <p:spPr>
            <a:xfrm>
              <a:off x="3867480" y="4690080"/>
              <a:ext cx="944640" cy="48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оверк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6"/>
            <p:cNvSpPr/>
            <p:nvPr/>
          </p:nvSpPr>
          <p:spPr>
            <a:xfrm>
              <a:off x="4814640" y="4690080"/>
              <a:ext cx="944640" cy="48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реобразова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7"/>
            <p:cNvSpPr/>
            <p:nvPr/>
          </p:nvSpPr>
          <p:spPr>
            <a:xfrm>
              <a:off x="710280" y="4569840"/>
              <a:ext cx="1735920" cy="48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Использование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38"/>
            <p:cNvSpPr/>
            <p:nvPr/>
          </p:nvSpPr>
          <p:spPr>
            <a:xfrm flipH="1">
              <a:off x="2446560" y="4810320"/>
              <a:ext cx="31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39"/>
            <p:cNvSpPr/>
            <p:nvPr/>
          </p:nvSpPr>
          <p:spPr>
            <a:xfrm>
              <a:off x="4972320" y="3725640"/>
              <a:ext cx="2051640" cy="36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ОМЕХИ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40"/>
            <p:cNvSpPr/>
            <p:nvPr/>
          </p:nvSpPr>
          <p:spPr>
            <a:xfrm flipV="1">
              <a:off x="6866280" y="3364200"/>
              <a:ext cx="315360" cy="36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41"/>
            <p:cNvSpPr/>
            <p:nvPr/>
          </p:nvSpPr>
          <p:spPr>
            <a:xfrm>
              <a:off x="6866280" y="3725640"/>
              <a:ext cx="31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Информационное обеспеч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назначено для от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и, характеризующ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ояние управляемого объекта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ющейся основой для при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вленческих решен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уществляется благодаря созда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ых сист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4"/>
          <p:cNvGraphicFramePr/>
          <p:nvPr/>
        </p:nvGraphicFramePr>
        <p:xfrm>
          <a:off x="6516720" y="404640"/>
          <a:ext cx="2627280" cy="22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404640"/>
                    <a:ext cx="2627280" cy="22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5690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1374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некоторые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веден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овокупность данных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 имеющих практическое зна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Фото 0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пон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нформационная систем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овокупность информации, экономико-математических методов, технических, программных средств, специалистов, предназначенная для обработки информации и принятия управленческих реш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ые систем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ключают в себ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оки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налы пере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сители 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хнические средства фиксирования, передачи, поиска и обработки дан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лассификация информационных сист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трализованные и децентрализова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лексные и лока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ые и сл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дственные и научно-техниче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стемы ручной, механизированной и автоматизированной обработки информ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нформационная техн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системно-организованная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следовательность операций, выполняемых над информаци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 использованием средств и методов автомат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формационные техноло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4"/>
          <p:cNvGrpSpPr/>
          <p:nvPr/>
        </p:nvGrpSpPr>
        <p:grpSpPr>
          <a:xfrm>
            <a:off x="468360" y="2205000"/>
            <a:ext cx="8207280" cy="4000680"/>
            <a:chOff x="468360" y="2205000"/>
            <a:chExt cx="8207280" cy="4000680"/>
          </a:xfrm>
        </p:grpSpPr>
        <p:sp>
          <p:nvSpPr>
            <p:cNvPr id="236" name="AutoShape 5"/>
            <p:cNvSpPr/>
            <p:nvPr/>
          </p:nvSpPr>
          <p:spPr>
            <a:xfrm>
              <a:off x="468360" y="2205000"/>
              <a:ext cx="8207280" cy="40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6"/>
            <p:cNvSpPr/>
            <p:nvPr/>
          </p:nvSpPr>
          <p:spPr>
            <a:xfrm>
              <a:off x="3056400" y="3233520"/>
              <a:ext cx="268308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МЕТОДЫ СВЯЗ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7"/>
            <p:cNvSpPr/>
            <p:nvPr/>
          </p:nvSpPr>
          <p:spPr>
            <a:xfrm>
              <a:off x="5834520" y="2433600"/>
              <a:ext cx="268344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КОМПЬЮТЕРЫ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8"/>
            <p:cNvSpPr/>
            <p:nvPr/>
          </p:nvSpPr>
          <p:spPr>
            <a:xfrm>
              <a:off x="468360" y="2433600"/>
              <a:ext cx="3219840" cy="456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ОБЫЧНЫЕ СРЕДСТВА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9"/>
            <p:cNvSpPr/>
            <p:nvPr/>
          </p:nvSpPr>
          <p:spPr>
            <a:xfrm flipH="1">
              <a:off x="2203920" y="2205000"/>
              <a:ext cx="2209320" cy="2286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0"/>
            <p:cNvSpPr/>
            <p:nvPr/>
          </p:nvSpPr>
          <p:spPr>
            <a:xfrm>
              <a:off x="4730040" y="4491360"/>
              <a:ext cx="36302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ЕЧАТЬ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1"/>
            <p:cNvSpPr/>
            <p:nvPr/>
          </p:nvSpPr>
          <p:spPr>
            <a:xfrm>
              <a:off x="4730040" y="4834080"/>
              <a:ext cx="3630240" cy="34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АКУСТИЧЕСКАЯ ПЕРЕДАЧ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2"/>
            <p:cNvSpPr/>
            <p:nvPr/>
          </p:nvSpPr>
          <p:spPr>
            <a:xfrm>
              <a:off x="783360" y="4148280"/>
              <a:ext cx="3630240" cy="34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ЛИЧНОЕ ОБЩЕНИЕ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3"/>
            <p:cNvSpPr/>
            <p:nvPr/>
          </p:nvSpPr>
          <p:spPr>
            <a:xfrm>
              <a:off x="4730040" y="5519880"/>
              <a:ext cx="36302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ЭЛЕКТРОННАЯ ПОЧТ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4"/>
            <p:cNvSpPr/>
            <p:nvPr/>
          </p:nvSpPr>
          <p:spPr>
            <a:xfrm>
              <a:off x="4730040" y="5176800"/>
              <a:ext cx="3630240" cy="34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АУДИОВИЗУАЛЬНАЯ ТЕХНИК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5"/>
            <p:cNvSpPr/>
            <p:nvPr/>
          </p:nvSpPr>
          <p:spPr>
            <a:xfrm>
              <a:off x="783360" y="4491360"/>
              <a:ext cx="36302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ГРУППОВАЯ БЕСЕДА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6"/>
            <p:cNvSpPr/>
            <p:nvPr/>
          </p:nvSpPr>
          <p:spPr>
            <a:xfrm>
              <a:off x="783360" y="4834080"/>
              <a:ext cx="36302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КОНФЕРЕНЦИЯ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7"/>
            <p:cNvSpPr/>
            <p:nvPr/>
          </p:nvSpPr>
          <p:spPr>
            <a:xfrm>
              <a:off x="4730040" y="4148280"/>
              <a:ext cx="36302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ТЕЛЕКОММУНИКАЦИИ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8"/>
            <p:cNvSpPr/>
            <p:nvPr/>
          </p:nvSpPr>
          <p:spPr>
            <a:xfrm flipH="1">
              <a:off x="2741040" y="3690360"/>
              <a:ext cx="1578240" cy="4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9"/>
            <p:cNvSpPr/>
            <p:nvPr/>
          </p:nvSpPr>
          <p:spPr>
            <a:xfrm>
              <a:off x="4319640" y="3690360"/>
              <a:ext cx="2051640" cy="45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Line 20"/>
          <p:cNvSpPr/>
          <p:nvPr/>
        </p:nvSpPr>
        <p:spPr>
          <a:xfrm flipH="1">
            <a:off x="2195280" y="1557360"/>
            <a:ext cx="2376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1"/>
          <p:cNvSpPr/>
          <p:nvPr/>
        </p:nvSpPr>
        <p:spPr>
          <a:xfrm>
            <a:off x="4572000" y="1557360"/>
            <a:ext cx="2448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2"/>
          <p:cNvSpPr/>
          <p:nvPr/>
        </p:nvSpPr>
        <p:spPr>
          <a:xfrm>
            <a:off x="4572000" y="1557360"/>
            <a:ext cx="0" cy="151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цед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ых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бор и регистрация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б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гистр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машинном носителе, вдокумен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информационную сист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вода и регист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цед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ых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ередача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каналы св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д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бщений с обратным преобразов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цед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ых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бработка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нформации в сист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работ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вод и контро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ображе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цед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ых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Хранение, поиск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ра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и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 по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дача и актуализ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троль выдачи и отобр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цед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ых технолог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Анализ, подготовка принятия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али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сходной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ел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но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ализ и корректир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готовка принятия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язь характера информации с управленческими решени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95280" y="1628640"/>
          <a:ext cx="8229600" cy="4583160"/>
        </p:xfrm>
        <a:graphic>
          <a:graphicData uri="http://schemas.openxmlformats.org/drawingml/2006/table">
            <a:tbl>
              <a:tblPr/>
              <a:tblGrid>
                <a:gridCol w="2386080"/>
                <a:gridCol w="2089080"/>
                <a:gridCol w="1655640"/>
                <a:gridCol w="2098800"/>
              </a:tblGrid>
              <a:tr h="1132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ние информаци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на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лна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8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ени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определенностью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ком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неопределенностью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ъективные ожидани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означны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днозначны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1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бъективные ощущени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ренность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веренность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Используемые техно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формирования докум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обработки изобра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еотехн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визуал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виртуальной ре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обработки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обработки и преобразования сигна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ология электронной под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онный оф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ктронная поч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9" descr="Фото 0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2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6421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овременные технологии, используемые в управленческой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137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ультимедиатехн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йрокомпьютерные техн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ъектно-ориентированная техн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хнология управления знани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нтернет-техн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9" descr="Фото 0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9152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ификация информ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95280" y="1125360"/>
          <a:ext cx="8280360" cy="5737320"/>
        </p:xfrm>
        <a:graphic>
          <a:graphicData uri="http://schemas.openxmlformats.org/drawingml/2006/table">
            <a:tbl>
              <a:tblPr/>
              <a:tblGrid>
                <a:gridCol w="3591000"/>
                <a:gridCol w="4689360"/>
              </a:tblGrid>
              <a:tr h="75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общему назначению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рективная, справочно-информацион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целевому назначению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овая, отчетно-статистическая, научно-техническая, административная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характеру носителей информаци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ированная, (отчеты, справки) недокументирован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степени обработк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ходная, Первичная, вторич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источнику поступлен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енняя, внешня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направлению движен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ходящая, исходящ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периодичност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ическая, разов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форме представлени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исьменная и устная, цифровая, буквенная, кодирован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насыщенности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аточная, недостаточная, избыточна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56908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ды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1374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ческ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номическ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циаль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Фото 0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56908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ребования, предъявляемые к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1374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(полнота, достаточ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ность (достовер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де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бкость (возможность применения технических средств обработки и передач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номичность сбора и пере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щ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значность (инф не должна допуск различ толк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Фото 025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Коммуникация и коммуникационный проце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ммуникац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общение людей в процессе совместной деятельности, обмен информацией, идеями, мысл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ммуникационный процес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процесс передачи информации от одного человека другому или другим людям. Одной из самых простых форм этого процесса можно считать разговор двух людей, находящихся ряд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жные формы коммуникации представляют собой множество прямых и непрямых путей доведения информации до тысяч или миллионов людей в виде сложных процессов. Независимо от сложности коммуникационного процесса его схема состоит из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етырех элемент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проходит через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есть стад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рис. 1)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2T11:46:36Z</dcterms:created>
  <dc:creator>Tyrex</dc:creator>
  <dc:description/>
  <dc:language>en-US</dc:language>
  <cp:lastModifiedBy>LEGION</cp:lastModifiedBy>
  <dcterms:modified xsi:type="dcterms:W3CDTF">2016-01-11T10:01:57Z</dcterms:modified>
  <cp:revision>70</cp:revision>
  <dc:subject/>
  <dc:title>Информация и коммуникация в управлении</dc:title>
</cp:coreProperties>
</file>