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B0BD-AC7A-48AD-AEE6-8A9FA2AAFD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одно из самых важных действий, которые осуществляет в своей жизн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C7D-D193-4C8E-AE5A-AAF18E8D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52F-5482-42CE-B1EC-C3B6FEAC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91EE-BCC2-4EF7-8BA6-EC64EB08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28B-F635-4168-A7D1-A8DB4941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DA2-B910-4261-9CC2-1DD272ED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6E1-A077-4C81-AB20-A3D8F08E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46A-025D-41F2-9F7C-FABD37F2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773-F628-40F2-AFB0-8B85CC4E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68A-DA68-43FF-A16B-C55504D8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CAB-8ED0-40C9-9A3F-0171DEA1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7FB-AAB0-40B4-A8F7-C87A6E84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E1C-61BE-44AB-8D31-8FCB47A1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4D0E-F523-471B-B6B8-A0E167B86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5.0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[10]"/>
          <p:cNvPicPr/>
          <p:nvPr/>
        </p:nvPicPr>
        <p:blipFill>
          <a:blip r:embed="rId1"/>
          <a:stretch/>
        </p:blipFill>
        <p:spPr>
          <a:xfrm>
            <a:off x="5580000" y="3429000"/>
            <a:ext cx="2395440" cy="27734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Каждый человек управляет сам собой – своим повед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nezn_p"/>
          <p:cNvPicPr/>
          <p:nvPr/>
        </p:nvPicPr>
        <p:blipFill>
          <a:blip r:embed="rId1"/>
          <a:stretch/>
        </p:blipFill>
        <p:spPr>
          <a:xfrm>
            <a:off x="6084720" y="2421000"/>
            <a:ext cx="2516400" cy="377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Человек может управлять компьютером и различными техническими устр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j0292020"/>
          <p:cNvPicPr/>
          <p:nvPr/>
        </p:nvPicPr>
        <p:blipFill>
          <a:blip r:embed="rId1"/>
          <a:stretch/>
        </p:blipFill>
        <p:spPr>
          <a:xfrm>
            <a:off x="5364000" y="3141720"/>
            <a:ext cx="3456000" cy="327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mobile"/>
          <p:cNvPicPr/>
          <p:nvPr/>
        </p:nvPicPr>
        <p:blipFill>
          <a:blip r:embed="rId2"/>
          <a:stretch/>
        </p:blipFill>
        <p:spPr>
          <a:xfrm>
            <a:off x="900000" y="4221000"/>
            <a:ext cx="1051200" cy="1989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kpk"/>
          <p:cNvPicPr/>
          <p:nvPr/>
        </p:nvPicPr>
        <p:blipFill>
          <a:blip r:embed="rId3"/>
          <a:stretch/>
        </p:blipFill>
        <p:spPr>
          <a:xfrm>
            <a:off x="2987640" y="443700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– целенаправленное 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человек мог правильно, а главное, эффективно управлять каким-либо объектом, у него обязательно должна бы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сформулировать цели управления некоторыми объек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безопас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ыть или произвести продукты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иться от непогоды (построить дом, сшить одежд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авить полезный гр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свою мечту, идею,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действия с информац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Y"/>
          <p:cNvPicPr/>
          <p:nvPr/>
        </p:nvPicPr>
        <p:blipFill>
          <a:blip r:embed="rId1"/>
          <a:stretch/>
        </p:blipFill>
        <p:spPr>
          <a:xfrm>
            <a:off x="6372360" y="3068640"/>
            <a:ext cx="2282760" cy="342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управления – информац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– это сигналы из внешнего мира, которы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человек воспринимает информац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воспринятой информации превращается в знания, которые тоже управляют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я нужна человеку для того, чтобы сделать выбор. В каждый момент человек что-то выбир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примеры стр.1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чего же зависит выбор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бор зависит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нн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н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овозз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GBOOK01"/>
          <p:cNvPicPr/>
          <p:nvPr/>
        </p:nvPicPr>
        <p:blipFill>
          <a:blip r:embed="rId1"/>
          <a:stretch/>
        </p:blipFill>
        <p:spPr>
          <a:xfrm>
            <a:off x="4767120" y="5024520"/>
            <a:ext cx="4376880" cy="18334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2 №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4000" y="162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2400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иж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24000" y="3068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у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24000" y="38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400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24000" y="5445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5219640" y="566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кора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494172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предприят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219640" y="4221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распис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оркес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219640" y="278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шко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5219640" y="2060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солд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5219640" y="1341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ет уче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3780000" y="1844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3780000" y="1844640"/>
            <a:ext cx="143964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780000" y="263700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3780000" y="3357720"/>
            <a:ext cx="1439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1"/>
          <p:cNvSpPr/>
          <p:nvPr/>
        </p:nvSpPr>
        <p:spPr>
          <a:xfrm flipV="1">
            <a:off x="3780000" y="2349000"/>
            <a:ext cx="143964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3780000" y="4149720"/>
            <a:ext cx="1439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3"/>
          <p:cNvSpPr/>
          <p:nvPr/>
        </p:nvSpPr>
        <p:spPr>
          <a:xfrm flipV="1">
            <a:off x="3780000" y="1628280"/>
            <a:ext cx="143964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4"/>
          <p:cNvSpPr/>
          <p:nvPr/>
        </p:nvSpPr>
        <p:spPr>
          <a:xfrm flipV="1">
            <a:off x="3780000" y="1628640"/>
            <a:ext cx="1439640" cy="410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3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19640" y="5805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219640" y="5229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219640" y="4653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шинами и механиз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19640" y="407664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здами и план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219640" y="350028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ми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5219640" y="292428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им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5219640" y="234936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живыми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219640" y="1773360"/>
            <a:ext cx="345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ом и группами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219640" y="1197000"/>
            <a:ext cx="34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ми устройст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826920" y="2781360"/>
            <a:ext cx="30974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3924360" y="1413000"/>
            <a:ext cx="129528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3924360" y="2133720"/>
            <a:ext cx="129528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3924360" y="2637000"/>
            <a:ext cx="12952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924360" y="3141720"/>
            <a:ext cx="129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924360" y="350028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3924360" y="3573360"/>
            <a:ext cx="12952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924360" y="3573360"/>
            <a:ext cx="12952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3924360" y="3573360"/>
            <a:ext cx="12952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3"/>
          <p:cNvSpPr/>
          <p:nvPr/>
        </p:nvSpPr>
        <p:spPr>
          <a:xfrm>
            <a:off x="5003640" y="4005360"/>
            <a:ext cx="3889440" cy="718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и задач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понятие информационного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на примерах, что управление – это целенаправленный проце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цели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объекты, которыми можно управлять и которыми нельзя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актическое задание стр. 53 №4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8360" y="191628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68360" y="3213000"/>
            <a:ext cx="3382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управ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й, людь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68360" y="4508640"/>
            <a:ext cx="3382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ж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932360" y="191628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, хран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, передач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932360" y="4508640"/>
            <a:ext cx="359892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обеспе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ю жизн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932360" y="3213000"/>
            <a:ext cx="359892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енаправл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851280" y="2565360"/>
            <a:ext cx="10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3851280" y="378936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V="1">
            <a:off x="3851280" y="2421000"/>
            <a:ext cx="10810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4 №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55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образи в виде блок-схемы алгоритм перехода улицы со светоф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492360" y="2349360"/>
            <a:ext cx="2232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843280" y="3068640"/>
            <a:ext cx="331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на светоф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3060720" y="3789360"/>
            <a:ext cx="3025800" cy="1008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фор зеле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35280" y="4869000"/>
            <a:ext cx="2555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и ул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932360" y="4869000"/>
            <a:ext cx="24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3348000" y="5950080"/>
            <a:ext cx="25192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500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6084720" y="4292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2556000" y="4292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2556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6732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255600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732720" y="551664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2556000" y="57340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4572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2321280" y="39528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6353280" y="3952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можно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ы объектов, которыми нельзя управлять. Как ты думаешь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й целью люди управляют объект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 пример полученной информации, которая повлияла на твое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: с.141 – 146 (читать), с. 147 – ответить на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ая тетрадь: с.52 №1, с. 56 №10, с.51 №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4859280" y="126828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859280" y="2060640"/>
            <a:ext cx="36734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859280" y="278136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его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859280" y="350028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ать существенные 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859280" y="4221000"/>
            <a:ext cx="3673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рать материал для 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859280" y="4941720"/>
            <a:ext cx="3673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ить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4859280" y="5661000"/>
            <a:ext cx="3673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6659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65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65964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665964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659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6659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ка домашнего зад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50 №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187280" y="220500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способу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1187280" y="321300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4859280" y="321300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270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43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1187280" y="4292640"/>
            <a:ext cx="698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алгоритмов по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ения 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1187280" y="530064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й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4859280" y="5300640"/>
            <a:ext cx="3313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т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270036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644364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ое 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382638[1]"/>
          <p:cNvPicPr/>
          <p:nvPr/>
        </p:nvPicPr>
        <p:blipFill>
          <a:blip r:embed="rId1"/>
          <a:stretch/>
        </p:blipFill>
        <p:spPr>
          <a:xfrm>
            <a:off x="2556000" y="2781360"/>
            <a:ext cx="40100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дно из самых важных действий, которые осуществляет в своей жизни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или кем может управля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еловек может управлять самолетом, машиной, корабле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[9]"/>
          <p:cNvPicPr/>
          <p:nvPr/>
        </p:nvPicPr>
        <p:blipFill>
          <a:blip r:embed="rId1"/>
          <a:stretch/>
        </p:blipFill>
        <p:spPr>
          <a:xfrm>
            <a:off x="826920" y="278136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3dsmax_new_image001"/>
          <p:cNvPicPr/>
          <p:nvPr/>
        </p:nvPicPr>
        <p:blipFill>
          <a:blip r:embed="rId2"/>
          <a:stretch/>
        </p:blipFill>
        <p:spPr>
          <a:xfrm>
            <a:off x="5508720" y="2852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215086"/>
          <p:cNvPicPr/>
          <p:nvPr/>
        </p:nvPicPr>
        <p:blipFill>
          <a:blip r:embed="rId3"/>
          <a:stretch/>
        </p:blipFill>
        <p:spPr>
          <a:xfrm>
            <a:off x="3708360" y="4005360"/>
            <a:ext cx="166068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Учитель управляет клас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 (11)"/>
          <p:cNvPicPr/>
          <p:nvPr/>
        </p:nvPicPr>
        <p:blipFill>
          <a:blip r:embed="rId1"/>
          <a:stretch/>
        </p:blipFill>
        <p:spPr>
          <a:xfrm>
            <a:off x="3851280" y="3274920"/>
            <a:ext cx="4782960" cy="358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 (9)"/>
          <p:cNvPicPr/>
          <p:nvPr/>
        </p:nvPicPr>
        <p:blipFill>
          <a:blip r:embed="rId2"/>
          <a:stretch/>
        </p:blipFill>
        <p:spPr>
          <a:xfrm>
            <a:off x="395280" y="2421000"/>
            <a:ext cx="4406760" cy="3300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ъекты у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Директор управляет школой, предприятием, заво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Дирижер управляет оркес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Командир – солда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j0285360"/>
          <p:cNvPicPr/>
          <p:nvPr/>
        </p:nvPicPr>
        <p:blipFill>
          <a:blip r:embed="rId1"/>
          <a:stretch/>
        </p:blipFill>
        <p:spPr>
          <a:xfrm>
            <a:off x="6084720" y="3357720"/>
            <a:ext cx="2840040" cy="350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54:03Z</dcterms:created>
  <dc:creator>Pacha</dc:creator>
  <dc:description/>
  <dc:language>en-US</dc:language>
  <cp:lastModifiedBy>LEGION</cp:lastModifiedBy>
  <dcterms:modified xsi:type="dcterms:W3CDTF">2016-01-11T10:01:49Z</dcterms:modified>
  <cp:revision>17</cp:revision>
  <dc:subject/>
  <dc:title>Информационное управление</dc:title>
</cp:coreProperties>
</file>