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8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0FD6-AF0E-43F0-83FE-4B9F9362B2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5.04.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05.04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Каждый человек управляет сам собой – своим пове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Каждый человек управляет сам собой – своим пове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Человек может управлять компьютером и различными 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Человек может управлять компьютером и различными 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целенаправленное 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мог правильно, а главное, эффективно управлять каким-либо объектом, у него обязательно должна быть ц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сформулировать цели управления некоторыми объе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целенаправленн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еловек мог правильно, а главное, эффективно управлять каким-либо объектом, у него обязательно должна быть 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буйте сформулировать цели управления некоторыми объек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безопас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ть или произвести продукты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иться от непогоды (построить дом, сшить одежд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ить полезный гру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овать свою мечту, идею, 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ть безопас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ыть или произвести продукты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иться от непогоды (построить дом, сшить одеж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вить полезный гру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овать свою мечту, идею,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 – действия с информ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 – действия с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 –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– это сигналы из внешнего мира, которы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человек воспринимает информ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 –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– это сигналы из внешнего мира, которы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еловек воспринимает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примеры стр.1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же зависит выбор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ры стр.14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же зависит выбор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ого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зависит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енного оп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з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2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иж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у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кора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предприят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распис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оркест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шко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солд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уче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2 №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и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кора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предприят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расписа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оркест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шко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солд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учени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3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ыми 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шинами и механиз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здами и плане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люд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м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выми 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м и группам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мо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3 №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ми 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шинами и механиз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ездами и плане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им соб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живыми 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м и группами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мож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сти понятие информационн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на примерах, что управление – это целенаправленный проц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цел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объекты, которыми можно управлять и которыми нельзя упра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сти понятие информационн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ь на примерах, что управление – это целенаправленный проце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цели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бъекты, которыми можно управлять и которыми нельзя упра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3 №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управл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й, людьм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, хран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, передач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беспеч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ю жизнь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направлен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3 №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управля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ой, людьм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ж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, хран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, передач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обеспеч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жизн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54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55 №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54 №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55 №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зи в виде блок-схемы алгоритм перехода улицы со светоф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 на светоф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фор зеле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и ули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зи в виде блок-схемы алгоритм перехода улицы со светоф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 на светоф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тофор зелен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и ули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ы объектов, которыми можно упра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ы объектов, которыми нельзя управлять. Как ты думаешь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й целью люди управляют объект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 полученной информации, которая повлияла на твое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можно упра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нельзя управлять. Как ты думаешь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й целью люди управляют объект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 полученной информации, которая повлияла на твое пове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с.141 – 146 (читать), с. 147 – ответить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тетрадь: с.52 №1, с. 56 №10, с.51 №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: с.141 – 146 (читать), с. 147 – ответить на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тетрадь: с.52 №1, с. 56 №10, с.51 №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50 №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объ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его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ть существенные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рать материал для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ить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. 50 №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ть его при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рать существенные при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брать материал для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готовить мо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50 №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лгоритмов по способу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лгоритмов по последова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кома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ет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. 50 №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лгоритмов по способу запи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лгоритмов по последова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я кома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ей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ет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одно из самых важных действий, которые осуществляет в своей жизн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или кем может управлять челов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одно из самых важных действий, которые осуществляет в своей жизни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или кем может управлять челове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Человек может управлять самолетом, машиной, корабле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Человек может управлять самолетом, машиной, корабле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Учитель управляет клас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Учитель управляет клас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Директор управляет школой, предприятием, зав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Дирижер управляет оркест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омандир – солд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Директор управляет школой, предприятием, зав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Дирижер управляет оркест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Командир – солд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027-ECCA-4A07-8B7E-63D4D00B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0182-0DF5-47C6-866B-ECE8F95F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C57-536B-46F8-8E0E-9EEF9DD4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E27-7820-418B-A557-6B7205D4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B26-C418-4C0D-A616-AE4C3A1E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4E1-C6A0-4EB5-B5E3-7A2D5A47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4D0-FF84-4CD0-B224-5F6382A4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907-3471-43E1-9169-5E498A64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844-DB32-4703-8A57-714421B9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8515-F94C-49FA-B152-C1603323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C2C-5483-48FE-8A4E-B959F5E7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1AF-2584-4DA5-BF5C-6D3E3815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E339-3219-4523-8A1D-99DB72C20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5.0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[10]"/>
          <p:cNvPicPr/>
          <p:nvPr/>
        </p:nvPicPr>
        <p:blipFill>
          <a:blip r:embed="rId1"/>
          <a:stretch/>
        </p:blipFill>
        <p:spPr>
          <a:xfrm>
            <a:off x="5580000" y="3429000"/>
            <a:ext cx="2395440" cy="277344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Каждый человек управляет сам собой – своим повед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nezn_p"/>
          <p:cNvPicPr/>
          <p:nvPr/>
        </p:nvPicPr>
        <p:blipFill>
          <a:blip r:embed="rId1"/>
          <a:stretch/>
        </p:blipFill>
        <p:spPr>
          <a:xfrm>
            <a:off x="6084720" y="2421000"/>
            <a:ext cx="2516400" cy="37767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Человек может управлять компьютером и различными техническими устр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j0292020"/>
          <p:cNvPicPr/>
          <p:nvPr/>
        </p:nvPicPr>
        <p:blipFill>
          <a:blip r:embed="rId1"/>
          <a:stretch/>
        </p:blipFill>
        <p:spPr>
          <a:xfrm>
            <a:off x="5364000" y="3141720"/>
            <a:ext cx="3456000" cy="327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mobile"/>
          <p:cNvPicPr/>
          <p:nvPr/>
        </p:nvPicPr>
        <p:blipFill>
          <a:blip r:embed="rId2"/>
          <a:stretch/>
        </p:blipFill>
        <p:spPr>
          <a:xfrm>
            <a:off x="900000" y="4221000"/>
            <a:ext cx="1051200" cy="1989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kpk"/>
          <p:cNvPicPr/>
          <p:nvPr/>
        </p:nvPicPr>
        <p:blipFill>
          <a:blip r:embed="rId3"/>
          <a:stretch/>
        </p:blipFill>
        <p:spPr>
          <a:xfrm>
            <a:off x="2987640" y="4437000"/>
            <a:ext cx="1701720" cy="17017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– целенаправленное 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человек мог правильно, а главное, эффективно управлять каким-либо объектом, у него обязательно должна бы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буйте сформулировать цели управления некоторыми объек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ить безопас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ыть или произвести продукты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иться от непогоды (построить дом, сшить одежд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авить полезный гр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овать свою мечту, идею,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управления – действия с информаци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Y"/>
          <p:cNvPicPr/>
          <p:nvPr/>
        </p:nvPicPr>
        <p:blipFill>
          <a:blip r:embed="rId1"/>
          <a:stretch/>
        </p:blipFill>
        <p:spPr>
          <a:xfrm>
            <a:off x="6372360" y="3068640"/>
            <a:ext cx="2282760" cy="342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управления – информац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– это сигналы из внешнего мира, которые управляют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человек воспринимает информ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примеры стр.14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чего же зависит выбор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 зависит о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ого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н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оз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GBOOK01"/>
          <p:cNvPicPr/>
          <p:nvPr/>
        </p:nvPicPr>
        <p:blipFill>
          <a:blip r:embed="rId1"/>
          <a:stretch/>
        </p:blipFill>
        <p:spPr>
          <a:xfrm>
            <a:off x="4767120" y="5024520"/>
            <a:ext cx="4376880" cy="18334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2 №2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24000" y="1628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24000" y="2349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иж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24000" y="3068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у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24000" y="3860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24000" y="4653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24000" y="5445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5219640" y="5661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кора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219640" y="494172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предприят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219640" y="4221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распис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219640" y="350028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оркес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219640" y="2781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шко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5219640" y="2060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солда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5219640" y="1341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уче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3780000" y="1844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3780000" y="1844640"/>
            <a:ext cx="143964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3780000" y="2637000"/>
            <a:ext cx="1439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3780000" y="3357720"/>
            <a:ext cx="14396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V="1">
            <a:off x="3780000" y="2349000"/>
            <a:ext cx="1439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3780000" y="4149720"/>
            <a:ext cx="14396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 flipV="1">
            <a:off x="3780000" y="1628280"/>
            <a:ext cx="143964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 flipV="1">
            <a:off x="3780000" y="1628640"/>
            <a:ext cx="1439640" cy="410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3 №3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219640" y="5805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я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219640" y="522936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ыми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5219640" y="4653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ами и механиз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19640" y="4076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здами и план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5219640" y="350028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5219640" y="292428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им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5219640" y="2349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ивыми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5219640" y="177336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ом и группами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5219640" y="1197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ими устрой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826920" y="2781360"/>
            <a:ext cx="309744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мо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 flipV="1">
            <a:off x="3924360" y="1413000"/>
            <a:ext cx="129528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3924360" y="2133720"/>
            <a:ext cx="1295280" cy="13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 flipV="1">
            <a:off x="3924360" y="2637000"/>
            <a:ext cx="129528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3924360" y="3141720"/>
            <a:ext cx="1295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924360" y="350028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>
            <a:off x="3924360" y="3573360"/>
            <a:ext cx="1295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3924360" y="3573360"/>
            <a:ext cx="129528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3924360" y="3573360"/>
            <a:ext cx="12952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3"/>
          <p:cNvSpPr/>
          <p:nvPr/>
        </p:nvSpPr>
        <p:spPr>
          <a:xfrm>
            <a:off x="5003640" y="4005360"/>
            <a:ext cx="3889440" cy="718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сти понятие информационного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на примерах, что управление – это целенаправленный проце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цели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объекты, которыми можно управлять и которыми нельзя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3 №4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68360" y="1916280"/>
            <a:ext cx="3382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68360" y="3213000"/>
            <a:ext cx="33829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управл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ой, людь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68360" y="4508640"/>
            <a:ext cx="3382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932360" y="1916280"/>
            <a:ext cx="3598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, хран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, передач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932360" y="4508640"/>
            <a:ext cx="3598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обеспеч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ю жизн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932360" y="3213000"/>
            <a:ext cx="35989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3851280" y="2565360"/>
            <a:ext cx="10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3851280" y="3789360"/>
            <a:ext cx="1081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3851280" y="2421000"/>
            <a:ext cx="108108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54 №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55 №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зи в виде блок-схемы алгоритм перехода улицы со светоф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3492360" y="2349360"/>
            <a:ext cx="223200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843280" y="3068640"/>
            <a:ext cx="3313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и на свето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3060720" y="3789360"/>
            <a:ext cx="3025800" cy="1008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фор зелен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835280" y="4869000"/>
            <a:ext cx="25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и ул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932360" y="4869000"/>
            <a:ext cx="244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3348000" y="5950080"/>
            <a:ext cx="25192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500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6084720" y="4292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2556000" y="4292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255600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6732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255600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673272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2556000" y="573408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4643280" y="5734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457200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2321280" y="39528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6353280" y="39528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можно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нельзя управлять. Как ты думаешь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й целью люди управляют объект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 полученной информации, которая повлияла на твое по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: с.141 – 146 (читать), с. 147 – ответить на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ая тетрадь: с.52 №1, с. 56 №10, с.51 №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50 №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4859280" y="1268280"/>
            <a:ext cx="3673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859280" y="2060640"/>
            <a:ext cx="36734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еть 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859280" y="2781360"/>
            <a:ext cx="3673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ть его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859280" y="3500280"/>
            <a:ext cx="3673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ать существенные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859280" y="4221000"/>
            <a:ext cx="3673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брать материал для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859280" y="4941720"/>
            <a:ext cx="3673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ить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4859280" y="5661000"/>
            <a:ext cx="3673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665964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65964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65964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665964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665964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"/>
          <p:cNvSpPr/>
          <p:nvPr/>
        </p:nvSpPr>
        <p:spPr>
          <a:xfrm>
            <a:off x="6659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50 №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1187280" y="2205000"/>
            <a:ext cx="698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алгоритмов по способу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1187280" y="321300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4859280" y="3213000"/>
            <a:ext cx="331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2700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43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1187280" y="4292640"/>
            <a:ext cx="698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алгоритмов по последова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ения ком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1187280" y="530064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4859280" y="5300640"/>
            <a:ext cx="331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тв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>
            <a:off x="2700360" y="494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6443640" y="494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2382638[1]"/>
          <p:cNvPicPr/>
          <p:nvPr/>
        </p:nvPicPr>
        <p:blipFill>
          <a:blip r:embed="rId1"/>
          <a:stretch/>
        </p:blipFill>
        <p:spPr>
          <a:xfrm>
            <a:off x="2556000" y="2781360"/>
            <a:ext cx="401004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дно из самых важных действий, которые осуществляет в своей жизни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или кем может управлять челов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Человек может управлять самолетом, машиной, корабле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[9]"/>
          <p:cNvPicPr/>
          <p:nvPr/>
        </p:nvPicPr>
        <p:blipFill>
          <a:blip r:embed="rId1"/>
          <a:stretch/>
        </p:blipFill>
        <p:spPr>
          <a:xfrm>
            <a:off x="826920" y="2781360"/>
            <a:ext cx="2953080" cy="196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3dsmax_new_image001"/>
          <p:cNvPicPr/>
          <p:nvPr/>
        </p:nvPicPr>
        <p:blipFill>
          <a:blip r:embed="rId2"/>
          <a:stretch/>
        </p:blipFill>
        <p:spPr>
          <a:xfrm>
            <a:off x="5508720" y="28526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j0215086"/>
          <p:cNvPicPr/>
          <p:nvPr/>
        </p:nvPicPr>
        <p:blipFill>
          <a:blip r:embed="rId3"/>
          <a:stretch/>
        </p:blipFill>
        <p:spPr>
          <a:xfrm>
            <a:off x="3708360" y="4005360"/>
            <a:ext cx="1660680" cy="26002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Учитель управляет клас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1 (11)"/>
          <p:cNvPicPr/>
          <p:nvPr/>
        </p:nvPicPr>
        <p:blipFill>
          <a:blip r:embed="rId1"/>
          <a:stretch/>
        </p:blipFill>
        <p:spPr>
          <a:xfrm>
            <a:off x="3851280" y="3274920"/>
            <a:ext cx="4782960" cy="358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1 (9)"/>
          <p:cNvPicPr/>
          <p:nvPr/>
        </p:nvPicPr>
        <p:blipFill>
          <a:blip r:embed="rId2"/>
          <a:stretch/>
        </p:blipFill>
        <p:spPr>
          <a:xfrm>
            <a:off x="395280" y="2421000"/>
            <a:ext cx="4406760" cy="33004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Директор управляет школой, предприятием, заво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Дирижер управляет оркес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Командир – солда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j0285360"/>
          <p:cNvPicPr/>
          <p:nvPr/>
        </p:nvPicPr>
        <p:blipFill>
          <a:blip r:embed="rId1"/>
          <a:stretch/>
        </p:blipFill>
        <p:spPr>
          <a:xfrm>
            <a:off x="6084720" y="3357720"/>
            <a:ext cx="2840040" cy="3500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5:54:03Z</dcterms:created>
  <dc:creator>Pacha</dc:creator>
  <dc:description/>
  <dc:language>en-US</dc:language>
  <cp:lastModifiedBy>LEGION</cp:lastModifiedBy>
  <dcterms:modified xsi:type="dcterms:W3CDTF">2016-01-11T10:01:49Z</dcterms:modified>
  <cp:revision>17</cp:revision>
  <dc:subject/>
  <dc:title>Информационное управление</dc:title>
</cp:coreProperties>
</file>