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0756-B5F7-4C2E-9B38-16BB6BBC80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A45-D538-43D2-8D45-A3B0D87F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645-A441-40D3-8693-563E07E6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0EB-3490-415D-A803-5DC26BF5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8C9-BA39-4EA3-A232-3BB23BAE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093-2B8F-4A22-858E-81CF65E0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5E6-C141-4EB0-9424-DEDA85C5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5A5-3CC6-4971-8D77-9BD490A4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C9B-D051-4DEB-9556-3B337D8E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3C6-80A3-41AE-B006-042F6BEE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10D-AF42-4BD0-8028-8FA821EB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E74-C0A0-4C16-9BAD-F4A24946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D69-2E35-4AA3-983B-68073859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7A5A-E7F1-40F6-B97D-E02C67314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[10]"/>
          <p:cNvPicPr/>
          <p:nvPr/>
        </p:nvPicPr>
        <p:blipFill>
          <a:blip r:embed="rId1"/>
          <a:stretch/>
        </p:blipFill>
        <p:spPr>
          <a:xfrm>
            <a:off x="5580000" y="3429000"/>
            <a:ext cx="2395440" cy="27734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ezn_p"/>
          <p:cNvPicPr/>
          <p:nvPr/>
        </p:nvPicPr>
        <p:blipFill>
          <a:blip r:embed="rId1"/>
          <a:stretch/>
        </p:blipFill>
        <p:spPr>
          <a:xfrm>
            <a:off x="6084720" y="2421000"/>
            <a:ext cx="251640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j0292020"/>
          <p:cNvPicPr/>
          <p:nvPr/>
        </p:nvPicPr>
        <p:blipFill>
          <a:blip r:embed="rId1"/>
          <a:stretch/>
        </p:blipFill>
        <p:spPr>
          <a:xfrm>
            <a:off x="5364000" y="314172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obile"/>
          <p:cNvPicPr/>
          <p:nvPr/>
        </p:nvPicPr>
        <p:blipFill>
          <a:blip r:embed="rId2"/>
          <a:stretch/>
        </p:blipFill>
        <p:spPr>
          <a:xfrm>
            <a:off x="900000" y="4221000"/>
            <a:ext cx="1051200" cy="198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kpk"/>
          <p:cNvPicPr/>
          <p:nvPr/>
        </p:nvPicPr>
        <p:blipFill>
          <a:blip r:embed="rId3"/>
          <a:stretch/>
        </p:blipFill>
        <p:spPr>
          <a:xfrm>
            <a:off x="2987640" y="443700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Y"/>
          <p:cNvPicPr/>
          <p:nvPr/>
        </p:nvPicPr>
        <p:blipFill>
          <a:blip r:embed="rId1"/>
          <a:stretch/>
        </p:blipFill>
        <p:spPr>
          <a:xfrm>
            <a:off x="6372360" y="3068640"/>
            <a:ext cx="2282760" cy="342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BOOK01"/>
          <p:cNvPicPr/>
          <p:nvPr/>
        </p:nvPicPr>
        <p:blipFill>
          <a:blip r:embed="rId1"/>
          <a:stretch/>
        </p:blipFill>
        <p:spPr>
          <a:xfrm>
            <a:off x="4767120" y="5024520"/>
            <a:ext cx="4376880" cy="18334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162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306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38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5445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219640" y="566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494172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219640" y="422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219640" y="278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219640" y="20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219640" y="134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3780000" y="1844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780000" y="1844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780000" y="263700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780000" y="335772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780000" y="2349000"/>
            <a:ext cx="143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780000" y="4149720"/>
            <a:ext cx="1439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3780000" y="1628280"/>
            <a:ext cx="143964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3780000" y="1628640"/>
            <a:ext cx="143964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19640" y="5805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19640" y="5229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21964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19640" y="4076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219640" y="292428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21964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219640" y="1773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219640" y="1197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826920" y="2781360"/>
            <a:ext cx="30974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3924360" y="1413000"/>
            <a:ext cx="12952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3924360" y="2133720"/>
            <a:ext cx="129528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3924360" y="2637000"/>
            <a:ext cx="1295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924360" y="3141720"/>
            <a:ext cx="129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924360" y="350028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3924360" y="3573360"/>
            <a:ext cx="1295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924360" y="3573360"/>
            <a:ext cx="1295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924360" y="3573360"/>
            <a:ext cx="1295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003640" y="4005360"/>
            <a:ext cx="3889440" cy="718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8360" y="191628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8360" y="3213000"/>
            <a:ext cx="3382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450864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32360" y="191628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932360" y="450864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932360" y="3213000"/>
            <a:ext cx="3598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851280" y="256536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3851280" y="378936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3851280" y="2421000"/>
            <a:ext cx="10810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492360" y="2349360"/>
            <a:ext cx="2232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843280" y="3068640"/>
            <a:ext cx="331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060720" y="3789360"/>
            <a:ext cx="3025800" cy="1008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5280" y="4869000"/>
            <a:ext cx="25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932360" y="486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3348000" y="5950080"/>
            <a:ext cx="251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00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608472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55600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556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6732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556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73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2556000" y="5734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4572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321280" y="3952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353280" y="3952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859280" y="126828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859280" y="2060640"/>
            <a:ext cx="3673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859280" y="278136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59280" y="350028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859280" y="422100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859280" y="494172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859280" y="566100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659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65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65964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6659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87280" y="220500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187280" y="321300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859280" y="3213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187280" y="429264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18728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4859280" y="530064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27003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644364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382638[1]"/>
          <p:cNvPicPr/>
          <p:nvPr/>
        </p:nvPicPr>
        <p:blipFill>
          <a:blip r:embed="rId1"/>
          <a:stretch/>
        </p:blipFill>
        <p:spPr>
          <a:xfrm>
            <a:off x="2556000" y="2781360"/>
            <a:ext cx="40100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дно из самых важных действий, которые осуществляет в своей жизни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[9]"/>
          <p:cNvPicPr/>
          <p:nvPr/>
        </p:nvPicPr>
        <p:blipFill>
          <a:blip r:embed="rId1"/>
          <a:stretch/>
        </p:blipFill>
        <p:spPr>
          <a:xfrm>
            <a:off x="826920" y="2781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dsmax_new_image001"/>
          <p:cNvPicPr/>
          <p:nvPr/>
        </p:nvPicPr>
        <p:blipFill>
          <a:blip r:embed="rId2"/>
          <a:stretch/>
        </p:blipFill>
        <p:spPr>
          <a:xfrm>
            <a:off x="5508720" y="2852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15086"/>
          <p:cNvPicPr/>
          <p:nvPr/>
        </p:nvPicPr>
        <p:blipFill>
          <a:blip r:embed="rId3"/>
          <a:stretch/>
        </p:blipFill>
        <p:spPr>
          <a:xfrm>
            <a:off x="3708360" y="400536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 (11)"/>
          <p:cNvPicPr/>
          <p:nvPr/>
        </p:nvPicPr>
        <p:blipFill>
          <a:blip r:embed="rId1"/>
          <a:stretch/>
        </p:blipFill>
        <p:spPr>
          <a:xfrm>
            <a:off x="3851280" y="3274920"/>
            <a:ext cx="478296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 (9)"/>
          <p:cNvPicPr/>
          <p:nvPr/>
        </p:nvPicPr>
        <p:blipFill>
          <a:blip r:embed="rId2"/>
          <a:stretch/>
        </p:blipFill>
        <p:spPr>
          <a:xfrm>
            <a:off x="395280" y="2421000"/>
            <a:ext cx="4406760" cy="3300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85360"/>
          <p:cNvPicPr/>
          <p:nvPr/>
        </p:nvPicPr>
        <p:blipFill>
          <a:blip r:embed="rId1"/>
          <a:stretch/>
        </p:blipFill>
        <p:spPr>
          <a:xfrm>
            <a:off x="608472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54:03Z</dcterms:created>
  <dc:creator>Pacha</dc:creator>
  <dc:description/>
  <dc:language>en-US</dc:language>
  <cp:lastModifiedBy>LEGION</cp:lastModifiedBy>
  <dcterms:modified xsi:type="dcterms:W3CDTF">2016-01-11T10:01:49Z</dcterms:modified>
  <cp:revision>17</cp:revision>
  <dc:subject/>
  <dc:title>Информационное управление</dc:title>
</cp:coreProperties>
</file>