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02FA-3C54-4081-85AA-C093C25F54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2B0-F104-447B-9CE2-4920805D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105-6B86-486E-88BF-29D38E1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779-5044-4461-961E-E612B56C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0F9-A396-4C1B-B30A-23F71FD0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E99-3C39-476A-A530-28EB90F4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6AC-BC5C-46BE-8F9E-B02D21FB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F6E-9D0E-455A-BB1B-830D4B27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042-B9E4-49F1-B2A1-BE522448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2F8-E4C5-4519-8B62-CC826F23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DF0-9F32-4F4B-92DF-1EA6FDB3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D52-9761-4554-BDEE-F480A71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E81-F9C5-406E-AEA0-48222B42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9390-6A97-42EF-A61E-76EF7145B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[10]"/>
          <p:cNvPicPr/>
          <p:nvPr/>
        </p:nvPicPr>
        <p:blipFill>
          <a:blip r:embed="rId1"/>
          <a:stretch/>
        </p:blipFill>
        <p:spPr>
          <a:xfrm>
            <a:off x="5580000" y="3429000"/>
            <a:ext cx="2395440" cy="27734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ezn_p"/>
          <p:cNvPicPr/>
          <p:nvPr/>
        </p:nvPicPr>
        <p:blipFill>
          <a:blip r:embed="rId1"/>
          <a:stretch/>
        </p:blipFill>
        <p:spPr>
          <a:xfrm>
            <a:off x="6084720" y="2421000"/>
            <a:ext cx="251640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j0292020"/>
          <p:cNvPicPr/>
          <p:nvPr/>
        </p:nvPicPr>
        <p:blipFill>
          <a:blip r:embed="rId1"/>
          <a:stretch/>
        </p:blipFill>
        <p:spPr>
          <a:xfrm>
            <a:off x="5364000" y="314172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obile"/>
          <p:cNvPicPr/>
          <p:nvPr/>
        </p:nvPicPr>
        <p:blipFill>
          <a:blip r:embed="rId2"/>
          <a:stretch/>
        </p:blipFill>
        <p:spPr>
          <a:xfrm>
            <a:off x="900000" y="4221000"/>
            <a:ext cx="1051200" cy="198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kpk"/>
          <p:cNvPicPr/>
          <p:nvPr/>
        </p:nvPicPr>
        <p:blipFill>
          <a:blip r:embed="rId3"/>
          <a:stretch/>
        </p:blipFill>
        <p:spPr>
          <a:xfrm>
            <a:off x="2987640" y="443700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Y"/>
          <p:cNvPicPr/>
          <p:nvPr/>
        </p:nvPicPr>
        <p:blipFill>
          <a:blip r:embed="rId1"/>
          <a:stretch/>
        </p:blipFill>
        <p:spPr>
          <a:xfrm>
            <a:off x="6372360" y="3068640"/>
            <a:ext cx="2282760" cy="342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BOOK01"/>
          <p:cNvPicPr/>
          <p:nvPr/>
        </p:nvPicPr>
        <p:blipFill>
          <a:blip r:embed="rId1"/>
          <a:stretch/>
        </p:blipFill>
        <p:spPr>
          <a:xfrm>
            <a:off x="4767120" y="5024520"/>
            <a:ext cx="4376880" cy="18334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162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306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38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5445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219640" y="566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494172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219640" y="422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219640" y="278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219640" y="20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219640" y="134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3780000" y="1844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780000" y="1844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780000" y="263700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780000" y="335772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780000" y="2349000"/>
            <a:ext cx="143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780000" y="4149720"/>
            <a:ext cx="1439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3780000" y="1628280"/>
            <a:ext cx="143964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3780000" y="1628640"/>
            <a:ext cx="143964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19640" y="5805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19640" y="5229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21964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19640" y="4076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219640" y="292428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21964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219640" y="1773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219640" y="1197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826920" y="2781360"/>
            <a:ext cx="30974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3924360" y="1413000"/>
            <a:ext cx="12952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3924360" y="2133720"/>
            <a:ext cx="129528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3924360" y="2637000"/>
            <a:ext cx="1295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924360" y="3141720"/>
            <a:ext cx="129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924360" y="350028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3924360" y="3573360"/>
            <a:ext cx="1295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924360" y="3573360"/>
            <a:ext cx="1295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924360" y="3573360"/>
            <a:ext cx="1295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003640" y="4005360"/>
            <a:ext cx="3889440" cy="718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8360" y="191628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8360" y="3213000"/>
            <a:ext cx="3382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450864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32360" y="191628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932360" y="450864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932360" y="3213000"/>
            <a:ext cx="3598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851280" y="256536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3851280" y="378936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3851280" y="2421000"/>
            <a:ext cx="10810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492360" y="2349360"/>
            <a:ext cx="2232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843280" y="3068640"/>
            <a:ext cx="331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060720" y="3789360"/>
            <a:ext cx="3025800" cy="1008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5280" y="4869000"/>
            <a:ext cx="25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932360" y="486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3348000" y="5950080"/>
            <a:ext cx="251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00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608472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55600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556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6732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556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73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2556000" y="5734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4572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321280" y="3952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353280" y="3952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859280" y="126828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859280" y="2060640"/>
            <a:ext cx="3673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859280" y="278136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59280" y="350028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859280" y="422100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859280" y="494172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859280" y="566100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659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65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65964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6659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87280" y="220500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187280" y="321300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859280" y="3213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187280" y="429264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18728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4859280" y="530064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27003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644364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382638[1]"/>
          <p:cNvPicPr/>
          <p:nvPr/>
        </p:nvPicPr>
        <p:blipFill>
          <a:blip r:embed="rId1"/>
          <a:stretch/>
        </p:blipFill>
        <p:spPr>
          <a:xfrm>
            <a:off x="2556000" y="2781360"/>
            <a:ext cx="40100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дно из самых важных действий, которые осуществляет в своей жизни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[9]"/>
          <p:cNvPicPr/>
          <p:nvPr/>
        </p:nvPicPr>
        <p:blipFill>
          <a:blip r:embed="rId1"/>
          <a:stretch/>
        </p:blipFill>
        <p:spPr>
          <a:xfrm>
            <a:off x="826920" y="2781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dsmax_new_image001"/>
          <p:cNvPicPr/>
          <p:nvPr/>
        </p:nvPicPr>
        <p:blipFill>
          <a:blip r:embed="rId2"/>
          <a:stretch/>
        </p:blipFill>
        <p:spPr>
          <a:xfrm>
            <a:off x="5508720" y="2852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15086"/>
          <p:cNvPicPr/>
          <p:nvPr/>
        </p:nvPicPr>
        <p:blipFill>
          <a:blip r:embed="rId3"/>
          <a:stretch/>
        </p:blipFill>
        <p:spPr>
          <a:xfrm>
            <a:off x="3708360" y="400536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 (11)"/>
          <p:cNvPicPr/>
          <p:nvPr/>
        </p:nvPicPr>
        <p:blipFill>
          <a:blip r:embed="rId1"/>
          <a:stretch/>
        </p:blipFill>
        <p:spPr>
          <a:xfrm>
            <a:off x="3851280" y="3274920"/>
            <a:ext cx="478296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 (9)"/>
          <p:cNvPicPr/>
          <p:nvPr/>
        </p:nvPicPr>
        <p:blipFill>
          <a:blip r:embed="rId2"/>
          <a:stretch/>
        </p:blipFill>
        <p:spPr>
          <a:xfrm>
            <a:off x="395280" y="2421000"/>
            <a:ext cx="4406760" cy="3300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85360"/>
          <p:cNvPicPr/>
          <p:nvPr/>
        </p:nvPicPr>
        <p:blipFill>
          <a:blip r:embed="rId1"/>
          <a:stretch/>
        </p:blipFill>
        <p:spPr>
          <a:xfrm>
            <a:off x="608472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54:03Z</dcterms:created>
  <dc:creator>Pacha</dc:creator>
  <dc:description/>
  <dc:language>en-US</dc:language>
  <cp:lastModifiedBy>LEGION</cp:lastModifiedBy>
  <dcterms:modified xsi:type="dcterms:W3CDTF">2016-01-11T10:01:49Z</dcterms:modified>
  <cp:revision>17</cp:revision>
  <dc:subject/>
  <dc:title>Информационное управление</dc:title>
</cp:coreProperties>
</file>