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4DE5-C86C-4A1F-B340-E65BA24EC4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Психологическое здоровье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084D-17F7-4F45-8D84-ED1826851A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Агресс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Неполная семья или конфликтные отношения между членами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0EA0-C29E-45DE-BE22-2A64E33A19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Что нужно сделать чтобы личностный рост был гармонич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щую личность надо научить справляться с жизненными труд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, которые она себе ставит, не появляются беспричинно, они обусловлены как личностными (внутренними), так и социальными (внешними) обстоятель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е психофизиологические предпосылки и такие психологические условия, которые были бы адекватны сензитивным период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нии с ребенком, для которого характерна повышенная эмоциональная чувствительность, родителям и педагогам следует быть особо внимательными, избегать резких приемов педагогического воз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эмоций и воли должно быть направлено, прежде всего, на формирование способности конструктивно регулировать собственные пере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7E9F-CED8-45B6-8406-7E012E9295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беспомощен, но мудрость взрослого дает ему защиту, так как именно окружающие ребёнка взрослые способны создать приемлемые условия для его полноценного развития. Основа такого развития – психологическое здоровье, от которого во многом зависит здоровье человек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F5B9-D74D-42B4-9591-BD4D99252E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Что такое психологическое здоровь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 мир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его неуверенность или уверенность в себе, понимание собственных способностей, интересов, отношение к людям, окружающему миру, общественным событиям, к жизни как к таковой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C155-784D-4D78-9B3A-C3EBFE8655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Уровни психологическ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креативный, творческий, созидатель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проявляются отдельные признаки дезадаптации, повышенная тревож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из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конфликты со сверстниками, капризы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6B75-6AF3-42AD-9AA9-DF6F5726B8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Факторы риска нарушения психологического здоровья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C7CE-C64A-4FE7-A622-354BAD3B62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Фактор среды 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(семья и шко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7B3B-85BF-4311-991E-68DDF71F55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4F2A-A38B-470A-915F-99DFF95C7B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5B6-C205-44AC-A060-E20B0C89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B13-9327-4794-9A87-C5EF323E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DC5-EC3D-4B19-977C-5BE1A8E4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81A-95B2-4D6B-AB54-E78EAC1C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FF2-0E99-4EC8-8D40-64F53A9B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AAF-D507-4184-B834-3C561349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436-F234-4C01-8962-0BF2D686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738-A53D-455A-A6C1-F30CB64F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0A7-88BF-437E-84BB-D7566509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84A-8A23-4CD1-8408-9B44C196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6E9-516A-4E27-8FE2-D2EE26CC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440-F045-489C-81C5-B5AA087B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D958-A882-4C41-AC0C-71AA64588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99640" y="1052280"/>
            <a:ext cx="727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Психологическое здоровье школьник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3981470000[1]"/>
          <p:cNvPicPr/>
          <p:nvPr/>
        </p:nvPicPr>
        <p:blipFill>
          <a:blip r:embed="rId1"/>
          <a:stretch/>
        </p:blipFill>
        <p:spPr>
          <a:xfrm>
            <a:off x="3564000" y="4149720"/>
            <a:ext cx="1944720" cy="21765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Агрессия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Неполная семья или конфликтные отношения между членами семьи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MCj03967420000[1]"/>
          <p:cNvPicPr/>
          <p:nvPr/>
        </p:nvPicPr>
        <p:blipFill>
          <a:blip r:embed="rId1"/>
          <a:stretch/>
        </p:blipFill>
        <p:spPr>
          <a:xfrm>
            <a:off x="6443640" y="333360"/>
            <a:ext cx="1932120" cy="2087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Что нужно сделать чтобы личностный рост был гармонич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ущую личность надо научить справляться с жизненными трудност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, которые она себе ставит, не появляются беспричинно, они обусловлены как личностными (внутренними), так и социальными (внешними) обстоятельств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альные психофизиологические предпосылки и такие психологические условия, которые были бы адекватны сензитивным период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нии с ребенком, для которого характерна повышенная эмоциональная чувствительность, родителям и педагогам следует быть особо внимательными, избегать резких приемов педагогического воз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эмоций и воли должно быть направлено, прежде всего, на формирование способности конструктивно регулировать собственные пере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бенок беспомощен, но мудрость взрослого дает ему защиту, так как именно окружающие ребёнка взрослые способны создать приемлемые условия для его полноценного развития. Основа такого развития – психологическое здоровье, от которого во многом зависит здоровье человек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Pj04304930000[1]"/>
          <p:cNvPicPr/>
          <p:nvPr/>
        </p:nvPicPr>
        <p:blipFill>
          <a:blip r:embed="rId1"/>
          <a:stretch/>
        </p:blipFill>
        <p:spPr>
          <a:xfrm>
            <a:off x="3780000" y="414972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Что такое психологическое здоровь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утренний мир ребе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его неуверенность или уверенность в себе, понимание собственных способностей, интересов, отношение к людям, окружающему миру, общественным событиям, к жизни как к таковой и т.д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Уровни психологического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ысо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еативный, творческий, созидательный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редни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являются отдельные признаки дезадаптации, повышенная тревожность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изки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фликты со сверстниками, капризы и т.п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Факторы риска нарушения психологического здоровья де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MCj03966840000[1]"/>
          <p:cNvPicPr/>
          <p:nvPr/>
        </p:nvPicPr>
        <p:blipFill>
          <a:blip r:embed="rId1"/>
          <a:stretch/>
        </p:blipFill>
        <p:spPr>
          <a:xfrm>
            <a:off x="3780000" y="4221000"/>
            <a:ext cx="1657080" cy="18734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Фактор среды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(семья и школ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900000" y="1413000"/>
          <a:ext cx="755964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13000"/>
                    <a:ext cx="75596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1042920" y="620640"/>
          <a:ext cx="705816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20640"/>
                    <a:ext cx="70581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3"/>
          <p:cNvGraphicFramePr/>
          <p:nvPr/>
        </p:nvGraphicFramePr>
        <p:xfrm>
          <a:off x="900000" y="549360"/>
          <a:ext cx="7417080" cy="57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49360"/>
                    <a:ext cx="741708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3"/>
          <p:cNvGraphicFramePr/>
          <p:nvPr/>
        </p:nvGraphicFramePr>
        <p:xfrm>
          <a:off x="1116000" y="404640"/>
          <a:ext cx="6985080" cy="56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04640"/>
                    <a:ext cx="69850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3"/>
          <p:cNvGraphicFramePr/>
          <p:nvPr/>
        </p:nvGraphicFramePr>
        <p:xfrm>
          <a:off x="1116000" y="692280"/>
          <a:ext cx="7128000" cy="54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92280"/>
                    <a:ext cx="712800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0:36:48Z</dcterms:created>
  <dc:creator>media</dc:creator>
  <dc:description/>
  <dc:language>en-US</dc:language>
  <cp:lastModifiedBy>LEGION</cp:lastModifiedBy>
  <dcterms:modified xsi:type="dcterms:W3CDTF">2014-11-12T07:33:27Z</dcterms:modified>
  <cp:revision>5</cp:revision>
  <dc:subject/>
  <dc:title>Слайд 1</dc:title>
</cp:coreProperties>
</file>