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E307-8085-4C6B-97E3-C1AD0A73A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Психологическое здоровье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D3E-AE96-4172-A4E6-907983887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Агресс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еполная семья или конфликтные отношения между членами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6C57-334E-46B0-A441-4055A6DF3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Что нужно сделать чтобы личностный рост был гармонич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ую личность надо научить справляться с жизненными труд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8D03-0AC2-4420-A1BA-A3CD6E6A5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26D-C14C-47DB-BBDD-616681289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Что такое психологическое здоров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2BE2-1623-4A4D-9989-AFD4BE6B4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Уровни психологическ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реативный, творческий, созидатель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оявляются отдельные признаки дезадаптации, повышенная тревож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онфликты со сверстниками, капризы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F01A-D75E-46E0-929F-FA36FA5D6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ы риска нарушения психологического 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1990-A422-47AB-991F-9EC6C617D6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 среды 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(семья и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AB6-B32F-4A2A-B7E3-B4E4DBD31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B82-40CD-4181-AF42-99E6FC7173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309-73C4-4A7A-B1D6-99BD09B6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340-3DA3-46E4-A4CD-20D035D2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50C-027A-46FC-9B71-ED13EE67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507-8D6E-4B21-BED2-BE0814D3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F94-E929-4522-98F8-64E3BD5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F6F-8177-40FA-9566-3144620A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CC2-8F2D-4279-92FC-F46EBE71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C90-C960-4DF9-968B-4E867CB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5DC-E2F9-481F-BAE9-E420A94D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9D2-B7F6-4932-B031-FB2DCF9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E3B-EB16-4054-AB65-D7E0834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923-4170-4C84-A112-CF8C93C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53C-AE67-4398-951E-FD3E3B528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Психологическое здоровье шк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1470000[1]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гресс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полная семья или конфликтные отношения между членами семь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3967420000[1]"/>
          <p:cNvPicPr/>
          <p:nvPr/>
        </p:nvPicPr>
        <p:blipFill>
          <a:blip r:embed="rId1"/>
          <a:stretch/>
        </p:blipFill>
        <p:spPr>
          <a:xfrm>
            <a:off x="6443640" y="333360"/>
            <a:ext cx="193212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Что нужно сделать чтобы личностный рост был гармони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щую личность надо научить справляться с жизненными труд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4304930000[1]"/>
          <p:cNvPicPr/>
          <p:nvPr/>
        </p:nvPicPr>
        <p:blipFill>
          <a:blip r:embed="rId1"/>
          <a:stretch/>
        </p:blipFill>
        <p:spPr>
          <a:xfrm>
            <a:off x="3780000" y="41497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такое психологичес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й мир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ровни психологическо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ый, творческий, созидательны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ед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ются отдельные признаки дезадаптации, повышенная тревожность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ликты со сверстниками, капризы и 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акторы риска нарушения психологического здоровья де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Cj03966840000[1]"/>
          <p:cNvPicPr/>
          <p:nvPr/>
        </p:nvPicPr>
        <p:blipFill>
          <a:blip r:embed="rId1"/>
          <a:stretch/>
        </p:blipFill>
        <p:spPr>
          <a:xfrm>
            <a:off x="3780000" y="422100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актор среды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семья и шк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900000" y="1413000"/>
          <a:ext cx="75596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559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1042920" y="620640"/>
          <a:ext cx="70581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705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900000" y="549360"/>
          <a:ext cx="7417080" cy="57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4170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1116000" y="404640"/>
          <a:ext cx="6985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985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3"/>
          <p:cNvGraphicFramePr/>
          <p:nvPr/>
        </p:nvGraphicFramePr>
        <p:xfrm>
          <a:off x="1116000" y="692280"/>
          <a:ext cx="71280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71280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0:36:48Z</dcterms:created>
  <dc:creator>media</dc:creator>
  <dc:description/>
  <dc:language>en-US</dc:language>
  <cp:lastModifiedBy>LEGION</cp:lastModifiedBy>
  <dcterms:modified xsi:type="dcterms:W3CDTF">2014-11-12T07:33:27Z</dcterms:modified>
  <cp:revision>5</cp:revision>
  <dc:subject/>
  <dc:title>Слайд 1</dc:title>
</cp:coreProperties>
</file>