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86A9-5EF5-4F54-9F7A-367A5485B5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Психологическое здоровье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9785-4FDF-442F-8E37-5410FDCB10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Агресс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Неполная семья или конфликтные отношения между членами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4C91-F91C-4A03-AD7F-F85666FD3D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Что нужно сделать чтобы личностный рост был гармоничны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щую личность надо научить справляться с жизненными трудност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, которые она себе ставит, не появляются беспричинно, они обусловлены как личностными (внутренними), так и социальными (внешними) обстоятель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е психофизиологические предпосылки и такие психологические условия, которые были бы адекватны сензитивным период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нии с ребенком, для которого характерна повышенная эмоциональная чувствительность, родителям и педагогам следует быть особо внимательными, избегать резких приемов педагогического воз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эмоций и воли должно быть направлено, прежде всего, на формирование способности конструктивно регулировать собственные пере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4C0E-02DE-4B3A-99EE-5615C2C9CC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енок беспомощен, но мудрость взрослого дает ему защиту, так как именно окружающие ребёнка взрослые способны создать приемлемые условия для его полноценного развития. Основа такого развития – психологическое здоровье, от которого во многом зависит здоровье человек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A52B-7EAB-4B3B-B6FC-CBBEFAB2A6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Что такое психологическое здоровь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утренний мир ребе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его неуверенность или уверенность в себе, понимание собственных способностей, интересов, отношение к людям, окружающему миру, общественным событиям, к жизни как к таковой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413E-787C-4978-81A9-39D04C152B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Уровни психологическ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креативный, творческий, созидатель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ред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проявляются отдельные признаки дезадаптации, повышенная тревожн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изк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конфликты со сверстниками, капризы и т.п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BBAC-324D-4DED-A459-E83AE9DEEA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Факторы риска нарушения психологического здоровья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E874-0C4C-47A8-A7BE-E1ED2092BB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Фактор среды </a:t>
            </a:r>
            <a:br>
              <a:rPr sz="12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(семья и шко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4829-92AA-407A-BEF3-A82861A231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4CCC-94AF-47A3-9B0F-05E9CC6F3D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5E5-196E-4AA7-93EB-8A993B65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9BB7-BC72-428B-8D36-51FB5FC7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7251-1C49-468C-A760-5122F37A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DC16-06FD-4F9E-A090-E81DCAED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08C9-2BC4-4352-AF9F-775817E6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2BBA-1B47-4D9F-912F-BA7B76C4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6EC4-9864-46C7-8AFE-61DC1CF3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619-7782-4EEC-9677-1D7FB17F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AF08-C255-46FA-BC6D-918F9A4B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EE1D-E116-4A1C-9406-BDA8972C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737-81B4-4A0A-8859-BB38D597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A0D-09BE-402D-B391-1457B830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E75F-0180-4BBA-B0F9-A729C67EF6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99640" y="1052280"/>
            <a:ext cx="727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Психологическое здоровье школьник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MCj03981470000[1]"/>
          <p:cNvPicPr/>
          <p:nvPr/>
        </p:nvPicPr>
        <p:blipFill>
          <a:blip r:embed="rId1"/>
          <a:stretch/>
        </p:blipFill>
        <p:spPr>
          <a:xfrm>
            <a:off x="3564000" y="4149720"/>
            <a:ext cx="1944720" cy="21765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Агрессия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Неполная семья или конфликтные отношения между членами семьи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MCj03967420000[1]"/>
          <p:cNvPicPr/>
          <p:nvPr/>
        </p:nvPicPr>
        <p:blipFill>
          <a:blip r:embed="rId1"/>
          <a:stretch/>
        </p:blipFill>
        <p:spPr>
          <a:xfrm>
            <a:off x="6443640" y="333360"/>
            <a:ext cx="1932120" cy="2087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Что нужно сделать чтобы личностный рост был гармонич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ущую личность надо научить справляться с жизненными трудност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, которые она себе ставит, не появляются беспричинно, они обусловлены как личностными (внутренними), так и социальными (внешними) обстоятельств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рмальные психофизиологические предпосылки и такие психологические условия, которые были бы адекватны сензитивным период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нии с ребенком, для которого характерна повышенная эмоциональная чувствительность, родителям и педагогам следует быть особо внимательными, избегать резких приемов педагогического воздей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е эмоций и воли должно быть направлено, прежде всего, на формирование способности конструктивно регулировать собственные пере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бенок беспомощен, но мудрость взрослого дает ему защиту, так как именно окружающие ребёнка взрослые способны создать приемлемые условия для его полноценного развития. Основа такого развития – психологическое здоровье, от которого во многом зависит здоровье человека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Pj04304930000[1]"/>
          <p:cNvPicPr/>
          <p:nvPr/>
        </p:nvPicPr>
        <p:blipFill>
          <a:blip r:embed="rId1"/>
          <a:stretch/>
        </p:blipFill>
        <p:spPr>
          <a:xfrm>
            <a:off x="3780000" y="414972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Что такое психологическое здоровь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нутренний мир ребен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его неуверенность или уверенность в себе, понимание собственных способностей, интересов, отношение к людям, окружающему миру, общественным событиям, к жизни как к таковой и т.д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Уровни психологического здор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ысо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еативный, творческий, созидательный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редни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являются отдельные признаки дезадаптации, повышенная тревожность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изки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фликты со сверстниками, капризы и т.п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Факторы риска нарушения психологического здоровья дет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MCj03966840000[1]"/>
          <p:cNvPicPr/>
          <p:nvPr/>
        </p:nvPicPr>
        <p:blipFill>
          <a:blip r:embed="rId1"/>
          <a:stretch/>
        </p:blipFill>
        <p:spPr>
          <a:xfrm>
            <a:off x="3780000" y="4221000"/>
            <a:ext cx="1657080" cy="187344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Фактор среды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(семья и школ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900000" y="1413000"/>
          <a:ext cx="7559640" cy="51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413000"/>
                    <a:ext cx="755964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1042920" y="620640"/>
          <a:ext cx="7058160" cy="56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620640"/>
                    <a:ext cx="705816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3"/>
          <p:cNvGraphicFramePr/>
          <p:nvPr/>
        </p:nvGraphicFramePr>
        <p:xfrm>
          <a:off x="900000" y="549360"/>
          <a:ext cx="7417080" cy="57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49360"/>
                    <a:ext cx="741708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3"/>
          <p:cNvGraphicFramePr/>
          <p:nvPr/>
        </p:nvGraphicFramePr>
        <p:xfrm>
          <a:off x="1116000" y="404640"/>
          <a:ext cx="6985080" cy="561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04640"/>
                    <a:ext cx="69850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3"/>
          <p:cNvGraphicFramePr/>
          <p:nvPr/>
        </p:nvGraphicFramePr>
        <p:xfrm>
          <a:off x="1116000" y="692280"/>
          <a:ext cx="7128000" cy="547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692280"/>
                    <a:ext cx="7128000" cy="54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0:36:48Z</dcterms:created>
  <dc:creator>media</dc:creator>
  <dc:description/>
  <dc:language>en-US</dc:language>
  <cp:lastModifiedBy>LEGION</cp:lastModifiedBy>
  <dcterms:modified xsi:type="dcterms:W3CDTF">2014-11-12T07:33:27Z</dcterms:modified>
  <cp:revision>5</cp:revision>
  <dc:subject/>
  <dc:title>Слайд 1</dc:title>
</cp:coreProperties>
</file>