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8C16-15B9-4437-A760-BD3EABE05E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Психологическое здоровье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3A37-D9C7-4E0F-9E01-E63FDAF83D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Агресс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Неполная семья или конфликтные отношения между членами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2730-BC5A-4FF0-B9DB-1B9C438D2C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Что нужно сделать чтобы личностный рост был гармонич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щую личность надо научить справляться с жизненными трудност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, которые она себе ставит, не появляются беспричинно, они обусловлены как личностными (внутренними), так и социальными (внешними) обстоятель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е психофизиологические предпосылки и такие психологические условия, которые были бы адекватны сензитивным период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нии с ребенком, для которого характерна повышенная эмоциональная чувствительность, родителям и педагогам следует быть особо внимательными, избегать резких приемов педагогического воз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эмоций и воли должно быть направлено, прежде всего, на формирование способности конструктивно регулировать собственные пере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6095-F9BC-449E-9897-356BD3F9CB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енок беспомощен, но мудрость взрослого дает ему защиту, так как именно окружающие ребёнка взрослые способны создать приемлемые условия для его полноценного развития. Основа такого развития – психологическое здоровье, от которого во многом зависит здоровье человек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445E-164B-4626-B015-2FBBF8B565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Что такое психологическое здоровь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 мир 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его неуверенность или уверенность в себе, понимание собственных способностей, интересов, отношение к людям, окружающему миру, общественным событиям, к жизни как к таковой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8382-5CB7-4B13-BFCC-13DF4A0088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Уровни психологическ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креативный, творческий, созидатель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проявляются отдельные признаки дезадаптации, повышенная тревож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из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конфликты со сверстниками, капризы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A31C-7701-4CB8-A3AC-4EC3324389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Факторы риска нарушения психологического здоровья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817B-A3B3-4804-9C9D-3B1E2AAD48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Фактор среды 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(семья и шко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4935-3596-4F4A-8F40-6B25892C68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5CA4-812A-4AFC-B288-E244A2F603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069-1A59-4772-B394-C7985143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89E-45B7-4791-B458-CF678EEF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7BD-4076-4113-9FE9-829C7217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C4D-838F-4747-9D42-40FD94CB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6CA-3410-4CDA-83BF-DCE4135A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037-EE39-4003-98A1-A4BD7666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A5C-5D8F-4082-8319-5C5FC408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0F6-2306-46C7-AD0A-57439D0C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C1B8-8F28-4FFA-8457-00ECFFC7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E72-D865-48B9-9AC8-0B6E75C6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FA4-08A4-4322-B778-8DF76A5B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C0A-2135-4AA2-9753-6A45AF24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E352-2880-4CE2-BDCE-C2C7A604C2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99640" y="1052280"/>
            <a:ext cx="727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Психологическое здоровье школьник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3981470000[1]"/>
          <p:cNvPicPr/>
          <p:nvPr/>
        </p:nvPicPr>
        <p:blipFill>
          <a:blip r:embed="rId1"/>
          <a:stretch/>
        </p:blipFill>
        <p:spPr>
          <a:xfrm>
            <a:off x="3564000" y="4149720"/>
            <a:ext cx="1944720" cy="21765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Агрессия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Неполная семья или конфликтные отношения между членами семьи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MCj03967420000[1]"/>
          <p:cNvPicPr/>
          <p:nvPr/>
        </p:nvPicPr>
        <p:blipFill>
          <a:blip r:embed="rId1"/>
          <a:stretch/>
        </p:blipFill>
        <p:spPr>
          <a:xfrm>
            <a:off x="6443640" y="333360"/>
            <a:ext cx="1932120" cy="2087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Что нужно сделать чтобы личностный рост был гармонич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ущую личность надо научить справляться с жизненными трудност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, которые она себе ставит, не появляются беспричинно, они обусловлены как личностными (внутренними), так и социальными (внешними) обстоятельств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альные психофизиологические предпосылки и такие психологические условия, которые были бы адекватны сензитивным период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нии с ребенком, для которого характерна повышенная эмоциональная чувствительность, родителям и педагогам следует быть особо внимательными, избегать резких приемов педагогического воз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эмоций и воли должно быть направлено, прежде всего, на формирование способности конструктивно регулировать собственные пере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бенок беспомощен, но мудрость взрослого дает ему защиту, так как именно окружающие ребёнка взрослые способны создать приемлемые условия для его полноценного развития. Основа такого развития – психологическое здоровье, от которого во многом зависит здоровье человек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Pj04304930000[1]"/>
          <p:cNvPicPr/>
          <p:nvPr/>
        </p:nvPicPr>
        <p:blipFill>
          <a:blip r:embed="rId1"/>
          <a:stretch/>
        </p:blipFill>
        <p:spPr>
          <a:xfrm>
            <a:off x="3780000" y="414972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Что такое психологическое здоровь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утренний мир ребе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его неуверенность или уверенность в себе, понимание собственных способностей, интересов, отношение к людям, окружающему миру, общественным событиям, к жизни как к таковой и т.д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Уровни психологического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ысо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еативный, творческий, созидательный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редни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являются отдельные признаки дезадаптации, повышенная тревожность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изки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фликты со сверстниками, капризы и т.п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Факторы риска нарушения психологического здоровья де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MCj03966840000[1]"/>
          <p:cNvPicPr/>
          <p:nvPr/>
        </p:nvPicPr>
        <p:blipFill>
          <a:blip r:embed="rId1"/>
          <a:stretch/>
        </p:blipFill>
        <p:spPr>
          <a:xfrm>
            <a:off x="3780000" y="4221000"/>
            <a:ext cx="1657080" cy="18734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Фактор среды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(семья и школ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900000" y="1413000"/>
          <a:ext cx="755964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13000"/>
                    <a:ext cx="75596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1042920" y="620640"/>
          <a:ext cx="705816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20640"/>
                    <a:ext cx="70581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3"/>
          <p:cNvGraphicFramePr/>
          <p:nvPr/>
        </p:nvGraphicFramePr>
        <p:xfrm>
          <a:off x="900000" y="549360"/>
          <a:ext cx="7417080" cy="57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49360"/>
                    <a:ext cx="741708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3"/>
          <p:cNvGraphicFramePr/>
          <p:nvPr/>
        </p:nvGraphicFramePr>
        <p:xfrm>
          <a:off x="1116000" y="404640"/>
          <a:ext cx="6985080" cy="561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04640"/>
                    <a:ext cx="69850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3"/>
          <p:cNvGraphicFramePr/>
          <p:nvPr/>
        </p:nvGraphicFramePr>
        <p:xfrm>
          <a:off x="1116000" y="692280"/>
          <a:ext cx="7128000" cy="54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692280"/>
                    <a:ext cx="712800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0:36:48Z</dcterms:created>
  <dc:creator>media</dc:creator>
  <dc:description/>
  <dc:language>en-US</dc:language>
  <cp:lastModifiedBy>LEGION</cp:lastModifiedBy>
  <dcterms:modified xsi:type="dcterms:W3CDTF">2014-11-12T07:33:27Z</dcterms:modified>
  <cp:revision>5</cp:revision>
  <dc:subject/>
  <dc:title>Слайд 1</dc:title>
</cp:coreProperties>
</file>