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F4C5-93D3-4984-AD7D-4377AFC91C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доцент кафед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а ИЭ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якова Наталья Олег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 по изучению кур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доцент кафед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а ИЭ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якова Наталья Олег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 по изучению кур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2. Сущность маркетинга. Понятие маркетинга. Эволюция маркетинговых концепций. Функции маркетинга. Предмет и объект маркет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3. Методы маркетинговых исследований. Понятие, виды и методы маркетинговых коммуникаций. Виды исследований. Наблюдение. Эксперимент. Опрос. Интерв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2. Сущность маркетинга. Понятие маркетинга. Эволюция маркетинговых концепций. Функции маркетинга. Предмет и объект маркет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3. Методы маркетинговых исследований. Понятие, виды и методы маркетинговых коммуникаций. Виды исследований. Наблюдение. Эксперимент. Опрос. Интерв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4. Методы продвижения продукции. Понятие продвижения. Формирование бюджета продвижения. Методы продвижения продукции: реклама, паблисити, метод личных продаж, стимулирование сбы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5. Методы исследования рынка. Понятие рынка. Способы сегментирования рынка. Изучение потребительских предпочтений. Формирование спроса на товар. Исследование рынка. Составление маркетинг-пл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4. Методы продвижения продукции. Понятие продвижения. Формирование бюджета продвижения. Методы продвижения продукции: реклама, паблисити, метод личных продаж, стимулирование сбы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5. Методы исследования рынка. Понятие рынка. Способы сегментирования рынка. Изучение потребительских предпочтений. Формирование спроса на товар. Исследование рынка. Составление маркетинг-пл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работы студента в течении семестра по изучению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лекционных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материала лекций и чтение основной и дополнительной литер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практического зан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отчета по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рубежному контролю (тест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личного портфолио по дисципли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исание курсов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работы студента в течении семестра по изучению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лекционных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материала лекций и чтение основной и дополнительной литер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практического зан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отчета по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рубежному контролю (тест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личного портфолио по дисципли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исание курсов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ктических зан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овые игры и case-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инги-семин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-к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теоретического материала сту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ктических зан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овые игры и case-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инги-семин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-к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теоретического материала сту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литература по кур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кон М.Х., Альберт М., Хедоури Ф. - Основы менеджмента: Учебное пособие (пер. с англ., под ред. Медведь О.И.) Изд. 3-е , 2008г. - ИД Вильямс, 672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мов А.И., Виханский О.С. - Менеджмент: Учебник для вузов Изд. 4-е, перераб., доп. , 2008г. - Экономистъ, 6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тлер Ф. и др. Основы маркетинга: Пер. с англ. – 2-е европ. Изд. –М.; СПб: Издат. Дом «Вильямс»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ихтль Е., Хершген X. Практический маркетинг: Учебное пособие /Пер. с нем. А.М. Макарова - М.: Высшая школа, 19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ибб С., Симкин Л., Бредли Дж. Практическое руководство по маркетинговому планированию. – СПб: Питер,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литература по кур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кон М.Х., Альберт М., Хедоури Ф. - Основы менеджмента: Учебное пособие (пер. с англ., под ред. Медведь О.И.) Изд. 3-е , 2008г. - ИД Вильямс, 672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мов А.И., Виханский О.С. - Менеджмент: Учебник для вузов Изд. 4-е, перераб., доп. , 2008г. - Экономистъ, 6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тлер Ф. и др. Основы маркетинга: Пер. с англ. – 2-е европ. Изд. –М.; СПб: Издат. Дом «Вильямс»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ихтль Е., Хершген X. Практический маркетинг: Учебное пособие /Пер. с нем. А.М. Макарова - М.: Высшая школа, 19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ибб С., Симкин Л., Бредли Дж. Практическое руководство по маркетинговому планированию. – СПб: Питер,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та А. Сделано в Японии. -М.: Прогресс, 1990. Сделано в Японии. Изд.: АЛЬПИНА БИЗНЕС БУКС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ан А. П. Мои годы с "Дженерал моторc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д Г. Моя жизнь. Мои достижения. - Мн:Попурри, 2004, 352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кка Л., Новак У. Карьера менеджера: Бестселлер, ставший вехой в истории: Новая ред. (пер. с англ. Борич С.Э.) Изд. 1-е/ 2-е/ 3-е , - Попурри, 2007, 544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мис Э., Смит Б. Бизнес путь: YAHOO! Секреты самой популярной в мире Интернет-компании.- СПб.: Изд. «Крылов»,2003г, 208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тс Билл Дорога в будущее -М., Русская редакция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стнер Л.В. - Кто сказал, что слоны не умеют танцевать?: Возрождение корпорации IBM: Взгляд изнутри (пер. с англ. Шалунова М.) - Альпина Паблишер, 2003, 32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та А. Сделано в Японии. -М.: Прогресс, 1990. Сделано в Японии. Изд.: АЛЬПИНА БИЗНЕС БУКС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ан А. П. Мои годы с "Дженерал моторc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д Г. Моя жизнь. Мои достижения. - Мн:Попурри, 2004, 352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кка Л., Новак У. Карьера менеджера: Бестселлер, ставший вехой в истории: Новая ред. (пер. с англ. Борич С.Э.) Изд. 1-е/ 2-е/ 3-е , - Попурри, 2007, 544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мис Э., Смит Б. Бизнес путь: YAHOO! Секреты самой популярной в мире Интернет-компании.- СПб.: Изд. «Крылов»,2003г, 208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тс Билл Дорога в будущее -М., Русская редакция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стнер Л.В. - Кто сказал, что слоны не умеют танцевать?: Возрождение корпорации IBM: Взгляд изнутри (пер. с англ. Шалунова М.) - Альпина Паблишер, 2003, 32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Ф. Управление нацеленное на результаты/ Пер. с англ. - М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 Эффективное управление. Экономические задачи и оптимальные решения. Пер. с англ. - М: АСТ /Астрель /Ермак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икава И. Японские методы управления качеством. м.: Экономика. 198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неги Э. История моей жизни, - РОССПЭН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рнс Д.Т., Недлер Д.А. Пороки во тьме, или рассказ о том как "Ксерокс" восстал из пепла и дал бой японцам, -Спб:Азбука-Терра,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риден Т. Бизнес путь: NOKIA. Секреты успеха самой быстроразвивающейся компании в мире. - СПб.: Изд. «Крылов»,2003г, 192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Ф. Управление нацеленное на результаты/ Пер. с англ. - М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 Эффективное управление. Экономические задачи и оптимальные решения. Пер. с англ. - М: АСТ /Астрель /Ермак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икава И. Японские методы управления качеством. м.: Экономика. 198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неги Э. История моей жизни, - РОССПЭН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рнс Д.Т., Недлер Д.А. Пороки во тьме, или рассказ о том как "Ксерокс" восстал из пепла и дал бой японцам, -Спб:Азбука-Терра,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риден Т. Бизнес путь: NOKIA. Секреты успеха самой быстроразвивающейся компании в мире. - СПб.: Изд. «Крылов»,2003г, 192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Бурцева Т.А., Сизов В.С., Цень О.А. Управление маркетингом.  – М: изд. «Экономистъ», 2005, с.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илбрет А. Черчиль. Маркетинговые исследования.  – СПб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тво «Питер»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олубков Е.П. Основы маркетинга: Учебник.  – М.: Изд-во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пресс”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анько Т.П. Управление маркетингом: Учебник. Изд. 2-е перераб.  И доп. – М.: ИНФРА-М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фт М. Дж. Сегментирование рынка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рюков А. Управление маркетингом. – М: изд. «Кнорус», 2006, с. 3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аркетинг, ориентированный на стоимость/Пер. с англ. под ред. Ю.Н. Каптуревского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Маркетинг: Учеб. Пособие/Под ред. А.М. Немчина, Д.В. Минаева. – СПб: Издательский дом «Бизнес-пресса»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Бурцева Т.А., Сизов В.С., Цень О.А. Управление маркетингом.  – М: изд. «Экономистъ», 2005, с.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илбрет А. Черчиль. Маркетинговые исследования.  – СПб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тво «Питер»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олубков Е.П. Основы маркетинга: Учебник.  – М.: Изд-во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пресс”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анько Т.П. Управление маркетингом: Учебник. Изд. 2-е перераб.  И доп. – М.: ИНФРА-М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фт М. Дж. Сегментирование рынка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рюков А. Управление маркетингом. – М: изд. «Кнорус», 2006, с. 3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аркетинг, ориентированный на стоимость/Пер. с англ. под ред. Ю.Н. Каптуревского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Маркетинг: Учеб. Пособие/Под ред. А.М. Немчина, Д.В. Минаева. – СПб: Издательский дом «Бизнес-пресса»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СТУДЕНТА ПО КУР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СТУДЕНТА ПО КУР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по дисциплине – это совокупность материалов, разработанных и собранных студентом самостоятельно, демонстрирующих его прогресс в изучении  и понимании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документ должен датироваться, чтобы можно было проследить динамику учебн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по дисциплине – это совокупность материалов, разработанных и собранных студентом самостоятельно, демонстрирующих его прогресс в изучении  и понимании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документ должен датироваться, чтобы можно было проследить динамику учебн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. ЭВОЛЮЦИЯ УПРАВЛЕНЧЕСКОЙ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енеджмент как вид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. Принципы менеджмента. Функции менеджмента. Характеристика труда менеджера. Структура труда менеджера. Соотношение функций менеджера и уровней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. ЭВОЛЮЦИЯ УПРАВЛЕНЧЕСКОЙ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енеджмент как вид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. Принципы менеджмента. Функции менеджмента. Характеристика труда менеджера. Структура труда менеджера. Соотношение функций менеджера и уровней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ортфолио по дисциплине 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целей, которых студент хотел бы достигнуть после изучения данной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прочитанной основной и дополнительной литературы по кур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ссе на каждое прочитанное произведение из дополнительной литературы. (Что я для себя вынес из данной книги? Какие методы управления использовались на данном предприятии? Что стало залогом успеха? Что послужило поводом для неудач?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ет о проведении деловой иг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кейса или конкретной ситу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ы по курсу ( 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очные формы по презентации (оценки других студент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работы (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докладов студ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пии статей из журналов, прочитанные и проанализированные студен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ортфолио по дисциплине 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целей, которых студент хотел бы достигнуть после изучения данной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прочитанной основной и дополнительной литературы по кур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ссе на каждое прочитанное произведение из дополнительной литературы. (Что я для себя вынес из данной книги? Какие методы управления использовались на данном предприятии? Что стало залогом успеха? Что послужило поводом для неудач?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ет о проведении деловой иг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кейса или конкретной ситу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ы по курсу ( 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очные формы по презентации (оценки других студент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работы (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докладов студ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пии статей из журналов, прочитанные и проанализированные студен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оценивания результатов обуче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оценивания результатов обуче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История развития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ки возникновения менеджмента. Развитие управления как науки. Школы менеджмента. Научное управление. Концепция бюрократии. Классическое управление. Доктрина человеческих отношений. Поведенческие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Современные подходы к менеджмен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концепции менеджмента с точки зрения количественного, процессного, системного и ситуационного подхода. Вклад в современную науку менеджмента концепций различных школ и подходов. Система взглядов на управление в России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История развития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ки возникновения менеджмента. Развитие управления как науки. Школы менеджмента. Научное управление. Концепция бюрократии. Классическое управление. Доктрина человеческих отношений. Поведенческие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Современные подходы к менеджмен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концепции менеджмента с точки зрения количественного, процессного, системного и ситуационного подхода. Вклад в современную науку менеджмента концепций различных школ и подходов. Система взглядов на управление в России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бщие характеристик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организации и ее место в менеджменте. Формальные и неформальные организации. Жизненный цикл организации. Внутренняя и внешняя среда организации. Организация как открытая социально-экономическая система. Критерии результативности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бщие характеристик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организации и ее место в менеджменте. Формальные и неформальные организации. Жизненный цикл организации. Внутренняя и внешняя среда организации. Организация как открытая социально-экономическая система. Критерии результативности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Цели организации. Миссия организации. Выработка и примерное содержание миссии. Понятие и виды целей. Целеполагание. Правила построения дерева целей. Примерное содержание дерева целей приборостроительного предприятия. Управление по целям (по результатам). Этапы процесса управления по ц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Функция организации как создание реальных условий для достижения целей. Организация взаимодействия между линейными, функциональными и штабными полномочиями. Делегирование полномочий. Полномочия и ответственность. Власть и пределы полномочий. Соотношение централизации и децентрализации в структур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Цели организации. Миссия организации. Выработка и примерное содержание миссии. Понятие и виды целей. Целеполагание. Правила построения дерева целей. Примерное содержание дерева целей приборостроительного предприятия. Управление по целям (по результатам). Этапы процесса управления по ц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Функция организации как создание реальных условий для достижения целей. Организация взаимодействия между линейными, функциональными и штабными полномочиями. Делегирование полномочий. Полномочия и ответственность. Власть и пределы полномочий. Соотношение централизации и децентрализации в структур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Построение организаций. Элементы организационной структуры управления. Линейная, линейно-функциональная, линейно-штабная структуры управления. Функциональная и дивизиональная структуры. Матричная структура. Проектирование организационных структур на предприят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Построение организаций. Элементы организационной структуры управления. Линейная, линейно-функциональная, линейно-штабная структуры управления. Функциональная и дивизиональная структуры. Матричная структура. Проектирование организационных структур на предприят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Планирование в менеджменте. Принципы, методы и типы планирования. Планирование стратегии. Процесс выбора стратегии. Формирование и реализация стратегии. Структура и технология разработки системы планирования. Планирование производства и реализации продукции. Планирование затрат. Планирование себестоимости продукции предприятия приборостроения. Составление баланса расходов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Планирование в менеджменте. Принципы, методы и типы планирования. Планирование стратегии. Процесс выбора стратегии. Формирование и реализация стратегии. Структура и технология разработки системы планирования. Планирование производства и реализации продукции. Планирование затрат. Планирование себестоимости продукции предприятия приборостроения. Составление баланса расходов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8. Мотивация персонала. Понятие и элементы мотивации. Содержательные теории мотивации. Процессуальные теории мотивации. Модель процесса мотивации. Современные подходы к мотивации персонала в зарубежны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Стиль руководства. Понятие и виды стилей руководства. Содержание и особенности труда менеджера. Оценка деятельности менеджера. Совершенствование стиля руководства менедж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8. Мотивация персонала. Понятие и элементы мотивации. Содержательные теории мотивации. Процессуальные теории мотивации. Модель процесса мотивации. Современные подходы к мотивации персонала в зарубежны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Стиль руководства. Понятие и виды стилей руководства. Содержание и особенности труда менеджера. Оценка деятельности менеджера. Совершенствование стиля руководства менедж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4. СВЯЗУЮЩИЕ ПРОЦЕССЫ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0. Принятие управленческих решений. Понятие и виды решений. Запрограммированные и незапрограммированные решения. Процесс принятия рационального решения. Технология подготовки и принятия решений. Проблемы и их решение. Разработка вариантов решений. Организация выполнения принятого решения. Управленческое решение и ответств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Коммуникации в менеджменте. Понятие, виды и средства коммуникаций. Коммуникационный процесс и его этапы. Развитие коммуникаций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4. СВЯЗУЮЩИЕ ПРОЦЕССЫ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0. Принятие управленческих решений. Понятие и виды решений. Запрограммированные и незапрограммированные решения. Процесс принятия рационального решения. Технология подготовки и принятия решений. Проблемы и их решение. Разработка вариантов решений. Организация выполнения принятого решения. Управленческое решение и ответств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Коммуникации в менеджменте. Понятие, виды и средства коммуникаций. Коммуникационный процесс и его этапы. Развитие коммуникаций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0B12F-43B0-4034-985B-20AC0EDB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7BB52-AFFD-4AA4-AAC4-2A18D1A2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BE4537-4F0A-4755-BCE9-A84D1346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984C2F-BFF5-4A49-9FEF-681AB55B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F25DAB-C67C-45F3-8B4A-8D648AF3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41FEEC-7181-4943-81DC-250480D7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099182-34FF-424B-9F63-35DD260B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F12EB3-CAA2-4921-B52A-336419EA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B9C75C-F648-4F16-BA98-B4E6B571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129B2B-798A-42EF-98BF-A557A1B8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E31A35-39CB-45E7-BB4A-91295D77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A35EA3-02B9-4E98-AFC4-3E6D8539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F6D19-B1B1-4222-BD9B-CF2A9DF5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B3A9D7-D8AA-4569-971E-11CB44E2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DBAB2A-4413-4BC3-B661-CF1BA288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3305FB-E035-4BDF-961B-E0226222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C73571-AC32-4F13-99FB-0B0D430C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A05C7A-F02A-4C5F-8E4D-A71AD314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CEF6CB-7A0A-4D4F-8B04-AE3F40A1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D7FF43-E19A-4BBB-8EBF-132FF4E8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180F31-70F9-4690-BFFB-E0E370C4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F7757F-39EC-4A45-9F5E-BC78EDC8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40BFB4-2BF7-46BF-BD3E-C8F34BB0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4F878-FA18-480B-9B23-CBE553B5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2D2DC9-2A82-43DF-B3BE-67219499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6A2AB0-4395-425A-AB2D-43B14486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1D3E56-7B22-45A0-98E5-110EC2A1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DFD3C1-2EC9-4F2C-9925-7948CE6F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49770C-2EC3-4792-B5F5-424640F9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A8208F-48BA-4C50-833C-0A56F4DB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3FC704-22E7-4A90-9EFF-2653FDBE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1AB4E7-E825-4C66-9FBF-65D94E52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CCC060-8F31-45EF-870A-8572619E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AFBF3C-3168-466E-871F-26717F04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3D14-EE99-4EED-ADAC-A9DB6AAF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45CC3A-AB75-479D-B628-FBD045E8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5B5A0A-9E15-415E-8719-F99069D1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A1CB68-D854-49E8-BDC3-EFA5EFD0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C07510-D75C-4B51-85A5-9412F439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770650-5C98-482C-B81F-D6F173A7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072BA4-95CF-4066-8A96-538FC708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03A51C-D6EE-40C0-8F1C-03E8E2A2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BB2531-F96F-44D3-A47B-7F9B2404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8650D3-D581-4F13-8700-40A1F57E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D3964E-D99F-4F4A-99CA-66E644FB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0BC2-A06B-401D-89C4-604A8DC6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E3DC41-D0D5-4090-829F-91E6FABE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836A4F-57B6-46A5-8190-57120B70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B33C72-D472-4B58-8F1C-D3627BF0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BE687E-9180-4DD3-AA52-0C029B00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D4A370-E157-4A2E-92FB-867E1877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B6BA03-99A4-413F-A4F9-33B1B5D3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692CC6-EFFE-427C-A7D6-F2CFC82D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BB5F52-19D7-4887-95C6-53E5ACC8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62B182-8968-4013-891A-06FB2295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F00CF5-DCFD-4525-BD28-8199F24F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B292-78B5-47DB-9DB4-79544054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51C482-AA93-4D4B-9053-BA936BBF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ADC151-8C78-4663-A6EF-88B308CF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6916F2-27C8-4125-863A-C6BABAB5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FB6027-F862-44A9-9A81-6E39DC0A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89E179-C4B7-40E9-98B0-362922F3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3795C1-F6EA-4120-B5BF-D8C72841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DBC8C3-0889-4C62-9CDF-06353C70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78E4B4-52CA-41CE-84CA-BEA28A67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154068-6297-47EA-9B30-F942C63E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0CE246-8697-401D-AC07-6722753C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5D99-4F05-4DBF-AB01-E7ACE5EF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65150F-DB69-47D6-8DC5-BA10BC5A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75876D-AD0C-4A87-87C1-ACC5DE24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882366-DC4C-4B17-8676-4A36C9EF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101E6D-06A0-4633-9CAC-8F9CFBA9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0D7397-FA66-4860-B77A-C3216E23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1B7911-7A18-4F0C-A64D-0AA4F373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89307A-2804-4733-BB7A-1A8DF6E1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01BBDC-26E3-40B7-9376-0F0479D4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8A84A3-6E17-4DB8-A094-7CD94EBD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A4F9E9-6F2B-405D-A23D-C82C4140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EE2E-E74F-4C9B-8DBE-D904D8CA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BF50F8-2D73-478A-B739-8F0A6D90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AAFC463-7298-4E4F-89E2-ADDA0C1B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882BB9-D9A4-448F-8DA0-28905026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26F071-BCA0-4119-8C7F-D7B77B38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E9CE8C-D1C2-4A37-B33E-8D793389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4159F0-EF30-439E-82F3-3B6AF663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9C7B43-76FD-4EAF-8941-ECA4C26C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20FAEE-F88E-41E6-B2F2-E942A8A7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4EAC6F-30B1-417D-A2F0-7C3EB756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8C5A50-8DCC-4E2C-8DA6-63920F49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A61D-E2B2-4756-97B7-9955EFD1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711246-5135-4F41-92C2-5A138BA8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5ACC8E-F8CC-4117-84D8-0C5E5535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3CD3901-B837-447B-9076-E01D39C2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8CECAA8-2587-4D38-A6A0-E6FAFA77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E16B56-F9DA-4C57-9155-5D2BECDC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E02CF0F-8980-4C03-B273-84AE20FB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71DF55-5652-465A-826B-1208B042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A7F4B7-624B-4B17-AC60-816B9ABE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08F966-46B8-4346-A114-BEBD603D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D62FD92-C819-461B-88C0-AB87BD0C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06F8-5501-4F2D-9039-354D5D76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4849730-B6BE-433F-8A29-59443D49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9EE0DF-2C5A-4015-A033-3D6E3F25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828CBB-B39A-4F86-94E6-4AB25AA5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B360A-8FA4-4664-AEF0-F31E276F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4721-B6FF-4096-9872-847A8CFD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EB0F-DA98-4508-8B17-DF47BD15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8DA9-52C5-4D3D-99B0-91B98B03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1F57-D9F6-4D42-AAFA-DD5D0A22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2336-A6E7-4EAC-9401-15F94EF5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F1699-59E1-425D-8151-013472DC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0AA5B-C650-4F73-85FE-8139E02D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7BD67-9206-4333-8772-B2EE16C0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817F3-C684-40D4-A396-193A87BA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37345-BD81-430D-935C-EF020841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0BBC0-8A9C-4C95-816D-C9D906AF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3B398-314C-409D-B7EA-5B41D326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D57B2-259B-4AD0-88D7-F6355BBB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5257E4-EF6C-4FF3-BB21-57D0B3A9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3DA04-9AF6-44EA-8871-86D92562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0AEC4-F14E-4237-A1EB-4ECD6E19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88E1D-54E3-43BC-9946-4BA47114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0CF85-B027-42CE-B973-FACB36BF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7205D5-443B-4C75-960C-3254A908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0DFF9A-137A-4423-938D-1F1EEDE6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ACA305-6E84-4E55-B27A-2A9AD51A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7F3A2-B236-4A43-A721-A3DC7D15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BD7A95-0F20-4C09-8363-A07BAE6F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A8F386-024E-4109-ACA9-08DF0D0C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3B2BE0-BA3A-407F-A103-E0236A74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864552-AAA2-4262-A207-35F68A1B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D6630B-28EF-4AEF-8C6C-365687E9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BE4D52-D558-4A0D-90C5-838AE548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D24570-6A6A-48A8-9A24-FF5837C8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0D8D72-99FA-4A5F-8261-611675FC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90587A-B532-41AC-9B3A-1E72678A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BB28C9-0674-4391-A6AE-F975DFA7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14F1E-7F4F-4146-8C8A-C6D0D826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AE096D-04EA-43D8-AA5D-49F61E62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A46D4-CE2F-4BE3-8C24-75F7618C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F8D58E-52EF-4E4E-AC3B-B6BDBEB1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7E5915-D3D5-4E00-AA17-826E7881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1BBD94-66FB-47CD-93E6-D7B4FE9A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4EE60-145E-4CEF-8B73-63153D2B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A7A08C-0E1F-40A7-837A-EF59FD42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661E44-2BE9-4598-9965-A32A8D12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BAE49F-92C4-4838-95EF-27DD2CFF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0A472F-0C30-49B0-BF1A-18B414A4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D2E1B-7F2E-47BE-B7E3-1088933D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75F102-AFB9-4962-8297-5C7BEA05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67D4C0-42EE-482C-8490-DE571167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CEF4E8-5AC5-44A0-8FA9-7E12BE1E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27981D-64A3-44D1-98A3-9BB45289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4DE40-63EA-49F3-90CB-AF0AB706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3C8B14-19FA-4B64-ABDE-9AF665AD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EAA4D5-29DB-4B2A-B499-2A02156F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72DF6F-E4C7-4ED2-B625-86C57513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BCA514-C0BC-4E6D-A35F-B6585AA3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6D5658-187B-4FFE-9029-189B9322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35E62-94C8-441D-A21C-3530277F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98508A-FF4B-438A-8C1A-06ABDFC4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F7D355-9CA2-476C-BB4C-CA4D9F80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254602-D91E-4494-943B-AD875DCD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9DCE18-720D-4C5E-BAF9-46C7F27D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9213D3-B4C0-4F83-8B04-EFF62594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ED4F9C-1857-40FD-9BDD-A955940C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460139-1CAE-4F81-BA94-274342A3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B30BC-DEBE-424C-8C10-C96B4646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64C721-4208-4B19-A6F6-C897A03E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9A95B6-80FA-4E02-B698-46B3BC62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798CB-1332-4A75-8D32-77ED884C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BC557E-B08D-44E2-9F26-9045ED25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986732-A150-4CA3-8C5E-24FF36B2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EEF2B3-DB12-4CA1-B329-9F042EA7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4EFA6B-6AB5-4676-9D6D-FA836D96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94184D-DFBD-43E2-8B37-D8022CF7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FC2388-7698-4CEB-AC0E-49725567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EE5228-8C9B-45BB-B38D-A17E4958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D0D646-0A5D-4953-A12E-25BDAD7C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7C0CEE-F7A9-4BA6-B3A9-5ED83552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C31528-585E-4BC9-BD65-63653AB0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BC006-FF8C-4A20-95EE-66BA248E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05678F-EA3D-4724-9837-5900D821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AB4633-16BA-4286-AA96-0C050821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E25A34-BF8E-4ECA-8B5B-ED033218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0438C8-1350-4E6B-A24A-5E63FB03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7AF51F-FD87-482E-BC6A-26AD01C5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7DEDDB-6569-45B7-9BEE-7D942A5A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EBAE63-3C39-4A2D-866A-76FDE608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7ECFDA-8C09-4AB1-9742-7E3CBD9B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911922-BFCA-4053-807F-F90609E1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1C3A61-A507-4668-8ED2-C83B3EDE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A4BA-105D-4F93-962F-CE3D1D4957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8248-F7DA-4C01-A302-2E5D8B4D09B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673B-AD8E-45CA-A5B1-9F2042E392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138F-6FB3-4817-A39F-1D19C94237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A7D7-276E-4683-BFE4-D38A67D3387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DE51-AB06-4666-95F5-1129E7D83E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C68D-1CAA-4526-87A3-94ECA085F9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7FAD-3671-4DFE-912C-F73A9196F6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2664-CE2B-4773-8275-C36A788F34A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8EE5-B71C-409C-917B-669B0AF417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FB9E-FE3B-4AC6-8730-4ACBB97FC25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8DFF-2940-4670-921A-5B39947B78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E0F0-3E08-4A5C-8615-5FDDB35437D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4CD6-D1DD-4A02-AD99-10C795146A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570A-1C1D-474B-8D64-3E4EC60870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76FF-2EC1-4F04-90FC-FA543EFDAC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5"/>
          <p:cNvSpPr/>
          <p:nvPr/>
        </p:nvSpPr>
        <p:spPr>
          <a:xfrm>
            <a:off x="4716360" y="465300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431a"/>
                </a:solidFill>
                <a:latin typeface="Arial"/>
              </a:rPr>
              <a:t>к.э.н., доцент кафед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431a"/>
                </a:solidFill>
                <a:latin typeface="Arial"/>
              </a:rPr>
              <a:t>менеджмента ИЭ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431a"/>
                </a:solidFill>
                <a:latin typeface="Arial"/>
              </a:rPr>
              <a:t>Чистякова Наталья Олег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8785440" cy="21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431a"/>
                </a:solidFill>
                <a:latin typeface="Arial"/>
              </a:rPr>
              <a:t>Руководство по изучению курса </a:t>
            </a:r>
            <a:br>
              <a:rPr sz="2800"/>
            </a:br>
            <a:r>
              <a:rPr b="1" lang="ru-RU" sz="2800" spc="-1" strike="noStrike">
                <a:solidFill>
                  <a:srgbClr val="07431a"/>
                </a:solidFill>
                <a:latin typeface="Arial"/>
              </a:rPr>
              <a:t>«Менеджмен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2. Сущность маркетинга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маркетинга. Эволюция маркетинговых концепций. Функции маркетинга. Предмет и объект маркетин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3. Методы маркетинговых исследований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, виды и методы маркетинговых коммуникаций. Виды исследований. Наблюдение. Эксперимент. Опрос. Интерв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4. Методы продвижения продукции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продвижения. Формирование бюджета продвижения. Методы продвижения продукции: реклама, паблисити, метод личных продаж, стимулирование сбы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5. Методы исследования рынка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рынка. Способы сегментирования рынка. Изучение потребительских предпочтений. Формирование спроса на товар. Исследование рынка. Составление маркетинг-пла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ы работы студента в течении семестра по изучению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сещение лекционных занят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Анализ материала лекций и чтение основной и дополнительной литерату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дготовка к практическому заняти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сещение практического заня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Составление отчета по практическому заняти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дготовка к рубежному контролю (тесту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Формирование личного портфолио по дисциплин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Написание курсовой рабо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иды практических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овые игры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-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нинги-семин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о-к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теоретического материала студен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2" descr="C:\Чистякова\Чистякова Н.О\Презентации\Материалы_Коробов\new present\DSC_5230.JPG"/>
          <p:cNvPicPr/>
          <p:nvPr/>
        </p:nvPicPr>
        <p:blipFill>
          <a:blip r:embed="rId1"/>
          <a:stretch/>
        </p:blipFill>
        <p:spPr>
          <a:xfrm>
            <a:off x="4859280" y="3789360"/>
            <a:ext cx="3949920" cy="2622600"/>
          </a:xfrm>
          <a:prstGeom prst="rect">
            <a:avLst/>
          </a:prstGeom>
          <a:ln w="0">
            <a:noFill/>
          </a:ln>
        </p:spPr>
      </p:pic>
      <p:sp>
        <p:nvSpPr>
          <p:cNvPr id="71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53964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ая литература по кур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скон М.Х., Альберт М., Хедоури Ф. - Основы менеджмента: Учебное пособие (пер. с англ., под ред. Медведь О.И.) Изд. 3-е , 2008г. - ИД Вильямс, 672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умов А.И., Виханский О.С. - Менеджмент: Учебник для вузов Изд. 4-е, перераб., доп. , 2008г. - Экономистъ, 670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лер Ф. и др. Основы маркетинга: Пер. с англ. – 2-е европ. Изд.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.; СПб: Издат. Дом «Вильямс»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Дихтль Е., Хершген X. Практический маркетинг: Учебное пособие /Пер. с нем. А.М. Макарова - М.: Высшая школа, 199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Дибб С., Симкин Л., Бредли Дж. Практическое руководство по маркетинговому планированию. – СПб: Питер,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орита А. Сделано в Японии. -М.: Прогресс, 1990. Сделано в Японии. Изд.: АЛЬПИНА БИЗНЕС БУКС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лоан А. П. Мои годы с "Дженерал моторc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д Г. Моя жизнь. Мои достижения. - Мн:Попурри, 2004, 352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Якокка Л., Новак У. Карьера менеджера: Бестселлер, ставший вехой в истории: Новая ред. (пер. с англ. Борич С.Э.) Изд. 1-е/ 2-е/ 3-е , - Попурри, 2007, 544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мис Э., Смит Б. Бизнес путь: YAHOO! Секреты самой популярной в мире Интернет-компании.- СПб.: Изд. «Крылов»,2003г, 208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йтс Билл Дорога в будущее -М., Русская редакция, 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стнер Л.В. - Кто сказал, что слоны не умеют танцевать?: Возрождение корпорации IBM: Взгляд изнутри (пер. с англ. Шалунова М.) - Альпина Паблишер, 2003, 320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кер П.Ф. Управление нацеленное на результаты/ Пер. с англ. - М,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кер П. Эффективное управление. Экономические задачи и оптимальные решения. Пер. с англ. - М: АСТ /Астрель /Ермак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икава И. Японские методы управления качеством. м.: Экономика. 198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неги Э. История моей жизни, - РОССПЭН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рнс Д.Т., Недлер Д.А. Пороки во тьме, или рассказ о том как "Ксерокс" восстал из пепла и дал бой японцам, -Спб:Азбука-Терра,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риден Т. Бизнес путь: NOKIA. Секреты успеха самой быстроразвивающейся компании в мире. - СПб.: Изд. «Крылов»,2003г, 192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Бурцева Т.А., Сизов В.С., Цень О.А. Управление маркетингом.  – М: изд. «Экономистъ», 2005, с. 2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Гилбрет А. Черчиль. Маркетинговые исследования.  – СПб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дательство «Питер»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Голубков Е.П. Основы маркетинга: Учебник.  – М.: Изд-во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пресс”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Данько Т.П. Управление маркетингом: Учебник. Изд. 2-е перераб.  И доп. – М.: ИНФРА-М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фт М. Дж. Сегментирование рынка. – СПб: Питер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Крюков А. Управление маркетингом. – М: изд. «Кнорус», 2006, с. 3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Маркетинг, ориентированный на стоимость/Пер. с англ. под ред. Ю.Н. Каптуревского. – СПб: Питер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Маркетинг: Учеб. Пособие/Под ред. А.М. Немчина, Д.В. Минаева. – СПб: Издательский дом «Бизнес-пресса»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ФОЛИО СТУДЕНТА ПО КУРС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3" descr="C:\Users\Natalia\Desktop\8273383-.jpg"/>
          <p:cNvPicPr/>
          <p:nvPr/>
        </p:nvPicPr>
        <p:blipFill>
          <a:blip r:embed="rId1"/>
          <a:stretch/>
        </p:blipFill>
        <p:spPr>
          <a:xfrm>
            <a:off x="5870520" y="3067200"/>
            <a:ext cx="2608200" cy="3485880"/>
          </a:xfrm>
          <a:prstGeom prst="rect">
            <a:avLst/>
          </a:prstGeom>
          <a:ln w="0">
            <a:noFill/>
          </a:ln>
        </p:spPr>
      </p:pic>
      <p:sp>
        <p:nvSpPr>
          <p:cNvPr id="7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3" descr="C:\Users\Natalia\Desktop\0,,15290864_1,00.jpg"/>
          <p:cNvPicPr/>
          <p:nvPr/>
        </p:nvPicPr>
        <p:blipFill>
          <a:blip r:embed="rId1"/>
          <a:stretch/>
        </p:blipFill>
        <p:spPr>
          <a:xfrm>
            <a:off x="5364000" y="4138560"/>
            <a:ext cx="3146760" cy="231768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 txBox="1"/>
          <p:nvPr/>
        </p:nvSpPr>
        <p:spPr>
          <a:xfrm>
            <a:off x="457200" y="115920"/>
            <a:ext cx="82296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фолио по дисциплине – это совокупность материалов, разработанных и собранных студентом самостоятельно, демонстрирующих его прогресс в изучении  и понимании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документ должен датироваться, чтобы можно было проследить динамику учебного проце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2"/>
          <p:cNvSpPr/>
          <p:nvPr/>
        </p:nvSpPr>
        <p:spPr>
          <a:xfrm>
            <a:off x="539640" y="115920"/>
            <a:ext cx="8072640" cy="9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1. ЭВОЛЮЦИЯ УПРАВЛЕНЧЕСКОЙ МЫ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1. Менеджмент как вид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менеджмента. Принципы менеджмента. Функции менеджмента. Характеристика труда менеджера. Структура труда менеджера. Соотношение функций менеджера и уровней у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портфолио по дисциплине «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ст целей, которых студент хотел бы достигнуть после изучения данной 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прочитанной основной и дополнительной литературы по курс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ссе на каждое прочитанное произведени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з дополнительной литератур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Что я для себя вынес из данной книги? Какие методы управления использовались на данном предприятии? Что стало залогом успеха? Что послужило поводом для неудач?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чет о проведении деловой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кейса или конкретной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ы по курсу ( с оценко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очные формы по презентации (оценки других студент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ные работы (с оценко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я докладов студен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пии статей из журналов, прочитанные и проанализированные студен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C:\Users\Natalia\Desktop\Безымянный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95280" y="333360"/>
            <a:ext cx="8570880" cy="5850000"/>
          </a:xfrm>
          <a:prstGeom prst="rect">
            <a:avLst/>
          </a:prstGeom>
          <a:ln w="0">
            <a:noFill/>
          </a:ln>
        </p:spPr>
      </p:pic>
      <p:sp>
        <p:nvSpPr>
          <p:cNvPr id="7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терии оценивания результатов обуч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457200" y="1052640"/>
          <a:ext cx="8229600" cy="5457600"/>
        </p:xfrm>
        <a:graphic>
          <a:graphicData uri="http://schemas.openxmlformats.org/drawingml/2006/table">
            <a:tbl>
              <a:tblPr/>
              <a:tblGrid>
                <a:gridCol w="1450800"/>
                <a:gridCol w="1292400"/>
                <a:gridCol w="1371600"/>
                <a:gridCol w="1371600"/>
                <a:gridCol w="1371600"/>
                <a:gridCol w="1371600"/>
              </a:tblGrid>
              <a:tr h="1046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рубежного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еты по деловым игр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литера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е портфоли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258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одного пропу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написаны и зачт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отчеты сданы во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а и проанализирована основная и дополнительная литература (выд. красны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содержит все пун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988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ы не менее 90%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написаны и зачт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отчеты сд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а основная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не содержит 3 и 10 пун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ы не менее 80%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по 2 темам не зачтены или не напис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еты сданы не в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 не изуч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содержит пункты 4,6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ы менее 80%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не написаны или не зачтены больше чем по 2-м тем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еты не сд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 не изуч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отсутству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  <p:sp>
        <p:nvSpPr>
          <p:cNvPr id="7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2. История развития менедж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ки возникновения менеджмента. Развитие управления как науки. Школы менеджмента. Научное управление. Концепция бюрократии. Классическое управление. Доктрина человеческих отношений. Поведенческие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3. Современные подходы к менеджмен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концепции менеджмента с точки зрения количественного, процессного, системного и ситуационного подхода. Вклад в современную науку менеджмента концепций различных школ и подходов. Система взглядов на управление в России в современ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ОРИЯ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ие характеристики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организации и ее место в менеджменте. Формальные и неформальные организации. Жизненный цикл организации. Внутренняя и внешняя среда организации. Организация как открытая социально-экономическая система. Критерии результативности 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457200" y="-3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5. Цели организаци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ссия организации. Выработка и примерное содержание миссии. Понятие и виды целей. Целеполагание. Правила построения дерева целей. Примерное содержание дерева целей приборостроительного предприятия. Управление по целям (по результатам). Этапы процесса управления по ц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организации как создание реальных условий для достижения целей. Организация взаимодействия между линейными, функциональными и штабными полномочиями. Делегирование полномочий. Полномочия и ответственность. Власть и пределы полномочий. Соотношение централизации и децентрализации в структуре менедж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оугольник 3"/>
          <p:cNvSpPr/>
          <p:nvPr/>
        </p:nvSpPr>
        <p:spPr>
          <a:xfrm>
            <a:off x="468360" y="76500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организаций. Элементы организационной структуры управления. Линейная, линейно-функциональная, линейно-штабная структуры управления. Функциональная и дивизиональная структуры. Матричная структура. Проектирование организационных структур на предприят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7. Планирование в менеджмент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ы, методы и типы планирования. Планирование стратегии. Процесс выбора стратегии. Формирование и реализация стратегии. Структура и технология разработки системы планирования. Планирование производства и реализации продукции. Планирование затрат. Планирование себестоимости продукции предприятия приборостроения. Составление баланса расходов и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8. Мотивация персонал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и элементы мотивации. Содержательные теории мотивации. Процессуальные теории мотивации. Модель процесса мотивации. Современные подходы к мотивации персонала в зарубежных стр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9. Стиль руководств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и виды стилей руководства. Содержание и особенности труда менеджера. Оценка деятельности менеджера. Совершенствование стиля руководства менедж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4. СВЯЗУЮЩИЕ ПРОЦЕССЫ В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0. Принятие управленческих решений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и виды решений. Запрограммированные и незапрограммированные решения. Процесс принятия рационального решения. Технология подготовки и принятия решений. Проблемы и их решение. Разработка вариантов решений. Организация выполнения принятого решения. Управленческое решение и ответственно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9. Коммуникации в менеджменте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, виды и средства коммуникаций. Коммуникационный процесс и его этапы. Развитие коммуникаций на современном этап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1T09:57:08Z</dcterms:created>
  <dc:creator>SOLO</dc:creator>
  <dc:description/>
  <dc:language>en-US</dc:language>
  <cp:lastModifiedBy>LEGION</cp:lastModifiedBy>
  <dcterms:modified xsi:type="dcterms:W3CDTF">2016-01-11T10:01:43Z</dcterms:modified>
  <cp:revision>841</cp:revision>
  <dc:subject/>
  <dc:title>Руководство по изучению курса «Менеджмент»</dc:title>
</cp:coreProperties>
</file>