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способов улучшить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Елена Шиляева. www.styleantistres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42E4-C6F5-4C5C-B6E3-D47D45A367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способов улучш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Ставьте для себя краткосрочные и долгосрочны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так устроен, что в любой момент времени он испытывает целый ряд эмоций, как от прошлого, так и от будущего. Мы можем одновременно быть злы на какие-то обстоятельства прошлого и поэтому опасаться будущ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 же мы научимся мыслить настоящим моментом и жить в формате «здесь и сейчас», то и процесс постановки целей на будущее станет максимально корректным. И только такой подход гарантирует вам выбор верного направления жизни, о котором в последствии вы, скорее всего, никогда не пожалеете и не усомните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постановке цели умейте расставить приоритеты. Не перечисляйте всего, чего хотели бы добиться в жизни. Выберите только наиболее важные ц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чтайте о высоком!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Мечтайте с размахо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се говоря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ша мечта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воплотим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нтазия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чтай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о невозможном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нет мечт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нет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родились в этом мире, чтобы сделать что-то замечательное и уникальное. Не упускайте эту возмож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йте себе свободу думать с размахом. И имейте храбрость верить, что воплощение вашей мечты ре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 помнит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жизни — жить счастливо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смотрите на свою жизнь инач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а жизнь вращается вокруг нас. Мы рождены, чтобы быть счастливыми. Всё, что существует в этом мире, существует, чтобы иметь свой ход развития. Так, например, ваше тело может быть здоровым, больным и наконец оставить вас. Но, присмотритесь повнимательнее: где-то глубоко внутри всегда живет ощущение счаст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любовь к жизни, доверие к миру и счастье — ваши естественные состояния, то всё остальное происходит само по 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свою жизнь на ленте времени или как определенный период в истории мироздания, в истории человечества… Миллиарды лет позади и никому неизвестно, сколько еще вперед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есть наша жизнь в этой бесконечной реке времени? Годы человеческой жизни растворяются в этом поток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знание подобного положения вещей помогает изменить мировоззрение: в масштабах мироздания нас просто нет! Мысль о том, что ты есть песчинка относительно масштабов вселенной, настраивает на жизнь в формате «здесь и сейчас». Все мелочи отпадают и человек начинает ценить каждое мгновение свое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мните: миром правит непостоя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лянитесь вокруг. Наша жизнь не отличается постоянством. Вчерашний день —уже история. И завтра неминуемо станет исто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, чтобы поддержать нас в жизненно-активном состоянии мир периодически обеспечивает нам встряску, создавая некий дискомфорт и подбрасывая ситуации, требующие незамедлительного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не должны этого боя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и дни наполнены как позитивными для нас событиями, так и негативными. И неприятности существуют ровно для того, чтобы мы могли по достоинству оценить приятные мо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 только на минутку представьте себе, что жизнь состояла бы только из прекрасных моментов. Что было бы с нами? Закисли бы от скук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лыбайт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адные психологи в ходе исследования установили, что дети улыбаются до 400 раз в день, подросток — только порядка 20 раз, ну, а взрослый человек — ни разу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должны больше улыбаться. Наша психика устроена по законам обратной связи: мы улыбаемся, когда мы счастливы, но и мы счастливы, когда улыбаемся. При улыбке мышцы лица расслабляются и вы уже подзаряжаетесь энергией и оптимизмом для новых дости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ыбайтесь больше. Улыбайтесь чащ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жите себе: будь что будет — сегодня я буду улыбаться и буду счастли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ключите медитацию в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не действие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искусство ничего не делать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способность проводить время наедине с собой, наслаждаясь внутренней тишино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ется, что отдых в глубокой медитации превосходит по своему восстановительному действию даже самый глубокий со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, хотя бы однажды пробовал на практике медитацию, согласится, что несмотря на всю парадоксальность ситуации — «ничегонеделание» в комплексе с «ниочемнедуманьем»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занятие архисложное и обычному современному человеку может оказаться непонятным и непоси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е тихое и безмятежное место, куда человек может удалиться — это его душа: почаще позволяйте себе такое уединение. Оно обеспечит вам прилив новых си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ите время для уединения. Если вы всё время заняты делами, общаетесь с различными людьми по самым разным вопросам, то вам определенно не хватает времени для себя самих — несколько минут тишины могут сотворить чудо. Каждый день находите возможность побыть несколько мгновений в тишине, отставив весь мир с его непрекращаемой суе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шина способна лечить. Тишина омолаживает. Тишина вселяет веру в стабильность и развивает творчество. Нестандартные решения возникают только когда вы расслабл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лушайте свое дых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ние — это перво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 последнее действ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жизни каждого и нас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ние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эт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и 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жизн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 не учат, как правильно дышать и наблюдать свое дыхание, но однажды познакомившись со специальными техниками дыхания, будь то на специальных психологических тренингах (например, телесно-ориентированной терапии) или на занятиях по программам цикла «разумное тело» (йога, пилатес и др), мы делаем для себя настоящие открытие: «каждому нашему внутреннему состоянию соответствует свое дыхание!». Поэтому когда мы не можем справиться со своим настроением или эмоциональным состоянием напрямую, мы можем справиться с ним с помощью дых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Добавьте красок в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без эмоций — это высохшее рас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, что вы сами являетесь творцами своей жизн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ть свою жизнь более интересной, активной, полной поводов для удивления под силу каждому из нас: музыка, путешествия, знакомства с интересными людьми, познание нового и совершенствование уже имеющихся навыков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Не бойтесь совершать ошибки и не ищите соверше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уже было сказано ранее, в нашем непостоянном мире совершенство не может присутствовать ежесекунд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аже лучшее из действий, совершенное с самыми благородными намерениями, не будет без недостатков», — Шри Шри Рави Шанка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совершенства автоматически приводит вас к переживанию негативных эмоций: наблюдая, как ошибаются другие или понимая, что ошиблись вы сами, вы испытываете гнев, разочарование, вы злите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 же мы радуемся, то мы просто подтверждаем, что способны принимать жизнь, такой, какая она е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Будьте учеником всегда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 упускайте ни одной возможности познавать что-то новое, осваивать новые виды деятельности — заставляйте свое тело и душу развива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93D5-27EA-4695-B8BF-AA36A708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B1F3-44D2-4549-A764-76078427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5062-E6F6-4489-9747-85D3AC62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B42-15F0-4190-BEAA-D58279A6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3BCD-C70A-4ED9-8858-1D7820D1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B00-D7BD-4DCC-9910-0CD70A93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0313-4ED2-4B2F-AE87-6661ADC5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C51-27C0-43B8-92DB-63593B05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613-46F1-4511-8FE1-828BFD4B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EAC-69A3-4ACD-A082-0106D530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4BF-3DB1-4DDE-8E4E-A132A888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A2EF-6954-430D-A17A-CBCD25F4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418E-F16A-499E-8F08-E92AFE24948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yleantistress.ru/articles/delo/pro-umenie-stavit-tseli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yleantistress.ru/articles/dusha/pochemu-ne-sbyvayutsya-mechty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7280" y="6021000"/>
            <a:ext cx="4968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800" spc="-1" strike="noStrike">
              <a:solidFill>
                <a:srgbClr val="3399ff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0 &amp;scy;&amp;pcy;&amp;ocy;&amp;scy;&amp;ocy;&amp;bcy;&amp;ocy;&amp;vcy; &amp;ucy;&amp;lcy;&amp;ucy;&amp;chcy;&amp;shcy;&amp;icy;&amp;tcy;&amp;softcy; &amp;scy;&amp;vcy;&amp;ocy;&amp;yucy; &amp;zhcy;&amp;icy;&amp;zcy;&amp;ncy;&amp;softcy;"/>
          <p:cNvPicPr/>
          <p:nvPr/>
        </p:nvPicPr>
        <p:blipFill>
          <a:blip r:embed="rId1"/>
          <a:stretch/>
        </p:blipFill>
        <p:spPr>
          <a:xfrm>
            <a:off x="2627280" y="2708280"/>
            <a:ext cx="3905280" cy="279072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1116000" y="1628640"/>
            <a:ext cx="6985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c832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способов улучшить </a:t>
            </a:r>
            <a:endParaRPr b="0" lang="en-US" sz="1800" spc="1" strike="noStrike">
              <a:ln w="2232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c8328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c832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ю жизнь</a:t>
            </a:r>
            <a:endParaRPr b="0" lang="en-US" sz="1800" spc="1" strike="noStrike">
              <a:ln w="2232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c8328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896472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9. Ставьте для себя краткосрочные и долгосрочные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50920" y="1916280"/>
            <a:ext cx="3241440" cy="4254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 так устроен, что в любой момент времени он испытывает целый ряд эмоций, как от прошлого, так и от будущего. Мы можем одновременно быть злы на какие-то обстоятельства прошлого и поэтому опасаться будущег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 же мы научимся мыслить настоящим моментом и жить в формате «здесь и сейчас», то и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процесс постановки це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на будущее станет максимально корректным. И только такой подход гарантирует вам выбор верного направления жизни, о котором в последствии вы, скорее всего, никогда не пожалеете и не усомните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122560" y="6224760"/>
            <a:ext cx="684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 постановке цели умейте расставить приоритеты. Не перечисляйте всего, чего хотели бы добиться в жизни. Выберите только наиболее важные це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1303662713_motivator-14232"/>
          <p:cNvPicPr/>
          <p:nvPr/>
        </p:nvPicPr>
        <p:blipFill>
          <a:blip r:embed="rId2"/>
          <a:srcRect l="0" t="1805" r="0" b="7926"/>
          <a:stretch/>
        </p:blipFill>
        <p:spPr>
          <a:xfrm>
            <a:off x="3564000" y="1989000"/>
            <a:ext cx="5364000" cy="40309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10. Мечтайте о высоком! </a:t>
            </a:r>
            <a:br>
              <a:rPr sz="2800"/>
            </a:b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                Мечтайте с размах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4000" y="184464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все говорят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аш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ч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невоплотима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нтази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чтайт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о невозможном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 нет мечты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нет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195640" y="5799240"/>
            <a:ext cx="676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 родились в этом мире, чтобы сделать что-то замечательное и уникальное. Не упускайте эту возмож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йте себе свободу думать с размахом. И имейте храбрость верить, что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воплощение вашей мечты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реа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5725"/>
          <p:cNvPicPr/>
          <p:nvPr/>
        </p:nvPicPr>
        <p:blipFill>
          <a:blip r:embed="rId2"/>
          <a:stretch/>
        </p:blipFill>
        <p:spPr>
          <a:xfrm>
            <a:off x="2830680" y="1844640"/>
            <a:ext cx="6134040" cy="39816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2565360"/>
            <a:ext cx="85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И помни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Цель жизни — жить счастливо!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1. Посмотрите на свою жизнь ин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357800" y="3598920"/>
            <a:ext cx="4606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ша жизнь вращается вокруг н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 рождены, чтобы быть счастливы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сё, что существует в этом мире, существует, чтобы иметь свой ход развития. Так, например, ваше тело может быть здоровым, больным и наконец оставить вас. Но, присмотритесь повнимательнее: где-то глубоко внутри всегда живет ощущение счасть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00000" indent="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любовь к жизни, доверие к миру и счастье — ваши естественные состояния, то всё остальное происходит само по се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52360" y="1413000"/>
            <a:ext cx="8640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ьте свою жизн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 ленте времени или как определенный период в истории мироздания, в истории человечества… Миллиарды лет позади и никому неизвестно, сколько еще вперед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есть наша жизнь в этой бесконечной реке времени? Годы человеческой жизни растворяются в этом поток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знание подобного положения вещей помогает изменить мировоззрение: в масштабах мироздания нас просто нет!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сль о том, что ты есть песчинка относительно масштабов вселенной, настраивает на жизнь в формате «здесь и сейчас». Все мелочи отпадают и человек начинает ценить каждое мгновение своей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523622566"/>
          <p:cNvPicPr/>
          <p:nvPr/>
        </p:nvPicPr>
        <p:blipFill>
          <a:blip r:embed="rId1"/>
          <a:srcRect l="10199" t="0" r="7002" b="0"/>
          <a:stretch/>
        </p:blipFill>
        <p:spPr>
          <a:xfrm>
            <a:off x="1979640" y="3662280"/>
            <a:ext cx="3240000" cy="293544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2. Помните: миром правит непосто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1557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лянитесь вокруг. Наша жизнь не отличается постоянством. Вчерашний день —уже история. И завтра неминуемо станет истор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195640" y="5734080"/>
            <a:ext cx="640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этому, чтобы поддержать нас в жизненно-активном состоянии мир периодически обеспечивает нам встряску, создавая некий дискомфорт и подбрасывая ситуации, требующие незамедлительного ре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 не должны этого боя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1337519972_motivator-0059"/>
          <p:cNvPicPr/>
          <p:nvPr/>
        </p:nvPicPr>
        <p:blipFill>
          <a:blip r:embed="rId1"/>
          <a:srcRect l="0" t="2628" r="0" b="0"/>
          <a:stretch/>
        </p:blipFill>
        <p:spPr>
          <a:xfrm>
            <a:off x="4600440" y="2205000"/>
            <a:ext cx="4364280" cy="3467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1187280" y="2276640"/>
            <a:ext cx="2881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ши дни наполнены как позитивными для нас событиями, так и негативными. И неприятности существуют ровно для того, чтобы мы могли по достоинству оценить приятные мом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 только на минутку представьте себе, что жизнь состояла бы только из прекрасных моментов. Что было бы с нами? Закисли бы от скук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3. Улыбайте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84280"/>
            <a:ext cx="8569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адные психологи в ходе исследования установили, что дети улыбаются до 400 раз в день, подросток — только порядка 20 раз, ну, а взрослый человек — ни разу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 должны больше улыбаться. Наша психика устроена по законам обратной связи: мы улыбаемся, когда мы счастливы, но и мы счастливы, когда улыбаемся. При улыбке мышцы лица расслабляются и вы уже подзаряжаетесь энергией и оптимизмом для новых достиж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835280" y="6165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ыбайтесь больше. Улыбайтесь чащ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ажите себе: будь что будет — сегодня я буду улыбаться и буду счастлив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MILES baby"/>
          <p:cNvPicPr/>
          <p:nvPr/>
        </p:nvPicPr>
        <p:blipFill>
          <a:blip r:embed="rId1"/>
          <a:stretch/>
        </p:blipFill>
        <p:spPr>
          <a:xfrm>
            <a:off x="2843280" y="2781360"/>
            <a:ext cx="4952880" cy="33526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4. Включите медитацию в свою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6000" y="1403280"/>
            <a:ext cx="896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не действие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искусство ничего не делать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способность проводить время наедине с собой, наслаждаясь внутренней тишин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50920" y="2205000"/>
            <a:ext cx="842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читается, что отдых в глубокой медитации превосходит по своему восстановительному действию даже самый глубокий со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, хотя бы однажды пробовал на практике медитацию, согласится, что несмотря на всю парадоксальность ситуации 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ничегонеделание» в комплексе с «ниочемнедуманьем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занятие архисложное и обычному современному человеку может оказаться непонятным и непосильн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282920" y="3317760"/>
            <a:ext cx="4753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е тихое и безмятежное место, куда человек может удалиться — это его душ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очаще позволяйте себе такое уединение. Оно обеспечит вам прилив новых си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ходите время для уединения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Если вы всё время заняты делами, общаетесь с различными людьми по самым разным вопросам, то вам определенно не хватает времени для себя самих — несколько минут тишины могут сотворить чудо. Каждый день находите возможность побыть несколько мгновений в тишине, отставив весь мир с его непрекращаемой суе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шина способна лечи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ишина омолаживает. Тишина вселяет веру в стабильность и развивает творчество. Нестандартные решения возникают только когда вы расслаб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300465_640"/>
          <p:cNvPicPr/>
          <p:nvPr/>
        </p:nvPicPr>
        <p:blipFill>
          <a:blip r:embed="rId1"/>
          <a:srcRect l="12886" t="0" r="16294" b="0"/>
          <a:stretch/>
        </p:blipFill>
        <p:spPr>
          <a:xfrm>
            <a:off x="1403280" y="3573360"/>
            <a:ext cx="2881440" cy="25434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5. Слушайте свое дых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1413000"/>
            <a:ext cx="3384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хание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это перво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 последнее действ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 жизни каждого и нас!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эт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и е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050920" y="4948200"/>
            <a:ext cx="6913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с не учат, как правильно дышать и наблюдать свое дыхание, но однажды познакомившись со специальными техниками дыхания, будь то на специальных психологических тренингах (например, телесно-ориентированной терапии) или на занятиях по программам цикла «разумное тело» (йога, пилатес и др), мы делаем для себя настоящие открытие: «каждому нашему внутреннему состоянию соответствует свое дыхание!». Поэтому когда мы не можем справиться со своим настроением или эмоциональным состоянием напрямую, мы можем справиться с ним с помощью дых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sole-primaverile_full"/>
          <p:cNvPicPr/>
          <p:nvPr/>
        </p:nvPicPr>
        <p:blipFill>
          <a:blip r:embed="rId1"/>
          <a:stretch/>
        </p:blipFill>
        <p:spPr>
          <a:xfrm>
            <a:off x="3713040" y="1484280"/>
            <a:ext cx="5106960" cy="33796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6. Добавьте красок в свою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50920" y="1413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без эмоций — это высохшее рас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ните, что вы сами являетесь творцами своей жиз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050920" y="5799240"/>
            <a:ext cx="655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делать свою жизнь более интересной, активной, полной поводов для удивления под силу каждому из нас: музыка, путешествия, знакомства с интересными людьми, познание нового и совершенствование уже имеющихся навыков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руки-позитив"/>
          <p:cNvPicPr/>
          <p:nvPr/>
        </p:nvPicPr>
        <p:blipFill>
          <a:blip r:embed="rId1"/>
          <a:stretch/>
        </p:blipFill>
        <p:spPr>
          <a:xfrm>
            <a:off x="2232000" y="2133720"/>
            <a:ext cx="6300720" cy="3544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7. Не бойтесь совершать ошибки и не ищите соверше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1844640"/>
            <a:ext cx="85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уже было сказано ранее, в нашем непостоянном мире совершенство не может присутствовать ежесекунд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68360" y="2276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Даже лучшее из действий, совершенное с самыми благородными намерениями, не будет без недостатков», — Шри Шри Рави Шанка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124000" y="5586480"/>
            <a:ext cx="684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жидание совершен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втоматически приводит вас к переживанию негативных эмоций: наблюдая, как ошибаются другие или понимая, что ошиблись вы сами, вы испытываете гнев, разочарование, вы злите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 же мы радуемся, то мы просто подтверждаем, что способны принимать жизнь, такой, какая она е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z_2e0d4e4d"/>
          <p:cNvPicPr/>
          <p:nvPr/>
        </p:nvPicPr>
        <p:blipFill>
          <a:blip r:embed="rId1"/>
          <a:srcRect l="6996" t="24783" r="7442" b="25656"/>
          <a:stretch/>
        </p:blipFill>
        <p:spPr>
          <a:xfrm>
            <a:off x="1908000" y="2997360"/>
            <a:ext cx="6840720" cy="2485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8. Будьте учеником всег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052720" y="5735520"/>
            <a:ext cx="69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 упускайте ни одной возможности познавать что-то новое, осваивать новые виды деятельности 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ставляйте свое тело и душу развивать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1"/>
          <p:cNvPicPr/>
          <p:nvPr/>
        </p:nvPicPr>
        <p:blipFill>
          <a:blip r:embed="rId1"/>
          <a:stretch/>
        </p:blipFill>
        <p:spPr>
          <a:xfrm>
            <a:off x="2411280" y="1413000"/>
            <a:ext cx="5545440" cy="40971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2:34:58Z</dcterms:created>
  <dc:creator>Елена Старкова</dc:creator>
  <dc:description/>
  <dc:language>en-US</dc:language>
  <cp:lastModifiedBy>Legion</cp:lastModifiedBy>
  <dcterms:modified xsi:type="dcterms:W3CDTF">2017-09-22T10:51:38Z</dcterms:modified>
  <cp:revision>2</cp:revision>
  <dc:subject/>
  <dc:title>Презентация PowerPoint</dc:title>
</cp:coreProperties>
</file>