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gif" ContentType="image/gif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 способов улучшить свою жизн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втор: Елена Шиляева. www.styleantistress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43FEA-1290-485F-9443-93D12A3A917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 способов улучшит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ою жизн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. Ставьте для себя краткосрочные и долгосрочные це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ловек так устроен, что в любой момент времени он испытывает целый ряд эмоций, как от прошлого, так и от будущего. Мы можем одновременно быть злы на какие-то обстоятельства прошлого и поэтому опасаться будущего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 же мы научимся мыслить настоящим моментом и жить в формате «здесь и сейчас», то и процесс постановки целей на будущее станет максимально корректным. И только такой подход гарантирует вам выбор верного направления жизни, о котором в последствии вы, скорее всего, никогда не пожалеете и не усомнитесь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 постановке цели умейте расставить приоритеты. Не перечисляйте всего, чего хотели бы добиться в жизни. Выберите только наиболее важные цел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. Мечтайте о высоком!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Мечтайте с размахом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усть все говорят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ваша мечта —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невоплотима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нтазия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чтайте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о невозможном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а нет мечты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нет действ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ы родились в этом мире, чтобы сделать что-то замечательное и уникальное. Не упускайте эту возможно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йте себе свободу думать с размахом. И имейте храбрость верить, что воплощение вашей мечты реальн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 помните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ь жизни — жить счастливо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Посмотрите на свою жизнь инач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а жизнь вращается вокруг нас. Мы рождены, чтобы быть счастливыми. Всё, что существует в этом мире, существует, чтобы иметь свой ход развития. Так, например, ваше тело может быть здоровым, больным и наконец оставить вас. Но, присмотритесь повнимательнее: где-то глубоко внутри всегда живет ощущение счасть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любовь к жизни, доверие к миру и счастье — ваши естественные состояния, то всё остальное происходит само по себ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ставьте свою жизнь на ленте времени или как определенный период в истории мироздания, в истории человечества… Миллиарды лет позади и никому неизвестно, сколько еще впереди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есть наша жизнь в этой бесконечной реке времени? Годы человеческой жизни растворяются в этом потоке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знание подобного положения вещей помогает изменить мировоззрение: в масштабах мироздания нас просто нет! Мысль о том, что ты есть песчинка относительно масштабов вселенной, настраивает на жизнь в формате «здесь и сейчас». Все мелочи отпадают и человек начинает ценить каждое мгновение своей жизн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Помните: миром правит непостоян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глянитесь вокруг. Наша жизнь не отличается постоянством. Вчерашний день —уже история. И завтра неминуемо станет истори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этому, чтобы поддержать нас в жизненно-активном состоянии мир периодически обеспечивает нам встряску, создавая некий дискомфорт и подбрасывая ситуации, требующие незамедлительного реш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ы не должны этого боять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и дни наполнены как позитивными для нас событиями, так и негативными. И неприятности существуют ровно для того, чтобы мы могли по достоинству оценить приятные момен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 только на минутку представьте себе, что жизнь состояла бы только из прекрасных моментов. Что было бы с нами? Закисли бы от скуки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Улыбайтес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падные психологи в ходе исследования установили, что дети улыбаются до 400 раз в день, подросток — только порядка 20 раз, ну, а взрослый человек — ни разу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ы должны больше улыбаться. Наша психика устроена по законам обратной связи: мы улыбаемся, когда мы счастливы, но и мы счастливы, когда улыбаемся. При улыбке мышцы лица расслабляются и вы уже подзаряжаетесь энергией и оптимизмом для новых достижен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ыбайтесь больше. Улыбайтесь чащ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кажите себе: будь что будет — сегодня я буду улыбаться и буду счастлив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Включите медитацию в свою жизн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дитация — это не действие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дитация — это искусство ничего не делать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дитация — это способность проводить время наедине с собой, наслаждаясь внутренней тишиной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читается, что отдых в глубокой медитации превосходит по своему восстановительному действию даже самый глубокий сон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то, хотя бы однажды пробовал на практике медитацию, согласится, что несмотря на всю парадоксальность ситуации — «ничегонеделание» в комплексе с «ниочемнедуманьем» —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занятие архисложное и обычному современному человеку может оказаться непонятным и непосильны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мое тихое и безмятежное место, куда человек может удалиться — это его душа: почаще позволяйте себе такое уединение. Оно обеспечит вам прилив новых си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ходите время для уединения. Если вы всё время заняты делами, общаетесь с различными людьми по самым разным вопросам, то вам определенно не хватает времени для себя самих — несколько минут тишины могут сотворить чудо. Каждый день находите возможность побыть несколько мгновений в тишине, отставив весь мир с его непрекращаемой сует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ишина способна лечить. Тишина омолаживает. Тишина вселяет веру в стабильность и развивает творчество. Нестандартные решения возникают только когда вы расслабле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Слушайте свое дых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ыхание — это первое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 последнее действие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 жизни каждого и нас!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ыхание —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это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и есть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жизнь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с не учат, как правильно дышать и наблюдать свое дыхание, но однажды познакомившись со специальными техниками дыхания, будь то на специальных психологических тренингах (например, телесно-ориентированной терапии) или на занятиях по программам цикла «разумное тело» (йога, пилатес и др), мы делаем для себя настоящие открытие: «каждому нашему внутреннему состоянию соответствует свое дыхание!». Поэтому когда мы не можем справиться со своим настроением или эмоциональным состоянием напрямую, мы можем справиться с ним с помощью дыха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 Добавьте красок в свою жизн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ловек без эмоций — это высохшее раст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мните, что вы сами являетесь творцами своей жизни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делать свою жизнь более интересной, активной, полной поводов для удивления под силу каждому из нас: музыка, путешествия, знакомства с интересными людьми, познание нового и совершенствование уже имеющихся навыков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. Не бойтесь совершать ошибки и не ищите совершен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уже было сказано ранее, в нашем непостоянном мире совершенство не может присутствовать ежесекундно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Даже лучшее из действий, совершенное с самыми благородными намерениями, не будет без недостатков», — Шри Шри Рави Шанкар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жидание совершенства автоматически приводит вас к переживанию негативных эмоций: наблюдая, как ошибаются другие или понимая, что ошиблись вы сами, вы испытываете гнев, разочарование, вы злитес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гда же мы радуемся, то мы просто подтверждаем, что способны принимать жизнь, такой, какая она е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. Будьте учеником всегда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 упускайте ни одной возможности познавать что-то новое, осваивать новые виды деятельности — заставляйте свое тело и душу развиватьс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C6EA-B426-4BFA-A0AD-139D059AB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BD1D-C169-4AE8-83DD-B99BA9E79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8C0C-3A6F-4ECA-8457-98838EC2F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FA24-7E4F-4714-9C8F-34A4E031A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A842-53F4-4C5D-9D84-586A56508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AFD5-3351-4DCE-ABED-3BC775523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2ECF-ECA8-4B2A-B75E-303F9193A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5315-BB0F-4DAE-BFB3-598A4C3CF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3760-64F5-4ABE-BA4B-B913B4F79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858D-B860-4009-8B8F-762AC23F4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0E84-8871-4B2C-9A53-421C85976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6311-EA30-41D5-92FF-D8EFCA47C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1FE6D-0B60-4746-865B-EF4B6D9C478F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styleantistress.ru/articles/delo/pro-umenie-stavit-tseli/" TargetMode="Externa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styleantistress.ru/articles/dusha/pochemu-ne-sbyvayutsya-mechty/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067280" y="6021000"/>
            <a:ext cx="49687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1800" spc="-1" strike="noStrike">
              <a:solidFill>
                <a:srgbClr val="3399ff"/>
              </a:solidFill>
              <a:latin typeface="Calibri"/>
            </a:endParaRPr>
          </a:p>
        </p:txBody>
      </p:sp>
      <p:sp>
        <p:nvSpPr>
          <p:cNvPr id="4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10 &amp;scy;&amp;pcy;&amp;ocy;&amp;scy;&amp;ocy;&amp;bcy;&amp;ocy;&amp;vcy; &amp;ucy;&amp;lcy;&amp;ucy;&amp;chcy;&amp;shcy;&amp;icy;&amp;tcy;&amp;softcy; &amp;scy;&amp;vcy;&amp;ocy;&amp;yucy; &amp;zhcy;&amp;icy;&amp;zcy;&amp;ncy;&amp;softcy;"/>
          <p:cNvPicPr/>
          <p:nvPr/>
        </p:nvPicPr>
        <p:blipFill>
          <a:blip r:embed="rId1"/>
          <a:stretch/>
        </p:blipFill>
        <p:spPr>
          <a:xfrm>
            <a:off x="2627280" y="2708280"/>
            <a:ext cx="3905280" cy="2790720"/>
          </a:xfrm>
          <a:prstGeom prst="rect">
            <a:avLst/>
          </a:prstGeom>
          <a:ln w="0">
            <a:noFill/>
          </a:ln>
        </p:spPr>
      </p:pic>
      <p:sp>
        <p:nvSpPr>
          <p:cNvPr id="51" name="WordArt 7"/>
          <p:cNvSpPr txBox="1"/>
          <p:nvPr/>
        </p:nvSpPr>
        <p:spPr>
          <a:xfrm>
            <a:off x="1116000" y="1628640"/>
            <a:ext cx="698508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333333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c8328"/>
                    </a:gs>
                  </a:gsLst>
                  <a:lin ang="189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0 способов улучшить </a:t>
            </a:r>
            <a:endParaRPr b="0" lang="en-US" sz="1800" spc="1" strike="noStrike">
              <a:ln w="22320">
                <a:solidFill>
                  <a:srgbClr val="333333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c8328"/>
                  </a:gs>
                </a:gsLst>
                <a:lin ang="189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333333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c8328"/>
                    </a:gs>
                  </a:gsLst>
                  <a:lin ang="189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вою жизнь</a:t>
            </a:r>
            <a:endParaRPr b="0" lang="en-US" sz="1800" spc="1" strike="noStrike">
              <a:ln w="22320">
                <a:solidFill>
                  <a:srgbClr val="333333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c8328"/>
                  </a:gs>
                </a:gsLst>
                <a:lin ang="189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0" y="0"/>
            <a:ext cx="8964720" cy="765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4"/>
          <p:cNvSpPr/>
          <p:nvPr/>
        </p:nvSpPr>
        <p:spPr>
          <a:xfrm>
            <a:off x="250920" y="907920"/>
            <a:ext cx="85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ff"/>
                </a:solidFill>
                <a:latin typeface="Arial"/>
              </a:rPr>
              <a:t>9. Ставьте для себя краткосрочные и долгосрочные це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250920" y="1916280"/>
            <a:ext cx="3241440" cy="4254480"/>
          </a:xfrm>
          <a:prstGeom prst="rect">
            <a:avLst/>
          </a:prstGeom>
          <a:solidFill>
            <a:srgbClr val="ffffff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еловек так устроен, что в любой момент времени он испытывает целый ряд эмоций, как от прошлого, так и от будущего. Мы можем одновременно быть злы на какие-то обстоятельства прошлого и поэтому опасаться будущего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Если же мы научимся мыслить настоящим моментом и жить в формате «здесь и сейчас», то и 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процесс постановки целей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 на будущее станет максимально корректным. И только такой подход гарантирует вам выбор верного направления жизни, о котором в последствии вы, скорее всего, никогда не пожалеете и не усомнитесь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2122560" y="6224760"/>
            <a:ext cx="6842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 постановке цели умейте расставить приоритеты. Не перечисляйте всего, чего хотели бы добиться в жизни. Выберите только наиболее важные цел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7" descr="1303662713_motivator-14232"/>
          <p:cNvPicPr/>
          <p:nvPr/>
        </p:nvPicPr>
        <p:blipFill>
          <a:blip r:embed="rId2"/>
          <a:srcRect l="0" t="1805" r="0" b="7926"/>
          <a:stretch/>
        </p:blipFill>
        <p:spPr>
          <a:xfrm>
            <a:off x="3564000" y="1989000"/>
            <a:ext cx="5364000" cy="403092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0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8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8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8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8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4"/>
          <p:cNvSpPr/>
          <p:nvPr/>
        </p:nvSpPr>
        <p:spPr>
          <a:xfrm>
            <a:off x="250920" y="907920"/>
            <a:ext cx="85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ff"/>
                </a:solidFill>
                <a:latin typeface="Arial"/>
              </a:rPr>
              <a:t>10. Мечтайте о высоком! </a:t>
            </a:r>
            <a:br>
              <a:rPr sz="2800"/>
            </a:br>
            <a:r>
              <a:rPr b="1" lang="ru-RU" sz="2800" spc="-1" strike="noStrike">
                <a:solidFill>
                  <a:srgbClr val="3399ff"/>
                </a:solidFill>
                <a:latin typeface="Arial"/>
              </a:rPr>
              <a:t>                Мечтайте с размахом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324000" y="1844640"/>
            <a:ext cx="2592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усть все говорят,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 ваша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чт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—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 невоплотимая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антазия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чтайте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о невозможном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ка нет мечты,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нет действ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2195640" y="5799240"/>
            <a:ext cx="6769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ы родились в этом мире, чтобы сделать что-то замечательное и уникальное. Не упускайте эту возможнос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айте себе свободу думать с размахом. И имейте храбрость верить, что 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воплощение вашей мечты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 реальн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7" descr="5725"/>
          <p:cNvPicPr/>
          <p:nvPr/>
        </p:nvPicPr>
        <p:blipFill>
          <a:blip r:embed="rId2"/>
          <a:stretch/>
        </p:blipFill>
        <p:spPr>
          <a:xfrm>
            <a:off x="2830680" y="1844640"/>
            <a:ext cx="6134040" cy="3981600"/>
          </a:xfrm>
          <a:prstGeom prst="rect">
            <a:avLst/>
          </a:prstGeom>
          <a:ln w="0">
            <a:noFill/>
          </a:ln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9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9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9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9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4"/>
          <p:cNvSpPr/>
          <p:nvPr/>
        </p:nvSpPr>
        <p:spPr>
          <a:xfrm>
            <a:off x="250920" y="2565360"/>
            <a:ext cx="8569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ff"/>
                </a:solidFill>
                <a:latin typeface="Arial"/>
              </a:rPr>
              <a:t>И помните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ff"/>
                </a:solidFill>
                <a:latin typeface="Arial"/>
              </a:rPr>
              <a:t>Цель жизни — жить счастливо!</a:t>
            </a:r>
            <a:r>
              <a:rPr b="0" lang="ru-RU" sz="2800" spc="-1" strike="noStrike">
                <a:solidFill>
                  <a:srgbClr val="3399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0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3" dur="2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6"/>
          <p:cNvSpPr/>
          <p:nvPr/>
        </p:nvSpPr>
        <p:spPr>
          <a:xfrm>
            <a:off x="250920" y="90792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ff"/>
                </a:solidFill>
                <a:latin typeface="Arial"/>
              </a:rPr>
              <a:t>1. Посмотрите на свою жизнь инач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4357800" y="3598920"/>
            <a:ext cx="4606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0000" indent="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аша жизнь вращается вокруг нас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ы рождены, чтобы быть счастливыми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Всё, что существует в этом мире, существует, чтобы иметь свой ход развития. Так, например, ваше тело может быть здоровым, больным и наконец оставить вас. Но, присмотритесь повнимательнее: где-то глубоко внутри всегда живет ощущение счасть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00000" indent="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Если любовь к жизни, доверие к миру и счастье — ваши естественные состояния, то всё остальное происходит само по себ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252360" y="1413000"/>
            <a:ext cx="864072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едставьте свою жизн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на ленте времени или как определенный период в истории мироздания, в истории человечества… Миллиарды лет позади и никому неизвестно, сколько еще впереди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то есть наша жизнь в этой бесконечной реке времени? Годы человеческой жизни растворяются в этом потоке.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сознание подобного положения вещей помогает изменить мировоззрение: в масштабах мироздания нас просто нет!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ысль о том, что ты есть песчинка относительно масштабов вселенной, настраивает на жизнь в формате «здесь и сейчас». Все мелочи отпадают и человек начинает ценить каждое мгновение своей жизн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9" descr="523622566"/>
          <p:cNvPicPr/>
          <p:nvPr/>
        </p:nvPicPr>
        <p:blipFill>
          <a:blip r:embed="rId1"/>
          <a:srcRect l="10199" t="0" r="7002" b="0"/>
          <a:stretch/>
        </p:blipFill>
        <p:spPr>
          <a:xfrm>
            <a:off x="1979640" y="3662280"/>
            <a:ext cx="3240000" cy="2935440"/>
          </a:xfrm>
          <a:prstGeom prst="rect">
            <a:avLst/>
          </a:prstGeom>
          <a:ln w="0">
            <a:noFill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4"/>
          <p:cNvSpPr/>
          <p:nvPr/>
        </p:nvSpPr>
        <p:spPr>
          <a:xfrm>
            <a:off x="250920" y="90792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ff"/>
                </a:solidFill>
                <a:latin typeface="Arial"/>
              </a:rPr>
              <a:t>2. Помните: миром правит непостоян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324000" y="1557360"/>
            <a:ext cx="86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глянитесь вокруг. Наша жизнь не отличается постоянством. Вчерашний день —уже история. И завтра неминуемо станет истори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2195640" y="5734080"/>
            <a:ext cx="6408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этому, чтобы поддержать нас в жизненно-активном состоянии мир периодически обеспечивает нам встряску, создавая некий дискомфорт и подбрасывая ситуации, требующие незамедлительного реш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ы не должны этого боять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7" descr="1337519972_motivator-0059"/>
          <p:cNvPicPr/>
          <p:nvPr/>
        </p:nvPicPr>
        <p:blipFill>
          <a:blip r:embed="rId1"/>
          <a:srcRect l="0" t="2628" r="0" b="0"/>
          <a:stretch/>
        </p:blipFill>
        <p:spPr>
          <a:xfrm>
            <a:off x="4600440" y="2205000"/>
            <a:ext cx="4364280" cy="34671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8"/>
          <p:cNvSpPr/>
          <p:nvPr/>
        </p:nvSpPr>
        <p:spPr>
          <a:xfrm>
            <a:off x="1187280" y="2276640"/>
            <a:ext cx="288144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ши дни наполнены как позитивными для нас событиями, так и негативными. И неприятности существуют ровно для того, чтобы мы могли по достоинству оценить приятные момент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ы только на минутку представьте себе, что жизнь состояла бы только из прекрасных моментов. Что было бы с нами? Закисли бы от скуки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4"/>
          <p:cNvSpPr/>
          <p:nvPr/>
        </p:nvSpPr>
        <p:spPr>
          <a:xfrm>
            <a:off x="250920" y="90792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ff"/>
                </a:solidFill>
                <a:latin typeface="Arial"/>
              </a:rPr>
              <a:t>3. Улыбайтес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324000" y="1484280"/>
            <a:ext cx="8569080" cy="12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падные психологи в ходе исследования установили, что дети улыбаются до 400 раз в день, подросток — только порядка 20 раз, ну, а взрослый человек — ни разу!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ы должны больше улыбаться. Наша психика устроена по законам обратной связи: мы улыбаемся, когда мы счастливы, но и мы счастливы, когда улыбаемся. При улыбке мышцы лица расслабляются и вы уже подзаряжаетесь энергией и оптимизмом для новых достижений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1835280" y="6165720"/>
            <a:ext cx="70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лыбайтесь больше. Улыбайтесь чащ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кажите себе: будь что будет — сегодня я буду улыбаться и буду счастлив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7" descr="SMILES baby"/>
          <p:cNvPicPr/>
          <p:nvPr/>
        </p:nvPicPr>
        <p:blipFill>
          <a:blip r:embed="rId1"/>
          <a:stretch/>
        </p:blipFill>
        <p:spPr>
          <a:xfrm>
            <a:off x="2843280" y="2781360"/>
            <a:ext cx="4952880" cy="3352680"/>
          </a:xfrm>
          <a:prstGeom prst="rect">
            <a:avLst/>
          </a:prstGeom>
          <a:ln w="0">
            <a:noFill/>
          </a:ln>
        </p:spPr>
      </p:pic>
      <p:sp>
        <p:nvSpPr>
          <p:cNvPr id="6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2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2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4"/>
          <p:cNvSpPr/>
          <p:nvPr/>
        </p:nvSpPr>
        <p:spPr>
          <a:xfrm>
            <a:off x="250920" y="90792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ff"/>
                </a:solidFill>
                <a:latin typeface="Arial"/>
              </a:rPr>
              <a:t>4. Включите медитацию в свою жиз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216000" y="1403280"/>
            <a:ext cx="8964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едитация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 — это не действие!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едитация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 — это искусство ничего не делать!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едитация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 — это способность проводить время наедине с собой, наслаждаясь внутренней тишиной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250920" y="2205000"/>
            <a:ext cx="84247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читается, что отдых в глубокой медитации превосходит по своему восстановительному действию даже самый глубокий сон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то, хотя бы однажды пробовал на практике медитацию, согласится, что несмотря на всю парадоксальность ситуации —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«ничегонеделание» в комплексе с «ниочемнедуманьем»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 —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это занятие архисложное и обычному современному человеку может оказаться непонятным и непосильны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4282920" y="3317760"/>
            <a:ext cx="475308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амое тихое и безмятежное место, куда человек может удалиться — это его душ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: почаще позволяйте себе такое уединение. Оно обеспечит вам прилив новых си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аходите время для уединения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Если вы всё время заняты делами, общаетесь с различными людьми по самым разным вопросам, то вам определенно не хватает времени для себя самих — несколько минут тишины могут сотворить чудо. Каждый день находите возможность побыть несколько мгновений в тишине, отставив весь мир с его непрекращаемой суето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ишина способна лечить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Тишина омолаживает. Тишина вселяет веру в стабильность и развивает творчество. Нестандартные решения возникают только когда вы расслаблен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8" descr="300465_640"/>
          <p:cNvPicPr/>
          <p:nvPr/>
        </p:nvPicPr>
        <p:blipFill>
          <a:blip r:embed="rId1"/>
          <a:srcRect l="12886" t="0" r="16294" b="0"/>
          <a:stretch/>
        </p:blipFill>
        <p:spPr>
          <a:xfrm>
            <a:off x="1403280" y="3573360"/>
            <a:ext cx="2881440" cy="2543400"/>
          </a:xfrm>
          <a:prstGeom prst="rect">
            <a:avLst/>
          </a:prstGeom>
          <a:ln w="0">
            <a:noFill/>
          </a:ln>
        </p:spPr>
      </p:pic>
      <p:sp>
        <p:nvSpPr>
          <p:cNvPr id="7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" dur="250" autoRev="1" fill="hold"/>
                                        <p:tgtEl>
                                          <p:spTgt spid="7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4"/>
          <p:cNvSpPr/>
          <p:nvPr/>
        </p:nvSpPr>
        <p:spPr>
          <a:xfrm>
            <a:off x="250920" y="90792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ff"/>
                </a:solidFill>
                <a:latin typeface="Arial"/>
              </a:rPr>
              <a:t>5. Слушайте свое дых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250920" y="1413000"/>
            <a:ext cx="3384360" cy="28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ыхание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— это первое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 последнее действие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 жизни каждого и нас!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ыха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—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это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и есть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жизн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2050920" y="4948200"/>
            <a:ext cx="69138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с не учат, как правильно дышать и наблюдать свое дыхание, но однажды познакомившись со специальными техниками дыхания, будь то на специальных психологических тренингах (например, телесно-ориентированной терапии) или на занятиях по программам цикла «разумное тело» (йога, пилатес и др), мы делаем для себя настоящие открытие: «каждому нашему внутреннему состоянию соответствует свое дыхание!». Поэтому когда мы не можем справиться со своим настроением или эмоциональным состоянием напрямую, мы можем справиться с ним с помощью дыхани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7" descr="sole-primaverile_full"/>
          <p:cNvPicPr/>
          <p:nvPr/>
        </p:nvPicPr>
        <p:blipFill>
          <a:blip r:embed="rId1"/>
          <a:stretch/>
        </p:blipFill>
        <p:spPr>
          <a:xfrm>
            <a:off x="3713040" y="1484280"/>
            <a:ext cx="5106960" cy="3379680"/>
          </a:xfrm>
          <a:prstGeom prst="rect">
            <a:avLst/>
          </a:prstGeom>
          <a:ln w="0">
            <a:noFill/>
          </a:ln>
        </p:spPr>
      </p:pic>
      <p:sp>
        <p:nvSpPr>
          <p:cNvPr id="7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4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4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4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4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6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48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4"/>
          <p:cNvSpPr/>
          <p:nvPr/>
        </p:nvSpPr>
        <p:spPr>
          <a:xfrm>
            <a:off x="250920" y="90792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ff"/>
                </a:solidFill>
                <a:latin typeface="Arial"/>
              </a:rPr>
              <a:t>6. Добавьте красок в свою жиз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250920" y="141300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ловек без эмоций — это высохшее раст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мните, что вы сами являетесь творцами своей жизн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2050920" y="5799240"/>
            <a:ext cx="6553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делать свою жизнь более интересной, активной, полной поводов для удивления под силу каждому из нас: музыка, путешествия, знакомства с интересными людьми, познание нового и совершенствование уже имеющихся навыков!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7" descr="руки-позитив"/>
          <p:cNvPicPr/>
          <p:nvPr/>
        </p:nvPicPr>
        <p:blipFill>
          <a:blip r:embed="rId1"/>
          <a:stretch/>
        </p:blipFill>
        <p:spPr>
          <a:xfrm>
            <a:off x="2232000" y="2133720"/>
            <a:ext cx="6300720" cy="3544920"/>
          </a:xfrm>
          <a:prstGeom prst="rect">
            <a:avLst/>
          </a:prstGeom>
          <a:ln w="0">
            <a:noFill/>
          </a:ln>
        </p:spPr>
      </p:pic>
      <p:sp>
        <p:nvSpPr>
          <p:cNvPr id="8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5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5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5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5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4"/>
          <p:cNvSpPr/>
          <p:nvPr/>
        </p:nvSpPr>
        <p:spPr>
          <a:xfrm>
            <a:off x="250920" y="907920"/>
            <a:ext cx="85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ff"/>
                </a:solidFill>
                <a:latin typeface="Arial"/>
              </a:rPr>
              <a:t>7. Не бойтесь совершать ошибки и не ищите совершен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250920" y="1844640"/>
            <a:ext cx="8569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ак уже было сказано ранее, в нашем непостоянном мире совершенство не может присутствовать ежесекундно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468360" y="227664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«Даже лучшее из действий, совершенное с самыми благородными намерениями, не будет без недостатков», — Шри Шри Рави Шанкар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2124000" y="5586480"/>
            <a:ext cx="68407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жидание совершенств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автоматически приводит вас к переживанию негативных эмоций: наблюдая, как ошибаются другие или понимая, что ошиблись вы сами, вы испытываете гнев, разочарование, вы злитес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гда же мы радуемся, то мы просто подтверждаем, что способны принимать жизнь, такой, какая она ес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8" descr="z_2e0d4e4d"/>
          <p:cNvPicPr/>
          <p:nvPr/>
        </p:nvPicPr>
        <p:blipFill>
          <a:blip r:embed="rId1"/>
          <a:srcRect l="6996" t="24783" r="7442" b="25656"/>
          <a:stretch/>
        </p:blipFill>
        <p:spPr>
          <a:xfrm>
            <a:off x="1908000" y="2997360"/>
            <a:ext cx="6840720" cy="2485800"/>
          </a:xfrm>
          <a:prstGeom prst="rect">
            <a:avLst/>
          </a:prstGeom>
          <a:ln w="0">
            <a:noFill/>
          </a:ln>
        </p:spPr>
      </p:pic>
      <p:sp>
        <p:nvSpPr>
          <p:cNvPr id="9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6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6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6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6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4"/>
          <p:cNvSpPr/>
          <p:nvPr/>
        </p:nvSpPr>
        <p:spPr>
          <a:xfrm>
            <a:off x="250920" y="90792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ff"/>
                </a:solidFill>
                <a:latin typeface="Arial"/>
              </a:rPr>
              <a:t>8. Будьте учеником всегда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2052720" y="5735520"/>
            <a:ext cx="691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 упускайте ни одной возможности познавать что-то новое, осваивать новые виды деятельности —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ставляйте свое тело и душу развиватьс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1"/>
          <p:cNvPicPr/>
          <p:nvPr/>
        </p:nvPicPr>
        <p:blipFill>
          <a:blip r:embed="rId1"/>
          <a:stretch/>
        </p:blipFill>
        <p:spPr>
          <a:xfrm>
            <a:off x="2411280" y="1413000"/>
            <a:ext cx="5545440" cy="4097160"/>
          </a:xfrm>
          <a:prstGeom prst="rect">
            <a:avLst/>
          </a:prstGeom>
          <a:ln w="0">
            <a:noFill/>
          </a:ln>
        </p:spPr>
      </p:pic>
      <p:sp>
        <p:nvSpPr>
          <p:cNvPr id="9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7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7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7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7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77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79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14T12:34:58Z</dcterms:created>
  <dc:creator>Елена Старкова</dc:creator>
  <dc:description/>
  <dc:language>en-US</dc:language>
  <cp:lastModifiedBy>Legion</cp:lastModifiedBy>
  <dcterms:modified xsi:type="dcterms:W3CDTF">2017-09-22T10:51:38Z</dcterms:modified>
  <cp:revision>2</cp:revision>
  <dc:subject/>
  <dc:title>Презентация PowerPoint</dc:title>
</cp:coreProperties>
</file>