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4AE0-5575-453A-9B75-C6A9C7F547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ориг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Аборигены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5FB-C211-4254-9824-17DEF6D0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1A3-0BEC-4AD9-BD1E-B5508BEC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993-7286-4D52-AB12-9E6C94C3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D42-184C-44B9-BB70-8BC0B0F7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84F8-CC8C-4D74-8BCD-CFA4C90B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E3C9-A575-4ED5-AC24-8FD84654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A347-6533-4C99-B518-B911707A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C6EB-C6D6-4DBC-9FAA-B45B9C81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112D-1125-4D57-9797-A6402A21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C0A8-FB74-4848-8AB2-A059CCAB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81B5-B501-4E9D-A03A-B86E1BF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C66-C7EF-4DD1-867F-568024BD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C881-7026-450C-B76B-339C38E3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D3B9-DA5D-4F8F-A9F9-1CE0EAFE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D1E4-258B-4592-91A4-83EB87FB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0232-208B-426D-8CC2-E541E75E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8804-DD7D-4452-8AEC-59629A35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E0A-FE66-4511-9EAE-8DB5C219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F4A-6D2C-4C3A-9E67-EEE0CE65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DF2-45A5-4064-B811-832B14A4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660-2F05-4875-BC4D-1337E3F9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F4B-8962-4C60-B9C1-D3E48B3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79E-3EAD-4B20-9248-3A602D3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002-3B4A-4833-9DAA-6D0C4F3F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9E1B-7E20-43E3-A57B-0580D48F9D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BECB-2178-44D6-80CB-61D2C62C27F7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cecff"/>
                </a:solidFill>
                <a:latin typeface="Arial"/>
              </a:rPr>
              <a:t>Аборигены</a:t>
            </a:r>
            <a:r>
              <a:rPr b="0" lang="ru-RU" sz="9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4" descr="18f73cbfe567d0aa8a51308bd3f7fc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4" descr="21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4" descr="6921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54685186913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504863785149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4" descr="695027960599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aborigeny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4" descr="aboriginal_dance_festival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11:38Z</dcterms:created>
  <dc:creator>User</dc:creator>
  <dc:description/>
  <dc:language>en-US</dc:language>
  <cp:lastModifiedBy>Legion</cp:lastModifiedBy>
  <dcterms:modified xsi:type="dcterms:W3CDTF">2017-09-22T10:54:48Z</dcterms:modified>
  <cp:revision>10</cp:revision>
  <dc:subject/>
  <dc:title>Аборигены </dc:title>
</cp:coreProperties>
</file>