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2861-2A84-4FF4-A0D2-FEA06D6B35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ориг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Аборигены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571-9D62-4B8C-A522-5E678E02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617-2E35-4F6B-BFEA-81EAB35E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814-319C-488E-8E88-D1D78F00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645-0314-4EBB-B566-60770F3B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1F71-A776-40EF-A5B6-7F5B1274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55E3-B4FB-40FA-8D9F-E7B3C2EA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FEC3-68B9-403A-BF72-BDA365B0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430C-BEC9-47C2-9C33-7BB5B090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661C-4B0D-434B-A698-BEF32F4B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DE38-0667-4CCF-8B25-82D8D1AD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A518-7EE6-4201-9E95-AD742261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FAE-5286-4AF4-B71D-D2706691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83A-8482-4771-8594-2AD9AC7B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A6DE-0CAD-4308-B6F4-27AFBAB7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B04D-2B66-4D46-95E3-844BCC0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20D4-C5D6-4609-B879-245F8F92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C50E-B95F-4FF7-A748-C75DC472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DEB-71B9-4AD5-934B-1D4F531F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F74-5CE4-4062-93CB-94BEE40D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650-2950-4D18-93C3-8D5A43E4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901-FC6F-4B5A-8230-671DE505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E62-AD7F-4217-8933-4EE830A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D72-083E-462D-899B-3A13001D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92A-B4A9-4FCD-A7E9-2145BC71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E5C7-00F7-45A0-BA01-C1C01109A2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0800-7C0C-4950-A609-44E8D45480CD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cecff"/>
                </a:solidFill>
                <a:latin typeface="Arial"/>
              </a:rPr>
              <a:t>Аборигены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4" descr="18f73cbfe567d0aa8a51308bd3f7fc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21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6921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5468518691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504863785149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695027960599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aborigeny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aboriginal_dance_festival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11:38Z</dcterms:created>
  <dc:creator>User</dc:creator>
  <dc:description/>
  <dc:language>en-US</dc:language>
  <cp:lastModifiedBy>Legion</cp:lastModifiedBy>
  <dcterms:modified xsi:type="dcterms:W3CDTF">2017-09-22T10:54:48Z</dcterms:modified>
  <cp:revision>10</cp:revision>
  <dc:subject/>
  <dc:title>Аборигены </dc:title>
</cp:coreProperties>
</file>