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D89C-A8C1-4A32-9AF8-595C82AA673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ориг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Аборигены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2903-9C67-4FC7-9D16-BDFF2CE2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13E-0C73-440F-ADED-FCBBD861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FCD-B5E3-47B9-95FB-4C647492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BCA-82C0-422F-92C3-0A98F429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F246-3E5C-4386-881D-FB9CE6B2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6DC1-0A03-4A8D-A6E0-E1C673EC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04C5-CD7E-4661-AD6D-AA16F7F4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0AD9-549F-44A5-99E6-8D3A3584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8782-349B-481A-B127-AC33BF6C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593D-ACC6-41EE-93B2-2469A8D0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876A-DB23-4A95-A46A-C88D7EC5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A25-BB54-4F91-8B49-27B2391B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ED89-D9EB-4C78-BB05-65A134CE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5686-2A23-43DD-AC99-27A460AC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2F2A-4C23-42D2-89A4-D9E749D1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6F32-3E37-47EB-AA56-F603A9B0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2F05-B4AA-496A-9CE0-7E3C6BEF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B56-3582-4A2A-8DBF-D92DC181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52A-0E8E-4E3E-BC49-5E567BDB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2F53-242A-46C8-A8D7-AAFB8185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564-AD05-4055-9376-AA7191DF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04B-37AD-4568-93A8-596D84F3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642-0088-45D8-B4FB-602ABF19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728-8498-4F3C-A1B8-30E78BAD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3CD1-A6D2-46CC-83F4-E537C5CB43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16EB-0F95-428C-AFDC-E5ADC2BBA23B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ccecff"/>
                </a:solidFill>
                <a:latin typeface="Arial"/>
              </a:rPr>
              <a:t>Аборигены</a:t>
            </a:r>
            <a:r>
              <a:rPr b="0" lang="ru-RU" sz="9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258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4" descr="18f73cbfe567d0aa8a51308bd3f7fc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4" descr="21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4" descr="6921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4" descr="54685186913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4" descr="504863785149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Picture 4" descr="695027960599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aborigeny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4" descr="aboriginal_dance_festival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11:38Z</dcterms:created>
  <dc:creator>User</dc:creator>
  <dc:description/>
  <dc:language>en-US</dc:language>
  <cp:lastModifiedBy>Legion</cp:lastModifiedBy>
  <dcterms:modified xsi:type="dcterms:W3CDTF">2017-09-22T10:54:48Z</dcterms:modified>
  <cp:revision>10</cp:revision>
  <dc:subject/>
  <dc:title>Аборигены </dc:title>
</cp:coreProperties>
</file>