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86BA-E189-46B8-B561-B8670CEDE6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стр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страл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6CBE-8C16-4D73-B55C-B7A3F3DD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0A39-E67F-4B0E-A956-3D0C9F17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4EDF-D1A8-4932-88E4-8F4B1355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8350-92ED-4517-BDF5-864AF7BA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5C7E-6DE9-4575-B426-2C814BF1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2B3E-F5DF-47F4-A66E-37FF4A82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6872-063E-49CE-9A2F-D9F7B41B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241-2458-4E24-88B2-43BF8F83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DBF9-F2A0-43A7-95A5-C22DB714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AC0D-1C81-43B8-82B4-B61C6634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EB6B-FF85-421D-91BD-1F9F0BA6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7EF6-7402-484B-857B-70DC7325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5E55-3D04-4A1E-9A23-B8333212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6FF7-CF69-4D1F-92D0-82A04EB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7946-056E-46D7-8242-B5A0DFEF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56B5-3C82-4D08-9193-363FF84C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0470-B954-4ABD-A115-2F3A557D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173A-7347-4E14-814E-F397554E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A2A2-2C29-40FE-AE28-A584D409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3569-A10C-42ED-BC56-BEA43FBB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2DD2-F246-4669-AA88-2DA63945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7DD0-5AC2-43AE-B5DE-580D5D2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7EF4-D7BB-43AD-AF46-00CE9DBE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B4F4-66AD-4E00-8EA0-87AD2B2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169D-68AA-4C6F-93CC-8BCABC414E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92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DEC2-F782-462C-BE30-EC760F96E0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fdef6"/>
                </a:solidFill>
                <a:latin typeface="Arial"/>
              </a:rPr>
              <a:t>Австралия </a:t>
            </a:r>
            <a:endParaRPr b="0" lang="en-US" sz="10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4" descr="1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22_australia_181020051314_8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220px-Australia_D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845f21ca58465c9702262caef23ea74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rt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4" descr="australia_surf_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4" descr="australia-4934_w514h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25:47Z</dcterms:created>
  <dc:creator>User</dc:creator>
  <dc:description/>
  <dc:language>en-US</dc:language>
  <cp:lastModifiedBy>Legion</cp:lastModifiedBy>
  <dcterms:modified xsi:type="dcterms:W3CDTF">2017-09-22T10:03:07Z</dcterms:modified>
  <cp:revision>31</cp:revision>
  <dc:subject/>
  <dc:title>Австралия</dc:title>
</cp:coreProperties>
</file>