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6D21-DC99-41C8-B34C-A513159A772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стра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90E8-59BB-4A23-A798-656DD152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4317-BEC8-4196-9B05-13D1ECFC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1429-E666-494A-8AFC-ECB9D3AA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76D6-22E7-4889-8C20-CFCA3CAD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5AA1-934B-40A3-BE95-084C6592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1C76-0D68-48DA-A458-EE2D4F9C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788E-380B-46FB-AC80-2AC203DF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A86E-D0BC-4F58-931D-4555D036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1235-A0B8-4D75-B636-11AA5AF9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2E27-BA82-4EF5-877D-4C8C45B9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4C03-9990-4F79-B8B9-233FAD54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9C86-BC8D-4DF8-A5DE-E4B711E8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B60C-193F-42A2-AA43-0E152133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98F2-F007-499E-9400-375B161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E59D-7C65-40E7-AEA5-82EA55FA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FF1A-EEA0-46B7-AD85-FDADBF3A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B911-E23F-4663-8294-551BF05B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D2005-61EB-43C6-8D24-19F00132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A56A-4FB5-4652-865C-D09CDC9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CBBC-F659-4905-AB83-AE98592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B54F-10C5-41AB-9687-F56656C9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DEAD-0444-49CD-A6E0-EDB3798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E9D0-40A9-4FCE-A486-B096230D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3E30-A661-4DE6-A910-4CE1011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FE4-049B-4613-BD1E-7A88CF8315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3092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316B-B6AF-4A6C-989B-DE436F2213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fdef6"/>
                </a:solidFill>
                <a:latin typeface="Arial"/>
              </a:rPr>
              <a:t>Австралия </a:t>
            </a:r>
            <a:endParaRPr b="0" lang="en-US" sz="10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4" descr="1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22_australia_181020051314_87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Picture 4" descr="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4" descr="220px-Australia_Da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845f21ca58465c9702262caef23ea74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4" descr="artle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4" descr="australia_surf_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4" descr="australia-4934_w514h3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25:47Z</dcterms:created>
  <dc:creator>User</dc:creator>
  <dc:description/>
  <dc:language>en-US</dc:language>
  <cp:lastModifiedBy>Legion</cp:lastModifiedBy>
  <dcterms:modified xsi:type="dcterms:W3CDTF">2017-09-22T10:03:07Z</dcterms:modified>
  <cp:revision>31</cp:revision>
  <dc:subject/>
  <dc:title>Австралия</dc:title>
</cp:coreProperties>
</file>