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E519-5B5D-4CF1-9DE5-60B6A4FA23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стр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639C-F8EB-4621-AC4A-B9BB0EFA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712B-2A19-45A1-B4C2-DCE5364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BE07-1F82-43BB-A3EF-22ADB383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5D86-E03A-45FC-8625-99D34E5D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09AE-AD1B-47A6-AE83-50F76B83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397-1B50-41DC-B1B8-6AC44354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3EDC-D6E1-4E6A-8B14-0D17DF0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E203-BE92-4C1C-A4C6-589E55C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286C-7056-40BC-A189-A497B2EC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92ED-CDA2-44F7-8FE7-D010BAA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4633-5C2B-46B0-91B6-55D8BCC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1C80-1A0C-4AE6-A51F-9ABE920D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59FB-E1A1-4328-8316-96AB80C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446B-0EA7-4E82-9003-0D3C6DE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DD2F-1529-4313-9F3D-F05388A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7056-896D-494E-BD96-5ACAFCFB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599C-D79C-4D91-B807-6698B224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782F-EEC1-4C70-BD1D-631DFA08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2566-CE3E-4EC4-8B80-3C63622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8A2B-7F08-40C0-A1D9-AC2395A6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4754-2836-4A34-B8AB-0BA6A9C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B2B8-480B-4E4D-B039-C289E40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1F42-FA42-4F7C-ABB6-8B8895F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810A-28B2-43C5-B93A-3228F3D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988D-5705-4EE8-863E-4EAC465F07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899B-7815-4D06-8F76-D82553EDF6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fdef6"/>
                </a:solidFill>
                <a:latin typeface="Arial"/>
              </a:rPr>
              <a:t>Австралия </a:t>
            </a:r>
            <a:endParaRPr b="0" lang="en-US" sz="10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22_australia_181020051314_8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220px-Australia_D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845f21ca58465c9702262caef23ea7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rt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australia_surf_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australia-4934_w514h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25:47Z</dcterms:created>
  <dc:creator>User</dc:creator>
  <dc:description/>
  <dc:language>en-US</dc:language>
  <cp:lastModifiedBy>Legion</cp:lastModifiedBy>
  <dcterms:modified xsi:type="dcterms:W3CDTF">2017-09-22T10:03:07Z</dcterms:modified>
  <cp:revision>31</cp:revision>
  <dc:subject/>
  <dc:title>Австралия</dc:title>
</cp:coreProperties>
</file>