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3178-A299-4C7B-B043-9C34843504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бу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бус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4EB-69A3-4A07-9988-16C3FFAC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EB8-BDC9-4C80-92C3-D8BC4FCB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142-09CB-410A-A7A9-B39438BC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7F2-8F07-4C83-A299-5DF16D88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7946E-CD9B-4435-B422-48820CBB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67BD4-34B6-4055-9DEB-7A7B5C60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54332-DC27-4138-9A1C-252D6E1E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F9C01-C956-4075-AB43-FA6BDD8F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42C77-B6DB-4518-9247-6E324CCE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0FED4-433F-4E38-AEC1-CE3090D7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874D7-02F2-4EC8-92DD-3E9030A3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268-7C86-48E3-B112-78C80279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B21D4-BAFC-4AC3-BD68-37EEDA60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9E8C4-7219-49F0-98F3-39A2061C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B3250-04C0-410D-BA88-92CE67AD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C6978-5D9F-48D3-B6F7-A7976CA4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F767E-A857-4034-B8DD-DFBF196F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449-81F9-4440-81AC-CEA98DAB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3C9-BA53-4D71-A930-2E807293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3A2-0C12-4320-9648-F53816E2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F08-3F78-439F-8E70-F770EAA5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C5A-0F4E-439B-904A-D254E31B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084-5ED4-47FE-B728-FA7C09DF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90D-18C4-46C3-94F2-9A7DA31C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DC9F-59A8-4B27-A8B7-16F628A843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921F-2947-4EB8-80A7-C79286BD9C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3e3ff"/>
                </a:solidFill>
                <a:latin typeface="Arial"/>
              </a:rPr>
              <a:t>Автобусы</a:t>
            </a:r>
            <a:r>
              <a:rPr b="0" lang="ru-RU" sz="9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1024px-Bogdan_A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67586_ccy83vgb7zbeq4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1288480046_man_bus_2_s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gaz_group-2013-10-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http_phot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Transport-Autobus-LA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Школьный автобу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34:29Z</dcterms:created>
  <dc:creator>User</dc:creator>
  <dc:description/>
  <dc:language>en-US</dc:language>
  <cp:lastModifiedBy>Legion</cp:lastModifiedBy>
  <dcterms:modified xsi:type="dcterms:W3CDTF">2017-09-22T10:04:42Z</dcterms:modified>
  <cp:revision>10</cp:revision>
  <dc:subject/>
  <dc:title>Автобусы</dc:title>
</cp:coreProperties>
</file>