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F839-1B51-4AE5-97D0-05FA37E7E48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бу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втобус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8398-D92C-47B6-874F-3387294E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B8BD-500C-478A-A91B-C1400B2E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997-6616-4DC7-BCFC-C2AD02A4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ED4C-6DF2-404A-B59B-BCBED34F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824C1-6E9D-4EAC-B6A0-C6A8237E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52131-41D4-4DE4-A7BA-5AE1FBED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BA9F2-5286-43F9-B2CC-3ABFF6D1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F2044-52F2-4E3B-922F-8C9FAC48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1DD2F-0518-40D7-95F2-BF1D5E63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2FD37-2794-4866-98CC-A253FC1C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559A2-52B5-4E40-8CAA-BEC189A8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78DC-793B-43A6-842A-54C0FCB8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C7C5A-3054-4A99-B1B0-2351AC59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1D16E-2DC8-4B0D-AF8F-6E8C8B1A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63D2A-19C5-45D4-834F-A1B2DB53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25AAF-2844-4841-BAB6-7208E6FF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AC592-C623-41EE-8797-2D7BDF3B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8B5-07B7-4592-BE91-93BB0401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1DC-C20A-4949-8573-3033D9F6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CA46-162B-4233-8B94-58EF22B5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27C-C6B2-4C60-82EE-2E963E89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1E6B-05EC-4B6E-90F0-E3958F83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7F4-38EF-4B54-B2AE-17E7EEFC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1A69-4069-4E69-8C41-CEEB1734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C741-C555-4107-B616-1C623161863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9623-762A-408E-BF5E-56632C8CBA3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e3e3ff"/>
                </a:solidFill>
                <a:latin typeface="Arial"/>
              </a:rPr>
              <a:t>Автобусы</a:t>
            </a:r>
            <a:r>
              <a:rPr b="0" lang="ru-RU" sz="9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1024px-Bogdan_A0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67586_ccy83vgb7zbeq4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1288480046_man_bus_2_s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gaz_group-2013-10-15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http_phot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wikipe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Transport-Autobus-LA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Школьный автобу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34:29Z</dcterms:created>
  <dc:creator>User</dc:creator>
  <dc:description/>
  <dc:language>en-US</dc:language>
  <cp:lastModifiedBy>Legion</cp:lastModifiedBy>
  <dcterms:modified xsi:type="dcterms:W3CDTF">2017-09-22T10:04:42Z</dcterms:modified>
  <cp:revision>10</cp:revision>
  <dc:subject/>
  <dc:title>Автобусы</dc:title>
</cp:coreProperties>
</file>