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DD8A-6AF6-4564-8C36-AD4F040B5E4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втобу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втобус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09C-C5E1-418B-808F-5B44FCE8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0803-BE6C-4F48-9440-9DA32BD3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8C76-10C7-4EE5-BB5C-1823E4A6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994-CB03-47AA-A8E8-9D638C92E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A599E-9392-4A59-89F9-A66A923D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7DF7A-8786-4BBA-B8F9-86C58720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E75FC-40C2-4302-B1D8-0EFA4E72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BC882-EB94-4467-B393-E5390C05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FE6D8A-5F74-4FA2-B294-3FE13BA5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E5D3E-9749-4208-A251-F5B7F202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A1F22-4C17-44F7-AAFE-08EA6A07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C16-E789-4A71-B71D-B3E95C6F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59F4B-6459-4F06-81F6-CB752B59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E30CC-DA3B-4785-8A80-9C8274A4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1D061-0B42-429E-911E-31500952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FA23B-73AA-4358-9835-477CF609B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31246-5363-46F0-8808-1530772F9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84E-1AAA-4986-BF75-C0C4CAD9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733F-8DD9-4AE1-BA5A-C11BB4F4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EAC-E8EB-4FEA-98CC-C800ECE7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6CB-8194-47B1-A963-F2CB78CA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B86-9787-4100-874B-F1D69E19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BC6A-C57D-439A-9D9D-F924DE9A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B45B-9FEC-4616-BB6B-B048CE79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F4EC-D3E0-48E6-BB18-20959D93A0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C957-91A7-4B78-9389-562387F9509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0" spc="-1" strike="noStrike">
                <a:solidFill>
                  <a:srgbClr val="e3e3ff"/>
                </a:solidFill>
                <a:latin typeface="Arial"/>
              </a:rPr>
              <a:t>Автобусы</a:t>
            </a:r>
            <a:r>
              <a:rPr b="0" lang="ru-RU" sz="96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Рисунок 4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1024px-Bogdan_A0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67586_ccy83vgb7zbeq4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1288480046_man_bus_2_ss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4" descr="gaz_group-2013-10-15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http_phot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wikipedi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Transport-Autobus-LA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Школьный автобу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34:29Z</dcterms:created>
  <dc:creator>User</dc:creator>
  <dc:description/>
  <dc:language>en-US</dc:language>
  <cp:lastModifiedBy>Legion</cp:lastModifiedBy>
  <dcterms:modified xsi:type="dcterms:W3CDTF">2017-09-22T10:04:42Z</dcterms:modified>
  <cp:revision>10</cp:revision>
  <dc:subject/>
  <dc:title>Автобусы</dc:title>
</cp:coreProperties>
</file>