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A838-8B34-416A-9135-999B5517A3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бу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бус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999-3966-4212-963D-A5C8675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750-9778-4E4B-838D-18D9BC77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0F3-23CF-480D-A43A-9CF6BAD7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ACF-AC24-46A7-B2FA-22FAA92D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5415E-645F-455B-9A2C-1D1B2CC8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79634-3587-49B1-93D2-0ED61770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5CFA2-974B-4A88-93BD-E1924E2A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B4CE2-DF99-4AE3-9ACD-5A7124F2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14638-C346-492F-A7D2-1C35E7E6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C5DA0-2E55-49F6-B904-16ED343A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3B8C-E6CE-4885-8344-20C4B25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DA6-303A-4A31-A827-24D8C196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BA4C1-5575-4C49-8853-DE68832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BFFF4-DCB3-4642-9329-B1661F0B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647AA-8A66-4D9D-845E-138DBEB6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CBC3C-4EDC-4E7A-B7F8-8382DE25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9A4FB-C962-4E63-8B4E-5E31F282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8C5-1BE5-47C0-9ECD-2453432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A86-3512-4BC2-8C40-D9B11772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AD3-64E3-49D6-8928-6D360BA5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28E1-25D7-4A99-99BF-24C36223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7CF-551D-483D-86ED-CDC790E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E23-9D0D-418B-A2E5-ED0A0EA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55F-DF9A-478C-9D7F-F9F5DCA3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B1F-2E61-49DD-9C36-C81F8C127C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FF9-FFA4-41E0-9FAA-64765B0052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3e3ff"/>
                </a:solidFill>
                <a:latin typeface="Arial"/>
              </a:rPr>
              <a:t>Автобусы</a:t>
            </a: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024px-Bogdan_A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67586_ccy83vgb7zbeq4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288480046_man_bus_2_s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gaz_group-2013-10-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http_pho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ransport-Autobus-L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Школьный 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4:29Z</dcterms:created>
  <dc:creator>User</dc:creator>
  <dc:description/>
  <dc:language>en-US</dc:language>
  <cp:lastModifiedBy>Legion</cp:lastModifiedBy>
  <dcterms:modified xsi:type="dcterms:W3CDTF">2017-09-22T10:04:42Z</dcterms:modified>
  <cp:revision>10</cp:revision>
  <dc:subject/>
  <dc:title>Автобусы</dc:title>
</cp:coreProperties>
</file>