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BB2F-C6C4-4D64-8AA7-87AB86CABBE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втотранспор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Автотранспор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8558-B233-406D-841A-4E3F59DF5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8974-0E93-47ED-8CEB-276E027A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BF99-F3B0-4F23-9529-92C9FF4F6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B029-6621-43E1-AB80-F0E5A075A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4A62-343B-470C-823A-E410795E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28B0-CD31-4067-AF36-4D067FFE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3201-AC8D-47D6-87AF-4143380F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1579-1722-4E30-8669-53D39E54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C937-FB46-4AE9-B258-9317E6A8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F834-F7E5-4340-B4C7-4A71A5A3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7FA8-FE50-4605-AF1C-E1502F66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C03C-B819-4BCD-B5E3-91E68B2C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6608-1CFC-4EAF-87BE-E5122699B55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e5ffff"/>
                </a:solidFill>
                <a:latin typeface="Tahoma"/>
              </a:rPr>
              <a:t>Автотранспорт</a:t>
            </a:r>
            <a:r>
              <a:rPr b="0" lang="ru-RU" sz="96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9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4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4" descr="17-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4" descr="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4" descr="1365417342_00-vostok-zastavka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4" descr="201111011727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4" descr="avtotranspo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4" descr="avtovoz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4" descr="bit-avtotransport-kompleksnaja-avtomatizacija-transport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42:21Z</dcterms:created>
  <dc:creator>User</dc:creator>
  <dc:description/>
  <dc:language>en-US</dc:language>
  <cp:lastModifiedBy>Legion</cp:lastModifiedBy>
  <dcterms:modified xsi:type="dcterms:W3CDTF">2017-09-22T10:06:24Z</dcterms:modified>
  <cp:revision>10</cp:revision>
  <dc:subject/>
  <dc:title>Автотранспорт</dc:title>
</cp:coreProperties>
</file>