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4A69C-BABC-4961-98EC-7E5F97107AFD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втотранспор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Автотранспорт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7CF9-2517-4FE2-A263-2AC563664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3C4A-D27C-4418-A1EB-B2AEDB633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6135-3D85-46E0-B6B0-C87BAD15B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EA83-5875-495F-8B6B-515F52138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B2C4-5E9B-4EBB-B6F2-A322A9B12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A148-3A9A-4BD7-96BA-C99B110D5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41E6-72E9-45CE-BF7A-C0F9C4E62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5F1F-C112-4639-AD69-080F19EB4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D323-45C7-45FC-9CB5-19D4F2E39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C97A-804A-4C5D-B921-574B590B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39BF-121C-4CD3-8F99-04195CBD5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35F9-C98B-452B-B3E3-C004DA6AB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EBFD2-F8B6-4670-B18A-EC0A4438DF2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e5ffff"/>
                </a:solidFill>
                <a:latin typeface="Tahoma"/>
              </a:rPr>
              <a:t>Автотранспорт</a:t>
            </a:r>
            <a:r>
              <a:rPr b="0" lang="ru-RU" sz="96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9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32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Рисунок 4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" name="Picture 4" descr="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Picture 4" descr="17-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" name="Picture 4" descr="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Picture 4" descr="1365417342_00-vostok-zastavka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Picture 4" descr="201111011727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3" name="Picture 4" descr="avtotranspor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7" name="Picture 4" descr="avtovoz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1" name="Picture 4" descr="bit-avtotransport-kompleksnaja-avtomatizacija-transport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4:42:21Z</dcterms:created>
  <dc:creator>User</dc:creator>
  <dc:description/>
  <dc:language>en-US</dc:language>
  <cp:lastModifiedBy>Legion</cp:lastModifiedBy>
  <dcterms:modified xsi:type="dcterms:W3CDTF">2017-09-22T10:06:24Z</dcterms:modified>
  <cp:revision>10</cp:revision>
  <dc:subject/>
  <dc:title>Автотранспорт</dc:title>
</cp:coreProperties>
</file>