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3354-E41C-4BC0-A739-CEB069E9A1D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втотранспор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C18-203D-4DEE-8A06-6DC19AEF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EA0-E9C1-4211-AADB-600E4110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70D-1CA1-48E9-8C5A-A5E2ED9B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0B3-71A2-4138-B697-03EF20F1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874-22BC-4AEC-AC36-0787ADA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5C6-E647-4DF1-A88A-B99E0216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AC6-8288-4DDB-958B-140772D5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550-D9AB-47AF-BF05-438273D0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34A-D933-4F87-BB3E-05DC3410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AF5-36B7-44AF-8F5D-7BADF7DA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E6B-0CF2-481D-885C-7DB23D65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87C-DF03-408E-86AB-F9F1B3E2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AA75-A2EA-4F23-8BAA-FBD4F38A0C9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5ffff"/>
                </a:solidFill>
                <a:latin typeface="Tahoma"/>
              </a:rPr>
              <a:t>Автотранспорт</a:t>
            </a:r>
            <a:r>
              <a:rPr b="0" lang="ru-RU" sz="9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17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1365417342_00-vostok-zastavka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20111101172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avtotrans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avtovoz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bit-avtotransport-kompleksnaja-avtomatizacija-transpo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2:21Z</dcterms:created>
  <dc:creator>User</dc:creator>
  <dc:description/>
  <dc:language>en-US</dc:language>
  <cp:lastModifiedBy>Legion</cp:lastModifiedBy>
  <dcterms:modified xsi:type="dcterms:W3CDTF">2017-09-22T10:06:24Z</dcterms:modified>
  <cp:revision>10</cp:revision>
  <dc:subject/>
  <dc:title>Автотранспорт</dc:title>
</cp:coreProperties>
</file>