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B0C2-66A3-4E6D-93BA-6EE3643E6A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остоя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DDD-C9E7-4ACD-A592-8F1F2529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EEE-476F-4572-928E-DB544FB8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A2E-81D6-44FA-BE09-259E7D8A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2A7-7F7C-4B5C-A20C-B22CECD1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49F3-BA54-4576-B729-97ED997A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C6C7-6994-496B-A0F0-A494FA0E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6425-3F0D-474F-A8E3-5E8BF4E2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2573-BC22-4C48-AA88-65D15C26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A8CE-9093-4CB8-9C2B-C52C27E0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D48F-2056-4A80-AC2D-B6DD6EB9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BBEF-BAF3-4A91-B080-616F54C3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084-F185-4DE2-9829-C2098E13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E500-F302-4404-A2B8-5FD50391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1399-F9A8-4EEA-A18A-AB7039F5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EB30-5816-42B7-8BBB-ADD421FE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0192-0E5D-441B-9227-967B2193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411A-918C-4A24-94C2-3B4D5F9E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2CB-FDAA-43FC-AC26-564101FA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522-E541-4280-8506-CD15572D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72B-39B9-4B18-9CE8-AB9F781C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A49-6F0D-49C9-8C0F-17103B72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84D-5879-453F-871E-4F9E0931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422-363E-4BB7-80C8-2C38C91D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809-9D85-4608-99C4-4A28B893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0075-9E73-4D6E-B9FC-8817ED3BB4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2E09-241A-4F59-9D07-7D1A32298A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06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грегатное </a:t>
            </a:r>
            <a:br>
              <a:rPr sz="10000"/>
            </a:b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состояние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7faf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4" descr="0013-011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0013-013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4" descr="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4" descr="300px-Phase_change_-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4" descr="02003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4" descr="e2989b4998cb7f13ad97ae1e30e119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8:00Z</dcterms:created>
  <dc:creator>User</dc:creator>
  <dc:description/>
  <dc:language>en-US</dc:language>
  <cp:lastModifiedBy>Legion</cp:lastModifiedBy>
  <dcterms:modified xsi:type="dcterms:W3CDTF">2017-09-22T10:08:50Z</dcterms:modified>
  <cp:revision>8</cp:revision>
  <dc:subject/>
  <dc:title>Агрегатное  состояние</dc:title>
</cp:coreProperties>
</file>