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AD96-7863-4B25-BBA3-32FD4C2CA4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991-020C-41E3-973A-8BF93B75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0ED-A103-41BC-AF2A-C722BF05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DFA-BA7D-4F51-9EAF-ECB668D8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907-06C0-40F9-9D17-4A174552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E834-D063-4045-8A97-89CB581A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CB12-47F5-4247-9CFB-CA216F09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61CC-6686-4F5B-854D-1D4BFB7B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07C5-BF38-43B1-9771-D7A15D01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53FF-2B9D-4697-A188-579D1195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042-AE65-4F32-997A-EDA16188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DEEA-4791-484B-A89E-DF2C2837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973-AE1B-4432-AAE9-BAC19629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BD06-7026-44CE-9541-DB2EE64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97A2-83B9-4DBB-BE8F-DA90A3D3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89B8-0CDF-436C-9983-AF78E555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F8C1-50A6-42D1-B27F-13D22B25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882D-EBC4-42AA-9903-AA1200A4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98F-2426-495E-A904-C616605D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2F7-C298-4E92-94F7-1E000E2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F39-D7A1-4CF8-A642-7A77E471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993-5F1C-4D21-ADD8-81AF2F6C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432-4705-4469-B3F5-CF67F5E0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089-FC9F-4C81-A05E-D8B240C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701-7E70-4FD8-ACC9-3148EE6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913B-7889-4161-A4B0-F8D4708940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E03B-B85A-4E86-B551-0946A4C697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грегатное </a:t>
            </a:r>
            <a:br>
              <a:rPr sz="10000"/>
            </a:b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состояние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7faf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0013-011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0013-013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300px-Phase_change_-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200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4" descr="e2989b4998cb7f13ad97ae1e30e119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8:00Z</dcterms:created>
  <dc:creator>User</dc:creator>
  <dc:description/>
  <dc:language>en-US</dc:language>
  <cp:lastModifiedBy>Legion</cp:lastModifiedBy>
  <dcterms:modified xsi:type="dcterms:W3CDTF">2017-09-22T10:08:50Z</dcterms:modified>
  <cp:revision>8</cp:revision>
  <dc:subject/>
  <dc:title>Агрегатное  состояние</dc:title>
</cp:coreProperties>
</file>