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8DC5-94EF-4F15-847D-2338A666D67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егатное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грегатное 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остоя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784-95CE-41A6-9E51-A33FA361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CD46-20F0-4138-8D57-DB61E036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2A9-AF05-403E-A9D4-AA1C7268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2AA-A9DB-43F7-B35F-838289FE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18CE-9EC6-4B3B-9F8F-D3B63D98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2E91-3943-418F-8BC3-10DABCB4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08E5-F9E7-4AAF-87DB-C0CBBEE3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5CA5-12B9-428B-9438-11E8E60D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13EE-51BB-4DBE-94CC-E9924D45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C69A-ECE2-40AF-BF6C-AC0AD6BF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EF36-5934-408D-91EF-7A4E4CE3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F7E-F618-4EC2-84A7-2095C5FA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10F3-E411-4597-906E-B6B0A2EF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06DE-6D79-49EF-B441-B06E4025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7B9D-CB98-4F0F-8E01-A10343FF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BC79-2532-4FFD-B0A2-54F9C6CC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B88E-BAE2-49D7-9FC1-1673784D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B917-8636-4CA2-A5AB-2DAF0767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11F9-D634-4D2C-B94F-E4E770F6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CA4-240A-4DA4-A38B-E0546DD9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6761-7D35-4AD6-B715-A28B345A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F34-2615-420D-AB2E-77FE1C63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6AF-CB2F-4FB7-8612-E8D10213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3AEA-40BD-4462-AF76-C1E37FB5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0351-3C03-411D-A2A7-2232CD9496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8A17-5C6C-48B6-826D-19F36649B24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306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Агрегатное </a:t>
            </a:r>
            <a:br>
              <a:rPr sz="10000"/>
            </a:b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состояние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7faf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Picture 4" descr="0013-011-Agregatnoe-sostojanie-veschestv-i-perekhody-mezhdu-ni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4" descr="0013-013-Agregatnoe-sostojanie-veschestv-i-perekhody-mezhdu-ni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4" descr="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4" descr="300px-Phase_change_-_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4" descr="02003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4" descr="e2989b4998cb7f13ad97ae1e30e1196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48:00Z</dcterms:created>
  <dc:creator>User</dc:creator>
  <dc:description/>
  <dc:language>en-US</dc:language>
  <cp:lastModifiedBy>Legion</cp:lastModifiedBy>
  <dcterms:modified xsi:type="dcterms:W3CDTF">2017-09-22T10:08:50Z</dcterms:modified>
  <cp:revision>8</cp:revision>
  <dc:subject/>
  <dc:title>Агрегатное  состояние</dc:title>
</cp:coreProperties>
</file>