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541D-42E4-4112-816B-E7AB3F472A6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егатное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грегатное 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остоя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239-943B-4AB1-8E4B-E396815B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2F9-0E2C-475E-893C-5056883D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7E59-039E-41C4-A98E-3B8BBDE4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00A-2F55-445C-94BF-78EBD68C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7899-279E-4316-B96B-68971E3D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3540-BC8A-4BCC-B062-E918669F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91E4-6735-40B1-A033-18D8972E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C961-4859-431F-8BDF-9525ABF4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D946-0EF4-4AA2-B732-1F653351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CD4B-90CE-4A1B-A078-D6C5287F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AA91-22C6-40D4-BA3B-CEDD5301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E51-0978-42F5-8B96-727EF703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EC24-02D6-4ED2-89CC-517FEA14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1942-4943-4883-AAB1-E84A6BCC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6BEC-4B93-42B6-9C20-B973730D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88AB-BEA2-4516-AD87-F057FFE1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0F46-A474-4BF0-9FCE-1C4751C8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D39B-AE64-4453-9BEF-AF2AC4AC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DE11-D711-4FAF-892F-372468BC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395-E828-4CCF-BAC6-0E367C7A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656-1033-4EBE-860D-60A1FF20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E619-6704-4D94-A9DC-30CCD1AF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A1E7-2293-4F59-BA90-C3E35371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6B3-47C0-441F-A7D5-6B3A1C69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D988-F7EF-4180-AADF-F811D75D17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A1C1-20F0-405A-8DD2-3CABC218FCD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306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Агрегатное </a:t>
            </a:r>
            <a:br>
              <a:rPr sz="10000"/>
            </a:b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состояние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7faf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Picture 4" descr="0013-011-Agregatnoe-sostojanie-veschestv-i-perekhody-mezhdu-ni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4" descr="0013-013-Agregatnoe-sostojanie-veschestv-i-perekhody-mezhdu-ni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4" descr="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4" descr="300px-Phase_change_-_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4" descr="02003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4" descr="e2989b4998cb7f13ad97ae1e30e1196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48:00Z</dcterms:created>
  <dc:creator>User</dc:creator>
  <dc:description/>
  <dc:language>en-US</dc:language>
  <cp:lastModifiedBy>Legion</cp:lastModifiedBy>
  <dcterms:modified xsi:type="dcterms:W3CDTF">2017-09-22T10:08:50Z</dcterms:modified>
  <cp:revision>8</cp:revision>
  <dc:subject/>
  <dc:title>Агрегатное  состояние</dc:title>
</cp:coreProperties>
</file>