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4D96A-B0F0-497E-AFBA-56AB180AB53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грокультур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Агрокультуры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8521-4672-469C-91D1-DF1C5A5B2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79F1-8C93-4060-B7C3-10C98EFF0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87F8-9CF3-4962-A262-25FCBE559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311C-B568-462F-B2FF-06F02060E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5D664-0755-4009-AC91-FD87AEE68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23EF5-D3C6-42BF-9C26-6FF50BCCC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0211E-6CD3-4BD4-BBDD-EA3916B06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A232E-EC97-4DC2-911F-12773FB6F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FA9FE-D5B9-4726-9C20-CC597AFA8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00C95-1783-4E87-9783-332A7EC4A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87E56-B2F6-4363-8AC5-4C651FA96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2A30-2D1E-4A47-8313-8B57695C0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42940-670A-416B-9F8F-3B609E416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BE3C3-8442-47A5-896D-78F25647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FB74A-8069-4880-8F5F-7017232F3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8BA1D-EC93-4BE6-9A68-2AA88952B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A25E5-A9BE-45F0-A025-A152278FC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847F-FFA5-4967-A8C5-3053AA226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0E1E-3295-490C-A024-D4AA7BBC8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1F54-87A7-4B52-8990-25A446763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EA40-9A68-4EB5-9AD4-F8DC2F7E7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6B1D-F51E-4915-8A3F-740A3D08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E144-9890-4361-9F5D-0E817BEA9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F611-1D70-4678-BED6-1A04EA14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F9238-991A-47BD-88D4-18840EAA2C9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43436-F9DC-48AF-9E16-0FA79E19CED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91440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b7"/>
                </a:solidFill>
                <a:latin typeface="Arial Black"/>
              </a:rPr>
              <a:t>Агрокультуры</a:t>
            </a:r>
            <a:r>
              <a:rPr b="1" lang="ru-RU" sz="8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Рисунок 6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4" descr="07d65f52286a13a3ec956992a0fb15abff2bc46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4" descr="1152023-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4" descr="1292849814_zerno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4" descr="agrokultur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4" descr="b61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4" descr="c2RlbGFub3VuYXMucnUvdXBsb2Fkcy8xLzMvMTM2MTM1NDYyMjA5NS5qcGVnP19faWQ9MjU4OTA%3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4" descr="e0138b9ecaefa66b462f470d706ef15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4" descr="holzer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4:55:00Z</dcterms:created>
  <dc:creator>User</dc:creator>
  <dc:description/>
  <dc:language>en-US</dc:language>
  <cp:lastModifiedBy>Legion</cp:lastModifiedBy>
  <dcterms:modified xsi:type="dcterms:W3CDTF">2017-09-22T10:10:19Z</dcterms:modified>
  <cp:revision>7</cp:revision>
  <dc:subject/>
  <dc:title>Слайд 1</dc:title>
</cp:coreProperties>
</file>