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BD03-6282-4DCA-9132-B2B1694F06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о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гро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B7D-FFDF-4CD1-8518-04ACA3AF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434-50CE-44B9-912A-1CBC8339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482-4608-4614-B28E-1118C36C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680-27AF-47C4-9A66-DE943DAE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573F-4CD3-4529-882E-D4B41A3D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3630-4DCE-4BDA-BA9E-869CB857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8A9C-231E-4E63-A447-6D0E5414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2D0A-58C8-4784-9D44-DD341A41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23A3-824B-478E-BFF9-DD1A0E90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EE0E-5A44-427C-939B-77706EE2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6446-8CD7-4940-BACF-3BF1C56E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A3E-6243-400F-829A-C48624F4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8913-AFDF-434E-8CAC-A0404B12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833B-2A28-4BC9-9896-C0B8F9E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3797-6D40-4BAC-9AFF-D8D8D60D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A1EA-F9D3-487C-9680-53FE6C4B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50AD-23D2-44B9-A23D-CC44B454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AC5-6F91-47D5-A79B-2BAC1345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6E8-6BBF-4220-AA37-78801D12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B0F-019C-4DF3-8C59-13ACA547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DE8-05EA-45FE-BE52-8CA73FB8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8A3-582B-4D7B-8207-735554C9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49B-E637-4C3A-AD25-7686D742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14A-2FF4-4797-B192-52F1810E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F00C-057E-404A-BA1C-9EB57D82B3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B462-3909-4ECD-AE78-B1AAC36807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b7"/>
                </a:solidFill>
                <a:latin typeface="Arial Black"/>
              </a:rPr>
              <a:t>Агрокультуры</a:t>
            </a: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07d65f52286a13a3ec956992a0fb15abff2bc4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1152023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1292849814_zern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agrokultu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b6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c2RlbGFub3VuYXMucnUvdXBsb2Fkcy8xLzMvMTM2MTM1NDYyMjA5NS5qcGVnP19faWQ9MjU4OTA%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e0138b9ecaefa66b462f470d706ef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holzer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55:00Z</dcterms:created>
  <dc:creator>User</dc:creator>
  <dc:description/>
  <dc:language>en-US</dc:language>
  <cp:lastModifiedBy>Legion</cp:lastModifiedBy>
  <dcterms:modified xsi:type="dcterms:W3CDTF">2017-09-22T10:10:19Z</dcterms:modified>
  <cp:revision>7</cp:revision>
  <dc:subject/>
  <dc:title>Слайд 1</dc:title>
</cp:coreProperties>
</file>