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837C-3AB8-468F-8DBA-B15F678B777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з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Аз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CC3F-BB1D-4858-A31F-0FEA47E3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B425-3C1E-43FA-A415-620A78A2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771-9514-42BB-A279-182EEF0A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7CC8-AFB4-41A4-AD20-3A0DD0AB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B3FA-FCB5-42F0-A8A5-C7D67CF5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CA68-A5E0-4398-B83C-6A229BD0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45A9-321F-422E-92D0-D681BFCF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42A4-64E5-4F4D-80BE-70EEFE82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ECC4-FD73-4309-953D-08F57E33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F0D5-A1C1-4AD8-8B3F-E2616EB9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F72B-0766-42AC-B55F-DB6DE77E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C0FA-4E7C-408D-A6C9-AF7C556E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AE16-DB5C-4764-99C8-A2970C97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08AF-6113-4E3D-8D0E-2B7B2DE4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6AEF-E1DC-44E1-8A53-17CB6040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5C45-FE90-4D14-BDE6-C4B88DEE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9603-5459-48C1-B580-C96D276F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F85D-6112-4F1B-969B-6B9805B6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A525-58F9-4E0D-9061-4B49C7A1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FD7-9B31-4590-BCA9-349A2864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97E-0BD6-4D45-B95C-9F32B5DA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15C-BF23-4401-AD5D-191582C9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6763-FF0A-4407-9E9D-D82DD6CF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024C-4064-4EF1-9B7F-B0D43D76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EBCA-B798-4D13-9AB6-20810D9C00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3D80-EE32-48EB-9C78-9AE6BC00571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eec94"/>
                </a:solidFill>
                <a:latin typeface="Times New Roman"/>
              </a:rPr>
              <a:t>Азия</a:t>
            </a:r>
            <a:r>
              <a:rPr b="1" lang="ru-RU" sz="9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1330750576_asia-ca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2327551_7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a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Asia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Asia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asia-300x2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" descr="asia-1270818574_w687h3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a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5:14:44Z</dcterms:created>
  <dc:creator>User</dc:creator>
  <dc:description/>
  <dc:language>en-US</dc:language>
  <cp:lastModifiedBy>Legion</cp:lastModifiedBy>
  <dcterms:modified xsi:type="dcterms:W3CDTF">2017-09-22T10:11:43Z</dcterms:modified>
  <cp:revision>6</cp:revision>
  <dc:subject/>
  <dc:title>Азия</dc:title>
</cp:coreProperties>
</file>