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CCB5-A84D-45F2-9009-0F21FE9744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Аз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6C3-E79D-444A-B372-822FC963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B23-7646-4623-8EBA-10021634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1C1-8CAA-472E-97FC-854026DB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CBD-63D6-4583-9436-119A9751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F12A-B10D-45E4-BE3F-3444152E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6B06-2CF0-4EC2-B269-C37080B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F37A-5B8C-4FE3-A4C3-3BAA1A9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AA96-A7AA-4ADA-851D-2ACB8623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1A84-340C-456A-B0E9-9E0B4021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18F3-F53E-45D0-91FB-FC8CEE6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76BF-8FA9-406F-AC10-D073C2C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14C-E365-4A86-9063-ED715387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A987-79DD-40F5-AEA2-DE2F2AFF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547E-85A2-4914-979E-6C0F154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65C7-0A8E-4026-BB0C-3FF25AE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499-C0E6-4869-94F0-F004E589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E207-0FC7-45D9-BDDB-F4B9DA45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B98-922C-4B9C-9B12-B8A1BA5F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F57-D911-42D3-A0D7-CF13868E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450-16F5-4CC3-8663-A616FBB4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A33-608B-4503-A672-FE8AE4D0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69B-6346-4D12-BFD0-031020E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FEA-B087-4420-A7A8-6AF8F33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559-63C4-4C5D-8082-CC5A9584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E766-708B-44A0-8984-3FB298B63F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6CF8-CE0F-4951-8D26-90DCEA464C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eec94"/>
                </a:solidFill>
                <a:latin typeface="Times New Roman"/>
              </a:rPr>
              <a:t>Азия</a:t>
            </a: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1330750576_asia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2327551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a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As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Asi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sia-300x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asia-1270818574_w687h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14:44Z</dcterms:created>
  <dc:creator>User</dc:creator>
  <dc:description/>
  <dc:language>en-US</dc:language>
  <cp:lastModifiedBy>Legion</cp:lastModifiedBy>
  <dcterms:modified xsi:type="dcterms:W3CDTF">2017-09-22T10:11:43Z</dcterms:modified>
  <cp:revision>6</cp:revision>
  <dc:subject/>
  <dc:title>Азия</dc:title>
</cp:coreProperties>
</file>