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AC0E-C2D8-4262-A37A-3D01C74A89A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з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Аз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6AF-F44F-46AF-9BB6-5B7998BB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B6C-3E9E-4E3E-8734-2BFAA72C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873-2FDA-43CD-9A04-FF12A7E5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245-D5C7-4E35-B6FB-48AF6019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F766-B5E1-4B9B-A126-A569DCA3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FD75-C118-4DD2-B93F-8DF4ADE5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9121-923B-44A1-816B-EED6B222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F027-6518-42CB-85F1-3D4A6B6E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C7BA-877F-45B4-85A4-DF718AA3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E1EA-5A3A-491B-AA39-AB890477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5ADB-BCF2-484F-9065-4F84AE89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387-843F-4763-AACC-35EB4169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7243-44A0-4DAD-8853-D96616FD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FD70-FE00-44F5-AA36-F84F20E8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D70C-3959-4E9F-995D-406822C4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5FF7-608F-40B3-8166-346640EC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FEE7-2C9B-4294-A04D-93413459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85C2-CD38-4886-9A72-794363BB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2961-EBF0-443D-930A-A838D199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665-8462-4CFA-B75E-4A5FA9C8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FAF-F63E-41EF-998C-7FE93182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58D6-AEDB-48F2-A540-C0E30943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3795-E8F1-4EC8-920E-EF133711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91F-73E1-4F94-B789-5EDD971A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7EE5-5268-4A32-8EC2-A98031C7F0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8294-EEFD-41B3-9BB7-D463882BEBC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eec94"/>
                </a:solidFill>
                <a:latin typeface="Times New Roman"/>
              </a:rPr>
              <a:t>Азия</a:t>
            </a:r>
            <a:r>
              <a:rPr b="1" lang="ru-RU" sz="9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1330750576_asia-ca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2327551_7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a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Asi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Asia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asia-300x2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asia-1270818574_w687h3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a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14:44Z</dcterms:created>
  <dc:creator>User</dc:creator>
  <dc:description/>
  <dc:language>en-US</dc:language>
  <cp:lastModifiedBy>Legion</cp:lastModifiedBy>
  <dcterms:modified xsi:type="dcterms:W3CDTF">2017-09-22T10:11:43Z</dcterms:modified>
  <cp:revision>6</cp:revision>
  <dc:subject/>
  <dc:title>Азия</dc:title>
</cp:coreProperties>
</file>