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ABEB-7088-4098-B45C-DB8E602B9B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з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Аз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D980-F3DE-45B5-A9FC-3E5EE6EA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A1F-90C7-4EE7-9359-4AC4BBFE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5D6-1F07-46BA-8871-3239E47D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EC2-0988-490B-9B96-41C5E680A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F8A2-CECE-4E01-9783-88D1DC5C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02E5-98AA-4576-B98B-00992A1A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3F8A-D7EB-4630-AB19-00F5AC23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9A2A-99C3-41C4-A526-0A6FA576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EFF0-BADE-486E-9224-1EE88B67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9D08-B381-4487-8A2A-2C43E806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FA88-C769-419B-BA98-AC65A6B2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FF68-E90F-4BDE-82D5-0B99A8DC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06AC-BBB4-452D-B5DC-8FE9FBFD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75AB-C10F-4084-B18D-6DEAA1BC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B4BE-7412-4B01-8273-D964120F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C5E0-9E58-4126-B19B-F5B82613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C215-9C8B-451A-9D44-96D4F4B9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C47-77DB-443A-BE64-69262255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286-A3E2-4717-B020-5100CF3C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028-236F-4EBE-A480-D4CF50CE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AB6-746A-40C1-A2D0-A47E122D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1BE-0FC9-497E-8B73-CDC148FC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7AA2-7BCA-44BC-92F8-6054CAE9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C3A-8BCF-4F24-8173-88515F4B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9047-CC66-4B46-96EF-87E117A3A1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8D63-4EF0-428B-9F80-E2A047BF51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feec94"/>
                </a:solidFill>
                <a:latin typeface="Times New Roman"/>
              </a:rPr>
              <a:t>Азия</a:t>
            </a: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1330750576_asia-c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2327551_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as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Asi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Asia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asia-300x2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asia-1270818574_w687h3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a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14:44Z</dcterms:created>
  <dc:creator>User</dc:creator>
  <dc:description/>
  <dc:language>en-US</dc:language>
  <cp:lastModifiedBy>Legion</cp:lastModifiedBy>
  <dcterms:modified xsi:type="dcterms:W3CDTF">2017-09-22T10:11:43Z</dcterms:modified>
  <cp:revision>6</cp:revision>
  <dc:subject/>
  <dc:title>Азия</dc:title>
</cp:coreProperties>
</file>