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16C3-4C9D-48EF-B4DB-D0ED3901DB3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з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Аз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341F-87DD-4D96-B1B4-A619E3A7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7301-5DC8-454B-BB45-0B622F35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42D6-FB0F-44D7-889A-BD2E5FFB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605B-0B92-4966-A61B-6190EC64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8EA7-C189-43E5-9DEA-D6497786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3A29-67AF-4DEF-AC39-918B4557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7F63-EB71-4072-A6AE-545E8C0A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2164-C8D6-4655-AEE2-899B6085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BB13-EFB6-44D5-8148-49AF7997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C94C-9E2E-42D4-9DE5-BF9D766A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E8E2-E797-4A66-B59C-EF0A1915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58EF-6B07-4F54-9FEA-0ACD2EBC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8FDF-AD50-4155-B705-52A0A14C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07F8-29F2-4A37-AFC8-6503A72A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8FE4-7FF6-4161-85FA-1DCE83F4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3CBB-070D-4F53-A4D3-CC86FCDF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B534-6EB4-43C9-B37B-D2A998F4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DD2-751D-4118-AE25-1ACE66F5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2AA9-68C2-417D-9FBD-637DCE6C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A98-A946-4537-B0ED-96643430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9EB4-8C15-4728-A6D0-63AA3BF1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92CD-6C30-41F7-8015-6FC45220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64C9-6599-4F2D-94BB-2A83EC0C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1489-71F1-409E-915D-890C02C9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0060-BB6A-49C4-9BC9-5C84BFD85B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FE34-392A-455F-BCD2-EE0F730AB93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eec94"/>
                </a:solidFill>
                <a:latin typeface="Times New Roman"/>
              </a:rPr>
              <a:t>Азия</a:t>
            </a:r>
            <a:r>
              <a:rPr b="1" lang="ru-RU" sz="9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1330750576_asia-ca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2327551_7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as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Asia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Asia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asia-300x2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4" descr="asia-1270818574_w687h3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as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5:14:44Z</dcterms:created>
  <dc:creator>User</dc:creator>
  <dc:description/>
  <dc:language>en-US</dc:language>
  <cp:lastModifiedBy>Legion</cp:lastModifiedBy>
  <dcterms:modified xsi:type="dcterms:W3CDTF">2017-09-22T10:11:43Z</dcterms:modified>
  <cp:revision>6</cp:revision>
  <dc:subject/>
  <dc:title>Азия</dc:title>
</cp:coreProperties>
</file>