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12A-05B4-42E9-BCDD-87E60F298D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Аз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DE3-9E1F-4E7A-9E91-958F1897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E4F-AE88-4C47-8DB4-864FA71F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68E-9494-4BBF-AB06-5C0F0C5F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574-E805-472E-8328-5022A2E4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A8B2-4BDD-4728-90CC-B4DF288C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4110-BEB9-44AC-B926-05DDB98C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E7B6-A019-4C15-AA7F-72C45442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0757-47FE-4148-A283-C916849A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0A40-999E-4DA7-BEA0-1E88F289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6A74-DCEA-4EEF-AEB6-E674AD73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0C97-6FED-4572-A6C6-688C6DE2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DE7-E31F-45E9-B50E-0D1439D0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7FF6-9CF3-4FAF-AF3E-2BA50229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D85D-C5A4-4D5F-9F2C-6E405309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42F0-E0A9-4C89-9DE7-D73F1DF3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B4BA-341E-44E7-A472-F8CD1E2A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74FB-524C-4BE2-8A50-C3B184DF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EC4-1A85-41A6-9D33-EC1A9729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CC9-4ADB-42DF-A739-A0C2BD1D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0A6-DE83-4317-B39B-912CD203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855-1DDE-48F2-901A-60EC7840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70D-FC3A-4BE3-AEFC-1AA040FF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0E6-3F84-4286-9BB7-E9EE92D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1DE-CDDF-40D5-A1AF-47A53780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118F-19B9-4887-8E73-1CE3886740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950F-C038-4AEC-A909-426C3A7A23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eec94"/>
                </a:solidFill>
                <a:latin typeface="Times New Roman"/>
              </a:rPr>
              <a:t>Азия</a:t>
            </a: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1330750576_asia-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2327551_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a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Asi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Asi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asia-300x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asia-1270818574_w687h3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14:44Z</dcterms:created>
  <dc:creator>User</dc:creator>
  <dc:description/>
  <dc:language>en-US</dc:language>
  <cp:lastModifiedBy>Legion</cp:lastModifiedBy>
  <dcterms:modified xsi:type="dcterms:W3CDTF">2017-09-22T10:11:43Z</dcterms:modified>
  <cp:revision>6</cp:revision>
  <dc:subject/>
  <dc:title>Азия</dc:title>
</cp:coreProperties>
</file>