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AD49-E492-405B-91C0-A091B2F1DE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простое определение психологии как науки таково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наука о душ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д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pshys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переводе с греческого языка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уша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logia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аука, учение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ное определение психологии как науки от самих психологов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нудное, сложное и непонятное определение, верн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3AF2-55FB-4843-BD5F-1B76DF8E85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EBF2-CE94-4DD0-950A-11BD37E03B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войства темперам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33A6-8FED-45E9-BB0F-7126B3B521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Идея и учение о темперамен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Древнегреческий врач Гиппокр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писал основные типы темперамен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нтичный врач Клавдий Гале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лассификация темперамен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емецкий философ И.К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ал описание темпераментов, которые используют и в наш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Российский ученый Н.П. Пав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93A1-DE8B-4915-824D-E1DBBF541C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ла нервных процессов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равновешенность нервных проце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вижность нервных проце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отношение основных свойств нервной системы лежит в основе темпера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FEEF-F785-4006-812A-D0021E1C23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ипы темпер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гви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9736-804E-42B6-8D71-A7A8876BD7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Два основных взгляда на темперамент человека в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аждому человеку присущ свой определенный темпера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D5DE-E247-4A17-9010-8B8089F2AD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Отрасли и виды психологии как науки и как социального явле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коллектива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, социальн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рная психология — поп-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ская психология ребенка и детей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родителей, психология воспитания и психология наказан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терап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ид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ая психология и т.д.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P.S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 глухих - сурд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E993-2C5F-4BF0-A481-5B58AC9525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ческий темперамент (интуитивно-логический подти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неустойчивый тип нерв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стоит на втором месте после холерика по части худобы и потери вес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EB5C-4C1C-432D-AE49-66E3E4717C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98A8-16B0-4556-8D79-E85DC02755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широкие таз и плечи при узкой тал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часто заостр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часто удлиненный, заостренный, выступающий вперед, яр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AF11-2A38-47A2-912A-D671A30E48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ый взгляд он кажется уверенным в себе, но несколько ленивым и безразлич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флегматик невыразителен в чувствах и мим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0EFF-709C-4D12-B035-9D696C2230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A8D9-4712-4DE5-BF18-F462178014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дленные движения, спокойная и уверенная, как бы плывущая похо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расширяющаяся книзу грудная клетка, тупой реберный уго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62F4-3EAC-4921-ADCB-32DDC365DC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слабо сужа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плоский, без выступов, переход в шею очерчен слаб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, шарообразный контур темен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лабо или средне выражен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крупный, прямой, выступающий вперед, кончик опушен книзу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короткая, толстая, прямая ше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62C9-1167-465C-996B-13AAA17F6D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неустойчивый тип нервной системы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50E5-082E-4B70-B758-7891D5A711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Цель психологии как наук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A664-348A-4C4C-BFAD-89E6F6E83E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79A4-C15E-4A1B-A5F4-FCF4060E20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упкость внешнего облика, худоба и худощавость, телосложение сух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ыраженной склонности к ожирению, худо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ая клетка узкая, длинная, плоская или вогнута, остры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плавно сужающийся кверху, конусообразный, без выступов и неров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няя часть головы больше по объ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яя челюсть "слабая" или сильно скошенная, заметно сужается кни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заостр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низу, резкий переходи к ш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стренная теменная обла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D00E-5700-4387-9775-761B60EC32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696B-6BBA-47C8-B5E3-BCA3A61221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4196-D9CB-4970-892B-7AA10623A6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е, "шарообразное" туловище, округлые формы, низкий, редко средний ро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в центре туловища на округлом жив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но выраженная жировая ткань, жир откладывается равномерно во всех частях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корость обмена веществ - вес прибывает, даже если есть относительно ма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грудная клетка, тупо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и скулы не выра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вно не выражен, "утиный", "картошкой" или слегка вздер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круглый или плоский, без выступов, переход в шею очерчен сла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слабо или совсем не выражена, короткая, толст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короткие, гладкие, кругл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9F23-4D8B-479A-8B84-2D9437772E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рмонтов, Наполеон и Петр1 - сангвин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тузов, Крылов - флегма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воров и Пушкин - холер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голь - меланхоли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3424-3DF6-4D29-8E54-30FC74E8C9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НО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 развитие личности у психологов неоднозначные взгля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584F-5112-44C8-9276-65AD60C35A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все разны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D3BB-8C24-4999-A8FC-19E5111BCE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рибуты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воб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Раз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устойчивых компонентов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D0C0-52DF-4603-BFC3-9AA089CD7F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ые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ность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6DDE-4EAB-4193-9706-A74891C932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Индивидуально-психологические особенности лич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биологической подструктуры личности составл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пера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E38F-9D08-40B2-8AC2-DE68096001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49C-B597-4F9F-85B6-C51090F0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104-F443-4509-8C14-A4D8BEE0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D93-07EC-44C9-A0BA-28633167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CF3-BA17-4909-880F-AD6F8D4A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20A-FF4A-4469-A0A6-AE464BCF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570-CFA9-4BEE-9A4B-D8EBD753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96A-98E6-42D6-8FBF-47675DAB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5D7-D519-46C3-8169-44130615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C86-64C6-4927-988F-7D919754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A54-9E6E-40CB-AF83-84898B1D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872-651C-477A-A09E-EEEDCBDE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4320-3F0B-4850-A8CE-45A87F4E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7538-FD9C-4FFB-AEF1-B83A6E32B4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сихология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Что это так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амое простое определение психологии как науки таково: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о наука о душе челове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Ведь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pshyso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» в переводе с греческого языка означае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душа»,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logia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наука, учение»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ндартное определение психологии как науки от самих психологов: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остаточно нудное, сложное и непонятное определение, верно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Психологическая эмблема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Arial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войства темперамен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дея и учение о темперамен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Древнегреческий врач Гиппокр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писал основные типы темпераме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нтичный врач Клавдий Гале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лассификация темпера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мецкий философ И.Ка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ал описание темпераментов, которые используют и в наше врем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Российский ученый Н.П. Пав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а нервных процессов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равновешенность нервны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вижность нервных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отношение основных свойств нервной системы лежит в основе темпер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ипы темпер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7"/>
          <p:cNvPicPr/>
          <p:nvPr/>
        </p:nvPicPr>
        <p:blipFill>
          <a:blip r:embed="rId1"/>
          <a:stretch/>
        </p:blipFill>
        <p:spPr>
          <a:xfrm>
            <a:off x="4113360" y="1143000"/>
            <a:ext cx="4114800" cy="54100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04920" y="425520"/>
            <a:ext cx="8534160" cy="6006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t_02"/>
          <p:cNvPicPr/>
          <p:nvPr/>
        </p:nvPicPr>
        <p:blipFill>
          <a:blip r:embed="rId1"/>
          <a:stretch/>
        </p:blipFill>
        <p:spPr>
          <a:xfrm>
            <a:off x="1295280" y="208080"/>
            <a:ext cx="6553440" cy="6441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91" descr="Lavater1"/>
          <p:cNvPicPr/>
          <p:nvPr/>
        </p:nvPicPr>
        <p:blipFill>
          <a:blip r:embed="rId1"/>
          <a:stretch/>
        </p:blipFill>
        <p:spPr>
          <a:xfrm>
            <a:off x="2016000" y="380880"/>
            <a:ext cx="5175360" cy="6172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ва основных взгляда на темперамент человека в псих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Каждому человеку присущ свой определенный темпера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elanhole"/>
          <p:cNvPicPr/>
          <p:nvPr/>
        </p:nvPicPr>
        <p:blipFill>
          <a:blip r:embed="rId1"/>
          <a:stretch/>
        </p:blipFill>
        <p:spPr>
          <a:xfrm>
            <a:off x="1447920" y="2690640"/>
            <a:ext cx="5638680" cy="416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Lpodtip"/>
          <p:cNvPicPr/>
          <p:nvPr/>
        </p:nvPicPr>
        <p:blipFill>
          <a:blip r:embed="rId2"/>
          <a:stretch/>
        </p:blipFill>
        <p:spPr>
          <a:xfrm>
            <a:off x="1219320" y="228600"/>
            <a:ext cx="6553080" cy="2228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трасли и виды психологии как науки и как социального явл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личности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коллектива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ая, социальн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улярная психология — поп-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ская психология ребенка и детей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родителей, психология воспитания и психология наказан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терап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рид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дагогическая психология и т.д. и т.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.S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сихология глухих - сурдопсих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ческий темперамент (интуитивно-логический подти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ый неустойчивый тип нерв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стоит на втором месте после холерика по части худобы и потери вес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широкие таз и плечи при узкой тал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часто заостр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часто удлиненный, заостренный, выступающий вперед, ярко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Lpodtip"/>
          <p:cNvPicPr/>
          <p:nvPr/>
        </p:nvPicPr>
        <p:blipFill>
          <a:blip r:embed="rId1"/>
          <a:stretch/>
        </p:blipFill>
        <p:spPr>
          <a:xfrm>
            <a:off x="1066680" y="304920"/>
            <a:ext cx="7313760" cy="223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egma"/>
          <p:cNvPicPr/>
          <p:nvPr/>
        </p:nvPicPr>
        <p:blipFill>
          <a:blip r:embed="rId2"/>
          <a:stretch/>
        </p:blipFill>
        <p:spPr>
          <a:xfrm>
            <a:off x="1828800" y="2654280"/>
            <a:ext cx="6095880" cy="420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 устойчивый тип нервной систем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ый взгляд он кажется уверенным в себе, но несколько ленивым и безразлич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 флегматик невыразителен в чувствах и мим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дленные движения, спокойная и уверенная, как бы плывущая похо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откая, широкая, выпуклая расширяющаяся книзу грудная клетка, тупой реберный уго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слабо сужающий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плоский, без выступов, переход в шею очерчен слабо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й, шарообразный контур темен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ы слабо или средне выраже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крупный, прямой, выступающий вперед, кончик опушен книз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короткая, толстая, прямая ше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Epodtip"/>
          <p:cNvPicPr/>
          <p:nvPr/>
        </p:nvPicPr>
        <p:blipFill>
          <a:blip r:embed="rId1"/>
          <a:stretch/>
        </p:blipFill>
        <p:spPr>
          <a:xfrm>
            <a:off x="914400" y="297000"/>
            <a:ext cx="7315200" cy="214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oleriki"/>
          <p:cNvPicPr/>
          <p:nvPr/>
        </p:nvPicPr>
        <p:blipFill>
          <a:blip r:embed="rId2"/>
          <a:stretch/>
        </p:blipFill>
        <p:spPr>
          <a:xfrm>
            <a:off x="1752480" y="2514600"/>
            <a:ext cx="61596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 неустойчивый тип нервной системы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ь психологии как науки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упкость внешнего облика, худоба и худощавость, телосложение сух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выраженной склонности к ожирению, худо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дная клетка узкая, длинная, плоская или вогнута, острый реберный уг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б плавно сужающийся кверху, конусообразный, без выступов и неров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хняя часть головы больше по объ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няя челюсть "слабая" или сильно скошенная, заметно сужается кни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заостре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низу, резкий переходи к ш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остренная теменная обла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SEpodtip"/>
          <p:cNvPicPr/>
          <p:nvPr/>
        </p:nvPicPr>
        <p:blipFill>
          <a:blip r:embed="rId1"/>
          <a:stretch/>
        </p:blipFill>
        <p:spPr>
          <a:xfrm>
            <a:off x="1295280" y="457200"/>
            <a:ext cx="6096240" cy="174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angvin"/>
          <p:cNvPicPr/>
          <p:nvPr/>
        </p:nvPicPr>
        <p:blipFill>
          <a:blip r:embed="rId2"/>
          <a:stretch/>
        </p:blipFill>
        <p:spPr>
          <a:xfrm>
            <a:off x="2057400" y="2336760"/>
            <a:ext cx="4775040" cy="4521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й устойчивый тип нервной систем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ое, "шарообразное" туловище, округлые формы, низкий, редко средний ро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ент в центре туловища на округлом жив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но выраженная жировая ткань, жир откладывается равномерно во всех частях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скорость обмена веществ - вес прибывает, даже если есть относительно ма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ая, широкая, выпуклая грудная клетка, тупой реберный уг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одок и скулы не выраж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явно не выражен, "утиный", "картошкой" или слегка вздер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круглый или плоский, без выступов, переход в шею очерчен сла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я слабо или совсем не выражена, короткая, толс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ги короткие, гладкие, круг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лю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рмонтов, Наполеон и Петр1 - сангвин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утузов, Крылов - флег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воров и Пушкин - холер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голь - меланхоли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а развитие личности у психологов неоднозначные взгля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и все разны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oldgirl"/>
          <p:cNvPicPr/>
          <p:nvPr/>
        </p:nvPicPr>
        <p:blipFill>
          <a:blip r:embed="rId1"/>
          <a:stretch/>
        </p:blipFill>
        <p:spPr>
          <a:xfrm>
            <a:off x="5013360" y="1600200"/>
            <a:ext cx="362088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рибуты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Раз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устойчивых компонентов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Темпер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457200" y="609480"/>
            <a:ext cx="8686800" cy="5713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дивидуально-психологические особенности лич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мпер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у биологической подструктуры личности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8:34:3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