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245C-22A2-4E08-B1FD-DEC27BE5B3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сихология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простое определение психологии как науки таково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наука о душе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ед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pshys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в переводе с греческого языка означ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душа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logia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аука, учение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ное определение психологии как науки от самих психологов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— это такая наука о закономерностях развития и функционирования психической деятельности челове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статочно нудное, сложное и непонятное определение, верн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3CBC-5A40-41EE-A5DB-487D6A2510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Темперамент служит как бы маркером всей психической деятельности человека. Он является биологическим фундаментом личности, так как основан на свойствах нервной системы человека, которые следует оценивать как внутренние резервы его деятельности и адаптации. Темперамент представляет собой прирожденное свойство человека, генетически предопределенный феномен, сохраняющийся многие годы, часто всю жизнь. Он является предпосылкой и основой личностных образований более высокого порядка (например, характе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1969-6CAE-4CC3-87F1-838375C628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Свойства темперамен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тип и ритм психических процессов, степень устойчивости чувств, напряженность волевых усилий проявляются в мышлении, эмоциональной сфере, поведении, манере держ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A378-7D4B-48E5-9E63-31E6CACFAA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Идея и учение о темперамен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Древнегреческий врач Гиппокра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писал основные типы темперамен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нтичный врач Клавдий Гале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лассификация темперамен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емецкий философ И.К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ал описание темпераментов, которые используют и в наше вр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Российский ученый Н.П. Пав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A4E6-3F5B-4C35-BEF4-9F56111335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И. П. Павлов описал 3 основные свойства нервных процессов, которые определяют тип нервной систе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ла нервных процессов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нервной системы человека выдерживать большие нагрузки и раздражители. Это природная индивидуальная особенность, показывающая работоспособность и выносливость. Силу нервных процессов переделать нельзя, но можно регулиро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равновешенность нервных процес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процессы возбуждения и торможения могут быть либо уравновешены, т.е. одинаковой силы, либо какой-то из них преоблад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вижность нервных процесс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пособность быстро реагировать на изменения в окружающей среде. Данное свойство является показателем быстроты смены возбуждения и торм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отношение основных свойств нервной системы лежит в основе темпера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4C9C-8557-40A4-89C1-7F846A3433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ипы темпера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гви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26B2-9B0D-46BF-A35C-A22BBEEB20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Два основных взгляда на темперамент человека в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лассической психологии считается, что каждый человек обладает смешанным темпераментом, т.е. демонстрирует признаки всех темпераментов в различных пропор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аждому человеку присущ свой определенный темпера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CDBA-317F-4F8C-B4DF-B0CF8BE55A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Отрасли и виды психологии как науки и как социального явле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личности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коллектива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, социальн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улярная психология — поп-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ская психология ребенка и детей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родителей, психология воспитания и психология наказан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терап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ридическ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ая психология и т.д.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P.S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сихология глухих - сурдо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CFCF-D70D-4C4C-A599-08EBF4BD1A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ческий темперамент (интуитивно-логический подти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ый неустойчивый тип нерв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к обычно имеет неустойчивые эмоции, склонен к необоснованным страхам и беспокойствам, отличается непостоянством, легкой возбудимостью, высокой утомляемостью и нереши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а его замедленные и неуравновешенные, они внешне невыразительны, обычно при сопровождаются не слишком активной мимикой. При этом нервная система меланхолика отличается высокой чувствительностью ко всем раздражител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чрезвычайно восприимчив и податлив по отношению к любым внешним воздействиям. Испортить или наоборот улучшить настроение меланхолика с помощью нескольких минут эмоционально заряженного общения пожалуй легче, чем представителю любого другого темпера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 меланхолика можно легко отличить по подвижности. Меняется ситуация, окружение, поведение собеседника - меланхолик меняется вместе с ними. Его тянет туда, где присутствует движение. В целом меланхолическая конституция сухая, тонкая, изменчи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к стоит на втором месте после холерика по части худобы и потери вес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5C3C-EB07-4B66-ACE8-67D4B29944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ые способности меланхолика обычно столь же хорошие, сколь и неустойчивые. Он с одинаковой легкостью и быстротой схватывает материал и забывает его. Меланхоликам рекомендуется, в первую очередь, интеллектуальная сфера деятельности, где они чувствуют себя наиболее уверенно. Это программирование, Интернет, аналитика, конструирование, планирование, работа с большими объёмами &lt;виртуальной информации&gt;. Меланхоликам следует избегать большой эмоциональной нагрузки и не перегружать себя контактами с людь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A573-E764-45C5-B5EB-072F2384E4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корость обмена веществ, обычно просто так меланхолики не полнеют, однако обмен веществ несбалансированный, отчего часто бывает сильная устал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нченные черты лица, хрупкость внешнего облика, худоба и худощавость, отсутствие выраженной склонности к ожир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ые части тела, заметное удлинение конечностей по отношению к общим пропорциям, акцент всей фигуры на конечност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ющие кости, плоская, утонченная, слабая мускулатура, длинные тонкие мускулы и 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ская спина, узкая, длинная, плоская или вогнутая грудная клетка, острый реберный уго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широкие таз и плечи при узкой тал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угловатый квадратный лоб, череп значительно сужается книзу, верхняя часть головы по объему больше ниж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имеет выступы, сильно скашивается к шее, имеет резкий переход к шее, заостренная теменная обла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заострен, выступает вперед или слабо скошен, нижняя челюсть "слабая", заметно сужается книз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редне или сильно выражены, выступают, часто заостр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часто удлиненный, заостренный, выступающий вперед, ярко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длинная, средней толщины или тонкая, часто изогнута, на вид присутствует отделенность от головы и тела, кадык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и руки длинные, тонкие, суставы острые и угловатые, ступни и кисти узкие, вытянут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6FD4-2F9E-4D96-9B51-FE6E945D56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ый устойчивый тип нервной систем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чный флегматик обычно ровен, спокоен, у него слабые эмоции и устойчивое настро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ый взгляд он кажется уверенным в себе, но несколько ленивым и безразлич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 этого темперамента отличают медлительность, неторопливость, уравновешенность, инер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нии с флегматиком легче всего почувствовать позитивные эмоции и умиротвор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 флегматик невыразителен в чувствах и мим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покойном состоянии его движения вялые, медленные, несколько неуклюжие, но сильные и уверенные. Думает он также медленно, долго колеблется, принимая решение, выводы, к которым приходит, трудно поколебать, а решения, которые он принимает, трудно изменить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64BC-F3C3-4760-AFEF-C5A27398B0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егматика наверно можно назвать рекордсменом по работоспособности и производительности, что делает его незаменимым во всех областях, связанных с производством. При всей внешней ленивости и медлительности флегматик достигает лучших результатов по объему и качеству работы по сравнению с людьми любых других темпераментов в сходных условиях. Однако для успеха ему требуются стабильные условия работы, если же ситуация постоянно меняется, работоспособность флегматика падает. Эти свойства делают флегматика незаменимым в сферах производства, администрирования и везде, где востребовано умение поддерживать текущие процессы в стабильном состояни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46D9-5000-4812-BBD7-3B0B2F9D74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легмат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дленные движения, спокойная и уверенная, как бы плывущая поход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дратно-прямоугольное, "бочкообразное" туловище. Массивная, плотная, крепко сбитая фигура, угловатые ф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ое развитие внутренних полостей тела (головы, груди, живота), структуры плечевого пояса и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фигуры в центре туловища, на "грудной клетке и на округлом животе. Кости и мышцы короткие, широкие, крепкик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скулатура массивная, крепкая, сильная. Короткие, круглые или средней длины и толщины ноги и ру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ся склонность к ожирению. Явно или средне выраженная жировая ткань, в первую очередь проявляется в ожирении торса, живот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ренная ли низкая скорость обмена веществ - вес прибывает в случае избыточного питан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ая, широкая, выпуклая расширяющаяся книзу грудная клетка, тупой реберный уго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9ACE-AFA9-4E17-A58B-08A9977243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ая "бочкообразная" голова. Верхняя и нижняя часть черепа равны по объему, или нижняя больше. Широкий, угловатый, квадратный череп, имеет сглаженные выступ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слабо сужающий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плоский, без выступов, переход в шею очерчен слаб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ый, шарообразный контур темен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лабо или средне выражен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крупный, прямой, выступающий вперед, кончик опушен книзу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короткая, толстая, прямая ше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енность от головы и туловища не выражена, ноги и руки длинные, суставы округлые, ступни и кисти широкие корот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CAB7-0323-432F-BF4B-C2323F35A9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неустойчивый тип нервной системы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ерический темперамент связан с неуравновешенным типом нервной системы, возбуждение у таких людей обычно преобладает над тормож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и холерика яркие, сильные, но неустойчивые, у него активная, демонстративная выразительная мимика, торопливая речь, резкие жес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роение у него часто резко меняется. Причем внешних причин эти изменения часто не имеют, настроения возникают &lt;вдруг&gt;, ниоткуда, сам холерик обычно с трудом может объяснить, отчего это он вдруг разошелся или наоборот, с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ой манерой преувеличенно на все реагировать холерик заслужил себе славу самого злобного и склочного темперамента. Однако это не так. Просто холерический темперамент естественным образом усиливает любые проявления активности человека - и хорошие, и плохие. Поэтому то, что в подаче человека другого темперамента воспринимается нормально, в подаче холерика выглядит преувеличенно ярко, гротеск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и холерика яркие, сильные, но неустойчивые, у него активная, демонстративная, чрезвычайно выразительная мимика, торопливая речь, резкие жесты, которые часто называют нервными. Движения быстрые, резкие, энергичные, си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A534-6541-4779-ACE3-6D80DDD11D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Цель психологии как наук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9916-B88B-4214-A075-2D39FF0CB4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холериков при принятии решений на первом месте стоит человеческий фактор, эмоции и отношения. Это делает их очень полезными в сферах, связанным с личным общением, знакомствами и услугами. С другой стороны переменчивость делает холерика трудно управляемым как работника и непредсказуемым. Работоспособность холерика высокая, но неустойчивая. Ко всему новому холерик привыкает легко и быстро, но устойчивые навыки формируются у него долго и с большим трудом. Сильные стороны руководителя этого темперамента - умение быстро выдать свежую идею в неожиданно изменившейся ситуации, зажечь и повести за собой окружающих, не важно, подчиненный это, клиент или вышестоящий руководитель. Недостатком холерика - руководителя является его отстранённость от технических аспектов производства и ориентация в первую очередь на люд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0D27-5EC0-4355-922A-F992CDFECC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упкость внешнего облика, худоба и худощавость, телосложение сух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ые части тела. Сильное развитие конечностей, акцент фигуры на конечностях. Длинные тонкие мускулы и 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выраженной склонности к ожирению, худо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корость обмена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дная клетка узкая, длинная, плоская или вогнута, острый реберный уго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гка конусообразный череп, овальной или яйцеобразной слегка сужающийся кверху ф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плавно сужающийся кверху, конусообразный, без выступов и неров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няя часть головы больше по объ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заостр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няя челюсть "слабая" или сильно скошенная, заметно сужается книз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редне или сильно выражены, выступают, заостр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ярко выраженной формы - с горбинкой "птичий", сильно выступающий, заостренный, удлиненный, вытянутый вперед, кончик явно опущен вниз по отношению к основ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имеет выступы, сильно скашивается книзу, резкий переходи к ш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остренная теменная обла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длинная, средней толщины или тонкая, часто изогнута, на вид присутствует отделенность от головы и тела, кадык выраж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длинные, тонкие, колени худые, угловатые, острые, ступни узкие, вытянутые, узловатые, суставы резко выступ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5AFE-ABA1-4815-ADDF-AA905E8687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устойчивый тип нервной систем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гвиник больше всего известен как активный жизнерадостный и добродушный человек. Это в полной мере отражает действите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воем сангвиник обладает сильными, уравновешенными, но при этом такими же подвижными эмоциями, как и холерик. Можно сказать, что сангвиник беспокоен внешне, но спокоен внутри. Даже после вспышки раздражительности, которая случается у сангвиника крайне редко, он очень быстро успока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изм, жизнерадостность и добродушие, которые излучает сангвиник в любой ситуации, составляют главные отличительные черты представителей этого темперамента. У сангвиника как правило преобладает хорошее настроение, которое редко меняется. Его реакции всегда явно выражены, легко и быстро сменя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ангвиника такая же активная мимика как и у холерика. Этот темперамент обеспечивает уверенный контроль над эмоциями, быструю, отчетливую речь, сопровождаемую выразительными мимикой и жес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я сангвиника сильные, энергичные, уверенные, пластичные. Сангвиническая конституция дает широкое лицо и круглое тело, выраженную склонность к полноте и двигательную актив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рмальном состоянии конституция сангвиника проявляется как упругость и подвижность,. Даже походка этого человека отражает эти свойства - она быстрая, но плавная и упруга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7720-5298-42F1-8408-B1AA09E38E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гвиник быстро переключается с одного вида деятельности на другой. Легко управляет своей работоспособностью, которая обычно очень высокая не зависимо от внешних и внутренних причин. Привычки у него образуются быстро и легко, а сформированные навыки закрепляются и долго сохраняются. В работе, как и в личных отношениях, сангвиник склонен, прежде всего, ориентироваться на &lt;человеческий фактор&gt;. Наилучшими сферами для самореализации сангвиника являются воспитательско - преподавательская работа, где упор делается не на техническую сферу, ) косметология, общественное питание, рекрутинг, знакомства и т.д. Сангвиник является, пожалуй, самым приятным и душевным руководителем с точки зрения подчиненных. Однако технические моменты в работе часто вызывают у сангвиников затруднение. Его сильная черта - уговоры и расположение к себе - не всегда срабатывает в условиях, например, планового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8B6B-9402-4EE9-B288-E3F599911B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ое, "шарообразное" туловище, округлые формы, низкий, редко средний ро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ое развитие внутренних полостей тела (головы, груди, живота) при слабо развитой структуре плечевого пояса и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в центре туловища на округлом живо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е, широкие кости и мышцы - вид круглых "нашлепок" на плечах, как латы. Выпуклый рельеф мышц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но выраженная жировая ткань, жир откладывается равномерно во всех частях 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скорость обмена веществ - вес прибывает, даже если есть относительно ма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ая, широкая, выпуклая грудная клетка, тупой реберный уго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ая шарообразная голова., верхняя и нижняя часть черепа равны по объему, круглый, шарообразный контур т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круглый, без выступов и неровностей, плавно закругленный, почти незаметный переход к волосяной ч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и скулы не выраж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явно не выражен, "утиный", "картошкой" или слегка вздер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круглый или плоский, без выступов, переход в шею очерчен слаб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слабо или совсем не выражена, короткая, толст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короткие, гладкие, кругл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2E95-45FE-4144-BE67-A9E6881857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рмонтов, Наполеон и Петр1 - сангвин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тузов, Крылов - флегма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воров и Пушкин - холер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голь - меланхолик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1FD2-7A79-4FD6-9A1B-F540BECE3E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НО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 развитие личности у психологов неоднозначные взгляд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69E0-3107-4BEB-89FA-032DCF8DC0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все разные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это не робот! Практически каждый человек – это личность. Личность настолько многогранна в своих индивидуально-психологических проявлениях, что соотношение её разнообразных качеств может сказываться и на проявлениях мировоззрения, и на повед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D9FE-2A3D-4C2B-B7BC-056CB4EF7E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Личность — результат процесса воспитания и самовоспитания. «Личностью не рождаются, а становятся» А. Н. Леонтье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рибуты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воб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Раз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устойчивых компонентов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Темпер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тив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8683-35A7-4557-B843-8C6C8C94B6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Основу социальной подструктуры личности составляет единство и взаимосвязь социального опыта и направленности лич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ые нор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ют собой правила или модели поведения, санкционированные социальными группами и ожидаемые в реальном поведении от состоящих в эт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социального опыта вырабатываются умения, навыки, знания и привычки человека. Если характер человека содержит ответ на вопрос: "Что он будет делать в той или иной ситуации", то социальный опыт даст ответ "Как он поступит в определенной ситуаци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ность л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тоже категория больше социальная, чем генетически определенная. Направленность определяет доминирующую продолжительное время ту или иную ценность, которая ложится в основу мотивации поведения человека. Ради этой ценности (основного мотива) человек готов отказаться от многих привлекательных и желаемых альтернати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DC21-8DC1-4A08-A84E-A794277241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Индивидуально-психологические особенности личност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емпер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биологической подструктуры личности составля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пера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закономерное соотношение устойчивых индивидуальных особенностей личности, характеризующих различные стороны динамики псих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765A-E91E-4A8A-8F5A-7BE9B6BEF4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B90-B2B6-45C1-9416-DF41C0E7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B343-FFB9-4CCD-9FC8-18758F5E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9DC-13E4-4EEE-BFD3-45179907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7917-237E-4E13-9C0E-D34D6465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4B1-659F-45D8-9D6D-5B6F3BA8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202-58A5-4844-95DF-11713268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7ED3-262B-482A-A917-34477FAE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A017-7FC7-418F-B050-875FCBCA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024-65F1-4387-91AC-4AA082AB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A9F-E9EF-4529-9393-26A7B86A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016-C0FA-4E2F-91DC-BA7C0517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692D-F3A9-4C36-9363-1863DAC4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966C-C911-4A28-B1A4-005F8BEFFE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сихология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Что это так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амое простое определение психологии как науки таково: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сихолог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это наука о душе человек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Ведь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pshyso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» в переводе с греческого языка означает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душа»,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logia»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наука, учение»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андартное определение психологии как науки от самих психологов: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Психология — это такая наука о закономерностях развития и функционирования психической деятельности человека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остаточно нудное, сложное и непонятное определение, верно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Психологическая эмблема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cc"/>
                </a:solidFill>
                <a:latin typeface="Arial"/>
              </a:rPr>
              <a:t>Темперамент служит как бы маркером всей психической деятельности человека. Он является биологическим фундаментом личности, так как основан на свойствах нервной системы человека, которые следует оценивать как внутренние резервы его деятельности и адаптации. Темперамент представляет собой прирожденное свойство человека, генетически предопределенный феномен, сохраняющийся многие годы, часто всю жизнь. Он является предпосылкой и основой личностных образований более высокого порядка (например, характе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войства темперамен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й тип и ритм психических процессов, степень устойчивости чувств, напряженность волевых усилий проявляются в мышлении, эмоциональной сфере, поведении, манере держа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Идея и учение о темперамен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Древнегреческий врач Гиппокр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писал основные типы темперамен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Античный врач Клавдий Гален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лассификация темперамен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емецкий философ И.Ка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дал описание темпераментов, которые используют и в наше врем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Российский ученый Н.П. Пав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И. П. Павлов описал 3 основные свойства нервных процессов, которые определяют тип нервной систем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ла нервных процессов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нервной системы человека выдерживать большие нагрузки и раздражители. Это природная индивидуальная особенность, показывающая работоспособность и выносливость. Силу нервных процессов переделать нельзя, но можно регулир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равновешенность нервны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цессы возбуждения и торможения могут быть либо уравновешены, т.е. одинаковой силы, либо какой-то из них преоблад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вижность нервных процесс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пособность быстро реагировать на изменения в окружающей среде. Данное свойство является показателем быстроты смены возбуждения и торм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отношение основных свойств нервной системы лежит в основе темпер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Типы темпера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ле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ланхо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нгви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27"/>
          <p:cNvPicPr/>
          <p:nvPr/>
        </p:nvPicPr>
        <p:blipFill>
          <a:blip r:embed="rId1"/>
          <a:stretch/>
        </p:blipFill>
        <p:spPr>
          <a:xfrm>
            <a:off x="4113360" y="1143000"/>
            <a:ext cx="4114800" cy="54100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04920" y="425520"/>
            <a:ext cx="8534160" cy="6006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t_02"/>
          <p:cNvPicPr/>
          <p:nvPr/>
        </p:nvPicPr>
        <p:blipFill>
          <a:blip r:embed="rId1"/>
          <a:stretch/>
        </p:blipFill>
        <p:spPr>
          <a:xfrm>
            <a:off x="1295280" y="208080"/>
            <a:ext cx="6553440" cy="6441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91" descr="Lavater1"/>
          <p:cNvPicPr/>
          <p:nvPr/>
        </p:nvPicPr>
        <p:blipFill>
          <a:blip r:embed="rId1"/>
          <a:stretch/>
        </p:blipFill>
        <p:spPr>
          <a:xfrm>
            <a:off x="2016000" y="380880"/>
            <a:ext cx="5175360" cy="6172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ва основных взгляда на темперамент человека в псих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В классической психологии считается, что каждый человек обладает смешанным темпераментом, т.е. демонстрирует признаки всех темпераментов в различных пропорц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Каждому человеку присущ свой определенный темпера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melanhole"/>
          <p:cNvPicPr/>
          <p:nvPr/>
        </p:nvPicPr>
        <p:blipFill>
          <a:blip r:embed="rId1"/>
          <a:stretch/>
        </p:blipFill>
        <p:spPr>
          <a:xfrm>
            <a:off x="1447920" y="2690640"/>
            <a:ext cx="5638680" cy="416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Lpodtip"/>
          <p:cNvPicPr/>
          <p:nvPr/>
        </p:nvPicPr>
        <p:blipFill>
          <a:blip r:embed="rId2"/>
          <a:stretch/>
        </p:blipFill>
        <p:spPr>
          <a:xfrm>
            <a:off x="1219320" y="228600"/>
            <a:ext cx="6553080" cy="22287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трасли и виды психологии как науки и как социального явлени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личности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коллектива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ая, социальн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пулярная психология — поп-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ская психология ребенка и детей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родителей, психология воспитания и психология наказан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терап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рид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дагогическая психология и т.д. и т.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.S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сихология глухих - сурдопсих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ческий темперамент (интуитивно-логический подтип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ый неустойчивый тип нервной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обычно имеет неустойчивые эмоции, склонен к необоснованным страхам и беспокойствам, отличается непостоянством, легкой возбудимостью, высокой утомляемостью и нерешитель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а его замедленные и неуравновешенные, они внешне невыразительны, обычно при сопровождаются не слишком активной мимикой. При этом нервная система меланхолика отличается высокой чувствительностью ко всем раздражител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чрезвычайно восприимчив и податлив по отношению к любым внешним воздействиям. Испортить или наоборот улучшить настроение меланхолика с помощью нескольких минут эмоционально заряженного общения пожалуй легче, чем представителю любого другого темперамен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е меланхолика можно легко отличить по подвижности. Меняется ситуация, окружение, поведение собеседника - меланхолик меняется вместе с ними. Его тянет туда, где присутствует движение. В целом меланхолическая конституция сухая, тонкая, изменчив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стоит на втором месте после холерика по части худобы и потери вес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ственные способности меланхолика обычно столь же хорошие, сколь и неустойчивые. Он с одинаковой легкостью и быстротой схватывает материал и забывает его. Меланхоликам рекомендуется, в первую очередь, интеллектуальная сфера деятельности, где они чувствуют себя наиболее уверенно. Это программирование, Интернет, аналитика, конструирование, планирование, работа с большими объёмами &lt;виртуальной информации&gt;. Меланхоликам следует избегать большой эмоциональной нагрузки и не перегружать себя контактами с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, обычно просто так меланхолики не полнеют, однако обмен веществ несбалансированный, отчего часто бывает сильная устал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онченные черты лица, хрупкость внешнего облика, худоба и худощавость, отсутствие выраженной склонности к ожир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, заметное удлинение конечностей по отношению к общим пропорциям, акцент всей фигуры на конечност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тупающие кости, плоская, утонченная, слабая мускулатура, длинные тонкие мускулы и к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ская спина, узкая, длинная, плоская или вогнутая грудная клетка, острый реберный уго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широкие таз и плечи при узкой тал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ий угловатый квадратный лоб, череп значительно сужается книзу, верхняя часть головы по объему больше нижн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 шее, имеет резкий переход к шее, заостренная теменная обла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, выступает вперед или слабо скошен, нижняя челюсть "слабая", заметно сужается книз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часто заостре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часто удлиненный, заостренный, выступающий вперед, ярко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и руки длинные, тонкие, суставы острые и угловатые, ступни и кисти узкие, вытянут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Lpodtip"/>
          <p:cNvPicPr/>
          <p:nvPr/>
        </p:nvPicPr>
        <p:blipFill>
          <a:blip r:embed="rId1"/>
          <a:stretch/>
        </p:blipFill>
        <p:spPr>
          <a:xfrm>
            <a:off x="1066680" y="304920"/>
            <a:ext cx="7313760" cy="2230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egma"/>
          <p:cNvPicPr/>
          <p:nvPr/>
        </p:nvPicPr>
        <p:blipFill>
          <a:blip r:embed="rId2"/>
          <a:stretch/>
        </p:blipFill>
        <p:spPr>
          <a:xfrm>
            <a:off x="1828800" y="2654280"/>
            <a:ext cx="6095880" cy="4203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й устойчивый тип нервной системы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ичный флегматик обычно ровен, спокоен, у него слабые эмоции и устойчивое настро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ервый взгляд он кажется уверенным в себе, но несколько ленивым и безразлич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ей этого темперамента отличают медлительность, неторопливость, уравновешенность, инерт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щении с флегматиком легче всего почувствовать позитивные эмоции и умиротвор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 флегматик невыразителен в чувствах и мим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покойном состоянии его движения вялые, медленные, несколько неуклюжие, но сильные и уверенные. Думает он также медленно, долго колеблется, принимая решение, выводы, к которым приходит, трудно поколебать, а решения, которые он принимает, трудно измен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гматика наверно можно назвать рекордсменом по работоспособности и производительности, что делает его незаменимым во всех областях, связанных с производством. При всей внешней ленивости и медлительности флегматик достигает лучших результатов по объему и качеству работы по сравнению с людьми любых других темпераментов в сходных условиях. Однако для успеха ему требуются стабильные условия работы, если же ситуация постоянно меняется, работоспособность флегматика падает. Эти свойства делают флегматика незаменимым в сферах производства, администрирования и везде, где востребовано умение поддерживать текущие процессы в стабильном состоян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дленные движения, спокойная и уверенная, как бы плывущая поход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вадратно-прямоугольное, "бочкообразное" туловище. Массивная, плотная, крепко сбитая фигура, угловатые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ое развитие внутренних полостей тела (головы, груди, живота), структуры плечевого пояса и конеч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цент фигуры в центре туловища, на "грудной клетке и на округлом животе. Кости и мышцы короткие, широкие, крепкик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скулатура массивная, крепкая, сильная. Короткие, круглые или средней длины и толщины ноги и рук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ется склонность к ожирению. Явно или средне выраженная жировая ткань, в первую очередь проявляется в ожирении торса, живот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ренная ли низкая скорость обмена веществ - вес прибывает в случае избыточного питани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откая, широкая, выпуклая расширяющаяся книзу грудная клетка, тупой реберный угол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янутая "бочкообразная" голова. Верхняя и нижняя часть черепа равны по объему, или нижняя больше. Широкий, угловатый, квадратный череп, имеет сглаженные выступ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слабо сужающий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плоский, без выступов, переход в шею очерчен слабо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ый, шарообразный контур темен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лы слабо или средне выраже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крупный, прямой, выступающий вперед, кончик опушен книзу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ительно короткая, толстая, прямая ше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енность от головы и туловища не выражена, ноги и руки длинные, суставы округлые, ступни и кисти широкие корот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IEpodtip"/>
          <p:cNvPicPr/>
          <p:nvPr/>
        </p:nvPicPr>
        <p:blipFill>
          <a:blip r:embed="rId1"/>
          <a:stretch/>
        </p:blipFill>
        <p:spPr>
          <a:xfrm>
            <a:off x="914400" y="297000"/>
            <a:ext cx="7315200" cy="214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oleriki"/>
          <p:cNvPicPr/>
          <p:nvPr/>
        </p:nvPicPr>
        <p:blipFill>
          <a:blip r:embed="rId2"/>
          <a:stretch/>
        </p:blipFill>
        <p:spPr>
          <a:xfrm>
            <a:off x="1752480" y="2514600"/>
            <a:ext cx="615960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 неустойчивый тип нервной системы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ический темперамент связан с неуравновешенным типом нервной системы, возбуждение у таких людей обычно преобладает над тормож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 выразительная мимика, торопливая речь, резкие жес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роение у него часто резко меняется. Причем внешних причин эти изменения часто не имеют, настроения возникают &lt;вдруг&gt;, ниоткуда, сам холерик обычно с трудом может объяснить, отчего это он вдруг разошелся или наоборот, с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ной манерой преувеличенно на все реагировать холерик заслужил себе славу самого злобного и склочного темперамента. Однако это не так. Просто холерический темперамент естественным образом усиливает любые проявления активности человека - и хорошие, и плохие. Поэтому то, что в подаче человека другого темперамента воспринимается нормально, в подаче холерика выглядит преувеличенно ярко, гротеск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, чрезвычайно выразительная мимика, торопливая речь, резкие жесты, которые часто называют нервными. Движения быстрые, резкие, энергичные, силь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Цель психологии как науки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холериков при принятии решений на первом месте стоит человеческий фактор, эмоции и отношения. Это делает их очень полезными в сферах, связанным с личным общением, знакомствами и услугами. С другой стороны переменчивость делает холерика трудно управляемым как работника и непредсказуемым. Работоспособность холерика высокая, но неустойчивая. Ко всему новому холерик привыкает легко и быстро, но устойчивые навыки формируются у него долго и с большим трудом. Сильные стороны руководителя этого темперамента - умение быстро выдать свежую идею в неожиданно изменившейся ситуации, зажечь и повести за собой окружающих, не важно, подчиненный это, клиент или вышестоящий руководитель. Недостатком холерика - руководителя является его отстранённость от технических аспектов производства и ориентация в первую очередь на люд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упкость внешнего облика, худоба и худощавость, телосложение сух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. Сильное развитие конечностей, акцент фигуры на конечностях. Длинные тонкие мускулы и к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выраженной склонности к ожирению, худо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удная клетка узкая, длинная, плоская или вогнута, острый реберный уго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гка конусообразный череп, овальной или яйцеобразной слегка сужающийся кверху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б плавно сужающийся кверху, конусообразный, без выступов и неров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хняя часть головы больше по объем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жняя челюсть "слабая" или сильно скошенная, заметно сужается кни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заостре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ярко выраженной формы - с горбинкой "птичий", сильно выступающий, заостренный, удлиненный, вытянутый вперед, кончик явно опущен вниз по отношению к основ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низу, резкий переходи к ш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остренная теменная обла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длинные, тонкие, колени худые, угловатые, острые, ступни узкие, вытянутые, узловатые, суставы резко выступ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SEpodtip"/>
          <p:cNvPicPr/>
          <p:nvPr/>
        </p:nvPicPr>
        <p:blipFill>
          <a:blip r:embed="rId1"/>
          <a:stretch/>
        </p:blipFill>
        <p:spPr>
          <a:xfrm>
            <a:off x="1295280" y="457200"/>
            <a:ext cx="6096240" cy="1749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sangvin"/>
          <p:cNvPicPr/>
          <p:nvPr/>
        </p:nvPicPr>
        <p:blipFill>
          <a:blip r:embed="rId2"/>
          <a:stretch/>
        </p:blipFill>
        <p:spPr>
          <a:xfrm>
            <a:off x="2057400" y="2336760"/>
            <a:ext cx="4775040" cy="4521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льный устойчивый тип нервной систем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нгвиник больше всего известен как активный жизнерадостный и добродушный человек. Это в полной мере отражает действи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ольшинстве своем сангвиник обладает сильными, уравновешенными, но при этом такими же подвижными эмоциями, как и холерик. Можно сказать, что сангвиник беспокоен внешне, но спокоен внутри. Даже после вспышки раздражительности, которая случается у сангвиника крайне редко, он очень быстро успокаив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тимизм, жизнерадостность и добродушие, которые излучает сангвиник в любой ситуации, составляют главные отличительные черты представителей этого темперамента. У сангвиника как правило преобладает хорошее настроение, которое редко меняется. Его реакции всегда явно выражены, легко и быстро сме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сангвиника такая же активная мимика как и у холерика. Этот темперамент обеспечивает уверенный контроль над эмоциями, быструю, отчетливую речь, сопровождаемую выразительными мимикой и жес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ижения сангвиника сильные, энергичные, уверенные, пластичные. Сангвиническая конституция дает широкое лицо и круглое тело, выраженную склонность к полноте и двигательную актив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ормальном состоянии конституция сангвиника проявляется как упругость и подвижность,. Даже походка этого человека отражает эти свойства - она быстрая, но плавная и упруга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гвиник быстро переключается с одного вида деятельности на другой. Легко управляет своей работоспособностью, которая обычно очень высокая не зависимо от внешних и внутренних причин. Привычки у него образуются быстро и легко, а сформированные навыки закрепляются и долго сохраняются. В работе, как и в личных отношениях, сангвиник склонен, прежде всего, ориентироваться на &lt;человеческий фактор&gt;. Наилучшими сферами для самореализации сангвиника являются воспитательско - преподавательская работа, где упор делается не на техническую сферу, ) косметология, общественное питание, рекрутинг, знакомства и т.д. Сангвиник является, пожалуй, самым приятным и душевным руководителем с точки зрения подчиненных. Однако технические моменты в работе часто вызывают у сангвиников затруднение. Его сильная черта - уговоры и расположение к себе - не всегда срабатывает в условиях, например, планов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ое, "шарообразное" туловище, округлые формы, низкий, редко средний ро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ое развитие внутренних полостей тела (головы, груди, живота) при слабо развитой структуре плечевого пояса и конеч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ент в центре туловища на округлом живо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ие, широкие кости и мышцы - вид круглых "нашлепок" на плечах, как латы. Выпуклый рельеф мыш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но выраженная жировая ткань, жир откладывается равномерно во всех частях т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ая скорость обмена веществ - вес прибывает, даже если есть относительно ма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ая, широкая, выпуклая грудная клетка, тупой реберный уго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ая шарообразная голова., верхняя и нижняя часть черепа равны по объему, круглый, шарообразный контур т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круглый, без выступов и неровностей, плавно закругленный, почти незаметный переход к волосяной ч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ородок и скулы не выраж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явно не выражен, "утиный", "картошкой" или слегка вздер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круглый или плоский, без выступов, переход в шею очерчен сла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я слабо или совсем не выражена, короткая, толст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ги короткие, гладкие, кругл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ые лю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рмонтов, Наполеон и Петр1 - сангвин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утузов, Крылов - флег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уворов и Пушкин - холер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голь - меланхолик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О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а развитие личности у психологов неоднозначные взгля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ди все разны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это не робот! Практически каждый человек – это личность. Личность настолько многогранна в своих индивидуально-психологических проявлениях, что соотношение её разнообразных качеств может сказываться и на проявлениях мировоззрения, и на повед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oldgirl"/>
          <p:cNvPicPr/>
          <p:nvPr/>
        </p:nvPicPr>
        <p:blipFill>
          <a:blip r:embed="rId1"/>
          <a:stretch/>
        </p:blipFill>
        <p:spPr>
          <a:xfrm>
            <a:off x="5013360" y="1600200"/>
            <a:ext cx="362088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Личность — результат процесса воспитания и самовоспитания. «Личностью не рождаются, а становятся» А. Н. Леонт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рибуты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В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Раз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лекс устойчивых компонентов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Темпер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"/>
          <p:cNvPicPr/>
          <p:nvPr/>
        </p:nvPicPr>
        <p:blipFill>
          <a:blip r:embed="rId1"/>
          <a:stretch/>
        </p:blipFill>
        <p:spPr>
          <a:xfrm>
            <a:off x="457200" y="609480"/>
            <a:ext cx="8686800" cy="5713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снову социальной подструктуры личности составляет единство и взаимосвязь социального опыта и направленности ли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 нор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яют собой правила или модели поведения, санкционированные социальными группами и ожидаемые в реальном поведении от состоящих в этих отнош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социального опыта вырабатываются умения, навыки, знания и привычки человека. Если характер человека содержит ответ на вопрос: "Что он будет делать в той или иной ситуации", то социальный опыт даст ответ "Как он поступит в определенной ситуаци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енность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тоже категория больше социальная, чем генетически определенная. Направленность определяет доминирующую продолжительное время ту или иную ценность, которая ложится в основу мотивации поведения человека. Ради этой ценности (основного мотива) человек готов отказаться от многих привлекательных и желаемых альтернати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ндивидуально-психологические особенности лич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емпер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у биологической подструктуры личности составля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перам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закономерное соотношение устойчивых индивидуальных особенностей личности, характеризующих различные стороны динамики псих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08:34:3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