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3309-532B-493B-AA73-649F5E1AE5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простое определение психологии как науки таково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наука о душ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д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pshys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переводе с греческого языка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уша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logia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аука, учение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ное определение психологии как науки от самих психологов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нудное, сложное и непонятное определение, верн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A8CC-71AD-4A52-9AB1-2F94316A17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719F-4737-4B98-B12A-72E5C4F0F2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войства темперам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C3AA-A9C2-4371-8C76-12D3DB5493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Идея и учение о темперамен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Древнегреческий врач Гиппокр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писал основные типы темперамен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нтичный врач Клавдий Гале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лассификация темперамен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емецкий философ И.К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ал описание темпераментов, которые используют и в наш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Российский ученый Н.П. Пав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3861-66CF-4A26-8364-44016989A9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ла нервных процессов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равновешенность нервных проце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вижность нервных 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отношение основных свойств нервной системы лежит в основе темпера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33BA-BD2D-4672-AB3D-68B4DADDA6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ипы темпер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гви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C4E3-C654-41E2-9DB0-D2EE740639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Два основных взгляда на темперамент человека в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аждому человеку присущ свой определенный темпера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2381-7A0F-454A-B420-A83255DF16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трасли и виды психологии как науки и как социального явле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коллектива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, социальн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рная психология — поп-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ская психология ребенка и детей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родителей, психология воспитания и психология наказан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терап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ид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ая психология и т.д.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P.S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 глухих - сурд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1F7E-54D9-4AB6-952A-20A714E129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ческий темперамент (интуитивно-логический подти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неустойчивый тип нерв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стоит на втором месте после холерика по части худобы и потери вес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6551-C953-4A32-A85E-B56F2EEA0F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7ED6-4BF5-4358-A222-D87C816312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широкие таз и плечи при узкой тал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часто заостр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часто удлиненный, заостренный, выступающий вперед, яр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BDD4-3B58-476B-A517-A7ADF483B0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ый взгляд он кажется уверенным в себе, но несколько ленивым и безразлич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флегматик невыразителен в чувствах и мим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9DF8-6DC7-4C00-81FC-CFD46B51CB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4652-1E70-4905-8892-5E2B61AFF7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дленные движения, спокойная и уверенная, как бы плывущая похо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расширяющаяся книзу грудная клетка, тупой реберный уго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3144-659C-4854-9986-F269AA07B8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слабо сужа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плоский, без выступов, переход в шею очерчен слаб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, шарообразный контур темен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лабо или средне выражен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крупный, прямой, выступающий вперед, кончик опушен книзу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короткая, толстая, прямая ше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7317-5AD4-40BE-B380-9142F65F4A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неустойчивый тип нервной систем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F6BF-D337-4C3D-9CAE-C36B382A79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Цель психологии как наук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EC56-A8B2-445F-BE83-556C3720C3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ABFD-2648-45B7-AA88-2FAA08A539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упкость внешнего облика, худоба и худощавость, телосложение сух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ыраженной склонности к ожирению, худо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ая клетка узкая, длинная, плоская или вогнута, остры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плавно сужающийся кверху, конусообразный, без выступов и неров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няя часть головы больше по объ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яя челюсть "слабая" или сильно скошенная, заметно сужается кни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заостр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низу, резкий переходи к ш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стренная теменная обла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F403-DDD5-41DC-870F-CDA09F43FA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6E5A-04A4-4FF6-B027-83CEAB674C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9E41-3D7C-4F1D-A5D5-7940AB39BA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е, "шарообразное" туловище, округлые формы, низкий, редко средний р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в центре туловища на округлом жив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но выраженная жировая ткань, жир откладывается равномерно во всех частях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корость обмена веществ - вес прибывает, даже если есть относительно ма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грудная клетка, тупо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и скулы не выра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вно не выражен, "утиный", "картошкой" или слегка вздер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круглый или плоский, без выступов, переход в шею очерчен сла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слабо или совсем не выражена, короткая, толст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короткие, гладкие, кругл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E04D-1CC6-4C17-85EC-023F3B7244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рмонтов, Наполеон и Петр1 - сангвин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тузов, Крылов - флегма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воров и Пушкин - холер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голь - меланхоли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2BC6-20B4-4557-B5BC-43E17EC227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О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 развитие личности у психологов неоднозначные взгля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EC9C-597F-4256-AF10-9335E1E8F5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все разны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CA41-A885-4633-B433-E3E97CBB0F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рибуты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воб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Раз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устойчивых компонентов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02B2-2921-4948-8469-33BBA3B4D4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ые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ность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AE9D-2A5F-49F5-B056-501BA5BFD8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Индивидуально-психологические особенности лич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биологической подструктуры личности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пера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B608-0D22-415F-BC61-124E1C9479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92F-B6B4-4768-8FB7-C3F969D7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849-FB1E-4F3E-9DEA-E0751BE1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B3A-F621-4BA5-BCD0-6BE1B317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E2D-BC38-453A-96E8-17ADEAD0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704-ABF3-4E84-8AD8-B8128860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A1C-104A-4261-AC91-AF49E866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92B-8B5E-4BE1-8C0F-DAE73030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A69-1F89-4550-BFED-0A8A5AD3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8EB-7678-48AC-9E88-B6A8A9BC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073-ED78-4E2A-80CA-992AB116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E06-FE1D-4477-98BA-76D478FA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E2D-CEDA-4E79-89AA-3CE6CEC6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F775-6406-454C-8D3A-CFF1C6D47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8:34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