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A771-31FD-4EAE-AEF1-1BF1566697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сихология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простое определение психологии как науки таково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наука о душе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ед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pshys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в переводе с греческого языка означ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душа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logia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аука, учение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ное определение психологии как науки от самих психологов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статочно нудное, сложное и непонятное определение, верн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05B2-3DBC-426B-9097-093AA468E5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FEF0-E169-48B0-BC90-79F1293EBB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Свойства темперамен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4953-C3AE-422F-8D33-983DC84801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Идея и учение о темперамен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Древнегреческий врач Гиппокра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писал основные типы темперамен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нтичный врач Клавдий Гале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лассификация темперамен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емецкий философ И.К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ал описание темпераментов, которые используют и в наше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Российский ученый Н.П. Пав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AE8B-0B59-409B-B4AD-C5B7C6410D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ла нервных процессов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равновешенность нервных процес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вижность нервных процесс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отношение основных свойств нервной системы лежит в основе темпера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BA21-1B22-4F08-85BE-1E6374FD8E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ипы темпера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гви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B060-3C95-49A4-BF03-09FA803796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Два основных взгляда на темперамент человека в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аждому человеку присущ свой определенный темпера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2DFC-CBAF-4A6F-92C6-6B244A6FA3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Отрасли и виды психологии как науки и как социального явле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личности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коллектива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, социальн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улярная психология — поп-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ская психология ребенка и детей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родителей, психология воспитания и психология наказан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терап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ридическ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ая психология и т.д.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P.S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сихология глухих - сурдо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A9A3-ACD8-4045-9590-DB57D9F2D5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ческий темперамент (интуитивно-логический подти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ый неустойчивый тип нерв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к стоит на втором месте после холерика по части худобы и потери вес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F9C3-CCBB-4F67-9328-DD94EB9C2E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0B95-2C97-4863-BA5D-20DF86AA88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широкие таз и плечи при узкой тал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редне или сильно выражены, выступают, часто заостр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часто удлиненный, заостренный, выступающий вперед, ярко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DAA4-ACD7-49F8-AFC0-5196608243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ый устойчивый тип нервной систем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ый взгляд он кажется уверенным в себе, но несколько ленивым и безразлич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 флегматик невыразителен в чувствах и мим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378D-0C13-437E-989E-6FF737C5F6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3D35-6675-46C3-98B1-3C153D2394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легмат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дленные движения, спокойная и уверенная, как бы плывущая поход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ая, широкая, выпуклая расширяющаяся книзу грудная клетка, тупой реберный уго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6724-9C87-4326-97ED-36B38950B6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слабо сужающий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плоский, без выступов, переход в шею очерчен слаб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ый, шарообразный контур темен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лабо или средне выражен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крупный, прямой, выступающий вперед, кончик опушен книзу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короткая, толстая, прямая ше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8260-B40A-492C-92FC-51CE12805E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неустойчивый тип нервной системы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F849-8339-474C-944C-5F621BC9EA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Цель психологии как наук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7788-E103-4115-A533-096310D19D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9196-3948-4A1A-B4DF-DFE3B6DFED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упкость внешнего облика, худоба и худощавость, телосложение сух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выраженной склонности к ожирению, худо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корость обмена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ая клетка узкая, длинная, плоская или вогнута, острый реберный уг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плавно сужающийся кверху, конусообразный, без выступов и неров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няя часть головы больше по объ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заостр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няя челюсть "слабая" или сильно скошенная, заметно сужается книз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редне или сильно выражены, выступают, заостр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имеет выступы, сильно скашивается книзу, резкий переходи к ш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остренная теменная обла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3B25-4AEC-4C27-AE89-CB6AB90E9A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устойчивый тип нервной систем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3E50-7400-49FD-98FF-724CC7CD63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3578-B044-456C-9284-ECB6891AD1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ое, "шарообразное" туловище, округлые формы, низкий, редко средний ро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в центре туловища на округлом живо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но выраженная жировая ткань, жир откладывается равномерно во всех частях 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скорость обмена веществ - вес прибывает, даже если есть относительно ма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ая, широкая, выпуклая грудная клетка, тупой реберный уг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и скулы не выраж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явно не выражен, "утиный", "картошкой" или слегка вздер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круглый или плоский, без выступов, переход в шею очерчен слаб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слабо или совсем не выражена, короткая, толст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короткие, гладкие, кругл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9816-2444-40AD-994B-6D2ECFA90D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рмонтов, Наполеон и Петр1 - сангвин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тузов, Крылов - флегма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воров и Пушкин - холер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голь - меланхоли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097B-E25F-4806-AD71-303AA453D4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НО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 развитие личности у психологов неоднозначные взгляд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E35F-3E3E-44C8-AA24-55DA518843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все разные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A0BB-45DE-4CBC-8617-94387422AA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рибуты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воб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Раз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устойчивых компонентов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Темпер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т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CEF9-59A2-47A1-8D63-506744A7D0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ые н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ность л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9C34-02EE-41B9-A610-CF3E01B959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Индивидуально-психологические особенности лично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емпер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биологической подструктуры личности составл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пера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8DF0-1DA7-44AE-99B0-3B8F59721A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BCB4-A014-4721-80D8-43E6F2DF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592-2049-4F31-9C3F-76208416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D98F-305C-4B45-BE6D-1C7B188F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1F5-047A-4953-B0D0-F593905D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3B6-8EC3-40FB-8CB3-68CC104F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6F4-233A-412F-A440-14690A59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216-2626-4AFC-8EEF-90F6890A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1125-731A-4E83-8524-1885D6CB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73F8-BB28-4A40-8552-3BAC2DE9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CE5-428D-4879-A075-78367DB5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8692-C6FD-4824-88D2-75F87FEA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372-E3D4-46EF-95A9-E04A5FA8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8EAC-10F9-4321-87D3-11F2DA0039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сихология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Что это так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амое простое определение психологии как науки таково: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сихолог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то наука о душе человек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Ведь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pshyso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» в переводе с греческого языка означает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душа»,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logia»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наука, учение»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андартное определение психологии как науки от самих психологов: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остаточно нудное, сложное и непонятное определение, верно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Психологическая эмблема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Arial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войства темперамен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Идея и учение о темперамен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Древнегреческий врач Гиппокр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писал основные типы темперамен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нтичный врач Клавдий Гале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лассификация темпераме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мецкий философ И.Ка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ал описание темпераментов, которые используют и в наше врем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Российский ученый Н.П. Пав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ла нервных процессов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равновешенность нервны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вижность нервных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отношение основных свойств нервной системы лежит в основе темпер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Типы темпера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ле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ланхо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нгви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27"/>
          <p:cNvPicPr/>
          <p:nvPr/>
        </p:nvPicPr>
        <p:blipFill>
          <a:blip r:embed="rId1"/>
          <a:stretch/>
        </p:blipFill>
        <p:spPr>
          <a:xfrm>
            <a:off x="4113360" y="1143000"/>
            <a:ext cx="4114800" cy="54100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04920" y="425520"/>
            <a:ext cx="8534160" cy="6006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t_02"/>
          <p:cNvPicPr/>
          <p:nvPr/>
        </p:nvPicPr>
        <p:blipFill>
          <a:blip r:embed="rId1"/>
          <a:stretch/>
        </p:blipFill>
        <p:spPr>
          <a:xfrm>
            <a:off x="1295280" y="208080"/>
            <a:ext cx="6553440" cy="6441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91" descr="Lavater1"/>
          <p:cNvPicPr/>
          <p:nvPr/>
        </p:nvPicPr>
        <p:blipFill>
          <a:blip r:embed="rId1"/>
          <a:stretch/>
        </p:blipFill>
        <p:spPr>
          <a:xfrm>
            <a:off x="2016000" y="380880"/>
            <a:ext cx="5175360" cy="6172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ва основных взгляда на темперамент человека в псих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Каждому человеку присущ свой определенный темпера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elanhole"/>
          <p:cNvPicPr/>
          <p:nvPr/>
        </p:nvPicPr>
        <p:blipFill>
          <a:blip r:embed="rId1"/>
          <a:stretch/>
        </p:blipFill>
        <p:spPr>
          <a:xfrm>
            <a:off x="1447920" y="2690640"/>
            <a:ext cx="5638680" cy="416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Lpodtip"/>
          <p:cNvPicPr/>
          <p:nvPr/>
        </p:nvPicPr>
        <p:blipFill>
          <a:blip r:embed="rId2"/>
          <a:stretch/>
        </p:blipFill>
        <p:spPr>
          <a:xfrm>
            <a:off x="1219320" y="228600"/>
            <a:ext cx="6553080" cy="2228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трасли и виды психологии как науки и как социального явлени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личности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коллектива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ая, социальн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пулярная психология — поп-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ская психология ребенка и детей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родителей, психология воспитания и психология наказан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терап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рид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дагогическая психология и т.д. и т.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.S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сихология глухих - сурдопсих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ческий темперамент (интуитивно-логический подти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ый неустойчивый тип нервн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стоит на втором месте после холерика по части худобы и потери вес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широкие таз и плечи при узкой тал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часто заостр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часто удлиненный, заостренный, выступающий вперед, ярко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Lpodtip"/>
          <p:cNvPicPr/>
          <p:nvPr/>
        </p:nvPicPr>
        <p:blipFill>
          <a:blip r:embed="rId1"/>
          <a:stretch/>
        </p:blipFill>
        <p:spPr>
          <a:xfrm>
            <a:off x="1066680" y="304920"/>
            <a:ext cx="7313760" cy="223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egma"/>
          <p:cNvPicPr/>
          <p:nvPr/>
        </p:nvPicPr>
        <p:blipFill>
          <a:blip r:embed="rId2"/>
          <a:stretch/>
        </p:blipFill>
        <p:spPr>
          <a:xfrm>
            <a:off x="1828800" y="2654280"/>
            <a:ext cx="6095880" cy="4203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й устойчивый тип нервной систем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вый взгляд он кажется уверенным в себе, но несколько ленивым и безразлич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 флегматик невыразителен в чувствах и мим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дленные движения, спокойная и уверенная, как бы плывущая поход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откая, широкая, выпуклая расширяющаяся книзу грудная клетка, тупой реберный угол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слабо сужающий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плоский, без выступов, переход в шею очерчен слабо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ый, шарообразный контур темен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ы слабо или средне выраже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крупный, прямой, выступающий вперед, кончик опушен книз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ительно короткая, толстая, прямая ше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Epodtip"/>
          <p:cNvPicPr/>
          <p:nvPr/>
        </p:nvPicPr>
        <p:blipFill>
          <a:blip r:embed="rId1"/>
          <a:stretch/>
        </p:blipFill>
        <p:spPr>
          <a:xfrm>
            <a:off x="914400" y="297000"/>
            <a:ext cx="7315200" cy="214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oleriki"/>
          <p:cNvPicPr/>
          <p:nvPr/>
        </p:nvPicPr>
        <p:blipFill>
          <a:blip r:embed="rId2"/>
          <a:stretch/>
        </p:blipFill>
        <p:spPr>
          <a:xfrm>
            <a:off x="1752480" y="2514600"/>
            <a:ext cx="61596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 неустойчивый тип нервной системы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Цель психологии как науки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упкость внешнего облика, худоба и худощавость, телосложение сух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выраженной склонности к ожирению, худо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удная клетка узкая, длинная, плоская или вогнута, острый реберный уго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б плавно сужающийся кверху, конусообразный, без выступов и неров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хняя часть головы больше по объе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жняя челюсть "слабая" или сильно скошенная, заметно сужается кни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заостре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низу, резкий переходи к ш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остренная теменная обла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SEpodtip"/>
          <p:cNvPicPr/>
          <p:nvPr/>
        </p:nvPicPr>
        <p:blipFill>
          <a:blip r:embed="rId1"/>
          <a:stretch/>
        </p:blipFill>
        <p:spPr>
          <a:xfrm>
            <a:off x="1295280" y="457200"/>
            <a:ext cx="6096240" cy="174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angvin"/>
          <p:cNvPicPr/>
          <p:nvPr/>
        </p:nvPicPr>
        <p:blipFill>
          <a:blip r:embed="rId2"/>
          <a:stretch/>
        </p:blipFill>
        <p:spPr>
          <a:xfrm>
            <a:off x="2057400" y="2336760"/>
            <a:ext cx="4775040" cy="4521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льный устойчивый тип нервной систем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ое, "шарообразное" туловище, округлые формы, низкий, редко средний ро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ент в центре туловища на округлом жив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но выраженная жировая ткань, жир откладывается равномерно во всех частях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ая скорость обмена веществ - вес прибывает, даже если есть относительно ма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ая, широкая, выпуклая грудная клетка, тупой реберный уго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одок и скулы не выраж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явно не выражен, "утиный", "картошкой" или слегка вздер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круглый или плоский, без выступов, переход в шею очерчен сла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я слабо или совсем не выражена, короткая, толст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ги короткие, гладкие, кругл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лю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рмонтов, Наполеон и Петр1 - сангвин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утузов, Крылов - флег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уворов и Пушкин - холер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голь - меланхолик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а развитие личности у психологов неоднозначные взгля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ди все разны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oldgirl"/>
          <p:cNvPicPr/>
          <p:nvPr/>
        </p:nvPicPr>
        <p:blipFill>
          <a:blip r:embed="rId1"/>
          <a:stretch/>
        </p:blipFill>
        <p:spPr>
          <a:xfrm>
            <a:off x="5013360" y="1600200"/>
            <a:ext cx="362088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рибуты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Раз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 устойчивых компонентов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Темпер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"/>
          <p:cNvPicPr/>
          <p:nvPr/>
        </p:nvPicPr>
        <p:blipFill>
          <a:blip r:embed="rId1"/>
          <a:stretch/>
        </p:blipFill>
        <p:spPr>
          <a:xfrm>
            <a:off x="457200" y="609480"/>
            <a:ext cx="8686800" cy="5713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нор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енность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ндивидуально-психологические особенности лич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мпер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у биологической подструктуры личности составля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ера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08:34:3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